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3F8-821A-4ECF-8C7F-F27CEFC5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2CB-3AD7-4D8D-83FE-60902908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329-7986-4E3B-80FE-1BA391A6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10C-CD53-4AE2-A580-54241DF7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F72-99EA-4C94-91B7-F99D8A6E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016-4971-4705-9CAA-C861FDB3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16F-86E2-4B39-B218-B630B8BD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5AA-7334-4730-8A10-D0A7694E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037-49EF-472F-9BA6-C2F9CB6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D37-05C0-4B28-ACE6-7A66242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281-8B1F-4401-9E19-6419E3A4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493-CDFD-4D53-AE5D-051E36B0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73A-9B93-41E8-8726-E2E6BF3F1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00000" y="12682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幼圆"/>
              </a:rPr>
              <a:t>长方形和正方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604960" y="321300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周长的计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2034360" y="58388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1 拷贝"/>
          <p:cNvPicPr/>
          <p:nvPr/>
        </p:nvPicPr>
        <p:blipFill>
          <a:blip r:embed="rId1"/>
          <a:stretch/>
        </p:blipFill>
        <p:spPr>
          <a:xfrm>
            <a:off x="-612720" y="-892080"/>
            <a:ext cx="10009080" cy="77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48B8-D149-46EE-B057-9FB432690F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1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15"/>
          <p:cNvGrpSpPr/>
          <p:nvPr/>
        </p:nvGrpSpPr>
        <p:grpSpPr>
          <a:xfrm>
            <a:off x="6985080" y="3573360"/>
            <a:ext cx="2158920" cy="1513080"/>
            <a:chOff x="6985080" y="3573360"/>
            <a:chExt cx="2158920" cy="1513080"/>
          </a:xfrm>
        </p:grpSpPr>
        <p:sp>
          <p:nvSpPr>
            <p:cNvPr id="47" name="Oval 7"/>
            <p:cNvSpPr/>
            <p:nvPr/>
          </p:nvSpPr>
          <p:spPr>
            <a:xfrm>
              <a:off x="6985080" y="3573360"/>
              <a:ext cx="2158920" cy="15130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>
              <a:off x="7451640" y="3645000"/>
              <a:ext cx="153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篮球场长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宽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Oval 9"/>
          <p:cNvSpPr/>
          <p:nvPr/>
        </p:nvSpPr>
        <p:spPr>
          <a:xfrm>
            <a:off x="4500720" y="5516640"/>
            <a:ext cx="446544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篮球场的周长是多少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 rot="20461200">
            <a:off x="2881080" y="2060280"/>
            <a:ext cx="10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 rot="19554600">
            <a:off x="5618160" y="4507920"/>
            <a:ext cx="10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 rot="2082600">
            <a:off x="1153080" y="5084640"/>
            <a:ext cx="10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841800">
            <a:off x="6265080" y="1699920"/>
            <a:ext cx="10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8" descr="7 拷贝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849240" y="6319800"/>
            <a:ext cx="68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 拷贝"/>
          <p:cNvPicPr/>
          <p:nvPr/>
        </p:nvPicPr>
        <p:blipFill>
          <a:blip r:embed="rId1"/>
          <a:stretch/>
        </p:blipFill>
        <p:spPr>
          <a:xfrm>
            <a:off x="-181080" y="-747720"/>
            <a:ext cx="9325080" cy="7848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5651640" y="1773360"/>
            <a:ext cx="1944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925240" y="378936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 rot="16200000">
            <a:off x="4506480" y="239796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 rot="16200000">
            <a:off x="7387920" y="239796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996520" y="105264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3 拷贝"/>
          <p:cNvPicPr/>
          <p:nvPr/>
        </p:nvPicPr>
        <p:blipFill>
          <a:blip r:embed="rId1"/>
          <a:stretch/>
        </p:blipFill>
        <p:spPr>
          <a:xfrm>
            <a:off x="0" y="0"/>
            <a:ext cx="932508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5 拷贝"/>
          <p:cNvPicPr/>
          <p:nvPr/>
        </p:nvPicPr>
        <p:blipFill>
          <a:blip r:embed="rId1"/>
          <a:stretch/>
        </p:blipFill>
        <p:spPr>
          <a:xfrm>
            <a:off x="0" y="19080"/>
            <a:ext cx="9144000" cy="72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6 拷贝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8 拷贝"/>
          <p:cNvPicPr/>
          <p:nvPr/>
        </p:nvPicPr>
        <p:blipFill>
          <a:blip r:embed="rId1"/>
          <a:stretch/>
        </p:blipFill>
        <p:spPr>
          <a:xfrm>
            <a:off x="-181080" y="-387360"/>
            <a:ext cx="979344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0 拷贝"/>
          <p:cNvPicPr/>
          <p:nvPr/>
        </p:nvPicPr>
        <p:blipFill>
          <a:blip r:embed="rId1"/>
          <a:stretch/>
        </p:blipFill>
        <p:spPr>
          <a:xfrm>
            <a:off x="-541440" y="-7920"/>
            <a:ext cx="10009440" cy="955836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02:54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49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