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breeze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ashreg.wav" ContentType="audio/x-wav"/>
  <Override PartName="/ppt/media/image5.jpeg" ContentType="image/jpeg"/>
  <Override PartName="/ppt/media/image6.png" ContentType="image/png"/>
  <Override PartName="/ppt/media/voltage.wav" ContentType="audio/x-wav"/>
  <Override PartName="/ppt/media/image7.jpeg" ContentType="image/jpeg"/>
  <Override PartName="/ppt/media/type.wav" ContentType="audio/x-wav"/>
  <Override PartName="/ppt/media/image4.jpeg" ContentType="image/jpeg"/>
  <Override PartName="/ppt/media/suction.wav" ContentType="audio/x-wav"/>
  <Override PartName="/ppt/media/chimes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490-7EC4-402F-98A6-6D2719A2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3B1-6A42-4D59-ACDB-97C9D0C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E32-3D35-4D74-90DC-B671398F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272-F4DD-4BB2-8C16-EDA41B46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F38-C667-463B-AD9D-6FE19EF8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6E4-5244-411A-A529-F10B29F6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EF7-0196-4286-9F27-D789E34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A64-E2C1-4983-8D7C-87245D25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013-CC7F-4FD0-8219-1DB24363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B11-F107-4F65-9A50-8B896C6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8DF-C446-4A93-8235-D7FB7B2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FD5-9D42-4A1A-8796-BBA01712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837E-15CA-4EEF-8265-48AA2C1220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CEB8-81F9-4F85-92AF-8D7A1EF2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suction.wav"/><Relationship Id="rId5" Type="http://schemas.openxmlformats.org/officeDocument/2006/relationships/audio" Target="../media/voltage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083280" y="304920"/>
          <a:ext cx="2543040" cy="637920"/>
        </p:xfrm>
        <a:graphic>
          <a:graphicData uri="http://schemas.openxmlformats.org/drawingml/2006/table">
            <a:tbl>
              <a:tblPr/>
              <a:tblGrid>
                <a:gridCol w="254304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724280" y="1814400"/>
            <a:ext cx="4035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-81720" y="593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图片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5" name="Oval 2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 rot="386400">
            <a:off x="826920" y="32652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9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9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777960" y="6029280"/>
            <a:ext cx="52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2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80880" y="228600"/>
            <a:ext cx="38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ake 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7620120" y="4495320"/>
            <a:ext cx="342360" cy="228600"/>
            <a:chOff x="7620120" y="4495320"/>
            <a:chExt cx="342360" cy="228600"/>
          </a:xfrm>
        </p:grpSpPr>
        <p:sp>
          <p:nvSpPr>
            <p:cNvPr id="116" name="Line 9"/>
            <p:cNvSpPr/>
            <p:nvPr/>
          </p:nvSpPr>
          <p:spPr>
            <a:xfrm>
              <a:off x="7620120" y="4658040"/>
              <a:ext cx="114120" cy="65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 flipV="1">
              <a:off x="7734240" y="449532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2895480" y="4419360"/>
            <a:ext cx="343080" cy="228600"/>
            <a:chOff x="2895480" y="4419360"/>
            <a:chExt cx="343080" cy="228600"/>
          </a:xfrm>
        </p:grpSpPr>
        <p:sp>
          <p:nvSpPr>
            <p:cNvPr id="119" name="Line 12"/>
            <p:cNvSpPr/>
            <p:nvPr/>
          </p:nvSpPr>
          <p:spPr>
            <a:xfrm>
              <a:off x="2895480" y="4582080"/>
              <a:ext cx="114480" cy="65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 flipV="1">
              <a:off x="3009960" y="44193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20"/>
          <p:cNvSpPr/>
          <p:nvPr/>
        </p:nvSpPr>
        <p:spPr>
          <a:xfrm>
            <a:off x="1646280" y="1996920"/>
            <a:ext cx="117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646280" y="1996920"/>
            <a:ext cx="117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8229600" cy="330372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6280"/>
                <a:gridCol w="1644840"/>
                <a:gridCol w="1647720"/>
              </a:tblGrid>
              <a:tr h="104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81"/>
          <p:cNvSpPr/>
          <p:nvPr/>
        </p:nvSpPr>
        <p:spPr>
          <a:xfrm>
            <a:off x="685800" y="1295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lour do you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3520" y="2682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Listen to and repeat “Let’ s learn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Make a dialogue with col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371600" y="990720"/>
            <a:ext cx="6477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EA4A-C8A6-4379-9D38-C9A9C8DD8B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685800" y="2133720"/>
            <a:ext cx="7238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Sing a rainbow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rainbow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5008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3520" y="6094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124080" y="4648320"/>
            <a:ext cx="2895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I se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200781215454532_2"/>
          <p:cNvPicPr/>
          <p:nvPr/>
        </p:nvPicPr>
        <p:blipFill>
          <a:blip r:embed="rId2"/>
          <a:srcRect l="0" t="8004" r="0" b="0"/>
          <a:stretch/>
        </p:blipFill>
        <p:spPr>
          <a:xfrm>
            <a:off x="1066680" y="2362320"/>
            <a:ext cx="617220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Sing and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228600" y="144792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Who is wearing yellow today?</a:t>
            </a:r>
            <a:endParaRPr b="0" lang="en-US" sz="1800" spc="-1" strike="noStrike">
              <a:ln w="0">
                <a:noFill/>
              </a:ln>
              <a:solidFill>
                <a:srgbClr val="9966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2" name="Line 2"/>
          <p:cNvSpPr/>
          <p:nvPr/>
        </p:nvSpPr>
        <p:spPr>
          <a:xfrm>
            <a:off x="2057400" y="1371600"/>
            <a:ext cx="198108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2209680" y="33526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2209680" y="548640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ights"/>
          <p:cNvPicPr/>
          <p:nvPr/>
        </p:nvPicPr>
        <p:blipFill>
          <a:blip r:embed="rId2"/>
          <a:srcRect l="12806" t="0" r="0" b="4152"/>
          <a:stretch/>
        </p:blipFill>
        <p:spPr>
          <a:xfrm>
            <a:off x="34920" y="0"/>
            <a:ext cx="26319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726080" y="914400"/>
            <a:ext cx="33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 r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gh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658600" y="125280"/>
            <a:ext cx="621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673160" y="289548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lig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672440" y="4968720"/>
            <a:ext cx="365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a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 lig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6440" y="1676520"/>
            <a:ext cx="37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e can stop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4669560" y="3657600"/>
            <a:ext cx="36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e can wait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726440" y="5791320"/>
            <a:ext cx="32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We can g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819520" y="914400"/>
            <a:ext cx="6324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2c24"/>
                </a:solidFill>
                <a:latin typeface="Arial"/>
              </a:rPr>
              <a:t>Red light, red ligh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2c24"/>
                </a:solidFill>
                <a:latin typeface="Arial"/>
              </a:rPr>
              <a:t>stop, stop, st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ellow light, yellow ligh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it, wait, wa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Green light, green ligh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go, go,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traffic light"/>
          <p:cNvPicPr/>
          <p:nvPr/>
        </p:nvPicPr>
        <p:blipFill>
          <a:blip r:embed="rId2"/>
          <a:srcRect l="0" t="7262" r="0" b="62932"/>
          <a:stretch/>
        </p:blipFill>
        <p:spPr>
          <a:xfrm>
            <a:off x="0" y="838080"/>
            <a:ext cx="2590920" cy="1252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traffic light"/>
          <p:cNvPicPr/>
          <p:nvPr/>
        </p:nvPicPr>
        <p:blipFill>
          <a:blip r:embed="rId3"/>
          <a:srcRect l="0" t="37095" r="0" b="35502"/>
          <a:stretch/>
        </p:blipFill>
        <p:spPr>
          <a:xfrm>
            <a:off x="0" y="4724280"/>
            <a:ext cx="2590920" cy="1094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affic light"/>
          <p:cNvPicPr/>
          <p:nvPr/>
        </p:nvPicPr>
        <p:blipFill>
          <a:blip r:embed="rId4"/>
          <a:srcRect l="0" t="64525" r="0" b="8072"/>
          <a:stretch/>
        </p:blipFill>
        <p:spPr>
          <a:xfrm>
            <a:off x="0" y="2819520"/>
            <a:ext cx="2590920" cy="1122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 rot="344400">
            <a:off x="979560" y="479160"/>
            <a:ext cx="2590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图片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Oval 2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 rot="344400">
            <a:off x="826920" y="32652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7" name="Oval 2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 rot="344400">
            <a:off x="826920" y="32652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18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11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