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8319-55F7-4C30-804F-011EBF86E02C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F93A-A0E1-4633-ABF3-6566F990278D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F726-5FE7-4271-80A0-25FF5AC25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FE10-329B-4CD2-A070-50F4774B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5385-3DAA-498D-B258-97F74FC0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CDF-ABD5-45BC-8715-4FFC3B52E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749C-EDF5-480D-9AC5-35C78AFC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895-622C-48F0-A770-06709E30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B557-A823-4BCB-BFB8-F76A9EB1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21F-89AF-4A8A-A2D9-01299E48A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1E78-1979-4A0F-ABCF-86AC83BB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C99D-6A0C-4F16-B959-E197B008E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802-F2E5-4349-A6D6-9EC0FE8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CB86-DF99-4AF7-A061-CA1BED8E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7B95-A21B-4E48-BDDC-2A91ABFA9D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1987-EC7A-4CF8-A98C-EEF8A5304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6019920" y="380880"/>
          <a:ext cx="2695320" cy="638280"/>
        </p:xfrm>
        <a:graphic>
          <a:graphicData uri="http://schemas.openxmlformats.org/drawingml/2006/table">
            <a:tbl>
              <a:tblPr/>
              <a:tblGrid>
                <a:gridCol w="2695320"/>
              </a:tblGrid>
              <a:tr h="63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6"/>
          <p:cNvSpPr/>
          <p:nvPr/>
        </p:nvSpPr>
        <p:spPr>
          <a:xfrm>
            <a:off x="4876920" y="1676520"/>
            <a:ext cx="4005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三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矩形 9"/>
          <p:cNvSpPr/>
          <p:nvPr/>
        </p:nvSpPr>
        <p:spPr>
          <a:xfrm>
            <a:off x="4709160" y="6329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13"/>
          <p:cNvSpPr/>
          <p:nvPr/>
        </p:nvSpPr>
        <p:spPr>
          <a:xfrm>
            <a:off x="762120" y="1332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" name="Picture 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2057400" cy="2003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1658880" cy="1981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1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04920" y="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Let’s fi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p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213372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thi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o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a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13372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thi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1981080" y="2743200"/>
            <a:ext cx="2133720" cy="1741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5791320" y="2514600"/>
            <a:ext cx="1498320" cy="1847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2"/>
          <p:cNvSpPr/>
          <p:nvPr/>
        </p:nvSpPr>
        <p:spPr>
          <a:xfrm>
            <a:off x="304920" y="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Let’s fin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6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ray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213372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thi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ray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11" descr=""/>
          <p:cNvPicPr/>
          <p:nvPr/>
        </p:nvPicPr>
        <p:blipFill>
          <a:blip r:embed="rId2"/>
          <a:stretch/>
        </p:blipFill>
        <p:spPr>
          <a:xfrm>
            <a:off x="5638680" y="2514600"/>
            <a:ext cx="1584360" cy="1628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"/>
          <p:cNvPicPr/>
          <p:nvPr/>
        </p:nvPicPr>
        <p:blipFill>
          <a:blip r:embed="rId3"/>
          <a:stretch/>
        </p:blipFill>
        <p:spPr>
          <a:xfrm>
            <a:off x="2590920" y="2590920"/>
            <a:ext cx="350640" cy="18288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4"/>
          <p:cNvSpPr/>
          <p:nvPr/>
        </p:nvSpPr>
        <p:spPr>
          <a:xfrm>
            <a:off x="304920" y="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Let’s fin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1440" y="3305880"/>
            <a:ext cx="212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u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do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133720" y="144792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is this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981080" y="48006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u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5791320" y="487692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og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11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1461960" cy="1704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1422360" cy="16765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5"/>
          <p:cNvSpPr/>
          <p:nvPr/>
        </p:nvSpPr>
        <p:spPr>
          <a:xfrm>
            <a:off x="304920" y="36504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00"/>
                </a:solidFill>
                <a:latin typeface="Arial Black"/>
              </a:rPr>
              <a:t>Let’s find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32767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ha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380880" y="2133720"/>
            <a:ext cx="8077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a  Aa                          Aa           appl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b Bb   / b /  / b /  / b /   Bb  / b /   bag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c Cc    / k /  / k /  / k /   Cc  / k /   cat.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d Dd  / d /  / d /  / d /    Dd  / d /  duck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6" descr="$}I~HYRCSQWUR248H`2MW}Y"/>
          <p:cNvPicPr/>
          <p:nvPr/>
        </p:nvPicPr>
        <p:blipFill>
          <a:blip r:embed="rId2"/>
          <a:srcRect l="19457" t="30519" r="71464" b="64688"/>
          <a:stretch/>
        </p:blipFill>
        <p:spPr>
          <a:xfrm>
            <a:off x="2133720" y="21337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$}I~HYRCSQWUR248H`2MW}Y"/>
          <p:cNvPicPr/>
          <p:nvPr/>
        </p:nvPicPr>
        <p:blipFill>
          <a:blip r:embed="rId3"/>
          <a:srcRect l="19457" t="30519" r="71464" b="64688"/>
          <a:stretch/>
        </p:blipFill>
        <p:spPr>
          <a:xfrm>
            <a:off x="3124080" y="2133720"/>
            <a:ext cx="838440" cy="57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$}I~HYRCSQWUR248H`2MW}Y"/>
          <p:cNvPicPr/>
          <p:nvPr/>
        </p:nvPicPr>
        <p:blipFill>
          <a:blip r:embed="rId4"/>
          <a:srcRect l="19457" t="30519" r="71464" b="64688"/>
          <a:stretch/>
        </p:blipFill>
        <p:spPr>
          <a:xfrm>
            <a:off x="4038480" y="2133720"/>
            <a:ext cx="838440" cy="57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$}I~HYRCSQWUR248H`2MW}Y"/>
          <p:cNvPicPr/>
          <p:nvPr/>
        </p:nvPicPr>
        <p:blipFill>
          <a:blip r:embed="rId5"/>
          <a:srcRect l="19457" t="30519" r="71464" b="64688"/>
          <a:stretch/>
        </p:blipFill>
        <p:spPr>
          <a:xfrm>
            <a:off x="5943600" y="2209680"/>
            <a:ext cx="8380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685800" y="30492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Do you k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762120" y="1600200"/>
            <a:ext cx="281916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B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2819520" y="175248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3124080" y="2590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美国广播公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3200400" y="16765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英国广播公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200400" y="35053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公元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3276720" y="44956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 Black"/>
              </a:rPr>
              <a:t>唱片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文本框 1"/>
          <p:cNvSpPr/>
          <p:nvPr/>
        </p:nvSpPr>
        <p:spPr>
          <a:xfrm>
            <a:off x="895320" y="5630760"/>
            <a:ext cx="674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 Black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85800" y="3092040"/>
            <a:ext cx="8280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Listen to and repeat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, repeat and chan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Copy the letters from Aa to Dd five times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Listen to “A B C song”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04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WordArt 4"/>
          <p:cNvSpPr txBox="1"/>
          <p:nvPr/>
        </p:nvSpPr>
        <p:spPr>
          <a:xfrm>
            <a:off x="1371600" y="990720"/>
            <a:ext cx="62485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round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057A-46E9-4000-AD34-BD8579ACC60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18:5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1:10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