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laser.wav" ContentType="audio/x-wav"/>
  <Override PartName="/ppt/media/image2.png" ContentType="image/png"/>
  <Override PartName="/ppt/media/image4.jpeg" ContentType="image/jpeg"/>
  <Override PartName="/ppt/media/image3.jpeg" ContentType="image/jpeg"/>
  <Override PartName="/ppt/media/image5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E24-9ED0-40A8-B924-65481DCC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1D2-DCAE-4491-B074-AF227B77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57C-B791-4248-82B9-38F66B5E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EE3-5150-4EA9-A558-80D76057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3F6-D8C8-42BB-88C3-02481CFF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872-2F14-407B-8F08-DDB9B802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438-681C-46DC-8617-295F449B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6BA-4940-45A6-8B6C-3BE8683B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E44-12DD-4CA6-BD2C-154ECB65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24F-A678-49B6-A030-3839BDBA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38C-3E80-4979-8D36-729C5A17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E66-566D-4A0C-B783-500E98CF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D1D4-82EE-448D-88DE-6E312E4A0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276720" y="1523880"/>
            <a:ext cx="26668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春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036120" y="47260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朱自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42964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005072601050870641"/>
          <p:cNvPicPr/>
          <p:nvPr/>
        </p:nvPicPr>
        <p:blipFill>
          <a:blip r:embed="rId1"/>
          <a:stretch/>
        </p:blipFill>
        <p:spPr>
          <a:xfrm>
            <a:off x="0" y="0"/>
            <a:ext cx="6934320" cy="8534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7526520" y="1798920"/>
            <a:ext cx="1185840" cy="35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春雨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2" descr="图片10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2864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 rot="5400000">
            <a:off x="-380880" y="9907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草图</a:t>
            </a:r>
            <a:endParaRPr b="0" lang="en-US" sz="2400" spc="-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066680" y="380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使用了哪些词语描绘春草？描绘了春草的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90720" y="1981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偷偷、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809880" y="2286000"/>
            <a:ext cx="685800" cy="0"/>
          </a:xfrm>
          <a:prstGeom prst="line">
            <a:avLst/>
          </a:prstGeom>
          <a:ln w="507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76920" y="1905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旺盛的生命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57200" y="2743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嫩嫩、软绵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95288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草的质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523880" y="35812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绿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4952880" y="3581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914400" y="4343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一大片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952880" y="4495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草的长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838080" y="56228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叠用形容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876920" y="54100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细致描绘春草的生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3809880" y="3124080"/>
            <a:ext cx="685800" cy="0"/>
          </a:xfrm>
          <a:prstGeom prst="line">
            <a:avLst/>
          </a:prstGeom>
          <a:ln w="507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3809880" y="3962520"/>
            <a:ext cx="685800" cy="0"/>
          </a:xfrm>
          <a:prstGeom prst="line">
            <a:avLst/>
          </a:prstGeom>
          <a:ln w="507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3886200" y="4800600"/>
            <a:ext cx="685800" cy="0"/>
          </a:xfrm>
          <a:prstGeom prst="line">
            <a:avLst/>
          </a:prstGeom>
          <a:ln w="507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3886200" y="6019920"/>
            <a:ext cx="685800" cy="0"/>
          </a:xfrm>
          <a:prstGeom prst="line">
            <a:avLst/>
          </a:prstGeom>
          <a:ln w="507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1828800" y="5105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00ff"/>
          </a:solidFill>
          <a:ln w="954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 rot="5400000">
            <a:off x="-75960" y="685800"/>
            <a:ext cx="15238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2400" spc="-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219320" y="8380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2280" y="21016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590920" y="21016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029200" y="2101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934320" y="2101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高低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52280" y="3048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581280" y="3048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781680" y="3048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虚实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57200" y="4038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581280" y="4038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6781680" y="40384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色味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6320" y="4921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3429000" y="4952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78168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明暗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095880" y="6019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4876920" y="6019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方位描绘春花的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209680" y="243828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4648320" y="243828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2971800" y="342900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2971800" y="441972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2971800" y="525780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5"/>
          <p:cNvSpPr/>
          <p:nvPr/>
        </p:nvSpPr>
        <p:spPr>
          <a:xfrm>
            <a:off x="7620120" y="5562720"/>
            <a:ext cx="5331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-9360" y="1440"/>
            <a:ext cx="9144000" cy="4294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828800" y="118116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2209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04920" y="3352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8600" y="4419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流水、短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48640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486400" y="3352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486400" y="4419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10"/>
          <p:cNvSpPr txBox="1"/>
          <p:nvPr/>
        </p:nvSpPr>
        <p:spPr>
          <a:xfrm rot="5400000">
            <a:off x="75960" y="685440"/>
            <a:ext cx="175248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风图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809880" y="5486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感觉描绘春风柔、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5791320" y="5105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1650960" y="155736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作者抓住了春雨什么特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80880" y="34290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705720" y="3429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57200" y="44197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781680" y="42210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80880" y="272736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705720" y="2727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10"/>
          <p:cNvSpPr txBox="1"/>
          <p:nvPr/>
        </p:nvSpPr>
        <p:spPr>
          <a:xfrm rot="5400000">
            <a:off x="-81000" y="126036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雨图</a:t>
            </a:r>
            <a:endParaRPr b="0" lang="en-US" sz="2400" spc="-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716440" y="554364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716292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CAE7-B9D9-40E4-BD0F-527EDA6064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4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845720" y="7632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反复朗读课文，理清文章思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407960" y="878040"/>
            <a:ext cx="19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盼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787280" y="9144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（总领全文，开启下文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135320" y="167652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总括春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085280" y="220968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草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085280" y="274320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花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085280" y="327672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风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085280" y="380988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雨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085280" y="434340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迎春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884040" y="5105520"/>
            <a:ext cx="225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新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884040" y="5562720"/>
            <a:ext cx="225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美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831840" y="601992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力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10040" y="8380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499320" y="2819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二）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绘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550080" y="5486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三）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颂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3048120" y="190512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3048120" y="52578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094560" y="842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山朗润起来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图片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43096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"/>
          <p:cNvSpPr/>
          <p:nvPr/>
        </p:nvSpPr>
        <p:spPr>
          <a:xfrm>
            <a:off x="125280" y="6080040"/>
            <a:ext cx="97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7363440" y="517320"/>
            <a:ext cx="10947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水涨起来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图片3"/>
          <p:cNvPicPr/>
          <p:nvPr/>
        </p:nvPicPr>
        <p:blipFill>
          <a:blip r:embed="rId1"/>
          <a:stretch/>
        </p:blipFill>
        <p:spPr>
          <a:xfrm>
            <a:off x="0" y="0"/>
            <a:ext cx="508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659400" y="289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图片4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027"/>
          <p:cNvSpPr/>
          <p:nvPr/>
        </p:nvSpPr>
        <p:spPr>
          <a:xfrm>
            <a:off x="2562120" y="5335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小草偷偷地从土里钻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028" descr="图片5"/>
          <p:cNvPicPr/>
          <p:nvPr/>
        </p:nvPicPr>
        <p:blipFill>
          <a:blip r:embed="rId1"/>
          <a:stretch/>
        </p:blipFill>
        <p:spPr>
          <a:xfrm>
            <a:off x="0" y="1768320"/>
            <a:ext cx="91440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7744320" y="191412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春花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图片6 拷贝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7275960" y="191520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春风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图片8"/>
          <p:cNvPicPr/>
          <p:nvPr/>
        </p:nvPicPr>
        <p:blipFill>
          <a:blip r:embed="rId1"/>
          <a:stretch/>
        </p:blipFill>
        <p:spPr>
          <a:xfrm>
            <a:off x="0" y="-316080"/>
            <a:ext cx="46926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09:41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26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