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4FCD-A8D0-4A42-ADCA-2A05989D6A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30C-F1CF-4C03-A5D3-001C03F89E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C6B-BA3F-478B-8F86-0E96C509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458-EA7B-4ADE-8DDE-17ECD791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750-CCD8-41A1-A715-EC772251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D4E-33CE-4D90-AC4C-B4FA6FBB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3F6-C0DA-4ACC-9193-807D9D13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1B48-2F8C-4F32-A741-C40C625A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1500-5DED-4978-8ED0-0BCED1B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BDEA-1537-43AC-A7F8-C80F5164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65F2-DB2F-485F-B228-8AEB2D63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F801-EA6F-445E-AA62-ECBD1E41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C5EF-7A0A-4622-922C-91F545B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FD9-D947-49D2-A13C-74837D49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98FF-142D-4A80-897E-CD1D3D8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D7C-8AFF-4030-82D7-AE244C39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F946-FCB3-4707-B38B-778BDB3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93CF-6274-446B-A1E5-C2C03907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5448-5033-402E-9E1F-28C129BD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45D-671C-468C-BA3E-940C9BC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90-AD17-4B9C-8316-70B25DA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575-22F6-49E6-A833-EEB23E61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1F2-FE75-456C-88FE-F7FF33F3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C6C-4A97-421C-BBE7-24137FE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8D8-A94E-491C-983A-49966A2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FB7-9EDA-4AAE-95E2-6012EB37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CCF-6A44-4A2B-A084-B0F48C75D5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5CE-1D71-455D-80B9-C90897842F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1835280" y="220500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丁丁写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755640" y="620640"/>
            <a:ext cx="4897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湘教版语文一年级上册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1861920" y="5886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丁丁"/>
          <p:cNvPicPr/>
          <p:nvPr/>
        </p:nvPicPr>
        <p:blipFill>
          <a:blip r:embed="rId1"/>
          <a:stretch/>
        </p:blipFill>
        <p:spPr>
          <a:xfrm>
            <a:off x="826920" y="1052640"/>
            <a:ext cx="1798920" cy="1547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>
            <a:off x="1371600" y="2590920"/>
            <a:ext cx="6769080" cy="23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19280" y="2781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字要做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个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胸离桌子一拳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眼离书本一尺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手离笔尖一寸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0060427084931552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700360" y="1341360"/>
            <a:ext cx="439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子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淘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完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写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不好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着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了一地小扇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3"/>
          <p:cNvSpPr txBox="1"/>
          <p:nvPr/>
        </p:nvSpPr>
        <p:spPr>
          <a:xfrm>
            <a:off x="324000" y="0"/>
            <a:ext cx="2087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儿歌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文本框 1"/>
          <p:cNvSpPr/>
          <p:nvPr/>
        </p:nvSpPr>
        <p:spPr>
          <a:xfrm>
            <a:off x="22320" y="6005520"/>
            <a:ext cx="56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2050920" y="2349360"/>
            <a:ext cx="5616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5BA9-7601-4F90-BE65-343C7DF68F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学习本课生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理解课文内容，懂得怎样才能把字写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5"/>
          <p:cNvSpPr/>
          <p:nvPr/>
        </p:nvSpPr>
        <p:spPr>
          <a:xfrm>
            <a:off x="140328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363528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文欣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032360" cy="5629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31928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757840" y="172872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757840" y="177336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用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正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830920" y="177336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416720" cy="4991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3492360" y="507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写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边框1"/>
          <p:cNvPicPr/>
          <p:nvPr/>
        </p:nvPicPr>
        <p:blipFill>
          <a:blip r:embed="rId1"/>
          <a:stretch/>
        </p:blipFill>
        <p:spPr>
          <a:xfrm>
            <a:off x="539640" y="457200"/>
            <a:ext cx="351324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6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172" name="Picture 7" descr="index_r5_c1"/>
            <p:cNvPicPr/>
            <p:nvPr/>
          </p:nvPicPr>
          <p:blipFill>
            <a:blip r:embed="rId2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9" descr=""/>
            <p:cNvPicPr/>
            <p:nvPr/>
          </p:nvPicPr>
          <p:blipFill>
            <a:blip r:embed="rId4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0" descr="index_r3_c2"/>
            <p:cNvPicPr/>
            <p:nvPr/>
          </p:nvPicPr>
          <p:blipFill>
            <a:blip r:embed="rId5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12"/>
          <p:cNvSpPr/>
          <p:nvPr/>
        </p:nvSpPr>
        <p:spPr>
          <a:xfrm>
            <a:off x="1403280" y="2438280"/>
            <a:ext cx="540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纸　借来　跟着　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还给　丢掉　拿着　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1749960" y="7444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边框1"/>
          <p:cNvPicPr/>
          <p:nvPr/>
        </p:nvPicPr>
        <p:blipFill>
          <a:blip r:embed="rId1"/>
          <a:stretch/>
        </p:blipFill>
        <p:spPr>
          <a:xfrm>
            <a:off x="250920" y="476280"/>
            <a:ext cx="3512880" cy="1079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587600" y="54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76360" y="2492280"/>
            <a:ext cx="612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己也像姐姐 一样，身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坐正，一笔一画认认真真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写，是不是也能写好字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1:37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1:2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