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304BE-C9B3-4FBE-B094-9409A820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5E24B-D990-4BD3-ADF4-CB2654DA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3D130-C6D3-4CC1-9A60-F830933E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B69C2-516C-4BED-80F6-90D45D7B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7AFE1-93AB-40CC-9C1D-0B01320A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63244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7A5FC-4823-4096-A716-A030734B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A67DE-20E3-4AC1-94E5-33F49490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B798A-0FBB-49DA-A10A-2D747783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5A29E-815C-48D5-B764-E5D58E38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C8972-BAE7-4B15-AB27-F556FCFA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E11AA-349E-4901-867C-4C85D62E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C359A-BBA8-4ECF-99AE-C59B48A2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63244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0207-9549-4379-A306-31A23DAB9AFD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vehfs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2340000" y="6248520"/>
            <a:ext cx="43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幻灯片之家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23880" y="1351080"/>
            <a:ext cx="8137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大道之行也</a:t>
            </a:r>
            <a:endParaRPr b="0" lang="en-US" sz="1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276720" y="32130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礼记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》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895480" y="50846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执教</a:t>
            </a:r>
            <a:r>
              <a:rPr b="1" lang="en-US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嘉兴城南中学  张国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中国      和谐社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34136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      “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特别要使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困难群众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的基本生活得到保障，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------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使社会秩序良好，人民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安居乐业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。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------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健全现代市场经济的社会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信用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体系，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------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努力形成全体人民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各尽其能、各得其所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而又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和谐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相处的局面。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十六大报告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4" name="Picture 2" descr="yz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04640"/>
            <a:ext cx="6912000" cy="17132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826920" y="270828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隶书"/>
                <a:ea typeface="隶书"/>
              </a:rPr>
              <a:t>☆</a:t>
            </a:r>
            <a:r>
              <a:rPr b="0" lang="zh-CN" sz="5400" spc="-1" strike="noStrike">
                <a:solidFill>
                  <a:srgbClr val="333333"/>
                </a:solidFill>
                <a:latin typeface="Times New Roman"/>
                <a:ea typeface="隶书"/>
              </a:rPr>
              <a:t>仁以为己任  死而后已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971640" y="407664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☆</a:t>
            </a:r>
            <a:r>
              <a:rPr b="0" lang="zh-CN" sz="5400" spc="-1" strike="noStrike">
                <a:solidFill>
                  <a:srgbClr val="333333"/>
                </a:solidFill>
                <a:latin typeface="Times New Roman"/>
                <a:ea typeface="隶书"/>
              </a:rPr>
              <a:t>天下兴亡   匹夫有责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使用规范说明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2DEB-5474-4A36-8EA7-FA072A9995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0"/>
            <a:ext cx="739152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陶渊明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-------------    “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世外桃源”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托马斯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莫尔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------    “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乌托邦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0" y="19051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孙中山  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-------------     “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天下为公” 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伏尔泰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﹑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罗梭  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---    “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自由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﹑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民主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﹑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平等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Rectangle 16"/>
          <p:cNvSpPr/>
          <p:nvPr/>
        </p:nvSpPr>
        <p:spPr>
          <a:xfrm>
            <a:off x="-304920" y="3733920"/>
            <a:ext cx="80773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诗经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》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------------      “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适彼乐土”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马克思    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------------    “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共产主义”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           “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同一个世界、同一个梦想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5"/>
          <p:cNvSpPr/>
          <p:nvPr/>
        </p:nvSpPr>
        <p:spPr>
          <a:xfrm>
            <a:off x="2050920" y="1989000"/>
            <a:ext cx="6494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19280" y="1700280"/>
            <a:ext cx="5689440" cy="2666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100" spc="-1" strike="noStrike">
                <a:solidFill>
                  <a:srgbClr val="333333"/>
                </a:solidFill>
                <a:latin typeface="隶书"/>
                <a:ea typeface="隶书"/>
              </a:rPr>
              <a:t>大 同</a:t>
            </a:r>
            <a:endParaRPr b="0" lang="en-US" sz="17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文本框 1"/>
          <p:cNvSpPr/>
          <p:nvPr/>
        </p:nvSpPr>
        <p:spPr>
          <a:xfrm>
            <a:off x="368280" y="4524480"/>
            <a:ext cx="56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更多免费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模板尽在：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57200" y="685800"/>
            <a:ext cx="60199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天下为公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-----------------------------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选贤与能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-----------------------------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故人不独亲其亲，不独子其子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--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男有分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--------------------------------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货恶其弃于地也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--------------------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是谓大同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-----------------------------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459080" y="1066680"/>
            <a:ext cx="32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333333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3059280" y="2590920"/>
            <a:ext cx="32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333333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459080" y="1828800"/>
            <a:ext cx="32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333333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620640" y="2590920"/>
            <a:ext cx="32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333333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2220840" y="2590920"/>
            <a:ext cx="32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333333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4659480" y="2590920"/>
            <a:ext cx="32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333333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5497560" y="2590920"/>
            <a:ext cx="32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333333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1382760" y="4038480"/>
            <a:ext cx="32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333333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1001880" y="4724280"/>
            <a:ext cx="32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333333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544680" y="5562720"/>
            <a:ext cx="32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333333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1077840" y="5562720"/>
            <a:ext cx="32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333333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6477120" y="685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是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62485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通“举”，选拔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0880" y="29718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以   以</a:t>
            </a:r>
            <a:r>
              <a:rPr b="0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---</a:t>
            </a:r>
            <a:r>
              <a:rPr b="0" lang="zh-CN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为亲   父母    以</a:t>
            </a:r>
            <a:r>
              <a:rPr b="0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---</a:t>
            </a:r>
            <a:r>
              <a:rPr b="0" lang="zh-CN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为子    子女</a:t>
            </a:r>
            <a:r>
              <a:rPr b="0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6477120" y="3733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职业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6477120" y="44197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憎恶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6324480" y="5105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这      是</a:t>
            </a:r>
            <a:r>
              <a:rPr b="0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 Box 1026"/>
          <p:cNvSpPr/>
          <p:nvPr/>
        </p:nvSpPr>
        <p:spPr>
          <a:xfrm>
            <a:off x="838080" y="38088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大同社会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Text Box 1027"/>
          <p:cNvSpPr/>
          <p:nvPr/>
        </p:nvSpPr>
        <p:spPr>
          <a:xfrm>
            <a:off x="609480" y="2209680"/>
            <a:ext cx="77724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</a:rPr>
              <a:t>＊   人人受社会关爱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</a:rPr>
              <a:t>＊   人人安居乐业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</a:rPr>
              <a:t>＊   货尽其用、人尽其力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杰出人物的选择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6761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孙中山  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       “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革命尚未成功，同志尚需努力！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谭嗣同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      “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我自横刀向天笑，去留肝胆两昆仑。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共产党人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      “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数风流人物，还看今朝！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文人笔下的理想社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68360" y="1341360"/>
            <a:ext cx="24829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孟子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陶渊明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范仲淹：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059280" y="1341360"/>
            <a:ext cx="608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老吾老，以及人之老；幼吾幼，以及人之幼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229280" y="31417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黄发垂髫，并怡然自乐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4199760" y="49417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政通人和，百废俱兴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4000" y="1197000"/>
            <a:ext cx="849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            “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凡大同之世，全地大同，无国土之分，无种族之异，无兵争之    事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……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铁道横织于地面，汽球飞舞 于天空，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……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无乡邑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(y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ì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之殊，无 僻闹之异，所谓大同，所谓太平 也。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23920" y="549360"/>
            <a:ext cx="362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</a:rPr>
              <a:t>康有为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1" lang="zh-CN" sz="4800" spc="-1" strike="noStrike">
                <a:solidFill>
                  <a:srgbClr val="333333"/>
                </a:solidFill>
                <a:latin typeface="Times New Roman"/>
              </a:rPr>
              <a:t>大同书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》 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9280" y="1916280"/>
            <a:ext cx="72723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           “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民幼有所教，老有所养，分业操作，各得其所。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          “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国家为人民共有，政治为人民共管，利益为人民共享。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206800" y="549360"/>
            <a:ext cx="418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</a:rPr>
              <a:t>孙中山向往的理想社会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04:38:37Z</dcterms:created>
  <dc:creator>第一PPT模板网-WWW.1PPT.COM</dc:creator>
  <dc:description/>
  <cp:keywords>第一PPT模板网-WWW.1PPT.COM</cp:keywords>
  <dc:language>en-US</dc:language>
  <cp:lastModifiedBy>xinxing</cp:lastModifiedBy>
  <dcterms:modified xsi:type="dcterms:W3CDTF">2017-04-16T15:27:13Z</dcterms:modified>
  <cp:revision>7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