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19.jpeg" ContentType="image/jpeg"/>
  <Override PartName="/ppt/media/explode.wav" ContentType="audio/x-wav"/>
  <Override PartName="/ppt/media/image20.jpeg" ContentType="image/jpeg"/>
  <Override PartName="/ppt/media/image31.jpeg" ContentType="image/jpeg"/>
  <Override PartName="/ppt/media/type.wav" ContentType="audio/x-wav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hammer.wav" ContentType="audio/x-wav"/>
  <Override PartName="/ppt/media/image2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156-8388-4896-87C7-C1D89632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F2D5-5117-443D-B8D7-9F884F56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CD22-0BB0-4054-B317-85DC1CA9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09C-DB38-4590-835E-162BFD49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0F98-AF66-4079-B05F-61AA290B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20E5-3350-4986-9DA3-03CFBD5C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D91-8767-4F98-B678-84BC7D6B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F59-4E2E-4661-A8B0-001EEA7D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1DDC-5503-4E29-BC70-7865A5AB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231-A153-4728-A608-582ACB1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DB8-4A3B-4F26-99E5-E64FAB0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FD3-25C5-4E59-80D8-28A9FE2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34B4-2688-4D3F-8A8E-3FD7AFEC33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5" name="Picture 7" descr="无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7.jpeg"/><Relationship Id="rId3" Type="http://schemas.openxmlformats.org/officeDocument/2006/relationships/slide" Target="slide15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" Target="slide13.xml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audio" Target="../media/explode.wav"/><Relationship Id="rId14" Type="http://schemas.openxmlformats.org/officeDocument/2006/relationships/audio" Target="../media/explod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explode.wav"/><Relationship Id="rId18" Type="http://schemas.openxmlformats.org/officeDocument/2006/relationships/audio" Target="../media/explode.wav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northedu.com.cn/shicixinshang/shici_index.asp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43" name="Picture 2" descr="p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3687840" y="1595520"/>
            <a:ext cx="3548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692360" y="1268280"/>
            <a:ext cx="604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隶书"/>
              </a:rPr>
              <a:t>望岳</a:t>
            </a:r>
            <a:r>
              <a:rPr b="0" lang="zh-CN" sz="4800" spc="-1" strike="noStrike">
                <a:solidFill>
                  <a:srgbClr val="ff0033"/>
                </a:solidFill>
                <a:latin typeface="隶书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971640" y="5905440"/>
            <a:ext cx="720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幻灯片之家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http://www.eeppt.com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666880" y="1371600"/>
            <a:ext cx="144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88" name="Picture 3" descr="tp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848720" cy="6629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657600" y="213372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90" name="Picture 5" descr="云海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14600" y="2895480"/>
            <a:ext cx="190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93" name="Picture 3" descr="0605(1)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95" name="Picture 2" descr="岱宗坊"/>
          <p:cNvPicPr/>
          <p:nvPr/>
        </p:nvPicPr>
        <p:blipFill>
          <a:blip r:embed="rId1"/>
          <a:stretch/>
        </p:blipFill>
        <p:spPr>
          <a:xfrm>
            <a:off x="4572000" y="53352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124080" y="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泰山部分景点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32120" y="1600200"/>
            <a:ext cx="9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岱宗坊</a:t>
            </a:r>
            <a:endParaRPr b="0" lang="en-US" sz="2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98" name="Picture 5" descr="壶天阁"/>
          <p:cNvPicPr/>
          <p:nvPr/>
        </p:nvPicPr>
        <p:blipFill>
          <a:blip r:embed="rId2"/>
          <a:stretch/>
        </p:blipFill>
        <p:spPr>
          <a:xfrm>
            <a:off x="0" y="3581280"/>
            <a:ext cx="3809880" cy="3276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3889440" y="4648320"/>
            <a:ext cx="546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壶天阁</a:t>
            </a:r>
            <a:endParaRPr b="0" lang="en-US" sz="2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00" name="Picture 7" descr="孔子登临处"/>
          <p:cNvPicPr/>
          <p:nvPr/>
        </p:nvPicPr>
        <p:blipFill>
          <a:blip r:embed="rId3"/>
          <a:stretch/>
        </p:blipFill>
        <p:spPr>
          <a:xfrm>
            <a:off x="4572000" y="380988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8232120" y="4449600"/>
            <a:ext cx="91188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孔子登临处</a:t>
            </a:r>
            <a:endParaRPr b="0" lang="en-US" sz="2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02" name="Picture 9" descr="001"/>
          <p:cNvPicPr/>
          <p:nvPr/>
        </p:nvPicPr>
        <p:blipFill>
          <a:blip r:embed="rId4"/>
          <a:stretch/>
        </p:blipFill>
        <p:spPr>
          <a:xfrm>
            <a:off x="0" y="609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3595680" y="1219320"/>
            <a:ext cx="611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736440" y="1447920"/>
            <a:ext cx="60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岱庙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06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010_4"/>
          <p:cNvPicPr/>
          <p:nvPr/>
        </p:nvPicPr>
        <p:blipFill>
          <a:blip r:embed="rId2"/>
          <a:stretch/>
        </p:blipFill>
        <p:spPr>
          <a:xfrm>
            <a:off x="289548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16_2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3276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0" y="44197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10" name="Picture 6" descr="bi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3200400"/>
            <a:ext cx="411480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u40"/>
          <p:cNvPicPr/>
          <p:nvPr/>
        </p:nvPicPr>
        <p:blipFill>
          <a:blip r:embed="rId6"/>
          <a:stretch/>
        </p:blipFill>
        <p:spPr>
          <a:xfrm>
            <a:off x="4114800" y="3200400"/>
            <a:ext cx="502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13" name="Picture 2" descr="十八盘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124080" y="304920"/>
            <a:ext cx="5553360" cy="6248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-292680" y="1506240"/>
            <a:ext cx="219132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Times New Roman"/>
              </a:rPr>
              <a:t>十八盘</a:t>
            </a:r>
            <a:endParaRPr b="0" lang="en-US" sz="66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p:transition advTm="5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16" name="Picture 2" descr="3013_泰山南天门"/>
          <p:cNvPicPr/>
          <p:nvPr/>
        </p:nvPicPr>
        <p:blipFill>
          <a:blip r:embed="rId1"/>
          <a:stretch/>
        </p:blipFill>
        <p:spPr>
          <a:xfrm>
            <a:off x="3276720" y="0"/>
            <a:ext cx="5483160" cy="6705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62440" y="1752480"/>
            <a:ext cx="2009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</a:rPr>
              <a:t>南天门</a:t>
            </a:r>
            <a:endParaRPr b="0" lang="en-US" sz="60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p:transition advTm="3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19" name="Picture 2" descr="杜甫1"/>
          <p:cNvPicPr/>
          <p:nvPr/>
        </p:nvPicPr>
        <p:blipFill>
          <a:blip r:embed="rId1"/>
          <a:stretch/>
        </p:blipFill>
        <p:spPr>
          <a:xfrm>
            <a:off x="5181480" y="1295280"/>
            <a:ext cx="2971800" cy="32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杜甫2"/>
          <p:cNvPicPr/>
          <p:nvPr/>
        </p:nvPicPr>
        <p:blipFill>
          <a:blip r:embed="rId2"/>
          <a:stretch/>
        </p:blipFill>
        <p:spPr>
          <a:xfrm>
            <a:off x="914400" y="12193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057400" y="51055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</a:rPr>
              <a:t>杜   甫</a:t>
            </a:r>
            <a:endParaRPr b="0" lang="en-US" sz="4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2" name="Freeform 5"/>
          <p:cNvSpPr/>
          <p:nvPr/>
        </p:nvSpPr>
        <p:spPr>
          <a:xfrm>
            <a:off x="4267080" y="4800600"/>
            <a:ext cx="3519720" cy="1655640"/>
          </a:xfrm>
          <a:custGeom>
            <a:avLst/>
            <a:gdLst/>
            <a:ahLst/>
            <a:rect l="l" t="t" r="r" b="b"/>
            <a:pathLst>
              <a:path w="2217" h="1043">
                <a:moveTo>
                  <a:pt x="1249" y="148"/>
                </a:moveTo>
                <a:cubicBezTo>
                  <a:pt x="1344" y="179"/>
                  <a:pt x="1409" y="184"/>
                  <a:pt x="1469" y="106"/>
                </a:cubicBezTo>
                <a:cubicBezTo>
                  <a:pt x="1472" y="92"/>
                  <a:pt x="1465" y="69"/>
                  <a:pt x="1479" y="64"/>
                </a:cubicBezTo>
                <a:cubicBezTo>
                  <a:pt x="1553" y="39"/>
                  <a:pt x="1563" y="74"/>
                  <a:pt x="1594" y="116"/>
                </a:cubicBezTo>
                <a:cubicBezTo>
                  <a:pt x="1619" y="214"/>
                  <a:pt x="1587" y="193"/>
                  <a:pt x="1657" y="211"/>
                </a:cubicBezTo>
                <a:cubicBezTo>
                  <a:pt x="1705" y="187"/>
                  <a:pt x="1753" y="171"/>
                  <a:pt x="1804" y="158"/>
                </a:cubicBezTo>
                <a:cubicBezTo>
                  <a:pt x="1842" y="162"/>
                  <a:pt x="1882" y="158"/>
                  <a:pt x="1919" y="169"/>
                </a:cubicBezTo>
                <a:cubicBezTo>
                  <a:pt x="1946" y="177"/>
                  <a:pt x="1953" y="250"/>
                  <a:pt x="1961" y="273"/>
                </a:cubicBezTo>
                <a:cubicBezTo>
                  <a:pt x="1954" y="294"/>
                  <a:pt x="1928" y="317"/>
                  <a:pt x="1940" y="336"/>
                </a:cubicBezTo>
                <a:cubicBezTo>
                  <a:pt x="1947" y="347"/>
                  <a:pt x="1950" y="361"/>
                  <a:pt x="1961" y="368"/>
                </a:cubicBezTo>
                <a:cubicBezTo>
                  <a:pt x="1980" y="380"/>
                  <a:pt x="2003" y="382"/>
                  <a:pt x="2024" y="389"/>
                </a:cubicBezTo>
                <a:cubicBezTo>
                  <a:pt x="2051" y="398"/>
                  <a:pt x="2074" y="416"/>
                  <a:pt x="2097" y="431"/>
                </a:cubicBezTo>
                <a:cubicBezTo>
                  <a:pt x="2126" y="450"/>
                  <a:pt x="2181" y="493"/>
                  <a:pt x="2181" y="493"/>
                </a:cubicBezTo>
                <a:cubicBezTo>
                  <a:pt x="2207" y="546"/>
                  <a:pt x="2217" y="546"/>
                  <a:pt x="2191" y="619"/>
                </a:cubicBezTo>
                <a:cubicBezTo>
                  <a:pt x="2182" y="643"/>
                  <a:pt x="2149" y="682"/>
                  <a:pt x="2149" y="682"/>
                </a:cubicBezTo>
                <a:cubicBezTo>
                  <a:pt x="2153" y="703"/>
                  <a:pt x="2147" y="728"/>
                  <a:pt x="2160" y="745"/>
                </a:cubicBezTo>
                <a:cubicBezTo>
                  <a:pt x="2168" y="757"/>
                  <a:pt x="2191" y="746"/>
                  <a:pt x="2202" y="755"/>
                </a:cubicBezTo>
                <a:cubicBezTo>
                  <a:pt x="2211" y="762"/>
                  <a:pt x="2209" y="776"/>
                  <a:pt x="2212" y="787"/>
                </a:cubicBezTo>
                <a:cubicBezTo>
                  <a:pt x="2192" y="802"/>
                  <a:pt x="2133" y="841"/>
                  <a:pt x="2108" y="849"/>
                </a:cubicBezTo>
                <a:cubicBezTo>
                  <a:pt x="2058" y="864"/>
                  <a:pt x="1993" y="870"/>
                  <a:pt x="1940" y="881"/>
                </a:cubicBezTo>
                <a:cubicBezTo>
                  <a:pt x="1927" y="921"/>
                  <a:pt x="1938" y="946"/>
                  <a:pt x="1950" y="986"/>
                </a:cubicBezTo>
                <a:cubicBezTo>
                  <a:pt x="1895" y="1004"/>
                  <a:pt x="1839" y="1014"/>
                  <a:pt x="1783" y="1027"/>
                </a:cubicBezTo>
                <a:cubicBezTo>
                  <a:pt x="1745" y="1024"/>
                  <a:pt x="1696" y="1043"/>
                  <a:pt x="1668" y="1017"/>
                </a:cubicBezTo>
                <a:cubicBezTo>
                  <a:pt x="1639" y="991"/>
                  <a:pt x="1666" y="936"/>
                  <a:pt x="1647" y="902"/>
                </a:cubicBezTo>
                <a:cubicBezTo>
                  <a:pt x="1638" y="885"/>
                  <a:pt x="1612" y="888"/>
                  <a:pt x="1594" y="881"/>
                </a:cubicBezTo>
                <a:cubicBezTo>
                  <a:pt x="1528" y="884"/>
                  <a:pt x="1459" y="875"/>
                  <a:pt x="1395" y="891"/>
                </a:cubicBezTo>
                <a:cubicBezTo>
                  <a:pt x="1381" y="894"/>
                  <a:pt x="1395" y="923"/>
                  <a:pt x="1385" y="933"/>
                </a:cubicBezTo>
                <a:cubicBezTo>
                  <a:pt x="1367" y="951"/>
                  <a:pt x="1336" y="946"/>
                  <a:pt x="1312" y="954"/>
                </a:cubicBezTo>
                <a:cubicBezTo>
                  <a:pt x="1296" y="878"/>
                  <a:pt x="1317" y="882"/>
                  <a:pt x="1333" y="808"/>
                </a:cubicBezTo>
                <a:cubicBezTo>
                  <a:pt x="1181" y="776"/>
                  <a:pt x="970" y="921"/>
                  <a:pt x="893" y="766"/>
                </a:cubicBezTo>
                <a:cubicBezTo>
                  <a:pt x="900" y="699"/>
                  <a:pt x="898" y="643"/>
                  <a:pt x="935" y="588"/>
                </a:cubicBezTo>
                <a:cubicBezTo>
                  <a:pt x="901" y="565"/>
                  <a:pt x="864" y="548"/>
                  <a:pt x="830" y="525"/>
                </a:cubicBezTo>
                <a:cubicBezTo>
                  <a:pt x="837" y="497"/>
                  <a:pt x="877" y="454"/>
                  <a:pt x="851" y="441"/>
                </a:cubicBezTo>
                <a:cubicBezTo>
                  <a:pt x="726" y="378"/>
                  <a:pt x="897" y="467"/>
                  <a:pt x="767" y="389"/>
                </a:cubicBezTo>
                <a:cubicBezTo>
                  <a:pt x="671" y="332"/>
                  <a:pt x="739" y="379"/>
                  <a:pt x="652" y="336"/>
                </a:cubicBezTo>
                <a:cubicBezTo>
                  <a:pt x="641" y="330"/>
                  <a:pt x="632" y="319"/>
                  <a:pt x="620" y="315"/>
                </a:cubicBezTo>
                <a:cubicBezTo>
                  <a:pt x="593" y="305"/>
                  <a:pt x="537" y="294"/>
                  <a:pt x="537" y="294"/>
                </a:cubicBezTo>
                <a:cubicBezTo>
                  <a:pt x="513" y="278"/>
                  <a:pt x="483" y="272"/>
                  <a:pt x="463" y="252"/>
                </a:cubicBezTo>
                <a:cubicBezTo>
                  <a:pt x="409" y="198"/>
                  <a:pt x="506" y="237"/>
                  <a:pt x="421" y="211"/>
                </a:cubicBezTo>
                <a:cubicBezTo>
                  <a:pt x="357" y="168"/>
                  <a:pt x="282" y="186"/>
                  <a:pt x="212" y="211"/>
                </a:cubicBezTo>
                <a:cubicBezTo>
                  <a:pt x="172" y="208"/>
                  <a:pt x="0" y="234"/>
                  <a:pt x="55" y="137"/>
                </a:cubicBezTo>
                <a:cubicBezTo>
                  <a:pt x="78" y="96"/>
                  <a:pt x="172" y="102"/>
                  <a:pt x="212" y="85"/>
                </a:cubicBezTo>
                <a:cubicBezTo>
                  <a:pt x="226" y="79"/>
                  <a:pt x="239" y="70"/>
                  <a:pt x="254" y="64"/>
                </a:cubicBezTo>
                <a:cubicBezTo>
                  <a:pt x="275" y="56"/>
                  <a:pt x="317" y="43"/>
                  <a:pt x="317" y="43"/>
                </a:cubicBezTo>
                <a:cubicBezTo>
                  <a:pt x="431" y="51"/>
                  <a:pt x="530" y="68"/>
                  <a:pt x="641" y="85"/>
                </a:cubicBezTo>
                <a:cubicBezTo>
                  <a:pt x="676" y="78"/>
                  <a:pt x="715" y="81"/>
                  <a:pt x="746" y="64"/>
                </a:cubicBezTo>
                <a:cubicBezTo>
                  <a:pt x="759" y="57"/>
                  <a:pt x="749" y="34"/>
                  <a:pt x="757" y="22"/>
                </a:cubicBezTo>
                <a:cubicBezTo>
                  <a:pt x="764" y="12"/>
                  <a:pt x="778" y="8"/>
                  <a:pt x="788" y="1"/>
                </a:cubicBezTo>
                <a:cubicBezTo>
                  <a:pt x="847" y="5"/>
                  <a:pt x="908" y="0"/>
                  <a:pt x="966" y="12"/>
                </a:cubicBezTo>
                <a:cubicBezTo>
                  <a:pt x="1000" y="19"/>
                  <a:pt x="977" y="60"/>
                  <a:pt x="997" y="74"/>
                </a:cubicBezTo>
                <a:cubicBezTo>
                  <a:pt x="1027" y="95"/>
                  <a:pt x="1133" y="119"/>
                  <a:pt x="1175" y="127"/>
                </a:cubicBezTo>
                <a:cubicBezTo>
                  <a:pt x="1245" y="140"/>
                  <a:pt x="1222" y="121"/>
                  <a:pt x="1249" y="148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029200" y="4876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宋体"/>
              </a:rPr>
              <a:t>语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562720" y="4952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095880" y="5181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惊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781680" y="5181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230"/>
                </a:solidFill>
                <a:latin typeface="Times New Roman"/>
                <a:ea typeface="宋体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943600" y="5562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死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55308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宋体"/>
              </a:rPr>
              <a:t>不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7086600" y="5638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  <a:ea typeface="宋体"/>
              </a:rPr>
              <a:t>休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95280" y="620640"/>
            <a:ext cx="8381880" cy="26535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杜甫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712—770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），字</a:t>
            </a:r>
            <a:r>
              <a:rPr b="1" lang="zh-CN" sz="2800" spc="-1" strike="noStrike" u="sng">
                <a:solidFill>
                  <a:srgbClr val="010000"/>
                </a:solidFill>
                <a:uFillTx/>
                <a:latin typeface="Times New Roman"/>
                <a:ea typeface="宋体"/>
              </a:rPr>
              <a:t>子美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，曾居长安城南少陵以西，自称</a:t>
            </a:r>
            <a:r>
              <a:rPr b="1" i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少陵野老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世称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杜少陵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。祖籍湖北襄阳，生于河南巩县。怀有远大的政治理想，但因奸臣李林甫当权，他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岁应试不第，漫游各地，与李白、高适一流大诗人往还酬唱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34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岁开始在长安寓居近十年。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755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年，自京赴奉先县，得知幼子已饿死，而皇室贵族还过着荒淫逸乐的生活，强烈的阶级对比，使诗人留下了</a:t>
            </a:r>
            <a:r>
              <a:rPr b="1" i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“朱门酒肉臭，路有冻死骨”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的千古绝唱。一度任剑南节度参军，检校工部员外郎，世称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杜工部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。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他是我国唐代伟大的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现实主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诗人，代表作：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“三吏”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“三别”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。其诗显示了唐由盛转衰的历史过程，被称为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“诗史”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，明清文人推崇他为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  <a:ea typeface="宋体"/>
              </a:rPr>
              <a:t>“诗圣”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。以古体、律诗见长，风格多样，而以</a:t>
            </a:r>
            <a:r>
              <a:rPr b="1" i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沉郁顿挫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为主。有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《</a:t>
            </a:r>
            <a:r>
              <a:rPr b="1" lang="zh-CN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杜工部集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052640"/>
            <a:ext cx="9144000" cy="2043720"/>
          </a:xfrm>
          <a:prstGeom prst="rect">
            <a:avLst/>
          </a:prstGeom>
          <a:solidFill>
            <a:srgbClr val="ff3399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这首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望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诗是杜甫落第后往游齐、赵时所作，当在开元二十四、二十五年间，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登兖州城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诗写作年代相近。杜甫的父亲杜闲这时官兖州司马。可能当时急于省亲，来不及登泰山，所以写了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望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。入山作微观，有时还不如在山外作宏观。苏轼咏庐山诗就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不识庐山真面目，只缘身在此山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慨叹。这首诗就是从宏观角度对整个泰山作审美观照的。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0" y="143352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148360" y="620640"/>
            <a:ext cx="39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望岳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岱宗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夫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如何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</a:rPr>
              <a:t>？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齐鲁青未了。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造化钟神秀，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阴阳割昏晓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荡胸生层云，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决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眦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入归鸟。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会当凌绝顶，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一览众山小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137" name="Picture 7" descr="望岳"/>
          <p:cNvPicPr/>
          <p:nvPr/>
        </p:nvPicPr>
        <p:blipFill>
          <a:blip r:embed="rId1"/>
          <a:stretch/>
        </p:blipFill>
        <p:spPr>
          <a:xfrm>
            <a:off x="0" y="0"/>
            <a:ext cx="5435640" cy="659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8" name="AutoShape 8"/>
          <p:cNvSpPr/>
          <p:nvPr/>
        </p:nvSpPr>
        <p:spPr>
          <a:xfrm>
            <a:off x="5940360" y="765000"/>
            <a:ext cx="792360" cy="792360"/>
          </a:xfrm>
          <a:prstGeom prst="wedgeEllipseCallout">
            <a:avLst>
              <a:gd name="adj1" fmla="val 79458"/>
              <a:gd name="adj2" fmla="val 10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084720" y="981000"/>
            <a:ext cx="5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867280" y="9079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</a:rPr>
              <a:t>f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4572000" y="3645000"/>
            <a:ext cx="1368360" cy="936360"/>
          </a:xfrm>
          <a:prstGeom prst="wedgeEllipseCallout">
            <a:avLst>
              <a:gd name="adj1" fmla="val 89907"/>
              <a:gd name="adj2" fmla="val 66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788000" y="3860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692360" y="5877000"/>
            <a:ext cx="2160360" cy="581400"/>
          </a:xfrm>
          <a:prstGeom prst="rect">
            <a:avLst/>
          </a:prstGeom>
          <a:solidFill>
            <a:srgbClr val="ff3399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课文朗读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4" dur="1" fill="hold"/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85" dur="1" fill="hold"/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0" y="380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五岳</a:t>
            </a:r>
            <a:endParaRPr b="0" lang="en-US" sz="60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49" name="Line 3"/>
          <p:cNvSpPr/>
          <p:nvPr/>
        </p:nvSpPr>
        <p:spPr>
          <a:xfrm flipV="1">
            <a:off x="1066680" y="2971800"/>
            <a:ext cx="708660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50" name="Line 4"/>
          <p:cNvSpPr/>
          <p:nvPr/>
        </p:nvSpPr>
        <p:spPr>
          <a:xfrm flipH="1" flipV="1">
            <a:off x="4267080" y="228600"/>
            <a:ext cx="152640" cy="60199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352680" y="1952640"/>
            <a:ext cx="2468520" cy="2587680"/>
            <a:chOff x="3352680" y="1952640"/>
            <a:chExt cx="2468520" cy="2587680"/>
          </a:xfrm>
        </p:grpSpPr>
        <p:pic>
          <p:nvPicPr>
            <p:cNvPr id="52" name="Picture 6" descr=""/>
            <p:cNvPicPr/>
            <p:nvPr/>
          </p:nvPicPr>
          <p:blipFill>
            <a:blip r:embed="rId1"/>
            <a:stretch/>
          </p:blipFill>
          <p:spPr>
            <a:xfrm>
              <a:off x="3352680" y="2286000"/>
              <a:ext cx="170676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7"/>
            <p:cNvSpPr/>
            <p:nvPr/>
          </p:nvSpPr>
          <p:spPr>
            <a:xfrm>
              <a:off x="5092200" y="1952640"/>
              <a:ext cx="729000" cy="258768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岳嵩山</a:t>
              </a:r>
              <a:endParaRPr b="0" lang="en-US" sz="3600" spc="-1" strike="noStrike">
                <a:solidFill>
                  <a:srgbClr val="000000"/>
                </a:solidFill>
                <a:latin typeface="隶书"/>
              </a:endParaRPr>
            </a:p>
          </p:txBody>
        </p:sp>
      </p:grpSp>
      <p:grpSp>
        <p:nvGrpSpPr>
          <p:cNvPr id="54" name="Group 8"/>
          <p:cNvGrpSpPr/>
          <p:nvPr/>
        </p:nvGrpSpPr>
        <p:grpSpPr>
          <a:xfrm>
            <a:off x="228600" y="2013120"/>
            <a:ext cx="2400480" cy="2587680"/>
            <a:chOff x="228600" y="2013120"/>
            <a:chExt cx="2400480" cy="2587680"/>
          </a:xfrm>
        </p:grpSpPr>
        <p:pic>
          <p:nvPicPr>
            <p:cNvPr id="55" name="Picture 9" descr=""/>
            <p:cNvPicPr/>
            <p:nvPr/>
          </p:nvPicPr>
          <p:blipFill>
            <a:blip r:embed="rId2"/>
            <a:stretch/>
          </p:blipFill>
          <p:spPr>
            <a:xfrm>
              <a:off x="228600" y="2286000"/>
              <a:ext cx="16002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10"/>
            <p:cNvSpPr/>
            <p:nvPr/>
          </p:nvSpPr>
          <p:spPr>
            <a:xfrm>
              <a:off x="1900080" y="2013120"/>
              <a:ext cx="729000" cy="258768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西岳华山</a:t>
              </a:r>
              <a:endParaRPr b="0" lang="en-US" sz="3600" spc="-1" strike="noStrike">
                <a:solidFill>
                  <a:srgbClr val="000000"/>
                </a:solidFill>
                <a:latin typeface="隶书"/>
              </a:endParaRPr>
            </a:p>
          </p:txBody>
        </p:sp>
      </p:grpSp>
      <p:sp>
        <p:nvSpPr>
          <p:cNvPr id="57" name="Text Box 11"/>
          <p:cNvSpPr/>
          <p:nvPr/>
        </p:nvSpPr>
        <p:spPr>
          <a:xfrm>
            <a:off x="7653240" y="655920"/>
            <a:ext cx="1185840" cy="4660200"/>
          </a:xfrm>
          <a:prstGeom prst="rect">
            <a:avLst/>
          </a:prstGeom>
          <a:solidFill>
            <a:srgbClr val="99cc0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东岳泰山</a:t>
            </a:r>
            <a:endParaRPr b="0" lang="en-US" sz="6600" spc="-1" strike="noStrike">
              <a:solidFill>
                <a:srgbClr val="000000"/>
              </a:solidFill>
              <a:latin typeface="隶书"/>
            </a:endParaRPr>
          </a:p>
        </p:txBody>
      </p:sp>
      <p:grpSp>
        <p:nvGrpSpPr>
          <p:cNvPr id="58" name="Group 12"/>
          <p:cNvGrpSpPr/>
          <p:nvPr/>
        </p:nvGrpSpPr>
        <p:grpSpPr>
          <a:xfrm>
            <a:off x="2895480" y="-263160"/>
            <a:ext cx="3047760" cy="2313360"/>
            <a:chOff x="2895480" y="-263160"/>
            <a:chExt cx="3047760" cy="2313360"/>
          </a:xfrm>
        </p:grpSpPr>
        <p:sp>
          <p:nvSpPr>
            <p:cNvPr id="59" name="Text Box 13"/>
            <p:cNvSpPr/>
            <p:nvPr/>
          </p:nvSpPr>
          <p:spPr>
            <a:xfrm>
              <a:off x="5275440" y="-263160"/>
              <a:ext cx="667800" cy="231336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北岳恒山</a:t>
              </a: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pic>
          <p:nvPicPr>
            <p:cNvPr id="60" name="Picture 14" descr=""/>
            <p:cNvPicPr/>
            <p:nvPr/>
          </p:nvPicPr>
          <p:blipFill>
            <a:blip r:embed="rId3"/>
            <a:stretch/>
          </p:blipFill>
          <p:spPr>
            <a:xfrm>
              <a:off x="2895480" y="20520"/>
              <a:ext cx="2361960" cy="17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15"/>
          <p:cNvGrpSpPr/>
          <p:nvPr/>
        </p:nvGrpSpPr>
        <p:grpSpPr>
          <a:xfrm>
            <a:off x="3033720" y="4655160"/>
            <a:ext cx="3124080" cy="2313360"/>
            <a:chOff x="3033720" y="4655160"/>
            <a:chExt cx="3124080" cy="2313360"/>
          </a:xfrm>
        </p:grpSpPr>
        <p:sp>
          <p:nvSpPr>
            <p:cNvPr id="62" name="Text Box 16"/>
            <p:cNvSpPr/>
            <p:nvPr/>
          </p:nvSpPr>
          <p:spPr>
            <a:xfrm>
              <a:off x="5490000" y="4655160"/>
              <a:ext cx="667800" cy="2313360"/>
            </a:xfrm>
            <a:prstGeom prst="rect">
              <a:avLst/>
            </a:prstGeom>
            <a:solidFill>
              <a:srgbClr val="99cc00">
                <a:alpha val="7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南岳衡山</a:t>
              </a: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pic>
          <p:nvPicPr>
            <p:cNvPr id="63" name="Picture 17" descr=""/>
            <p:cNvPicPr/>
            <p:nvPr/>
          </p:nvPicPr>
          <p:blipFill>
            <a:blip r:embed="rId4"/>
            <a:stretch/>
          </p:blipFill>
          <p:spPr>
            <a:xfrm>
              <a:off x="3033720" y="4994280"/>
              <a:ext cx="23623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-792000" y="2664000"/>
            <a:ext cx="3240000" cy="20602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476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望岳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              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岱宗夫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如何？ 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齐鲁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青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未了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造化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钟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神秀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， 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阴阳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割昏晓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荡胸生层云， 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决眦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入归鸟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会当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凌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绝顶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</a:rPr>
              <a:t>， 一览众山</a:t>
            </a:r>
            <a:r>
              <a:rPr b="1" lang="zh-CN" sz="3600" spc="-1" strike="noStrike">
                <a:solidFill>
                  <a:srgbClr val="ff3399"/>
                </a:solidFill>
                <a:latin typeface="隶书"/>
              </a:rPr>
              <a:t>小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411280" y="260280"/>
            <a:ext cx="1513080" cy="1081080"/>
          </a:xfrm>
          <a:prstGeom prst="wedgeRoundRectCallout">
            <a:avLst>
              <a:gd name="adj1" fmla="val -20513"/>
              <a:gd name="adj2" fmla="val 8465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-181080" y="1773360"/>
            <a:ext cx="1621080" cy="1150920"/>
          </a:xfrm>
          <a:prstGeom prst="wedgeEllipseCallout">
            <a:avLst>
              <a:gd name="adj1" fmla="val 86435"/>
              <a:gd name="adj2" fmla="val -395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0" y="1916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泰山的别称</a:t>
            </a:r>
            <a:endParaRPr b="0" lang="en-US" sz="20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124000" y="333360"/>
            <a:ext cx="194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隶书"/>
              </a:rPr>
              <a:t>（ </a:t>
            </a:r>
            <a:r>
              <a:rPr b="1" lang="en-US" sz="2000" spc="-1" strike="noStrike">
                <a:solidFill>
                  <a:srgbClr val="333399"/>
                </a:solidFill>
                <a:latin typeface="隶书"/>
              </a:rPr>
              <a:t>f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ú</a:t>
            </a:r>
            <a:r>
              <a:rPr b="1" lang="en-US" sz="20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隶书"/>
              </a:rPr>
              <a:t>）</a:t>
            </a:r>
            <a:r>
              <a:rPr b="1" lang="zh-CN" sz="2800" spc="-1" strike="noStrike">
                <a:solidFill>
                  <a:srgbClr val="333399"/>
                </a:solidFill>
                <a:latin typeface="隶书"/>
              </a:rPr>
              <a:t>舒缓语气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508720" y="765000"/>
            <a:ext cx="16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0" y="3429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自然界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236000" y="1341360"/>
            <a:ext cx="1657080" cy="2087640"/>
          </a:xfrm>
          <a:prstGeom prst="cloudCallout">
            <a:avLst>
              <a:gd name="adj1" fmla="val -80745"/>
              <a:gd name="adj2" fmla="val -2018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7667640" y="198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不尽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2484360" y="1125360"/>
            <a:ext cx="2376720" cy="1584360"/>
          </a:xfrm>
          <a:custGeom>
            <a:avLst/>
            <a:gdLst/>
            <a:ahLst/>
            <a:rect l="l" t="t" r="r" b="b"/>
            <a:pathLst>
              <a:path w="2376487" h="1584325">
                <a:moveTo>
                  <a:pt x="2" y="605156"/>
                </a:moveTo>
                <a:lnTo>
                  <a:pt x="907742" y="605161"/>
                </a:lnTo>
                <a:lnTo>
                  <a:pt x="1188243" y="0"/>
                </a:lnTo>
                <a:lnTo>
                  <a:pt x="1468745" y="605161"/>
                </a:lnTo>
                <a:lnTo>
                  <a:pt x="2376484" y="605156"/>
                </a:lnTo>
                <a:lnTo>
                  <a:pt x="1642104" y="979162"/>
                </a:lnTo>
                <a:lnTo>
                  <a:pt x="1922617" y="1584320"/>
                </a:lnTo>
                <a:lnTo>
                  <a:pt x="1188243" y="1210308"/>
                </a:lnTo>
                <a:lnTo>
                  <a:pt x="453870" y="1584320"/>
                </a:lnTo>
                <a:lnTo>
                  <a:pt x="734383" y="979162"/>
                </a:lnTo>
                <a:close/>
              </a:path>
            </a:pathLst>
          </a:custGeom>
          <a:solidFill>
            <a:srgbClr val="ffdf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3059280" y="1700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聚集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7" name="AutoShape 22"/>
          <p:cNvSpPr/>
          <p:nvPr/>
        </p:nvSpPr>
        <p:spPr>
          <a:xfrm>
            <a:off x="5364000" y="2924280"/>
            <a:ext cx="2448000" cy="1008000"/>
          </a:xfrm>
          <a:custGeom>
            <a:avLst/>
            <a:gdLst>
              <a:gd name="textAreaLeft" fmla="*/ 0 w 2448000"/>
              <a:gd name="textAreaRight" fmla="*/ 2448360 w 2448000"/>
              <a:gd name="textAreaTop" fmla="*/ 262080 h 1008000"/>
              <a:gd name="textAreaBottom" fmla="*/ 7459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5580000" y="3141720"/>
            <a:ext cx="2087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5435640" y="3068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隶书"/>
              </a:rPr>
              <a:t>睁大眼睛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0" name="AutoShape 25"/>
          <p:cNvSpPr/>
          <p:nvPr/>
        </p:nvSpPr>
        <p:spPr>
          <a:xfrm>
            <a:off x="2124000" y="5445000"/>
            <a:ext cx="1440000" cy="1008360"/>
          </a:xfrm>
          <a:prstGeom prst="upArrow">
            <a:avLst>
              <a:gd name="adj1" fmla="val 44120"/>
              <a:gd name="adj2" fmla="val 50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2627280" y="5373720"/>
            <a:ext cx="4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登上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2" name="AutoShape 27"/>
          <p:cNvSpPr/>
          <p:nvPr/>
        </p:nvSpPr>
        <p:spPr>
          <a:xfrm>
            <a:off x="539640" y="5589720"/>
            <a:ext cx="1511280" cy="86364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250920" y="5734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要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4" name="AutoShape 29"/>
          <p:cNvSpPr/>
          <p:nvPr/>
        </p:nvSpPr>
        <p:spPr>
          <a:xfrm>
            <a:off x="7236000" y="5129280"/>
            <a:ext cx="1368360" cy="172872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7451640" y="50562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以为小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0" y="0"/>
            <a:ext cx="237636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借助注释理解诗文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7" name="AutoShape 19"/>
          <p:cNvSpPr/>
          <p:nvPr/>
        </p:nvSpPr>
        <p:spPr>
          <a:xfrm>
            <a:off x="826920" y="3789360"/>
            <a:ext cx="4537080" cy="1511280"/>
          </a:xfrm>
          <a:prstGeom prst="cloudCallout">
            <a:avLst>
              <a:gd name="adj1" fmla="val 58083"/>
              <a:gd name="adj2" fmla="val -11764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971640" y="386064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：山的南面，水的北面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：山的北面，水的南面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0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77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770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4" dur="1" fill="hold"/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5" dur="1" fill="hold"/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grpSp>
        <p:nvGrpSpPr>
          <p:cNvPr id="170" name="Group 2"/>
          <p:cNvGrpSpPr/>
          <p:nvPr/>
        </p:nvGrpSpPr>
        <p:grpSpPr>
          <a:xfrm>
            <a:off x="0" y="-784080"/>
            <a:ext cx="9866160" cy="7642080"/>
            <a:chOff x="0" y="-784080"/>
            <a:chExt cx="9866160" cy="7642080"/>
          </a:xfrm>
        </p:grpSpPr>
        <p:sp>
          <p:nvSpPr>
            <p:cNvPr id="171" name="Rectangle 3"/>
            <p:cNvSpPr/>
            <p:nvPr/>
          </p:nvSpPr>
          <p:spPr>
            <a:xfrm>
              <a:off x="8566200" y="-266760"/>
              <a:ext cx="1299960" cy="71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2" name="Rectangle 4"/>
            <p:cNvSpPr/>
            <p:nvPr/>
          </p:nvSpPr>
          <p:spPr>
            <a:xfrm>
              <a:off x="4284720" y="-266760"/>
              <a:ext cx="4859280" cy="71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endParaRPr b="0" lang="en-US" sz="44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4673520" y="-266760"/>
              <a:ext cx="265320" cy="71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0" y="-266760"/>
              <a:ext cx="4673520" cy="71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en-US" sz="31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r>
                <a:rPr b="0" lang="en-US" sz="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8566200" y="-784080"/>
              <a:ext cx="12999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4938840" y="-784080"/>
              <a:ext cx="3627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 </a:t>
              </a:r>
              <a:r>
                <a:rPr b="0" lang="en-US" sz="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4673520" y="-784080"/>
              <a:ext cx="265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0" y="-784080"/>
              <a:ext cx="46735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宋体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\</a:t>
              </a:r>
              <a:endParaRPr b="0" lang="en-US" sz="9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0" y="-784080"/>
              <a:ext cx="9866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0" y="6858000"/>
              <a:ext cx="9866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0" y="-784080"/>
              <a:ext cx="0" cy="7642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9866160" y="-784080"/>
              <a:ext cx="0" cy="7642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隶书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1177920" y="6033960"/>
          <a:ext cx="6751800" cy="473040"/>
        </p:xfrm>
        <a:graphic>
          <a:graphicData uri="http://schemas.openxmlformats.org/drawingml/2006/table">
            <a:tbl>
              <a:tblPr/>
              <a:tblGrid>
                <a:gridCol w="6751800"/>
              </a:tblGrid>
              <a:tr h="473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9999"/>
                          </a:solidFill>
                          <a:uFillTx/>
                          <a:latin typeface="宋体"/>
                          <a:ea typeface="宋体"/>
                          <a:hlinkClick r:id="rId1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隶书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3"/>
          <p:cNvSpPr/>
          <p:nvPr/>
        </p:nvSpPr>
        <p:spPr>
          <a:xfrm>
            <a:off x="539640" y="0"/>
            <a:ext cx="644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望岳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               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杜甫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岱宗夫如何？ 齐鲁青未了。 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造化钟神秀， 阴阳割昏晓。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荡胸生层云， 决眦入归鸟。 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</a:rPr>
              <a:t>会当凌绝顶， 一览众山小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85" name="Rectangle 24"/>
          <p:cNvSpPr/>
          <p:nvPr/>
        </p:nvSpPr>
        <p:spPr>
          <a:xfrm>
            <a:off x="0" y="3429000"/>
            <a:ext cx="8964720" cy="947160"/>
          </a:xfrm>
          <a:prstGeom prst="rect">
            <a:avLst/>
          </a:prstGeom>
          <a:solidFill>
            <a:srgbClr val="ffff00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隶书"/>
              </a:rPr>
              <a:t>解说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泰山的景象如何？整个齐鲁大地都可以看见它青翠的山影。大自然使泰山集中了神奇与秀美，阳光把高山的南北分割成昏晓。山中层云缭绕使人胸怀激荡，归巢的鸟儿尽入眼帘。一定要登上山顶，这里放眼望去才会感到所有的山都是那么的矮小。诗人由望泰山之高峻神奇而发登高之想，抒发了自己年轻时的情怀。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gradFill rotWithShape="0">
            <a:gsLst>
              <a:gs pos="0">
                <a:srgbClr val="ff0066">
                  <a:alpha val="94117"/>
                </a:srgbClr>
              </a:gs>
              <a:gs pos="100000">
                <a:srgbClr val="99cc00">
                  <a:alpha val="3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全诗首二句作整体的初望，次二句写被山的灵秀所吸引，作深层次、多角度的仔细观望，像画图一样昏晓色彩分明。而五、六二句写被诱发了主体感情时的凝神远望，这是一种云生鸟飞存在于大自然中的自由境界，由此反映了诗人英姿勃发的情态。这六句全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字上下工夫。望的感受层次愈深，想登山的意愿也就愈迫切，可能想省亲之后就回来上泰山。所以结语有想象色彩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会当凌绝顶，一览众山小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这二句并非有意套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孟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尽心上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所说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0920" y="549360"/>
            <a:ext cx="8496360" cy="2288520"/>
          </a:xfrm>
          <a:prstGeom prst="rect">
            <a:avLst/>
          </a:prstGeom>
          <a:gradFill rotWithShape="0">
            <a:gsLst>
              <a:gs pos="0">
                <a:srgbClr val="ff0066">
                  <a:alpha val="94117"/>
                </a:srgbClr>
              </a:gs>
              <a:gs pos="100000">
                <a:srgbClr val="99cc00">
                  <a:alpha val="3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登泰山而小天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句，而是想到不久之后总要来亲身登上最高峰，其他的小山，就会像培一样，匍匐低首在下方。杜甫有意无意之间抒发了他的壮怀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致君尧舜上，再使风俗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，这样的怀抱如能实现，就近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会当凌绝顶，一览众山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浦起龙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读杜心解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评全诗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杜子心胸气魄，于斯可观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这是一首有对偶的古体诗，气势雄浑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68360" y="476280"/>
            <a:ext cx="8424720" cy="1739880"/>
          </a:xfrm>
          <a:prstGeom prst="rect">
            <a:avLst/>
          </a:prstGeom>
          <a:gradFill rotWithShape="0">
            <a:gsLst>
              <a:gs pos="0">
                <a:srgbClr val="ff0066">
                  <a:alpha val="94117"/>
                </a:srgbClr>
              </a:gs>
              <a:gs pos="100000">
                <a:srgbClr val="99cc00">
                  <a:alpha val="3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从诗大体上看来，似乎都在实写诗人在仰望泰山时的所见所感，细心一读不难发现诗中虚的意境。特别是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会当凌绝顶，一览众山小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这一句不仅表达了诗人登临泰山绝顶、饱览群山风光的愿望，更主要的是，把登临泰山顶做为人生理想、追求事业成功的象征，生动显现出诗人对未来美好的憧憬和宏伟抱负。使诗人血气方刚的少年壮志，由此自然而然地呈现出来。</a:t>
            </a:r>
            <a:endParaRPr b="0" lang="en-US" sz="36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116000" y="981000"/>
            <a:ext cx="6767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、这首诗以哪个字为线索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、本诗写出了泰山的哪些特征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、从哪些角度写山的？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、从泰山的形象中你体会到诗人的什么形象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、找出名句并赏析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5148360" y="0"/>
            <a:ext cx="2879640" cy="981000"/>
          </a:xfrm>
          <a:prstGeom prst="wedgeRoundRectCallout">
            <a:avLst>
              <a:gd name="adj1" fmla="val -46856"/>
              <a:gd name="adj2" fmla="val 700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435640" y="189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为线索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6156360" y="2276640"/>
            <a:ext cx="2808360" cy="129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372360" y="24922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隶书"/>
              </a:rPr>
              <a:t>远望、近望、细望、展望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611280" y="3789360"/>
            <a:ext cx="4032000" cy="1727280"/>
          </a:xfrm>
          <a:custGeom>
            <a:avLst/>
            <a:gdLst>
              <a:gd name="textAreaLeft" fmla="*/ 0 w 4032000"/>
              <a:gd name="textAreaRight" fmla="*/ 4032360 w 4032000"/>
              <a:gd name="textAreaTop" fmla="*/ 449280 h 1727280"/>
              <a:gd name="textAreaBottom" fmla="*/ 127800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755640" y="3933720"/>
            <a:ext cx="338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朝气蓬勃，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抱负远大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1403280" y="333360"/>
            <a:ext cx="2952720" cy="1511280"/>
          </a:xfrm>
          <a:prstGeom prst="wedgeEllipseCallout">
            <a:avLst>
              <a:gd name="adj1" fmla="val 122958"/>
              <a:gd name="adj2" fmla="val 52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835280" y="76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高大秀丽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0" y="0"/>
            <a:ext cx="8604360" cy="3672000"/>
          </a:xfrm>
          <a:prstGeom prst="cloudCallout">
            <a:avLst>
              <a:gd name="adj1" fmla="val 20333"/>
              <a:gd name="adj2" fmla="val 7555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476360" y="404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</a:rPr>
              <a:t>尾联写作者由仰望泰山而产生登临绝顶的愿望。蕴含哲理，</a:t>
            </a:r>
            <a:r>
              <a:rPr b="0" lang="zh-CN" sz="3200" spc="-1" strike="noStrike">
                <a:solidFill>
                  <a:srgbClr val="ff0066"/>
                </a:solidFill>
                <a:latin typeface="隶书"/>
              </a:rPr>
              <a:t>洋溢着诗人蓬勃的朝气，可以看出诗人不怕困难、敢于攀登绝顶，俯视万物的雄心壮志和远大抱负。</a:t>
            </a:r>
            <a:endParaRPr b="0" lang="en-US" sz="3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7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2" dur="1" fill="hold"/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43" dur="1" fill="hold"/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2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7726-E92B-4626-95E7-0CCEA63146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67053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850640" y="1905120"/>
            <a:ext cx="4507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  <a:ea typeface="宋体"/>
              </a:rPr>
              <a:t>泰山</a:t>
            </a:r>
            <a:endParaRPr b="0" lang="en-US" sz="142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6320" y="544680"/>
            <a:ext cx="97534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泰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五岳中名声最著，其原因亦与秦          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汉之际开始的封禅活动有关。封建帝王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封禅活动是政治和迷信的混合物。封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禅是一种祭祀性的礼仪活动，“封”是在泰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山上堆土为坛，在坛上祭祀天神，报答上苍的功绩；“禅”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在泰山下扫除一片净土，在净土上祭祀土神，报答后土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功绩。古人认为“天以高为尊，地以厚为德”、“天高不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及于泰山”，祈愿“天地交泰”。于是，凡所谓“受命于天”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帝王，为答谢天帝的“受命”之恩，便到接近天神的泰山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巅，积土为坛，增泰山之高以祭天，表示功归于天；然后，再到泰山之前近地祗的梁父、社首、云云等小山丘设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坛祭地，表示厚上加厚，福广恩厚以报地。这就是历代帝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王狂热追求的泰山封禅大典。一代帝王登封泰山，被视为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国家鼎盛、天下太平的象征。</a:t>
            </a:r>
            <a:endParaRPr b="0" lang="en-US" sz="28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160" y="60480"/>
            <a:ext cx="9067680" cy="67356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99"/>
          <p:cNvSpPr/>
          <p:nvPr/>
        </p:nvSpPr>
        <p:spPr>
          <a:xfrm>
            <a:off x="428760" y="4672080"/>
            <a:ext cx="6738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模板下载：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宋体"/>
                <a:ea typeface="宋体"/>
                <a:hlinkClick r:id="rId2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029200" cy="251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3471840" y="3005280"/>
            <a:ext cx="5519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6320" y="36360"/>
            <a:ext cx="4495680" cy="346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343400" y="3733920"/>
            <a:ext cx="4724280" cy="308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152280" y="3809880"/>
            <a:ext cx="3962520" cy="289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4724280" y="152280"/>
            <a:ext cx="42674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82" name="Picture 2" descr="021_2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6320" y="0"/>
            <a:ext cx="90676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隶书"/>
            </a:endParaRPr>
          </a:p>
        </p:txBody>
      </p:sp>
      <p:pic>
        <p:nvPicPr>
          <p:cNvPr id="84" name="Picture 2" descr="s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1"/>
          <p:cNvSpPr/>
          <p:nvPr/>
        </p:nvSpPr>
        <p:spPr>
          <a:xfrm>
            <a:off x="277920" y="247680"/>
            <a:ext cx="64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3:01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32Z</dcterms:modified>
  <cp:revision>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