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gif" ContentType="image/gif"/>
  <Override PartName="/ppt/media/image16.jpeg" ContentType="image/jpeg"/>
  <Override PartName="/ppt/media/image14.jpeg" ContentType="image/jpeg"/>
  <Override PartName="/ppt/media/image1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526-E96D-4B63-A498-27399205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232-86BD-43DB-9621-2A770E2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D3B-FEEF-4A76-8846-B7A2391D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F45-2BF1-4976-A3F8-D7CBB88A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7CE-F16E-448F-9750-A24F8A2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AB3-3EBA-4F7B-B6AE-2163E139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094-7297-42C2-A3DA-0403CBFB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F26-7DC4-48C2-91FB-D02BCCA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0FF-A961-4431-BFA4-5914520B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D6C-5F83-43C8-A796-54C39A1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4EC-19F0-4FBF-99CD-3070E619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DC5-4965-4E81-A09D-F59B155A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78E-EEC9-4059-A976-545DABDF7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页脚占位符 2"/>
          <p:cNvSpPr/>
          <p:nvPr/>
        </p:nvSpPr>
        <p:spPr>
          <a:xfrm>
            <a:off x="2771640" y="6245280"/>
            <a:ext cx="388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1052640"/>
            <a:ext cx="89247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Arial"/>
              </a:rPr>
              <a:t>谈 读 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、谈话导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读万卷书，行万里路。”十年寒窗，伴着馥郁的书香，我们一天天长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请你坦诚告诉大家：你喜欢读书吗？你读过哪些书？读书的过程中你有哪些感悟？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"/>
          <p:cNvPicPr/>
          <p:nvPr/>
        </p:nvPicPr>
        <p:blipFill>
          <a:blip r:embed="rId1"/>
          <a:stretch/>
        </p:blipFill>
        <p:spPr>
          <a:xfrm>
            <a:off x="0" y="3645000"/>
            <a:ext cx="4716360" cy="319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10"/>
          <p:cNvPicPr/>
          <p:nvPr/>
        </p:nvPicPr>
        <p:blipFill>
          <a:blip r:embed="rId2"/>
          <a:stretch/>
        </p:blipFill>
        <p:spPr>
          <a:xfrm>
            <a:off x="4716360" y="364500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75985196465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自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1483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本文让你对读书有了哪些新的认识？结合课文，用自己的话谈一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你在阅读中有什么疑难问题吗？大胆地说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tnml03"/>
          <p:cNvPicPr/>
          <p:nvPr/>
        </p:nvPicPr>
        <p:blipFill>
          <a:blip r:embed="rId1"/>
          <a:stretch/>
        </p:blipFill>
        <p:spPr>
          <a:xfrm>
            <a:off x="380880" y="3068640"/>
            <a:ext cx="8064720" cy="378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360080" y="533520"/>
            <a:ext cx="65631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给下列生字注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怡（       ）情   统筹（       ）  藻（      ）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狡黠（        ）  诘（       ）难  要诀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蒸馏（        ）  劝诫（        ）  滞（      ）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吹毛求疵（        ）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779040" y="5149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219320" y="50292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862640" y="464508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咀嚼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973520" y="563580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味同嚼蜡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969800" y="5181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5410080" y="5029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148080" y="472140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好读书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164280" y="563580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好书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367280" y="13399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4573440" y="133992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7088400" y="13399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849680" y="21016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4313880" y="210168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605720" y="20257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849680" y="28638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771080" y="278748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7225200" y="278748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65960" y="3549600"/>
            <a:ext cx="5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957760" y="45403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ju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3795840" y="5607000"/>
            <a:ext cx="9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j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7545240" y="46926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7545960" y="56070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h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品读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557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编写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读书名言精评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：每人从课文中选取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句名言做精彩点评。点评角度自主确定，可以挖掘句子思想内涵，可以分析句式，赏析修辞，也可以涉及遣词造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范例：读书使人充实，讨论使人机智，作文使人               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句子分别以“读书”“讨论”“作文”为例论述了学以致用的观点。句式整齐，使论证更为有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24000" y="494172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95640" y="184428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自主解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07640" y="3357720"/>
            <a:ext cx="576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cc"/>
                </a:solidFill>
                <a:latin typeface="Arial"/>
              </a:rPr>
              <a:t>你最喜欢文中哪一句读书名言？请以它做论点说一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372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拓展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920" y="1915920"/>
            <a:ext cx="5329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古往今来，名人学者遨游书海留下了许多读书名言以激励后之学者。你还知道哪些读书名言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自拟读书格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5924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结束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280" y="2349000"/>
            <a:ext cx="7869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今读书成大事者必经三境界：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11280" y="3213000"/>
            <a:ext cx="6624720" cy="37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独上高楼，望尽天涯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衣带渐宽终不悔，为伊消得人憔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众里寻她千百度，蓦然回首，那人却在灯火阑珊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布置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280" y="162864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请将自拟的读书格言修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写在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读书名言精评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539640" y="6154560"/>
            <a:ext cx="57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3276720" y="4581360"/>
            <a:ext cx="5616360" cy="25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Francis Bac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42" name="Picture 4" descr="1"/>
          <p:cNvPicPr/>
          <p:nvPr/>
        </p:nvPicPr>
        <p:blipFill>
          <a:blip r:embed="rId1"/>
          <a:stretch/>
        </p:blipFill>
        <p:spPr>
          <a:xfrm>
            <a:off x="-181080" y="0"/>
            <a:ext cx="2452680" cy="2852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四．说板书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读书（随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培根（英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书的目的          比喻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书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书的作用           归纳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反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这堂课的主要宗旨就是具有实用性，在于培养学生的读书能力。放手自学点拨到位、拓展迁移触类旁通，充分体现学生的主体作用，教师只是引导，组织。通过这堂课的教学我觉得老师要善于给学生一个广阔的“渔场”。北师大肖川教授说过：授之以鱼，不如授之以渔；授之以渔，不如授之以渔场。而新课程下的语文教学则尤其应达到这样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324000" y="26028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教学反思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4500720" y="198900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ject 5" descr=""/>
          <p:cNvPicPr/>
          <p:nvPr/>
        </p:nvPicPr>
        <p:blipFill>
          <a:blip r:embed="rId16"/>
          <a:stretch/>
        </p:blipFill>
        <p:spPr>
          <a:xfrm>
            <a:off x="0" y="0"/>
            <a:ext cx="9140760" cy="6853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413000"/>
            <a:ext cx="532908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一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说教材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二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说教法和学法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三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说教学程序及策略 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四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说板书设计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五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教学反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36C-A0BB-4308-89DF-A3FB42B3EA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教材的地位和作用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读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九年级上册第四单元的一篇文章。作者是培根，体裁为随笔。本单元大多数课文是议论文阐述的是求知的问题。在学习的过程中，明辨是非，明白事理，让人聪慧睿智，是本单元的最高要求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读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意蕴最丰富的一篇，用格言式的语句主要谈了读书的益处，值得学生借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0" y="26028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教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课文的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483920"/>
            <a:ext cx="7850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读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谈论了读书的益处，围绕这一中心话题，又谈了读书要与经验互补，要研究读书的方法，要根据不同的性格和需要做不同的选择等相关问题。文章是从三个方面展开论述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谈读书的益处。（作者开篇即以高度概括的格言式语句点题：“读书足以怡情，足以傅采，足以长才。”然后从正面加以阐述，要言不繁。接下来话锋一转，从反面指出在求知上可能存在的误区）其次谈读书的方法。最后，作者援引古罗马诗人奥维德“凡有所学，皆成性格”的观点对读书的益处加以强调和提升，使文章立论更加完整。其文笔紧凑，老练，锐利，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透彻，警句迭出。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谈读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进行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的关键就在于凸显精致的语言这个“点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68360" y="33336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教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学情分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年级学生已具有整体感知课文和联系上下文理解句子的能力。但对于像本文这样有深刻哲理的文章，学生则容易出现：抓表层易，知本质难；知思路易，明思想难的现象。所以在教学时要考虑让学生多读，要保证学生质疑问难的时间，要多让学生采用合作、探究的方法来学习，要重视引导、多给学生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395280" y="0"/>
            <a:ext cx="230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教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0" y="0"/>
            <a:ext cx="1763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教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重点、难点的预设及依据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九年级学生认知和思维能力的发展及议论文阅读的基础，结合本文的特点，预设本文的教学重点、难点如下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：引导学生积累，感受，体验语言意蕴美和形式美，学会读书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点：学生对课文进行自我解读和个性表达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4"/>
          <p:cNvSpPr txBox="1"/>
          <p:nvPr/>
        </p:nvSpPr>
        <p:spPr>
          <a:xfrm>
            <a:off x="179280" y="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教材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目标的预设及依据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4920" y="98100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以上四个方面的情况，从“知识和技能”“方法和过程”“情感、态度和价值观”考虑，确定本文教学目标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认知目标：朗读课文，整体感知课文内容。品读格言警句，进行语言积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能力目标：圈划点评文中的格言警句； 提出疑问，合作探究，培养学生发现问题和主动深入思考问题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情感目标：培养学生创造性思维，弘扬学生个性。热爱读书，会读书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说教法和学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积累赏析，体验语言美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改变单纯的识记模式，组织学生依据本文信息编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书名言精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学生在兴趣盎然中赏析语言，在溢美的氛围中积累语言。积累课外读书名言引导学生跳出文本，也给了学生阅读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主感悟，体验成长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是学习的主人，鼓励学生对课文进行自我解读和个性表达，让阅读的全过程自始至终都伴随着心与心的对话和交流，并呈现出学生成长的轨迹，从中体验成长的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作探究，体验发现的快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学生最大的思维空间，让学生在合作中探究，在合作中比较，在合作中质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50920" y="0"/>
            <a:ext cx="2017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教和学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说教学程序及策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教学以“一个话题、一组问题、几大板块、整体综合”的阅读教学理念为指导，采用朗读法、诵读品味法、合作探究法等学习方法，通过朗读来感知文本；以圈画重要句段并赏析品读来落实重点，理解主题；通过自主质疑、合作探究来启迪思考。力求在教学中体现语文的熏陶感染作用，体现课堂民主、师生平等对话和发挥双方主动性与创造性的教学理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0" y="260280"/>
            <a:ext cx="2050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过程</a:t>
            </a:r>
            <a:endParaRPr b="1" lang="en-US" sz="5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8:01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32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