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explode.wav" ContentType="audio/x-wav"/>
  <Override PartName="/ppt/media/typ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85F-D5CD-428B-8246-B8712562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0F8-0C3A-4FA3-83C0-E61122C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48503-AEFE-4670-B0A4-7EBC1221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A2EC-6D50-407D-B5DD-78B285A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B51E0-6005-4956-9CBB-A1444DC9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9E491-E692-463A-8577-90F4F56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B4B4B-DC5A-445D-B2D2-C849F84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0EC6F-7078-46DE-85C5-692DA90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F083F-8567-4394-9453-6BA68F99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7C5CD-53AE-4DBB-B1AF-40A3357F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2C9B9-C0ED-4BF0-9FF9-CEEA9574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803-DDD7-4169-A1E3-FF4C17F7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747-46A7-40DF-822F-0EFE60A7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DE2-0AC7-4439-A96B-9DE75203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2810-EAC0-4A9E-B9AF-5ACF5B49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4B96-A0EB-4890-8949-4366AAC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F971-A7F4-4CC4-A2D9-A9F9F51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AF6F-5CFE-44CA-8AC4-4E0C947B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1231-50A8-4CC6-825D-6843026C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6F6D-BE0F-413E-B5C6-A9EE697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BB7-670B-4E82-BD38-234A912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040-77FC-4A28-8955-B60B3A5F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BCCB-2225-4C50-845C-E506234D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7D0F-9A53-4695-8DC3-C595F274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613-CC05-43D1-B709-20C4A66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8070-08ED-474A-9ECB-2CA373C0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1193B-E993-41E1-BF1B-31B08D47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F274C-E70D-43C1-BD75-0D218CBB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E8CC3-EFED-4890-B60F-8CDE10F1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0807C-4B51-4C1D-A46A-A579E49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21905-6E5C-4E5B-AB9F-1F18DABF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F32-AB93-4005-8534-59237D5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182B2-CFA1-473D-B61E-E2966EF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7207F-8125-4570-B15E-EAB4665C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65E30-33BD-4A0F-A1B0-18DCC65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915EE-4E34-4CA9-A37A-B9A797D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B6552-22F9-42F8-8C1C-CA8F0CFC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A37F6-F5B3-4C68-9892-4C84C12C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3D9F4-139F-4CB0-BB0C-4C65D191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AE73-04CE-4C49-AFBC-77027191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F054-9210-4BB0-90BA-57DF1779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E946-EC19-42FC-B3B6-B3F761BA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EEC-0A22-46DD-9C37-D768C3F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4FC9-1D54-4CE4-AC60-074B9382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DFA2-9142-4437-9AFE-9268BA76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DB36-CA04-4E1E-A074-0E3E6C3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9D83-FB40-4EB4-B5C1-E220ABF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295E-73AB-4734-83C4-87AAAE1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263C-DE68-4B50-BBC1-28E6ED9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9B83-5989-4778-A543-9F7C90AA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9E5A-31EB-4C9D-8DFD-BF1378B0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F74D-89E5-442C-B77A-7DE8F411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FB62-9093-4785-84FE-3DF5532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21D-7CE3-487D-9969-28B15CD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4871-03CA-4A91-A4AB-4F8A638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8190-AAD5-4D45-9EBB-7DAC67FD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6EC1-3B69-47FD-B649-84CB17AC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2FDA-70E4-451B-8C86-0AD3A10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17DD-A06D-4A51-A03B-FB80CD9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F6FA-0959-4EA4-A71E-F572BFF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BF69-AE56-4A2B-B7E5-47934AA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57B05-3450-4302-9F6F-5039FEE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55B5-A5AB-4671-9A8C-1FD9D6D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1F9D-DD6F-4E23-B861-89F964A2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DA8-6236-45E3-A74F-454CF72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087C-6D77-4BB2-B3ED-2F4D7A1B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01AC-295C-4D53-8323-39ED1D5F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F943-AF22-4B2A-BFD0-0B52465D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C46D4-E6A0-4D53-B69D-D024A41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E8E4-7E54-4EF6-A96D-6654D0A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0CB5-815A-44EF-BC35-889D3CCC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5BFEB-E49D-49FA-B5DB-C847E91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33F39-EDF9-4D7E-A00A-6DB9A31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2462-FADF-4845-BDA6-E8589F9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9556-809D-41C8-9CCE-6750A09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192-C769-4AC6-B9C7-4956046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75EB-7855-48E7-B562-FD3FD48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36C50-932F-46AC-84D2-77F2FFDA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40D09-1F70-419E-9A6D-5E26E98F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E2B8-D4A2-4446-915B-BC82E7C1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EB3F8-4A81-4AEA-875C-898CDEB1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06F6-10CB-4DD5-86A6-DF41D58E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72A8-47F9-497F-A236-42F8F88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E658-A8FC-41DC-B44D-7434587C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73D2-877A-47D5-BC58-1752105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1640E-A244-4350-A3CF-41DC81C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4A6-F113-4331-8AE5-9EB12D6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EB29-5DC7-45A2-90E1-64B9740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F25A-D706-46C7-8455-08FEDCEB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F5841-FE9D-42DA-952E-25C657F1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3F56-2F89-4189-9603-FB51F449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D731-EC0F-444A-9F01-1493D6C3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8FB10-91A5-4CA6-8DF7-B9536421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8DE0-288E-4BFB-B4B0-6B16BF66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6993-C8A5-4D36-9FFF-CE8832F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4EFE-CA4D-4DA3-9A06-4AAE542B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13C49-0414-44AD-BC92-2E18226E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475-687F-4F10-A94B-5D9928A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AFF2-3728-4F24-93C9-0C6B217C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AD65-198B-4BAD-82FA-CD55A1C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74B0-5899-453A-AEE0-FE1E4D5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9312-E753-4E1B-BEE3-5210093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9FE0-4011-42A4-83A5-4B1F31A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A7AC-895E-4F9E-9440-F1F5B3A6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0AC18-2BBA-486F-9D3C-82329304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EEB23-0B16-46C4-808B-A5D64A9F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9A3ED-A1DF-4A31-B0E0-E7CA647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2CC59-DB80-4272-A649-DC652CB1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BCDA-06E3-4F3B-97AC-2E05DED59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747F-B8B5-4377-8D96-B3DDBBDF4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1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b5b1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5d1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aa88c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9e9c82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2af93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9729-A092-424E-BAB3-9543BD57E2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B56-B1BF-4026-829E-73C27A46E4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2C33-B29C-47CB-8E13-33B77C9DA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95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97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C034-6263-42DF-8519-D5A3E72BD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1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b5b1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5d1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aa88c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9e9c82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5d1f0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d1f03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2af93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90E-E563-4C86-8E33-761827AF83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149-94B1-4633-AAE7-1F10D0B006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13DC-973F-4B4D-8B17-71B93876B3B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8762760" cy="18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多项式乘以多项式课件</a:t>
            </a:r>
            <a:r>
              <a:rPr b="1" lang="en-US" sz="4000" spc="-1" strike="noStrike">
                <a:solidFill>
                  <a:srgbClr val="9900cc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1821600" y="108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式的乘除与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50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cc00ff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324000" y="692280"/>
            <a:ext cx="8820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80808"/>
                </a:solidFill>
                <a:latin typeface="Times New Roman"/>
              </a:rPr>
              <a:t>多项式与多项式相乘</a:t>
            </a: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Times New Roman"/>
              </a:rPr>
              <a:t>先用一个多项式的每一项乘另一个多项式的每一项</a:t>
            </a: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Times New Roman"/>
              </a:rPr>
              <a:t>再把所得的积相加</a:t>
            </a: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7"/>
          <p:cNvGrpSpPr/>
          <p:nvPr/>
        </p:nvGrpSpPr>
        <p:grpSpPr>
          <a:xfrm>
            <a:off x="826920" y="2064600"/>
            <a:ext cx="7772400" cy="2122920"/>
            <a:chOff x="826920" y="2064600"/>
            <a:chExt cx="7772400" cy="2122920"/>
          </a:xfrm>
        </p:grpSpPr>
        <p:sp>
          <p:nvSpPr>
            <p:cNvPr id="681" name="Text Box 8"/>
            <p:cNvSpPr/>
            <p:nvPr/>
          </p:nvSpPr>
          <p:spPr>
            <a:xfrm>
              <a:off x="826920" y="2878200"/>
              <a:ext cx="777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(a+b)( m+n)=am+an+bm+b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Group 9"/>
            <p:cNvGrpSpPr/>
            <p:nvPr/>
          </p:nvGrpSpPr>
          <p:grpSpPr>
            <a:xfrm>
              <a:off x="1135800" y="2064600"/>
              <a:ext cx="2049480" cy="2122920"/>
              <a:chOff x="1135800" y="2064600"/>
              <a:chExt cx="2049480" cy="2122920"/>
            </a:xfrm>
          </p:grpSpPr>
          <p:sp>
            <p:nvSpPr>
              <p:cNvPr id="683" name="Arc 10"/>
              <p:cNvSpPr/>
              <p:nvPr/>
            </p:nvSpPr>
            <p:spPr>
              <a:xfrm rot="19066800">
                <a:off x="1359720" y="2649600"/>
                <a:ext cx="914400" cy="9144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rc 11"/>
              <p:cNvSpPr/>
              <p:nvPr/>
            </p:nvSpPr>
            <p:spPr>
              <a:xfrm rot="17926800">
                <a:off x="1627200" y="2077560"/>
                <a:ext cx="1066680" cy="1752480"/>
              </a:xfrm>
              <a:custGeom>
                <a:avLst/>
                <a:gdLst/>
                <a:ahLst/>
                <a:rect l="l" t="t" r="r" b="b"/>
                <a:pathLst>
                  <a:path fill="none" w="21600" h="3578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6814"/>
                      <a:pt x="19713" y="31853"/>
                      <a:pt x="16288" y="35785"/>
                    </a:cubicBezTo>
                  </a:path>
                  <a:path stroke="0" w="21600" h="3578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6814"/>
                      <a:pt x="19713" y="31853"/>
                      <a:pt x="16288" y="3578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Arc 12"/>
              <p:cNvSpPr/>
              <p:nvPr/>
            </p:nvSpPr>
            <p:spPr>
              <a:xfrm rot="8485200">
                <a:off x="1808640" y="3018960"/>
                <a:ext cx="1103400" cy="925560"/>
              </a:xfrm>
              <a:custGeom>
                <a:avLst/>
                <a:gdLst/>
                <a:ahLst/>
                <a:rect l="l" t="t" r="r" b="b"/>
                <a:pathLst>
                  <a:path fill="none" w="26054" h="21872">
                    <a:moveTo>
                      <a:pt x="0" y="464"/>
                    </a:moveTo>
                    <a:cubicBezTo>
                      <a:pt x="1464" y="155"/>
                      <a:pt x="2957" y="-1"/>
                      <a:pt x="4454" y="0"/>
                    </a:cubicBezTo>
                    <a:cubicBezTo>
                      <a:pt x="16383" y="0"/>
                      <a:pt x="26054" y="9670"/>
                      <a:pt x="26054" y="21600"/>
                    </a:cubicBezTo>
                    <a:cubicBezTo>
                      <a:pt x="26054" y="21690"/>
                      <a:pt x="26053" y="21781"/>
                      <a:pt x="26052" y="21872"/>
                    </a:cubicBezTo>
                  </a:path>
                  <a:path stroke="0" w="26054" h="21872">
                    <a:moveTo>
                      <a:pt x="0" y="464"/>
                    </a:moveTo>
                    <a:cubicBezTo>
                      <a:pt x="1464" y="155"/>
                      <a:pt x="2957" y="-1"/>
                      <a:pt x="4454" y="0"/>
                    </a:cubicBezTo>
                    <a:cubicBezTo>
                      <a:pt x="16383" y="0"/>
                      <a:pt x="26054" y="9670"/>
                      <a:pt x="26054" y="21600"/>
                    </a:cubicBezTo>
                    <a:cubicBezTo>
                      <a:pt x="26054" y="21690"/>
                      <a:pt x="26053" y="21781"/>
                      <a:pt x="26052" y="21872"/>
                    </a:cubicBezTo>
                    <a:lnTo>
                      <a:pt x="4454" y="21600"/>
                    </a:lnTo>
                    <a:lnTo>
                      <a:pt x="0" y="464"/>
                    </a:lnTo>
                    <a:close/>
                  </a:path>
                </a:pathLst>
              </a:custGeom>
              <a:noFill/>
              <a:ln w="19080">
                <a:solidFill>
                  <a:srgbClr val="00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Arc 13"/>
              <p:cNvSpPr/>
              <p:nvPr/>
            </p:nvSpPr>
            <p:spPr>
              <a:xfrm rot="9064800">
                <a:off x="1588320" y="2801880"/>
                <a:ext cx="770040" cy="914400"/>
              </a:xfrm>
              <a:custGeom>
                <a:avLst/>
                <a:gdLst/>
                <a:ahLst/>
                <a:rect l="l" t="t" r="r" b="b"/>
                <a:pathLst>
                  <a:path fill="none" w="18178" h="21600">
                    <a:moveTo>
                      <a:pt x="-1" y="0"/>
                    </a:moveTo>
                    <a:cubicBezTo>
                      <a:pt x="7355" y="0"/>
                      <a:pt x="14204" y="3742"/>
                      <a:pt x="18177" y="9932"/>
                    </a:cubicBezTo>
                  </a:path>
                  <a:path stroke="0" w="18178" h="21600">
                    <a:moveTo>
                      <a:pt x="-1" y="0"/>
                    </a:moveTo>
                    <a:cubicBezTo>
                      <a:pt x="7355" y="0"/>
                      <a:pt x="14204" y="3742"/>
                      <a:pt x="18177" y="993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Text Box 15"/>
          <p:cNvSpPr/>
          <p:nvPr/>
        </p:nvSpPr>
        <p:spPr>
          <a:xfrm>
            <a:off x="0" y="3416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80808"/>
                </a:solidFill>
                <a:latin typeface="Times New Roman"/>
              </a:rPr>
              <a:t>、多项式与多项式相乘时，多项式的每一项都应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带上它前面的正负号</a:t>
            </a:r>
            <a:r>
              <a:rPr b="1" lang="zh-CN" sz="4400" spc="-1" strike="noStrike">
                <a:solidFill>
                  <a:srgbClr val="080808"/>
                </a:solidFill>
                <a:latin typeface="Times New Roman"/>
              </a:rPr>
              <a:t>。多项式是单项式的和，每一项都包括前面的符号，在计算时一定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注意确定各项的符号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0" y="141264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、在数学知识的学习中，“转化”思想是的重要思想方法。在今天的学习中，第一步是“转化”为多项式与单项式相乘，第二步是“转化”为单项式乘法。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将新的知识、方法化为已知的数学知识、方法。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从而使学习能够进行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0" y="333360"/>
            <a:ext cx="89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x+p)(x+q) = x</a:t>
            </a:r>
            <a:r>
              <a:rPr b="1" lang="en-US" sz="44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+ (p+q) x + p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68360" y="476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课外作业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课本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.150  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题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解方程与不等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)  (x-3)(x-2)+18 = (x+9)(x+1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)  (3x+4)(3x-4)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(x-2)(x+3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C53-1F06-4BE8-A7BE-C136DC9822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了扩大街心花园的绿地面积，将一块原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宽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的长方形绿地，加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加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能计算出扩展后绿地的面积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18"/>
          <p:cNvGrpSpPr/>
          <p:nvPr/>
        </p:nvGrpSpPr>
        <p:grpSpPr>
          <a:xfrm>
            <a:off x="1331640" y="2708280"/>
            <a:ext cx="6697080" cy="3933000"/>
            <a:chOff x="1331640" y="2708280"/>
            <a:chExt cx="6697080" cy="3933000"/>
          </a:xfrm>
        </p:grpSpPr>
        <p:sp>
          <p:nvSpPr>
            <p:cNvPr id="552" name="Text Box 81"/>
            <p:cNvSpPr/>
            <p:nvPr/>
          </p:nvSpPr>
          <p:spPr>
            <a:xfrm>
              <a:off x="4111920" y="2708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7"/>
            <p:cNvSpPr/>
            <p:nvPr/>
          </p:nvSpPr>
          <p:spPr>
            <a:xfrm>
              <a:off x="7256520" y="272484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95"/>
            <p:cNvGrpSpPr/>
            <p:nvPr/>
          </p:nvGrpSpPr>
          <p:grpSpPr>
            <a:xfrm>
              <a:off x="1331640" y="2891520"/>
              <a:ext cx="6697080" cy="3749760"/>
              <a:chOff x="1331640" y="2891520"/>
              <a:chExt cx="6697080" cy="3749760"/>
            </a:xfrm>
          </p:grpSpPr>
          <p:grpSp>
            <p:nvGrpSpPr>
              <p:cNvPr id="555" name="Group 12"/>
              <p:cNvGrpSpPr/>
              <p:nvPr/>
            </p:nvGrpSpPr>
            <p:grpSpPr>
              <a:xfrm>
                <a:off x="1731960" y="3296880"/>
                <a:ext cx="6296040" cy="3343320"/>
                <a:chOff x="1731960" y="3296880"/>
                <a:chExt cx="6296040" cy="3343320"/>
              </a:xfrm>
            </p:grpSpPr>
            <p:sp>
              <p:nvSpPr>
                <p:cNvPr id="556" name="Rectangle 4"/>
                <p:cNvSpPr/>
                <p:nvPr/>
              </p:nvSpPr>
              <p:spPr>
                <a:xfrm>
                  <a:off x="1731960" y="3296880"/>
                  <a:ext cx="5247000" cy="26470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Rectangle 5"/>
                <p:cNvSpPr/>
                <p:nvPr/>
              </p:nvSpPr>
              <p:spPr>
                <a:xfrm>
                  <a:off x="6978960" y="3296880"/>
                  <a:ext cx="1049040" cy="2647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7"/>
                <p:cNvSpPr/>
                <p:nvPr/>
              </p:nvSpPr>
              <p:spPr>
                <a:xfrm>
                  <a:off x="1731960" y="5943960"/>
                  <a:ext cx="5247000" cy="6962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Rectangle 8"/>
                <p:cNvSpPr/>
                <p:nvPr/>
              </p:nvSpPr>
              <p:spPr>
                <a:xfrm>
                  <a:off x="6978960" y="5943960"/>
                  <a:ext cx="1049040" cy="6962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1332000" y="3296880"/>
                <a:ext cx="399960" cy="360"/>
                <a:chOff x="1332000" y="3296880"/>
                <a:chExt cx="399960" cy="360"/>
              </a:xfrm>
            </p:grpSpPr>
            <p:sp>
              <p:nvSpPr>
                <p:cNvPr id="561" name="Line 70"/>
                <p:cNvSpPr/>
                <p:nvPr/>
              </p:nvSpPr>
              <p:spPr>
                <a:xfrm>
                  <a:off x="1332000" y="3296880"/>
                  <a:ext cx="399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1332000" y="3296880"/>
                  <a:ext cx="399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332000" y="5932080"/>
                <a:ext cx="500040" cy="360"/>
                <a:chOff x="1332000" y="5932080"/>
                <a:chExt cx="500040" cy="360"/>
              </a:xfrm>
            </p:grpSpPr>
            <p:sp>
              <p:nvSpPr>
                <p:cNvPr id="564" name="Line 71"/>
                <p:cNvSpPr/>
                <p:nvPr/>
              </p:nvSpPr>
              <p:spPr>
                <a:xfrm>
                  <a:off x="1332000" y="593208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1332000" y="5932080"/>
                  <a:ext cx="5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1531800" y="3296520"/>
                <a:ext cx="360" cy="1013400"/>
                <a:chOff x="1531800" y="3296520"/>
                <a:chExt cx="360" cy="1013400"/>
              </a:xfrm>
            </p:grpSpPr>
            <p:sp>
              <p:nvSpPr>
                <p:cNvPr id="567" name="Line 73"/>
                <p:cNvSpPr/>
                <p:nvPr/>
              </p:nvSpPr>
              <p:spPr>
                <a:xfrm flipV="1">
                  <a:off x="1532160" y="3296520"/>
                  <a:ext cx="0" cy="101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 rot="10800000">
                  <a:off x="1531800" y="3296520"/>
                  <a:ext cx="360" cy="10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1532160" y="4918320"/>
                <a:ext cx="360" cy="1013400"/>
                <a:chOff x="1532160" y="4918320"/>
                <a:chExt cx="360" cy="1013400"/>
              </a:xfrm>
            </p:grpSpPr>
            <p:sp>
              <p:nvSpPr>
                <p:cNvPr id="570" name="Line 74"/>
                <p:cNvSpPr/>
                <p:nvPr/>
              </p:nvSpPr>
              <p:spPr>
                <a:xfrm>
                  <a:off x="1532160" y="4918320"/>
                  <a:ext cx="0" cy="101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 txBox="1"/>
                <p:nvPr/>
              </p:nvSpPr>
              <p:spPr>
                <a:xfrm>
                  <a:off x="1532160" y="4918320"/>
                  <a:ext cx="360" cy="10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Text Box 75"/>
              <p:cNvSpPr/>
              <p:nvPr/>
            </p:nvSpPr>
            <p:spPr>
              <a:xfrm>
                <a:off x="1332000" y="431028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1731960" y="2891880"/>
                <a:ext cx="360" cy="506520"/>
                <a:chOff x="1731960" y="2891880"/>
                <a:chExt cx="360" cy="506520"/>
              </a:xfrm>
            </p:grpSpPr>
            <p:sp>
              <p:nvSpPr>
                <p:cNvPr id="574" name="Line 76"/>
                <p:cNvSpPr/>
                <p:nvPr/>
              </p:nvSpPr>
              <p:spPr>
                <a:xfrm>
                  <a:off x="1731960" y="2891880"/>
                  <a:ext cx="0" cy="50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 txBox="1"/>
                <p:nvPr/>
              </p:nvSpPr>
              <p:spPr>
                <a:xfrm>
                  <a:off x="1731960" y="2891880"/>
                  <a:ext cx="36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002000" y="2891520"/>
                <a:ext cx="360" cy="405000"/>
                <a:chOff x="7002000" y="2891520"/>
                <a:chExt cx="360" cy="405000"/>
              </a:xfrm>
            </p:grpSpPr>
            <p:sp>
              <p:nvSpPr>
                <p:cNvPr id="577" name="Line 78"/>
                <p:cNvSpPr/>
                <p:nvPr/>
              </p:nvSpPr>
              <p:spPr>
                <a:xfrm flipV="1">
                  <a:off x="7002360" y="2891520"/>
                  <a:ext cx="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 txBox="1"/>
                <p:nvPr/>
              </p:nvSpPr>
              <p:spPr>
                <a:xfrm rot="10800000">
                  <a:off x="7002000" y="2891520"/>
                  <a:ext cx="36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4757400" y="3094200"/>
                <a:ext cx="2171880" cy="360"/>
                <a:chOff x="4757400" y="3094200"/>
                <a:chExt cx="2171880" cy="360"/>
              </a:xfrm>
            </p:grpSpPr>
            <p:sp>
              <p:nvSpPr>
                <p:cNvPr id="580" name="Line 79"/>
                <p:cNvSpPr/>
                <p:nvPr/>
              </p:nvSpPr>
              <p:spPr>
                <a:xfrm>
                  <a:off x="4757400" y="3094200"/>
                  <a:ext cx="217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4757400" y="3094200"/>
                  <a:ext cx="217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723320" y="3094200"/>
                <a:ext cx="2198880" cy="360"/>
                <a:chOff x="1723320" y="3094200"/>
                <a:chExt cx="2198880" cy="360"/>
              </a:xfrm>
            </p:grpSpPr>
            <p:sp>
              <p:nvSpPr>
                <p:cNvPr id="583" name="Line 80"/>
                <p:cNvSpPr/>
                <p:nvPr/>
              </p:nvSpPr>
              <p:spPr>
                <a:xfrm flipH="1">
                  <a:off x="1723320" y="3094200"/>
                  <a:ext cx="219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>
                  <a:off x="1723320" y="3094200"/>
                  <a:ext cx="219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8028360" y="2891520"/>
                <a:ext cx="360" cy="405000"/>
                <a:chOff x="8028360" y="2891520"/>
                <a:chExt cx="360" cy="405000"/>
              </a:xfrm>
            </p:grpSpPr>
            <p:sp>
              <p:nvSpPr>
                <p:cNvPr id="586" name="Line 83"/>
                <p:cNvSpPr/>
                <p:nvPr/>
              </p:nvSpPr>
              <p:spPr>
                <a:xfrm flipV="1">
                  <a:off x="8028720" y="2891520"/>
                  <a:ext cx="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 rot="10800000">
                  <a:off x="8028360" y="2891520"/>
                  <a:ext cx="36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029000" y="3094200"/>
                <a:ext cx="299520" cy="360"/>
                <a:chOff x="7029000" y="3094200"/>
                <a:chExt cx="299520" cy="360"/>
              </a:xfrm>
            </p:grpSpPr>
            <p:sp>
              <p:nvSpPr>
                <p:cNvPr id="589" name="Line 86"/>
                <p:cNvSpPr/>
                <p:nvPr/>
              </p:nvSpPr>
              <p:spPr>
                <a:xfrm>
                  <a:off x="7029000" y="3094200"/>
                  <a:ext cx="29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7029000" y="3094200"/>
                  <a:ext cx="299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728840" y="3094200"/>
                <a:ext cx="299520" cy="360"/>
                <a:chOff x="7728840" y="3094200"/>
                <a:chExt cx="299520" cy="360"/>
              </a:xfrm>
            </p:grpSpPr>
            <p:sp>
              <p:nvSpPr>
                <p:cNvPr id="592" name="Line 88"/>
                <p:cNvSpPr/>
                <p:nvPr/>
              </p:nvSpPr>
              <p:spPr>
                <a:xfrm>
                  <a:off x="7728840" y="3094200"/>
                  <a:ext cx="29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>
                  <a:off x="7728840" y="3094200"/>
                  <a:ext cx="299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331640" y="6640920"/>
                <a:ext cx="400320" cy="360"/>
                <a:chOff x="1331640" y="6640920"/>
                <a:chExt cx="400320" cy="360"/>
              </a:xfrm>
            </p:grpSpPr>
            <p:sp>
              <p:nvSpPr>
                <p:cNvPr id="595" name="Line 89"/>
                <p:cNvSpPr/>
                <p:nvPr/>
              </p:nvSpPr>
              <p:spPr>
                <a:xfrm flipH="1">
                  <a:off x="1331640" y="6640920"/>
                  <a:ext cx="399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 txBox="1"/>
                <p:nvPr/>
              </p:nvSpPr>
              <p:spPr>
                <a:xfrm>
                  <a:off x="1332000" y="6640920"/>
                  <a:ext cx="399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Text Box 92"/>
              <p:cNvSpPr/>
              <p:nvPr/>
            </p:nvSpPr>
            <p:spPr>
              <a:xfrm>
                <a:off x="1332000" y="5923440"/>
                <a:ext cx="39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532160" y="6438600"/>
                <a:ext cx="360" cy="202320"/>
                <a:chOff x="1532160" y="6438600"/>
                <a:chExt cx="360" cy="202320"/>
              </a:xfrm>
            </p:grpSpPr>
            <p:sp>
              <p:nvSpPr>
                <p:cNvPr id="599" name="Line 93"/>
                <p:cNvSpPr/>
                <p:nvPr/>
              </p:nvSpPr>
              <p:spPr>
                <a:xfrm>
                  <a:off x="1532160" y="6438600"/>
                  <a:ext cx="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1532160" y="6438600"/>
                  <a:ext cx="36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1531800" y="5932080"/>
                <a:ext cx="360" cy="202320"/>
                <a:chOff x="1531800" y="5932080"/>
                <a:chExt cx="360" cy="202320"/>
              </a:xfrm>
            </p:grpSpPr>
            <p:sp>
              <p:nvSpPr>
                <p:cNvPr id="602" name="Line 94"/>
                <p:cNvSpPr/>
                <p:nvPr/>
              </p:nvSpPr>
              <p:spPr>
                <a:xfrm flipV="1">
                  <a:off x="1532160" y="5932080"/>
                  <a:ext cx="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 txBox="1"/>
                <p:nvPr/>
              </p:nvSpPr>
              <p:spPr>
                <a:xfrm rot="10800000">
                  <a:off x="1531800" y="5932080"/>
                  <a:ext cx="36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3"/>
          <p:cNvGrpSpPr/>
          <p:nvPr/>
        </p:nvGrpSpPr>
        <p:grpSpPr>
          <a:xfrm>
            <a:off x="-360" y="189000"/>
            <a:ext cx="8964360" cy="6407640"/>
            <a:chOff x="-360" y="189000"/>
            <a:chExt cx="8964360" cy="6407640"/>
          </a:xfrm>
        </p:grpSpPr>
        <p:sp>
          <p:nvSpPr>
            <p:cNvPr id="605" name="Text Box 4"/>
            <p:cNvSpPr/>
            <p:nvPr/>
          </p:nvSpPr>
          <p:spPr>
            <a:xfrm>
              <a:off x="3720960" y="189000"/>
              <a:ext cx="669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5"/>
            <p:cNvSpPr/>
            <p:nvPr/>
          </p:nvSpPr>
          <p:spPr>
            <a:xfrm>
              <a:off x="7930080" y="216000"/>
              <a:ext cx="668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Group 6"/>
            <p:cNvGrpSpPr/>
            <p:nvPr/>
          </p:nvGrpSpPr>
          <p:grpSpPr>
            <a:xfrm>
              <a:off x="-360" y="488520"/>
              <a:ext cx="8964360" cy="6108120"/>
              <a:chOff x="-360" y="488520"/>
              <a:chExt cx="8964360" cy="610812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535320" y="1148040"/>
                <a:ext cx="8427960" cy="5446800"/>
                <a:chOff x="535320" y="1148040"/>
                <a:chExt cx="8427960" cy="5446800"/>
              </a:xfrm>
            </p:grpSpPr>
            <p:sp>
              <p:nvSpPr>
                <p:cNvPr id="609" name="Rectangle 8"/>
                <p:cNvSpPr/>
                <p:nvPr/>
              </p:nvSpPr>
              <p:spPr>
                <a:xfrm>
                  <a:off x="535320" y="1148040"/>
                  <a:ext cx="7023600" cy="431244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9"/>
                <p:cNvSpPr/>
                <p:nvPr/>
              </p:nvSpPr>
              <p:spPr>
                <a:xfrm>
                  <a:off x="7558920" y="1148040"/>
                  <a:ext cx="1404360" cy="4312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0"/>
                <p:cNvSpPr/>
                <p:nvPr/>
              </p:nvSpPr>
              <p:spPr>
                <a:xfrm>
                  <a:off x="535320" y="5460480"/>
                  <a:ext cx="7023600" cy="1134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Rectangle 11"/>
                <p:cNvSpPr/>
                <p:nvPr/>
              </p:nvSpPr>
              <p:spPr>
                <a:xfrm>
                  <a:off x="7558920" y="5460480"/>
                  <a:ext cx="1404360" cy="1134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0" y="1148040"/>
                <a:ext cx="535320" cy="360"/>
                <a:chOff x="0" y="1148040"/>
                <a:chExt cx="535320" cy="360"/>
              </a:xfrm>
            </p:grpSpPr>
            <p:sp>
              <p:nvSpPr>
                <p:cNvPr id="614" name="Line 12"/>
                <p:cNvSpPr/>
                <p:nvPr/>
              </p:nvSpPr>
              <p:spPr>
                <a:xfrm>
                  <a:off x="0" y="1148040"/>
                  <a:ext cx="5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 txBox="1"/>
                <p:nvPr/>
              </p:nvSpPr>
              <p:spPr>
                <a:xfrm>
                  <a:off x="0" y="1148040"/>
                  <a:ext cx="535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0" y="5441400"/>
                <a:ext cx="669240" cy="360"/>
                <a:chOff x="0" y="5441400"/>
                <a:chExt cx="669240" cy="360"/>
              </a:xfrm>
            </p:grpSpPr>
            <p:sp>
              <p:nvSpPr>
                <p:cNvPr id="617" name="Line 13"/>
                <p:cNvSpPr/>
                <p:nvPr/>
              </p:nvSpPr>
              <p:spPr>
                <a:xfrm>
                  <a:off x="0" y="5441400"/>
                  <a:ext cx="66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0" y="5441400"/>
                  <a:ext cx="669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267480" y="1148040"/>
                <a:ext cx="360" cy="1650960"/>
                <a:chOff x="267480" y="1148040"/>
                <a:chExt cx="360" cy="1650960"/>
              </a:xfrm>
            </p:grpSpPr>
            <p:sp>
              <p:nvSpPr>
                <p:cNvPr id="620" name="Line 14"/>
                <p:cNvSpPr/>
                <p:nvPr/>
              </p:nvSpPr>
              <p:spPr>
                <a:xfrm flipV="1">
                  <a:off x="267840" y="1148040"/>
                  <a:ext cx="0" cy="165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 txBox="1"/>
                <p:nvPr/>
              </p:nvSpPr>
              <p:spPr>
                <a:xfrm rot="10800000">
                  <a:off x="267480" y="1148040"/>
                  <a:ext cx="360" cy="16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267840" y="3790080"/>
                <a:ext cx="360" cy="1650960"/>
                <a:chOff x="267840" y="3790080"/>
                <a:chExt cx="360" cy="1650960"/>
              </a:xfrm>
            </p:grpSpPr>
            <p:sp>
              <p:nvSpPr>
                <p:cNvPr id="623" name="Line 15"/>
                <p:cNvSpPr/>
                <p:nvPr/>
              </p:nvSpPr>
              <p:spPr>
                <a:xfrm>
                  <a:off x="267840" y="3790080"/>
                  <a:ext cx="0" cy="165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267840" y="3790080"/>
                  <a:ext cx="360" cy="165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Text Box 16"/>
              <p:cNvSpPr/>
              <p:nvPr/>
            </p:nvSpPr>
            <p:spPr>
              <a:xfrm>
                <a:off x="0" y="2799360"/>
                <a:ext cx="669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535320" y="488520"/>
                <a:ext cx="360" cy="825120"/>
                <a:chOff x="535320" y="488520"/>
                <a:chExt cx="360" cy="825120"/>
              </a:xfrm>
            </p:grpSpPr>
            <p:sp>
              <p:nvSpPr>
                <p:cNvPr id="627" name="Line 17"/>
                <p:cNvSpPr/>
                <p:nvPr/>
              </p:nvSpPr>
              <p:spPr>
                <a:xfrm>
                  <a:off x="535320" y="488520"/>
                  <a:ext cx="0" cy="82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 txBox="1"/>
                <p:nvPr/>
              </p:nvSpPr>
              <p:spPr>
                <a:xfrm>
                  <a:off x="535320" y="488520"/>
                  <a:ext cx="3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7589520" y="488520"/>
                <a:ext cx="360" cy="659520"/>
                <a:chOff x="7589520" y="488520"/>
                <a:chExt cx="360" cy="659520"/>
              </a:xfrm>
            </p:grpSpPr>
            <p:sp>
              <p:nvSpPr>
                <p:cNvPr id="630" name="Line 18"/>
                <p:cNvSpPr/>
                <p:nvPr/>
              </p:nvSpPr>
              <p:spPr>
                <a:xfrm flipV="1">
                  <a:off x="7589880" y="488520"/>
                  <a:ext cx="0" cy="65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 rot="10800000">
                  <a:off x="7589520" y="488520"/>
                  <a:ext cx="36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584960" y="818280"/>
                <a:ext cx="2907360" cy="360"/>
                <a:chOff x="4584960" y="818280"/>
                <a:chExt cx="2907360" cy="360"/>
              </a:xfrm>
            </p:grpSpPr>
            <p:sp>
              <p:nvSpPr>
                <p:cNvPr id="633" name="Line 19"/>
                <p:cNvSpPr/>
                <p:nvPr/>
              </p:nvSpPr>
              <p:spPr>
                <a:xfrm>
                  <a:off x="4584960" y="818280"/>
                  <a:ext cx="290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 txBox="1"/>
                <p:nvPr/>
              </p:nvSpPr>
              <p:spPr>
                <a:xfrm>
                  <a:off x="4584960" y="818280"/>
                  <a:ext cx="2907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23800" y="818280"/>
                <a:ext cx="2943360" cy="360"/>
                <a:chOff x="523800" y="818280"/>
                <a:chExt cx="2943360" cy="360"/>
              </a:xfrm>
            </p:grpSpPr>
            <p:sp>
              <p:nvSpPr>
                <p:cNvPr id="636" name="Line 20"/>
                <p:cNvSpPr/>
                <p:nvPr/>
              </p:nvSpPr>
              <p:spPr>
                <a:xfrm flipH="1">
                  <a:off x="523800" y="818280"/>
                  <a:ext cx="294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 txBox="1"/>
                <p:nvPr/>
              </p:nvSpPr>
              <p:spPr>
                <a:xfrm>
                  <a:off x="523800" y="818280"/>
                  <a:ext cx="2943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8963640" y="488520"/>
                <a:ext cx="360" cy="659520"/>
                <a:chOff x="8963640" y="488520"/>
                <a:chExt cx="360" cy="659520"/>
              </a:xfrm>
            </p:grpSpPr>
            <p:sp>
              <p:nvSpPr>
                <p:cNvPr id="639" name="Line 21"/>
                <p:cNvSpPr/>
                <p:nvPr/>
              </p:nvSpPr>
              <p:spPr>
                <a:xfrm flipV="1">
                  <a:off x="8964000" y="488520"/>
                  <a:ext cx="0" cy="65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 txBox="1"/>
                <p:nvPr/>
              </p:nvSpPr>
              <p:spPr>
                <a:xfrm rot="10800000">
                  <a:off x="8963640" y="488520"/>
                  <a:ext cx="36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7625880" y="818280"/>
                <a:ext cx="401040" cy="360"/>
                <a:chOff x="7625880" y="818280"/>
                <a:chExt cx="401040" cy="360"/>
              </a:xfrm>
            </p:grpSpPr>
            <p:sp>
              <p:nvSpPr>
                <p:cNvPr id="642" name="Line 22"/>
                <p:cNvSpPr/>
                <p:nvPr/>
              </p:nvSpPr>
              <p:spPr>
                <a:xfrm>
                  <a:off x="7625880" y="818280"/>
                  <a:ext cx="40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 txBox="1"/>
                <p:nvPr/>
              </p:nvSpPr>
              <p:spPr>
                <a:xfrm>
                  <a:off x="7625880" y="818280"/>
                  <a:ext cx="401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8562600" y="818280"/>
                <a:ext cx="401040" cy="360"/>
                <a:chOff x="8562600" y="818280"/>
                <a:chExt cx="401040" cy="360"/>
              </a:xfrm>
            </p:grpSpPr>
            <p:sp>
              <p:nvSpPr>
                <p:cNvPr id="645" name="Line 23"/>
                <p:cNvSpPr/>
                <p:nvPr/>
              </p:nvSpPr>
              <p:spPr>
                <a:xfrm>
                  <a:off x="8562600" y="818280"/>
                  <a:ext cx="40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 txBox="1"/>
                <p:nvPr/>
              </p:nvSpPr>
              <p:spPr>
                <a:xfrm>
                  <a:off x="8562600" y="818280"/>
                  <a:ext cx="401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-360" y="6596280"/>
                <a:ext cx="535680" cy="360"/>
                <a:chOff x="-360" y="6596280"/>
                <a:chExt cx="535680" cy="360"/>
              </a:xfrm>
            </p:grpSpPr>
            <p:sp>
              <p:nvSpPr>
                <p:cNvPr id="648" name="Line 24"/>
                <p:cNvSpPr/>
                <p:nvPr/>
              </p:nvSpPr>
              <p:spPr>
                <a:xfrm flipH="1">
                  <a:off x="-360" y="6596280"/>
                  <a:ext cx="5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 txBox="1"/>
                <p:nvPr/>
              </p:nvSpPr>
              <p:spPr>
                <a:xfrm>
                  <a:off x="0" y="6596280"/>
                  <a:ext cx="535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Text Box 25"/>
              <p:cNvSpPr/>
              <p:nvPr/>
            </p:nvSpPr>
            <p:spPr>
              <a:xfrm>
                <a:off x="0" y="5427360"/>
                <a:ext cx="535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267840" y="6266520"/>
                <a:ext cx="360" cy="329760"/>
                <a:chOff x="267840" y="6266520"/>
                <a:chExt cx="360" cy="329760"/>
              </a:xfrm>
            </p:grpSpPr>
            <p:sp>
              <p:nvSpPr>
                <p:cNvPr id="652" name="Line 26"/>
                <p:cNvSpPr/>
                <p:nvPr/>
              </p:nvSpPr>
              <p:spPr>
                <a:xfrm>
                  <a:off x="267840" y="626652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 txBox="1"/>
                <p:nvPr/>
              </p:nvSpPr>
              <p:spPr>
                <a:xfrm>
                  <a:off x="267840" y="6266520"/>
                  <a:ext cx="360" cy="32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267480" y="5441400"/>
                <a:ext cx="360" cy="329760"/>
                <a:chOff x="267480" y="5441400"/>
                <a:chExt cx="360" cy="329760"/>
              </a:xfrm>
            </p:grpSpPr>
            <p:sp>
              <p:nvSpPr>
                <p:cNvPr id="655" name="Line 27"/>
                <p:cNvSpPr/>
                <p:nvPr/>
              </p:nvSpPr>
              <p:spPr>
                <a:xfrm flipV="1">
                  <a:off x="267840" y="544140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 rot="10800000">
                  <a:off x="267480" y="5441400"/>
                  <a:ext cx="360" cy="32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8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观察上述式子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你能得到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(x-3)(x-6)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的结果吗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2"/>
          <p:cNvSpPr/>
          <p:nvPr/>
        </p:nvSpPr>
        <p:spPr>
          <a:xfrm>
            <a:off x="0" y="1916280"/>
            <a:ext cx="80773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( x – 3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( y – 6 )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= x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( y – 6  )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 – 3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( y – 6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= x y – 6x – 3y + 18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文本框 8199"/>
          <p:cNvSpPr/>
          <p:nvPr/>
        </p:nvSpPr>
        <p:spPr>
          <a:xfrm>
            <a:off x="1770120" y="175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归纳得出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zh-CN" sz="4800" spc="-1" strike="noStrike">
                <a:solidFill>
                  <a:srgbClr val="080808"/>
                </a:solidFill>
                <a:latin typeface="Times New Roman"/>
              </a:rPr>
              <a:t>多项式与多项式相乘</a:t>
            </a: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Times New Roman"/>
              </a:rPr>
              <a:t>先用一个多项式的每一项乘另一个多项式的每一项</a:t>
            </a: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Times New Roman"/>
              </a:rPr>
              <a:t>再把所得的积相加</a:t>
            </a: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17"/>
          <p:cNvGrpSpPr/>
          <p:nvPr/>
        </p:nvGrpSpPr>
        <p:grpSpPr>
          <a:xfrm>
            <a:off x="1371600" y="4656960"/>
            <a:ext cx="7772400" cy="2122920"/>
            <a:chOff x="1371600" y="4656960"/>
            <a:chExt cx="7772400" cy="2122920"/>
          </a:xfrm>
        </p:grpSpPr>
        <p:sp>
          <p:nvSpPr>
            <p:cNvPr id="662" name="Text Box 4"/>
            <p:cNvSpPr/>
            <p:nvPr/>
          </p:nvSpPr>
          <p:spPr>
            <a:xfrm>
              <a:off x="1371600" y="5470560"/>
              <a:ext cx="777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ff"/>
                  </a:solidFill>
                  <a:latin typeface="Times New Roman"/>
                </a:rPr>
                <a:t>(a+b)( m+n)=am+an+bm+b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Group 16"/>
            <p:cNvGrpSpPr/>
            <p:nvPr/>
          </p:nvGrpSpPr>
          <p:grpSpPr>
            <a:xfrm>
              <a:off x="1680480" y="4656960"/>
              <a:ext cx="2049480" cy="2122920"/>
              <a:chOff x="1680480" y="4656960"/>
              <a:chExt cx="2049480" cy="2122920"/>
            </a:xfrm>
          </p:grpSpPr>
          <p:sp>
            <p:nvSpPr>
              <p:cNvPr id="664" name="Arc 12"/>
              <p:cNvSpPr/>
              <p:nvPr/>
            </p:nvSpPr>
            <p:spPr>
              <a:xfrm rot="19066800">
                <a:off x="1904400" y="5241960"/>
                <a:ext cx="914400" cy="9144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Arc 13"/>
              <p:cNvSpPr/>
              <p:nvPr/>
            </p:nvSpPr>
            <p:spPr>
              <a:xfrm rot="17926800">
                <a:off x="2171880" y="4669920"/>
                <a:ext cx="1066680" cy="1752480"/>
              </a:xfrm>
              <a:custGeom>
                <a:avLst/>
                <a:gdLst/>
                <a:ahLst/>
                <a:rect l="l" t="t" r="r" b="b"/>
                <a:pathLst>
                  <a:path fill="none" w="21600" h="3578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6814"/>
                      <a:pt x="19713" y="31853"/>
                      <a:pt x="16288" y="35785"/>
                    </a:cubicBezTo>
                  </a:path>
                  <a:path stroke="0" w="21600" h="3578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6814"/>
                      <a:pt x="19713" y="31853"/>
                      <a:pt x="16288" y="3578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Arc 14"/>
              <p:cNvSpPr/>
              <p:nvPr/>
            </p:nvSpPr>
            <p:spPr>
              <a:xfrm rot="8485200">
                <a:off x="2353320" y="5611320"/>
                <a:ext cx="1103400" cy="925560"/>
              </a:xfrm>
              <a:custGeom>
                <a:avLst/>
                <a:gdLst/>
                <a:ahLst/>
                <a:rect l="l" t="t" r="r" b="b"/>
                <a:pathLst>
                  <a:path fill="none" w="26054" h="21872">
                    <a:moveTo>
                      <a:pt x="0" y="464"/>
                    </a:moveTo>
                    <a:cubicBezTo>
                      <a:pt x="1464" y="155"/>
                      <a:pt x="2957" y="-1"/>
                      <a:pt x="4454" y="0"/>
                    </a:cubicBezTo>
                    <a:cubicBezTo>
                      <a:pt x="16383" y="0"/>
                      <a:pt x="26054" y="9670"/>
                      <a:pt x="26054" y="21600"/>
                    </a:cubicBezTo>
                    <a:cubicBezTo>
                      <a:pt x="26054" y="21690"/>
                      <a:pt x="26053" y="21781"/>
                      <a:pt x="26052" y="21872"/>
                    </a:cubicBezTo>
                  </a:path>
                  <a:path stroke="0" w="26054" h="21872">
                    <a:moveTo>
                      <a:pt x="0" y="464"/>
                    </a:moveTo>
                    <a:cubicBezTo>
                      <a:pt x="1464" y="155"/>
                      <a:pt x="2957" y="-1"/>
                      <a:pt x="4454" y="0"/>
                    </a:cubicBezTo>
                    <a:cubicBezTo>
                      <a:pt x="16383" y="0"/>
                      <a:pt x="26054" y="9670"/>
                      <a:pt x="26054" y="21600"/>
                    </a:cubicBezTo>
                    <a:cubicBezTo>
                      <a:pt x="26054" y="21690"/>
                      <a:pt x="26053" y="21781"/>
                      <a:pt x="26052" y="21872"/>
                    </a:cubicBezTo>
                    <a:lnTo>
                      <a:pt x="4454" y="21600"/>
                    </a:lnTo>
                    <a:lnTo>
                      <a:pt x="0" y="464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Arc 15"/>
              <p:cNvSpPr/>
              <p:nvPr/>
            </p:nvSpPr>
            <p:spPr>
              <a:xfrm rot="9064800">
                <a:off x="2133000" y="5394240"/>
                <a:ext cx="770040" cy="914400"/>
              </a:xfrm>
              <a:custGeom>
                <a:avLst/>
                <a:gdLst/>
                <a:ahLst/>
                <a:rect l="l" t="t" r="r" b="b"/>
                <a:pathLst>
                  <a:path fill="none" w="18178" h="21600">
                    <a:moveTo>
                      <a:pt x="-1" y="0"/>
                    </a:moveTo>
                    <a:cubicBezTo>
                      <a:pt x="7355" y="0"/>
                      <a:pt x="14204" y="3742"/>
                      <a:pt x="18177" y="9932"/>
                    </a:cubicBezTo>
                  </a:path>
                  <a:path stroke="0" w="18178" h="21600">
                    <a:moveTo>
                      <a:pt x="-1" y="0"/>
                    </a:moveTo>
                    <a:cubicBezTo>
                      <a:pt x="7355" y="0"/>
                      <a:pt x="14204" y="3742"/>
                      <a:pt x="18177" y="993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Text Box 18"/>
          <p:cNvSpPr/>
          <p:nvPr/>
        </p:nvSpPr>
        <p:spPr>
          <a:xfrm>
            <a:off x="2195640" y="2205000"/>
            <a:ext cx="67053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( a+b)(m+n)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a(m+n)+b(m+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am+an+bm+b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609120" y="380520"/>
            <a:ext cx="8355240" cy="62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</a:rPr>
              <a:t>例</a:t>
            </a:r>
            <a:r>
              <a:rPr b="0" lang="en-US" sz="5400" spc="-1" strike="noStrike">
                <a:solidFill>
                  <a:srgbClr val="996633"/>
                </a:solidFill>
                <a:latin typeface="Times New Roman"/>
              </a:rPr>
              <a:t>1   </a:t>
            </a:r>
            <a:r>
              <a:rPr b="0" lang="zh-CN" sz="5400" spc="-1" strike="noStrike">
                <a:solidFill>
                  <a:srgbClr val="996633"/>
                </a:solidFill>
                <a:latin typeface="Times New Roman"/>
              </a:rPr>
              <a:t>计算</a:t>
            </a:r>
            <a:r>
              <a:rPr b="0" lang="zh-CN" sz="3200" spc="-1" strike="noStrike">
                <a:solidFill>
                  <a:srgbClr val="996633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(1)   ( 3x + 1 )( x – 2 ) 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(2)   ( x – 8 y )( x – y )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(3)   (x+y)(x</a:t>
            </a:r>
            <a:r>
              <a:rPr b="1" lang="en-US" sz="60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-xy+y</a:t>
            </a:r>
            <a:r>
              <a:rPr b="1" lang="en-US" sz="60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练习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(1)   (2x+1)(x+3); (2)  (m+2n)(m+ 3n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(3)  ( a - 1)</a:t>
            </a:r>
            <a:r>
              <a:rPr b="0" lang="en-US" sz="4400" spc="-1" strike="noStrike" baseline="30000">
                <a:solidFill>
                  <a:srgbClr val="080808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；      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(4)  (a+3b)(a –3b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(5)  (x+2)(x+3);</a:t>
            </a:r>
            <a:r>
              <a:rPr b="0" lang="en-US" sz="4400" spc="-1" strike="noStrike" baseline="30000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(6)  (x-4)(x+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(7)  (y+4)(y-2);     (8)  (y-5)(y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838080" y="4267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-360" y="-360"/>
            <a:ext cx="88930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(x+2)(x+3)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=  x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+ 5x+6;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(x-4)(x+1)   =  x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– 3x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(y+4)(y-2)   =  y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+ 2y-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(y-5)(y-3).   =  y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- 8y+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179280" y="3860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观察上述式子，你可以 得出一个什么规律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-181080" y="5445000"/>
            <a:ext cx="95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(x+p)(x+q) = x</a:t>
            </a:r>
            <a:r>
              <a:rPr b="1" lang="en-US" sz="5400" spc="-1" strike="noStrike" baseline="30000">
                <a:solidFill>
                  <a:srgbClr val="080808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+ (p+q) x + p q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13"/>
          <p:cNvSpPr/>
          <p:nvPr/>
        </p:nvSpPr>
        <p:spPr>
          <a:xfrm>
            <a:off x="250920" y="260280"/>
            <a:ext cx="88930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.150.12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确定下列各式中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0" y="2781360"/>
            <a:ext cx="96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x+p)(x+q) = 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+ (p+q) x + p q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5:04:32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6:45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