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gif" ContentType="image/gif"/>
  <Override PartName="/ppt/media/image20.jpeg" ContentType="image/jpeg"/>
  <Override PartName="/ppt/media/image19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9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31.gif" ContentType="image/gif"/>
  <Override PartName="/ppt/media/image11.jpeg" ContentType="image/jpeg"/>
  <Override PartName="/ppt/media/image30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8.jpeg" ContentType="image/jpeg"/>
  <Override PartName="/ppt/media/image15.png" ContentType="image/png"/>
  <Override PartName="/ppt/media/image22.gif" ContentType="image/gif"/>
  <Override PartName="/ppt/media/image27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24.jpeg" ContentType="image/jpeg"/>
  <Override PartName="/ppt/media/projctor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0857-9054-4ABC-84ED-1BE2033EC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06AB-DB43-40DA-B828-843696E0711E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2151-028F-47D2-BDA3-9A13996918C5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6436-340E-4B7B-9EB2-9B693A5830A2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7191-9B81-4089-A5AF-70AA5ADEE2D1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359D-6FD0-43A5-896C-E45C5AE3B68D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327B-8462-4913-9292-B638BF4D4405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060F-DAD5-49CB-9871-192EE9681DBB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0356-B7CF-4C77-8333-75DF183F08D6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B6C0-42F0-4FDD-A5F8-F6E399C5BCA6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3837-A56D-4D43-9AC6-01B487D14493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B9DF-0C73-4170-82D6-A461878671AD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9536-2257-4164-8137-62C8F336007D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3460-348E-4D83-945C-E12A6C058335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D40B-2F69-4867-BCF9-6F7C58B74D64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C009-647C-43EE-AA73-5D2F3A5A3414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1040-DD51-4A13-BB1D-5D9B9F4B2861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3FAF-3783-47A5-B286-9D11E9D42DC7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D0F5-6D19-4163-A4F9-335DD2889D04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8444-E819-49BB-BB07-553256B52377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2CAC-5F28-446E-BFE4-75A9C9542951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3440-EA9D-4F3D-BB5E-599E7E6B0D5A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2E64-94DF-44B5-A2C9-7FCDDDD8D6AE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54B7-439D-486D-BEF8-AE8FAB8F7086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825-DB6C-4F9C-8045-1ED17EE3973E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AB56-C547-4478-80FE-3F14C91B71B6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729E-5C0E-427E-91FC-2581E2A82D3B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50B8-0F62-4659-ADBF-82AEA19FE32A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DB8-442A-4714-A8F0-72DE5E38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96E-CFF8-47A0-8D55-CA36A615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4FD-736B-4C42-A864-6053FE74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C44-1435-4F19-BB43-9EFB5FEC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273D-DA51-4499-839F-6D7B9967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1700-0A6E-4AA7-9EEB-8AD97EA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FD14-15BA-4939-9713-58DE2537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4FCA-5655-41E6-8090-B2B8ECE2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3F25-2C75-441E-93E6-7D5E9AE8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0AC3-A5BB-493A-A261-70BDA46A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45FE-D7C8-4394-91EE-6569923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951-9A5E-4FD7-BD86-AC8C74FF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2CFE-5552-4D7C-8BF5-002C8CDD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17EB-9192-4FDD-A099-76281686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D9DC-1E25-4FC1-B896-6A0BE006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A881-5D33-4C64-98D1-C4286781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6095-C03F-426D-9D77-9F1C2118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B45-D6D1-404A-98A9-D5A5271B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E08-0CC5-4C99-8C60-275D8128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493-12D7-4EB5-AC02-4C149F1B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825-5FE2-4369-ABC9-1DDD397E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A38-E9B4-4090-9FC1-5E4A2655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02D-4115-4FCE-B0AF-77FC835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DA7-777F-4036-94D2-6689762E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0866-0098-43C7-BF0F-D490D4CCE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89DD-18DB-4B0D-BEFB-96BE9C5277F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Picture 3" descr="japan213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111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371600" y="19051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0000"/>
                </a:solidFill>
                <a:latin typeface="黑体"/>
                <a:ea typeface="黑体"/>
              </a:rPr>
              <a:t>大自然的语言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248520" y="33526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竺可桢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页脚占位符 2"/>
          <p:cNvSpPr/>
          <p:nvPr/>
        </p:nvSpPr>
        <p:spPr>
          <a:xfrm>
            <a:off x="1676520" y="586728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2022840" y="11588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391a"/>
                </a:solidFill>
                <a:latin typeface="Times New Roman"/>
                <a:ea typeface="隶书"/>
              </a:rPr>
              <a:t>物候现象的来临的决定因素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46880" y="2286000"/>
            <a:ext cx="1247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纬度的差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经度的差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高下的差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古今的差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50532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AutoShape 10">
            <a:hlinkClick r:id="rId1" action="ppaction://hlinksldjump"/>
          </p:cNvPr>
          <p:cNvSpPr/>
          <p:nvPr/>
        </p:nvSpPr>
        <p:spPr>
          <a:xfrm>
            <a:off x="7315200" y="4876920"/>
            <a:ext cx="1143000" cy="990360"/>
          </a:xfrm>
          <a:prstGeom prst="smileyFace">
            <a:avLst>
              <a:gd name="adj" fmla="val 465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823200" y="215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</a:rPr>
              <a:t>主要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10552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</a:rPr>
              <a:t>空间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4191120" y="2743200"/>
            <a:ext cx="0" cy="20574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5715000" y="2743200"/>
            <a:ext cx="0" cy="19810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5423400" y="4824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</a:rPr>
              <a:t>时间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3746880" y="4800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</a:rPr>
              <a:t>次要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30600" y="1904400"/>
            <a:ext cx="56671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c31cb"/>
                </a:solidFill>
                <a:latin typeface="Arial"/>
                <a:ea typeface="隶书"/>
              </a:rPr>
              <a:t>大自然告诉我们很多很多，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c31cb"/>
                </a:solidFill>
                <a:latin typeface="Arial"/>
                <a:ea typeface="隶书"/>
              </a:rPr>
              <a:t>我们要倾听自然的声音。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c31cb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141000" y="1523880"/>
            <a:ext cx="167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雨中闻蝉叫，预告晴天到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麻雀屯食要落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鱼跳水，有雨来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燕子低飞要落雨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泥鳅静，天气晴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蚂蚁垒窝要落雨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762120" y="6094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农谚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3"/>
          <a:stretch/>
        </p:blipFill>
        <p:spPr>
          <a:xfrm>
            <a:off x="6172200" y="335268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6" name="Picture 2" descr="125582"/>
          <p:cNvPicPr/>
          <p:nvPr/>
        </p:nvPicPr>
        <p:blipFill>
          <a:blip r:embed="rId1"/>
          <a:stretch/>
        </p:blipFill>
        <p:spPr>
          <a:xfrm>
            <a:off x="0" y="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1722240" y="655920"/>
            <a:ext cx="53928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隶书"/>
              </a:rPr>
              <a:t>第一段改写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年有四季，春夏秋冬，周而复始。每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个季节都有独特的自然景观。几千年来，劳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动人民注意了自然现象同气候的关系，据以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安排农事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52280" y="4114800"/>
            <a:ext cx="876312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Arial"/>
                <a:ea typeface="隶书"/>
              </a:rPr>
              <a:t>思考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改文与原文有何不同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请结合原文具体词句，说说其独特的表达效果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ahoma"/>
                <a:ea typeface="隶书"/>
              </a:rPr>
              <a:t>摘出文段中表示时间推移的词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66800" y="178272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立春过后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再过两个月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不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夏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秋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寒冬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410080" y="3002040"/>
            <a:ext cx="1752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层次井然</a:t>
            </a:r>
            <a:endParaRPr b="0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7" name="projctor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624760" y="1038240"/>
            <a:ext cx="5875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描写一年四季的词语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8b33"/>
                </a:solidFill>
                <a:latin typeface="Times New Roman"/>
                <a:ea typeface="华文隶书"/>
              </a:rPr>
              <a:t>春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  <a:ea typeface="华文隶书"/>
              </a:rPr>
              <a:t>夏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隶书"/>
              </a:rPr>
              <a:t>秋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隶书"/>
              </a:rPr>
              <a:t>冬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313080" y="198108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苏醒      冰雪融化     草木萌发     各种花次第开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99960" y="29718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88b33"/>
                </a:solidFill>
                <a:latin typeface="Times New Roman"/>
              </a:rPr>
              <a:t>炎热       孕育果实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108960" y="388620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6e63"/>
                </a:solidFill>
                <a:latin typeface="Times New Roman"/>
              </a:rPr>
              <a:t>果实成熟      叶子渐渐变黄     簌簌的落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154680" y="487692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销声匿迹      衰草连天     风雪载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42116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生动形象，如一幅四季风光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pic020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3"/>
          <p:cNvSpPr txBox="1"/>
          <p:nvPr/>
        </p:nvSpPr>
        <p:spPr>
          <a:xfrm>
            <a:off x="609480" y="1752480"/>
            <a:ext cx="495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大地复苏  冰雪融化</a:t>
            </a:r>
            <a:endParaRPr b="1" lang="en-US" sz="2400" spc="1" strike="noStrike">
              <a:ln w="19080">
                <a:solidFill>
                  <a:srgbClr val="ffff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3" name="Picture 2" descr="natur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5638680" y="54100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次第开放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6" name="xbwq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27" descr="春暖花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28"/>
          <p:cNvSpPr/>
          <p:nvPr/>
        </p:nvSpPr>
        <p:spPr>
          <a:xfrm>
            <a:off x="457200" y="380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草长莺飞   百花盛开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9" name="Picture 1029" descr="小蜜蜂"/>
          <p:cNvPicPr/>
          <p:nvPr/>
        </p:nvPicPr>
        <p:blipFill>
          <a:blip r:embed="rId3"/>
          <a:stretch/>
        </p:blipFill>
        <p:spPr>
          <a:xfrm>
            <a:off x="7086600" y="1447920"/>
            <a:ext cx="576360" cy="631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30" descr="小蜜蜂"/>
          <p:cNvPicPr/>
          <p:nvPr/>
        </p:nvPicPr>
        <p:blipFill>
          <a:blip r:embed="rId4"/>
          <a:stretch/>
        </p:blipFill>
        <p:spPr>
          <a:xfrm>
            <a:off x="6248520" y="4495680"/>
            <a:ext cx="682560" cy="784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31" descr="小蜜蜂"/>
          <p:cNvPicPr/>
          <p:nvPr/>
        </p:nvPicPr>
        <p:blipFill>
          <a:blip r:embed="rId5"/>
          <a:stretch/>
        </p:blipFill>
        <p:spPr>
          <a:xfrm>
            <a:off x="4191120" y="3200400"/>
            <a:ext cx="507960" cy="555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32" descr="花蝴蝶"/>
          <p:cNvPicPr/>
          <p:nvPr/>
        </p:nvPicPr>
        <p:blipFill>
          <a:blip r:embed="rId6"/>
          <a:stretch/>
        </p:blipFill>
        <p:spPr>
          <a:xfrm>
            <a:off x="762120" y="3429000"/>
            <a:ext cx="1439640" cy="1235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33" descr="振翅的蝴蝶"/>
          <p:cNvPicPr/>
          <p:nvPr/>
        </p:nvPicPr>
        <p:blipFill>
          <a:blip r:embed="rId7"/>
          <a:stretch/>
        </p:blipFill>
        <p:spPr>
          <a:xfrm>
            <a:off x="6934320" y="3581280"/>
            <a:ext cx="10285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WordArt 3"/>
          <p:cNvSpPr txBox="1"/>
          <p:nvPr/>
        </p:nvSpPr>
        <p:spPr>
          <a:xfrm>
            <a:off x="457200" y="380880"/>
            <a:ext cx="5410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燕子翩然归来</a:t>
            </a:r>
            <a:endParaRPr b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6"/>
          <p:cNvSpPr/>
          <p:nvPr/>
        </p:nvSpPr>
        <p:spPr>
          <a:xfrm>
            <a:off x="6622920" y="2286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0" name="Object 2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3659040" cy="5203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609480" y="990720"/>
            <a:ext cx="40388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隶书"/>
              </a:rPr>
              <a:t>竺可桢    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浙江上虞人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气象学家、地理学家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。他在气象学、气候学、地理学、自然科学史等方面的造诣都很高，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物候学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也是他呕心沥血做出了重要贡献的领域之一。我国现代物候学的每一份成就都是和他的辛勤工作分不开的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7" name="Picture 1026" descr="scene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27"/>
          <p:cNvSpPr/>
          <p:nvPr/>
        </p:nvSpPr>
        <p:spPr>
          <a:xfrm>
            <a:off x="3200400" y="4876920"/>
            <a:ext cx="5715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秋叶簌簌</a:t>
            </a:r>
            <a:endParaRPr b="0" lang="en-US" sz="10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Picture 1026" descr="Br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027"/>
          <p:cNvSpPr/>
          <p:nvPr/>
        </p:nvSpPr>
        <p:spPr>
          <a:xfrm>
            <a:off x="430200" y="228600"/>
            <a:ext cx="1003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北雁南飞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scene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"/>
          <p:cNvSpPr txBox="1"/>
          <p:nvPr/>
        </p:nvSpPr>
        <p:spPr>
          <a:xfrm>
            <a:off x="6248520" y="1752480"/>
            <a:ext cx="2895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衰草连天</a:t>
            </a:r>
            <a:endParaRPr b="1" lang="en-US" sz="2400" spc="1" strike="noStrike">
              <a:ln w="19080">
                <a:solidFill>
                  <a:srgbClr val="99cc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4" name="文本框 1"/>
          <p:cNvSpPr/>
          <p:nvPr/>
        </p:nvSpPr>
        <p:spPr>
          <a:xfrm>
            <a:off x="431640" y="492120"/>
            <a:ext cx="67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6" name="Picture 1026" descr="cdg"/>
          <p:cNvPicPr/>
          <p:nvPr/>
        </p:nvPicPr>
        <p:blipFill>
          <a:blip r:embed="rId1"/>
          <a:srcRect l="0" t="0" r="10" b="0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298600" y="1346040"/>
            <a:ext cx="52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方正舒体"/>
              </a:rPr>
              <a:t>举例说明什么是大自然的语言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66680" y="2057400"/>
            <a:ext cx="266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81ea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81ea"/>
                </a:solidFill>
                <a:latin typeface="Times New Roman"/>
              </a:rPr>
              <a:t>草木荣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81ea"/>
                </a:solidFill>
                <a:latin typeface="Times New Roman"/>
              </a:rPr>
              <a:t>候鸟去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304080" y="228600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杏花      传语       耕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桃花       暗示      种谷子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503880" y="358128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布谷鸟      唱歌      割麦插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457080" y="495288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88b33"/>
                </a:solidFill>
                <a:latin typeface="华文彩云"/>
                <a:ea typeface="华文彩云"/>
              </a:rPr>
              <a:t>拟人化     有情有感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5360" y="1752480"/>
            <a:ext cx="6148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衰草连天    　　 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—  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鬓毛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连翘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翘首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异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遣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劲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参差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观测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道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播种　　　　　耕种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落叶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丢三落四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落枕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12716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76240" y="1676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shuā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435720" y="1676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uī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18220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qiá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98180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qià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91484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971520" y="3505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09696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à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8416800" y="3429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ī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91520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ā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457308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à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1906200" y="5105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zhǒ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649400" y="5105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zhò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2058480" y="6019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uò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5106240" y="6019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7773120" y="5943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WordArt 19"/>
          <p:cNvSpPr txBox="1"/>
          <p:nvPr/>
        </p:nvSpPr>
        <p:spPr>
          <a:xfrm>
            <a:off x="457200" y="6094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检查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3" name="Picture 2" descr="cao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111"/>
          <p:cNvPicPr/>
          <p:nvPr/>
        </p:nvPicPr>
        <p:blipFill>
          <a:blip r:embed="rId3"/>
          <a:stretch/>
        </p:blipFill>
        <p:spPr>
          <a:xfrm>
            <a:off x="7315200" y="4800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228600" y="228600"/>
            <a:ext cx="8915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两个月前，在广州，看见了玉兰开花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两个月后，在北京，又看见玉兰开花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玉兰花呀，我说，你走得真慢哪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幼圆"/>
                <a:ea typeface="幼圆"/>
              </a:rPr>
              <a:t>费了两个月工夫，你才到了京华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                        </a:t>
            </a:r>
            <a:r>
              <a:rPr b="0" lang="en-US" sz="3600" spc="-1" strike="noStrike">
                <a:solidFill>
                  <a:srgbClr val="545472"/>
                </a:solidFill>
                <a:latin typeface="Arial"/>
                <a:ea typeface="幼圆"/>
              </a:rPr>
              <a:t>——</a:t>
            </a: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郭沫若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WordArt 5"/>
          <p:cNvSpPr txBox="1"/>
          <p:nvPr/>
        </p:nvSpPr>
        <p:spPr>
          <a:xfrm>
            <a:off x="838080" y="4419720"/>
            <a:ext cx="6705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用物候现象解释诗人这句感叹。</a:t>
            </a:r>
            <a:endParaRPr b="0" lang="en-US" sz="24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87" name="WordArt 6"/>
          <p:cNvSpPr txBox="1"/>
          <p:nvPr/>
        </p:nvSpPr>
        <p:spPr>
          <a:xfrm>
            <a:off x="1828800" y="5867280"/>
            <a:ext cx="198108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round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知识运用</a:t>
            </a:r>
            <a:endParaRPr b="0" lang="en-US" sz="2400" spc="1" strike="noStrike">
              <a:ln w="12600">
                <a:solidFill>
                  <a:srgbClr val="ff6600"/>
                </a:solidFill>
                <a:round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0" y="1905120"/>
            <a:ext cx="997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梅子黄时日日晴，</a:t>
            </a: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小溪汛尽却山行。</a:t>
            </a:r>
            <a:br>
              <a:rPr sz="4400"/>
            </a:b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绿荫不减来时路，添得黄鹂四五声。</a:t>
            </a:r>
            <a:br>
              <a:rPr sz="4400"/>
            </a:br>
            <a:r>
              <a:rPr b="0" lang="zh-CN" sz="4400" spc="-1" strike="noStrike">
                <a:solidFill>
                  <a:srgbClr val="993300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0" y="228600"/>
            <a:ext cx="972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黄梅时节家家雨，</a:t>
            </a:r>
            <a:r>
              <a:rPr b="0" lang="zh-CN" sz="4400" spc="-1" strike="noStrike">
                <a:solidFill>
                  <a:srgbClr val="336699"/>
                </a:solidFill>
                <a:latin typeface="华文行楷"/>
                <a:ea typeface="华文行楷"/>
              </a:rPr>
              <a:t>青草池塘处处蛙。</a:t>
            </a:r>
            <a:br>
              <a:rPr sz="4400"/>
            </a:br>
            <a:r>
              <a:rPr b="0" lang="zh-CN" sz="4400" spc="-1" strike="noStrike">
                <a:solidFill>
                  <a:srgbClr val="336699"/>
                </a:solidFill>
                <a:latin typeface="华文行楷"/>
                <a:ea typeface="华文行楷"/>
              </a:rPr>
              <a:t>有约不来过夜半，闭敲棋子落灯花。</a:t>
            </a:r>
            <a:br>
              <a:rPr sz="4400"/>
            </a:br>
            <a:r>
              <a:rPr b="0" lang="zh-CN" sz="4400" spc="-1" strike="noStrike">
                <a:solidFill>
                  <a:srgbClr val="c7c7df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c7c7df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-457200" y="3505320"/>
            <a:ext cx="98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 </a:t>
            </a:r>
            <a:r>
              <a:rPr b="0" lang="zh-CN" sz="4400" spc="-1" strike="noStrike">
                <a:solidFill>
                  <a:srgbClr val="9595ff"/>
                </a:solidFill>
                <a:latin typeface="华文行楷"/>
                <a:ea typeface="华文行楷"/>
              </a:rPr>
              <a:t>乳鸭池塘水浅深，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熟梅天气半阴晴。</a:t>
            </a:r>
            <a:br>
              <a:rPr sz="4400"/>
            </a:b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 </a:t>
            </a:r>
            <a:r>
              <a:rPr b="0" lang="zh-CN" sz="4400" spc="-1" strike="noStrike">
                <a:solidFill>
                  <a:srgbClr val="9595ff"/>
                </a:solidFill>
                <a:latin typeface="华文行楷"/>
                <a:ea typeface="华文行楷"/>
              </a:rPr>
              <a:t>东园载酒西园醉，摘尽枇杷一树金。</a:t>
            </a:r>
            <a:br>
              <a:rPr sz="4400"/>
            </a:br>
            <a:r>
              <a:rPr b="0" lang="zh-CN" sz="4400" spc="-1" strike="noStrike">
                <a:solidFill>
                  <a:srgbClr val="ff9933"/>
                </a:solidFill>
                <a:latin typeface="华文行楷"/>
                <a:ea typeface="华文行楷"/>
              </a:rPr>
              <a:t>                                                                              </a:t>
            </a: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ff9933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WordArt 6"/>
          <p:cNvSpPr txBox="1"/>
          <p:nvPr/>
        </p:nvSpPr>
        <p:spPr>
          <a:xfrm>
            <a:off x="1676520" y="525780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会有如此差异？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95ff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AF29-D6D3-4B9E-8306-B221C4D016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58680" y="2362320"/>
            <a:ext cx="66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什么是物候？什么是物候学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物候观测对农业有什么重要意义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决定物候观测的因素有哪些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研究物候学有什么意义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4267080"/>
            <a:ext cx="1542960" cy="203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1001880" cy="2133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2860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华文行楷"/>
              </a:rPr>
              <a:t>快速阅读课文，快速准确地筛选出所需要的信息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26"/>
          <p:cNvSpPr/>
          <p:nvPr/>
        </p:nvSpPr>
        <p:spPr>
          <a:xfrm>
            <a:off x="15228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什么叫物候和物候学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Rectangle 1027"/>
          <p:cNvSpPr/>
          <p:nvPr/>
        </p:nvSpPr>
        <p:spPr>
          <a:xfrm>
            <a:off x="755640" y="853560"/>
            <a:ext cx="815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草木荣枯、候鸟去来等自然现象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古代劳动人民称之为物候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利用物候来研究农业生产的科学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叫物候学。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228600" y="3733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物候观测对农业生产有什么重要意义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Rectangle 1029"/>
          <p:cNvSpPr/>
          <p:nvPr/>
        </p:nvSpPr>
        <p:spPr>
          <a:xfrm>
            <a:off x="838080" y="4525560"/>
            <a:ext cx="7162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物候反映气候条件对生物的影响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比较简便，容易掌握，可以广泛应用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在农业生产上。</a:t>
            </a:r>
            <a:r>
              <a:rPr b="1" lang="zh-CN" sz="3600" spc="-1" strike="noStrike">
                <a:solidFill>
                  <a:srgbClr val="1b1b2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Rectangle 1030"/>
          <p:cNvSpPr/>
          <p:nvPr/>
        </p:nvSpPr>
        <p:spPr>
          <a:xfrm>
            <a:off x="5334120" y="457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~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Rectangle 1031"/>
          <p:cNvSpPr/>
          <p:nvPr/>
        </p:nvSpPr>
        <p:spPr>
          <a:xfrm>
            <a:off x="7467480" y="3733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~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5228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决定物候现象的因素有哪些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33520" y="15231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纬度、经度、高下的差异和古今的差异。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2514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研究物候学有什么意义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3520" y="35190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预报农时，安排播种日期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安排农作物区划，确定造林和采集种子                  的日期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引种植物到气候条件相同的地区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避免或减轻害虫的侵害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便利山区的农业发展。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943600" y="2514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1~1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6858000" y="762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~1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356920" y="560520"/>
            <a:ext cx="53614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二十四节气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春雨惊春清谷天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夏满芒夏暑相连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秋处露秋寒霜降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冬雪雪冬寒又寒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5638680" y="1295280"/>
            <a:ext cx="0" cy="33530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4419720" y="1143000"/>
            <a:ext cx="0" cy="35053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3429000" y="1295280"/>
            <a:ext cx="0" cy="32767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752480" y="1676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描述物候现象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828800" y="5486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阐述研究意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752480" y="2971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作出科学解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676520" y="4267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影响物候的四个因素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895480" y="24382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2895480" y="3657600"/>
            <a:ext cx="6098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2895480" y="49528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WordArt 9"/>
          <p:cNvSpPr txBox="1"/>
          <p:nvPr/>
        </p:nvSpPr>
        <p:spPr>
          <a:xfrm rot="5400000">
            <a:off x="5790600" y="159984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现象</a:t>
            </a:r>
            <a:endParaRPr b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81" name="WordArt 10"/>
          <p:cNvSpPr txBox="1"/>
          <p:nvPr/>
        </p:nvSpPr>
        <p:spPr>
          <a:xfrm rot="5400000">
            <a:off x="5828760" y="552420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本质</a:t>
            </a:r>
            <a:endParaRPr b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6324120" y="2590920"/>
            <a:ext cx="1800" cy="2741400"/>
          </a:xfrm>
          <a:prstGeom prst="line">
            <a:avLst/>
          </a:prstGeom>
          <a:ln w="57240">
            <a:solidFill>
              <a:srgbClr val="54547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WordArt 12"/>
          <p:cNvSpPr txBox="1"/>
          <p:nvPr/>
        </p:nvSpPr>
        <p:spPr>
          <a:xfrm rot="5400000">
            <a:off x="6094440" y="3583080"/>
            <a:ext cx="3124080" cy="68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逻辑顺序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WordArt 13"/>
          <p:cNvSpPr txBox="1"/>
          <p:nvPr/>
        </p:nvSpPr>
        <p:spPr>
          <a:xfrm>
            <a:off x="1066680" y="45720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自然的语言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533520" y="914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重点阅读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6-10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段，理解物候现象的各个因素，各组派一个代表来解说这些因素：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91960" y="2257560"/>
            <a:ext cx="155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1b2f"/>
                </a:solidFill>
                <a:latin typeface="Times New Roman"/>
              </a:rPr>
              <a:t>纬度的差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1b2f"/>
                </a:solidFill>
                <a:latin typeface="Times New Roman"/>
              </a:rPr>
              <a:t>经度的差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1b2f"/>
                </a:solidFill>
                <a:latin typeface="Times New Roman"/>
              </a:rPr>
              <a:t>高下的差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1b2f"/>
                </a:solidFill>
                <a:latin typeface="Times New Roman"/>
              </a:rPr>
              <a:t>古今的差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b1b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8"/>
          <p:cNvSpPr/>
          <p:nvPr/>
        </p:nvSpPr>
        <p:spPr>
          <a:xfrm>
            <a:off x="2971800" y="1606680"/>
            <a:ext cx="6172200" cy="5465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-304920" y="0"/>
            <a:ext cx="3581640" cy="3015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宋体"/>
                <a:ea typeface="华文行楷"/>
              </a:rPr>
              <a:t>《</a:t>
            </a:r>
            <a:r>
              <a:rPr b="1" lang="zh-CN" sz="3600" spc="-1" strike="noStrike">
                <a:solidFill>
                  <a:srgbClr val="d60093"/>
                </a:solidFill>
                <a:latin typeface="宋体"/>
                <a:ea typeface="华文行楷"/>
              </a:rPr>
              <a:t>白雪歌</a:t>
            </a:r>
            <a:r>
              <a:rPr b="1" lang="en-US" sz="3600" spc="-1" strike="noStrike">
                <a:solidFill>
                  <a:srgbClr val="d60093"/>
                </a:solidFill>
                <a:latin typeface="宋体"/>
                <a:ea typeface="华文行楷"/>
              </a:rPr>
              <a:t>》</a:t>
            </a:r>
            <a:br>
              <a:rPr sz="2800"/>
            </a:br>
            <a:r>
              <a:rPr b="1" lang="zh-CN" sz="2800" spc="-1" strike="noStrike">
                <a:solidFill>
                  <a:srgbClr val="1b1b2f"/>
                </a:solidFill>
                <a:latin typeface="宋体"/>
              </a:rPr>
              <a:t>北风卷地白草折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宋体"/>
              </a:rPr>
              <a:t>胡天八月即飞雪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宋体"/>
              </a:rPr>
              <a:t>忽如一夜春风来</a:t>
            </a:r>
            <a:r>
              <a:rPr b="1" lang="en-US" sz="2800" spc="-1" strike="noStrike">
                <a:solidFill>
                  <a:srgbClr val="1b1b2f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宋体"/>
              </a:rPr>
              <a:t>千树万树梨花开。</a:t>
            </a:r>
            <a:r>
              <a:rPr b="0" lang="zh-CN" sz="2800" spc="-1" strike="noStrike">
                <a:solidFill>
                  <a:srgbClr val="1b1b2f"/>
                </a:solidFill>
                <a:latin typeface="宋体"/>
                <a:ea typeface="华文行楷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-152280" y="3352680"/>
            <a:ext cx="3352680" cy="31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行楷"/>
              </a:rPr>
              <a:t>大林寺桃花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Arial"/>
              </a:rPr>
              <a:t>人间四月芳菲尽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Arial"/>
              </a:rPr>
              <a:t>山寺桃花始盛开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Arial"/>
              </a:rPr>
              <a:t>长恨春归无觅处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Arial"/>
              </a:rPr>
              <a:t>不知转入此中来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429000" y="0"/>
            <a:ext cx="5562720" cy="159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</a:rPr>
              <a:t>某旅游社介绍：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545472"/>
                </a:solidFill>
                <a:latin typeface="Times New Roman"/>
              </a:rPr>
              <a:t>夏季避暑您的好去处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海滨风情：北戴河、大连、青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2" name="Picture 6" descr="长城今"/>
          <p:cNvPicPr/>
          <p:nvPr/>
        </p:nvPicPr>
        <p:blipFill>
          <a:blip r:embed="rId1"/>
          <a:stretch/>
        </p:blipFill>
        <p:spPr>
          <a:xfrm>
            <a:off x="2971800" y="1600200"/>
            <a:ext cx="3124080" cy="350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长城古"/>
          <p:cNvPicPr/>
          <p:nvPr/>
        </p:nvPicPr>
        <p:blipFill>
          <a:blip r:embed="rId2"/>
          <a:stretch/>
        </p:blipFill>
        <p:spPr>
          <a:xfrm>
            <a:off x="6095880" y="3733920"/>
            <a:ext cx="3048120" cy="32763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9"/>
          <p:cNvSpPr/>
          <p:nvPr/>
        </p:nvSpPr>
        <p:spPr>
          <a:xfrm>
            <a:off x="3124080" y="5486400"/>
            <a:ext cx="2971800" cy="1066680"/>
          </a:xfrm>
          <a:prstGeom prst="rightArrow">
            <a:avLst>
              <a:gd name="adj1" fmla="val 50000"/>
              <a:gd name="adj2" fmla="val 69638"/>
            </a:avLst>
          </a:prstGeom>
          <a:solidFill>
            <a:srgbClr val="cc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6095880" y="2286000"/>
            <a:ext cx="2895840" cy="990720"/>
          </a:xfrm>
          <a:prstGeom prst="leftArrow">
            <a:avLst>
              <a:gd name="adj1" fmla="val 50000"/>
              <a:gd name="adj2" fmla="val 73074"/>
            </a:avLst>
          </a:prstGeom>
          <a:solidFill>
            <a:srgbClr val="cc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古代三月的长城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705480" y="571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现代三月的长城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AutoShape 12">
            <a:hlinkClick r:id="rId3" action="ppaction://hlinksldjump"/>
          </p:cNvPr>
          <p:cNvSpPr/>
          <p:nvPr/>
        </p:nvSpPr>
        <p:spPr>
          <a:xfrm>
            <a:off x="7391520" y="304920"/>
            <a:ext cx="761760" cy="609480"/>
          </a:xfrm>
          <a:prstGeom prst="smileyFace">
            <a:avLst>
              <a:gd name="adj" fmla="val 4653"/>
            </a:avLst>
          </a:prstGeom>
          <a:solidFill>
            <a:srgbClr val="cccc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4:14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6:52Z</dcterms:modified>
  <cp:revision>1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