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9.wmf" ContentType="image/x-wmf"/>
  <Override PartName="/ppt/media/image6.gif" ContentType="image/gif"/>
  <Override PartName="/ppt/media/image10.wmf" ContentType="image/x-wmf"/>
  <Override PartName="/ppt/media/image5.wmf" ContentType="image/x-wmf"/>
  <Override PartName="/ppt/media/image3.jpeg" ContentType="image/jpeg"/>
  <Override PartName="/ppt/media/image2.jpeg" ContentType="image/jpeg"/>
  <Override PartName="/ppt/media/image25.wmf" ContentType="image/x-wmf"/>
  <Override PartName="/ppt/media/image4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6.gif" ContentType="image/gif"/>
  <Override PartName="/ppt/media/image20.wmf" ContentType="image/x-wmf"/>
  <Override PartName="/ppt/media/image18.wmf" ContentType="image/x-wmf"/>
  <Override PartName="/ppt/media/image17.png" ContentType="image/png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55F8-B263-4517-AE53-1A5E204B4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0062-0DA1-43BE-99D0-A2DEE4D8A0A4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D7C6-CD8D-4B61-B4AA-791EB646BAD3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9037-EA31-47AC-8898-F365438204A6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60D0-0270-4ECC-8D0A-BF7C2198C386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94FF-51EF-4C88-B6FA-B29B83CE1CB8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C2BE-57B4-4D63-9D08-F73BFCCE9EC0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0184-A38C-4BF3-8809-F14C3B421472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3859-538E-4876-A1C8-939DEB63B012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8FEF-6944-4365-94BE-4BB30D2F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60C-CBD8-4429-85B7-3100709E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1B3-BC14-4362-90D3-52383878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142-C8A4-4E39-99BC-B076BA17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65B7-F015-42EC-BF79-63DF3A59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AED1-9BE0-4D21-B5B1-F8A0F931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CABD-F89D-4651-91EF-6671114D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5E42-36D1-47E8-AE1B-995FDA86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112B-F294-4352-B4DD-5442C4AB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B7B1-743C-41C8-9CBA-6F502A08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F118-6767-4E34-8E9D-07F62C96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285D-BB2D-4A74-9AFB-BC482E7F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84A3-DC92-4185-9B59-3CAFF0E5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EDA2-DAD0-46D1-83A7-FA95C185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AF14-0E24-4180-B30A-AD1C59E3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ACF9-D96D-498F-A74F-72FD23F6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73EB-6FEE-4866-B4C6-AA29421F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E09-C2CF-4075-B44F-A79820EA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F392-21EF-4B8F-93E4-98A1C8DF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9CEA-5900-4E56-9C63-99D5FD8D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D1B-24C4-4CF1-9D70-7DDAB41B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DD0F-C714-4D3B-90F9-2A411B48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526-AAC4-4278-8DEB-4FE2F86B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1BD-7AAA-4BE5-9884-3FDF4B78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DD67-246C-4DC1-A76F-5630286DD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CB5C-201D-4910-8F3D-CC604DCE9B6C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3"/>
          <p:cNvSpPr txBox="1"/>
          <p:nvPr/>
        </p:nvSpPr>
        <p:spPr>
          <a:xfrm>
            <a:off x="1047600" y="1989000"/>
            <a:ext cx="6104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6480">
                  <a:solidFill>
                    <a:srgbClr val="0000ff"/>
                  </a:solidFill>
                  <a:round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二次函数课件</a:t>
            </a:r>
            <a:r>
              <a:rPr b="0" lang="en-US" sz="4000" spc="1" strike="noStrike">
                <a:ln w="6480">
                  <a:solidFill>
                    <a:srgbClr val="0000ff"/>
                  </a:solidFill>
                  <a:round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0" lang="zh-CN" sz="4000" spc="1" strike="noStrike">
                <a:ln w="6480">
                  <a:solidFill>
                    <a:srgbClr val="0000ff"/>
                  </a:solidFill>
                  <a:round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模板免费下载</a:t>
            </a:r>
            <a:endParaRPr b="0" lang="en-US" sz="4000" spc="1" strike="noStrike">
              <a:ln w="6480">
                <a:solidFill>
                  <a:srgbClr val="0000ff"/>
                </a:solidFill>
                <a:round/>
              </a:ln>
              <a:solidFill>
                <a:srgbClr val="cc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304920" y="228600"/>
            <a:ext cx="220968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例题讲解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395280" y="1628640"/>
            <a:ext cx="7848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下列函数中，哪些是二次函数？若是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别指出二次项系数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一次项系数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常数项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1)y=3(x-1)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²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+1        (2)y=x+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3)s=3-2t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²                (4)y=(x+3)²-x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5)y=                        (6)v=10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r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28" name="Group 4"/>
          <p:cNvGrpSpPr/>
          <p:nvPr/>
        </p:nvGrpSpPr>
        <p:grpSpPr>
          <a:xfrm>
            <a:off x="2484360" y="4005360"/>
            <a:ext cx="838080" cy="1045440"/>
            <a:chOff x="2484360" y="4005360"/>
            <a:chExt cx="838080" cy="1045440"/>
          </a:xfrm>
        </p:grpSpPr>
        <p:sp>
          <p:nvSpPr>
            <p:cNvPr id="229" name="Rectangle 5"/>
            <p:cNvSpPr/>
            <p:nvPr/>
          </p:nvSpPr>
          <p:spPr>
            <a:xfrm>
              <a:off x="2568240" y="4469400"/>
              <a:ext cx="56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x²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0" name="Rectangle 6"/>
            <p:cNvSpPr/>
            <p:nvPr/>
          </p:nvSpPr>
          <p:spPr>
            <a:xfrm>
              <a:off x="2569320" y="40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1" name="Text Box 7"/>
            <p:cNvSpPr/>
            <p:nvPr/>
          </p:nvSpPr>
          <p:spPr>
            <a:xfrm>
              <a:off x="2484360" y="42040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__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232" name="Object 8" descr=""/>
          <p:cNvPicPr/>
          <p:nvPr/>
        </p:nvPicPr>
        <p:blipFill>
          <a:blip r:embed="rId1"/>
          <a:stretch/>
        </p:blipFill>
        <p:spPr>
          <a:xfrm>
            <a:off x="6156360" y="436572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108000" y="476280"/>
            <a:ext cx="3168720" cy="747720"/>
            <a:chOff x="108000" y="476280"/>
            <a:chExt cx="3168720" cy="747720"/>
          </a:xfrm>
        </p:grpSpPr>
        <p:pic>
          <p:nvPicPr>
            <p:cNvPr id="234" name="Picture 3" descr="图片 ncbdfhg"/>
            <p:cNvPicPr/>
            <p:nvPr/>
          </p:nvPicPr>
          <p:blipFill>
            <a:blip r:embed="rId1"/>
            <a:stretch/>
          </p:blipFill>
          <p:spPr>
            <a:xfrm>
              <a:off x="108000" y="476280"/>
              <a:ext cx="115416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5" name=""/>
            <p:cNvGrpSpPr/>
            <p:nvPr/>
          </p:nvGrpSpPr>
          <p:grpSpPr>
            <a:xfrm>
              <a:off x="650880" y="1052280"/>
              <a:ext cx="2625840" cy="27000"/>
              <a:chOff x="650880" y="1052280"/>
              <a:chExt cx="2625840" cy="27000"/>
            </a:xfrm>
          </p:grpSpPr>
          <p:sp>
            <p:nvSpPr>
              <p:cNvPr id="236" name="Line 4"/>
              <p:cNvSpPr/>
              <p:nvPr/>
            </p:nvSpPr>
            <p:spPr>
              <a:xfrm flipV="1">
                <a:off x="650880" y="1052280"/>
                <a:ext cx="2625840" cy="27000"/>
              </a:xfrm>
              <a:prstGeom prst="line">
                <a:avLst/>
              </a:prstGeom>
              <a:ln w="414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 rot="10800000">
                <a:off x="650880" y="1051920"/>
                <a:ext cx="262584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38" name="WordArt 5"/>
            <p:cNvSpPr txBox="1"/>
            <p:nvPr/>
          </p:nvSpPr>
          <p:spPr>
            <a:xfrm>
              <a:off x="1116000" y="476280"/>
              <a:ext cx="20894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提炼你的发现</a:t>
              </a:r>
              <a:endParaRPr b="1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239" name="Rectangle 6"/>
          <p:cNvSpPr/>
          <p:nvPr/>
        </p:nvSpPr>
        <p:spPr>
          <a:xfrm>
            <a:off x="7667640" y="1989000"/>
            <a:ext cx="9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4920" y="988560"/>
            <a:ext cx="44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二次函数的一般形式</a:t>
            </a: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611280" y="1989000"/>
            <a:ext cx="907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ax</a:t>
            </a:r>
            <a:r>
              <a:rPr b="1" lang="en-US" sz="3200" spc="-1" strike="noStrike" baseline="30000">
                <a:solidFill>
                  <a:srgbClr val="ff3300"/>
                </a:solidFill>
                <a:latin typeface="Comic Sans MS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bx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c  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其中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是常数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,</a:t>
            </a:r>
            <a:r>
              <a:rPr b="1" lang="en-US" sz="3200" spc="-1" strike="noStrike">
                <a:solidFill>
                  <a:srgbClr val="ff00ff"/>
                </a:solidFill>
                <a:latin typeface="Comic Sans MS"/>
                <a:ea typeface="楷体_GB2312"/>
              </a:rPr>
              <a:t>a≠0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611280" y="2852640"/>
            <a:ext cx="669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二次函数的特殊形式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826920" y="3546360"/>
            <a:ext cx="66978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当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时， 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ax</a:t>
            </a:r>
            <a:r>
              <a:rPr b="1" lang="en-US" sz="3200" spc="-1" strike="noStrike" baseline="30000">
                <a:solidFill>
                  <a:srgbClr val="0033cc"/>
                </a:solidFill>
                <a:latin typeface="Comic Sans MS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c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当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时， 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ax</a:t>
            </a:r>
            <a:r>
              <a:rPr b="1" lang="en-US" sz="3200" spc="-1" strike="noStrike" baseline="30000">
                <a:solidFill>
                  <a:srgbClr val="0033cc"/>
                </a:solidFill>
                <a:latin typeface="Comic Sans MS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bx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当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时， 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ax</a:t>
            </a:r>
            <a:r>
              <a:rPr b="1" lang="en-US" sz="3200" spc="-1" strike="noStrike" baseline="30000">
                <a:solidFill>
                  <a:srgbClr val="0033cc"/>
                </a:solidFill>
                <a:latin typeface="Comic Sans MS"/>
                <a:ea typeface="楷体_GB2312"/>
              </a:rPr>
              <a:t>2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34920" y="5722920"/>
            <a:ext cx="88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当</a:t>
            </a:r>
            <a:r>
              <a:rPr b="1" lang="en-US" sz="28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为何值时函数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y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ax</a:t>
            </a:r>
            <a:r>
              <a:rPr b="1" lang="en-US" sz="2800" spc="-1" strike="noStrike" baseline="30000">
                <a:solidFill>
                  <a:srgbClr val="ff3300"/>
                </a:solidFill>
                <a:latin typeface="Comic Sans MS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bx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一次函数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6732720" y="572292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正比例函数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539640" y="1773360"/>
            <a:ext cx="769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隶书"/>
              </a:rPr>
              <a:t> </a:t>
            </a:r>
            <a:r>
              <a:rPr b="1" i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思考：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 二次函数的一般式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y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＝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ax</a:t>
            </a:r>
            <a:r>
              <a:rPr b="1" lang="en-US" sz="4000" spc="-1" strike="noStrike" baseline="30000">
                <a:solidFill>
                  <a:srgbClr val="000066"/>
                </a:solidFill>
                <a:latin typeface="Times New Roman"/>
                <a:ea typeface="隶书"/>
              </a:rPr>
              <a:t>2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＋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bx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＋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c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a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≠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0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）与一元二次方程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ax</a:t>
            </a:r>
            <a:r>
              <a:rPr b="1" lang="zh-CN" sz="4000" spc="-1" strike="noStrike" baseline="30000">
                <a:solidFill>
                  <a:srgbClr val="000066"/>
                </a:solidFill>
                <a:latin typeface="Times New Roman"/>
                <a:ea typeface="隶书"/>
              </a:rPr>
              <a:t>２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＋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bx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＋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c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＝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0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a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≠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0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）有什么联系和区别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WordArt 6"/>
          <p:cNvSpPr txBox="1"/>
          <p:nvPr/>
        </p:nvSpPr>
        <p:spPr>
          <a:xfrm>
            <a:off x="1116000" y="333360"/>
            <a:ext cx="3409920" cy="14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9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你知道吗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48" name="Picture 7" descr="Q_011"/>
          <p:cNvPicPr/>
          <p:nvPr/>
        </p:nvPicPr>
        <p:blipFill>
          <a:blip r:embed="rId1"/>
          <a:stretch/>
        </p:blipFill>
        <p:spPr>
          <a:xfrm>
            <a:off x="4932360" y="0"/>
            <a:ext cx="838080" cy="11588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8"/>
          <p:cNvSpPr/>
          <p:nvPr/>
        </p:nvSpPr>
        <p:spPr>
          <a:xfrm>
            <a:off x="826920" y="4365720"/>
            <a:ext cx="66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联系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</a:rPr>
              <a:t>(1)</a:t>
            </a: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等式一边都是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  <a:ea typeface="隶书"/>
              </a:rPr>
              <a:t>ax</a:t>
            </a:r>
            <a:r>
              <a:rPr b="1" lang="en-US" sz="2800" spc="-1" strike="noStrike" baseline="30000">
                <a:solidFill>
                  <a:srgbClr val="ff5050"/>
                </a:solidFill>
                <a:latin typeface="Tahoma"/>
                <a:ea typeface="隶书"/>
              </a:rPr>
              <a:t>2</a:t>
            </a:r>
            <a:r>
              <a:rPr b="1" lang="zh-CN" sz="2800" spc="-1" strike="noStrike">
                <a:solidFill>
                  <a:srgbClr val="ff5050"/>
                </a:solidFill>
                <a:latin typeface="Tahoma"/>
                <a:ea typeface="隶书"/>
              </a:rPr>
              <a:t>＋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  <a:ea typeface="隶书"/>
              </a:rPr>
              <a:t>bx</a:t>
            </a:r>
            <a:r>
              <a:rPr b="1" lang="zh-CN" sz="2800" spc="-1" strike="noStrike">
                <a:solidFill>
                  <a:srgbClr val="ff5050"/>
                </a:solidFill>
                <a:latin typeface="Tahoma"/>
                <a:ea typeface="隶书"/>
              </a:rPr>
              <a:t>＋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  <a:ea typeface="隶书"/>
              </a:rPr>
              <a:t>c</a:t>
            </a:r>
            <a:r>
              <a:rPr b="1" lang="zh-CN" sz="2800" spc="-1" strike="noStrike">
                <a:solidFill>
                  <a:srgbClr val="ff5050"/>
                </a:solidFill>
                <a:latin typeface="Tahoma"/>
                <a:ea typeface="隶书"/>
              </a:rPr>
              <a:t>且      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  <a:ea typeface="隶书"/>
              </a:rPr>
              <a:t>a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≠0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(2)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方程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</a:rPr>
              <a:t>ax</a:t>
            </a:r>
            <a:r>
              <a:rPr b="1" lang="en-US" sz="2800" spc="-1" strike="noStrike" baseline="30000">
                <a:solidFill>
                  <a:srgbClr val="ff505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＋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</a:rPr>
              <a:t>bx</a:t>
            </a: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＋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</a:rPr>
              <a:t>c=0</a:t>
            </a: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可以看成是函数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</a:rPr>
              <a:t>y= ax</a:t>
            </a:r>
            <a:r>
              <a:rPr b="1" lang="en-US" sz="2800" spc="-1" strike="noStrike" baseline="30000">
                <a:solidFill>
                  <a:srgbClr val="ff505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＋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</a:rPr>
              <a:t>bx</a:t>
            </a: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＋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中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</a:rPr>
              <a:t>y=0</a:t>
            </a: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时得到的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826920" y="57340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区别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前者是函数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后者是方程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等式另一边前者是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</a:rPr>
              <a:t>y,</a:t>
            </a: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后者是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539640" y="1197000"/>
            <a:ext cx="8604360" cy="3022200"/>
            <a:chOff x="539640" y="1197000"/>
            <a:chExt cx="8604360" cy="3022200"/>
          </a:xfrm>
        </p:grpSpPr>
        <p:sp>
          <p:nvSpPr>
            <p:cNvPr id="252" name="Text Box 3"/>
            <p:cNvSpPr/>
            <p:nvPr/>
          </p:nvSpPr>
          <p:spPr>
            <a:xfrm>
              <a:off x="539640" y="1413000"/>
              <a:ext cx="860436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例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、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y</a:t>
              </a:r>
              <a:r>
                <a:rPr b="0" lang="en-US" sz="28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= 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m+3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）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x           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）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m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取什么值时，此函数是正比例函数？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） 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m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取什么值时，此函数是二次函数？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3" name="Text Box 4"/>
            <p:cNvSpPr/>
            <p:nvPr/>
          </p:nvSpPr>
          <p:spPr>
            <a:xfrm>
              <a:off x="3995640" y="1197000"/>
              <a:ext cx="161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m</a:t>
              </a:r>
              <a:r>
                <a:rPr b="1" lang="en-US" sz="3200" spc="-1" strike="noStrike" baseline="30000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-7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54" name="WordArt 5"/>
          <p:cNvSpPr txBox="1"/>
          <p:nvPr/>
        </p:nvSpPr>
        <p:spPr>
          <a:xfrm>
            <a:off x="324000" y="0"/>
            <a:ext cx="220968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例题讲解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55" name="文本框 8200"/>
          <p:cNvSpPr/>
          <p:nvPr/>
        </p:nvSpPr>
        <p:spPr>
          <a:xfrm>
            <a:off x="2355840" y="7570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34920" y="549360"/>
            <a:ext cx="3168720" cy="747720"/>
            <a:chOff x="34920" y="549360"/>
            <a:chExt cx="3168720" cy="747720"/>
          </a:xfrm>
        </p:grpSpPr>
        <p:pic>
          <p:nvPicPr>
            <p:cNvPr id="257" name="Picture 3" descr="图片 ncbdfhg"/>
            <p:cNvPicPr/>
            <p:nvPr/>
          </p:nvPicPr>
          <p:blipFill>
            <a:blip r:embed="rId1"/>
            <a:stretch/>
          </p:blipFill>
          <p:spPr>
            <a:xfrm>
              <a:off x="34920" y="549360"/>
              <a:ext cx="115416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8" name=""/>
            <p:cNvGrpSpPr/>
            <p:nvPr/>
          </p:nvGrpSpPr>
          <p:grpSpPr>
            <a:xfrm>
              <a:off x="577800" y="1125360"/>
              <a:ext cx="2625840" cy="27000"/>
              <a:chOff x="577800" y="1125360"/>
              <a:chExt cx="2625840" cy="27000"/>
            </a:xfrm>
          </p:grpSpPr>
          <p:sp>
            <p:nvSpPr>
              <p:cNvPr id="259" name="Line 4"/>
              <p:cNvSpPr/>
              <p:nvPr/>
            </p:nvSpPr>
            <p:spPr>
              <a:xfrm flipV="1">
                <a:off x="577800" y="1125360"/>
                <a:ext cx="2625840" cy="27000"/>
              </a:xfrm>
              <a:prstGeom prst="line">
                <a:avLst/>
              </a:prstGeom>
              <a:ln w="414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 rot="10800000">
                <a:off x="577800" y="1125000"/>
                <a:ext cx="262584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61" name="WordArt 5"/>
            <p:cNvSpPr txBox="1"/>
            <p:nvPr/>
          </p:nvSpPr>
          <p:spPr>
            <a:xfrm>
              <a:off x="1042920" y="549360"/>
              <a:ext cx="20894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检验你的收获</a:t>
              </a:r>
              <a:endParaRPr b="1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262" name="Text Box 6"/>
          <p:cNvSpPr/>
          <p:nvPr/>
        </p:nvSpPr>
        <p:spPr>
          <a:xfrm>
            <a:off x="322200" y="1130400"/>
            <a:ext cx="87138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例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某小区要修建一块矩形绿地，设矩形的长为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米，宽为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米，面积为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S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平方米，（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x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﹥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611280" y="2657520"/>
            <a:ext cx="820872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(1)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如果用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米的建筑材料来修建绿地的边框（即周长），求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S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与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的函数关系，并求出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的取值范围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0" y="4076640"/>
            <a:ext cx="8642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(2)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现根据小区的规划要求，所修建的绿地面积必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须是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平方米，在满足（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）的条件下，矩形的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和宽各为多少米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WordArt 2"/>
          <p:cNvSpPr txBox="1"/>
          <p:nvPr/>
        </p:nvSpPr>
        <p:spPr>
          <a:xfrm>
            <a:off x="380880" y="0"/>
            <a:ext cx="205740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随堂练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324000" y="1125360"/>
            <a:ext cx="8534160" cy="2088000"/>
            <a:chOff x="324000" y="1125360"/>
            <a:chExt cx="8534160" cy="2088000"/>
          </a:xfrm>
        </p:grpSpPr>
        <p:sp>
          <p:nvSpPr>
            <p:cNvPr id="267" name="Text Box 4"/>
            <p:cNvSpPr/>
            <p:nvPr/>
          </p:nvSpPr>
          <p:spPr>
            <a:xfrm>
              <a:off x="324000" y="1125360"/>
              <a:ext cx="853416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、下列函数中，（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是自变量），哪些是二次函数？为什么？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A  y=ax</a:t>
              </a:r>
              <a:r>
                <a:rPr b="1" lang="en-US" sz="3200" spc="-1" strike="noStrike" baseline="30000">
                  <a:solidFill>
                    <a:srgbClr val="0033cc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+bx+c            B  y</a:t>
              </a:r>
              <a:r>
                <a:rPr b="1" lang="en-US" sz="3200" spc="-1" strike="noStrike" baseline="30000">
                  <a:solidFill>
                    <a:srgbClr val="0033cc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=x</a:t>
              </a:r>
              <a:r>
                <a:rPr b="1" lang="en-US" sz="3200" spc="-1" strike="noStrike" baseline="30000">
                  <a:solidFill>
                    <a:srgbClr val="0033cc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-4x+1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  y=x</a:t>
              </a:r>
              <a:r>
                <a:rPr b="1" lang="en-US" sz="3200" spc="-1" strike="noStrike" baseline="30000">
                  <a:solidFill>
                    <a:srgbClr val="0033cc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                    D   y=2+ √x</a:t>
              </a:r>
              <a:r>
                <a:rPr b="1" lang="en-US" sz="3200" spc="-1" strike="noStrike" baseline="30000">
                  <a:solidFill>
                    <a:srgbClr val="0033cc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+1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5940360" y="3213000"/>
              <a:ext cx="863640" cy="360"/>
              <a:chOff x="5940360" y="3213000"/>
              <a:chExt cx="863640" cy="360"/>
            </a:xfrm>
          </p:grpSpPr>
          <p:sp>
            <p:nvSpPr>
              <p:cNvPr id="269" name="Line 5"/>
              <p:cNvSpPr/>
              <p:nvPr/>
            </p:nvSpPr>
            <p:spPr>
              <a:xfrm>
                <a:off x="5940360" y="3213000"/>
                <a:ext cx="86364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5940360" y="3213000"/>
                <a:ext cx="86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Text Box 6"/>
          <p:cNvSpPr/>
          <p:nvPr/>
        </p:nvSpPr>
        <p:spPr>
          <a:xfrm>
            <a:off x="324000" y="4149720"/>
            <a:ext cx="842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函数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y=(m-n)x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+ mx+n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是二次函数的条件是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(           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      m,n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是常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且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m≠0         B     m,n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是常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且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n≠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C     m,n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是常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且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m≠n        D   m,n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为任何实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7740720" y="4076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1903680" cy="230364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3"/>
          <p:cNvSpPr/>
          <p:nvPr/>
        </p:nvSpPr>
        <p:spPr>
          <a:xfrm>
            <a:off x="395280" y="934920"/>
            <a:ext cx="60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1. n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支球队参加比赛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每两队之间进行一场比赛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写出比赛的场次数 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m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与球队数 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n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之间的关系式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503280" y="3068640"/>
            <a:ext cx="8640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圆的半径是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1cm,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假设半径增加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xcm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时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圆的面积增加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ycm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²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.                                                                        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(1)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写出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与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之间的函数关系表达式；               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(2)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当圆的半径分别增加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2cm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时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圆的面积增加多少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76" name="Group 5"/>
          <p:cNvGrpSpPr/>
          <p:nvPr/>
        </p:nvGrpSpPr>
        <p:grpSpPr>
          <a:xfrm>
            <a:off x="34920" y="233280"/>
            <a:ext cx="3168720" cy="747720"/>
            <a:chOff x="34920" y="233280"/>
            <a:chExt cx="3168720" cy="747720"/>
          </a:xfrm>
        </p:grpSpPr>
        <p:pic>
          <p:nvPicPr>
            <p:cNvPr id="277" name="Picture 6" descr="图片 ncbdfhg"/>
            <p:cNvPicPr/>
            <p:nvPr/>
          </p:nvPicPr>
          <p:blipFill>
            <a:blip r:embed="rId2"/>
            <a:stretch/>
          </p:blipFill>
          <p:spPr>
            <a:xfrm>
              <a:off x="34920" y="233280"/>
              <a:ext cx="115416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8" name=""/>
            <p:cNvGrpSpPr/>
            <p:nvPr/>
          </p:nvGrpSpPr>
          <p:grpSpPr>
            <a:xfrm>
              <a:off x="577800" y="809280"/>
              <a:ext cx="2625840" cy="27000"/>
              <a:chOff x="577800" y="809280"/>
              <a:chExt cx="2625840" cy="27000"/>
            </a:xfrm>
          </p:grpSpPr>
          <p:sp>
            <p:nvSpPr>
              <p:cNvPr id="279" name="Line 7"/>
              <p:cNvSpPr/>
              <p:nvPr/>
            </p:nvSpPr>
            <p:spPr>
              <a:xfrm flipV="1">
                <a:off x="577800" y="809280"/>
                <a:ext cx="2625840" cy="27000"/>
              </a:xfrm>
              <a:prstGeom prst="line">
                <a:avLst/>
              </a:prstGeom>
              <a:ln w="414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 txBox="1"/>
              <p:nvPr/>
            </p:nvSpPr>
            <p:spPr>
              <a:xfrm rot="10800000">
                <a:off x="577800" y="808920"/>
                <a:ext cx="262584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81" name="WordArt 8"/>
            <p:cNvSpPr txBox="1"/>
            <p:nvPr/>
          </p:nvSpPr>
          <p:spPr>
            <a:xfrm>
              <a:off x="1042920" y="233280"/>
              <a:ext cx="20894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检验你的收获</a:t>
              </a:r>
              <a:endParaRPr b="1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282" name="Text Box 9"/>
          <p:cNvSpPr/>
          <p:nvPr/>
        </p:nvSpPr>
        <p:spPr>
          <a:xfrm>
            <a:off x="3276720" y="260280"/>
            <a:ext cx="1584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练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684360" y="54936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3</a:t>
            </a:r>
            <a:r>
              <a:rPr b="0" lang="en-US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已知关于</a:t>
            </a:r>
            <a:r>
              <a:rPr b="1" lang="en-US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的二次函数</a:t>
            </a:r>
            <a:r>
              <a:rPr b="1" lang="en-US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当</a:t>
            </a:r>
            <a:r>
              <a:rPr b="1" lang="en-US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x=</a:t>
            </a:r>
            <a:r>
              <a:rPr b="1" lang="zh-CN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时</a:t>
            </a:r>
            <a:r>
              <a:rPr b="1" lang="en-US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函数值为</a:t>
            </a:r>
            <a:r>
              <a:rPr b="1" lang="en-US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10,</a:t>
            </a:r>
            <a:r>
              <a:rPr b="1" lang="zh-CN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当</a:t>
            </a:r>
            <a:r>
              <a:rPr b="1" lang="en-US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x=1</a:t>
            </a:r>
            <a:r>
              <a:rPr b="1" lang="zh-CN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时</a:t>
            </a:r>
            <a:r>
              <a:rPr b="1" lang="en-US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函数值为</a:t>
            </a:r>
            <a:r>
              <a:rPr b="1" lang="en-US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4,</a:t>
            </a:r>
            <a:r>
              <a:rPr b="1" lang="zh-CN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当</a:t>
            </a:r>
            <a:r>
              <a:rPr b="1" lang="en-US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x=2</a:t>
            </a:r>
            <a:r>
              <a:rPr b="1" lang="zh-CN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时</a:t>
            </a:r>
            <a:r>
              <a:rPr b="1" lang="en-US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函数值为</a:t>
            </a:r>
            <a:r>
              <a:rPr b="1" lang="en-US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7,</a:t>
            </a:r>
            <a:r>
              <a:rPr b="1" lang="zh-CN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求这个二次函数的解析试</a:t>
            </a:r>
            <a:r>
              <a:rPr b="1" lang="en-US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127640" cy="4903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>
            <a:off x="2556000" y="2421000"/>
            <a:ext cx="1800000" cy="1233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"/>
          <p:cNvPicPr/>
          <p:nvPr/>
        </p:nvPicPr>
        <p:blipFill>
          <a:blip r:embed="rId3"/>
          <a:stretch/>
        </p:blipFill>
        <p:spPr>
          <a:xfrm>
            <a:off x="1476360" y="3789360"/>
            <a:ext cx="3382920" cy="460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"/>
          <p:cNvPicPr/>
          <p:nvPr/>
        </p:nvPicPr>
        <p:blipFill>
          <a:blip r:embed="rId4"/>
          <a:stretch/>
        </p:blipFill>
        <p:spPr>
          <a:xfrm>
            <a:off x="900000" y="4437000"/>
            <a:ext cx="5112000" cy="50184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7"/>
          <p:cNvSpPr/>
          <p:nvPr/>
        </p:nvSpPr>
        <p:spPr>
          <a:xfrm>
            <a:off x="1403280" y="2205000"/>
            <a:ext cx="237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33cc"/>
                </a:solidFill>
                <a:latin typeface="Arial"/>
              </a:rPr>
              <a:t>｛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AutoShape 8"/>
          <p:cNvSpPr/>
          <p:nvPr/>
        </p:nvSpPr>
        <p:spPr>
          <a:xfrm>
            <a:off x="5219640" y="3141720"/>
            <a:ext cx="3073320" cy="863640"/>
          </a:xfrm>
          <a:prstGeom prst="wedgeRoundRectCallout">
            <a:avLst>
              <a:gd name="adj1" fmla="val -108523"/>
              <a:gd name="adj2" fmla="val -15808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5364000" y="321300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待定系数法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WordArt 2"/>
          <p:cNvSpPr txBox="1"/>
          <p:nvPr/>
        </p:nvSpPr>
        <p:spPr>
          <a:xfrm>
            <a:off x="6300720" y="620640"/>
            <a:ext cx="2016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cc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cc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34920" y="476280"/>
            <a:ext cx="3168720" cy="747720"/>
            <a:chOff x="34920" y="476280"/>
            <a:chExt cx="3168720" cy="747720"/>
          </a:xfrm>
        </p:grpSpPr>
        <p:pic>
          <p:nvPicPr>
            <p:cNvPr id="293" name="Picture 4" descr="图片 ncbdfhg"/>
            <p:cNvPicPr/>
            <p:nvPr/>
          </p:nvPicPr>
          <p:blipFill>
            <a:blip r:embed="rId1"/>
            <a:stretch/>
          </p:blipFill>
          <p:spPr>
            <a:xfrm>
              <a:off x="34920" y="476280"/>
              <a:ext cx="115416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4" name=""/>
            <p:cNvGrpSpPr/>
            <p:nvPr/>
          </p:nvGrpSpPr>
          <p:grpSpPr>
            <a:xfrm>
              <a:off x="577800" y="1052280"/>
              <a:ext cx="2625840" cy="27000"/>
              <a:chOff x="577800" y="1052280"/>
              <a:chExt cx="2625840" cy="27000"/>
            </a:xfrm>
          </p:grpSpPr>
          <p:sp>
            <p:nvSpPr>
              <p:cNvPr id="295" name="Line 5"/>
              <p:cNvSpPr/>
              <p:nvPr/>
            </p:nvSpPr>
            <p:spPr>
              <a:xfrm flipV="1">
                <a:off x="577800" y="1052280"/>
                <a:ext cx="2625840" cy="27000"/>
              </a:xfrm>
              <a:prstGeom prst="line">
                <a:avLst/>
              </a:prstGeom>
              <a:ln w="414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 rot="10800000">
                <a:off x="577800" y="1051920"/>
                <a:ext cx="262584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97" name="WordArt 6"/>
            <p:cNvSpPr txBox="1"/>
            <p:nvPr/>
          </p:nvSpPr>
          <p:spPr>
            <a:xfrm>
              <a:off x="1042920" y="476280"/>
              <a:ext cx="20894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反思你的课堂</a:t>
              </a:r>
              <a:endParaRPr b="1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298" name="Text Box 7"/>
          <p:cNvSpPr/>
          <p:nvPr/>
        </p:nvSpPr>
        <p:spPr>
          <a:xfrm>
            <a:off x="1258920" y="1773360"/>
            <a:ext cx="6769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宋体"/>
              </a:rPr>
              <a:t>对自己说</a:t>
            </a:r>
            <a:r>
              <a:rPr b="1" lang="en-US" sz="3600" spc="-1" strike="noStrike">
                <a:solidFill>
                  <a:srgbClr val="007572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572"/>
                </a:solidFill>
                <a:latin typeface="宋体"/>
              </a:rPr>
              <a:t>你有什么收获</a:t>
            </a:r>
            <a:r>
              <a:rPr b="1" lang="en-US" sz="3600" spc="-1" strike="noStrike">
                <a:solidFill>
                  <a:srgbClr val="007572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宋体"/>
              </a:rPr>
              <a:t>对老师说</a:t>
            </a:r>
            <a:r>
              <a:rPr b="1" lang="en-US" sz="3600" spc="-1" strike="noStrike">
                <a:solidFill>
                  <a:srgbClr val="007572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572"/>
                </a:solidFill>
                <a:latin typeface="宋体"/>
              </a:rPr>
              <a:t>你有什么疑惑</a:t>
            </a:r>
            <a:r>
              <a:rPr b="1" lang="en-US" sz="3600" spc="-1" strike="noStrike">
                <a:solidFill>
                  <a:srgbClr val="007572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宋体"/>
              </a:rPr>
              <a:t>对同学说</a:t>
            </a:r>
            <a:r>
              <a:rPr b="1" lang="en-US" sz="3600" spc="-1" strike="noStrike">
                <a:solidFill>
                  <a:srgbClr val="007572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572"/>
                </a:solidFill>
                <a:latin typeface="宋体"/>
              </a:rPr>
              <a:t>你有什么温馨提示</a:t>
            </a:r>
            <a:r>
              <a:rPr b="1" lang="en-US" sz="3600" spc="-1" strike="noStrike">
                <a:solidFill>
                  <a:srgbClr val="007572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7"/>
          <p:cNvSpPr/>
          <p:nvPr/>
        </p:nvSpPr>
        <p:spPr>
          <a:xfrm>
            <a:off x="1143000" y="457200"/>
            <a:ext cx="287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cc"/>
                </a:solidFill>
                <a:latin typeface="Times New Roman"/>
                <a:ea typeface="华文行楷"/>
              </a:rPr>
              <a:t>知识运用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00" name="Group 8"/>
          <p:cNvGrpSpPr/>
          <p:nvPr/>
        </p:nvGrpSpPr>
        <p:grpSpPr>
          <a:xfrm>
            <a:off x="0" y="1413000"/>
            <a:ext cx="9144000" cy="2259720"/>
            <a:chOff x="0" y="1413000"/>
            <a:chExt cx="9144000" cy="2259720"/>
          </a:xfrm>
        </p:grpSpPr>
        <p:sp>
          <p:nvSpPr>
            <p:cNvPr id="301" name="Text Box 9"/>
            <p:cNvSpPr/>
            <p:nvPr/>
          </p:nvSpPr>
          <p:spPr>
            <a:xfrm>
              <a:off x="0" y="1862280"/>
              <a:ext cx="9144000" cy="181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  <a:ea typeface="隶书"/>
                </a:rPr>
                <a:t>、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  <a:ea typeface="隶书"/>
                </a:rPr>
                <a:t>m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  <a:ea typeface="隶书"/>
                </a:rPr>
                <a:t>取何值时，函数     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  <a:ea typeface="隶书"/>
                </a:rPr>
                <a:t>y= (m+1)x                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  <a:ea typeface="隶书"/>
                </a:rPr>
                <a:t>+(m-3)x+m  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  <a:ea typeface="隶书"/>
                </a:rPr>
                <a:t>是二次函数？                               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302" name="Object 10" descr=""/>
            <p:cNvPicPr/>
            <p:nvPr/>
          </p:nvPicPr>
          <p:blipFill>
            <a:blip r:embed="rId1"/>
            <a:stretch/>
          </p:blipFill>
          <p:spPr>
            <a:xfrm>
              <a:off x="6372360" y="1413000"/>
              <a:ext cx="1800000" cy="771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6210360" cy="9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隶书"/>
                <a:ea typeface="隶书"/>
              </a:rPr>
              <a:t>基础回顾</a:t>
            </a:r>
            <a:r>
              <a:rPr b="1" lang="zh-CN" sz="3200" spc="-1" strike="noStrike">
                <a:solidFill>
                  <a:srgbClr val="007572"/>
                </a:solidFill>
                <a:latin typeface="隶书"/>
                <a:ea typeface="隶书"/>
              </a:rPr>
              <a:t>    什么叫函数</a:t>
            </a:r>
            <a:r>
              <a:rPr b="1" lang="en-US" sz="3200" spc="-1" strike="noStrike">
                <a:solidFill>
                  <a:srgbClr val="007572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1125360"/>
            <a:ext cx="855036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在某变化过程中的两个变量</a:t>
            </a: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x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、</a:t>
            </a: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，当变量</a:t>
            </a: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x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在某个范围内取一个确定的值，另一个变量</a:t>
            </a: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总有唯一的值与它对应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这样的两个变量之间的关系我们把它叫做函数关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对于上述变量</a:t>
            </a: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x 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、</a:t>
            </a: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，我们把</a:t>
            </a: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叫</a:t>
            </a: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x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的函数。 </a:t>
            </a: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x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叫自变量， </a:t>
            </a: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叫因变量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971640" y="5229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隶书"/>
              </a:rPr>
              <a:t>目前，我们已经学习了那几种类型的函数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24000" y="11970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一农民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0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长的篱笆围成一个一边靠墙的长方形菜园，和墙垂直的一边长为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X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菜园的面积为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Ym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求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之间的函数关系式，并说出自变量的取值范围。当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x=12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时，计算菜园的面积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5796000" y="3500280"/>
            <a:ext cx="305892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324000" y="620640"/>
            <a:ext cx="853416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解答过程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一农民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0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长的篱笆围成一个一边靠墙的长方形菜园，和墙垂直的一边长为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X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菜园的面积为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Ym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求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之间的函数关系式，并说出自变量的取值范围。当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x=12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时，计算菜园的面积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5867280" y="3141720"/>
            <a:ext cx="3059280" cy="12970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4"/>
          <p:cNvSpPr/>
          <p:nvPr/>
        </p:nvSpPr>
        <p:spPr>
          <a:xfrm>
            <a:off x="8317080" y="270828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xm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6877080" y="3357720"/>
            <a:ext cx="13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y  m</a:t>
            </a:r>
            <a:r>
              <a:rPr b="1" lang="en-US" sz="2800" spc="-1" strike="noStrike" baseline="30000">
                <a:solidFill>
                  <a:srgbClr val="ff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6012000" y="278136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m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6084720" y="429264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0-2x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395280" y="3213000"/>
            <a:ext cx="13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1042920" y="3213000"/>
            <a:ext cx="21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由题意得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2916360" y="3141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Y=x(40-2x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971640" y="3716280"/>
            <a:ext cx="34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即：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Y=-2x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+40x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3851280" y="37162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0&lt;x&lt;20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900000" y="429264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当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2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时，菜园的面积为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826920" y="4869000"/>
            <a:ext cx="7925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Y=-2x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+40x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2×12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+40×12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9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文本框 8200"/>
          <p:cNvSpPr/>
          <p:nvPr/>
        </p:nvSpPr>
        <p:spPr>
          <a:xfrm>
            <a:off x="2354400" y="7221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324000" y="404640"/>
            <a:ext cx="84960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变换角度分析问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、若函数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y=x</a:t>
            </a:r>
            <a:r>
              <a:rPr b="1" lang="en-US" sz="3200" spc="-1" strike="noStrike" baseline="30000">
                <a:solidFill>
                  <a:srgbClr val="009900"/>
                </a:solidFill>
                <a:latin typeface="Arial"/>
                <a:ea typeface="黑体"/>
              </a:rPr>
              <a:t>2m+n</a:t>
            </a:r>
            <a:r>
              <a:rPr b="1" lang="en-US" sz="3200" spc="-1" strike="noStrike" baseline="30000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－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2x</a:t>
            </a:r>
            <a:r>
              <a:rPr b="1" lang="en-US" sz="3200" spc="-1" strike="noStrike" baseline="30000">
                <a:solidFill>
                  <a:srgbClr val="009900"/>
                </a:solidFill>
                <a:latin typeface="Arial"/>
                <a:ea typeface="黑体"/>
              </a:rPr>
              <a:t>m-n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+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是以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x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为自变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的二次函数，求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m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n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的值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0" name="一元二次方程3.ppt273.WAV" descr=""/>
          <p:cNvPicPr/>
          <p:nvPr/>
        </p:nvPicPr>
        <p:blipFill>
          <a:blip r:embed="rId1"/>
          <a:stretch/>
        </p:blipFill>
        <p:spPr>
          <a:xfrm>
            <a:off x="8772480" y="6486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9" dur="1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324000" y="404640"/>
            <a:ext cx="84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解答过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、若函数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y=x</a:t>
            </a:r>
            <a:r>
              <a:rPr b="1" lang="en-US" sz="2800" spc="-1" strike="noStrike" baseline="30000">
                <a:solidFill>
                  <a:srgbClr val="009900"/>
                </a:solidFill>
                <a:latin typeface="Arial"/>
                <a:ea typeface="黑体"/>
              </a:rPr>
              <a:t>2m+n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－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2x</a:t>
            </a:r>
            <a:r>
              <a:rPr b="1" lang="en-US" sz="2800" spc="-1" strike="noStrike" baseline="30000">
                <a:solidFill>
                  <a:srgbClr val="009900"/>
                </a:solidFill>
                <a:latin typeface="Arial"/>
                <a:ea typeface="黑体"/>
              </a:rPr>
              <a:t>m-n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+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是以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为自变量的二次函数，求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m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n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的值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0" y="306864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①                      ②                         ③                        ④                   ⑤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468360" y="2924280"/>
            <a:ext cx="73080" cy="792000"/>
          </a:xfrm>
          <a:custGeom>
            <a:avLst/>
            <a:gdLst>
              <a:gd name="textAreaLeft" fmla="*/ 46800 w 73080"/>
              <a:gd name="textAreaRight" fmla="*/ 7344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>
            <a:off x="2124000" y="2924280"/>
            <a:ext cx="73080" cy="792000"/>
          </a:xfrm>
          <a:custGeom>
            <a:avLst/>
            <a:gdLst>
              <a:gd name="textAreaLeft" fmla="*/ 46800 w 73080"/>
              <a:gd name="textAreaRight" fmla="*/ 7344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3924360" y="2852640"/>
            <a:ext cx="71280" cy="8654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>
            <a:off x="5651640" y="2781360"/>
            <a:ext cx="72720" cy="936720"/>
          </a:xfrm>
          <a:custGeom>
            <a:avLst/>
            <a:gdLst>
              <a:gd name="textAreaLeft" fmla="*/ 46440 w 72720"/>
              <a:gd name="textAreaRight" fmla="*/ 73080 w 727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AutoShape 9"/>
          <p:cNvSpPr/>
          <p:nvPr/>
        </p:nvSpPr>
        <p:spPr>
          <a:xfrm>
            <a:off x="7093080" y="2781360"/>
            <a:ext cx="72720" cy="863640"/>
          </a:xfrm>
          <a:custGeom>
            <a:avLst/>
            <a:gdLst>
              <a:gd name="textAreaLeft" fmla="*/ 46440 w 72720"/>
              <a:gd name="textAreaRight" fmla="*/ 73080 w 72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AutoShape 10"/>
          <p:cNvSpPr/>
          <p:nvPr/>
        </p:nvSpPr>
        <p:spPr>
          <a:xfrm>
            <a:off x="971640" y="4076640"/>
            <a:ext cx="73080" cy="72072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9" name="AutoShape 11"/>
          <p:cNvSpPr/>
          <p:nvPr/>
        </p:nvSpPr>
        <p:spPr>
          <a:xfrm>
            <a:off x="2195640" y="4076640"/>
            <a:ext cx="71280" cy="72072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AutoShape 12"/>
          <p:cNvSpPr/>
          <p:nvPr/>
        </p:nvSpPr>
        <p:spPr>
          <a:xfrm>
            <a:off x="7093080" y="3933720"/>
            <a:ext cx="72720" cy="719280"/>
          </a:xfrm>
          <a:custGeom>
            <a:avLst/>
            <a:gdLst>
              <a:gd name="textAreaLeft" fmla="*/ 46440 w 72720"/>
              <a:gd name="textAreaRight" fmla="*/ 73080 w 727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AutoShape 13"/>
          <p:cNvSpPr/>
          <p:nvPr/>
        </p:nvSpPr>
        <p:spPr>
          <a:xfrm>
            <a:off x="5724360" y="4005360"/>
            <a:ext cx="73080" cy="790560"/>
          </a:xfrm>
          <a:custGeom>
            <a:avLst/>
            <a:gdLst>
              <a:gd name="textAreaLeft" fmla="*/ 46800 w 73080"/>
              <a:gd name="textAreaRight" fmla="*/ 73440 w 7308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AutoShape 14"/>
          <p:cNvSpPr/>
          <p:nvPr/>
        </p:nvSpPr>
        <p:spPr>
          <a:xfrm>
            <a:off x="3924360" y="4005360"/>
            <a:ext cx="71280" cy="72072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17928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∵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468360" y="2852640"/>
            <a:ext cx="136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m+n=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-n=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468360" y="3933720"/>
            <a:ext cx="143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∴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=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=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1835280" y="3068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∵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1908000" y="4149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∴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2124000" y="2852640"/>
            <a:ext cx="136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m+n=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-n=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Text Box 21"/>
          <p:cNvSpPr/>
          <p:nvPr/>
        </p:nvSpPr>
        <p:spPr>
          <a:xfrm>
            <a:off x="2340000" y="3860640"/>
            <a:ext cx="122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=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=-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3635280" y="3068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∵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3635280" y="4149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∴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Text Box 24"/>
          <p:cNvSpPr/>
          <p:nvPr/>
        </p:nvSpPr>
        <p:spPr>
          <a:xfrm>
            <a:off x="3924360" y="2781360"/>
            <a:ext cx="136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m+n=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-n=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3995640" y="3860640"/>
            <a:ext cx="230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=4/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/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5364000" y="306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∵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54356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∴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5651640" y="2708280"/>
            <a:ext cx="136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m+n=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-n=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Text Box 29"/>
          <p:cNvSpPr/>
          <p:nvPr/>
        </p:nvSpPr>
        <p:spPr>
          <a:xfrm>
            <a:off x="7093080" y="3789360"/>
            <a:ext cx="122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=2/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/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Text Box 30"/>
          <p:cNvSpPr/>
          <p:nvPr/>
        </p:nvSpPr>
        <p:spPr>
          <a:xfrm>
            <a:off x="6804000" y="306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∵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Text Box 31"/>
          <p:cNvSpPr/>
          <p:nvPr/>
        </p:nvSpPr>
        <p:spPr>
          <a:xfrm>
            <a:off x="6804000" y="4076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∴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Text Box 32"/>
          <p:cNvSpPr/>
          <p:nvPr/>
        </p:nvSpPr>
        <p:spPr>
          <a:xfrm>
            <a:off x="7093080" y="2708280"/>
            <a:ext cx="14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m+n=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-n=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Text Box 33"/>
          <p:cNvSpPr/>
          <p:nvPr/>
        </p:nvSpPr>
        <p:spPr>
          <a:xfrm>
            <a:off x="5724360" y="3860640"/>
            <a:ext cx="122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=2/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=2/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Text Box 34"/>
          <p:cNvSpPr/>
          <p:nvPr/>
        </p:nvSpPr>
        <p:spPr>
          <a:xfrm>
            <a:off x="468360" y="2349360"/>
            <a:ext cx="770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解：根据题意得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"/>
                            </p:stCondLst>
                            <p:childTnLst>
                              <p:par>
                                <p:cTn id="5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"/>
                            </p:stCondLst>
                            <p:childTnLst>
                              <p:par>
                                <p:cTn id="5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"/>
                            </p:stCondLst>
                            <p:childTnLst>
                              <p:par>
                                <p:cTn id="5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"/>
                            </p:stCondLst>
                            <p:childTnLst>
                              <p:par>
                                <p:cTn id="5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"/>
                            </p:stCondLst>
                            <p:childTnLst>
                              <p:par>
                                <p:cTn id="5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6"/>
                            </p:stCondLst>
                            <p:childTnLst>
                              <p:par>
                                <p:cTn id="572" dur="indefinite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7"/>
                            </p:stCondLst>
                            <p:childTnLst>
                              <p:par>
                                <p:cTn id="575" dur="indefinite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"/>
                            </p:stCondLst>
                            <p:childTnLst>
                              <p:par>
                                <p:cTn id="578" dur="indefinite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9"/>
                            </p:stCondLst>
                            <p:childTnLst>
                              <p:par>
                                <p:cTn id="581" dur="indefinite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"/>
                            </p:stCondLst>
                            <p:childTnLst>
                              <p:par>
                                <p:cTn id="584" dur="indefinite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1"/>
                            </p:stCondLst>
                            <p:childTnLst>
                              <p:par>
                                <p:cTn id="587" dur="indefinite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2"/>
                            </p:stCondLst>
                            <p:childTnLst>
                              <p:par>
                                <p:cTn id="590" dur="indefinite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3"/>
                            </p:stCondLst>
                            <p:childTnLst>
                              <p:par>
                                <p:cTn id="593" dur="indefinite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4"/>
                            </p:stCondLst>
                            <p:childTnLst>
                              <p:par>
                                <p:cTn id="596" dur="indefinite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5"/>
                            </p:stCondLst>
                            <p:childTnLst>
                              <p:par>
                                <p:cTn id="599" dur="indefinite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"/>
                            </p:stCondLst>
                            <p:childTnLst>
                              <p:par>
                                <p:cTn id="6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"/>
                            </p:stCondLst>
                            <p:childTnLst>
                              <p:par>
                                <p:cTn id="6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"/>
                            </p:stCondLst>
                            <p:childTnLst>
                              <p:par>
                                <p:cTn id="6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"/>
                            </p:stCondLst>
                            <p:childTnLst>
                              <p:par>
                                <p:cTn id="6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"/>
                            </p:stCondLst>
                            <p:childTnLst>
                              <p:par>
                                <p:cTn id="6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6"/>
                            </p:stCondLst>
                            <p:childTnLst>
                              <p:par>
                                <p:cTn id="6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7"/>
                            </p:stCondLst>
                            <p:childTnLst>
                              <p:par>
                                <p:cTn id="6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8"/>
                            </p:stCondLst>
                            <p:childTnLst>
                              <p:par>
                                <p:cTn id="6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9"/>
                            </p:stCondLst>
                            <p:childTnLst>
                              <p:par>
                                <p:cTn id="6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"/>
                            </p:stCondLst>
                            <p:childTnLst>
                              <p:par>
                                <p:cTn id="6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1"/>
                            </p:stCondLst>
                            <p:childTnLst>
                              <p:par>
                                <p:cTn id="6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2"/>
                            </p:stCondLst>
                            <p:childTnLst>
                              <p:par>
                                <p:cTn id="6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3"/>
                            </p:stCondLst>
                            <p:childTnLst>
                              <p:par>
                                <p:cTn id="6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380880" y="685800"/>
            <a:ext cx="83059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方正大黑简体"/>
                <a:ea typeface="方正大黑简体"/>
              </a:rPr>
              <a:t>作业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方正大黑简体"/>
                <a:ea typeface="方正大黑简体"/>
              </a:rPr>
              <a:t>一、课堂作业：</a:t>
            </a:r>
            <a:r>
              <a:rPr b="1" lang="en-US" sz="2800" spc="-1" strike="noStrike">
                <a:solidFill>
                  <a:srgbClr val="0033cc"/>
                </a:solidFill>
                <a:latin typeface="方正大黑简体"/>
                <a:ea typeface="方正大黑简体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方正大黑简体"/>
                <a:ea typeface="方正大黑简体"/>
              </a:rPr>
              <a:t>长江作业本</a:t>
            </a:r>
            <a:r>
              <a:rPr b="1" lang="en-US" sz="2800" spc="-1" strike="noStrike">
                <a:solidFill>
                  <a:srgbClr val="0033cc"/>
                </a:solidFill>
                <a:latin typeface="方正大黑简体"/>
                <a:ea typeface="方正大黑简体"/>
              </a:rPr>
              <a:t>》</a:t>
            </a:r>
            <a:r>
              <a:rPr b="1" lang="en-US" sz="2800" spc="-1" strike="noStrike">
                <a:solidFill>
                  <a:srgbClr val="0033cc"/>
                </a:solidFill>
                <a:latin typeface="方正大黑简体"/>
                <a:ea typeface="方正大黑简体"/>
              </a:rPr>
              <a:t>P28-29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方正大黑简体"/>
                <a:ea typeface="方正大黑简体"/>
              </a:rPr>
              <a:t>二、课后作业：预习</a:t>
            </a:r>
            <a:r>
              <a:rPr b="1" lang="en-US" sz="2800" spc="-1" strike="noStrike">
                <a:solidFill>
                  <a:srgbClr val="0033cc"/>
                </a:solidFill>
                <a:latin typeface="方正大黑简体"/>
                <a:ea typeface="方正大黑简体"/>
              </a:rPr>
              <a:t>22.1.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方正大黑简体"/>
                <a:ea typeface="方正大黑简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方正大黑简体"/>
                <a:ea typeface="方正大黑简体"/>
              </a:rPr>
              <a:t>、了解二次函数                图象的画法及步骤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方正大黑简体"/>
                <a:ea typeface="方正大黑简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方正大黑简体"/>
                <a:ea typeface="方正大黑简体"/>
              </a:rPr>
              <a:t>、探索二次函数                 图象的性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方正大黑简体"/>
                <a:ea typeface="方正大黑简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方正大黑简体"/>
                <a:ea typeface="方正大黑简体"/>
              </a:rPr>
              <a:t>、请在同一平面直角坐标系中画出以下二次函数的图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4" name="Object 3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1536480" cy="944640"/>
          </a:xfrm>
          <a:prstGeom prst="rect">
            <a:avLst/>
          </a:prstGeom>
          <a:ln w="0">
            <a:noFill/>
          </a:ln>
        </p:spPr>
      </p:pic>
      <p:pic>
        <p:nvPicPr>
          <p:cNvPr id="355" name="Object 4" descr=""/>
          <p:cNvPicPr/>
          <p:nvPr/>
        </p:nvPicPr>
        <p:blipFill>
          <a:blip r:embed="rId2"/>
          <a:stretch/>
        </p:blipFill>
        <p:spPr>
          <a:xfrm>
            <a:off x="3203640" y="2565360"/>
            <a:ext cx="1536480" cy="1015920"/>
          </a:xfrm>
          <a:prstGeom prst="rect">
            <a:avLst/>
          </a:prstGeom>
          <a:ln w="0">
            <a:noFill/>
          </a:ln>
        </p:spPr>
      </p:pic>
      <p:pic>
        <p:nvPicPr>
          <p:cNvPr id="356" name="Object 5" descr=""/>
          <p:cNvPicPr/>
          <p:nvPr/>
        </p:nvPicPr>
        <p:blipFill>
          <a:blip r:embed="rId3"/>
          <a:stretch/>
        </p:blipFill>
        <p:spPr>
          <a:xfrm>
            <a:off x="971640" y="4508640"/>
            <a:ext cx="6408720" cy="1023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BC01-E950-4B4F-B345-F028D644A1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419640" y="4111560"/>
            <a:ext cx="19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一次函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68360" y="41115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正比例函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 rot="9048600">
            <a:off x="2124000" y="3066840"/>
            <a:ext cx="1657440" cy="360360"/>
          </a:xfrm>
          <a:prstGeom prst="rightArrow">
            <a:avLst>
              <a:gd name="adj1" fmla="val 50000"/>
              <a:gd name="adj2" fmla="val 11496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995640" y="19314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函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 rot="5400000">
            <a:off x="4066920" y="3213000"/>
            <a:ext cx="1225800" cy="358560"/>
          </a:xfrm>
          <a:prstGeom prst="rightArrow">
            <a:avLst>
              <a:gd name="adj1" fmla="val 50000"/>
              <a:gd name="adj2" fmla="val 854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 rot="1649400">
            <a:off x="5435640" y="3068640"/>
            <a:ext cx="1657440" cy="360360"/>
          </a:xfrm>
          <a:prstGeom prst="rightArrow">
            <a:avLst>
              <a:gd name="adj1" fmla="val 50000"/>
              <a:gd name="adj2" fmla="val 11496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5148360" y="333360"/>
            <a:ext cx="3995640" cy="1582920"/>
          </a:xfrm>
          <a:prstGeom prst="cloudCallout">
            <a:avLst>
              <a:gd name="adj1" fmla="val -44356"/>
              <a:gd name="adj2" fmla="val 66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描述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变量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间关系的数学工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755640" y="1628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二次函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2" name="Object 10" descr=""/>
          <p:cNvPicPr/>
          <p:nvPr/>
        </p:nvPicPr>
        <p:blipFill>
          <a:blip r:embed="rId1"/>
          <a:stretch/>
        </p:blipFill>
        <p:spPr>
          <a:xfrm>
            <a:off x="755640" y="4869000"/>
            <a:ext cx="1441440" cy="136188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11" descr=""/>
          <p:cNvPicPr/>
          <p:nvPr/>
        </p:nvPicPr>
        <p:blipFill>
          <a:blip r:embed="rId2"/>
          <a:stretch/>
        </p:blipFill>
        <p:spPr>
          <a:xfrm>
            <a:off x="3635280" y="5013360"/>
            <a:ext cx="1513080" cy="12240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2"/>
          <p:cNvSpPr/>
          <p:nvPr/>
        </p:nvSpPr>
        <p:spPr>
          <a:xfrm rot="11208600">
            <a:off x="3203280" y="1844280"/>
            <a:ext cx="722160" cy="501840"/>
          </a:xfrm>
          <a:prstGeom prst="rightArrow">
            <a:avLst>
              <a:gd name="adj1" fmla="val 50000"/>
              <a:gd name="adj2" fmla="val 359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5796000" y="4076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反比例函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6156360" y="5013360"/>
            <a:ext cx="201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方正大黑简体"/>
                <a:ea typeface="方正大黑简体"/>
              </a:rPr>
              <a:t>九年级下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方正大黑简体"/>
                <a:ea typeface="方正大黑简体"/>
              </a:rPr>
              <a:t>第</a:t>
            </a:r>
            <a:r>
              <a:rPr b="1" lang="en-US" sz="2800" spc="-1" strike="noStrike">
                <a:solidFill>
                  <a:srgbClr val="0033cc"/>
                </a:solidFill>
                <a:latin typeface="方正大黑简体"/>
                <a:ea typeface="方正大黑简体"/>
              </a:rPr>
              <a:t>26</a:t>
            </a:r>
            <a:r>
              <a:rPr b="1" lang="zh-CN" sz="2800" spc="-1" strike="noStrike">
                <a:solidFill>
                  <a:srgbClr val="0033cc"/>
                </a:solidFill>
                <a:latin typeface="方正大黑简体"/>
                <a:ea typeface="方正大黑简体"/>
              </a:rPr>
              <a:t>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WordArt 15"/>
          <p:cNvSpPr txBox="1"/>
          <p:nvPr/>
        </p:nvSpPr>
        <p:spPr>
          <a:xfrm>
            <a:off x="539640" y="260280"/>
            <a:ext cx="2735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函数知多少？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 spd="med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5"/>
          <p:cNvSpPr/>
          <p:nvPr/>
        </p:nvSpPr>
        <p:spPr>
          <a:xfrm>
            <a:off x="395280" y="1125360"/>
            <a:ext cx="8424720" cy="12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0000"/>
                </a:solidFill>
                <a:latin typeface="Arial"/>
              </a:rPr>
              <a:t>问题</a:t>
            </a:r>
            <a:r>
              <a:rPr b="1" lang="en-US" sz="34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zh-CN" sz="3400" spc="-1" strike="noStrike">
                <a:solidFill>
                  <a:srgbClr val="990000"/>
                </a:solidFill>
                <a:latin typeface="Arial"/>
              </a:rPr>
              <a:t>：</a:t>
            </a:r>
            <a:r>
              <a:rPr b="1" lang="zh-CN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正方体六个面是全等的正方形，设正方体棱长为 </a:t>
            </a:r>
            <a:r>
              <a:rPr b="1" lang="en-US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x</a:t>
            </a:r>
            <a:r>
              <a:rPr b="1" lang="zh-CN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，表面积为 </a:t>
            </a:r>
            <a:r>
              <a:rPr b="1" lang="en-US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y</a:t>
            </a:r>
            <a:r>
              <a:rPr b="1" lang="zh-CN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，则 </a:t>
            </a:r>
            <a:r>
              <a:rPr b="1" lang="en-US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y </a:t>
            </a:r>
            <a:r>
              <a:rPr b="1" lang="zh-CN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关于</a:t>
            </a:r>
            <a:r>
              <a:rPr b="1" lang="en-US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x </a:t>
            </a:r>
            <a:r>
              <a:rPr b="1" lang="zh-CN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的关系式为</a:t>
            </a:r>
            <a:r>
              <a:rPr b="1" lang="zh-CN" sz="3000" spc="-1" strike="noStrike" u="sng">
                <a:solidFill>
                  <a:srgbClr val="0033cc"/>
                </a:solidFill>
                <a:uFillTx/>
                <a:latin typeface="华文新魏"/>
                <a:ea typeface="华文新魏"/>
              </a:rPr>
              <a:t>           </a:t>
            </a:r>
            <a:r>
              <a:rPr b="1" lang="en-US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.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AutoShape 2"/>
          <p:cNvSpPr/>
          <p:nvPr/>
        </p:nvSpPr>
        <p:spPr>
          <a:xfrm>
            <a:off x="324000" y="2997360"/>
            <a:ext cx="1296720" cy="129672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0" name="Group 3"/>
          <p:cNvGrpSpPr/>
          <p:nvPr/>
        </p:nvGrpSpPr>
        <p:grpSpPr>
          <a:xfrm>
            <a:off x="1547640" y="3357720"/>
            <a:ext cx="4032000" cy="3027240"/>
            <a:chOff x="1547640" y="3357720"/>
            <a:chExt cx="4032000" cy="3027240"/>
          </a:xfrm>
        </p:grpSpPr>
        <p:sp>
          <p:nvSpPr>
            <p:cNvPr id="111" name="Rectangle 4"/>
            <p:cNvSpPr/>
            <p:nvPr/>
          </p:nvSpPr>
          <p:spPr>
            <a:xfrm>
              <a:off x="1547640" y="4375080"/>
              <a:ext cx="1008000" cy="1008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" name="Rectangle 5"/>
            <p:cNvSpPr/>
            <p:nvPr/>
          </p:nvSpPr>
          <p:spPr>
            <a:xfrm>
              <a:off x="2555640" y="4375080"/>
              <a:ext cx="1008000" cy="1008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" name="Rectangle 6"/>
            <p:cNvSpPr/>
            <p:nvPr/>
          </p:nvSpPr>
          <p:spPr>
            <a:xfrm>
              <a:off x="3563640" y="4375080"/>
              <a:ext cx="1008000" cy="1008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" name="Rectangle 7"/>
            <p:cNvSpPr/>
            <p:nvPr/>
          </p:nvSpPr>
          <p:spPr>
            <a:xfrm>
              <a:off x="4571640" y="4375080"/>
              <a:ext cx="1008000" cy="1008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" name="Rectangle 8"/>
            <p:cNvSpPr/>
            <p:nvPr/>
          </p:nvSpPr>
          <p:spPr>
            <a:xfrm>
              <a:off x="2547720" y="3357720"/>
              <a:ext cx="1008000" cy="1008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" name="Rectangle 9"/>
            <p:cNvSpPr/>
            <p:nvPr/>
          </p:nvSpPr>
          <p:spPr>
            <a:xfrm>
              <a:off x="2555640" y="5376960"/>
              <a:ext cx="1008000" cy="1008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7" name="Text Box 10"/>
          <p:cNvSpPr/>
          <p:nvPr/>
        </p:nvSpPr>
        <p:spPr>
          <a:xfrm>
            <a:off x="1168560" y="2252520"/>
            <a:ext cx="268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y=6x</a:t>
            </a:r>
            <a:r>
              <a:rPr b="1" i="1" lang="en-US" sz="3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8" name="Group 11"/>
          <p:cNvGrpSpPr/>
          <p:nvPr/>
        </p:nvGrpSpPr>
        <p:grpSpPr>
          <a:xfrm>
            <a:off x="34920" y="378000"/>
            <a:ext cx="3168720" cy="747360"/>
            <a:chOff x="34920" y="378000"/>
            <a:chExt cx="3168720" cy="747360"/>
          </a:xfrm>
        </p:grpSpPr>
        <p:pic>
          <p:nvPicPr>
            <p:cNvPr id="119" name="Picture 12" descr="图片 ncbdfhg"/>
            <p:cNvPicPr/>
            <p:nvPr/>
          </p:nvPicPr>
          <p:blipFill>
            <a:blip r:embed="rId1"/>
            <a:stretch/>
          </p:blipFill>
          <p:spPr>
            <a:xfrm>
              <a:off x="34920" y="378000"/>
              <a:ext cx="1154160" cy="74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" name=""/>
            <p:cNvGrpSpPr/>
            <p:nvPr/>
          </p:nvGrpSpPr>
          <p:grpSpPr>
            <a:xfrm>
              <a:off x="577800" y="954000"/>
              <a:ext cx="2625840" cy="26640"/>
              <a:chOff x="577800" y="954000"/>
              <a:chExt cx="2625840" cy="26640"/>
            </a:xfrm>
          </p:grpSpPr>
          <p:sp>
            <p:nvSpPr>
              <p:cNvPr id="121" name="Line 13"/>
              <p:cNvSpPr/>
              <p:nvPr/>
            </p:nvSpPr>
            <p:spPr>
              <a:xfrm flipV="1">
                <a:off x="577800" y="954000"/>
                <a:ext cx="2625840" cy="26640"/>
              </a:xfrm>
              <a:prstGeom prst="line">
                <a:avLst/>
              </a:prstGeom>
              <a:ln w="414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 rot="10800000">
                <a:off x="577800" y="953640"/>
                <a:ext cx="2625840" cy="2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23" name="WordArt 14"/>
            <p:cNvSpPr txBox="1"/>
            <p:nvPr/>
          </p:nvSpPr>
          <p:spPr>
            <a:xfrm>
              <a:off x="1042920" y="378000"/>
              <a:ext cx="2089440" cy="50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展现你的身手</a:t>
              </a:r>
              <a:endParaRPr b="1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124" name="Text Box 16"/>
          <p:cNvSpPr/>
          <p:nvPr/>
        </p:nvSpPr>
        <p:spPr>
          <a:xfrm>
            <a:off x="5796000" y="2565360"/>
            <a:ext cx="309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此式表示了正方体表面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与正方体棱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之间的关系，对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每一个值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都有唯一的一个对应值，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函数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36360" y="333360"/>
            <a:ext cx="3168000" cy="747720"/>
            <a:chOff x="-36360" y="333360"/>
            <a:chExt cx="3168000" cy="747720"/>
          </a:xfrm>
        </p:grpSpPr>
        <p:pic>
          <p:nvPicPr>
            <p:cNvPr id="126" name="Picture 3" descr="图片 ncbdfhg"/>
            <p:cNvPicPr/>
            <p:nvPr/>
          </p:nvPicPr>
          <p:blipFill>
            <a:blip r:embed="rId1"/>
            <a:stretch/>
          </p:blipFill>
          <p:spPr>
            <a:xfrm>
              <a:off x="-36360" y="333360"/>
              <a:ext cx="115380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505800" y="909360"/>
              <a:ext cx="2625840" cy="27000"/>
              <a:chOff x="505800" y="909360"/>
              <a:chExt cx="2625840" cy="27000"/>
            </a:xfrm>
          </p:grpSpPr>
          <p:sp>
            <p:nvSpPr>
              <p:cNvPr id="128" name="Line 4"/>
              <p:cNvSpPr/>
              <p:nvPr/>
            </p:nvSpPr>
            <p:spPr>
              <a:xfrm flipV="1">
                <a:off x="506160" y="909360"/>
                <a:ext cx="2625480" cy="27000"/>
              </a:xfrm>
              <a:prstGeom prst="line">
                <a:avLst/>
              </a:prstGeom>
              <a:ln w="414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 rot="10800000">
                <a:off x="505800" y="909000"/>
                <a:ext cx="262548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30" name="WordArt 5"/>
            <p:cNvSpPr txBox="1"/>
            <p:nvPr/>
          </p:nvSpPr>
          <p:spPr>
            <a:xfrm>
              <a:off x="971280" y="333360"/>
              <a:ext cx="20890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展现你的身手</a:t>
              </a:r>
              <a:endParaRPr b="1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131" name="Text Box 6"/>
          <p:cNvSpPr/>
          <p:nvPr/>
        </p:nvSpPr>
        <p:spPr>
          <a:xfrm>
            <a:off x="179280" y="987480"/>
            <a:ext cx="921708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0000"/>
                </a:solidFill>
                <a:latin typeface="Arial"/>
              </a:rPr>
              <a:t>问题２：</a:t>
            </a:r>
            <a:r>
              <a:rPr b="1" lang="en-US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n</a:t>
            </a:r>
            <a:r>
              <a:rPr b="1" lang="zh-CN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个球队参加比赛，每两个队之间进行一场比赛，比赛的场次数</a:t>
            </a:r>
            <a:r>
              <a:rPr b="1" lang="en-US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m</a:t>
            </a:r>
            <a:r>
              <a:rPr b="1" lang="zh-CN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与球队数</a:t>
            </a:r>
            <a:r>
              <a:rPr b="1" lang="en-US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n</a:t>
            </a:r>
            <a:r>
              <a:rPr b="1" lang="zh-CN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有什么关系？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每个球队</a:t>
            </a:r>
            <a:r>
              <a:rPr b="1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n</a:t>
            </a:r>
            <a:r>
              <a:rPr b="1" lang="zh-CN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要与其他</a:t>
            </a:r>
            <a:r>
              <a:rPr b="1" lang="zh-CN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1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n-1</a:t>
            </a:r>
            <a:r>
              <a:rPr b="1" lang="zh-CN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r>
              <a:rPr b="1" lang="zh-CN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个球队各比赛一场，甲队对乙队的比赛与乙队对甲队的比赛时同一场比赛，所以比赛的场次数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              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即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" name="Object 7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2747880" cy="120024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8" descr=""/>
          <p:cNvPicPr/>
          <p:nvPr/>
        </p:nvPicPr>
        <p:blipFill>
          <a:blip r:embed="rId3"/>
          <a:stretch/>
        </p:blipFill>
        <p:spPr>
          <a:xfrm>
            <a:off x="495360" y="5300640"/>
            <a:ext cx="3508200" cy="13730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4788000" y="3716280"/>
            <a:ext cx="38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此式表示了比赛的场次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与球队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之间的关系，对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每一个值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都有唯一的一个对应值，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函数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6360" y="333360"/>
            <a:ext cx="3168000" cy="747720"/>
            <a:chOff x="-36360" y="333360"/>
            <a:chExt cx="3168000" cy="747720"/>
          </a:xfrm>
        </p:grpSpPr>
        <p:pic>
          <p:nvPicPr>
            <p:cNvPr id="136" name="Picture 3" descr="图片 ncbdfhg"/>
            <p:cNvPicPr/>
            <p:nvPr/>
          </p:nvPicPr>
          <p:blipFill>
            <a:blip r:embed="rId1"/>
            <a:stretch/>
          </p:blipFill>
          <p:spPr>
            <a:xfrm>
              <a:off x="-36360" y="333360"/>
              <a:ext cx="115380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505800" y="909360"/>
              <a:ext cx="2625840" cy="27000"/>
              <a:chOff x="505800" y="909360"/>
              <a:chExt cx="2625840" cy="27000"/>
            </a:xfrm>
          </p:grpSpPr>
          <p:sp>
            <p:nvSpPr>
              <p:cNvPr id="138" name="Line 4"/>
              <p:cNvSpPr/>
              <p:nvPr/>
            </p:nvSpPr>
            <p:spPr>
              <a:xfrm flipV="1">
                <a:off x="506160" y="909360"/>
                <a:ext cx="2625480" cy="27000"/>
              </a:xfrm>
              <a:prstGeom prst="line">
                <a:avLst/>
              </a:prstGeom>
              <a:ln w="414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 rot="10800000">
                <a:off x="505800" y="909000"/>
                <a:ext cx="262548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40" name="WordArt 5"/>
            <p:cNvSpPr txBox="1"/>
            <p:nvPr/>
          </p:nvSpPr>
          <p:spPr>
            <a:xfrm>
              <a:off x="971280" y="333360"/>
              <a:ext cx="20890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展现你的身手</a:t>
              </a:r>
              <a:endParaRPr b="1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141" name="Text Box 6"/>
          <p:cNvSpPr/>
          <p:nvPr/>
        </p:nvSpPr>
        <p:spPr>
          <a:xfrm>
            <a:off x="179280" y="987480"/>
            <a:ext cx="921708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0000"/>
                </a:solidFill>
                <a:latin typeface="Arial"/>
              </a:rPr>
              <a:t>问题</a:t>
            </a:r>
            <a:r>
              <a:rPr b="1" lang="en-US" sz="3400" spc="-1" strike="noStrike">
                <a:solidFill>
                  <a:srgbClr val="990000"/>
                </a:solidFill>
                <a:latin typeface="Arial"/>
              </a:rPr>
              <a:t>3</a:t>
            </a:r>
            <a:r>
              <a:rPr b="1" lang="zh-CN" sz="3400" spc="-1" strike="noStrike">
                <a:solidFill>
                  <a:srgbClr val="990000"/>
                </a:solidFill>
                <a:latin typeface="Arial"/>
              </a:rPr>
              <a:t>：</a:t>
            </a:r>
            <a:r>
              <a:rPr b="1" lang="zh-CN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多边形的对角线数</a:t>
            </a:r>
            <a:r>
              <a:rPr b="1" lang="en-US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d</a:t>
            </a:r>
            <a:r>
              <a:rPr b="1" lang="zh-CN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与边数</a:t>
            </a:r>
            <a:r>
              <a:rPr b="1" lang="en-US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n</a:t>
            </a:r>
            <a:r>
              <a:rPr b="1" lang="zh-CN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有什么关系？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3780000" y="1700280"/>
            <a:ext cx="46432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由图可以想出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如果多边形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条边，那么它有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个顶点，从一个顶点出发，连接与这点不相邻的各顶点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可以作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条对角线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522600" y="31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569960" y="2205000"/>
            <a:ext cx="360" cy="2952720"/>
            <a:chOff x="1569960" y="2205000"/>
            <a:chExt cx="360" cy="2952720"/>
          </a:xfrm>
        </p:grpSpPr>
        <p:sp>
          <p:nvSpPr>
            <p:cNvPr id="145" name="Line 9"/>
            <p:cNvSpPr/>
            <p:nvPr/>
          </p:nvSpPr>
          <p:spPr>
            <a:xfrm>
              <a:off x="1569960" y="2205000"/>
              <a:ext cx="0" cy="2952720"/>
            </a:xfrm>
            <a:prstGeom prst="line">
              <a:avLst/>
            </a:prstGeom>
            <a:ln w="4752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1569960" y="2205000"/>
              <a:ext cx="360" cy="29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7" name="Group 10"/>
          <p:cNvGrpSpPr/>
          <p:nvPr/>
        </p:nvGrpSpPr>
        <p:grpSpPr>
          <a:xfrm>
            <a:off x="552240" y="2205000"/>
            <a:ext cx="3004920" cy="2952000"/>
            <a:chOff x="552240" y="2205000"/>
            <a:chExt cx="3004920" cy="2952000"/>
          </a:xfrm>
        </p:grpSpPr>
        <p:grpSp>
          <p:nvGrpSpPr>
            <p:cNvPr id="148" name=""/>
            <p:cNvGrpSpPr/>
            <p:nvPr/>
          </p:nvGrpSpPr>
          <p:grpSpPr>
            <a:xfrm>
              <a:off x="1570680" y="2205000"/>
              <a:ext cx="1860120" cy="360"/>
              <a:chOff x="1570680" y="2205000"/>
              <a:chExt cx="1860120" cy="360"/>
            </a:xfrm>
          </p:grpSpPr>
          <p:sp>
            <p:nvSpPr>
              <p:cNvPr id="149" name="Line 11"/>
              <p:cNvSpPr/>
              <p:nvPr/>
            </p:nvSpPr>
            <p:spPr>
              <a:xfrm>
                <a:off x="1570680" y="2205000"/>
                <a:ext cx="1860120" cy="0"/>
              </a:xfrm>
              <a:prstGeom prst="line">
                <a:avLst/>
              </a:prstGeom>
              <a:ln w="475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1570680" y="2205000"/>
                <a:ext cx="1860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431160" y="2205000"/>
              <a:ext cx="125640" cy="1181520"/>
              <a:chOff x="3431160" y="2205000"/>
              <a:chExt cx="125640" cy="1181520"/>
            </a:xfrm>
          </p:grpSpPr>
          <p:sp>
            <p:nvSpPr>
              <p:cNvPr id="152" name="Line 12"/>
              <p:cNvSpPr/>
              <p:nvPr/>
            </p:nvSpPr>
            <p:spPr>
              <a:xfrm>
                <a:off x="3431160" y="2205000"/>
                <a:ext cx="125640" cy="1181520"/>
              </a:xfrm>
              <a:prstGeom prst="line">
                <a:avLst/>
              </a:prstGeom>
              <a:ln w="475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>
                <a:off x="3431160" y="2205000"/>
                <a:ext cx="125640" cy="118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3184920" y="3386520"/>
              <a:ext cx="372240" cy="884880"/>
              <a:chOff x="3184920" y="3386520"/>
              <a:chExt cx="372240" cy="884880"/>
            </a:xfrm>
          </p:grpSpPr>
          <p:sp>
            <p:nvSpPr>
              <p:cNvPr id="155" name="Line 13"/>
              <p:cNvSpPr/>
              <p:nvPr/>
            </p:nvSpPr>
            <p:spPr>
              <a:xfrm flipH="1">
                <a:off x="3184920" y="3386520"/>
                <a:ext cx="372240" cy="884880"/>
              </a:xfrm>
              <a:prstGeom prst="line">
                <a:avLst/>
              </a:prstGeom>
              <a:ln w="475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>
                <a:off x="3184920" y="3386520"/>
                <a:ext cx="372240" cy="884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1570320" y="4271400"/>
              <a:ext cx="1614240" cy="885600"/>
              <a:chOff x="1570320" y="4271400"/>
              <a:chExt cx="1614240" cy="885600"/>
            </a:xfrm>
          </p:grpSpPr>
          <p:sp>
            <p:nvSpPr>
              <p:cNvPr id="158" name="Line 14"/>
              <p:cNvSpPr/>
              <p:nvPr/>
            </p:nvSpPr>
            <p:spPr>
              <a:xfrm flipH="1">
                <a:off x="1570320" y="4271400"/>
                <a:ext cx="1613880" cy="885600"/>
              </a:xfrm>
              <a:prstGeom prst="line">
                <a:avLst/>
              </a:prstGeom>
              <a:ln w="475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1570680" y="4271400"/>
                <a:ext cx="1613880" cy="88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52240" y="2234520"/>
              <a:ext cx="993600" cy="1181520"/>
              <a:chOff x="552240" y="2234520"/>
              <a:chExt cx="993600" cy="1181520"/>
            </a:xfrm>
          </p:grpSpPr>
          <p:sp>
            <p:nvSpPr>
              <p:cNvPr id="161" name="Line 15"/>
              <p:cNvSpPr/>
              <p:nvPr/>
            </p:nvSpPr>
            <p:spPr>
              <a:xfrm flipH="1">
                <a:off x="552240" y="2234520"/>
                <a:ext cx="993240" cy="1181520"/>
              </a:xfrm>
              <a:prstGeom prst="line">
                <a:avLst/>
              </a:prstGeom>
              <a:ln w="475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552600" y="2234520"/>
                <a:ext cx="993240" cy="118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77080" y="3386520"/>
              <a:ext cx="993240" cy="1770480"/>
              <a:chOff x="577080" y="3386520"/>
              <a:chExt cx="993240" cy="1770480"/>
            </a:xfrm>
          </p:grpSpPr>
          <p:sp>
            <p:nvSpPr>
              <p:cNvPr id="164" name="Line 16"/>
              <p:cNvSpPr/>
              <p:nvPr/>
            </p:nvSpPr>
            <p:spPr>
              <a:xfrm>
                <a:off x="577080" y="3386520"/>
                <a:ext cx="993240" cy="1770480"/>
              </a:xfrm>
              <a:prstGeom prst="line">
                <a:avLst/>
              </a:prstGeom>
              <a:ln w="475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577080" y="3386520"/>
                <a:ext cx="993240" cy="177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1569960" y="2205000"/>
            <a:ext cx="1614600" cy="2067120"/>
            <a:chOff x="1569960" y="2205000"/>
            <a:chExt cx="1614600" cy="2067120"/>
          </a:xfrm>
        </p:grpSpPr>
        <p:sp>
          <p:nvSpPr>
            <p:cNvPr id="167" name="Line 17"/>
            <p:cNvSpPr/>
            <p:nvPr/>
          </p:nvSpPr>
          <p:spPr>
            <a:xfrm>
              <a:off x="1569960" y="2205000"/>
              <a:ext cx="1614600" cy="2067120"/>
            </a:xfrm>
            <a:prstGeom prst="line">
              <a:avLst/>
            </a:prstGeom>
            <a:ln w="4752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1569960" y="2205000"/>
              <a:ext cx="1614600" cy="206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693800" y="2205000"/>
            <a:ext cx="1863720" cy="1181160"/>
            <a:chOff x="1693800" y="2205000"/>
            <a:chExt cx="1863720" cy="1181160"/>
          </a:xfrm>
        </p:grpSpPr>
        <p:sp>
          <p:nvSpPr>
            <p:cNvPr id="170" name="Line 18"/>
            <p:cNvSpPr/>
            <p:nvPr/>
          </p:nvSpPr>
          <p:spPr>
            <a:xfrm>
              <a:off x="1693800" y="2205000"/>
              <a:ext cx="1863720" cy="1181160"/>
            </a:xfrm>
            <a:prstGeom prst="line">
              <a:avLst/>
            </a:prstGeom>
            <a:ln w="4752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1693800" y="2205000"/>
              <a:ext cx="1863720" cy="118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76360" y="3386160"/>
            <a:ext cx="2981160" cy="360"/>
            <a:chOff x="576360" y="3386160"/>
            <a:chExt cx="2981160" cy="360"/>
          </a:xfrm>
        </p:grpSpPr>
        <p:sp>
          <p:nvSpPr>
            <p:cNvPr id="173" name="Line 19"/>
            <p:cNvSpPr/>
            <p:nvPr/>
          </p:nvSpPr>
          <p:spPr>
            <a:xfrm>
              <a:off x="576360" y="3386160"/>
              <a:ext cx="2981160" cy="0"/>
            </a:xfrm>
            <a:prstGeom prst="line">
              <a:avLst/>
            </a:prstGeom>
            <a:ln w="4752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576360" y="3386160"/>
              <a:ext cx="2981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5" name="Text Box 20"/>
          <p:cNvSpPr/>
          <p:nvPr/>
        </p:nvSpPr>
        <p:spPr>
          <a:xfrm>
            <a:off x="108000" y="3141720"/>
            <a:ext cx="13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41080" y="2204640"/>
            <a:ext cx="2857680" cy="1181160"/>
            <a:chOff x="541080" y="2204640"/>
            <a:chExt cx="2857680" cy="1181160"/>
          </a:xfrm>
        </p:grpSpPr>
        <p:sp>
          <p:nvSpPr>
            <p:cNvPr id="177" name="Line 21"/>
            <p:cNvSpPr/>
            <p:nvPr/>
          </p:nvSpPr>
          <p:spPr>
            <a:xfrm flipV="1">
              <a:off x="541440" y="2204640"/>
              <a:ext cx="2857320" cy="1181160"/>
            </a:xfrm>
            <a:prstGeom prst="line">
              <a:avLst/>
            </a:prstGeom>
            <a:ln w="4752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 rot="10800000">
              <a:off x="541080" y="2204640"/>
              <a:ext cx="2857320" cy="118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66720" y="3386160"/>
            <a:ext cx="2482920" cy="885960"/>
            <a:chOff x="666720" y="3386160"/>
            <a:chExt cx="2482920" cy="885960"/>
          </a:xfrm>
        </p:grpSpPr>
        <p:sp>
          <p:nvSpPr>
            <p:cNvPr id="180" name="Line 22"/>
            <p:cNvSpPr/>
            <p:nvPr/>
          </p:nvSpPr>
          <p:spPr>
            <a:xfrm>
              <a:off x="666720" y="3386160"/>
              <a:ext cx="2482920" cy="885960"/>
            </a:xfrm>
            <a:prstGeom prst="line">
              <a:avLst/>
            </a:prstGeom>
            <a:ln w="4752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666720" y="3386160"/>
              <a:ext cx="2482920" cy="88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82" name="Text Box 23"/>
          <p:cNvSpPr/>
          <p:nvPr/>
        </p:nvSpPr>
        <p:spPr>
          <a:xfrm>
            <a:off x="6012000" y="213372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Text Box 24"/>
          <p:cNvSpPr/>
          <p:nvPr/>
        </p:nvSpPr>
        <p:spPr>
          <a:xfrm>
            <a:off x="5940360" y="3068640"/>
            <a:ext cx="11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n-3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4" name="Object 25" descr=""/>
          <p:cNvPicPr/>
          <p:nvPr/>
        </p:nvPicPr>
        <p:blipFill>
          <a:blip r:embed="rId2"/>
          <a:stretch/>
        </p:blipFill>
        <p:spPr>
          <a:xfrm>
            <a:off x="2843280" y="4005360"/>
            <a:ext cx="2879640" cy="12380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26"/>
          <p:cNvSpPr/>
          <p:nvPr/>
        </p:nvSpPr>
        <p:spPr>
          <a:xfrm>
            <a:off x="468360" y="5516640"/>
            <a:ext cx="8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6" name="Object 27" descr=""/>
          <p:cNvPicPr/>
          <p:nvPr/>
        </p:nvPicPr>
        <p:blipFill>
          <a:blip r:embed="rId3"/>
          <a:stretch/>
        </p:blipFill>
        <p:spPr>
          <a:xfrm>
            <a:off x="1116000" y="5229360"/>
            <a:ext cx="3419640" cy="13730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8"/>
          <p:cNvSpPr/>
          <p:nvPr/>
        </p:nvSpPr>
        <p:spPr>
          <a:xfrm>
            <a:off x="5867280" y="3933720"/>
            <a:ext cx="309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此式表示了多边形的对角线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与边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之间的关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对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每一值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d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都有唯一的对应值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函数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-36360" y="304920"/>
            <a:ext cx="3168000" cy="747720"/>
            <a:chOff x="-36360" y="304920"/>
            <a:chExt cx="3168000" cy="747720"/>
          </a:xfrm>
        </p:grpSpPr>
        <p:pic>
          <p:nvPicPr>
            <p:cNvPr id="189" name="Picture 3" descr="图片 ncbdfhg"/>
            <p:cNvPicPr/>
            <p:nvPr/>
          </p:nvPicPr>
          <p:blipFill>
            <a:blip r:embed="rId1"/>
            <a:stretch/>
          </p:blipFill>
          <p:spPr>
            <a:xfrm>
              <a:off x="-36360" y="304920"/>
              <a:ext cx="115380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0" name=""/>
            <p:cNvGrpSpPr/>
            <p:nvPr/>
          </p:nvGrpSpPr>
          <p:grpSpPr>
            <a:xfrm>
              <a:off x="505800" y="880920"/>
              <a:ext cx="2625840" cy="27000"/>
              <a:chOff x="505800" y="880920"/>
              <a:chExt cx="2625840" cy="27000"/>
            </a:xfrm>
          </p:grpSpPr>
          <p:sp>
            <p:nvSpPr>
              <p:cNvPr id="191" name="Line 4"/>
              <p:cNvSpPr/>
              <p:nvPr/>
            </p:nvSpPr>
            <p:spPr>
              <a:xfrm flipV="1">
                <a:off x="506160" y="880920"/>
                <a:ext cx="2625480" cy="27000"/>
              </a:xfrm>
              <a:prstGeom prst="line">
                <a:avLst/>
              </a:prstGeom>
              <a:ln w="414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 txBox="1"/>
              <p:nvPr/>
            </p:nvSpPr>
            <p:spPr>
              <a:xfrm rot="10800000">
                <a:off x="505800" y="880560"/>
                <a:ext cx="262548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93" name="WordArt 5"/>
            <p:cNvSpPr txBox="1"/>
            <p:nvPr/>
          </p:nvSpPr>
          <p:spPr>
            <a:xfrm>
              <a:off x="971280" y="304920"/>
              <a:ext cx="20890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展现你的身手</a:t>
              </a:r>
              <a:endParaRPr b="1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194" name="Rectangle 6"/>
          <p:cNvSpPr/>
          <p:nvPr/>
        </p:nvSpPr>
        <p:spPr>
          <a:xfrm>
            <a:off x="396720" y="907920"/>
            <a:ext cx="83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华文新魏"/>
                <a:ea typeface="华文新魏"/>
              </a:rPr>
              <a:t>问题</a:t>
            </a:r>
            <a:r>
              <a:rPr b="1" lang="en-US" sz="2400" spc="-1" strike="noStrike">
                <a:solidFill>
                  <a:srgbClr val="990000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990000"/>
                </a:solidFill>
                <a:latin typeface="华文新魏"/>
                <a:ea typeface="华文新魏"/>
              </a:rPr>
              <a:t>：</a:t>
            </a:r>
            <a:r>
              <a:rPr b="1" lang="zh-CN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某工厂一种产品现在的年产量是</a:t>
            </a:r>
            <a:r>
              <a:rPr b="1" lang="en-US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20</a:t>
            </a:r>
            <a:r>
              <a:rPr b="1" lang="zh-CN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件，计划今后两年增加产量。如果每年都比上一年的产量增加</a:t>
            </a:r>
            <a:r>
              <a:rPr b="1" lang="en-US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倍，那么两年后这种产品的产量</a:t>
            </a:r>
            <a:r>
              <a:rPr b="1" lang="en-US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y</a:t>
            </a:r>
            <a:r>
              <a:rPr b="1" lang="zh-CN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将随计划所定的</a:t>
            </a:r>
            <a:r>
              <a:rPr b="1" lang="en-US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的值而确定，</a:t>
            </a:r>
            <a:r>
              <a:rPr b="1" lang="en-US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y</a:t>
            </a:r>
            <a:r>
              <a:rPr b="1" lang="zh-CN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与</a:t>
            </a:r>
            <a:r>
              <a:rPr b="1" lang="en-US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之间的关系怎样表示？</a:t>
            </a:r>
            <a:r>
              <a:rPr b="1" lang="zh-CN" sz="1800" spc="-1" strike="noStrike">
                <a:solidFill>
                  <a:srgbClr val="0033cc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24000" y="3429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20(1+x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5724360" y="3500280"/>
            <a:ext cx="24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20(1+x)</a:t>
            </a:r>
            <a:r>
              <a:rPr b="1" i="1" lang="en-US" sz="3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684360" y="4724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8" name="Object 10" descr=""/>
          <p:cNvPicPr/>
          <p:nvPr/>
        </p:nvPicPr>
        <p:blipFill>
          <a:blip r:embed="rId2"/>
          <a:stretch/>
        </p:blipFill>
        <p:spPr>
          <a:xfrm>
            <a:off x="611280" y="5300640"/>
            <a:ext cx="362592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1"/>
          <p:cNvSpPr/>
          <p:nvPr/>
        </p:nvSpPr>
        <p:spPr>
          <a:xfrm>
            <a:off x="468360" y="2997360"/>
            <a:ext cx="8062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种产品的原产量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年后的产量是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再经过一年后的产量是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即两年后的产量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y=__________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2771640" y="40766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(1+x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5651640" y="4365720"/>
            <a:ext cx="33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此式表示了两年后的产量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与计划增产的倍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之间的关系，对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的每一个值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都有唯一的一个对应值，即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的函数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34920" y="449280"/>
            <a:ext cx="3168720" cy="747720"/>
            <a:chOff x="34920" y="449280"/>
            <a:chExt cx="3168720" cy="747720"/>
          </a:xfrm>
        </p:grpSpPr>
        <p:pic>
          <p:nvPicPr>
            <p:cNvPr id="203" name="Picture 3" descr="图片 ncbdfhg"/>
            <p:cNvPicPr/>
            <p:nvPr/>
          </p:nvPicPr>
          <p:blipFill>
            <a:blip r:embed="rId1"/>
            <a:stretch/>
          </p:blipFill>
          <p:spPr>
            <a:xfrm>
              <a:off x="34920" y="449280"/>
              <a:ext cx="115416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" name=""/>
            <p:cNvGrpSpPr/>
            <p:nvPr/>
          </p:nvGrpSpPr>
          <p:grpSpPr>
            <a:xfrm>
              <a:off x="577800" y="1025280"/>
              <a:ext cx="2625840" cy="27000"/>
              <a:chOff x="577800" y="1025280"/>
              <a:chExt cx="2625840" cy="27000"/>
            </a:xfrm>
          </p:grpSpPr>
          <p:sp>
            <p:nvSpPr>
              <p:cNvPr id="205" name="Line 4"/>
              <p:cNvSpPr/>
              <p:nvPr/>
            </p:nvSpPr>
            <p:spPr>
              <a:xfrm flipV="1">
                <a:off x="577800" y="1025280"/>
                <a:ext cx="2625840" cy="27000"/>
              </a:xfrm>
              <a:prstGeom prst="line">
                <a:avLst/>
              </a:prstGeom>
              <a:ln w="414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 rot="10800000">
                <a:off x="577800" y="1024920"/>
                <a:ext cx="262584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07" name="WordArt 5"/>
            <p:cNvSpPr txBox="1"/>
            <p:nvPr/>
          </p:nvSpPr>
          <p:spPr>
            <a:xfrm>
              <a:off x="1042920" y="449280"/>
              <a:ext cx="20894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提炼你的发现</a:t>
              </a:r>
              <a:endParaRPr b="1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208" name="AutoShape 6"/>
          <p:cNvSpPr/>
          <p:nvPr/>
        </p:nvSpPr>
        <p:spPr>
          <a:xfrm>
            <a:off x="5076720" y="1701720"/>
            <a:ext cx="3672000" cy="1727280"/>
          </a:xfrm>
          <a:prstGeom prst="cloudCallout">
            <a:avLst>
              <a:gd name="adj1" fmla="val -43861"/>
              <a:gd name="adj2" fmla="val 649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函数都是用自变量的二次整式表示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395280" y="479736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般地，形如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y=ax²+bx+c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(a,b,c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是常数，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a≠ 0)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函数叫做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二次函数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其中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为二次项系数，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为一次项系数，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为常数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898560" y="11955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式子①②③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有什么共同点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042920" y="205884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y=6x</a:t>
            </a:r>
            <a:r>
              <a:rPr b="1" i="1" lang="en-US" sz="3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2" name="Object 10" descr=""/>
          <p:cNvPicPr/>
          <p:nvPr/>
        </p:nvPicPr>
        <p:blipFill>
          <a:blip r:embed="rId2"/>
          <a:stretch/>
        </p:blipFill>
        <p:spPr>
          <a:xfrm>
            <a:off x="1116000" y="2924280"/>
            <a:ext cx="2952720" cy="882720"/>
          </a:xfrm>
          <a:prstGeom prst="rect">
            <a:avLst/>
          </a:prstGeom>
          <a:ln w="0">
            <a:noFill/>
          </a:ln>
        </p:spPr>
      </p:pic>
      <p:pic>
        <p:nvPicPr>
          <p:cNvPr id="213" name="Object 11" descr=""/>
          <p:cNvPicPr/>
          <p:nvPr/>
        </p:nvPicPr>
        <p:blipFill>
          <a:blip r:embed="rId3"/>
          <a:stretch/>
        </p:blipFill>
        <p:spPr>
          <a:xfrm>
            <a:off x="1187280" y="3860640"/>
            <a:ext cx="4176720" cy="828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2"/>
          <p:cNvSpPr/>
          <p:nvPr/>
        </p:nvSpPr>
        <p:spPr>
          <a:xfrm>
            <a:off x="7451640" y="4797360"/>
            <a:ext cx="9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5" name="Object 13" descr=""/>
          <p:cNvPicPr/>
          <p:nvPr/>
        </p:nvPicPr>
        <p:blipFill>
          <a:blip r:embed="rId4"/>
          <a:stretch/>
        </p:blipFill>
        <p:spPr>
          <a:xfrm>
            <a:off x="2705040" y="2139840"/>
            <a:ext cx="2392560" cy="820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77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770" fill="hold"/>
                                        <p:tgtEl>
                                          <p:spTgt spid="2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95280" y="1052640"/>
            <a:ext cx="829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定义：一般地，形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y=ax²+bx+c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a,b,c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是常数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,a≠ 0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的函数叫做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的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二次函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84360" y="270828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等号左边是变量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右边是关于自变量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84360" y="47973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等式的右边最高次数为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可以没有一次项和常数项，但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不能没有二次项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468360" y="231624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注意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84360" y="39337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,b,c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为常数，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84360" y="6093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取值范围是                       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568880" y="3160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整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5347080" y="3860640"/>
            <a:ext cx="11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≠0.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6013080" y="47545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4437720" y="6027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任意实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07:16:49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39:07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