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10.wmf" ContentType="image/x-wmf"/>
  <Override PartName="/ppt/media/image47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9.wmf" ContentType="image/x-wmf"/>
  <Override PartName="/ppt/media/image39.wmf" ContentType="image/x-wmf"/>
  <Override PartName="/ppt/media/image14.png" ContentType="image/png"/>
  <Override PartName="/ppt/media/image16.wmf" ContentType="image/x-wmf"/>
  <Override PartName="/ppt/media/image12.wmf" ContentType="image/x-wmf"/>
  <Override PartName="/ppt/media/image55.png" ContentType="image/png"/>
  <Override PartName="/ppt/media/image8.wmf" ContentType="image/x-wmf"/>
  <Override PartName="/ppt/media/image1.png" ContentType="image/png"/>
  <Override PartName="/ppt/media/image13.png" ContentType="image/png"/>
  <Override PartName="/ppt/media/image33.wmf" ContentType="image/x-wmf"/>
  <Override PartName="/ppt/media/image3.wmf" ContentType="image/x-wmf"/>
  <Override PartName="/ppt/media/image58.wmf" ContentType="image/x-wmf"/>
  <Override PartName="/ppt/media/type.wav" ContentType="audio/x-wav"/>
  <Override PartName="/ppt/media/image27.wmf" ContentType="image/x-wmf"/>
  <Override PartName="/ppt/media/image24.wmf" ContentType="image/x-wmf"/>
  <Override PartName="/ppt/media/image31.wmf" ContentType="image/x-wmf"/>
  <Override PartName="/ppt/media/image19.jpeg" ContentType="image/jpe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26.wmf" ContentType="image/x-wmf"/>
  <Override PartName="/ppt/media/image25.wmf" ContentType="image/x-wmf"/>
  <Override PartName="/ppt/media/chimes.wav" ContentType="audio/x-wav"/>
  <Override PartName="/ppt/media/image17.jpeg" ContentType="image/jpeg"/>
  <Override PartName="/ppt/media/image45.wmf" ContentType="image/x-wmf"/>
  <Override PartName="/ppt/media/image50.png" ContentType="image/png"/>
  <Override PartName="/ppt/media/image28.wmf" ContentType="image/x-wmf"/>
  <Override PartName="/ppt/media/image30.wmf" ContentType="image/x-wmf"/>
  <Override PartName="/ppt/media/image38.wmf" ContentType="image/x-wmf"/>
  <Override PartName="/ppt/media/image32.jpeg" ContentType="image/jpeg"/>
  <Override PartName="/ppt/media/image34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5.gif" ContentType="image/gif"/>
  <Override PartName="/ppt/media/image42.wmf" ContentType="image/x-wmf"/>
  <Override PartName="/ppt/media/image6.gif" ContentType="image/gif"/>
  <Override PartName="/ppt/media/image43.wmf" ContentType="image/x-wmf"/>
  <Override PartName="/ppt/media/image53.jpeg" ContentType="image/jpeg"/>
  <Override PartName="/ppt/media/image23.png" ContentType="image/png"/>
  <Override PartName="/ppt/media/image44.png" ContentType="image/png"/>
  <Override PartName="/ppt/media/image46.wmf" ContentType="image/x-wmf"/>
  <Override PartName="/ppt/media/image48.png" ContentType="image/png"/>
  <Override PartName="/ppt/media/image29.png" ContentType="image/png"/>
  <Override PartName="/ppt/media/image51.wmf" ContentType="image/x-wmf"/>
  <Override PartName="/ppt/media/image49.png" ContentType="image/png"/>
  <Override PartName="/ppt/media/image52.wmf" ContentType="image/x-wmf"/>
  <Override PartName="/ppt/media/image11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CFE-46DC-485B-8760-ACF9B1B7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FDB-0DC0-48A3-B4E2-9ED7710C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384-559A-4FA4-BCC0-99376A26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3F1-DE7D-44AF-83E6-D98BAC0D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CFC-059E-4F70-90DF-66EC6F39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261-52C9-4C7F-A726-AA5FC8EE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0FF-D563-4FF0-A4A9-2BE98702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47A-9F3D-4744-A91C-8D79DFE4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C97-147B-41FB-BA52-88CF3B63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C2B-66E1-45D8-B6F1-CE593A6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F01-5230-4EED-8715-29275286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57C-0F7B-4ED2-8B92-E7C4465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A395-C917-46D2-ACB1-C17F654D23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54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541440" y="1197000"/>
            <a:ext cx="80596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二次函数与一元二次方程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1371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20.5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962520" y="1371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2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676520" y="1981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.1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600200" y="25909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因为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)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×4.1 &lt;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，所以方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无实根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球的飞行高度达不到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0.5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5"/>
          <p:cNvSpPr/>
          <p:nvPr/>
        </p:nvSpPr>
        <p:spPr>
          <a:xfrm>
            <a:off x="2209680" y="4038480"/>
            <a:ext cx="4724640" cy="140184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1523880" y="5486400"/>
            <a:ext cx="558036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4952880" y="4495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 flipV="1">
            <a:off x="52578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52578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457200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1905120" y="4952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332000" y="46080"/>
            <a:ext cx="767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以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0 m /s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速度将小球沿与地面成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°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角的方向击出时，球的飞行路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是一条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抛物线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如果不考虑空气阻力，球的飞行高度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(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m)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飞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时间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(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s)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之间具有关系：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=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考虑下列问题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.5 m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8200"/>
          <p:cNvSpPr/>
          <p:nvPr/>
        </p:nvSpPr>
        <p:spPr>
          <a:xfrm>
            <a:off x="1332000" y="6099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0" y="3505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86200" y="3505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676520" y="40370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60680" y="4572000"/>
            <a:ext cx="34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0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523880" y="5181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当球飞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它的高度为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m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，即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s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球从地面飞出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球落回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>
            <a:off x="2133720" y="990720"/>
            <a:ext cx="4724280" cy="140148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447920" y="243828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2209680" y="2438280"/>
            <a:ext cx="4648320" cy="0"/>
          </a:xfrm>
          <a:prstGeom prst="line">
            <a:avLst/>
          </a:prstGeom>
          <a:ln w="763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198108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6629400" y="2438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7010280" y="2057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2514600" y="190512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6095880" y="1523880"/>
            <a:ext cx="685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1752480" y="1981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2249280" y="-25560"/>
            <a:ext cx="520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以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0 m /s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速度将小球沿与地面成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°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角的方向击出时，球的飞行路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是一条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抛物线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如果不考虑空气阻力，球的飞行高度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(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m)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飞行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间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(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s)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之间具有关系：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=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考虑下列问题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从飞出到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落地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要用多少时间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539640" y="1413000"/>
            <a:ext cx="770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上面发现，二次函数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+bx+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何时为一元二次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26920" y="2637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般地，当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取定值时，二次函数为一元二次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39640" y="4221000"/>
            <a:ext cx="7993080" cy="1511640"/>
          </a:xfrm>
          <a:prstGeom prst="cloudCallout">
            <a:avLst>
              <a:gd name="adj1" fmla="val -19513"/>
              <a:gd name="adj2" fmla="val -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如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y=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时，则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=a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+bx+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就是一个一元二次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1281240" y="260280"/>
            <a:ext cx="23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自由讨论</a:t>
            </a:r>
            <a:endParaRPr b="1" lang="en-US" sz="40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4643280" y="404640"/>
            <a:ext cx="4321080" cy="1674720"/>
            <a:chOff x="4643280" y="404640"/>
            <a:chExt cx="4321080" cy="1674720"/>
          </a:xfrm>
        </p:grpSpPr>
        <p:sp>
          <p:nvSpPr>
            <p:cNvPr id="154" name="Freeform 8"/>
            <p:cNvSpPr/>
            <p:nvPr/>
          </p:nvSpPr>
          <p:spPr>
            <a:xfrm>
              <a:off x="4643280" y="1349640"/>
              <a:ext cx="531720" cy="729720"/>
            </a:xfrm>
            <a:custGeom>
              <a:avLst/>
              <a:gdLst/>
              <a:ahLst/>
              <a:rect l="l" t="t" r="r" b="b"/>
              <a:pathLst>
                <a:path w="335" h="420">
                  <a:moveTo>
                    <a:pt x="245" y="23"/>
                  </a:moveTo>
                  <a:cubicBezTo>
                    <a:pt x="178" y="27"/>
                    <a:pt x="88" y="0"/>
                    <a:pt x="47" y="52"/>
                  </a:cubicBezTo>
                  <a:cubicBezTo>
                    <a:pt x="34" y="68"/>
                    <a:pt x="28" y="89"/>
                    <a:pt x="19" y="108"/>
                  </a:cubicBezTo>
                  <a:cubicBezTo>
                    <a:pt x="11" y="126"/>
                    <a:pt x="0" y="165"/>
                    <a:pt x="0" y="165"/>
                  </a:cubicBezTo>
                  <a:cubicBezTo>
                    <a:pt x="3" y="215"/>
                    <a:pt x="4" y="266"/>
                    <a:pt x="9" y="316"/>
                  </a:cubicBezTo>
                  <a:cubicBezTo>
                    <a:pt x="10" y="326"/>
                    <a:pt x="12" y="337"/>
                    <a:pt x="19" y="344"/>
                  </a:cubicBezTo>
                  <a:cubicBezTo>
                    <a:pt x="34" y="359"/>
                    <a:pt x="58" y="361"/>
                    <a:pt x="75" y="373"/>
                  </a:cubicBezTo>
                  <a:cubicBezTo>
                    <a:pt x="144" y="370"/>
                    <a:pt x="243" y="420"/>
                    <a:pt x="283" y="363"/>
                  </a:cubicBezTo>
                  <a:cubicBezTo>
                    <a:pt x="335" y="288"/>
                    <a:pt x="280" y="180"/>
                    <a:pt x="274" y="89"/>
                  </a:cubicBezTo>
                  <a:cubicBezTo>
                    <a:pt x="273" y="70"/>
                    <a:pt x="259" y="37"/>
                    <a:pt x="245" y="23"/>
                  </a:cubicBezTo>
                  <a:close/>
                </a:path>
              </a:pathLst>
            </a:custGeom>
            <a:noFill/>
            <a:ln w="3492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9"/>
            <p:cNvSpPr/>
            <p:nvPr/>
          </p:nvSpPr>
          <p:spPr>
            <a:xfrm>
              <a:off x="5003640" y="404640"/>
              <a:ext cx="3960720" cy="945000"/>
            </a:xfrm>
            <a:prstGeom prst="cloudCallout">
              <a:avLst>
                <a:gd name="adj1" fmla="val -48879"/>
                <a:gd name="adj2" fmla="val 6507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 baseline="30000">
                  <a:solidFill>
                    <a:srgbClr val="ff0000"/>
                  </a:solidFill>
                  <a:latin typeface="Arial"/>
                </a:rPr>
                <a:t>为一个常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 baseline="30000">
                  <a:solidFill>
                    <a:srgbClr val="ff0000"/>
                  </a:solidFill>
                  <a:latin typeface="Arial"/>
                </a:rPr>
                <a:t>（定值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图片1"/>
          <p:cNvPicPr/>
          <p:nvPr/>
        </p:nvPicPr>
        <p:blipFill>
          <a:blip r:embed="rId2"/>
          <a:stretch/>
        </p:blipFill>
        <p:spPr>
          <a:xfrm>
            <a:off x="385920" y="189000"/>
            <a:ext cx="8820000" cy="162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24000" y="184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二次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=-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+4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自变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95280" y="292428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就是求方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3=-X</a:t>
            </a:r>
            <a:r>
              <a:rPr b="1" lang="zh-CN" sz="3200" spc="-1" strike="noStrike" baseline="30000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+4x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解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39640" y="357336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方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4x+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95280" y="4149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就是已知二次函数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y=X</a:t>
            </a:r>
            <a:r>
              <a:rPr b="1" lang="zh-CN" sz="3200" spc="-1" strike="noStrike" baseline="30000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-4x+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值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0,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求自变量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值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1835280" y="1989000"/>
            <a:ext cx="579096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已知二次函数，求自变量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95640" y="2565360"/>
            <a:ext cx="457200" cy="18288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771640" y="4437000"/>
            <a:ext cx="434340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一元二次方程的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1447920" y="914400"/>
            <a:ext cx="5898600" cy="969840"/>
            <a:chOff x="1447920" y="914400"/>
            <a:chExt cx="5898600" cy="969840"/>
          </a:xfrm>
        </p:grpSpPr>
        <p:sp>
          <p:nvSpPr>
            <p:cNvPr id="165" name="AutoShape 8"/>
            <p:cNvSpPr/>
            <p:nvPr/>
          </p:nvSpPr>
          <p:spPr>
            <a:xfrm>
              <a:off x="1784160" y="1752480"/>
              <a:ext cx="5562360" cy="131760"/>
            </a:xfrm>
            <a:custGeom>
              <a:avLst/>
              <a:gdLst/>
              <a:ahLst/>
              <a:rect l="l" t="t" r="r" b="b"/>
              <a:pathLst>
                <a:path w="42217" h="1000">
                  <a:moveTo>
                    <a:pt x="0" y="0"/>
                  </a:moveTo>
                  <a:lnTo>
                    <a:pt x="-23819" y="0"/>
                  </a:lnTo>
                  <a:cubicBezTo>
                    <a:pt x="-23543" y="0"/>
                    <a:pt x="-23319" y="223"/>
                    <a:pt x="-23319" y="500"/>
                  </a:cubicBezTo>
                  <a:cubicBezTo>
                    <a:pt x="-23319" y="776"/>
                    <a:pt x="-23543" y="1000"/>
                    <a:pt x="-23819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9"/>
            <p:cNvGrpSpPr/>
            <p:nvPr/>
          </p:nvGrpSpPr>
          <p:grpSpPr>
            <a:xfrm>
              <a:off x="1447920" y="914400"/>
              <a:ext cx="662760" cy="969840"/>
              <a:chOff x="1447920" y="914400"/>
              <a:chExt cx="662760" cy="969840"/>
            </a:xfrm>
          </p:grpSpPr>
          <p:grpSp>
            <p:nvGrpSpPr>
              <p:cNvPr id="167" name="Group 10"/>
              <p:cNvGrpSpPr/>
              <p:nvPr/>
            </p:nvGrpSpPr>
            <p:grpSpPr>
              <a:xfrm>
                <a:off x="1492560" y="1018080"/>
                <a:ext cx="618120" cy="866160"/>
                <a:chOff x="1492560" y="1018080"/>
                <a:chExt cx="618120" cy="866160"/>
              </a:xfrm>
            </p:grpSpPr>
            <p:sp>
              <p:nvSpPr>
                <p:cNvPr id="168" name="Oval 11"/>
                <p:cNvSpPr/>
                <p:nvPr/>
              </p:nvSpPr>
              <p:spPr>
                <a:xfrm>
                  <a:off x="1527840" y="1018080"/>
                  <a:ext cx="53280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189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12"/>
                <p:cNvGrpSpPr/>
                <p:nvPr/>
              </p:nvGrpSpPr>
              <p:grpSpPr>
                <a:xfrm>
                  <a:off x="1492560" y="1133280"/>
                  <a:ext cx="618120" cy="750960"/>
                  <a:chOff x="1492560" y="1133280"/>
                  <a:chExt cx="618120" cy="750960"/>
                </a:xfrm>
              </p:grpSpPr>
              <p:sp>
                <p:nvSpPr>
                  <p:cNvPr id="170" name="Freeform 13"/>
                  <p:cNvSpPr/>
                  <p:nvPr/>
                </p:nvSpPr>
                <p:spPr>
                  <a:xfrm>
                    <a:off x="1492560" y="1324800"/>
                    <a:ext cx="4698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14"/>
                  <p:cNvSpPr/>
                  <p:nvPr/>
                </p:nvSpPr>
                <p:spPr>
                  <a:xfrm>
                    <a:off x="1492560" y="1258920"/>
                    <a:ext cx="4698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15"/>
                  <p:cNvSpPr/>
                  <p:nvPr/>
                </p:nvSpPr>
                <p:spPr>
                  <a:xfrm>
                    <a:off x="1535040" y="1373760"/>
                    <a:ext cx="3700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6"/>
                  <p:cNvSpPr/>
                  <p:nvPr/>
                </p:nvSpPr>
                <p:spPr>
                  <a:xfrm>
                    <a:off x="1692000" y="148716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7"/>
                  <p:cNvSpPr/>
                  <p:nvPr/>
                </p:nvSpPr>
                <p:spPr>
                  <a:xfrm>
                    <a:off x="1678680" y="1661040"/>
                    <a:ext cx="81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18"/>
                  <p:cNvSpPr/>
                  <p:nvPr/>
                </p:nvSpPr>
                <p:spPr>
                  <a:xfrm>
                    <a:off x="1558080" y="165348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19"/>
                  <p:cNvSpPr/>
                  <p:nvPr/>
                </p:nvSpPr>
                <p:spPr>
                  <a:xfrm>
                    <a:off x="1879560" y="150300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20"/>
                  <p:cNvSpPr/>
                  <p:nvPr/>
                </p:nvSpPr>
                <p:spPr>
                  <a:xfrm>
                    <a:off x="1839600" y="1133280"/>
                    <a:ext cx="2710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21"/>
                  <p:cNvSpPr/>
                  <p:nvPr/>
                </p:nvSpPr>
                <p:spPr>
                  <a:xfrm>
                    <a:off x="1859400" y="116784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Group 22"/>
              <p:cNvGrpSpPr/>
              <p:nvPr/>
            </p:nvGrpSpPr>
            <p:grpSpPr>
              <a:xfrm>
                <a:off x="1447920" y="914400"/>
                <a:ext cx="311400" cy="276840"/>
                <a:chOff x="1447920" y="914400"/>
                <a:chExt cx="311400" cy="276840"/>
              </a:xfrm>
            </p:grpSpPr>
            <p:sp>
              <p:nvSpPr>
                <p:cNvPr id="180" name="Freeform 23"/>
                <p:cNvSpPr/>
                <p:nvPr/>
              </p:nvSpPr>
              <p:spPr>
                <a:xfrm>
                  <a:off x="1447920" y="1029600"/>
                  <a:ext cx="18072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24"/>
                <p:cNvSpPr/>
                <p:nvPr/>
              </p:nvSpPr>
              <p:spPr>
                <a:xfrm>
                  <a:off x="1538280" y="914400"/>
                  <a:ext cx="15048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25"/>
                <p:cNvSpPr/>
                <p:nvPr/>
              </p:nvSpPr>
              <p:spPr>
                <a:xfrm>
                  <a:off x="1668960" y="94896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Rectangle 26"/>
          <p:cNvSpPr/>
          <p:nvPr/>
        </p:nvSpPr>
        <p:spPr>
          <a:xfrm>
            <a:off x="2268360" y="765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次函数与一元二次方程的关系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7"/>
          <p:cNvSpPr/>
          <p:nvPr/>
        </p:nvSpPr>
        <p:spPr>
          <a:xfrm>
            <a:off x="4932360" y="2565360"/>
            <a:ext cx="457200" cy="1752480"/>
          </a:xfrm>
          <a:prstGeom prst="upArrow">
            <a:avLst>
              <a:gd name="adj1" fmla="val 50000"/>
              <a:gd name="adj2" fmla="val 95809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250920" y="620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二次函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x-2 , y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6x +9 , y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x+ 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图象如图所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WordArt 22" descr=""/>
          <p:cNvPicPr/>
          <p:nvPr/>
        </p:nvPicPr>
        <p:blipFill>
          <a:blip r:embed="rId2"/>
          <a:stretch/>
        </p:blipFill>
        <p:spPr>
          <a:xfrm>
            <a:off x="0" y="-7920"/>
            <a:ext cx="1536840" cy="866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2"/>
          <p:cNvSpPr/>
          <p:nvPr/>
        </p:nvSpPr>
        <p:spPr>
          <a:xfrm>
            <a:off x="324000" y="3573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1)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每个图象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轴有几个交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2)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元二次方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 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+x-2=0 , 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 6x +9=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几个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验证一下一元二次方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– x+ 1 =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根吗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3)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二次函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y=a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+bx+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图象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轴交点的坐标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元二次方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+bx+c=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根有什么关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3" descr=""/>
          <p:cNvPicPr/>
          <p:nvPr/>
        </p:nvPicPr>
        <p:blipFill>
          <a:blip r:embed="rId3"/>
          <a:stretch/>
        </p:blipFill>
        <p:spPr>
          <a:xfrm>
            <a:off x="250920" y="1916280"/>
            <a:ext cx="2466720" cy="158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" descr=""/>
          <p:cNvPicPr/>
          <p:nvPr/>
        </p:nvPicPr>
        <p:blipFill>
          <a:blip r:embed="rId4"/>
          <a:stretch/>
        </p:blipFill>
        <p:spPr>
          <a:xfrm>
            <a:off x="6372360" y="1557360"/>
            <a:ext cx="2520720" cy="1727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5" descr=""/>
          <p:cNvPicPr/>
          <p:nvPr/>
        </p:nvPicPr>
        <p:blipFill>
          <a:blip r:embed="rId5"/>
          <a:stretch/>
        </p:blipFill>
        <p:spPr>
          <a:xfrm>
            <a:off x="3708360" y="1700280"/>
            <a:ext cx="2087640" cy="1728720"/>
          </a:xfrm>
          <a:prstGeom prst="rect">
            <a:avLst/>
          </a:prstGeom>
          <a:ln w="0">
            <a:noFill/>
          </a:ln>
        </p:spPr>
      </p:pic>
      <p:pic>
        <p:nvPicPr>
          <p:cNvPr id="191" name="Object 8" descr=""/>
          <p:cNvPicPr/>
          <p:nvPr/>
        </p:nvPicPr>
        <p:blipFill>
          <a:blip r:embed="rId6"/>
          <a:stretch/>
        </p:blipFill>
        <p:spPr>
          <a:xfrm>
            <a:off x="1476360" y="1400040"/>
            <a:ext cx="2016000" cy="58752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9" descr=""/>
          <p:cNvPicPr/>
          <p:nvPr/>
        </p:nvPicPr>
        <p:blipFill>
          <a:blip r:embed="rId7"/>
          <a:stretch/>
        </p:blipFill>
        <p:spPr>
          <a:xfrm>
            <a:off x="4572000" y="1270080"/>
            <a:ext cx="1779480" cy="479520"/>
          </a:xfrm>
          <a:prstGeom prst="rect">
            <a:avLst/>
          </a:prstGeom>
          <a:ln w="0">
            <a:noFill/>
          </a:ln>
        </p:spPr>
      </p:pic>
      <p:pic>
        <p:nvPicPr>
          <p:cNvPr id="193" name="Object 10" descr=""/>
          <p:cNvPicPr/>
          <p:nvPr/>
        </p:nvPicPr>
        <p:blipFill>
          <a:blip r:embed="rId8"/>
          <a:stretch/>
        </p:blipFill>
        <p:spPr>
          <a:xfrm>
            <a:off x="7451640" y="1125360"/>
            <a:ext cx="1428840" cy="503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9"/>
          <p:cNvSpPr/>
          <p:nvPr/>
        </p:nvSpPr>
        <p:spPr>
          <a:xfrm>
            <a:off x="5364000" y="3645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答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Object 12" descr=""/>
          <p:cNvPicPr/>
          <p:nvPr/>
        </p:nvPicPr>
        <p:blipFill>
          <a:blip r:embed="rId9"/>
          <a:stretch/>
        </p:blipFill>
        <p:spPr>
          <a:xfrm>
            <a:off x="971640" y="4869000"/>
            <a:ext cx="5832360" cy="576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1"/>
          <p:cNvSpPr/>
          <p:nvPr/>
        </p:nvSpPr>
        <p:spPr>
          <a:xfrm>
            <a:off x="1547640" y="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边观察边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3" descr=""/>
          <p:cNvPicPr/>
          <p:nvPr/>
        </p:nvPicPr>
        <p:blipFill>
          <a:blip r:embed="rId10"/>
          <a:stretch/>
        </p:blipFill>
        <p:spPr>
          <a:xfrm>
            <a:off x="1403280" y="2565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5" descr=""/>
          <p:cNvPicPr/>
          <p:nvPr/>
        </p:nvPicPr>
        <p:blipFill>
          <a:blip r:embed="rId11"/>
          <a:stretch/>
        </p:blipFill>
        <p:spPr>
          <a:xfrm>
            <a:off x="4716360" y="2637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6" descr=""/>
          <p:cNvPicPr/>
          <p:nvPr/>
        </p:nvPicPr>
        <p:blipFill>
          <a:blip r:embed="rId12"/>
          <a:stretch/>
        </p:blipFill>
        <p:spPr>
          <a:xfrm>
            <a:off x="395280" y="25653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2466720" cy="1584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3"/>
          <a:stretch/>
        </p:blipFill>
        <p:spPr>
          <a:xfrm>
            <a:off x="6622920" y="1916280"/>
            <a:ext cx="25210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4"/>
          <a:stretch/>
        </p:blipFill>
        <p:spPr>
          <a:xfrm>
            <a:off x="4284720" y="1916280"/>
            <a:ext cx="2087640" cy="172872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5" descr=""/>
          <p:cNvPicPr/>
          <p:nvPr/>
        </p:nvPicPr>
        <p:blipFill>
          <a:blip r:embed="rId5"/>
          <a:stretch/>
        </p:blipFill>
        <p:spPr>
          <a:xfrm>
            <a:off x="1231920" y="1413000"/>
            <a:ext cx="1971720" cy="57456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6" descr=""/>
          <p:cNvPicPr/>
          <p:nvPr/>
        </p:nvPicPr>
        <p:blipFill>
          <a:blip r:embed="rId6"/>
          <a:stretch/>
        </p:blipFill>
        <p:spPr>
          <a:xfrm>
            <a:off x="4500720" y="1336680"/>
            <a:ext cx="1798560" cy="48564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7" descr=""/>
          <p:cNvPicPr/>
          <p:nvPr/>
        </p:nvPicPr>
        <p:blipFill>
          <a:blip r:embed="rId7"/>
          <a:stretch/>
        </p:blipFill>
        <p:spPr>
          <a:xfrm>
            <a:off x="7237440" y="1285920"/>
            <a:ext cx="1582560" cy="55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8"/>
          <a:stretch/>
        </p:blipFill>
        <p:spPr>
          <a:xfrm>
            <a:off x="2987640" y="2924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"/>
          <p:cNvPicPr/>
          <p:nvPr/>
        </p:nvPicPr>
        <p:blipFill>
          <a:blip r:embed="rId9"/>
          <a:stretch/>
        </p:blipFill>
        <p:spPr>
          <a:xfrm>
            <a:off x="5364000" y="2924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"/>
          <p:cNvPicPr/>
          <p:nvPr/>
        </p:nvPicPr>
        <p:blipFill>
          <a:blip r:embed="rId10"/>
          <a:stretch/>
        </p:blipFill>
        <p:spPr>
          <a:xfrm>
            <a:off x="1979640" y="292428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9"/>
          <p:cNvSpPr/>
          <p:nvPr/>
        </p:nvSpPr>
        <p:spPr>
          <a:xfrm>
            <a:off x="250920" y="18900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3)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二次函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y=ax</a:t>
            </a:r>
            <a:r>
              <a:rPr b="1" lang="en-U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+bx+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图象和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轴交点的坐标与 一元二次方程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x</a:t>
            </a:r>
            <a:r>
              <a:rPr b="1" lang="en-U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+bx+c=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根有什么关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9280" y="3933720"/>
          <a:ext cx="8964720" cy="2030400"/>
        </p:xfrm>
        <a:graphic>
          <a:graphicData uri="http://schemas.openxmlformats.org/drawingml/2006/table">
            <a:tbl>
              <a:tblPr/>
              <a:tblGrid>
                <a:gridCol w="2239920"/>
                <a:gridCol w="2243160"/>
                <a:gridCol w="2241720"/>
                <a:gridCol w="223992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二次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与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轴交点坐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相应方程的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Object 34" descr=""/>
          <p:cNvPicPr/>
          <p:nvPr/>
        </p:nvPicPr>
        <p:blipFill>
          <a:blip r:embed="rId11"/>
          <a:stretch/>
        </p:blipFill>
        <p:spPr>
          <a:xfrm>
            <a:off x="2340000" y="4005360"/>
            <a:ext cx="2232000" cy="65088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35" descr=""/>
          <p:cNvPicPr/>
          <p:nvPr/>
        </p:nvPicPr>
        <p:blipFill>
          <a:blip r:embed="rId12"/>
          <a:stretch/>
        </p:blipFill>
        <p:spPr>
          <a:xfrm>
            <a:off x="4643280" y="4005360"/>
            <a:ext cx="2087640" cy="56340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36" descr=""/>
          <p:cNvPicPr/>
          <p:nvPr/>
        </p:nvPicPr>
        <p:blipFill>
          <a:blip r:embed="rId13"/>
          <a:stretch/>
        </p:blipFill>
        <p:spPr>
          <a:xfrm>
            <a:off x="7164360" y="4005360"/>
            <a:ext cx="1728720" cy="609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2"/>
          <p:cNvSpPr/>
          <p:nvPr/>
        </p:nvSpPr>
        <p:spPr>
          <a:xfrm>
            <a:off x="2484360" y="4724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0),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3"/>
          <p:cNvSpPr/>
          <p:nvPr/>
        </p:nvSpPr>
        <p:spPr>
          <a:xfrm>
            <a:off x="2411280" y="537372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4"/>
          <p:cNvSpPr/>
          <p:nvPr/>
        </p:nvSpPr>
        <p:spPr>
          <a:xfrm>
            <a:off x="4716360" y="472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5"/>
          <p:cNvSpPr/>
          <p:nvPr/>
        </p:nvSpPr>
        <p:spPr>
          <a:xfrm>
            <a:off x="4716360" y="544500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7"/>
          <p:cNvSpPr/>
          <p:nvPr/>
        </p:nvSpPr>
        <p:spPr>
          <a:xfrm>
            <a:off x="7020000" y="479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8"/>
          <p:cNvSpPr/>
          <p:nvPr/>
        </p:nvSpPr>
        <p:spPr>
          <a:xfrm>
            <a:off x="7020000" y="5445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实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3"/>
          <p:cNvSpPr/>
          <p:nvPr/>
        </p:nvSpPr>
        <p:spPr>
          <a:xfrm>
            <a:off x="565200" y="197496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抛物线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y=ax</a:t>
            </a:r>
            <a:r>
              <a:rPr b="1" lang="en-US" sz="4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+bx+c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轴交点的横坐标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是方程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x</a:t>
            </a:r>
            <a:r>
              <a:rPr b="1" lang="en-US" sz="4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+bx+c =0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根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16"/>
          <p:cNvSpPr txBox="1"/>
          <p:nvPr/>
        </p:nvSpPr>
        <p:spPr>
          <a:xfrm>
            <a:off x="324000" y="476280"/>
            <a:ext cx="2663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归纳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9640" y="4076640"/>
            <a:ext cx="86407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元二次方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两个根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抛物线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的交点坐标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0),(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219320" y="1676520"/>
            <a:ext cx="7010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下列二次函数的图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与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轴有交点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有，求出交点坐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＋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–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3048120" y="380880"/>
            <a:ext cx="2895480" cy="1219320"/>
            <a:chOff x="3048120" y="380880"/>
            <a:chExt cx="2895480" cy="1219320"/>
          </a:xfrm>
        </p:grpSpPr>
        <p:sp>
          <p:nvSpPr>
            <p:cNvPr id="225" name="AutoShape 4"/>
            <p:cNvSpPr/>
            <p:nvPr/>
          </p:nvSpPr>
          <p:spPr>
            <a:xfrm>
              <a:off x="3657600" y="685800"/>
              <a:ext cx="2286000" cy="76176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"/>
            <p:cNvSpPr/>
            <p:nvPr/>
          </p:nvSpPr>
          <p:spPr>
            <a:xfrm>
              <a:off x="4114800" y="685800"/>
              <a:ext cx="167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6" descr="png-0048"/>
            <p:cNvPicPr/>
            <p:nvPr/>
          </p:nvPicPr>
          <p:blipFill>
            <a:blip r:embed="rId2"/>
            <a:stretch/>
          </p:blipFill>
          <p:spPr>
            <a:xfrm>
              <a:off x="3048120" y="38088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14"/>
          <p:cNvGrpSpPr/>
          <p:nvPr/>
        </p:nvGrpSpPr>
        <p:grpSpPr>
          <a:xfrm>
            <a:off x="4572000" y="2590920"/>
            <a:ext cx="3886200" cy="3657600"/>
            <a:chOff x="4572000" y="2590920"/>
            <a:chExt cx="3886200" cy="3657600"/>
          </a:xfrm>
        </p:grpSpPr>
        <p:grpSp>
          <p:nvGrpSpPr>
            <p:cNvPr id="229" name="Group 11"/>
            <p:cNvGrpSpPr/>
            <p:nvPr/>
          </p:nvGrpSpPr>
          <p:grpSpPr>
            <a:xfrm>
              <a:off x="4572000" y="2590920"/>
              <a:ext cx="3886200" cy="3657600"/>
              <a:chOff x="4572000" y="2590920"/>
              <a:chExt cx="3886200" cy="3657600"/>
            </a:xfrm>
          </p:grpSpPr>
          <p:sp>
            <p:nvSpPr>
              <p:cNvPr id="230" name="Line 7"/>
              <p:cNvSpPr/>
              <p:nvPr/>
            </p:nvSpPr>
            <p:spPr>
              <a:xfrm>
                <a:off x="4572000" y="48769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8"/>
              <p:cNvSpPr/>
              <p:nvPr/>
            </p:nvSpPr>
            <p:spPr>
              <a:xfrm flipV="1">
                <a:off x="6248520" y="3124440"/>
                <a:ext cx="0" cy="312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9"/>
              <p:cNvSpPr/>
              <p:nvPr/>
            </p:nvSpPr>
            <p:spPr>
              <a:xfrm>
                <a:off x="7650000" y="48769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0"/>
              <p:cNvSpPr/>
              <p:nvPr/>
            </p:nvSpPr>
            <p:spPr>
              <a:xfrm>
                <a:off x="6019920" y="25909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2"/>
            <p:cNvSpPr/>
            <p:nvPr/>
          </p:nvSpPr>
          <p:spPr>
            <a:xfrm>
              <a:off x="5943600" y="472464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15"/>
          <p:cNvSpPr/>
          <p:nvPr/>
        </p:nvSpPr>
        <p:spPr>
          <a:xfrm>
            <a:off x="533520" y="5334120"/>
            <a:ext cx="533376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令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y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解一元二次方程的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124080" y="1447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＋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682720" y="2209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5410080" y="2209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3962520" y="2819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4267080" y="350532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  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5"/>
          <p:cNvGrpSpPr/>
          <p:nvPr/>
        </p:nvGrpSpPr>
        <p:grpSpPr>
          <a:xfrm>
            <a:off x="4952880" y="3276720"/>
            <a:ext cx="1219320" cy="1053720"/>
            <a:chOff x="4952880" y="3276720"/>
            <a:chExt cx="1219320" cy="1053720"/>
          </a:xfrm>
        </p:grpSpPr>
        <p:sp>
          <p:nvSpPr>
            <p:cNvPr id="242" name="Line 11"/>
            <p:cNvSpPr/>
            <p:nvPr/>
          </p:nvSpPr>
          <p:spPr>
            <a:xfrm>
              <a:off x="5410080" y="3809880"/>
              <a:ext cx="533520" cy="0"/>
            </a:xfrm>
            <a:prstGeom prst="line">
              <a:avLst/>
            </a:prstGeom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2"/>
            <p:cNvSpPr/>
            <p:nvPr/>
          </p:nvSpPr>
          <p:spPr>
            <a:xfrm>
              <a:off x="4952880" y="3504960"/>
              <a:ext cx="93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5486400" y="3276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5486400" y="3809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18"/>
          <p:cNvSpPr/>
          <p:nvPr/>
        </p:nvSpPr>
        <p:spPr>
          <a:xfrm>
            <a:off x="3352680" y="4267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所以与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有交点，有两个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9"/>
          <p:cNvGrpSpPr/>
          <p:nvPr/>
        </p:nvGrpSpPr>
        <p:grpSpPr>
          <a:xfrm>
            <a:off x="228600" y="1676520"/>
            <a:ext cx="3886200" cy="3657600"/>
            <a:chOff x="228600" y="1676520"/>
            <a:chExt cx="3886200" cy="3657600"/>
          </a:xfrm>
        </p:grpSpPr>
        <p:grpSp>
          <p:nvGrpSpPr>
            <p:cNvPr id="248" name="Group 20"/>
            <p:cNvGrpSpPr/>
            <p:nvPr/>
          </p:nvGrpSpPr>
          <p:grpSpPr>
            <a:xfrm>
              <a:off x="228600" y="1676520"/>
              <a:ext cx="3886200" cy="3657600"/>
              <a:chOff x="228600" y="1676520"/>
              <a:chExt cx="3886200" cy="3657600"/>
            </a:xfrm>
          </p:grpSpPr>
          <p:sp>
            <p:nvSpPr>
              <p:cNvPr id="249" name="Line 21"/>
              <p:cNvSpPr/>
              <p:nvPr/>
            </p:nvSpPr>
            <p:spPr>
              <a:xfrm>
                <a:off x="228600" y="39625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2"/>
              <p:cNvSpPr/>
              <p:nvPr/>
            </p:nvSpPr>
            <p:spPr>
              <a:xfrm flipV="1">
                <a:off x="1905120" y="2210040"/>
                <a:ext cx="0" cy="312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3"/>
              <p:cNvSpPr/>
              <p:nvPr/>
            </p:nvSpPr>
            <p:spPr>
              <a:xfrm>
                <a:off x="3306600" y="39625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4"/>
              <p:cNvSpPr/>
              <p:nvPr/>
            </p:nvSpPr>
            <p:spPr>
              <a:xfrm>
                <a:off x="1676520" y="1676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5"/>
            <p:cNvSpPr/>
            <p:nvPr/>
          </p:nvSpPr>
          <p:spPr>
            <a:xfrm>
              <a:off x="1600200" y="381024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6"/>
          <p:cNvGrpSpPr/>
          <p:nvPr/>
        </p:nvGrpSpPr>
        <p:grpSpPr>
          <a:xfrm>
            <a:off x="1066680" y="2514600"/>
            <a:ext cx="1295640" cy="2502000"/>
            <a:chOff x="1066680" y="2514600"/>
            <a:chExt cx="1295640" cy="2502000"/>
          </a:xfrm>
        </p:grpSpPr>
        <p:sp>
          <p:nvSpPr>
            <p:cNvPr id="255" name="Freeform 27"/>
            <p:cNvSpPr/>
            <p:nvPr/>
          </p:nvSpPr>
          <p:spPr>
            <a:xfrm>
              <a:off x="1714680" y="2565720"/>
              <a:ext cx="647640" cy="245052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0" y="2722"/>
                  </a:moveTo>
                  <a:cubicBezTo>
                    <a:pt x="151" y="2684"/>
                    <a:pt x="303" y="2646"/>
                    <a:pt x="454" y="2495"/>
                  </a:cubicBezTo>
                  <a:cubicBezTo>
                    <a:pt x="605" y="2344"/>
                    <a:pt x="756" y="2117"/>
                    <a:pt x="907" y="1815"/>
                  </a:cubicBezTo>
                  <a:cubicBezTo>
                    <a:pt x="1058" y="1513"/>
                    <a:pt x="1248" y="984"/>
                    <a:pt x="1361" y="681"/>
                  </a:cubicBezTo>
                  <a:cubicBezTo>
                    <a:pt x="1474" y="378"/>
                    <a:pt x="1550" y="114"/>
                    <a:pt x="15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1066680" y="2514600"/>
              <a:ext cx="648000" cy="250200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1588" y="2722"/>
                  </a:moveTo>
                  <a:cubicBezTo>
                    <a:pt x="1436" y="2684"/>
                    <a:pt x="1285" y="2646"/>
                    <a:pt x="1134" y="2495"/>
                  </a:cubicBezTo>
                  <a:cubicBezTo>
                    <a:pt x="983" y="2344"/>
                    <a:pt x="832" y="2117"/>
                    <a:pt x="681" y="1815"/>
                  </a:cubicBezTo>
                  <a:cubicBezTo>
                    <a:pt x="530" y="1513"/>
                    <a:pt x="340" y="984"/>
                    <a:pt x="227" y="681"/>
                  </a:cubicBezTo>
                  <a:cubicBezTo>
                    <a:pt x="114" y="378"/>
                    <a:pt x="38" y="11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9"/>
          <p:cNvGrpSpPr/>
          <p:nvPr/>
        </p:nvGrpSpPr>
        <p:grpSpPr>
          <a:xfrm>
            <a:off x="2743200" y="5105520"/>
            <a:ext cx="4037760" cy="1295280"/>
            <a:chOff x="2743200" y="5105520"/>
            <a:chExt cx="4037760" cy="1295280"/>
          </a:xfrm>
        </p:grpSpPr>
        <p:sp>
          <p:nvSpPr>
            <p:cNvPr id="258" name="Rectangle 30"/>
            <p:cNvSpPr/>
            <p:nvPr/>
          </p:nvSpPr>
          <p:spPr>
            <a:xfrm>
              <a:off x="2743200" y="5105520"/>
              <a:ext cx="4037760" cy="1295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1"/>
            <p:cNvSpPr/>
            <p:nvPr/>
          </p:nvSpPr>
          <p:spPr>
            <a:xfrm>
              <a:off x="4608000" y="5154840"/>
              <a:ext cx="242640" cy="5472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32"/>
          <p:cNvSpPr/>
          <p:nvPr/>
        </p:nvSpPr>
        <p:spPr>
          <a:xfrm>
            <a:off x="2819520" y="5791320"/>
            <a:ext cx="464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3352680" y="5257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交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2362320" y="228600"/>
            <a:ext cx="4571640" cy="887040"/>
            <a:chOff x="2362320" y="228600"/>
            <a:chExt cx="4571640" cy="887040"/>
          </a:xfrm>
        </p:grpSpPr>
        <p:sp>
          <p:nvSpPr>
            <p:cNvPr id="45" name="Text Box 5"/>
            <p:cNvSpPr/>
            <p:nvPr/>
          </p:nvSpPr>
          <p:spPr>
            <a:xfrm>
              <a:off x="2362320" y="228600"/>
              <a:ext cx="4419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回顾旧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2819520" y="1066680"/>
              <a:ext cx="3646440" cy="223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 rot="3418800">
              <a:off x="6345360" y="51228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Object 6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3657600" cy="855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1981080" y="213372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二次函数的一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5720040" y="2971800"/>
            <a:ext cx="14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1905120" y="4191120"/>
            <a:ext cx="62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______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是自变量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____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是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____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的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362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502920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60199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/>
          <p:cNvSpPr/>
          <p:nvPr/>
        </p:nvSpPr>
        <p:spPr>
          <a:xfrm>
            <a:off x="1523880" y="5181480"/>
            <a:ext cx="5791320" cy="1371600"/>
          </a:xfrm>
          <a:prstGeom prst="cloudCallout">
            <a:avLst>
              <a:gd name="adj1" fmla="val 10583"/>
              <a:gd name="adj2" fmla="val -70486"/>
            </a:avLst>
          </a:prstGeom>
          <a:solidFill>
            <a:srgbClr val="ccffff"/>
          </a:solidFill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3048120" y="58672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x² + bx + c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3368520" y="1752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2987640" y="2514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7150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+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5730840" y="3124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5807160" y="3809880"/>
            <a:ext cx="32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374976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所以与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有一个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7102440" y="3505320"/>
            <a:ext cx="1219320" cy="1053720"/>
            <a:chOff x="7102440" y="3505320"/>
            <a:chExt cx="1219320" cy="1053720"/>
          </a:xfrm>
        </p:grpSpPr>
        <p:sp>
          <p:nvSpPr>
            <p:cNvPr id="269" name="Line 17"/>
            <p:cNvSpPr/>
            <p:nvPr/>
          </p:nvSpPr>
          <p:spPr>
            <a:xfrm>
              <a:off x="7559640" y="4038480"/>
              <a:ext cx="533520" cy="0"/>
            </a:xfrm>
            <a:prstGeom prst="line">
              <a:avLst/>
            </a:prstGeom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7102440" y="3733560"/>
              <a:ext cx="930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>
              <a:off x="7635960" y="35053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>
              <a:off x="7635960" y="4038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1"/>
          <p:cNvGrpSpPr/>
          <p:nvPr/>
        </p:nvGrpSpPr>
        <p:grpSpPr>
          <a:xfrm>
            <a:off x="228600" y="1676520"/>
            <a:ext cx="3886200" cy="3657600"/>
            <a:chOff x="228600" y="1676520"/>
            <a:chExt cx="3886200" cy="3657600"/>
          </a:xfrm>
        </p:grpSpPr>
        <p:grpSp>
          <p:nvGrpSpPr>
            <p:cNvPr id="274" name="Group 22"/>
            <p:cNvGrpSpPr/>
            <p:nvPr/>
          </p:nvGrpSpPr>
          <p:grpSpPr>
            <a:xfrm>
              <a:off x="228600" y="1676520"/>
              <a:ext cx="3886200" cy="3657600"/>
              <a:chOff x="228600" y="1676520"/>
              <a:chExt cx="3886200" cy="3657600"/>
            </a:xfrm>
          </p:grpSpPr>
          <p:sp>
            <p:nvSpPr>
              <p:cNvPr id="275" name="Line 23"/>
              <p:cNvSpPr/>
              <p:nvPr/>
            </p:nvSpPr>
            <p:spPr>
              <a:xfrm>
                <a:off x="228600" y="39625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24"/>
              <p:cNvSpPr/>
              <p:nvPr/>
            </p:nvSpPr>
            <p:spPr>
              <a:xfrm flipV="1">
                <a:off x="1905120" y="2210040"/>
                <a:ext cx="0" cy="312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5"/>
              <p:cNvSpPr/>
              <p:nvPr/>
            </p:nvSpPr>
            <p:spPr>
              <a:xfrm>
                <a:off x="3306600" y="39625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1676520" y="1676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 Box 27"/>
            <p:cNvSpPr/>
            <p:nvPr/>
          </p:nvSpPr>
          <p:spPr>
            <a:xfrm>
              <a:off x="1600200" y="381024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1447920" y="1447920"/>
            <a:ext cx="1600200" cy="2501640"/>
            <a:chOff x="1447920" y="1447920"/>
            <a:chExt cx="1600200" cy="2501640"/>
          </a:xfrm>
        </p:grpSpPr>
        <p:sp>
          <p:nvSpPr>
            <p:cNvPr id="281" name="Freeform 29"/>
            <p:cNvSpPr/>
            <p:nvPr/>
          </p:nvSpPr>
          <p:spPr>
            <a:xfrm>
              <a:off x="2248200" y="1499040"/>
              <a:ext cx="799920" cy="245016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0" y="2722"/>
                  </a:moveTo>
                  <a:cubicBezTo>
                    <a:pt x="151" y="2684"/>
                    <a:pt x="303" y="2646"/>
                    <a:pt x="454" y="2495"/>
                  </a:cubicBezTo>
                  <a:cubicBezTo>
                    <a:pt x="605" y="2344"/>
                    <a:pt x="756" y="2117"/>
                    <a:pt x="907" y="1815"/>
                  </a:cubicBezTo>
                  <a:cubicBezTo>
                    <a:pt x="1058" y="1513"/>
                    <a:pt x="1248" y="984"/>
                    <a:pt x="1361" y="681"/>
                  </a:cubicBezTo>
                  <a:cubicBezTo>
                    <a:pt x="1474" y="378"/>
                    <a:pt x="1550" y="114"/>
                    <a:pt x="15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0"/>
            <p:cNvSpPr/>
            <p:nvPr/>
          </p:nvSpPr>
          <p:spPr>
            <a:xfrm>
              <a:off x="1447920" y="1447920"/>
              <a:ext cx="800280" cy="250164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1588" y="2722"/>
                  </a:moveTo>
                  <a:cubicBezTo>
                    <a:pt x="1436" y="2684"/>
                    <a:pt x="1285" y="2646"/>
                    <a:pt x="1134" y="2495"/>
                  </a:cubicBezTo>
                  <a:cubicBezTo>
                    <a:pt x="983" y="2344"/>
                    <a:pt x="832" y="2117"/>
                    <a:pt x="681" y="1815"/>
                  </a:cubicBezTo>
                  <a:cubicBezTo>
                    <a:pt x="530" y="1513"/>
                    <a:pt x="340" y="984"/>
                    <a:pt x="227" y="681"/>
                  </a:cubicBezTo>
                  <a:cubicBezTo>
                    <a:pt x="114" y="378"/>
                    <a:pt x="38" y="11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3505320" y="17524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–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971800" y="2514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7150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+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3733920" y="4038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所以与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没有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0"/>
          <p:cNvGrpSpPr/>
          <p:nvPr/>
        </p:nvGrpSpPr>
        <p:grpSpPr>
          <a:xfrm>
            <a:off x="0" y="1676520"/>
            <a:ext cx="3886200" cy="3657600"/>
            <a:chOff x="0" y="1676520"/>
            <a:chExt cx="3886200" cy="3657600"/>
          </a:xfrm>
        </p:grpSpPr>
        <p:grpSp>
          <p:nvGrpSpPr>
            <p:cNvPr id="288" name="Group 11"/>
            <p:cNvGrpSpPr/>
            <p:nvPr/>
          </p:nvGrpSpPr>
          <p:grpSpPr>
            <a:xfrm>
              <a:off x="0" y="1676520"/>
              <a:ext cx="3886200" cy="3657600"/>
              <a:chOff x="0" y="1676520"/>
              <a:chExt cx="3886200" cy="3657600"/>
            </a:xfrm>
          </p:grpSpPr>
          <p:sp>
            <p:nvSpPr>
              <p:cNvPr id="289" name="Line 12"/>
              <p:cNvSpPr/>
              <p:nvPr/>
            </p:nvSpPr>
            <p:spPr>
              <a:xfrm>
                <a:off x="0" y="39625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3"/>
              <p:cNvSpPr/>
              <p:nvPr/>
            </p:nvSpPr>
            <p:spPr>
              <a:xfrm flipV="1">
                <a:off x="1676520" y="2210040"/>
                <a:ext cx="0" cy="312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4"/>
              <p:cNvSpPr/>
              <p:nvPr/>
            </p:nvSpPr>
            <p:spPr>
              <a:xfrm>
                <a:off x="3078000" y="39625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5"/>
              <p:cNvSpPr/>
              <p:nvPr/>
            </p:nvSpPr>
            <p:spPr>
              <a:xfrm>
                <a:off x="1447920" y="1676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16"/>
            <p:cNvSpPr/>
            <p:nvPr/>
          </p:nvSpPr>
          <p:spPr>
            <a:xfrm>
              <a:off x="1371600" y="381024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7"/>
          <p:cNvGrpSpPr/>
          <p:nvPr/>
        </p:nvGrpSpPr>
        <p:grpSpPr>
          <a:xfrm>
            <a:off x="1066680" y="1828800"/>
            <a:ext cx="2133720" cy="1892160"/>
            <a:chOff x="1066680" y="1828800"/>
            <a:chExt cx="2133720" cy="1892160"/>
          </a:xfrm>
        </p:grpSpPr>
        <p:sp>
          <p:nvSpPr>
            <p:cNvPr id="295" name="Freeform 18"/>
            <p:cNvSpPr/>
            <p:nvPr/>
          </p:nvSpPr>
          <p:spPr>
            <a:xfrm>
              <a:off x="2133720" y="1867320"/>
              <a:ext cx="1066680" cy="185328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0" y="2722"/>
                  </a:moveTo>
                  <a:cubicBezTo>
                    <a:pt x="151" y="2684"/>
                    <a:pt x="303" y="2646"/>
                    <a:pt x="454" y="2495"/>
                  </a:cubicBezTo>
                  <a:cubicBezTo>
                    <a:pt x="605" y="2344"/>
                    <a:pt x="756" y="2117"/>
                    <a:pt x="907" y="1815"/>
                  </a:cubicBezTo>
                  <a:cubicBezTo>
                    <a:pt x="1058" y="1513"/>
                    <a:pt x="1248" y="984"/>
                    <a:pt x="1361" y="681"/>
                  </a:cubicBezTo>
                  <a:cubicBezTo>
                    <a:pt x="1474" y="378"/>
                    <a:pt x="1550" y="114"/>
                    <a:pt x="15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1066680" y="1828800"/>
              <a:ext cx="1067040" cy="189216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1588" y="2722"/>
                  </a:moveTo>
                  <a:cubicBezTo>
                    <a:pt x="1436" y="2684"/>
                    <a:pt x="1285" y="2646"/>
                    <a:pt x="1134" y="2495"/>
                  </a:cubicBezTo>
                  <a:cubicBezTo>
                    <a:pt x="983" y="2344"/>
                    <a:pt x="832" y="2117"/>
                    <a:pt x="681" y="1815"/>
                  </a:cubicBezTo>
                  <a:cubicBezTo>
                    <a:pt x="530" y="1513"/>
                    <a:pt x="340" y="984"/>
                    <a:pt x="227" y="681"/>
                  </a:cubicBezTo>
                  <a:cubicBezTo>
                    <a:pt x="114" y="378"/>
                    <a:pt x="38" y="11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20"/>
          <p:cNvSpPr/>
          <p:nvPr/>
        </p:nvSpPr>
        <p:spPr>
          <a:xfrm>
            <a:off x="3809880" y="32767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因为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-1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×1×1 =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3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523880" y="2286000"/>
            <a:ext cx="708660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确定二次函数图象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轴的位置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2743200" y="4876920"/>
            <a:ext cx="434340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一元二次方程的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"/>
          <p:cNvGrpSpPr/>
          <p:nvPr/>
        </p:nvGrpSpPr>
        <p:grpSpPr>
          <a:xfrm>
            <a:off x="1447920" y="914400"/>
            <a:ext cx="5898600" cy="969840"/>
            <a:chOff x="1447920" y="914400"/>
            <a:chExt cx="5898600" cy="969840"/>
          </a:xfrm>
        </p:grpSpPr>
        <p:sp>
          <p:nvSpPr>
            <p:cNvPr id="301" name="AutoShape 6"/>
            <p:cNvSpPr/>
            <p:nvPr/>
          </p:nvSpPr>
          <p:spPr>
            <a:xfrm>
              <a:off x="1784160" y="1752480"/>
              <a:ext cx="5562360" cy="131760"/>
            </a:xfrm>
            <a:custGeom>
              <a:avLst/>
              <a:gdLst/>
              <a:ahLst/>
              <a:rect l="l" t="t" r="r" b="b"/>
              <a:pathLst>
                <a:path w="42217" h="1000">
                  <a:moveTo>
                    <a:pt x="0" y="0"/>
                  </a:moveTo>
                  <a:lnTo>
                    <a:pt x="-23819" y="0"/>
                  </a:lnTo>
                  <a:cubicBezTo>
                    <a:pt x="-23543" y="0"/>
                    <a:pt x="-23319" y="223"/>
                    <a:pt x="-23319" y="500"/>
                  </a:cubicBezTo>
                  <a:cubicBezTo>
                    <a:pt x="-23319" y="776"/>
                    <a:pt x="-23543" y="1000"/>
                    <a:pt x="-23819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7"/>
            <p:cNvGrpSpPr/>
            <p:nvPr/>
          </p:nvGrpSpPr>
          <p:grpSpPr>
            <a:xfrm>
              <a:off x="1447920" y="914400"/>
              <a:ext cx="662760" cy="969840"/>
              <a:chOff x="1447920" y="914400"/>
              <a:chExt cx="662760" cy="969840"/>
            </a:xfrm>
          </p:grpSpPr>
          <p:grpSp>
            <p:nvGrpSpPr>
              <p:cNvPr id="303" name="Group 8"/>
              <p:cNvGrpSpPr/>
              <p:nvPr/>
            </p:nvGrpSpPr>
            <p:grpSpPr>
              <a:xfrm>
                <a:off x="1492560" y="1018080"/>
                <a:ext cx="618120" cy="866160"/>
                <a:chOff x="1492560" y="1018080"/>
                <a:chExt cx="618120" cy="866160"/>
              </a:xfrm>
            </p:grpSpPr>
            <p:sp>
              <p:nvSpPr>
                <p:cNvPr id="304" name="Oval 9"/>
                <p:cNvSpPr/>
                <p:nvPr/>
              </p:nvSpPr>
              <p:spPr>
                <a:xfrm>
                  <a:off x="1527840" y="1018080"/>
                  <a:ext cx="53280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189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5" name="Group 10"/>
                <p:cNvGrpSpPr/>
                <p:nvPr/>
              </p:nvGrpSpPr>
              <p:grpSpPr>
                <a:xfrm>
                  <a:off x="1492560" y="1133280"/>
                  <a:ext cx="618120" cy="750960"/>
                  <a:chOff x="1492560" y="1133280"/>
                  <a:chExt cx="618120" cy="750960"/>
                </a:xfrm>
              </p:grpSpPr>
              <p:sp>
                <p:nvSpPr>
                  <p:cNvPr id="306" name="Freeform 11"/>
                  <p:cNvSpPr/>
                  <p:nvPr/>
                </p:nvSpPr>
                <p:spPr>
                  <a:xfrm>
                    <a:off x="1492560" y="1324800"/>
                    <a:ext cx="4698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Freeform 12"/>
                  <p:cNvSpPr/>
                  <p:nvPr/>
                </p:nvSpPr>
                <p:spPr>
                  <a:xfrm>
                    <a:off x="1492560" y="1258920"/>
                    <a:ext cx="4698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13"/>
                  <p:cNvSpPr/>
                  <p:nvPr/>
                </p:nvSpPr>
                <p:spPr>
                  <a:xfrm>
                    <a:off x="1535040" y="1373760"/>
                    <a:ext cx="3700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14"/>
                  <p:cNvSpPr/>
                  <p:nvPr/>
                </p:nvSpPr>
                <p:spPr>
                  <a:xfrm>
                    <a:off x="1692000" y="148716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Freeform 15"/>
                  <p:cNvSpPr/>
                  <p:nvPr/>
                </p:nvSpPr>
                <p:spPr>
                  <a:xfrm>
                    <a:off x="1678680" y="1661040"/>
                    <a:ext cx="81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16"/>
                  <p:cNvSpPr/>
                  <p:nvPr/>
                </p:nvSpPr>
                <p:spPr>
                  <a:xfrm>
                    <a:off x="1558080" y="165348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17"/>
                  <p:cNvSpPr/>
                  <p:nvPr/>
                </p:nvSpPr>
                <p:spPr>
                  <a:xfrm>
                    <a:off x="1879560" y="150300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18"/>
                  <p:cNvSpPr/>
                  <p:nvPr/>
                </p:nvSpPr>
                <p:spPr>
                  <a:xfrm>
                    <a:off x="1839600" y="1133280"/>
                    <a:ext cx="27108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19"/>
                  <p:cNvSpPr/>
                  <p:nvPr/>
                </p:nvSpPr>
                <p:spPr>
                  <a:xfrm>
                    <a:off x="1859400" y="116784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Group 20"/>
              <p:cNvGrpSpPr/>
              <p:nvPr/>
            </p:nvGrpSpPr>
            <p:grpSpPr>
              <a:xfrm>
                <a:off x="1447920" y="914400"/>
                <a:ext cx="311400" cy="276840"/>
                <a:chOff x="1447920" y="914400"/>
                <a:chExt cx="311400" cy="276840"/>
              </a:xfrm>
            </p:grpSpPr>
            <p:sp>
              <p:nvSpPr>
                <p:cNvPr id="316" name="Freeform 21"/>
                <p:cNvSpPr/>
                <p:nvPr/>
              </p:nvSpPr>
              <p:spPr>
                <a:xfrm>
                  <a:off x="1447920" y="1029600"/>
                  <a:ext cx="18072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22"/>
                <p:cNvSpPr/>
                <p:nvPr/>
              </p:nvSpPr>
              <p:spPr>
                <a:xfrm>
                  <a:off x="1538280" y="914400"/>
                  <a:ext cx="15048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23"/>
                <p:cNvSpPr/>
                <p:nvPr/>
              </p:nvSpPr>
              <p:spPr>
                <a:xfrm>
                  <a:off x="1668960" y="94896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Rectangle 24"/>
          <p:cNvSpPr/>
          <p:nvPr/>
        </p:nvSpPr>
        <p:spPr>
          <a:xfrm>
            <a:off x="2286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次函数与一元二次方程的关系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4495680" y="2971800"/>
            <a:ext cx="457200" cy="1752480"/>
          </a:xfrm>
          <a:prstGeom prst="upArrow">
            <a:avLst>
              <a:gd name="adj1" fmla="val 50000"/>
              <a:gd name="adj2" fmla="val 95809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9"/>
          <p:cNvSpPr/>
          <p:nvPr/>
        </p:nvSpPr>
        <p:spPr>
          <a:xfrm>
            <a:off x="4952880" y="3200400"/>
            <a:ext cx="4191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两个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一个根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  <a:ea typeface="黑体"/>
              </a:rPr>
              <a:t>（两个相同的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没有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762120" y="3200400"/>
            <a:ext cx="2720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两个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一个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没有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3352680" y="3505320"/>
            <a:ext cx="1584360" cy="217440"/>
          </a:xfrm>
          <a:prstGeom prst="leftRightArrow">
            <a:avLst>
              <a:gd name="adj1" fmla="val 50000"/>
              <a:gd name="adj2" fmla="val 145695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5334120" y="327672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5334120" y="38862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3352680" y="4005360"/>
            <a:ext cx="1584360" cy="217440"/>
          </a:xfrm>
          <a:prstGeom prst="leftRightArrow">
            <a:avLst>
              <a:gd name="adj1" fmla="val 50000"/>
              <a:gd name="adj2" fmla="val 145054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5334120" y="4572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>
            <a:off x="3352680" y="4724280"/>
            <a:ext cx="1584360" cy="217440"/>
          </a:xfrm>
          <a:prstGeom prst="leftRightArrow">
            <a:avLst>
              <a:gd name="adj1" fmla="val 50000"/>
              <a:gd name="adj2" fmla="val 145695"/>
            </a:avLst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1066680" y="1066680"/>
            <a:ext cx="5899320" cy="969840"/>
            <a:chOff x="1066680" y="1066680"/>
            <a:chExt cx="5899320" cy="969840"/>
          </a:xfrm>
        </p:grpSpPr>
        <p:sp>
          <p:nvSpPr>
            <p:cNvPr id="330" name="AutoShape 15"/>
            <p:cNvSpPr/>
            <p:nvPr/>
          </p:nvSpPr>
          <p:spPr>
            <a:xfrm>
              <a:off x="1403280" y="1904760"/>
              <a:ext cx="5562720" cy="131760"/>
            </a:xfrm>
            <a:custGeom>
              <a:avLst/>
              <a:gdLst/>
              <a:ahLst/>
              <a:rect l="l" t="t" r="r" b="b"/>
              <a:pathLst>
                <a:path w="42217" h="1000">
                  <a:moveTo>
                    <a:pt x="0" y="0"/>
                  </a:moveTo>
                  <a:lnTo>
                    <a:pt x="-23819" y="0"/>
                  </a:lnTo>
                  <a:cubicBezTo>
                    <a:pt x="-23543" y="0"/>
                    <a:pt x="-23319" y="223"/>
                    <a:pt x="-23319" y="500"/>
                  </a:cubicBezTo>
                  <a:cubicBezTo>
                    <a:pt x="-23319" y="776"/>
                    <a:pt x="-23543" y="1000"/>
                    <a:pt x="-23819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16"/>
            <p:cNvGrpSpPr/>
            <p:nvPr/>
          </p:nvGrpSpPr>
          <p:grpSpPr>
            <a:xfrm>
              <a:off x="1066680" y="1066680"/>
              <a:ext cx="663480" cy="969840"/>
              <a:chOff x="1066680" y="1066680"/>
              <a:chExt cx="663480" cy="969840"/>
            </a:xfrm>
          </p:grpSpPr>
          <p:grpSp>
            <p:nvGrpSpPr>
              <p:cNvPr id="332" name="Group 17"/>
              <p:cNvGrpSpPr/>
              <p:nvPr/>
            </p:nvGrpSpPr>
            <p:grpSpPr>
              <a:xfrm>
                <a:off x="1111680" y="1170360"/>
                <a:ext cx="618480" cy="866160"/>
                <a:chOff x="1111680" y="1170360"/>
                <a:chExt cx="618480" cy="866160"/>
              </a:xfrm>
            </p:grpSpPr>
            <p:sp>
              <p:nvSpPr>
                <p:cNvPr id="333" name="Oval 18"/>
                <p:cNvSpPr/>
                <p:nvPr/>
              </p:nvSpPr>
              <p:spPr>
                <a:xfrm>
                  <a:off x="1146960" y="117036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189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4" name="Group 19"/>
                <p:cNvGrpSpPr/>
                <p:nvPr/>
              </p:nvGrpSpPr>
              <p:grpSpPr>
                <a:xfrm>
                  <a:off x="1111680" y="1285560"/>
                  <a:ext cx="618480" cy="750960"/>
                  <a:chOff x="1111680" y="1285560"/>
                  <a:chExt cx="618480" cy="750960"/>
                </a:xfrm>
              </p:grpSpPr>
              <p:sp>
                <p:nvSpPr>
                  <p:cNvPr id="335" name="Freeform 20"/>
                  <p:cNvSpPr/>
                  <p:nvPr/>
                </p:nvSpPr>
                <p:spPr>
                  <a:xfrm>
                    <a:off x="1111680" y="147708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Freeform 21"/>
                  <p:cNvSpPr/>
                  <p:nvPr/>
                </p:nvSpPr>
                <p:spPr>
                  <a:xfrm>
                    <a:off x="1111680" y="141120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Freeform 22"/>
                  <p:cNvSpPr/>
                  <p:nvPr/>
                </p:nvSpPr>
                <p:spPr>
                  <a:xfrm>
                    <a:off x="1154160" y="1526040"/>
                    <a:ext cx="37044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23"/>
                  <p:cNvSpPr/>
                  <p:nvPr/>
                </p:nvSpPr>
                <p:spPr>
                  <a:xfrm>
                    <a:off x="1311120" y="163944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24"/>
                  <p:cNvSpPr/>
                  <p:nvPr/>
                </p:nvSpPr>
                <p:spPr>
                  <a:xfrm>
                    <a:off x="1297800" y="181332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Freeform 25"/>
                  <p:cNvSpPr/>
                  <p:nvPr/>
                </p:nvSpPr>
                <p:spPr>
                  <a:xfrm>
                    <a:off x="1177200" y="180576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26"/>
                  <p:cNvSpPr/>
                  <p:nvPr/>
                </p:nvSpPr>
                <p:spPr>
                  <a:xfrm>
                    <a:off x="1499040" y="165528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27"/>
                  <p:cNvSpPr/>
                  <p:nvPr/>
                </p:nvSpPr>
                <p:spPr>
                  <a:xfrm>
                    <a:off x="1458720" y="128556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28"/>
                  <p:cNvSpPr/>
                  <p:nvPr/>
                </p:nvSpPr>
                <p:spPr>
                  <a:xfrm>
                    <a:off x="1478880" y="132012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4" name="Group 29"/>
              <p:cNvGrpSpPr/>
              <p:nvPr/>
            </p:nvGrpSpPr>
            <p:grpSpPr>
              <a:xfrm>
                <a:off x="1066680" y="1066680"/>
                <a:ext cx="311760" cy="276840"/>
                <a:chOff x="1066680" y="1066680"/>
                <a:chExt cx="311760" cy="276840"/>
              </a:xfrm>
            </p:grpSpPr>
            <p:sp>
              <p:nvSpPr>
                <p:cNvPr id="345" name="Freeform 30"/>
                <p:cNvSpPr/>
                <p:nvPr/>
              </p:nvSpPr>
              <p:spPr>
                <a:xfrm>
                  <a:off x="1066680" y="118188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1"/>
                <p:cNvSpPr/>
                <p:nvPr/>
              </p:nvSpPr>
              <p:spPr>
                <a:xfrm>
                  <a:off x="1157040" y="106668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2"/>
                <p:cNvSpPr/>
                <p:nvPr/>
              </p:nvSpPr>
              <p:spPr>
                <a:xfrm>
                  <a:off x="1288080" y="110124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8" name="Rectangle 33"/>
          <p:cNvSpPr/>
          <p:nvPr/>
        </p:nvSpPr>
        <p:spPr>
          <a:xfrm>
            <a:off x="1523880" y="9907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次函数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的图象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轴交点的三种情况与一元二次方程根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6"/>
          <p:cNvSpPr/>
          <p:nvPr/>
        </p:nvSpPr>
        <p:spPr>
          <a:xfrm>
            <a:off x="5029200" y="2514600"/>
            <a:ext cx="33526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c =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8"/>
          <p:cNvSpPr/>
          <p:nvPr/>
        </p:nvSpPr>
        <p:spPr>
          <a:xfrm>
            <a:off x="616680" y="2514600"/>
            <a:ext cx="3691080" cy="520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c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的图象与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380880" y="54100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抛物线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有交点，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1"/>
          <p:cNvSpPr/>
          <p:nvPr/>
        </p:nvSpPr>
        <p:spPr>
          <a:xfrm>
            <a:off x="762120" y="5867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≥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0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9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41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Line 2"/>
          <p:cNvSpPr/>
          <p:nvPr/>
        </p:nvSpPr>
        <p:spPr>
          <a:xfrm>
            <a:off x="1049400" y="5472000"/>
            <a:ext cx="590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"/>
          <p:cNvSpPr/>
          <p:nvPr/>
        </p:nvSpPr>
        <p:spPr>
          <a:xfrm flipV="1">
            <a:off x="2273400" y="187164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4"/>
          <p:cNvSpPr/>
          <p:nvPr/>
        </p:nvSpPr>
        <p:spPr>
          <a:xfrm>
            <a:off x="2057400" y="2590920"/>
            <a:ext cx="3311640" cy="338436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5"/>
          <p:cNvSpPr/>
          <p:nvPr/>
        </p:nvSpPr>
        <p:spPr>
          <a:xfrm>
            <a:off x="1986120" y="2087640"/>
            <a:ext cx="3311280" cy="338436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6"/>
          <p:cNvSpPr/>
          <p:nvPr/>
        </p:nvSpPr>
        <p:spPr>
          <a:xfrm>
            <a:off x="1914480" y="1440000"/>
            <a:ext cx="3311640" cy="338436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5246640" y="3176640"/>
            <a:ext cx="1800360" cy="1008000"/>
          </a:xfrm>
          <a:prstGeom prst="wedgeEllipseCallout">
            <a:avLst>
              <a:gd name="adj1" fmla="val -65787"/>
              <a:gd name="adj2" fmla="val 35041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5627520" y="1500120"/>
            <a:ext cx="1676520" cy="838440"/>
          </a:xfrm>
          <a:prstGeom prst="wedgeEllipseCallout">
            <a:avLst>
              <a:gd name="adj1" fmla="val -69601"/>
              <a:gd name="adj2" fmla="val 5340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9"/>
          <p:cNvSpPr/>
          <p:nvPr/>
        </p:nvSpPr>
        <p:spPr>
          <a:xfrm>
            <a:off x="2778120" y="1511280"/>
            <a:ext cx="1943280" cy="903240"/>
          </a:xfrm>
          <a:prstGeom prst="wedgeEllipseCallout">
            <a:avLst>
              <a:gd name="adj1" fmla="val 54250"/>
              <a:gd name="adj2" fmla="val 58962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741320" y="55389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6881760" y="5543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2128680" y="1295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4919040" y="50976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2"/>
          <p:cNvSpPr/>
          <p:nvPr/>
        </p:nvSpPr>
        <p:spPr>
          <a:xfrm>
            <a:off x="1187280" y="3070080"/>
            <a:ext cx="590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"/>
          <p:cNvSpPr/>
          <p:nvPr/>
        </p:nvSpPr>
        <p:spPr>
          <a:xfrm flipV="1">
            <a:off x="2268360" y="98100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"/>
          <p:cNvSpPr/>
          <p:nvPr/>
        </p:nvSpPr>
        <p:spPr>
          <a:xfrm rot="10800000">
            <a:off x="1692360" y="3070080"/>
            <a:ext cx="3311280" cy="338472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5"/>
          <p:cNvSpPr/>
          <p:nvPr/>
        </p:nvSpPr>
        <p:spPr>
          <a:xfrm rot="10980000">
            <a:off x="1835280" y="4436640"/>
            <a:ext cx="3311280" cy="338472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6"/>
          <p:cNvSpPr/>
          <p:nvPr/>
        </p:nvSpPr>
        <p:spPr>
          <a:xfrm rot="10800000">
            <a:off x="1547280" y="1628640"/>
            <a:ext cx="3311640" cy="338472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995640" y="1486080"/>
            <a:ext cx="1800360" cy="1006200"/>
          </a:xfrm>
          <a:prstGeom prst="wedgeEllipseCallout">
            <a:avLst>
              <a:gd name="adj1" fmla="val -65787"/>
              <a:gd name="adj2" fmla="val 35041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4932360" y="4365720"/>
            <a:ext cx="1676520" cy="838080"/>
          </a:xfrm>
          <a:prstGeom prst="wedgeEllipseCallout">
            <a:avLst>
              <a:gd name="adj1" fmla="val -69601"/>
              <a:gd name="adj2" fmla="val 5340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396720" y="4941720"/>
            <a:ext cx="1941840" cy="903600"/>
          </a:xfrm>
          <a:prstGeom prst="wedgeEllipseCallout">
            <a:avLst>
              <a:gd name="adj1" fmla="val 54250"/>
              <a:gd name="adj2" fmla="val 58962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741320" y="55389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6881760" y="5543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2128680" y="1295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4919040" y="50976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1"/>
          <p:cNvGrpSpPr/>
          <p:nvPr/>
        </p:nvGrpSpPr>
        <p:grpSpPr>
          <a:xfrm>
            <a:off x="2286000" y="304920"/>
            <a:ext cx="4571640" cy="887040"/>
            <a:chOff x="2286000" y="304920"/>
            <a:chExt cx="4571640" cy="887040"/>
          </a:xfrm>
        </p:grpSpPr>
        <p:sp>
          <p:nvSpPr>
            <p:cNvPr id="378" name="Text Box 12"/>
            <p:cNvSpPr/>
            <p:nvPr/>
          </p:nvSpPr>
          <p:spPr>
            <a:xfrm>
              <a:off x="2286000" y="304920"/>
              <a:ext cx="4419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课堂小结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"/>
            <p:cNvSpPr/>
            <p:nvPr/>
          </p:nvSpPr>
          <p:spPr>
            <a:xfrm>
              <a:off x="2743200" y="1143000"/>
              <a:ext cx="3646440" cy="223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4"/>
            <p:cNvSpPr/>
            <p:nvPr/>
          </p:nvSpPr>
          <p:spPr>
            <a:xfrm rot="3418800">
              <a:off x="6269040" y="58860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6"/>
          <p:cNvSpPr/>
          <p:nvPr/>
        </p:nvSpPr>
        <p:spPr>
          <a:xfrm>
            <a:off x="1143000" y="1371600"/>
            <a:ext cx="77724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         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二次函数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 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的图象和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x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轴交点的三种情况与一元二次方程根的关系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28600" y="2444760"/>
          <a:ext cx="8915400" cy="4184640"/>
        </p:xfrm>
        <a:graphic>
          <a:graphicData uri="http://schemas.openxmlformats.org/drawingml/2006/table">
            <a:tbl>
              <a:tblPr/>
              <a:tblGrid>
                <a:gridCol w="2895480"/>
                <a:gridCol w="2819520"/>
                <a:gridCol w="320040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二次函数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=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c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的图象和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轴交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一元二次方程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c=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的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一元二次方程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c=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根的判别式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Δ=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b</a:t>
                      </a:r>
                      <a:r>
                        <a:rPr b="1" lang="en-US" sz="2800" spc="-1" strike="noStrike" baseline="30000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-4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Rectangle 39"/>
          <p:cNvSpPr/>
          <p:nvPr/>
        </p:nvSpPr>
        <p:spPr>
          <a:xfrm>
            <a:off x="609480" y="3962520"/>
            <a:ext cx="201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隶书"/>
                <a:ea typeface="黑体"/>
              </a:rPr>
              <a:t>有两个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3352680" y="3809880"/>
            <a:ext cx="2278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黑体"/>
              </a:rPr>
              <a:t>有两个不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2"/>
          <p:cNvSpPr/>
          <p:nvPr/>
        </p:nvSpPr>
        <p:spPr>
          <a:xfrm>
            <a:off x="609480" y="489888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隶书"/>
                <a:ea typeface="黑体"/>
              </a:rPr>
              <a:t>只有一个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3"/>
          <p:cNvSpPr/>
          <p:nvPr/>
        </p:nvSpPr>
        <p:spPr>
          <a:xfrm>
            <a:off x="3200400" y="4800600"/>
            <a:ext cx="23590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黑体"/>
              </a:rPr>
              <a:t>有两个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5"/>
          <p:cNvSpPr/>
          <p:nvPr/>
        </p:nvSpPr>
        <p:spPr>
          <a:xfrm>
            <a:off x="609480" y="5835600"/>
            <a:ext cx="165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隶书"/>
                <a:ea typeface="黑体"/>
              </a:rPr>
              <a:t>没有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6"/>
          <p:cNvSpPr/>
          <p:nvPr/>
        </p:nvSpPr>
        <p:spPr>
          <a:xfrm>
            <a:off x="3352680" y="5943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黑体"/>
              </a:rPr>
              <a:t>没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601992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9"/>
          <p:cNvSpPr/>
          <p:nvPr/>
        </p:nvSpPr>
        <p:spPr>
          <a:xfrm>
            <a:off x="6108840" y="50292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0"/>
          <p:cNvSpPr/>
          <p:nvPr/>
        </p:nvSpPr>
        <p:spPr>
          <a:xfrm>
            <a:off x="6095880" y="5867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304920" y="228600"/>
          <a:ext cx="8686800" cy="63244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1974960"/>
                <a:gridCol w="2368440"/>
              </a:tblGrid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判别式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x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bx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≠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元二次方程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bx+c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≠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的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平面几何--抛物线1"/>
          <p:cNvSpPr/>
          <p:nvPr/>
        </p:nvSpPr>
        <p:spPr>
          <a:xfrm>
            <a:off x="5029200" y="2209680"/>
            <a:ext cx="879480" cy="965160"/>
          </a:xfrm>
          <a:custGeom>
            <a:avLst/>
            <a:gdLst/>
            <a:ahLst/>
            <a:rect l="l" t="t" r="r" b="b"/>
            <a:pathLst>
              <a:path w="1265" h="1998">
                <a:moveTo>
                  <a:pt x="0" y="0"/>
                </a:moveTo>
                <a:cubicBezTo>
                  <a:pt x="5" y="31"/>
                  <a:pt x="10" y="63"/>
                  <a:pt x="15" y="94"/>
                </a:cubicBezTo>
                <a:cubicBezTo>
                  <a:pt x="20" y="124"/>
                  <a:pt x="25" y="155"/>
                  <a:pt x="30" y="185"/>
                </a:cubicBezTo>
                <a:cubicBezTo>
                  <a:pt x="35" y="215"/>
                  <a:pt x="40" y="245"/>
                  <a:pt x="45" y="274"/>
                </a:cubicBezTo>
                <a:cubicBezTo>
                  <a:pt x="50" y="303"/>
                  <a:pt x="55" y="332"/>
                  <a:pt x="60" y="361"/>
                </a:cubicBezTo>
                <a:cubicBezTo>
                  <a:pt x="65" y="390"/>
                  <a:pt x="70" y="418"/>
                  <a:pt x="75" y="446"/>
                </a:cubicBezTo>
                <a:cubicBezTo>
                  <a:pt x="80" y="473"/>
                  <a:pt x="85" y="501"/>
                  <a:pt x="90" y="528"/>
                </a:cubicBezTo>
                <a:cubicBezTo>
                  <a:pt x="95" y="555"/>
                  <a:pt x="100" y="582"/>
                  <a:pt x="105" y="608"/>
                </a:cubicBezTo>
                <a:cubicBezTo>
                  <a:pt x="110" y="635"/>
                  <a:pt x="115" y="661"/>
                  <a:pt x="120" y="686"/>
                </a:cubicBezTo>
                <a:cubicBezTo>
                  <a:pt x="125" y="712"/>
                  <a:pt x="130" y="737"/>
                  <a:pt x="135" y="762"/>
                </a:cubicBezTo>
                <a:cubicBezTo>
                  <a:pt x="140" y="787"/>
                  <a:pt x="145" y="811"/>
                  <a:pt x="150" y="835"/>
                </a:cubicBezTo>
                <a:cubicBezTo>
                  <a:pt x="155" y="859"/>
                  <a:pt x="160" y="883"/>
                  <a:pt x="165" y="907"/>
                </a:cubicBezTo>
                <a:cubicBezTo>
                  <a:pt x="170" y="930"/>
                  <a:pt x="175" y="953"/>
                  <a:pt x="180" y="975"/>
                </a:cubicBezTo>
                <a:cubicBezTo>
                  <a:pt x="185" y="998"/>
                  <a:pt x="190" y="1020"/>
                  <a:pt x="195" y="1042"/>
                </a:cubicBezTo>
                <a:cubicBezTo>
                  <a:pt x="200" y="1064"/>
                  <a:pt x="205" y="1085"/>
                  <a:pt x="210" y="1107"/>
                </a:cubicBezTo>
                <a:cubicBezTo>
                  <a:pt x="215" y="1128"/>
                  <a:pt x="220" y="1148"/>
                  <a:pt x="225" y="1169"/>
                </a:cubicBezTo>
                <a:cubicBezTo>
                  <a:pt x="230" y="1189"/>
                  <a:pt x="235" y="1209"/>
                  <a:pt x="240" y="1229"/>
                </a:cubicBezTo>
                <a:cubicBezTo>
                  <a:pt x="245" y="1248"/>
                  <a:pt x="250" y="1267"/>
                  <a:pt x="255" y="1286"/>
                </a:cubicBezTo>
                <a:cubicBezTo>
                  <a:pt x="260" y="1305"/>
                  <a:pt x="265" y="1324"/>
                  <a:pt x="270" y="1342"/>
                </a:cubicBezTo>
                <a:cubicBezTo>
                  <a:pt x="275" y="1360"/>
                  <a:pt x="280" y="1377"/>
                  <a:pt x="285" y="1395"/>
                </a:cubicBezTo>
                <a:cubicBezTo>
                  <a:pt x="290" y="1412"/>
                  <a:pt x="295" y="1429"/>
                  <a:pt x="300" y="1446"/>
                </a:cubicBezTo>
                <a:cubicBezTo>
                  <a:pt x="305" y="1462"/>
                  <a:pt x="310" y="1479"/>
                  <a:pt x="315" y="1495"/>
                </a:cubicBezTo>
                <a:cubicBezTo>
                  <a:pt x="320" y="1510"/>
                  <a:pt x="325" y="1526"/>
                  <a:pt x="330" y="1541"/>
                </a:cubicBezTo>
                <a:cubicBezTo>
                  <a:pt x="335" y="1556"/>
                  <a:pt x="340" y="1571"/>
                  <a:pt x="345" y="1585"/>
                </a:cubicBezTo>
                <a:cubicBezTo>
                  <a:pt x="350" y="1599"/>
                  <a:pt x="355" y="1613"/>
                  <a:pt x="360" y="1627"/>
                </a:cubicBezTo>
                <a:cubicBezTo>
                  <a:pt x="365" y="1641"/>
                  <a:pt x="370" y="1654"/>
                  <a:pt x="375" y="1667"/>
                </a:cubicBezTo>
                <a:cubicBezTo>
                  <a:pt x="380" y="1679"/>
                  <a:pt x="385" y="1692"/>
                  <a:pt x="390" y="1704"/>
                </a:cubicBezTo>
                <a:cubicBezTo>
                  <a:pt x="395" y="1716"/>
                  <a:pt x="400" y="1728"/>
                  <a:pt x="405" y="1739"/>
                </a:cubicBezTo>
                <a:cubicBezTo>
                  <a:pt x="410" y="1751"/>
                  <a:pt x="415" y="1762"/>
                  <a:pt x="420" y="1772"/>
                </a:cubicBezTo>
                <a:cubicBezTo>
                  <a:pt x="425" y="1783"/>
                  <a:pt x="430" y="1793"/>
                  <a:pt x="435" y="1803"/>
                </a:cubicBezTo>
                <a:cubicBezTo>
                  <a:pt x="440" y="1813"/>
                  <a:pt x="445" y="1822"/>
                  <a:pt x="450" y="1831"/>
                </a:cubicBezTo>
                <a:cubicBezTo>
                  <a:pt x="455" y="1840"/>
                  <a:pt x="460" y="1849"/>
                  <a:pt x="465" y="1858"/>
                </a:cubicBezTo>
                <a:cubicBezTo>
                  <a:pt x="470" y="1866"/>
                  <a:pt x="475" y="1874"/>
                  <a:pt x="480" y="1881"/>
                </a:cubicBezTo>
                <a:cubicBezTo>
                  <a:pt x="485" y="1889"/>
                  <a:pt x="490" y="1896"/>
                  <a:pt x="495" y="1903"/>
                </a:cubicBezTo>
                <a:cubicBezTo>
                  <a:pt x="500" y="1910"/>
                  <a:pt x="505" y="1916"/>
                  <a:pt x="510" y="1923"/>
                </a:cubicBezTo>
                <a:cubicBezTo>
                  <a:pt x="515" y="1929"/>
                  <a:pt x="520" y="1934"/>
                  <a:pt x="525" y="1940"/>
                </a:cubicBezTo>
                <a:cubicBezTo>
                  <a:pt x="530" y="1945"/>
                  <a:pt x="535" y="1950"/>
                  <a:pt x="540" y="1955"/>
                </a:cubicBezTo>
                <a:cubicBezTo>
                  <a:pt x="545" y="1959"/>
                  <a:pt x="550" y="1963"/>
                  <a:pt x="555" y="1967"/>
                </a:cubicBezTo>
                <a:cubicBezTo>
                  <a:pt x="560" y="1971"/>
                  <a:pt x="565" y="1975"/>
                  <a:pt x="570" y="1978"/>
                </a:cubicBezTo>
                <a:cubicBezTo>
                  <a:pt x="575" y="1981"/>
                  <a:pt x="580" y="1983"/>
                  <a:pt x="585" y="1986"/>
                </a:cubicBezTo>
                <a:cubicBezTo>
                  <a:pt x="590" y="1988"/>
                  <a:pt x="595" y="1990"/>
                  <a:pt x="600" y="1992"/>
                </a:cubicBezTo>
                <a:cubicBezTo>
                  <a:pt x="605" y="1993"/>
                  <a:pt x="610" y="1995"/>
                  <a:pt x="615" y="1996"/>
                </a:cubicBezTo>
                <a:cubicBezTo>
                  <a:pt x="620" y="1996"/>
                  <a:pt x="625" y="1997"/>
                  <a:pt x="630" y="1997"/>
                </a:cubicBezTo>
                <a:cubicBezTo>
                  <a:pt x="635" y="1997"/>
                  <a:pt x="640" y="1997"/>
                  <a:pt x="645" y="1996"/>
                </a:cubicBezTo>
                <a:cubicBezTo>
                  <a:pt x="650" y="1995"/>
                  <a:pt x="655" y="1994"/>
                  <a:pt x="660" y="1993"/>
                </a:cubicBezTo>
                <a:cubicBezTo>
                  <a:pt x="665" y="1992"/>
                  <a:pt x="670" y="1990"/>
                  <a:pt x="675" y="1988"/>
                </a:cubicBezTo>
                <a:cubicBezTo>
                  <a:pt x="680" y="1985"/>
                  <a:pt x="685" y="1983"/>
                  <a:pt x="690" y="1980"/>
                </a:cubicBezTo>
                <a:cubicBezTo>
                  <a:pt x="695" y="1977"/>
                  <a:pt x="700" y="1974"/>
                  <a:pt x="705" y="1970"/>
                </a:cubicBezTo>
                <a:cubicBezTo>
                  <a:pt x="710" y="1967"/>
                  <a:pt x="715" y="1963"/>
                  <a:pt x="720" y="1958"/>
                </a:cubicBezTo>
                <a:cubicBezTo>
                  <a:pt x="725" y="1954"/>
                  <a:pt x="730" y="1949"/>
                  <a:pt x="735" y="1944"/>
                </a:cubicBezTo>
                <a:cubicBezTo>
                  <a:pt x="740" y="1939"/>
                  <a:pt x="745" y="1933"/>
                  <a:pt x="750" y="1927"/>
                </a:cubicBezTo>
                <a:cubicBezTo>
                  <a:pt x="755" y="1921"/>
                  <a:pt x="760" y="1915"/>
                  <a:pt x="765" y="1909"/>
                </a:cubicBezTo>
                <a:cubicBezTo>
                  <a:pt x="770" y="1902"/>
                  <a:pt x="775" y="1895"/>
                  <a:pt x="780" y="1887"/>
                </a:cubicBezTo>
                <a:cubicBezTo>
                  <a:pt x="785" y="1880"/>
                  <a:pt x="790" y="1872"/>
                  <a:pt x="795" y="1864"/>
                </a:cubicBezTo>
                <a:cubicBezTo>
                  <a:pt x="800" y="1856"/>
                  <a:pt x="805" y="1847"/>
                  <a:pt x="810" y="1839"/>
                </a:cubicBezTo>
                <a:cubicBezTo>
                  <a:pt x="815" y="1830"/>
                  <a:pt x="820" y="1820"/>
                  <a:pt x="825" y="1811"/>
                </a:cubicBezTo>
                <a:cubicBezTo>
                  <a:pt x="830" y="1801"/>
                  <a:pt x="835" y="1791"/>
                  <a:pt x="840" y="1781"/>
                </a:cubicBezTo>
                <a:cubicBezTo>
                  <a:pt x="845" y="1770"/>
                  <a:pt x="850" y="1759"/>
                  <a:pt x="855" y="1748"/>
                </a:cubicBezTo>
                <a:cubicBezTo>
                  <a:pt x="860" y="1737"/>
                  <a:pt x="865" y="1726"/>
                  <a:pt x="870" y="1714"/>
                </a:cubicBezTo>
                <a:cubicBezTo>
                  <a:pt x="875" y="1702"/>
                  <a:pt x="880" y="1689"/>
                  <a:pt x="885" y="1677"/>
                </a:cubicBezTo>
                <a:cubicBezTo>
                  <a:pt x="890" y="1664"/>
                  <a:pt x="895" y="1651"/>
                  <a:pt x="900" y="1638"/>
                </a:cubicBezTo>
                <a:cubicBezTo>
                  <a:pt x="905" y="1624"/>
                  <a:pt x="910" y="1611"/>
                  <a:pt x="915" y="1597"/>
                </a:cubicBezTo>
                <a:cubicBezTo>
                  <a:pt x="920" y="1582"/>
                  <a:pt x="925" y="1568"/>
                  <a:pt x="930" y="1553"/>
                </a:cubicBezTo>
                <a:cubicBezTo>
                  <a:pt x="935" y="1538"/>
                  <a:pt x="940" y="1523"/>
                  <a:pt x="945" y="1507"/>
                </a:cubicBezTo>
                <a:cubicBezTo>
                  <a:pt x="950" y="1491"/>
                  <a:pt x="955" y="1475"/>
                  <a:pt x="960" y="1459"/>
                </a:cubicBezTo>
                <a:cubicBezTo>
                  <a:pt x="965" y="1443"/>
                  <a:pt x="970" y="1426"/>
                  <a:pt x="975" y="1409"/>
                </a:cubicBezTo>
                <a:cubicBezTo>
                  <a:pt x="980" y="1391"/>
                  <a:pt x="985" y="1374"/>
                  <a:pt x="990" y="1356"/>
                </a:cubicBezTo>
                <a:cubicBezTo>
                  <a:pt x="995" y="1338"/>
                  <a:pt x="1000" y="1320"/>
                  <a:pt x="1005" y="1301"/>
                </a:cubicBezTo>
                <a:cubicBezTo>
                  <a:pt x="1010" y="1283"/>
                  <a:pt x="1015" y="1264"/>
                  <a:pt x="1020" y="1244"/>
                </a:cubicBezTo>
                <a:cubicBezTo>
                  <a:pt x="1025" y="1225"/>
                  <a:pt x="1030" y="1205"/>
                  <a:pt x="1035" y="1185"/>
                </a:cubicBezTo>
                <a:cubicBezTo>
                  <a:pt x="1040" y="1165"/>
                  <a:pt x="1045" y="1144"/>
                  <a:pt x="1050" y="1123"/>
                </a:cubicBezTo>
                <a:cubicBezTo>
                  <a:pt x="1055" y="1102"/>
                  <a:pt x="1060" y="1081"/>
                  <a:pt x="1065" y="1060"/>
                </a:cubicBezTo>
                <a:cubicBezTo>
                  <a:pt x="1070" y="1038"/>
                  <a:pt x="1075" y="1016"/>
                  <a:pt x="1080" y="993"/>
                </a:cubicBezTo>
                <a:cubicBezTo>
                  <a:pt x="1085" y="971"/>
                  <a:pt x="1090" y="948"/>
                  <a:pt x="1095" y="925"/>
                </a:cubicBezTo>
                <a:cubicBezTo>
                  <a:pt x="1100" y="902"/>
                  <a:pt x="1105" y="878"/>
                  <a:pt x="1110" y="855"/>
                </a:cubicBezTo>
                <a:cubicBezTo>
                  <a:pt x="1115" y="831"/>
                  <a:pt x="1120" y="806"/>
                  <a:pt x="1125" y="782"/>
                </a:cubicBezTo>
                <a:cubicBezTo>
                  <a:pt x="1130" y="757"/>
                  <a:pt x="1135" y="732"/>
                  <a:pt x="1140" y="707"/>
                </a:cubicBezTo>
                <a:cubicBezTo>
                  <a:pt x="1145" y="681"/>
                  <a:pt x="1150" y="655"/>
                  <a:pt x="1155" y="629"/>
                </a:cubicBezTo>
                <a:cubicBezTo>
                  <a:pt x="1160" y="603"/>
                  <a:pt x="1165" y="577"/>
                  <a:pt x="1170" y="550"/>
                </a:cubicBezTo>
                <a:cubicBezTo>
                  <a:pt x="1175" y="523"/>
                  <a:pt x="1180" y="495"/>
                  <a:pt x="1185" y="468"/>
                </a:cubicBezTo>
                <a:cubicBezTo>
                  <a:pt x="1190" y="440"/>
                  <a:pt x="1195" y="412"/>
                  <a:pt x="1200" y="384"/>
                </a:cubicBezTo>
                <a:cubicBezTo>
                  <a:pt x="1205" y="355"/>
                  <a:pt x="1210" y="327"/>
                  <a:pt x="1215" y="298"/>
                </a:cubicBezTo>
                <a:cubicBezTo>
                  <a:pt x="1220" y="268"/>
                  <a:pt x="1225" y="239"/>
                  <a:pt x="1230" y="209"/>
                </a:cubicBezTo>
                <a:cubicBezTo>
                  <a:pt x="1235" y="179"/>
                  <a:pt x="1240" y="149"/>
                  <a:pt x="1245" y="118"/>
                </a:cubicBezTo>
                <a:cubicBezTo>
                  <a:pt x="1250" y="87"/>
                  <a:pt x="1255" y="56"/>
                  <a:pt x="1260" y="25"/>
                </a:cubicBezTo>
                <a:cubicBezTo>
                  <a:pt x="1264" y="0"/>
                  <a:pt x="1264" y="0"/>
                  <a:pt x="1264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30"/>
          <p:cNvGrpSpPr/>
          <p:nvPr/>
        </p:nvGrpSpPr>
        <p:grpSpPr>
          <a:xfrm>
            <a:off x="4876920" y="1676520"/>
            <a:ext cx="1441440" cy="1752120"/>
            <a:chOff x="4876920" y="1676520"/>
            <a:chExt cx="1441440" cy="1752120"/>
          </a:xfrm>
        </p:grpSpPr>
        <p:sp>
          <p:nvSpPr>
            <p:cNvPr id="395" name="Text Box 31"/>
            <p:cNvSpPr/>
            <p:nvPr/>
          </p:nvSpPr>
          <p:spPr>
            <a:xfrm>
              <a:off x="594540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32"/>
            <p:cNvSpPr/>
            <p:nvPr/>
          </p:nvSpPr>
          <p:spPr>
            <a:xfrm>
              <a:off x="5608800" y="167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33"/>
            <p:cNvSpPr/>
            <p:nvPr/>
          </p:nvSpPr>
          <p:spPr>
            <a:xfrm>
              <a:off x="5335920" y="2514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>
              <a:off x="4876920" y="281952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5"/>
            <p:cNvSpPr/>
            <p:nvPr/>
          </p:nvSpPr>
          <p:spPr>
            <a:xfrm flipV="1">
              <a:off x="5639040" y="182844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36"/>
          <p:cNvSpPr/>
          <p:nvPr/>
        </p:nvSpPr>
        <p:spPr>
          <a:xfrm>
            <a:off x="2813760" y="1828800"/>
            <a:ext cx="1576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有两个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的交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7"/>
          <p:cNvSpPr/>
          <p:nvPr/>
        </p:nvSpPr>
        <p:spPr>
          <a:xfrm>
            <a:off x="6629400" y="2057400"/>
            <a:ext cx="2286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个不同的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=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8"/>
          <p:cNvSpPr/>
          <p:nvPr/>
        </p:nvSpPr>
        <p:spPr>
          <a:xfrm>
            <a:off x="685800" y="228600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39"/>
          <p:cNvGrpSpPr/>
          <p:nvPr/>
        </p:nvGrpSpPr>
        <p:grpSpPr>
          <a:xfrm>
            <a:off x="5029200" y="3276720"/>
            <a:ext cx="1441440" cy="1752120"/>
            <a:chOff x="5029200" y="3276720"/>
            <a:chExt cx="1441440" cy="1752120"/>
          </a:xfrm>
        </p:grpSpPr>
        <p:sp>
          <p:nvSpPr>
            <p:cNvPr id="404" name="Text Box 40"/>
            <p:cNvSpPr/>
            <p:nvPr/>
          </p:nvSpPr>
          <p:spPr>
            <a:xfrm>
              <a:off x="60976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1"/>
            <p:cNvSpPr/>
            <p:nvPr/>
          </p:nvSpPr>
          <p:spPr>
            <a:xfrm>
              <a:off x="576108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42"/>
            <p:cNvSpPr/>
            <p:nvPr/>
          </p:nvSpPr>
          <p:spPr>
            <a:xfrm>
              <a:off x="5488200" y="4114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43"/>
            <p:cNvSpPr/>
            <p:nvPr/>
          </p:nvSpPr>
          <p:spPr>
            <a:xfrm>
              <a:off x="5029200" y="441972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44"/>
            <p:cNvSpPr/>
            <p:nvPr/>
          </p:nvSpPr>
          <p:spPr>
            <a:xfrm flipV="1">
              <a:off x="5791320" y="342864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平面几何--抛物线1"/>
          <p:cNvSpPr/>
          <p:nvPr/>
        </p:nvSpPr>
        <p:spPr>
          <a:xfrm>
            <a:off x="4952880" y="3454560"/>
            <a:ext cx="879480" cy="965160"/>
          </a:xfrm>
          <a:custGeom>
            <a:avLst/>
            <a:gdLst/>
            <a:ahLst/>
            <a:rect l="l" t="t" r="r" b="b"/>
            <a:pathLst>
              <a:path w="1265" h="1998">
                <a:moveTo>
                  <a:pt x="0" y="0"/>
                </a:moveTo>
                <a:cubicBezTo>
                  <a:pt x="5" y="31"/>
                  <a:pt x="10" y="63"/>
                  <a:pt x="15" y="94"/>
                </a:cubicBezTo>
                <a:cubicBezTo>
                  <a:pt x="20" y="124"/>
                  <a:pt x="25" y="155"/>
                  <a:pt x="30" y="185"/>
                </a:cubicBezTo>
                <a:cubicBezTo>
                  <a:pt x="35" y="215"/>
                  <a:pt x="40" y="245"/>
                  <a:pt x="45" y="274"/>
                </a:cubicBezTo>
                <a:cubicBezTo>
                  <a:pt x="50" y="303"/>
                  <a:pt x="55" y="332"/>
                  <a:pt x="60" y="361"/>
                </a:cubicBezTo>
                <a:cubicBezTo>
                  <a:pt x="65" y="390"/>
                  <a:pt x="70" y="418"/>
                  <a:pt x="75" y="446"/>
                </a:cubicBezTo>
                <a:cubicBezTo>
                  <a:pt x="80" y="473"/>
                  <a:pt x="85" y="501"/>
                  <a:pt x="90" y="528"/>
                </a:cubicBezTo>
                <a:cubicBezTo>
                  <a:pt x="95" y="555"/>
                  <a:pt x="100" y="582"/>
                  <a:pt x="105" y="608"/>
                </a:cubicBezTo>
                <a:cubicBezTo>
                  <a:pt x="110" y="635"/>
                  <a:pt x="115" y="661"/>
                  <a:pt x="120" y="686"/>
                </a:cubicBezTo>
                <a:cubicBezTo>
                  <a:pt x="125" y="712"/>
                  <a:pt x="130" y="737"/>
                  <a:pt x="135" y="762"/>
                </a:cubicBezTo>
                <a:cubicBezTo>
                  <a:pt x="140" y="787"/>
                  <a:pt x="145" y="811"/>
                  <a:pt x="150" y="835"/>
                </a:cubicBezTo>
                <a:cubicBezTo>
                  <a:pt x="155" y="859"/>
                  <a:pt x="160" y="883"/>
                  <a:pt x="165" y="907"/>
                </a:cubicBezTo>
                <a:cubicBezTo>
                  <a:pt x="170" y="930"/>
                  <a:pt x="175" y="953"/>
                  <a:pt x="180" y="975"/>
                </a:cubicBezTo>
                <a:cubicBezTo>
                  <a:pt x="185" y="998"/>
                  <a:pt x="190" y="1020"/>
                  <a:pt x="195" y="1042"/>
                </a:cubicBezTo>
                <a:cubicBezTo>
                  <a:pt x="200" y="1064"/>
                  <a:pt x="205" y="1085"/>
                  <a:pt x="210" y="1107"/>
                </a:cubicBezTo>
                <a:cubicBezTo>
                  <a:pt x="215" y="1128"/>
                  <a:pt x="220" y="1148"/>
                  <a:pt x="225" y="1169"/>
                </a:cubicBezTo>
                <a:cubicBezTo>
                  <a:pt x="230" y="1189"/>
                  <a:pt x="235" y="1209"/>
                  <a:pt x="240" y="1229"/>
                </a:cubicBezTo>
                <a:cubicBezTo>
                  <a:pt x="245" y="1248"/>
                  <a:pt x="250" y="1267"/>
                  <a:pt x="255" y="1286"/>
                </a:cubicBezTo>
                <a:cubicBezTo>
                  <a:pt x="260" y="1305"/>
                  <a:pt x="265" y="1324"/>
                  <a:pt x="270" y="1342"/>
                </a:cubicBezTo>
                <a:cubicBezTo>
                  <a:pt x="275" y="1360"/>
                  <a:pt x="280" y="1377"/>
                  <a:pt x="285" y="1395"/>
                </a:cubicBezTo>
                <a:cubicBezTo>
                  <a:pt x="290" y="1412"/>
                  <a:pt x="295" y="1429"/>
                  <a:pt x="300" y="1446"/>
                </a:cubicBezTo>
                <a:cubicBezTo>
                  <a:pt x="305" y="1462"/>
                  <a:pt x="310" y="1479"/>
                  <a:pt x="315" y="1495"/>
                </a:cubicBezTo>
                <a:cubicBezTo>
                  <a:pt x="320" y="1510"/>
                  <a:pt x="325" y="1526"/>
                  <a:pt x="330" y="1541"/>
                </a:cubicBezTo>
                <a:cubicBezTo>
                  <a:pt x="335" y="1556"/>
                  <a:pt x="340" y="1571"/>
                  <a:pt x="345" y="1585"/>
                </a:cubicBezTo>
                <a:cubicBezTo>
                  <a:pt x="350" y="1599"/>
                  <a:pt x="355" y="1613"/>
                  <a:pt x="360" y="1627"/>
                </a:cubicBezTo>
                <a:cubicBezTo>
                  <a:pt x="365" y="1641"/>
                  <a:pt x="370" y="1654"/>
                  <a:pt x="375" y="1667"/>
                </a:cubicBezTo>
                <a:cubicBezTo>
                  <a:pt x="380" y="1679"/>
                  <a:pt x="385" y="1692"/>
                  <a:pt x="390" y="1704"/>
                </a:cubicBezTo>
                <a:cubicBezTo>
                  <a:pt x="395" y="1716"/>
                  <a:pt x="400" y="1728"/>
                  <a:pt x="405" y="1739"/>
                </a:cubicBezTo>
                <a:cubicBezTo>
                  <a:pt x="410" y="1751"/>
                  <a:pt x="415" y="1762"/>
                  <a:pt x="420" y="1772"/>
                </a:cubicBezTo>
                <a:cubicBezTo>
                  <a:pt x="425" y="1783"/>
                  <a:pt x="430" y="1793"/>
                  <a:pt x="435" y="1803"/>
                </a:cubicBezTo>
                <a:cubicBezTo>
                  <a:pt x="440" y="1813"/>
                  <a:pt x="445" y="1822"/>
                  <a:pt x="450" y="1831"/>
                </a:cubicBezTo>
                <a:cubicBezTo>
                  <a:pt x="455" y="1840"/>
                  <a:pt x="460" y="1849"/>
                  <a:pt x="465" y="1858"/>
                </a:cubicBezTo>
                <a:cubicBezTo>
                  <a:pt x="470" y="1866"/>
                  <a:pt x="475" y="1874"/>
                  <a:pt x="480" y="1881"/>
                </a:cubicBezTo>
                <a:cubicBezTo>
                  <a:pt x="485" y="1889"/>
                  <a:pt x="490" y="1896"/>
                  <a:pt x="495" y="1903"/>
                </a:cubicBezTo>
                <a:cubicBezTo>
                  <a:pt x="500" y="1910"/>
                  <a:pt x="505" y="1916"/>
                  <a:pt x="510" y="1923"/>
                </a:cubicBezTo>
                <a:cubicBezTo>
                  <a:pt x="515" y="1929"/>
                  <a:pt x="520" y="1934"/>
                  <a:pt x="525" y="1940"/>
                </a:cubicBezTo>
                <a:cubicBezTo>
                  <a:pt x="530" y="1945"/>
                  <a:pt x="535" y="1950"/>
                  <a:pt x="540" y="1955"/>
                </a:cubicBezTo>
                <a:cubicBezTo>
                  <a:pt x="545" y="1959"/>
                  <a:pt x="550" y="1963"/>
                  <a:pt x="555" y="1967"/>
                </a:cubicBezTo>
                <a:cubicBezTo>
                  <a:pt x="560" y="1971"/>
                  <a:pt x="565" y="1975"/>
                  <a:pt x="570" y="1978"/>
                </a:cubicBezTo>
                <a:cubicBezTo>
                  <a:pt x="575" y="1981"/>
                  <a:pt x="580" y="1983"/>
                  <a:pt x="585" y="1986"/>
                </a:cubicBezTo>
                <a:cubicBezTo>
                  <a:pt x="590" y="1988"/>
                  <a:pt x="595" y="1990"/>
                  <a:pt x="600" y="1992"/>
                </a:cubicBezTo>
                <a:cubicBezTo>
                  <a:pt x="605" y="1993"/>
                  <a:pt x="610" y="1995"/>
                  <a:pt x="615" y="1996"/>
                </a:cubicBezTo>
                <a:cubicBezTo>
                  <a:pt x="620" y="1996"/>
                  <a:pt x="625" y="1997"/>
                  <a:pt x="630" y="1997"/>
                </a:cubicBezTo>
                <a:cubicBezTo>
                  <a:pt x="635" y="1997"/>
                  <a:pt x="640" y="1997"/>
                  <a:pt x="645" y="1996"/>
                </a:cubicBezTo>
                <a:cubicBezTo>
                  <a:pt x="650" y="1995"/>
                  <a:pt x="655" y="1994"/>
                  <a:pt x="660" y="1993"/>
                </a:cubicBezTo>
                <a:cubicBezTo>
                  <a:pt x="665" y="1992"/>
                  <a:pt x="670" y="1990"/>
                  <a:pt x="675" y="1988"/>
                </a:cubicBezTo>
                <a:cubicBezTo>
                  <a:pt x="680" y="1985"/>
                  <a:pt x="685" y="1983"/>
                  <a:pt x="690" y="1980"/>
                </a:cubicBezTo>
                <a:cubicBezTo>
                  <a:pt x="695" y="1977"/>
                  <a:pt x="700" y="1974"/>
                  <a:pt x="705" y="1970"/>
                </a:cubicBezTo>
                <a:cubicBezTo>
                  <a:pt x="710" y="1967"/>
                  <a:pt x="715" y="1963"/>
                  <a:pt x="720" y="1958"/>
                </a:cubicBezTo>
                <a:cubicBezTo>
                  <a:pt x="725" y="1954"/>
                  <a:pt x="730" y="1949"/>
                  <a:pt x="735" y="1944"/>
                </a:cubicBezTo>
                <a:cubicBezTo>
                  <a:pt x="740" y="1939"/>
                  <a:pt x="745" y="1933"/>
                  <a:pt x="750" y="1927"/>
                </a:cubicBezTo>
                <a:cubicBezTo>
                  <a:pt x="755" y="1921"/>
                  <a:pt x="760" y="1915"/>
                  <a:pt x="765" y="1909"/>
                </a:cubicBezTo>
                <a:cubicBezTo>
                  <a:pt x="770" y="1902"/>
                  <a:pt x="775" y="1895"/>
                  <a:pt x="780" y="1887"/>
                </a:cubicBezTo>
                <a:cubicBezTo>
                  <a:pt x="785" y="1880"/>
                  <a:pt x="790" y="1872"/>
                  <a:pt x="795" y="1864"/>
                </a:cubicBezTo>
                <a:cubicBezTo>
                  <a:pt x="800" y="1856"/>
                  <a:pt x="805" y="1847"/>
                  <a:pt x="810" y="1839"/>
                </a:cubicBezTo>
                <a:cubicBezTo>
                  <a:pt x="815" y="1830"/>
                  <a:pt x="820" y="1820"/>
                  <a:pt x="825" y="1811"/>
                </a:cubicBezTo>
                <a:cubicBezTo>
                  <a:pt x="830" y="1801"/>
                  <a:pt x="835" y="1791"/>
                  <a:pt x="840" y="1781"/>
                </a:cubicBezTo>
                <a:cubicBezTo>
                  <a:pt x="845" y="1770"/>
                  <a:pt x="850" y="1759"/>
                  <a:pt x="855" y="1748"/>
                </a:cubicBezTo>
                <a:cubicBezTo>
                  <a:pt x="860" y="1737"/>
                  <a:pt x="865" y="1726"/>
                  <a:pt x="870" y="1714"/>
                </a:cubicBezTo>
                <a:cubicBezTo>
                  <a:pt x="875" y="1702"/>
                  <a:pt x="880" y="1689"/>
                  <a:pt x="885" y="1677"/>
                </a:cubicBezTo>
                <a:cubicBezTo>
                  <a:pt x="890" y="1664"/>
                  <a:pt x="895" y="1651"/>
                  <a:pt x="900" y="1638"/>
                </a:cubicBezTo>
                <a:cubicBezTo>
                  <a:pt x="905" y="1624"/>
                  <a:pt x="910" y="1611"/>
                  <a:pt x="915" y="1597"/>
                </a:cubicBezTo>
                <a:cubicBezTo>
                  <a:pt x="920" y="1582"/>
                  <a:pt x="925" y="1568"/>
                  <a:pt x="930" y="1553"/>
                </a:cubicBezTo>
                <a:cubicBezTo>
                  <a:pt x="935" y="1538"/>
                  <a:pt x="940" y="1523"/>
                  <a:pt x="945" y="1507"/>
                </a:cubicBezTo>
                <a:cubicBezTo>
                  <a:pt x="950" y="1491"/>
                  <a:pt x="955" y="1475"/>
                  <a:pt x="960" y="1459"/>
                </a:cubicBezTo>
                <a:cubicBezTo>
                  <a:pt x="965" y="1443"/>
                  <a:pt x="970" y="1426"/>
                  <a:pt x="975" y="1409"/>
                </a:cubicBezTo>
                <a:cubicBezTo>
                  <a:pt x="980" y="1391"/>
                  <a:pt x="985" y="1374"/>
                  <a:pt x="990" y="1356"/>
                </a:cubicBezTo>
                <a:cubicBezTo>
                  <a:pt x="995" y="1338"/>
                  <a:pt x="1000" y="1320"/>
                  <a:pt x="1005" y="1301"/>
                </a:cubicBezTo>
                <a:cubicBezTo>
                  <a:pt x="1010" y="1283"/>
                  <a:pt x="1015" y="1264"/>
                  <a:pt x="1020" y="1244"/>
                </a:cubicBezTo>
                <a:cubicBezTo>
                  <a:pt x="1025" y="1225"/>
                  <a:pt x="1030" y="1205"/>
                  <a:pt x="1035" y="1185"/>
                </a:cubicBezTo>
                <a:cubicBezTo>
                  <a:pt x="1040" y="1165"/>
                  <a:pt x="1045" y="1144"/>
                  <a:pt x="1050" y="1123"/>
                </a:cubicBezTo>
                <a:cubicBezTo>
                  <a:pt x="1055" y="1102"/>
                  <a:pt x="1060" y="1081"/>
                  <a:pt x="1065" y="1060"/>
                </a:cubicBezTo>
                <a:cubicBezTo>
                  <a:pt x="1070" y="1038"/>
                  <a:pt x="1075" y="1016"/>
                  <a:pt x="1080" y="993"/>
                </a:cubicBezTo>
                <a:cubicBezTo>
                  <a:pt x="1085" y="971"/>
                  <a:pt x="1090" y="948"/>
                  <a:pt x="1095" y="925"/>
                </a:cubicBezTo>
                <a:cubicBezTo>
                  <a:pt x="1100" y="902"/>
                  <a:pt x="1105" y="878"/>
                  <a:pt x="1110" y="855"/>
                </a:cubicBezTo>
                <a:cubicBezTo>
                  <a:pt x="1115" y="831"/>
                  <a:pt x="1120" y="806"/>
                  <a:pt x="1125" y="782"/>
                </a:cubicBezTo>
                <a:cubicBezTo>
                  <a:pt x="1130" y="757"/>
                  <a:pt x="1135" y="732"/>
                  <a:pt x="1140" y="707"/>
                </a:cubicBezTo>
                <a:cubicBezTo>
                  <a:pt x="1145" y="681"/>
                  <a:pt x="1150" y="655"/>
                  <a:pt x="1155" y="629"/>
                </a:cubicBezTo>
                <a:cubicBezTo>
                  <a:pt x="1160" y="603"/>
                  <a:pt x="1165" y="577"/>
                  <a:pt x="1170" y="550"/>
                </a:cubicBezTo>
                <a:cubicBezTo>
                  <a:pt x="1175" y="523"/>
                  <a:pt x="1180" y="495"/>
                  <a:pt x="1185" y="468"/>
                </a:cubicBezTo>
                <a:cubicBezTo>
                  <a:pt x="1190" y="440"/>
                  <a:pt x="1195" y="412"/>
                  <a:pt x="1200" y="384"/>
                </a:cubicBezTo>
                <a:cubicBezTo>
                  <a:pt x="1205" y="355"/>
                  <a:pt x="1210" y="327"/>
                  <a:pt x="1215" y="298"/>
                </a:cubicBezTo>
                <a:cubicBezTo>
                  <a:pt x="1220" y="268"/>
                  <a:pt x="1225" y="239"/>
                  <a:pt x="1230" y="209"/>
                </a:cubicBezTo>
                <a:cubicBezTo>
                  <a:pt x="1235" y="179"/>
                  <a:pt x="1240" y="149"/>
                  <a:pt x="1245" y="118"/>
                </a:cubicBezTo>
                <a:cubicBezTo>
                  <a:pt x="1250" y="87"/>
                  <a:pt x="1255" y="56"/>
                  <a:pt x="1260" y="25"/>
                </a:cubicBezTo>
                <a:cubicBezTo>
                  <a:pt x="1264" y="0"/>
                  <a:pt x="1264" y="0"/>
                  <a:pt x="1264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6"/>
          <p:cNvSpPr/>
          <p:nvPr/>
        </p:nvSpPr>
        <p:spPr>
          <a:xfrm>
            <a:off x="3118320" y="3429000"/>
            <a:ext cx="9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有唯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ject 47" descr=""/>
          <p:cNvPicPr/>
          <p:nvPr/>
        </p:nvPicPr>
        <p:blipFill>
          <a:blip r:embed="rId2"/>
          <a:stretch/>
        </p:blipFill>
        <p:spPr>
          <a:xfrm>
            <a:off x="3276720" y="3733920"/>
            <a:ext cx="1295280" cy="892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48"/>
          <p:cNvSpPr/>
          <p:nvPr/>
        </p:nvSpPr>
        <p:spPr>
          <a:xfrm>
            <a:off x="6659640" y="3573360"/>
            <a:ext cx="22860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个相等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Object 49" descr=""/>
          <p:cNvPicPr/>
          <p:nvPr/>
        </p:nvPicPr>
        <p:blipFill>
          <a:blip r:embed="rId3"/>
          <a:stretch/>
        </p:blipFill>
        <p:spPr>
          <a:xfrm>
            <a:off x="7667640" y="4149720"/>
            <a:ext cx="777960" cy="8920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0"/>
          <p:cNvSpPr/>
          <p:nvPr/>
        </p:nvSpPr>
        <p:spPr>
          <a:xfrm>
            <a:off x="543600" y="3809880"/>
            <a:ext cx="14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4ac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51"/>
          <p:cNvGrpSpPr/>
          <p:nvPr/>
        </p:nvGrpSpPr>
        <p:grpSpPr>
          <a:xfrm>
            <a:off x="5105520" y="4952880"/>
            <a:ext cx="1441440" cy="1752120"/>
            <a:chOff x="5105520" y="4952880"/>
            <a:chExt cx="1441440" cy="1752120"/>
          </a:xfrm>
        </p:grpSpPr>
        <p:sp>
          <p:nvSpPr>
            <p:cNvPr id="416" name="Text Box 52"/>
            <p:cNvSpPr/>
            <p:nvPr/>
          </p:nvSpPr>
          <p:spPr>
            <a:xfrm>
              <a:off x="6174000" y="60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53"/>
            <p:cNvSpPr/>
            <p:nvPr/>
          </p:nvSpPr>
          <p:spPr>
            <a:xfrm>
              <a:off x="5837400" y="495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54"/>
            <p:cNvSpPr/>
            <p:nvPr/>
          </p:nvSpPr>
          <p:spPr>
            <a:xfrm>
              <a:off x="5564520" y="5790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5"/>
            <p:cNvSpPr/>
            <p:nvPr/>
          </p:nvSpPr>
          <p:spPr>
            <a:xfrm>
              <a:off x="5105520" y="609588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6"/>
            <p:cNvSpPr/>
            <p:nvPr/>
          </p:nvSpPr>
          <p:spPr>
            <a:xfrm flipV="1">
              <a:off x="5867640" y="510480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平面几何--抛物线1"/>
          <p:cNvSpPr/>
          <p:nvPr/>
        </p:nvSpPr>
        <p:spPr>
          <a:xfrm>
            <a:off x="4952880" y="4978440"/>
            <a:ext cx="879480" cy="965160"/>
          </a:xfrm>
          <a:custGeom>
            <a:avLst/>
            <a:gdLst/>
            <a:ahLst/>
            <a:rect l="l" t="t" r="r" b="b"/>
            <a:pathLst>
              <a:path w="1265" h="1998">
                <a:moveTo>
                  <a:pt x="0" y="0"/>
                </a:moveTo>
                <a:cubicBezTo>
                  <a:pt x="5" y="31"/>
                  <a:pt x="10" y="63"/>
                  <a:pt x="15" y="94"/>
                </a:cubicBezTo>
                <a:cubicBezTo>
                  <a:pt x="20" y="124"/>
                  <a:pt x="25" y="155"/>
                  <a:pt x="30" y="185"/>
                </a:cubicBezTo>
                <a:cubicBezTo>
                  <a:pt x="35" y="215"/>
                  <a:pt x="40" y="245"/>
                  <a:pt x="45" y="274"/>
                </a:cubicBezTo>
                <a:cubicBezTo>
                  <a:pt x="50" y="303"/>
                  <a:pt x="55" y="332"/>
                  <a:pt x="60" y="361"/>
                </a:cubicBezTo>
                <a:cubicBezTo>
                  <a:pt x="65" y="390"/>
                  <a:pt x="70" y="418"/>
                  <a:pt x="75" y="446"/>
                </a:cubicBezTo>
                <a:cubicBezTo>
                  <a:pt x="80" y="473"/>
                  <a:pt x="85" y="501"/>
                  <a:pt x="90" y="528"/>
                </a:cubicBezTo>
                <a:cubicBezTo>
                  <a:pt x="95" y="555"/>
                  <a:pt x="100" y="582"/>
                  <a:pt x="105" y="608"/>
                </a:cubicBezTo>
                <a:cubicBezTo>
                  <a:pt x="110" y="635"/>
                  <a:pt x="115" y="661"/>
                  <a:pt x="120" y="686"/>
                </a:cubicBezTo>
                <a:cubicBezTo>
                  <a:pt x="125" y="712"/>
                  <a:pt x="130" y="737"/>
                  <a:pt x="135" y="762"/>
                </a:cubicBezTo>
                <a:cubicBezTo>
                  <a:pt x="140" y="787"/>
                  <a:pt x="145" y="811"/>
                  <a:pt x="150" y="835"/>
                </a:cubicBezTo>
                <a:cubicBezTo>
                  <a:pt x="155" y="859"/>
                  <a:pt x="160" y="883"/>
                  <a:pt x="165" y="907"/>
                </a:cubicBezTo>
                <a:cubicBezTo>
                  <a:pt x="170" y="930"/>
                  <a:pt x="175" y="953"/>
                  <a:pt x="180" y="975"/>
                </a:cubicBezTo>
                <a:cubicBezTo>
                  <a:pt x="185" y="998"/>
                  <a:pt x="190" y="1020"/>
                  <a:pt x="195" y="1042"/>
                </a:cubicBezTo>
                <a:cubicBezTo>
                  <a:pt x="200" y="1064"/>
                  <a:pt x="205" y="1085"/>
                  <a:pt x="210" y="1107"/>
                </a:cubicBezTo>
                <a:cubicBezTo>
                  <a:pt x="215" y="1128"/>
                  <a:pt x="220" y="1148"/>
                  <a:pt x="225" y="1169"/>
                </a:cubicBezTo>
                <a:cubicBezTo>
                  <a:pt x="230" y="1189"/>
                  <a:pt x="235" y="1209"/>
                  <a:pt x="240" y="1229"/>
                </a:cubicBezTo>
                <a:cubicBezTo>
                  <a:pt x="245" y="1248"/>
                  <a:pt x="250" y="1267"/>
                  <a:pt x="255" y="1286"/>
                </a:cubicBezTo>
                <a:cubicBezTo>
                  <a:pt x="260" y="1305"/>
                  <a:pt x="265" y="1324"/>
                  <a:pt x="270" y="1342"/>
                </a:cubicBezTo>
                <a:cubicBezTo>
                  <a:pt x="275" y="1360"/>
                  <a:pt x="280" y="1377"/>
                  <a:pt x="285" y="1395"/>
                </a:cubicBezTo>
                <a:cubicBezTo>
                  <a:pt x="290" y="1412"/>
                  <a:pt x="295" y="1429"/>
                  <a:pt x="300" y="1446"/>
                </a:cubicBezTo>
                <a:cubicBezTo>
                  <a:pt x="305" y="1462"/>
                  <a:pt x="310" y="1479"/>
                  <a:pt x="315" y="1495"/>
                </a:cubicBezTo>
                <a:cubicBezTo>
                  <a:pt x="320" y="1510"/>
                  <a:pt x="325" y="1526"/>
                  <a:pt x="330" y="1541"/>
                </a:cubicBezTo>
                <a:cubicBezTo>
                  <a:pt x="335" y="1556"/>
                  <a:pt x="340" y="1571"/>
                  <a:pt x="345" y="1585"/>
                </a:cubicBezTo>
                <a:cubicBezTo>
                  <a:pt x="350" y="1599"/>
                  <a:pt x="355" y="1613"/>
                  <a:pt x="360" y="1627"/>
                </a:cubicBezTo>
                <a:cubicBezTo>
                  <a:pt x="365" y="1641"/>
                  <a:pt x="370" y="1654"/>
                  <a:pt x="375" y="1667"/>
                </a:cubicBezTo>
                <a:cubicBezTo>
                  <a:pt x="380" y="1679"/>
                  <a:pt x="385" y="1692"/>
                  <a:pt x="390" y="1704"/>
                </a:cubicBezTo>
                <a:cubicBezTo>
                  <a:pt x="395" y="1716"/>
                  <a:pt x="400" y="1728"/>
                  <a:pt x="405" y="1739"/>
                </a:cubicBezTo>
                <a:cubicBezTo>
                  <a:pt x="410" y="1751"/>
                  <a:pt x="415" y="1762"/>
                  <a:pt x="420" y="1772"/>
                </a:cubicBezTo>
                <a:cubicBezTo>
                  <a:pt x="425" y="1783"/>
                  <a:pt x="430" y="1793"/>
                  <a:pt x="435" y="1803"/>
                </a:cubicBezTo>
                <a:cubicBezTo>
                  <a:pt x="440" y="1813"/>
                  <a:pt x="445" y="1822"/>
                  <a:pt x="450" y="1831"/>
                </a:cubicBezTo>
                <a:cubicBezTo>
                  <a:pt x="455" y="1840"/>
                  <a:pt x="460" y="1849"/>
                  <a:pt x="465" y="1858"/>
                </a:cubicBezTo>
                <a:cubicBezTo>
                  <a:pt x="470" y="1866"/>
                  <a:pt x="475" y="1874"/>
                  <a:pt x="480" y="1881"/>
                </a:cubicBezTo>
                <a:cubicBezTo>
                  <a:pt x="485" y="1889"/>
                  <a:pt x="490" y="1896"/>
                  <a:pt x="495" y="1903"/>
                </a:cubicBezTo>
                <a:cubicBezTo>
                  <a:pt x="500" y="1910"/>
                  <a:pt x="505" y="1916"/>
                  <a:pt x="510" y="1923"/>
                </a:cubicBezTo>
                <a:cubicBezTo>
                  <a:pt x="515" y="1929"/>
                  <a:pt x="520" y="1934"/>
                  <a:pt x="525" y="1940"/>
                </a:cubicBezTo>
                <a:cubicBezTo>
                  <a:pt x="530" y="1945"/>
                  <a:pt x="535" y="1950"/>
                  <a:pt x="540" y="1955"/>
                </a:cubicBezTo>
                <a:cubicBezTo>
                  <a:pt x="545" y="1959"/>
                  <a:pt x="550" y="1963"/>
                  <a:pt x="555" y="1967"/>
                </a:cubicBezTo>
                <a:cubicBezTo>
                  <a:pt x="560" y="1971"/>
                  <a:pt x="565" y="1975"/>
                  <a:pt x="570" y="1978"/>
                </a:cubicBezTo>
                <a:cubicBezTo>
                  <a:pt x="575" y="1981"/>
                  <a:pt x="580" y="1983"/>
                  <a:pt x="585" y="1986"/>
                </a:cubicBezTo>
                <a:cubicBezTo>
                  <a:pt x="590" y="1988"/>
                  <a:pt x="595" y="1990"/>
                  <a:pt x="600" y="1992"/>
                </a:cubicBezTo>
                <a:cubicBezTo>
                  <a:pt x="605" y="1993"/>
                  <a:pt x="610" y="1995"/>
                  <a:pt x="615" y="1996"/>
                </a:cubicBezTo>
                <a:cubicBezTo>
                  <a:pt x="620" y="1996"/>
                  <a:pt x="625" y="1997"/>
                  <a:pt x="630" y="1997"/>
                </a:cubicBezTo>
                <a:cubicBezTo>
                  <a:pt x="635" y="1997"/>
                  <a:pt x="640" y="1997"/>
                  <a:pt x="645" y="1996"/>
                </a:cubicBezTo>
                <a:cubicBezTo>
                  <a:pt x="650" y="1995"/>
                  <a:pt x="655" y="1994"/>
                  <a:pt x="660" y="1993"/>
                </a:cubicBezTo>
                <a:cubicBezTo>
                  <a:pt x="665" y="1992"/>
                  <a:pt x="670" y="1990"/>
                  <a:pt x="675" y="1988"/>
                </a:cubicBezTo>
                <a:cubicBezTo>
                  <a:pt x="680" y="1985"/>
                  <a:pt x="685" y="1983"/>
                  <a:pt x="690" y="1980"/>
                </a:cubicBezTo>
                <a:cubicBezTo>
                  <a:pt x="695" y="1977"/>
                  <a:pt x="700" y="1974"/>
                  <a:pt x="705" y="1970"/>
                </a:cubicBezTo>
                <a:cubicBezTo>
                  <a:pt x="710" y="1967"/>
                  <a:pt x="715" y="1963"/>
                  <a:pt x="720" y="1958"/>
                </a:cubicBezTo>
                <a:cubicBezTo>
                  <a:pt x="725" y="1954"/>
                  <a:pt x="730" y="1949"/>
                  <a:pt x="735" y="1944"/>
                </a:cubicBezTo>
                <a:cubicBezTo>
                  <a:pt x="740" y="1939"/>
                  <a:pt x="745" y="1933"/>
                  <a:pt x="750" y="1927"/>
                </a:cubicBezTo>
                <a:cubicBezTo>
                  <a:pt x="755" y="1921"/>
                  <a:pt x="760" y="1915"/>
                  <a:pt x="765" y="1909"/>
                </a:cubicBezTo>
                <a:cubicBezTo>
                  <a:pt x="770" y="1902"/>
                  <a:pt x="775" y="1895"/>
                  <a:pt x="780" y="1887"/>
                </a:cubicBezTo>
                <a:cubicBezTo>
                  <a:pt x="785" y="1880"/>
                  <a:pt x="790" y="1872"/>
                  <a:pt x="795" y="1864"/>
                </a:cubicBezTo>
                <a:cubicBezTo>
                  <a:pt x="800" y="1856"/>
                  <a:pt x="805" y="1847"/>
                  <a:pt x="810" y="1839"/>
                </a:cubicBezTo>
                <a:cubicBezTo>
                  <a:pt x="815" y="1830"/>
                  <a:pt x="820" y="1820"/>
                  <a:pt x="825" y="1811"/>
                </a:cubicBezTo>
                <a:cubicBezTo>
                  <a:pt x="830" y="1801"/>
                  <a:pt x="835" y="1791"/>
                  <a:pt x="840" y="1781"/>
                </a:cubicBezTo>
                <a:cubicBezTo>
                  <a:pt x="845" y="1770"/>
                  <a:pt x="850" y="1759"/>
                  <a:pt x="855" y="1748"/>
                </a:cubicBezTo>
                <a:cubicBezTo>
                  <a:pt x="860" y="1737"/>
                  <a:pt x="865" y="1726"/>
                  <a:pt x="870" y="1714"/>
                </a:cubicBezTo>
                <a:cubicBezTo>
                  <a:pt x="875" y="1702"/>
                  <a:pt x="880" y="1689"/>
                  <a:pt x="885" y="1677"/>
                </a:cubicBezTo>
                <a:cubicBezTo>
                  <a:pt x="890" y="1664"/>
                  <a:pt x="895" y="1651"/>
                  <a:pt x="900" y="1638"/>
                </a:cubicBezTo>
                <a:cubicBezTo>
                  <a:pt x="905" y="1624"/>
                  <a:pt x="910" y="1611"/>
                  <a:pt x="915" y="1597"/>
                </a:cubicBezTo>
                <a:cubicBezTo>
                  <a:pt x="920" y="1582"/>
                  <a:pt x="925" y="1568"/>
                  <a:pt x="930" y="1553"/>
                </a:cubicBezTo>
                <a:cubicBezTo>
                  <a:pt x="935" y="1538"/>
                  <a:pt x="940" y="1523"/>
                  <a:pt x="945" y="1507"/>
                </a:cubicBezTo>
                <a:cubicBezTo>
                  <a:pt x="950" y="1491"/>
                  <a:pt x="955" y="1475"/>
                  <a:pt x="960" y="1459"/>
                </a:cubicBezTo>
                <a:cubicBezTo>
                  <a:pt x="965" y="1443"/>
                  <a:pt x="970" y="1426"/>
                  <a:pt x="975" y="1409"/>
                </a:cubicBezTo>
                <a:cubicBezTo>
                  <a:pt x="980" y="1391"/>
                  <a:pt x="985" y="1374"/>
                  <a:pt x="990" y="1356"/>
                </a:cubicBezTo>
                <a:cubicBezTo>
                  <a:pt x="995" y="1338"/>
                  <a:pt x="1000" y="1320"/>
                  <a:pt x="1005" y="1301"/>
                </a:cubicBezTo>
                <a:cubicBezTo>
                  <a:pt x="1010" y="1283"/>
                  <a:pt x="1015" y="1264"/>
                  <a:pt x="1020" y="1244"/>
                </a:cubicBezTo>
                <a:cubicBezTo>
                  <a:pt x="1025" y="1225"/>
                  <a:pt x="1030" y="1205"/>
                  <a:pt x="1035" y="1185"/>
                </a:cubicBezTo>
                <a:cubicBezTo>
                  <a:pt x="1040" y="1165"/>
                  <a:pt x="1045" y="1144"/>
                  <a:pt x="1050" y="1123"/>
                </a:cubicBezTo>
                <a:cubicBezTo>
                  <a:pt x="1055" y="1102"/>
                  <a:pt x="1060" y="1081"/>
                  <a:pt x="1065" y="1060"/>
                </a:cubicBezTo>
                <a:cubicBezTo>
                  <a:pt x="1070" y="1038"/>
                  <a:pt x="1075" y="1016"/>
                  <a:pt x="1080" y="993"/>
                </a:cubicBezTo>
                <a:cubicBezTo>
                  <a:pt x="1085" y="971"/>
                  <a:pt x="1090" y="948"/>
                  <a:pt x="1095" y="925"/>
                </a:cubicBezTo>
                <a:cubicBezTo>
                  <a:pt x="1100" y="902"/>
                  <a:pt x="1105" y="878"/>
                  <a:pt x="1110" y="855"/>
                </a:cubicBezTo>
                <a:cubicBezTo>
                  <a:pt x="1115" y="831"/>
                  <a:pt x="1120" y="806"/>
                  <a:pt x="1125" y="782"/>
                </a:cubicBezTo>
                <a:cubicBezTo>
                  <a:pt x="1130" y="757"/>
                  <a:pt x="1135" y="732"/>
                  <a:pt x="1140" y="707"/>
                </a:cubicBezTo>
                <a:cubicBezTo>
                  <a:pt x="1145" y="681"/>
                  <a:pt x="1150" y="655"/>
                  <a:pt x="1155" y="629"/>
                </a:cubicBezTo>
                <a:cubicBezTo>
                  <a:pt x="1160" y="603"/>
                  <a:pt x="1165" y="577"/>
                  <a:pt x="1170" y="550"/>
                </a:cubicBezTo>
                <a:cubicBezTo>
                  <a:pt x="1175" y="523"/>
                  <a:pt x="1180" y="495"/>
                  <a:pt x="1185" y="468"/>
                </a:cubicBezTo>
                <a:cubicBezTo>
                  <a:pt x="1190" y="440"/>
                  <a:pt x="1195" y="412"/>
                  <a:pt x="1200" y="384"/>
                </a:cubicBezTo>
                <a:cubicBezTo>
                  <a:pt x="1205" y="355"/>
                  <a:pt x="1210" y="327"/>
                  <a:pt x="1215" y="298"/>
                </a:cubicBezTo>
                <a:cubicBezTo>
                  <a:pt x="1220" y="268"/>
                  <a:pt x="1225" y="239"/>
                  <a:pt x="1230" y="209"/>
                </a:cubicBezTo>
                <a:cubicBezTo>
                  <a:pt x="1235" y="179"/>
                  <a:pt x="1240" y="149"/>
                  <a:pt x="1245" y="118"/>
                </a:cubicBezTo>
                <a:cubicBezTo>
                  <a:pt x="1250" y="87"/>
                  <a:pt x="1255" y="56"/>
                  <a:pt x="1260" y="25"/>
                </a:cubicBezTo>
                <a:cubicBezTo>
                  <a:pt x="1264" y="0"/>
                  <a:pt x="1264" y="0"/>
                  <a:pt x="1264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8"/>
          <p:cNvSpPr/>
          <p:nvPr/>
        </p:nvSpPr>
        <p:spPr>
          <a:xfrm>
            <a:off x="2766600" y="5029200"/>
            <a:ext cx="121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9"/>
          <p:cNvSpPr/>
          <p:nvPr/>
        </p:nvSpPr>
        <p:spPr>
          <a:xfrm>
            <a:off x="662940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实数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0"/>
          <p:cNvSpPr/>
          <p:nvPr/>
        </p:nvSpPr>
        <p:spPr>
          <a:xfrm>
            <a:off x="457200" y="5410080"/>
            <a:ext cx="20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4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468360" y="2997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抛物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3x-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有无交点？若无说出理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有求出交点坐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30200" y="1197000"/>
            <a:ext cx="87138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元二次方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x-10=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两个根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-2 ,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5/3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二次函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= 3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x-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的交点坐标是＿＿＿＿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68360" y="4941720"/>
            <a:ext cx="8351640" cy="1203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纳：一元二次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两个根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抛物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的交点坐标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0),(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340000" y="4221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2.5,0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-1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356000" y="23493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-2,0)  (5/3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1042920" y="4149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10"/>
          <p:cNvSpPr txBox="1"/>
          <p:nvPr/>
        </p:nvSpPr>
        <p:spPr>
          <a:xfrm>
            <a:off x="1187280" y="549360"/>
            <a:ext cx="237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楷体_GB2312"/>
              </a:rPr>
              <a:t>牛刀小试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2" name="文本框 8200"/>
          <p:cNvSpPr/>
          <p:nvPr/>
        </p:nvSpPr>
        <p:spPr>
          <a:xfrm>
            <a:off x="2428920" y="92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4"/>
          <p:cNvGrpSpPr/>
          <p:nvPr/>
        </p:nvGrpSpPr>
        <p:grpSpPr>
          <a:xfrm>
            <a:off x="2286000" y="304920"/>
            <a:ext cx="4571640" cy="887040"/>
            <a:chOff x="2286000" y="304920"/>
            <a:chExt cx="4571640" cy="887040"/>
          </a:xfrm>
        </p:grpSpPr>
        <p:sp>
          <p:nvSpPr>
            <p:cNvPr id="434" name="Text Box 5"/>
            <p:cNvSpPr/>
            <p:nvPr/>
          </p:nvSpPr>
          <p:spPr>
            <a:xfrm>
              <a:off x="2286000" y="304920"/>
              <a:ext cx="4419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随堂练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"/>
            <p:cNvSpPr/>
            <p:nvPr/>
          </p:nvSpPr>
          <p:spPr>
            <a:xfrm>
              <a:off x="2743200" y="1143000"/>
              <a:ext cx="3646440" cy="223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7"/>
            <p:cNvSpPr/>
            <p:nvPr/>
          </p:nvSpPr>
          <p:spPr>
            <a:xfrm rot="3418800">
              <a:off x="6269040" y="58860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8"/>
          <p:cNvSpPr/>
          <p:nvPr/>
        </p:nvSpPr>
        <p:spPr>
          <a:xfrm>
            <a:off x="1371600" y="1676520"/>
            <a:ext cx="6686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不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相交的抛物线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– 3            B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3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– 3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D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(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1)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304920" y="3886200"/>
            <a:ext cx="883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c=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当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gt;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lt;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时，图象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交点情况是（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无交点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只有一个交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交点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D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5943600" y="16765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3886200" y="4267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048120" y="533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x² + bx + c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514600" y="1447920"/>
            <a:ext cx="6324480" cy="838080"/>
          </a:xfrm>
          <a:prstGeom prst="cloudCallout">
            <a:avLst>
              <a:gd name="adj1" fmla="val -7277"/>
              <a:gd name="adj2" fmla="val -86930"/>
            </a:avLst>
          </a:prstGeom>
          <a:solidFill>
            <a:srgbClr val="ccffff"/>
          </a:solidFill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什么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692360" y="2854440"/>
            <a:ext cx="57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是我们已学习的“一元二次方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375360" y="4437000"/>
            <a:ext cx="29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元二次方程根的情况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²-4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614520" y="144792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如果关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一元二次方程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相等的实数根，则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＿＿＿，此时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m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有＿＿个交点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609480" y="3122640"/>
            <a:ext cx="7993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已知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– 8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顶点在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上，则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＿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4648320" y="1979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971800" y="25131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600200" y="36561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574560" y="4494240"/>
            <a:ext cx="85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顶点在第一象限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则方程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0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根的情况是＿＿＿＿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5181480" y="4952880"/>
            <a:ext cx="3962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&lt; 0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无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471600" y="178920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6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5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交于点＿＿＿＿，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交于点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华文新魏"/>
              </a:rPr>
              <a:t>　　　　　　　　　　　　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457200" y="3124080"/>
            <a:ext cx="82105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7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一元二次方程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0=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两个根是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5/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那么二次函数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3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的交点坐标是＿＿＿＿＿＿＿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6781680" y="1828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3048120" y="236232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5/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 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1905120" y="44197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-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  (5/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685800" y="144792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8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已知抛物线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图象如图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则关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方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x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 = 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根的情况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不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异号绝对值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D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没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8459640" y="501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7315200" y="19051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6588000" y="342900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8"/>
          <p:cNvGrpSpPr/>
          <p:nvPr/>
        </p:nvGrpSpPr>
        <p:grpSpPr>
          <a:xfrm>
            <a:off x="5148360" y="3573360"/>
            <a:ext cx="3456000" cy="2752560"/>
            <a:chOff x="5148360" y="3573360"/>
            <a:chExt cx="3456000" cy="2752560"/>
          </a:xfrm>
        </p:grpSpPr>
        <p:sp>
          <p:nvSpPr>
            <p:cNvPr id="458" name="Line 9"/>
            <p:cNvSpPr/>
            <p:nvPr/>
          </p:nvSpPr>
          <p:spPr>
            <a:xfrm>
              <a:off x="5435640" y="4941720"/>
              <a:ext cx="31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 flipV="1">
              <a:off x="6804000" y="35733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6732720" y="4868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2"/>
            <p:cNvSpPr/>
            <p:nvPr/>
          </p:nvSpPr>
          <p:spPr>
            <a:xfrm>
              <a:off x="5148360" y="4005000"/>
              <a:ext cx="2519280" cy="1452600"/>
            </a:xfrm>
            <a:custGeom>
              <a:avLst/>
              <a:gdLst/>
              <a:ahLst/>
              <a:rect l="l" t="t" r="r" b="b"/>
              <a:pathLst>
                <a:path w="635" h="1368">
                  <a:moveTo>
                    <a:pt x="0" y="45"/>
                  </a:moveTo>
                  <a:cubicBezTo>
                    <a:pt x="128" y="706"/>
                    <a:pt x="257" y="1368"/>
                    <a:pt x="363" y="1361"/>
                  </a:cubicBezTo>
                  <a:cubicBezTo>
                    <a:pt x="469" y="1354"/>
                    <a:pt x="590" y="227"/>
                    <a:pt x="6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3"/>
            <p:cNvSpPr/>
            <p:nvPr/>
          </p:nvSpPr>
          <p:spPr>
            <a:xfrm>
              <a:off x="6877080" y="357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14"/>
            <p:cNvSpPr/>
            <p:nvPr/>
          </p:nvSpPr>
          <p:spPr>
            <a:xfrm>
              <a:off x="5867640" y="58053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－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5"/>
            <p:cNvSpPr/>
            <p:nvPr/>
          </p:nvSpPr>
          <p:spPr>
            <a:xfrm>
              <a:off x="6805440" y="3956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6"/>
            <p:cNvSpPr/>
            <p:nvPr/>
          </p:nvSpPr>
          <p:spPr>
            <a:xfrm>
              <a:off x="6229440" y="47005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 Box 17"/>
          <p:cNvSpPr/>
          <p:nvPr/>
        </p:nvSpPr>
        <p:spPr>
          <a:xfrm>
            <a:off x="6948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8"/>
          <p:cNvSpPr/>
          <p:nvPr/>
        </p:nvSpPr>
        <p:spPr>
          <a:xfrm>
            <a:off x="7021800" y="45594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685800" y="1143000"/>
            <a:ext cx="8280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9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根据下列表格的对应值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判断方程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0 (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≠0,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为常数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一个解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范围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3&lt;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&lt; 3.23           B. 3.23  &lt;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&lt; 3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3.24 &lt;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lt; 3.25       D.  3.25 &lt;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lt; 3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830160" y="1935000"/>
          <a:ext cx="7032600" cy="1440000"/>
        </p:xfrm>
        <a:graphic>
          <a:graphicData uri="http://schemas.openxmlformats.org/drawingml/2006/table">
            <a:tbl>
              <a:tblPr/>
              <a:tblGrid>
                <a:gridCol w="2303640"/>
                <a:gridCol w="1071360"/>
                <a:gridCol w="1219320"/>
                <a:gridCol w="1218960"/>
                <a:gridCol w="12193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     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y=ax</a:t>
                      </a:r>
                      <a:r>
                        <a:rPr b="1" lang="en-US" sz="2800" spc="-1" strike="noStrike" baseline="30000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-0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-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0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23"/>
          <p:cNvSpPr/>
          <p:nvPr/>
        </p:nvSpPr>
        <p:spPr>
          <a:xfrm>
            <a:off x="2805120" y="41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4"/>
          <p:cNvSpPr/>
          <p:nvPr/>
        </p:nvSpPr>
        <p:spPr>
          <a:xfrm>
            <a:off x="900000" y="17017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抛物线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=2x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-kx-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轴两交点的横坐标，一个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大于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另一个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小于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试求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取值范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685800" y="144792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已知抛物线                                     和直线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相交于点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P(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m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求这两个函数的关系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当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取何值时，抛物线与直线相交，并求交点坐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Object 3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3200400" cy="582840"/>
          </a:xfrm>
          <a:prstGeom prst="rect">
            <a:avLst/>
          </a:prstGeom>
          <a:ln w="0">
            <a:noFill/>
          </a:ln>
        </p:spPr>
      </p:pic>
      <p:pic>
        <p:nvPicPr>
          <p:cNvPr id="474" name="Object 4" descr=""/>
          <p:cNvPicPr/>
          <p:nvPr/>
        </p:nvPicPr>
        <p:blipFill>
          <a:blip r:embed="rId3"/>
          <a:stretch/>
        </p:blipFill>
        <p:spPr>
          <a:xfrm>
            <a:off x="380880" y="2133720"/>
            <a:ext cx="18115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181080" y="477720"/>
            <a:ext cx="864072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因为点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在直线                      上，所以                       ，解得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。因为点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在抛物线                                     上，所以有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依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这个方程组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抛物线与直线的两个交点坐标分别是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Object 3" descr=""/>
          <p:cNvPicPr/>
          <p:nvPr/>
        </p:nvPicPr>
        <p:blipFill>
          <a:blip r:embed="rId1"/>
          <a:stretch/>
        </p:blipFill>
        <p:spPr>
          <a:xfrm>
            <a:off x="6012000" y="476280"/>
            <a:ext cx="1828800" cy="555480"/>
          </a:xfrm>
          <a:prstGeom prst="rect">
            <a:avLst/>
          </a:prstGeom>
          <a:ln w="0">
            <a:noFill/>
          </a:ln>
        </p:spPr>
      </p:pic>
      <p:pic>
        <p:nvPicPr>
          <p:cNvPr id="477" name="Object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1927080" cy="457200"/>
          </a:xfrm>
          <a:prstGeom prst="rect">
            <a:avLst/>
          </a:prstGeom>
          <a:ln w="0">
            <a:noFill/>
          </a:ln>
        </p:spPr>
      </p:pic>
      <p:pic>
        <p:nvPicPr>
          <p:cNvPr id="478" name="Object 5" descr=""/>
          <p:cNvPicPr/>
          <p:nvPr/>
        </p:nvPicPr>
        <p:blipFill>
          <a:blip r:embed="rId3"/>
          <a:stretch/>
        </p:blipFill>
        <p:spPr>
          <a:xfrm>
            <a:off x="1836720" y="1557360"/>
            <a:ext cx="1800360" cy="555480"/>
          </a:xfrm>
          <a:prstGeom prst="rect">
            <a:avLst/>
          </a:prstGeom>
          <a:ln w="0">
            <a:noFill/>
          </a:ln>
        </p:spPr>
      </p:pic>
      <p:pic>
        <p:nvPicPr>
          <p:cNvPr id="479" name="Object 6" descr=""/>
          <p:cNvPicPr/>
          <p:nvPr/>
        </p:nvPicPr>
        <p:blipFill>
          <a:blip r:embed="rId4"/>
          <a:stretch/>
        </p:blipFill>
        <p:spPr>
          <a:xfrm>
            <a:off x="1692360" y="2060640"/>
            <a:ext cx="3228840" cy="590400"/>
          </a:xfrm>
          <a:prstGeom prst="rect">
            <a:avLst/>
          </a:prstGeom>
          <a:ln w="0">
            <a:noFill/>
          </a:ln>
        </p:spPr>
      </p:pic>
      <p:pic>
        <p:nvPicPr>
          <p:cNvPr id="480" name="Object 7" descr=""/>
          <p:cNvPicPr/>
          <p:nvPr/>
        </p:nvPicPr>
        <p:blipFill>
          <a:blip r:embed="rId5"/>
          <a:stretch/>
        </p:blipFill>
        <p:spPr>
          <a:xfrm>
            <a:off x="2197080" y="2925720"/>
            <a:ext cx="3240000" cy="673200"/>
          </a:xfrm>
          <a:prstGeom prst="rect">
            <a:avLst/>
          </a:prstGeom>
          <a:ln w="0">
            <a:noFill/>
          </a:ln>
        </p:spPr>
      </p:pic>
      <p:pic>
        <p:nvPicPr>
          <p:cNvPr id="481" name="Object 8" descr=""/>
          <p:cNvPicPr/>
          <p:nvPr/>
        </p:nvPicPr>
        <p:blipFill>
          <a:blip r:embed="rId6"/>
          <a:stretch/>
        </p:blipFill>
        <p:spPr>
          <a:xfrm>
            <a:off x="4140360" y="3718080"/>
            <a:ext cx="2447640" cy="1036440"/>
          </a:xfrm>
          <a:prstGeom prst="rect">
            <a:avLst/>
          </a:prstGeom>
          <a:ln w="0">
            <a:noFill/>
          </a:ln>
        </p:spPr>
      </p:pic>
      <p:pic>
        <p:nvPicPr>
          <p:cNvPr id="482" name="Object 9" descr=""/>
          <p:cNvPicPr/>
          <p:nvPr/>
        </p:nvPicPr>
        <p:blipFill>
          <a:blip r:embed="rId7"/>
          <a:stretch/>
        </p:blipFill>
        <p:spPr>
          <a:xfrm>
            <a:off x="3851280" y="4870440"/>
            <a:ext cx="1225440" cy="1228680"/>
          </a:xfrm>
          <a:prstGeom prst="rect">
            <a:avLst/>
          </a:prstGeom>
          <a:ln w="0">
            <a:noFill/>
          </a:ln>
        </p:spPr>
      </p:pic>
      <p:pic>
        <p:nvPicPr>
          <p:cNvPr id="483" name="Object 10" descr=""/>
          <p:cNvPicPr/>
          <p:nvPr/>
        </p:nvPicPr>
        <p:blipFill>
          <a:blip r:embed="rId8"/>
          <a:stretch/>
        </p:blipFill>
        <p:spPr>
          <a:xfrm>
            <a:off x="5796000" y="4726080"/>
            <a:ext cx="144000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用图像法求一元二次方程的近似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WordArt 2"/>
          <p:cNvSpPr txBox="1"/>
          <p:nvPr/>
        </p:nvSpPr>
        <p:spPr>
          <a:xfrm>
            <a:off x="179280" y="189000"/>
            <a:ext cx="733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748440" y="2021040"/>
            <a:ext cx="388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方法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: (1)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先作出图象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写出交点的坐标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-1.3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、（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2.3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得出方程的解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x =-1.3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x =2.3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826920" y="90792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二次函数的图象求方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x-3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实数根（精确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5"/>
          <p:cNvGrpSpPr/>
          <p:nvPr/>
        </p:nvGrpSpPr>
        <p:grpSpPr>
          <a:xfrm>
            <a:off x="6443640" y="5516640"/>
            <a:ext cx="2448000" cy="1557000"/>
            <a:chOff x="6443640" y="5516640"/>
            <a:chExt cx="2448000" cy="1557000"/>
          </a:xfrm>
        </p:grpSpPr>
        <p:pic>
          <p:nvPicPr>
            <p:cNvPr id="489" name="Picture 6" descr="PE02604_"/>
            <p:cNvPicPr/>
            <p:nvPr/>
          </p:nvPicPr>
          <p:blipFill>
            <a:blip r:embed="rId2"/>
            <a:stretch/>
          </p:blipFill>
          <p:spPr>
            <a:xfrm>
              <a:off x="6443640" y="551664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7"/>
            <p:cNvSpPr/>
            <p:nvPr/>
          </p:nvSpPr>
          <p:spPr>
            <a:xfrm>
              <a:off x="7883640" y="5516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1" name="Picture 8" descr=""/>
          <p:cNvPicPr/>
          <p:nvPr/>
        </p:nvPicPr>
        <p:blipFill>
          <a:blip r:embed="rId3"/>
          <a:stretch/>
        </p:blipFill>
        <p:spPr>
          <a:xfrm>
            <a:off x="5219640" y="184464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9"/>
          <p:cNvSpPr/>
          <p:nvPr/>
        </p:nvSpPr>
        <p:spPr>
          <a:xfrm>
            <a:off x="8369280" y="316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6713280" y="172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11" descr=""/>
          <p:cNvPicPr/>
          <p:nvPr/>
        </p:nvPicPr>
        <p:blipFill>
          <a:blip r:embed="rId4"/>
          <a:stretch/>
        </p:blipFill>
        <p:spPr>
          <a:xfrm>
            <a:off x="2438280" y="3754440"/>
            <a:ext cx="76320" cy="216000"/>
          </a:xfrm>
          <a:prstGeom prst="rect">
            <a:avLst/>
          </a:prstGeom>
          <a:ln w="0">
            <a:noFill/>
          </a:ln>
        </p:spPr>
      </p:pic>
      <p:pic>
        <p:nvPicPr>
          <p:cNvPr id="495" name="Object 12" descr=""/>
          <p:cNvPicPr/>
          <p:nvPr/>
        </p:nvPicPr>
        <p:blipFill>
          <a:blip r:embed="rId5"/>
          <a:stretch/>
        </p:blipFill>
        <p:spPr>
          <a:xfrm>
            <a:off x="3276720" y="4149720"/>
            <a:ext cx="269640" cy="574560"/>
          </a:xfrm>
          <a:prstGeom prst="rect">
            <a:avLst/>
          </a:prstGeom>
          <a:ln w="0">
            <a:noFill/>
          </a:ln>
        </p:spPr>
      </p:pic>
      <p:pic>
        <p:nvPicPr>
          <p:cNvPr id="496" name="Object 13" descr=""/>
          <p:cNvPicPr/>
          <p:nvPr/>
        </p:nvPicPr>
        <p:blipFill>
          <a:blip r:embed="rId6"/>
          <a:stretch/>
        </p:blipFill>
        <p:spPr>
          <a:xfrm>
            <a:off x="1403280" y="3933720"/>
            <a:ext cx="304920" cy="86544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4"/>
          <p:cNvSpPr/>
          <p:nvPr/>
        </p:nvSpPr>
        <p:spPr>
          <a:xfrm>
            <a:off x="1452240" y="524844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你学过的一元二次方程的解法来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准确答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0" y="168120"/>
            <a:ext cx="9153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】你能利用二次函数的图象估计一元二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两根吗？其基本步骤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Object 3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3040200" cy="630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68"/>
          <p:cNvPicPr/>
          <p:nvPr/>
        </p:nvPicPr>
        <p:blipFill>
          <a:blip r:embed="rId2"/>
          <a:stretch/>
        </p:blipFill>
        <p:spPr>
          <a:xfrm>
            <a:off x="4989600" y="1295280"/>
            <a:ext cx="4154400" cy="55627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5"/>
          <p:cNvSpPr/>
          <p:nvPr/>
        </p:nvSpPr>
        <p:spPr>
          <a:xfrm>
            <a:off x="152280" y="1143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画出函数的图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52280" y="1752480"/>
            <a:ext cx="5105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由图象可知方程有两个根，一个根在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－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间，一个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152280" y="3581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228600" y="3276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探求其解的十分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6320" y="3809880"/>
          <a:ext cx="4800600" cy="2209680"/>
        </p:xfrm>
        <a:graphic>
          <a:graphicData uri="http://schemas.openxmlformats.org/drawingml/2006/table">
            <a:tbl>
              <a:tblPr/>
              <a:tblGrid>
                <a:gridCol w="380880"/>
                <a:gridCol w="1143000"/>
                <a:gridCol w="1143000"/>
                <a:gridCol w="1143000"/>
                <a:gridCol w="990720"/>
              </a:tblGrid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1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0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0.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1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0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0.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 Box 41"/>
          <p:cNvSpPr/>
          <p:nvPr/>
        </p:nvSpPr>
        <p:spPr>
          <a:xfrm>
            <a:off x="0" y="624852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∴ </a:t>
            </a: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方程的两个近似根为</a:t>
            </a: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x</a:t>
            </a:r>
            <a:r>
              <a:rPr b="1" lang="zh-CN" sz="1800" spc="-1" strike="noStrike" baseline="-25000">
                <a:solidFill>
                  <a:srgbClr val="ed3c05"/>
                </a:solidFill>
                <a:latin typeface="华文中宋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≈</a:t>
            </a: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－</a:t>
            </a: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4.3</a:t>
            </a: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，</a:t>
            </a: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x</a:t>
            </a:r>
            <a:r>
              <a:rPr b="1" lang="zh-CN" sz="1800" spc="-1" strike="noStrike" baseline="-25000">
                <a:solidFill>
                  <a:srgbClr val="ed3c05"/>
                </a:solidFill>
                <a:latin typeface="华文中宋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≈2.3</a:t>
            </a:r>
            <a:r>
              <a:rPr b="1" lang="zh-CN" sz="1800" spc="-1" strike="noStrike">
                <a:solidFill>
                  <a:srgbClr val="ed3c05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5029200" y="1295280"/>
            <a:ext cx="4114800" cy="5122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基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画出函数的图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根据图象确定抛物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轴的交点分别在哪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个相邻的整数之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利用计算器探索其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十分位数字，从而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方程的近似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219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知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数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-4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于方程的根起着关键的作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179280" y="-96840"/>
            <a:ext cx="1332000" cy="1321920"/>
            <a:chOff x="179280" y="-96840"/>
            <a:chExt cx="1332000" cy="1321920"/>
          </a:xfrm>
        </p:grpSpPr>
        <p:grpSp>
          <p:nvGrpSpPr>
            <p:cNvPr id="63" name="Group 4"/>
            <p:cNvGrpSpPr/>
            <p:nvPr/>
          </p:nvGrpSpPr>
          <p:grpSpPr>
            <a:xfrm>
              <a:off x="179280" y="-96840"/>
              <a:ext cx="1309680" cy="1321920"/>
              <a:chOff x="179280" y="-96840"/>
              <a:chExt cx="1309680" cy="1321920"/>
            </a:xfrm>
          </p:grpSpPr>
          <p:sp>
            <p:nvSpPr>
              <p:cNvPr id="64" name="AutoShape 5"/>
              <p:cNvSpPr/>
              <p:nvPr/>
            </p:nvSpPr>
            <p:spPr>
              <a:xfrm>
                <a:off x="179280" y="-96840"/>
                <a:ext cx="1279080" cy="13219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6"/>
              <p:cNvSpPr/>
              <p:nvPr/>
            </p:nvSpPr>
            <p:spPr>
              <a:xfrm>
                <a:off x="193680" y="-86400"/>
                <a:ext cx="1295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" name="Picture 7" descr="慢跑"/>
            <p:cNvPicPr/>
            <p:nvPr/>
          </p:nvPicPr>
          <p:blipFill>
            <a:blip r:embed="rId3"/>
            <a:stretch/>
          </p:blipFill>
          <p:spPr>
            <a:xfrm>
              <a:off x="1104840" y="131400"/>
              <a:ext cx="338400" cy="8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跳动的心"/>
            <p:cNvPicPr/>
            <p:nvPr/>
          </p:nvPicPr>
          <p:blipFill>
            <a:blip r:embed="rId4"/>
            <a:stretch/>
          </p:blipFill>
          <p:spPr>
            <a:xfrm>
              <a:off x="563040" y="359640"/>
              <a:ext cx="135360" cy="4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9"/>
            <p:cNvSpPr/>
            <p:nvPr/>
          </p:nvSpPr>
          <p:spPr>
            <a:xfrm>
              <a:off x="223920" y="251640"/>
              <a:ext cx="128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复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Object 10" descr=""/>
          <p:cNvPicPr/>
          <p:nvPr/>
        </p:nvPicPr>
        <p:blipFill>
          <a:blip r:embed="rId5"/>
          <a:stretch/>
        </p:blipFill>
        <p:spPr>
          <a:xfrm>
            <a:off x="1116000" y="2133720"/>
            <a:ext cx="3079800" cy="9442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11" descr=""/>
          <p:cNvPicPr/>
          <p:nvPr/>
        </p:nvPicPr>
        <p:blipFill>
          <a:blip r:embed="rId6"/>
          <a:stretch/>
        </p:blipFill>
        <p:spPr>
          <a:xfrm>
            <a:off x="314280" y="1676520"/>
            <a:ext cx="8601120" cy="485640"/>
          </a:xfrm>
          <a:prstGeom prst="rect">
            <a:avLst/>
          </a:prstGeom>
          <a:ln w="0">
            <a:noFill/>
          </a:ln>
        </p:spPr>
      </p:pic>
      <p:pic>
        <p:nvPicPr>
          <p:cNvPr id="71" name="Object 12" descr=""/>
          <p:cNvPicPr/>
          <p:nvPr/>
        </p:nvPicPr>
        <p:blipFill>
          <a:blip r:embed="rId7"/>
          <a:stretch/>
        </p:blipFill>
        <p:spPr>
          <a:xfrm>
            <a:off x="393840" y="3095640"/>
            <a:ext cx="8521560" cy="485640"/>
          </a:xfrm>
          <a:prstGeom prst="rect">
            <a:avLst/>
          </a:prstGeom>
          <a:ln w="0">
            <a:noFill/>
          </a:ln>
        </p:spPr>
      </p:pic>
      <p:pic>
        <p:nvPicPr>
          <p:cNvPr id="72" name="Object 13" descr=""/>
          <p:cNvPicPr/>
          <p:nvPr/>
        </p:nvPicPr>
        <p:blipFill>
          <a:blip r:embed="rId8"/>
          <a:stretch/>
        </p:blipFill>
        <p:spPr>
          <a:xfrm>
            <a:off x="1930320" y="3505320"/>
            <a:ext cx="1719360" cy="836640"/>
          </a:xfrm>
          <a:prstGeom prst="rect">
            <a:avLst/>
          </a:prstGeom>
          <a:ln w="0">
            <a:noFill/>
          </a:ln>
        </p:spPr>
      </p:pic>
      <p:pic>
        <p:nvPicPr>
          <p:cNvPr id="73" name="Object 14" descr=""/>
          <p:cNvPicPr/>
          <p:nvPr/>
        </p:nvPicPr>
        <p:blipFill>
          <a:blip r:embed="rId9"/>
          <a:stretch/>
        </p:blipFill>
        <p:spPr>
          <a:xfrm>
            <a:off x="457200" y="4314960"/>
            <a:ext cx="7383600" cy="485640"/>
          </a:xfrm>
          <a:prstGeom prst="rect">
            <a:avLst/>
          </a:prstGeom>
          <a:ln w="0">
            <a:noFill/>
          </a:ln>
        </p:spPr>
      </p:pic>
      <p:pic>
        <p:nvPicPr>
          <p:cNvPr id="74" name="Object 15" descr=""/>
          <p:cNvPicPr/>
          <p:nvPr/>
        </p:nvPicPr>
        <p:blipFill>
          <a:blip r:embed="rId10"/>
          <a:stretch/>
        </p:blipFill>
        <p:spPr>
          <a:xfrm>
            <a:off x="380880" y="5124600"/>
            <a:ext cx="7925040" cy="971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6"/>
          <p:cNvSpPr/>
          <p:nvPr/>
        </p:nvSpPr>
        <p:spPr>
          <a:xfrm>
            <a:off x="3654360" y="476280"/>
            <a:ext cx="27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元二次方程根的情况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²-4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69"/>
          <p:cNvPicPr/>
          <p:nvPr/>
        </p:nvPicPr>
        <p:blipFill>
          <a:blip r:embed="rId2"/>
          <a:stretch/>
        </p:blipFill>
        <p:spPr>
          <a:xfrm>
            <a:off x="0" y="0"/>
            <a:ext cx="4660920" cy="5029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70"/>
          <p:cNvPicPr/>
          <p:nvPr/>
        </p:nvPicPr>
        <p:blipFill>
          <a:blip r:embed="rId3"/>
          <a:stretch/>
        </p:blipFill>
        <p:spPr>
          <a:xfrm>
            <a:off x="4689360" y="0"/>
            <a:ext cx="4454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Object 2" descr=""/>
          <p:cNvPicPr/>
          <p:nvPr/>
        </p:nvPicPr>
        <p:blipFill>
          <a:blip r:embed="rId1"/>
          <a:stretch/>
        </p:blipFill>
        <p:spPr>
          <a:xfrm>
            <a:off x="2700360" y="2614680"/>
            <a:ext cx="1224000" cy="884160"/>
          </a:xfrm>
          <a:prstGeom prst="rect">
            <a:avLst/>
          </a:prstGeom>
          <a:ln w="0">
            <a:noFill/>
          </a:ln>
        </p:spPr>
      </p:pic>
      <p:sp>
        <p:nvSpPr>
          <p:cNvPr id="511" name="WordArt 3"/>
          <p:cNvSpPr txBox="1"/>
          <p:nvPr/>
        </p:nvSpPr>
        <p:spPr>
          <a:xfrm>
            <a:off x="3419640" y="189000"/>
            <a:ext cx="17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试一试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12" name="Object 4" descr=""/>
          <p:cNvPicPr/>
          <p:nvPr/>
        </p:nvPicPr>
        <p:blipFill>
          <a:blip r:embed="rId2"/>
          <a:stretch/>
        </p:blipFill>
        <p:spPr>
          <a:xfrm>
            <a:off x="395280" y="909720"/>
            <a:ext cx="8209080" cy="49068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745308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5294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7"/>
          <p:cNvGrpSpPr/>
          <p:nvPr/>
        </p:nvGrpSpPr>
        <p:grpSpPr>
          <a:xfrm>
            <a:off x="6443640" y="5516640"/>
            <a:ext cx="2448000" cy="1557000"/>
            <a:chOff x="6443640" y="5516640"/>
            <a:chExt cx="2448000" cy="1557000"/>
          </a:xfrm>
        </p:grpSpPr>
        <p:pic>
          <p:nvPicPr>
            <p:cNvPr id="516" name="Picture 8" descr="PE02604_"/>
            <p:cNvPicPr/>
            <p:nvPr/>
          </p:nvPicPr>
          <p:blipFill>
            <a:blip r:embed="rId3"/>
            <a:stretch/>
          </p:blipFill>
          <p:spPr>
            <a:xfrm>
              <a:off x="6443640" y="551664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9"/>
            <p:cNvSpPr/>
            <p:nvPr/>
          </p:nvSpPr>
          <p:spPr>
            <a:xfrm>
              <a:off x="7883640" y="5516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0" y="-23760"/>
            <a:ext cx="9396360" cy="6881400"/>
            <a:chOff x="0" y="-23760"/>
            <a:chExt cx="9396360" cy="6881400"/>
          </a:xfrm>
        </p:grpSpPr>
        <p:pic>
          <p:nvPicPr>
            <p:cNvPr id="519" name="Picture 3" descr="wl-007"/>
            <p:cNvPicPr/>
            <p:nvPr/>
          </p:nvPicPr>
          <p:blipFill>
            <a:blip r:embed="rId1"/>
            <a:stretch/>
          </p:blipFill>
          <p:spPr>
            <a:xfrm>
              <a:off x="0" y="-2376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Rectangle 4"/>
            <p:cNvSpPr/>
            <p:nvPr/>
          </p:nvSpPr>
          <p:spPr>
            <a:xfrm>
              <a:off x="0" y="6283440"/>
              <a:ext cx="9144000" cy="574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5"/>
            <p:cNvSpPr/>
            <p:nvPr/>
          </p:nvSpPr>
          <p:spPr>
            <a:xfrm>
              <a:off x="0" y="6373800"/>
              <a:ext cx="266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"/>
            <p:cNvSpPr/>
            <p:nvPr/>
          </p:nvSpPr>
          <p:spPr>
            <a:xfrm>
              <a:off x="6985080" y="6329520"/>
              <a:ext cx="2411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7"/>
          <p:cNvSpPr/>
          <p:nvPr/>
        </p:nvSpPr>
        <p:spPr>
          <a:xfrm>
            <a:off x="179280" y="76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086120" y="692280"/>
            <a:ext cx="67791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二次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ax+bx+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图象如图所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元二次方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x+bx+c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解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9"/>
          <p:cNvSpPr/>
          <p:nvPr/>
        </p:nvSpPr>
        <p:spPr>
          <a:xfrm rot="16481400">
            <a:off x="6375240" y="2633040"/>
            <a:ext cx="1293480" cy="129996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cubicBezTo>
                  <a:pt x="576" y="108"/>
                  <a:pt x="1152" y="216"/>
                  <a:pt x="1152" y="384"/>
                </a:cubicBezTo>
                <a:cubicBezTo>
                  <a:pt x="1152" y="552"/>
                  <a:pt x="184" y="904"/>
                  <a:pt x="0" y="100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0"/>
          <p:cNvSpPr/>
          <p:nvPr/>
        </p:nvSpPr>
        <p:spPr>
          <a:xfrm flipV="1">
            <a:off x="6372360" y="2204640"/>
            <a:ext cx="0" cy="213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1"/>
          <p:cNvSpPr/>
          <p:nvPr/>
        </p:nvSpPr>
        <p:spPr>
          <a:xfrm>
            <a:off x="6012000" y="3716280"/>
            <a:ext cx="249696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95816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594216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6013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592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392616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306108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79280" y="2708280"/>
            <a:ext cx="568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抛物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bx+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&gt;0,c&lt;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象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交点情况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交点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一个交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两个交点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395280" y="357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6160320" y="1628640"/>
            <a:ext cx="175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zh-CN" sz="2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=0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zh-CN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95280" y="1125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关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元二次方程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2x+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两个相等的实数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＿＿＿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时抛物线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=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2x+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有＿＿＿＿个交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95280" y="2565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抛物线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=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– 8x +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顶点在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348000" y="155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1619280" y="19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547640" y="3068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7"/>
          <p:cNvGrpSpPr/>
          <p:nvPr/>
        </p:nvGrpSpPr>
        <p:grpSpPr>
          <a:xfrm>
            <a:off x="0" y="-23760"/>
            <a:ext cx="9396360" cy="6881400"/>
            <a:chOff x="0" y="-23760"/>
            <a:chExt cx="9396360" cy="6881400"/>
          </a:xfrm>
        </p:grpSpPr>
        <p:pic>
          <p:nvPicPr>
            <p:cNvPr id="544" name="Picture 8" descr="wl-007"/>
            <p:cNvPicPr/>
            <p:nvPr/>
          </p:nvPicPr>
          <p:blipFill>
            <a:blip r:embed="rId1"/>
            <a:stretch/>
          </p:blipFill>
          <p:spPr>
            <a:xfrm>
              <a:off x="0" y="-2376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0" y="6283440"/>
              <a:ext cx="9144000" cy="574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0"/>
            <p:cNvSpPr/>
            <p:nvPr/>
          </p:nvSpPr>
          <p:spPr>
            <a:xfrm>
              <a:off x="0" y="6373800"/>
              <a:ext cx="266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1"/>
            <p:cNvSpPr/>
            <p:nvPr/>
          </p:nvSpPr>
          <p:spPr>
            <a:xfrm>
              <a:off x="6985080" y="6329520"/>
              <a:ext cx="2411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87487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一元二次方程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3 x</a:t>
            </a:r>
            <a:r>
              <a:rPr b="1" lang="zh-CN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+x-10=0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的两个根是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= -2 ,x</a:t>
            </a:r>
            <a:r>
              <a:rPr b="1" lang="zh-CN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=5/3,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那么二次函数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y= 3 x</a:t>
            </a:r>
            <a:r>
              <a:rPr b="1" lang="zh-CN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+x-10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轴的交点坐标是＿＿＿＿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6084720" y="573408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6059160" y="4941720"/>
            <a:ext cx="28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-2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）（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5/3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395280" y="692280"/>
            <a:ext cx="8280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根据下列表格的对应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方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bx+c=0 (a≠0,a,b,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常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范围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 3&lt; X &lt; 3.23           B   3.23  &lt; X &lt; 3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  3.24 &lt;X&lt; 3.25       D   3.25 &lt;X&lt; 3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539640" y="1484280"/>
          <a:ext cx="7032600" cy="1440000"/>
        </p:xfrm>
        <a:graphic>
          <a:graphicData uri="http://schemas.openxmlformats.org/drawingml/2006/table">
            <a:tbl>
              <a:tblPr/>
              <a:tblGrid>
                <a:gridCol w="2303640"/>
                <a:gridCol w="1071360"/>
                <a:gridCol w="1219320"/>
                <a:gridCol w="1218960"/>
                <a:gridCol w="12193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bx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Text Box 23"/>
          <p:cNvSpPr/>
          <p:nvPr/>
        </p:nvSpPr>
        <p:spPr>
          <a:xfrm>
            <a:off x="1692360" y="378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552600" y="228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140400" y="990720"/>
            <a:ext cx="749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抛物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x+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有两个交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1204560" y="2362320"/>
            <a:ext cx="61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如果关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方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2x+m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两个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实数根，此时抛物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2x+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个交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1254960" y="4191120"/>
            <a:ext cx="70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抛物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kx+k-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个数为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无法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WordArt 6"/>
          <p:cNvSpPr txBox="1"/>
          <p:nvPr/>
        </p:nvSpPr>
        <p:spPr>
          <a:xfrm>
            <a:off x="5940360" y="573408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亮出你的风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已知二次函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=-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2x+k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轴的公共点有两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取值范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=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，求抛物线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轴的公共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坐标及顶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坐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观察图象，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何值时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=0,y&gt;0,y&lt;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轴下方的抛物线上是否存在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⊿AB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</a:rPr>
              <a:t>⊿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一半，若存在，求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点的坐标，若不存在，请说明理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"/>
          <p:cNvGrpSpPr/>
          <p:nvPr/>
        </p:nvGrpSpPr>
        <p:grpSpPr>
          <a:xfrm>
            <a:off x="6443640" y="5516640"/>
            <a:ext cx="2448000" cy="1557000"/>
            <a:chOff x="6443640" y="5516640"/>
            <a:chExt cx="2448000" cy="1557000"/>
          </a:xfrm>
        </p:grpSpPr>
        <p:pic>
          <p:nvPicPr>
            <p:cNvPr id="561" name="Picture 4" descr="PE02604_"/>
            <p:cNvPicPr/>
            <p:nvPr/>
          </p:nvPicPr>
          <p:blipFill>
            <a:blip r:embed="rId1"/>
            <a:stretch/>
          </p:blipFill>
          <p:spPr>
            <a:xfrm>
              <a:off x="6443640" y="551664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5"/>
            <p:cNvSpPr/>
            <p:nvPr/>
          </p:nvSpPr>
          <p:spPr>
            <a:xfrm>
              <a:off x="7883640" y="5516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WordArt 6"/>
          <p:cNvSpPr txBox="1"/>
          <p:nvPr/>
        </p:nvSpPr>
        <p:spPr>
          <a:xfrm>
            <a:off x="250920" y="11592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亮出你的风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4" name="Picture 7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2876760" cy="25243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8"/>
          <p:cNvSpPr/>
          <p:nvPr/>
        </p:nvSpPr>
        <p:spPr>
          <a:xfrm>
            <a:off x="6786360" y="20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513640" y="27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8200"/>
          <p:cNvSpPr/>
          <p:nvPr/>
        </p:nvSpPr>
        <p:spPr>
          <a:xfrm>
            <a:off x="790560" y="5902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WordArt 2"/>
          <p:cNvSpPr txBox="1"/>
          <p:nvPr/>
        </p:nvSpPr>
        <p:spPr>
          <a:xfrm>
            <a:off x="1332000" y="738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亮出你的风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69" name="Group 3"/>
          <p:cNvGrpSpPr/>
          <p:nvPr/>
        </p:nvGrpSpPr>
        <p:grpSpPr>
          <a:xfrm>
            <a:off x="6696000" y="5445000"/>
            <a:ext cx="2448000" cy="1557000"/>
            <a:chOff x="6696000" y="5445000"/>
            <a:chExt cx="2448000" cy="1557000"/>
          </a:xfrm>
        </p:grpSpPr>
        <p:pic>
          <p:nvPicPr>
            <p:cNvPr id="570" name="Picture 4" descr="PE02604_"/>
            <p:cNvPicPr/>
            <p:nvPr/>
          </p:nvPicPr>
          <p:blipFill>
            <a:blip r:embed="rId2"/>
            <a:stretch/>
          </p:blipFill>
          <p:spPr>
            <a:xfrm>
              <a:off x="6696000" y="544500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5"/>
            <p:cNvSpPr/>
            <p:nvPr/>
          </p:nvSpPr>
          <p:spPr>
            <a:xfrm>
              <a:off x="8136000" y="544500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6"/>
          <p:cNvSpPr/>
          <p:nvPr/>
        </p:nvSpPr>
        <p:spPr>
          <a:xfrm>
            <a:off x="154080" y="177336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已知二次函数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y=x</a:t>
            </a:r>
            <a:r>
              <a:rPr b="1" lang="zh-CN" sz="36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-mx-m</a:t>
            </a:r>
            <a:r>
              <a:rPr b="1" lang="zh-CN" sz="36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）求证：对于任意实数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，该二次函数的图像与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轴总有公共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）该二次函数的图像与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轴有两个公共点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，且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点坐标为（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），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点坐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92720" cy="3822480"/>
          </a:xfrm>
          <a:prstGeom prst="rect">
            <a:avLst/>
          </a:prstGeom>
          <a:ln w="0">
            <a:noFill/>
          </a:ln>
        </p:spPr>
      </p:pic>
      <p:pic>
        <p:nvPicPr>
          <p:cNvPr id="574" name="Object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5694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4859280" y="3529080"/>
            <a:ext cx="3672000" cy="3016080"/>
          </a:xfrm>
          <a:prstGeom prst="rect">
            <a:avLst/>
          </a:prstGeom>
          <a:ln w="0">
            <a:noFill/>
          </a:ln>
        </p:spPr>
      </p:pic>
      <p:pic>
        <p:nvPicPr>
          <p:cNvPr id="576" name="Object 4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87138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39640" y="431640"/>
            <a:ext cx="8280360" cy="27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探究一：二次函数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y=a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+bx+c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与一元二次方程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a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+bx+c=0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有什么关系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1"/>
          <p:cNvPicPr/>
          <p:nvPr/>
        </p:nvPicPr>
        <p:blipFill>
          <a:blip r:embed="rId2"/>
          <a:stretch/>
        </p:blipFill>
        <p:spPr>
          <a:xfrm>
            <a:off x="6110280" y="3429000"/>
            <a:ext cx="2206800" cy="280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1"/>
          <p:cNvPicPr/>
          <p:nvPr/>
        </p:nvPicPr>
        <p:blipFill>
          <a:blip r:embed="rId3"/>
          <a:stretch/>
        </p:blipFill>
        <p:spPr>
          <a:xfrm>
            <a:off x="3348000" y="3357720"/>
            <a:ext cx="2228760" cy="280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"/>
          <p:cNvPicPr/>
          <p:nvPr/>
        </p:nvPicPr>
        <p:blipFill>
          <a:blip r:embed="rId4"/>
          <a:stretch/>
        </p:blipFill>
        <p:spPr>
          <a:xfrm>
            <a:off x="395280" y="3373560"/>
            <a:ext cx="26319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A671-884B-4054-9894-3D968021B0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8928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一次函数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y=kx+b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与一元一次方程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kx+b=0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有什么关系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2781360"/>
            <a:ext cx="849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你能否用类比的方法猜想二次函数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y=a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+bx+c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元二次方程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a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+bx+c=0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的关系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609480" y="91440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以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0 m /s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速度将小球沿与地面成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角的方向击出时，球的飞行路线是一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抛物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如果不考虑空气阻力，球的飞行高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m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飞行时间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s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之间具有关系：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=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考虑下列问题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5 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能，需要多少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 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能，需要多少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.5 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从飞出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落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要用多少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"/>
          <p:cNvSpPr/>
          <p:nvPr/>
        </p:nvSpPr>
        <p:spPr>
          <a:xfrm>
            <a:off x="2705040" y="5654520"/>
            <a:ext cx="4032360" cy="79236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1697040" y="644688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1523880" y="1440"/>
            <a:ext cx="3408120" cy="912960"/>
            <a:chOff x="1523880" y="1440"/>
            <a:chExt cx="3408120" cy="912960"/>
          </a:xfrm>
        </p:grpSpPr>
        <p:sp>
          <p:nvSpPr>
            <p:cNvPr id="86" name="Oval 7"/>
            <p:cNvSpPr/>
            <p:nvPr/>
          </p:nvSpPr>
          <p:spPr>
            <a:xfrm>
              <a:off x="1523880" y="1440"/>
              <a:ext cx="3132000" cy="9129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1800000" y="77400"/>
              <a:ext cx="3132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实际问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Oval 9"/>
          <p:cNvSpPr/>
          <p:nvPr/>
        </p:nvSpPr>
        <p:spPr>
          <a:xfrm>
            <a:off x="2362320" y="6019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838080" y="1447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15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72428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514600" y="1903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498760" y="2438280"/>
            <a:ext cx="34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1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362320" y="3048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当球飞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1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3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它的高度为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15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2514600" y="3962520"/>
            <a:ext cx="4724280" cy="140148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1828800" y="541008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3809880" y="4343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5867280" y="4343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3809880" y="4343400"/>
            <a:ext cx="2057400" cy="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358128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5715000" y="541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3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4952880" y="4572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541008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54100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8"/>
          <p:cNvSpPr/>
          <p:nvPr/>
        </p:nvSpPr>
        <p:spPr>
          <a:xfrm>
            <a:off x="2133720" y="4952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973160" y="44280"/>
            <a:ext cx="60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以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0 m /s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速度将小球沿与地面成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°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角的方向击出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球的飞行路线是一条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抛物线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如果不考虑空气阻力，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飞行高度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(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m)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飞行时间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(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s)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之间具有关系：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=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考虑下列问题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5 m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能，需要多少时间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38080" y="38862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2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724280" y="3886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14600" y="4341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98760" y="4876920"/>
            <a:ext cx="34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362320" y="5486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当球飞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它的高度为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0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0"/>
          <p:cNvSpPr/>
          <p:nvPr/>
        </p:nvSpPr>
        <p:spPr>
          <a:xfrm>
            <a:off x="2362320" y="1295280"/>
            <a:ext cx="4724280" cy="140184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63360">
            <a:solidFill>
              <a:srgbClr val="336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676520" y="274320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4724280" y="12952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4572000" y="2743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5105520" y="1752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541008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54100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472428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1"/>
          <p:cNvSpPr/>
          <p:nvPr/>
        </p:nvSpPr>
        <p:spPr>
          <a:xfrm>
            <a:off x="1905120" y="2286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971640" y="117360"/>
            <a:ext cx="842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以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0 m /s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速度将小球沿与地面成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°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角的方向击出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球的飞行路线是一条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抛物线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如果不考虑空气阻力，球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飞行高度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(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m)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飞行时间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(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s)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之间具有关系：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=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考虑下列问题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 m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能，需要多少时间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1:44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8:35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