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444-2A29-4202-9001-AEA37364E7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20A5-CAA7-4592-A400-309596C132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E2A-66B8-4AAB-A9CE-1449FCB3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A62-E8C5-475F-90DF-F1DF730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2EE-C7DF-4CC4-A398-9244A6DF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D05-2B9B-4845-A0AC-210FB713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E79F-02B7-4EF3-811F-CBD61788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68F-FE17-4DE8-8AC3-11A65B1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07C1-7EF3-4F08-BB8E-6F1AF934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3960-FF9E-47A8-9328-D001843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1551-467E-4ABB-956A-CFE4C4B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B196-C1E8-430C-B5E9-CB335BC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FA9A-9988-4979-A936-5CB0FAC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9E2-81D9-40F5-BF11-A8F5F2DC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062-A170-4A3A-9BA9-BDEDD18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304-0F86-4696-BF93-0E67370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4518-82EB-4489-87DE-F99055D6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7213-188B-413D-9B8C-8867D077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CC5B-71EF-4535-808C-09D5389B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AD6-7939-4D95-BF1E-F99AD761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BEB-C76A-4FCE-BFF2-A05948C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CA6-3744-4AA8-9DA9-2C03BF2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AF2-B22B-4B12-B627-4CD26E5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EEF-DF5F-47A7-BBA9-1345E53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547-7351-460C-A86E-675D680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894-359D-472E-95F7-AFC7672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4D9-602A-4E0F-8AA2-72B374517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0A9-98FA-4783-98AE-2A136CAA2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秋天的田野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6   </a:t>
            </a: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丰 收 的 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矩形 8" descr=""/>
          <p:cNvPicPr/>
          <p:nvPr/>
        </p:nvPicPr>
        <p:blipFill>
          <a:blip r:embed="rId2"/>
          <a:stretch/>
        </p:blipFill>
        <p:spPr>
          <a:xfrm>
            <a:off x="1779480" y="5805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呀！眼前是一幅五彩的图画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梁举着一面面小红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稻穗泛起金黄的波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棉花吐出朵朵白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葡萄像串串紫色的玛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273320" y="17352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风说：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农民伯伯用汗水浇灌出来的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啊，丰收的画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挂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田野上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挂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场院里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挂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农民伯伯的笑脸上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也挂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的心中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。背诵第四自然段。说说课文最后一句话是什么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：这句话的意思是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田野里，场院里能看到高粱、稻穗、棉花、葡萄、玉米、南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的丰收景象。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农民伯伯的笑脸上就可以知道丰收了，农民为丰收而笑，小朋友们把丰收的景象看在了眼里，记在了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田野画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568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669040" y="6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丰收的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桔子"/>
          <p:cNvPicPr/>
          <p:nvPr/>
        </p:nvPicPr>
        <p:blipFill>
          <a:blip r:embed="rId1"/>
          <a:stretch/>
        </p:blipFill>
        <p:spPr>
          <a:xfrm>
            <a:off x="468360" y="233280"/>
            <a:ext cx="3598920" cy="6004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石榴"/>
          <p:cNvPicPr/>
          <p:nvPr/>
        </p:nvPicPr>
        <p:blipFill>
          <a:blip r:embed="rId2"/>
          <a:stretch/>
        </p:blipFill>
        <p:spPr>
          <a:xfrm>
            <a:off x="4140360" y="260280"/>
            <a:ext cx="50036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高梁粑"/>
          <p:cNvPicPr/>
          <p:nvPr/>
        </p:nvPicPr>
        <p:blipFill>
          <a:blip r:embed="rId1"/>
          <a:stretch/>
        </p:blipFill>
        <p:spPr>
          <a:xfrm>
            <a:off x="611280" y="260280"/>
            <a:ext cx="806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高梁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葡萄2"/>
          <p:cNvPicPr/>
          <p:nvPr/>
        </p:nvPicPr>
        <p:blipFill>
          <a:blip r:embed="rId1"/>
          <a:stretch/>
        </p:blipFill>
        <p:spPr>
          <a:xfrm>
            <a:off x="468360" y="1557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6719760" y="1919160"/>
            <a:ext cx="118584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382-D7BC-40B7-A463-8B7087C18D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秋天的树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秋天的树叶2"/>
          <p:cNvPicPr/>
          <p:nvPr/>
        </p:nvPicPr>
        <p:blipFill>
          <a:blip r:embed="rId1"/>
          <a:stretch/>
        </p:blipFill>
        <p:spPr>
          <a:xfrm>
            <a:off x="127080" y="88920"/>
            <a:ext cx="888984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丰 收 的 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秋风吹着口哨，从田野上跑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敲着小朋友的门，说：“秋天到了，快去看丰收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跑出来了，追着秋风，追着芳香，向田野跑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183528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高梁1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稻田"/>
          <p:cNvPicPr/>
          <p:nvPr/>
        </p:nvPicPr>
        <p:blipFill>
          <a:blip r:embed="rId1"/>
          <a:stretch/>
        </p:blipFill>
        <p:spPr>
          <a:xfrm>
            <a:off x="-195120" y="42840"/>
            <a:ext cx="95342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棉花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葡萄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呀！眼前是一幅五彩的图画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梁举着一面面小红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稻穗泛起金黄的波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棉花吐出朵朵白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葡萄像串串紫色的玛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美啊！是彩霞姑娘的花篮里撒下来的吗？是太阳公公的神笔画出来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20T01:03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5:08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