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BCCA-C1B1-494E-9511-DDBCC5D2E1A6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10C5-F26C-45CF-8929-CF1C5FECBE6A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907920" y="2200320"/>
            <a:ext cx="471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复式统计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93560" y="646200"/>
            <a:ext cx="55436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复式统计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7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835200" y="85104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4318560" y="60865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25440" y="65199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541080" y="6735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整理分析，解决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471600" y="42354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统计表包含哪几项内容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1328760" y="1498680"/>
            <a:ext cx="614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育人小学三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班学生体育成绩记录单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471600" y="45943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求：先将记录单中的数据整理在统计表中，再说一说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个班的体育成绩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4" name="组合 1"/>
          <p:cNvGrpSpPr/>
          <p:nvPr/>
        </p:nvGrpSpPr>
        <p:grpSpPr>
          <a:xfrm>
            <a:off x="666720" y="1878120"/>
            <a:ext cx="7358040" cy="2411280"/>
            <a:chOff x="666720" y="1878120"/>
            <a:chExt cx="7358040" cy="2411280"/>
          </a:xfrm>
        </p:grpSpPr>
        <p:sp>
          <p:nvSpPr>
            <p:cNvPr id="95" name="矩形 15"/>
            <p:cNvSpPr/>
            <p:nvPr/>
          </p:nvSpPr>
          <p:spPr>
            <a:xfrm>
              <a:off x="666720" y="1878120"/>
              <a:ext cx="73580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男生体育成绩记录单            女生体育成绩记录单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6" name="Picture 15" descr="学号表格"/>
            <p:cNvPicPr/>
            <p:nvPr/>
          </p:nvPicPr>
          <p:blipFill>
            <a:blip r:embed="rId1"/>
            <a:stretch/>
          </p:blipFill>
          <p:spPr>
            <a:xfrm>
              <a:off x="1116000" y="2205000"/>
              <a:ext cx="6265800" cy="208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6" descr="比赛表格"/>
          <p:cNvPicPr/>
          <p:nvPr/>
        </p:nvPicPr>
        <p:blipFill>
          <a:blip r:embed="rId2"/>
          <a:stretch/>
        </p:blipFill>
        <p:spPr>
          <a:xfrm>
            <a:off x="2009880" y="5407200"/>
            <a:ext cx="494352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统计活动，解决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42920" y="161964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你知道班里同学最喜欢看哪些课外书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42920" y="208152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活 </a:t>
            </a:r>
            <a:r>
              <a:rPr b="1" lang="zh-CN" sz="5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动：调查本班同学最喜欢的课外书类别，填写统计表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42920" y="497088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观察统计表，说一说你都知道了什么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42920" y="54439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你能给同学们或者图书管理员提出一些建议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3" name="Picture 11" descr="图书表格"/>
          <p:cNvPicPr/>
          <p:nvPr/>
        </p:nvPicPr>
        <p:blipFill>
          <a:blip r:embed="rId1"/>
          <a:stretch/>
        </p:blipFill>
        <p:spPr>
          <a:xfrm>
            <a:off x="843120" y="2630520"/>
            <a:ext cx="7634160" cy="1946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325440" y="65199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文本框 1"/>
          <p:cNvSpPr/>
          <p:nvPr/>
        </p:nvSpPr>
        <p:spPr>
          <a:xfrm>
            <a:off x="457200" y="635652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六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042920" y="2571840"/>
            <a:ext cx="7201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25440" y="65199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2F87-51C0-4166-BD74-D74A85B9C02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图片看书"/>
          <p:cNvPicPr/>
          <p:nvPr/>
        </p:nvPicPr>
        <p:blipFill>
          <a:blip r:embed="rId1"/>
          <a:stretch/>
        </p:blipFill>
        <p:spPr>
          <a:xfrm>
            <a:off x="2495520" y="3619440"/>
            <a:ext cx="4824360" cy="3035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调查统计，引发需求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57120" y="1428840"/>
            <a:ext cx="7286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创设情境，收集数据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62120" y="221580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课余时间，你最喜欢什么活动？（每人限说一种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762120" y="26931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下边有一些活动，你认为男生、女生最喜欢的会有不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同吗？怎样验证你的想法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25440" y="65199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41080" y="6735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调查统计，引发需求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57120" y="1428840"/>
            <a:ext cx="7286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创设情境，收集数据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763560" y="22132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活动：调查本班男（女）生最喜欢下面哪些活动，填写统计表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2" name="组合 1"/>
          <p:cNvGrpSpPr/>
          <p:nvPr/>
        </p:nvGrpSpPr>
        <p:grpSpPr>
          <a:xfrm>
            <a:off x="1628640" y="3000240"/>
            <a:ext cx="6328080" cy="3238560"/>
            <a:chOff x="1628640" y="3000240"/>
            <a:chExt cx="6328080" cy="3238560"/>
          </a:xfrm>
        </p:grpSpPr>
        <p:pic>
          <p:nvPicPr>
            <p:cNvPr id="63" name="Picture 55" descr=""/>
            <p:cNvPicPr/>
            <p:nvPr/>
          </p:nvPicPr>
          <p:blipFill>
            <a:blip r:embed="rId1"/>
            <a:stretch/>
          </p:blipFill>
          <p:spPr>
            <a:xfrm>
              <a:off x="1628640" y="3000240"/>
              <a:ext cx="6316560" cy="14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56" descr=""/>
            <p:cNvPicPr/>
            <p:nvPr/>
          </p:nvPicPr>
          <p:blipFill>
            <a:blip r:embed="rId2"/>
            <a:stretch/>
          </p:blipFill>
          <p:spPr>
            <a:xfrm>
              <a:off x="1628640" y="4865760"/>
              <a:ext cx="6328080" cy="137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209520" y="204840"/>
            <a:ext cx="872496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调查统计，引发需求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57120" y="1428840"/>
            <a:ext cx="7286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分析数据，提出需求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763560" y="5347800"/>
            <a:ext cx="66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观察统计表，能验证你刚才的想法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从统计表中还知道哪些信息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使用统计表时有什么发现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9" name="组合 7"/>
          <p:cNvGrpSpPr/>
          <p:nvPr/>
        </p:nvGrpSpPr>
        <p:grpSpPr>
          <a:xfrm>
            <a:off x="1630440" y="2219400"/>
            <a:ext cx="5772240" cy="2952720"/>
            <a:chOff x="1630440" y="2219400"/>
            <a:chExt cx="5772240" cy="2952720"/>
          </a:xfrm>
        </p:grpSpPr>
        <p:pic>
          <p:nvPicPr>
            <p:cNvPr id="70" name="Picture 55" descr=""/>
            <p:cNvPicPr/>
            <p:nvPr/>
          </p:nvPicPr>
          <p:blipFill>
            <a:blip r:embed="rId1"/>
            <a:stretch/>
          </p:blipFill>
          <p:spPr>
            <a:xfrm>
              <a:off x="1630440" y="2219400"/>
              <a:ext cx="5761800" cy="13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56" descr=""/>
            <p:cNvPicPr/>
            <p:nvPr/>
          </p:nvPicPr>
          <p:blipFill>
            <a:blip r:embed="rId2"/>
            <a:stretch/>
          </p:blipFill>
          <p:spPr>
            <a:xfrm>
              <a:off x="1630440" y="3920400"/>
              <a:ext cx="5772240" cy="125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合并统计表，回答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461880" y="55738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像这样的统计表可以合成一个，怎么合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74" name="组合 6"/>
          <p:cNvGrpSpPr/>
          <p:nvPr/>
        </p:nvGrpSpPr>
        <p:grpSpPr>
          <a:xfrm>
            <a:off x="1352520" y="1895400"/>
            <a:ext cx="6327720" cy="3238560"/>
            <a:chOff x="1352520" y="1895400"/>
            <a:chExt cx="6327720" cy="3238560"/>
          </a:xfrm>
        </p:grpSpPr>
        <p:pic>
          <p:nvPicPr>
            <p:cNvPr id="75" name="Picture 55" descr=""/>
            <p:cNvPicPr/>
            <p:nvPr/>
          </p:nvPicPr>
          <p:blipFill>
            <a:blip r:embed="rId1"/>
            <a:stretch/>
          </p:blipFill>
          <p:spPr>
            <a:xfrm>
              <a:off x="1352520" y="1895400"/>
              <a:ext cx="6316200" cy="14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56" descr=""/>
            <p:cNvPicPr/>
            <p:nvPr/>
          </p:nvPicPr>
          <p:blipFill>
            <a:blip r:embed="rId2"/>
            <a:stretch/>
          </p:blipFill>
          <p:spPr>
            <a:xfrm>
              <a:off x="1352520" y="3760920"/>
              <a:ext cx="6327720" cy="137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Rectangle 9"/>
          <p:cNvSpPr/>
          <p:nvPr/>
        </p:nvSpPr>
        <p:spPr>
          <a:xfrm>
            <a:off x="325440" y="65199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合并统计表，回答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382680" y="47023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观察统计表，说一说你都知道了什么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382680" y="52783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你对调查的结果有什么看法和建议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1" name="Picture 13" descr=""/>
          <p:cNvPicPr/>
          <p:nvPr/>
        </p:nvPicPr>
        <p:blipFill>
          <a:blip r:embed="rId1"/>
          <a:stretch/>
        </p:blipFill>
        <p:spPr>
          <a:xfrm>
            <a:off x="677880" y="2044800"/>
            <a:ext cx="77612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3" descr=""/>
          <p:cNvPicPr/>
          <p:nvPr/>
        </p:nvPicPr>
        <p:blipFill>
          <a:blip r:embed="rId1"/>
          <a:stretch/>
        </p:blipFill>
        <p:spPr>
          <a:xfrm>
            <a:off x="233280" y="185760"/>
            <a:ext cx="86774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读懂含义，解决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371520" y="43308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统计表包含哪几项内容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371520" y="47592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观察统计表中三届奥运会情况，判断下面说法是否正确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1192320" y="5259240"/>
            <a:ext cx="62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中国获得的金牌一届比一届多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1192320" y="5697360"/>
            <a:ext cx="62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俄罗斯获得的金牌一届比一届少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1192320" y="6135840"/>
            <a:ext cx="62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每届都是美国获得的金牌最多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9" name="Picture 12" descr="金牌数"/>
          <p:cNvPicPr/>
          <p:nvPr/>
        </p:nvPicPr>
        <p:blipFill>
          <a:blip r:embed="rId1"/>
          <a:stretch/>
        </p:blipFill>
        <p:spPr>
          <a:xfrm>
            <a:off x="841320" y="1646280"/>
            <a:ext cx="73216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6:26Z</dcterms:modified>
  <cp:revision>59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