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0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4AB6-E068-4B2D-9214-F4AC1DC6C2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8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1ECA-CE17-474E-8DA3-2D0DC02C1E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3597-F9BD-4018-8DAB-B98AB53D13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959-D260-408B-B91A-BA579F52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535-4138-4E60-95A6-2D04BB03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66B-FAC7-49BB-B560-0241942A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F480-B18D-4048-88DC-61C61FAC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E91-359B-4FE7-8FDC-615AE215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0C6-F3B2-4F07-BF6C-F49B6F74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9E6-A2E8-400C-BF30-70A2D00A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F69-105E-4E93-98B8-B9015D59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379-E6A5-47D4-A003-39C4244F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73CB-9510-4225-8D16-C7CFBD74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C63-CC19-4C81-9213-214ABEE9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06E-DF18-4B97-93D2-9C67A169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3052-3A67-4FE4-B7A0-D9AD82D52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4.xml"/><Relationship Id="rId12" Type="http://schemas.openxmlformats.org/officeDocument/2006/relationships/slide" Target="slide25.xml"/><Relationship Id="rId13" Type="http://schemas.openxmlformats.org/officeDocument/2006/relationships/slide" Target="slide26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85880" y="7668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四年级科学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692360" y="2060640"/>
            <a:ext cx="5616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风向和风速</a:t>
            </a:r>
            <a:endParaRPr b="1" lang="en-US" sz="5400" spc="-1" strike="noStrike">
              <a:ln w="0">
                <a:noFill/>
              </a:ln>
              <a:solidFill>
                <a:srgbClr val="00206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136960" y="5950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312408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使用自制的风向标测量风向时应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一，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指南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确定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二，风向的观测活动一定要在室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空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地方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2842920" y="981000"/>
            <a:ext cx="3529080" cy="2088720"/>
            <a:chOff x="2842920" y="981000"/>
            <a:chExt cx="3529080" cy="2088720"/>
          </a:xfrm>
        </p:grpSpPr>
        <p:sp>
          <p:nvSpPr>
            <p:cNvPr id="97" name="Line 5"/>
            <p:cNvSpPr/>
            <p:nvPr/>
          </p:nvSpPr>
          <p:spPr>
            <a:xfrm flipH="1">
              <a:off x="2842920" y="1253160"/>
              <a:ext cx="27068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6"/>
            <p:cNvSpPr/>
            <p:nvPr/>
          </p:nvSpPr>
          <p:spPr>
            <a:xfrm flipH="1">
              <a:off x="5314320" y="981000"/>
              <a:ext cx="1057680" cy="636480"/>
            </a:xfrm>
            <a:custGeom>
              <a:avLst/>
              <a:gdLst>
                <a:gd name="textAreaLeft" fmla="*/ 360 w 1057680"/>
                <a:gd name="textAreaRight" fmla="*/ 1058400 w 1057680"/>
                <a:gd name="textAreaTop" fmla="*/ 0 h 636480"/>
                <a:gd name="textAreaBottom" fmla="*/ 636840 h 63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4372920" y="1162800"/>
              <a:ext cx="0" cy="1361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4256640" y="1617480"/>
              <a:ext cx="233280" cy="145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s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的风速等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692360" y="1557360"/>
          <a:ext cx="4967280" cy="4680000"/>
        </p:xfrm>
        <a:graphic>
          <a:graphicData uri="http://schemas.openxmlformats.org/drawingml/2006/table">
            <a:tbl>
              <a:tblPr/>
              <a:tblGrid>
                <a:gridCol w="933480"/>
                <a:gridCol w="4033800"/>
              </a:tblGrid>
              <a:tr h="160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无风（纸片不动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5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微风（纸片微动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风（纸片抖动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44000" cy="6838920"/>
        </p:xfrm>
        <a:graphic>
          <a:graphicData uri="http://schemas.openxmlformats.org/drawingml/2006/table">
            <a:tbl>
              <a:tblPr/>
              <a:tblGrid>
                <a:gridCol w="1479600"/>
                <a:gridCol w="1836720"/>
                <a:gridCol w="5827680"/>
              </a:tblGrid>
              <a:tr h="831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风速等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风级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风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秒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特征描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1" action="ppaction://hlinksldjump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.0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平静：烟垂直上升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2" action="ppaction://hlinksldjump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.3-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轻风：不能吹动风向标、但使烟飘移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3" action="ppaction://hlinksldjump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6-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微风：脸可感受到风吹，树叶沙沙响，风向标动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4" action="ppaction://hlinksldjump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.4-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柔风：树叶、小树枝和旗被吹动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5" action="ppaction://hlinksldjump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5-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风：扬起尘土和纸片，树枝摇动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6" action="ppaction://hlinksldjump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.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—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风：小树轻摇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7" action="ppaction://hlinksldjump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.8-1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较大风：大树摇摆，难以打伞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8" action="ppaction://hlinksldjump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3.9-1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接近强风：整棵树摇，迎风走路不适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9" action="ppaction://hlinksldjump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.2-2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强风：树枝从树上折断，难以迎风走路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10" action="ppaction://hlinksldjump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.8-2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强风：对建筑物有损伤，瓦片吹落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11" action="ppaction://hlinksldjump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.5-2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风暴：树连根拔起，损坏性强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12" action="ppaction://hlinksldjump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8.5-3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巨型风暴：大面积的损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13" action="ppaction://hlinksldjump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.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及以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飓风：内陆少见，暴力性的损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6">
            <a:hlinkClick r:id="rId1" action="ppaction://hlinksldjump"/>
          </p:cNvPr>
          <p:cNvSpPr/>
          <p:nvPr/>
        </p:nvSpPr>
        <p:spPr>
          <a:xfrm>
            <a:off x="7308720" y="6237360"/>
            <a:ext cx="1584360" cy="360360"/>
          </a:xfrm>
          <a:custGeom>
            <a:avLst/>
            <a:gdLst>
              <a:gd name="textAreaLeft" fmla="*/ 23040 w 1584360"/>
              <a:gd name="textAreaRight" fmla="*/ 1561320 w 1584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4893" h="21600">
                <a:moveTo>
                  <a:pt x="0" y="0"/>
                </a:moveTo>
                <a:lnTo>
                  <a:pt x="94893" y="0"/>
                </a:lnTo>
                <a:lnTo>
                  <a:pt x="94893" y="21600"/>
                </a:lnTo>
                <a:lnTo>
                  <a:pt x="0" y="21600"/>
                </a:lnTo>
                <a:close/>
              </a:path>
              <a:path fill="lightenLess" w="94893" h="21600">
                <a:moveTo>
                  <a:pt x="0" y="0"/>
                </a:moveTo>
                <a:lnTo>
                  <a:pt x="94893" y="0"/>
                </a:lnTo>
                <a:lnTo>
                  <a:pt x="93493" y="1400"/>
                </a:lnTo>
                <a:lnTo>
                  <a:pt x="1400" y="1400"/>
                </a:lnTo>
                <a:close/>
              </a:path>
              <a:path fill="darken" w="94893" h="21600">
                <a:moveTo>
                  <a:pt x="94893" y="0"/>
                </a:moveTo>
                <a:lnTo>
                  <a:pt x="94893" y="21600"/>
                </a:lnTo>
                <a:lnTo>
                  <a:pt x="93493" y="20200"/>
                </a:lnTo>
                <a:lnTo>
                  <a:pt x="93493" y="1400"/>
                </a:lnTo>
                <a:close/>
              </a:path>
              <a:path fill="darkenLess" w="94893" h="21600">
                <a:moveTo>
                  <a:pt x="94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493" y="20200"/>
                </a:lnTo>
                <a:close/>
              </a:path>
              <a:path fill="lighten" w="94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4893" h="21600">
                <a:moveTo>
                  <a:pt x="50946" y="10800"/>
                </a:moveTo>
                <a:lnTo>
                  <a:pt x="40440" y="17806"/>
                </a:lnTo>
                <a:lnTo>
                  <a:pt x="40440" y="3794"/>
                </a:lnTo>
                <a:close/>
              </a:path>
              <a:path fill="darken" w="94893" h="21600">
                <a:moveTo>
                  <a:pt x="52791" y="3794"/>
                </a:moveTo>
                <a:lnTo>
                  <a:pt x="52791" y="17806"/>
                </a:lnTo>
                <a:lnTo>
                  <a:pt x="54453" y="17806"/>
                </a:lnTo>
                <a:lnTo>
                  <a:pt x="5445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0"/>
          <p:cNvPicPr/>
          <p:nvPr/>
        </p:nvPicPr>
        <p:blipFill>
          <a:blip r:embed="rId2"/>
          <a:stretch/>
        </p:blipFill>
        <p:spPr>
          <a:xfrm>
            <a:off x="1476360" y="1052640"/>
            <a:ext cx="5759640" cy="3384360"/>
          </a:xfrm>
          <a:prstGeom prst="rect">
            <a:avLst/>
          </a:prstGeom>
          <a:ln w="0">
            <a:noFill/>
          </a:ln>
        </p:spPr>
      </p:pic>
      <p:sp>
        <p:nvSpPr>
          <p:cNvPr id="108" name="WordArt 9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0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轻风（1）"/>
          <p:cNvPicPr/>
          <p:nvPr/>
        </p:nvPicPr>
        <p:blipFill>
          <a:blip r:embed="rId1"/>
          <a:stretch/>
        </p:blipFill>
        <p:spPr>
          <a:xfrm>
            <a:off x="324000" y="260280"/>
            <a:ext cx="8208720" cy="61563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>
            <a:hlinkClick r:id="rId2" action="ppaction://hlinksldjump"/>
          </p:cNvPr>
          <p:cNvSpPr/>
          <p:nvPr/>
        </p:nvSpPr>
        <p:spPr>
          <a:xfrm>
            <a:off x="7308720" y="595008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18" h="21600">
                <a:moveTo>
                  <a:pt x="34108" y="10800"/>
                </a:moveTo>
                <a:lnTo>
                  <a:pt x="23603" y="17806"/>
                </a:lnTo>
                <a:lnTo>
                  <a:pt x="23603" y="3794"/>
                </a:lnTo>
                <a:close/>
              </a:path>
              <a:path fill="darken" w="61218" h="21600">
                <a:moveTo>
                  <a:pt x="35953" y="3794"/>
                </a:moveTo>
                <a:lnTo>
                  <a:pt x="35953" y="17806"/>
                </a:lnTo>
                <a:lnTo>
                  <a:pt x="37615" y="17806"/>
                </a:lnTo>
                <a:lnTo>
                  <a:pt x="37615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6012000" y="476280"/>
            <a:ext cx="201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6">
            <a:hlinkClick r:id="rId1" action="ppaction://hlinksldjump"/>
          </p:cNvPr>
          <p:cNvSpPr/>
          <p:nvPr/>
        </p:nvSpPr>
        <p:spPr>
          <a:xfrm>
            <a:off x="723600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28708" y="10800"/>
                </a:moveTo>
                <a:lnTo>
                  <a:pt x="18203" y="17806"/>
                </a:lnTo>
                <a:lnTo>
                  <a:pt x="18203" y="3794"/>
                </a:lnTo>
                <a:close/>
              </a:path>
              <a:path fill="darken" w="50418" h="21600">
                <a:moveTo>
                  <a:pt x="30553" y="3794"/>
                </a:moveTo>
                <a:lnTo>
                  <a:pt x="30553" y="17806"/>
                </a:lnTo>
                <a:lnTo>
                  <a:pt x="32215" y="17806"/>
                </a:lnTo>
                <a:lnTo>
                  <a:pt x="32215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2"/>
          <p:cNvPicPr/>
          <p:nvPr/>
        </p:nvPicPr>
        <p:blipFill>
          <a:blip r:embed="rId2"/>
          <a:stretch/>
        </p:blipFill>
        <p:spPr>
          <a:xfrm>
            <a:off x="2627280" y="1484280"/>
            <a:ext cx="3600360" cy="26049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0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2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>
            <a:hlinkClick r:id="rId1" action="ppaction://hlinksldjump"/>
          </p:cNvPr>
          <p:cNvSpPr/>
          <p:nvPr/>
        </p:nvSpPr>
        <p:spPr>
          <a:xfrm>
            <a:off x="7596360" y="630864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44479" y="10800"/>
                </a:moveTo>
                <a:lnTo>
                  <a:pt x="33973" y="17806"/>
                </a:lnTo>
                <a:lnTo>
                  <a:pt x="33973" y="3794"/>
                </a:lnTo>
                <a:close/>
              </a:path>
              <a:path fill="darken" w="81959" h="21600">
                <a:moveTo>
                  <a:pt x="46324" y="3794"/>
                </a:moveTo>
                <a:lnTo>
                  <a:pt x="46324" y="17806"/>
                </a:lnTo>
                <a:lnTo>
                  <a:pt x="47986" y="17806"/>
                </a:lnTo>
                <a:lnTo>
                  <a:pt x="4798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3"/>
          <p:cNvPicPr/>
          <p:nvPr/>
        </p:nvPicPr>
        <p:blipFill>
          <a:blip r:embed="rId2"/>
          <a:stretch/>
        </p:blipFill>
        <p:spPr>
          <a:xfrm>
            <a:off x="1403280" y="1341360"/>
            <a:ext cx="5761080" cy="2576520"/>
          </a:xfrm>
          <a:prstGeom prst="rect">
            <a:avLst/>
          </a:prstGeom>
          <a:ln w="0">
            <a:noFill/>
          </a:ln>
        </p:spPr>
      </p:pic>
      <p:sp>
        <p:nvSpPr>
          <p:cNvPr id="120" name="WordArt 10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3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风的力量（7）"/>
          <p:cNvPicPr/>
          <p:nvPr/>
        </p:nvPicPr>
        <p:blipFill>
          <a:blip r:embed="rId1"/>
          <a:stretch/>
        </p:blipFill>
        <p:spPr>
          <a:xfrm>
            <a:off x="684360" y="549360"/>
            <a:ext cx="7632720" cy="575928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5">
            <a:hlinkClick r:id="rId2" action="ppaction://hlinksldjump"/>
          </p:cNvPr>
          <p:cNvSpPr/>
          <p:nvPr/>
        </p:nvSpPr>
        <p:spPr>
          <a:xfrm>
            <a:off x="7380360" y="5877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27762" y="10800"/>
                </a:moveTo>
                <a:lnTo>
                  <a:pt x="17256" y="17806"/>
                </a:lnTo>
                <a:lnTo>
                  <a:pt x="17256" y="3794"/>
                </a:lnTo>
                <a:close/>
              </a:path>
              <a:path fill="darken" w="48526" h="21600">
                <a:moveTo>
                  <a:pt x="29607" y="3794"/>
                </a:moveTo>
                <a:lnTo>
                  <a:pt x="29607" y="17806"/>
                </a:lnTo>
                <a:lnTo>
                  <a:pt x="31269" y="17806"/>
                </a:lnTo>
                <a:lnTo>
                  <a:pt x="3126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4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风的力量（8）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>
            <a:hlinkClick r:id="rId2" action="ppaction://hlinksldjump"/>
          </p:cNvPr>
          <p:cNvSpPr/>
          <p:nvPr/>
        </p:nvSpPr>
        <p:spPr>
          <a:xfrm>
            <a:off x="7093080" y="5734080"/>
            <a:ext cx="1366560" cy="431640"/>
          </a:xfrm>
          <a:custGeom>
            <a:avLst/>
            <a:gdLst>
              <a:gd name="textAreaLeft" fmla="*/ 27720 w 1366560"/>
              <a:gd name="textAreaRight" fmla="*/ 1338840 w 1366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8346" h="21600">
                <a:moveTo>
                  <a:pt x="0" y="0"/>
                </a:moveTo>
                <a:lnTo>
                  <a:pt x="68346" y="0"/>
                </a:lnTo>
                <a:lnTo>
                  <a:pt x="68346" y="21600"/>
                </a:lnTo>
                <a:lnTo>
                  <a:pt x="0" y="21600"/>
                </a:lnTo>
                <a:close/>
              </a:path>
              <a:path fill="lightenLess" w="68346" h="21600">
                <a:moveTo>
                  <a:pt x="0" y="0"/>
                </a:moveTo>
                <a:lnTo>
                  <a:pt x="68346" y="0"/>
                </a:lnTo>
                <a:lnTo>
                  <a:pt x="66946" y="1400"/>
                </a:lnTo>
                <a:lnTo>
                  <a:pt x="1400" y="1400"/>
                </a:lnTo>
                <a:close/>
              </a:path>
              <a:path fill="darken" w="68346" h="21600">
                <a:moveTo>
                  <a:pt x="68346" y="0"/>
                </a:moveTo>
                <a:lnTo>
                  <a:pt x="68346" y="21600"/>
                </a:lnTo>
                <a:lnTo>
                  <a:pt x="66946" y="20200"/>
                </a:lnTo>
                <a:lnTo>
                  <a:pt x="66946" y="1400"/>
                </a:lnTo>
                <a:close/>
              </a:path>
              <a:path fill="darkenLess" w="68346" h="21600">
                <a:moveTo>
                  <a:pt x="68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46" y="20200"/>
                </a:lnTo>
                <a:close/>
              </a:path>
              <a:path fill="lighten" w="68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46" h="21600">
                <a:moveTo>
                  <a:pt x="37672" y="10800"/>
                </a:moveTo>
                <a:lnTo>
                  <a:pt x="27167" y="17806"/>
                </a:lnTo>
                <a:lnTo>
                  <a:pt x="27167" y="3794"/>
                </a:lnTo>
                <a:close/>
              </a:path>
              <a:path fill="darken" w="68346" h="21600">
                <a:moveTo>
                  <a:pt x="39517" y="3794"/>
                </a:moveTo>
                <a:lnTo>
                  <a:pt x="39517" y="17806"/>
                </a:lnTo>
                <a:lnTo>
                  <a:pt x="41179" y="17806"/>
                </a:lnTo>
                <a:lnTo>
                  <a:pt x="4117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7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5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2124000" y="2276280"/>
            <a:ext cx="47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见它皱眉，花见它弯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树见它摇头，云见它就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风的力量（3）"/>
          <p:cNvPicPr/>
          <p:nvPr/>
        </p:nvPicPr>
        <p:blipFill>
          <a:blip r:embed="rId1"/>
          <a:stretch/>
        </p:blipFill>
        <p:spPr>
          <a:xfrm>
            <a:off x="324000" y="243000"/>
            <a:ext cx="8569080" cy="64278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>
            <a:hlinkClick r:id="rId2" action="ppaction://hlinksldjump"/>
          </p:cNvPr>
          <p:cNvSpPr/>
          <p:nvPr/>
        </p:nvSpPr>
        <p:spPr>
          <a:xfrm>
            <a:off x="766764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6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风的力量（4）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103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>
            <a:hlinkClick r:id="rId2" action="ppaction://hlinksldjump"/>
          </p:cNvPr>
          <p:cNvSpPr/>
          <p:nvPr/>
        </p:nvSpPr>
        <p:spPr>
          <a:xfrm>
            <a:off x="7093080" y="5661000"/>
            <a:ext cx="1224000" cy="57636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5856" h="21600">
                <a:moveTo>
                  <a:pt x="0" y="0"/>
                </a:moveTo>
                <a:lnTo>
                  <a:pt x="45856" y="0"/>
                </a:lnTo>
                <a:lnTo>
                  <a:pt x="45856" y="21600"/>
                </a:lnTo>
                <a:lnTo>
                  <a:pt x="0" y="21600"/>
                </a:lnTo>
                <a:close/>
              </a:path>
              <a:path fill="lightenLess" w="45856" h="21600">
                <a:moveTo>
                  <a:pt x="0" y="0"/>
                </a:moveTo>
                <a:lnTo>
                  <a:pt x="45856" y="0"/>
                </a:lnTo>
                <a:lnTo>
                  <a:pt x="44456" y="1400"/>
                </a:lnTo>
                <a:lnTo>
                  <a:pt x="1400" y="1400"/>
                </a:lnTo>
                <a:close/>
              </a:path>
              <a:path fill="darken" w="45856" h="21600">
                <a:moveTo>
                  <a:pt x="45856" y="0"/>
                </a:moveTo>
                <a:lnTo>
                  <a:pt x="45856" y="21600"/>
                </a:lnTo>
                <a:lnTo>
                  <a:pt x="44456" y="20200"/>
                </a:lnTo>
                <a:lnTo>
                  <a:pt x="44456" y="1400"/>
                </a:lnTo>
                <a:close/>
              </a:path>
              <a:path fill="darkenLess" w="45856" h="21600">
                <a:moveTo>
                  <a:pt x="458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56" y="20200"/>
                </a:lnTo>
                <a:close/>
              </a:path>
              <a:path fill="lighten" w="458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56" h="21600">
                <a:moveTo>
                  <a:pt x="26427" y="10800"/>
                </a:moveTo>
                <a:lnTo>
                  <a:pt x="15922" y="17806"/>
                </a:lnTo>
                <a:lnTo>
                  <a:pt x="15922" y="3794"/>
                </a:lnTo>
                <a:close/>
              </a:path>
              <a:path fill="darken" w="45856" h="21600">
                <a:moveTo>
                  <a:pt x="28272" y="3794"/>
                </a:moveTo>
                <a:lnTo>
                  <a:pt x="28272" y="17806"/>
                </a:lnTo>
                <a:lnTo>
                  <a:pt x="29935" y="17806"/>
                </a:lnTo>
                <a:lnTo>
                  <a:pt x="29935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3564000" y="4149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7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风的力量（2）"/>
          <p:cNvPicPr/>
          <p:nvPr/>
        </p:nvPicPr>
        <p:blipFill>
          <a:blip r:embed="rId1"/>
          <a:stretch/>
        </p:blipFill>
        <p:spPr>
          <a:xfrm>
            <a:off x="468360" y="620640"/>
            <a:ext cx="8280360" cy="60264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7">
            <a:hlinkClick r:id="rId2" action="ppaction://hlinksldjump"/>
          </p:cNvPr>
          <p:cNvSpPr/>
          <p:nvPr/>
        </p:nvSpPr>
        <p:spPr>
          <a:xfrm>
            <a:off x="6804000" y="5661000"/>
            <a:ext cx="1224000" cy="57636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5856" h="21600">
                <a:moveTo>
                  <a:pt x="0" y="0"/>
                </a:moveTo>
                <a:lnTo>
                  <a:pt x="45856" y="0"/>
                </a:lnTo>
                <a:lnTo>
                  <a:pt x="45856" y="21600"/>
                </a:lnTo>
                <a:lnTo>
                  <a:pt x="0" y="21600"/>
                </a:lnTo>
                <a:close/>
              </a:path>
              <a:path fill="lightenLess" w="45856" h="21600">
                <a:moveTo>
                  <a:pt x="0" y="0"/>
                </a:moveTo>
                <a:lnTo>
                  <a:pt x="45856" y="0"/>
                </a:lnTo>
                <a:lnTo>
                  <a:pt x="44456" y="1400"/>
                </a:lnTo>
                <a:lnTo>
                  <a:pt x="1400" y="1400"/>
                </a:lnTo>
                <a:close/>
              </a:path>
              <a:path fill="darken" w="45856" h="21600">
                <a:moveTo>
                  <a:pt x="45856" y="0"/>
                </a:moveTo>
                <a:lnTo>
                  <a:pt x="45856" y="21600"/>
                </a:lnTo>
                <a:lnTo>
                  <a:pt x="44456" y="20200"/>
                </a:lnTo>
                <a:lnTo>
                  <a:pt x="44456" y="1400"/>
                </a:lnTo>
                <a:close/>
              </a:path>
              <a:path fill="darkenLess" w="45856" h="21600">
                <a:moveTo>
                  <a:pt x="458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56" y="20200"/>
                </a:lnTo>
                <a:close/>
              </a:path>
              <a:path fill="lighten" w="458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56" h="21600">
                <a:moveTo>
                  <a:pt x="15922" y="3794"/>
                </a:moveTo>
                <a:lnTo>
                  <a:pt x="29935" y="10800"/>
                </a:lnTo>
                <a:lnTo>
                  <a:pt x="1592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8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风的力量（1）"/>
          <p:cNvPicPr/>
          <p:nvPr/>
        </p:nvPicPr>
        <p:blipFill>
          <a:blip r:embed="rId1"/>
          <a:stretch/>
        </p:blipFill>
        <p:spPr>
          <a:xfrm>
            <a:off x="324000" y="260280"/>
            <a:ext cx="8497800" cy="633744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5">
            <a:hlinkClick r:id="rId2" action="ppaction://hlinksldjump"/>
          </p:cNvPr>
          <p:cNvSpPr/>
          <p:nvPr/>
        </p:nvSpPr>
        <p:spPr>
          <a:xfrm>
            <a:off x="7236000" y="5877000"/>
            <a:ext cx="1584000" cy="718920"/>
          </a:xfrm>
          <a:custGeom>
            <a:avLst/>
            <a:gdLst>
              <a:gd name="textAreaLeft" fmla="*/ 46440 w 1584000"/>
              <a:gd name="textAreaRight" fmla="*/ 1537560 w 1584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7578" h="21600">
                <a:moveTo>
                  <a:pt x="0" y="0"/>
                </a:moveTo>
                <a:lnTo>
                  <a:pt x="47578" y="0"/>
                </a:lnTo>
                <a:lnTo>
                  <a:pt x="47578" y="21600"/>
                </a:lnTo>
                <a:lnTo>
                  <a:pt x="0" y="21600"/>
                </a:lnTo>
                <a:close/>
              </a:path>
              <a:path fill="lightenLess" w="47578" h="21600">
                <a:moveTo>
                  <a:pt x="0" y="0"/>
                </a:moveTo>
                <a:lnTo>
                  <a:pt x="47578" y="0"/>
                </a:lnTo>
                <a:lnTo>
                  <a:pt x="46178" y="1400"/>
                </a:lnTo>
                <a:lnTo>
                  <a:pt x="1400" y="1400"/>
                </a:lnTo>
                <a:close/>
              </a:path>
              <a:path fill="darken" w="47578" h="21600">
                <a:moveTo>
                  <a:pt x="47578" y="0"/>
                </a:moveTo>
                <a:lnTo>
                  <a:pt x="47578" y="21600"/>
                </a:lnTo>
                <a:lnTo>
                  <a:pt x="46178" y="20200"/>
                </a:lnTo>
                <a:lnTo>
                  <a:pt x="46178" y="1400"/>
                </a:lnTo>
                <a:close/>
              </a:path>
              <a:path fill="darkenLess" w="47578" h="21600">
                <a:moveTo>
                  <a:pt x="47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78" y="20200"/>
                </a:lnTo>
                <a:close/>
              </a:path>
              <a:path fill="lighten" w="47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78" h="21600">
                <a:moveTo>
                  <a:pt x="20290" y="10800"/>
                </a:moveTo>
                <a:lnTo>
                  <a:pt x="30796" y="3794"/>
                </a:lnTo>
                <a:lnTo>
                  <a:pt x="30796" y="17806"/>
                </a:lnTo>
                <a:close/>
              </a:path>
              <a:path fill="darken" w="47578" h="21600">
                <a:moveTo>
                  <a:pt x="16783" y="3794"/>
                </a:moveTo>
                <a:lnTo>
                  <a:pt x="18445" y="3794"/>
                </a:lnTo>
                <a:lnTo>
                  <a:pt x="18445" y="17806"/>
                </a:lnTo>
                <a:lnTo>
                  <a:pt x="167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9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风的力量（5）"/>
          <p:cNvPicPr/>
          <p:nvPr/>
        </p:nvPicPr>
        <p:blipFill>
          <a:blip r:embed="rId1"/>
          <a:stretch/>
        </p:blipFill>
        <p:spPr>
          <a:xfrm>
            <a:off x="611280" y="476280"/>
            <a:ext cx="8137440" cy="61038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5">
            <a:hlinkClick r:id="rId2" action="ppaction://hlinksldjump"/>
          </p:cNvPr>
          <p:cNvSpPr/>
          <p:nvPr/>
        </p:nvSpPr>
        <p:spPr>
          <a:xfrm>
            <a:off x="7380360" y="6021360"/>
            <a:ext cx="1439640" cy="503280"/>
          </a:xfrm>
          <a:custGeom>
            <a:avLst/>
            <a:gdLst>
              <a:gd name="textAreaLeft" fmla="*/ 32400 w 1439640"/>
              <a:gd name="textAreaRight" fmla="*/ 1407240 w 1439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758" h="21600">
                <a:moveTo>
                  <a:pt x="0" y="0"/>
                </a:moveTo>
                <a:lnTo>
                  <a:pt x="61758" y="0"/>
                </a:lnTo>
                <a:lnTo>
                  <a:pt x="61758" y="21600"/>
                </a:lnTo>
                <a:lnTo>
                  <a:pt x="0" y="21600"/>
                </a:lnTo>
                <a:close/>
              </a:path>
              <a:path fill="lightenLess" w="61758" h="21600">
                <a:moveTo>
                  <a:pt x="0" y="0"/>
                </a:moveTo>
                <a:lnTo>
                  <a:pt x="61758" y="0"/>
                </a:lnTo>
                <a:lnTo>
                  <a:pt x="60358" y="1400"/>
                </a:lnTo>
                <a:lnTo>
                  <a:pt x="1400" y="1400"/>
                </a:lnTo>
                <a:close/>
              </a:path>
              <a:path fill="darken" w="61758" h="21600">
                <a:moveTo>
                  <a:pt x="61758" y="0"/>
                </a:moveTo>
                <a:lnTo>
                  <a:pt x="61758" y="21600"/>
                </a:lnTo>
                <a:lnTo>
                  <a:pt x="60358" y="20200"/>
                </a:lnTo>
                <a:lnTo>
                  <a:pt x="60358" y="1400"/>
                </a:lnTo>
                <a:close/>
              </a:path>
              <a:path fill="darkenLess" w="61758" h="21600">
                <a:moveTo>
                  <a:pt x="61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58" y="20200"/>
                </a:lnTo>
                <a:close/>
              </a:path>
              <a:path fill="lighten" w="61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758" h="21600">
                <a:moveTo>
                  <a:pt x="34378" y="10800"/>
                </a:moveTo>
                <a:lnTo>
                  <a:pt x="23873" y="17806"/>
                </a:lnTo>
                <a:lnTo>
                  <a:pt x="23873" y="3794"/>
                </a:lnTo>
                <a:close/>
              </a:path>
              <a:path fill="darken" w="61758" h="21600">
                <a:moveTo>
                  <a:pt x="36223" y="3794"/>
                </a:moveTo>
                <a:lnTo>
                  <a:pt x="36223" y="17806"/>
                </a:lnTo>
                <a:lnTo>
                  <a:pt x="37886" y="17806"/>
                </a:lnTo>
                <a:lnTo>
                  <a:pt x="3788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0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风的力量（6）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2103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5">
            <a:hlinkClick r:id="rId2" action="ppaction://hlinksldjump"/>
          </p:cNvPr>
          <p:cNvSpPr/>
          <p:nvPr/>
        </p:nvSpPr>
        <p:spPr>
          <a:xfrm>
            <a:off x="7596360" y="6021360"/>
            <a:ext cx="936360" cy="360360"/>
          </a:xfrm>
          <a:custGeom>
            <a:avLst/>
            <a:gdLst>
              <a:gd name="textAreaLeft" fmla="*/ 23040 w 936360"/>
              <a:gd name="textAreaRight" fmla="*/ 913320 w 93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91" h="21600">
                <a:moveTo>
                  <a:pt x="0" y="0"/>
                </a:moveTo>
                <a:lnTo>
                  <a:pt x="56091" y="0"/>
                </a:lnTo>
                <a:lnTo>
                  <a:pt x="56091" y="21600"/>
                </a:lnTo>
                <a:lnTo>
                  <a:pt x="0" y="21600"/>
                </a:lnTo>
                <a:close/>
              </a:path>
              <a:path fill="lightenLess" w="56091" h="21600">
                <a:moveTo>
                  <a:pt x="0" y="0"/>
                </a:moveTo>
                <a:lnTo>
                  <a:pt x="56091" y="0"/>
                </a:lnTo>
                <a:lnTo>
                  <a:pt x="54691" y="1400"/>
                </a:lnTo>
                <a:lnTo>
                  <a:pt x="1400" y="1400"/>
                </a:lnTo>
                <a:close/>
              </a:path>
              <a:path fill="darken" w="56091" h="21600">
                <a:moveTo>
                  <a:pt x="56091" y="0"/>
                </a:moveTo>
                <a:lnTo>
                  <a:pt x="56091" y="21600"/>
                </a:lnTo>
                <a:lnTo>
                  <a:pt x="54691" y="20200"/>
                </a:lnTo>
                <a:lnTo>
                  <a:pt x="54691" y="1400"/>
                </a:lnTo>
                <a:close/>
              </a:path>
              <a:path fill="darkenLess" w="56091" h="21600">
                <a:moveTo>
                  <a:pt x="56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91" y="20200"/>
                </a:lnTo>
                <a:close/>
              </a:path>
              <a:path fill="lighten" w="56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91" h="21600">
                <a:moveTo>
                  <a:pt x="31544" y="10800"/>
                </a:moveTo>
                <a:lnTo>
                  <a:pt x="21039" y="17806"/>
                </a:lnTo>
                <a:lnTo>
                  <a:pt x="21039" y="3794"/>
                </a:lnTo>
                <a:close/>
              </a:path>
              <a:path fill="darken" w="56091" h="21600">
                <a:moveTo>
                  <a:pt x="33390" y="3794"/>
                </a:moveTo>
                <a:lnTo>
                  <a:pt x="33390" y="17806"/>
                </a:lnTo>
                <a:lnTo>
                  <a:pt x="35052" y="17806"/>
                </a:lnTo>
                <a:lnTo>
                  <a:pt x="35052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7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1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1" name="文本框 1"/>
          <p:cNvSpPr/>
          <p:nvPr/>
        </p:nvSpPr>
        <p:spPr>
          <a:xfrm>
            <a:off x="1035000" y="663480"/>
            <a:ext cx="62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4434701_190417049000_2"/>
          <p:cNvPicPr/>
          <p:nvPr/>
        </p:nvPicPr>
        <p:blipFill>
          <a:blip r:embed="rId1"/>
          <a:stretch/>
        </p:blipFill>
        <p:spPr>
          <a:xfrm>
            <a:off x="539640" y="231840"/>
            <a:ext cx="8207640" cy="662616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>
            <a:hlinkClick r:id="rId2" action="ppaction://hlinksldjump"/>
          </p:cNvPr>
          <p:cNvSpPr/>
          <p:nvPr/>
        </p:nvSpPr>
        <p:spPr>
          <a:xfrm>
            <a:off x="7308720" y="6237360"/>
            <a:ext cx="1150920" cy="287280"/>
          </a:xfrm>
          <a:custGeom>
            <a:avLst/>
            <a:gdLst>
              <a:gd name="textAreaLeft" fmla="*/ 18360 w 1150920"/>
              <a:gd name="textAreaRight" fmla="*/ 1132560 w 1150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86454" h="21600">
                <a:moveTo>
                  <a:pt x="0" y="0"/>
                </a:moveTo>
                <a:lnTo>
                  <a:pt x="86454" y="0"/>
                </a:lnTo>
                <a:lnTo>
                  <a:pt x="86454" y="21600"/>
                </a:lnTo>
                <a:lnTo>
                  <a:pt x="0" y="21600"/>
                </a:lnTo>
                <a:close/>
              </a:path>
              <a:path fill="lightenLess" w="86454" h="21600">
                <a:moveTo>
                  <a:pt x="0" y="0"/>
                </a:moveTo>
                <a:lnTo>
                  <a:pt x="86454" y="0"/>
                </a:lnTo>
                <a:lnTo>
                  <a:pt x="85054" y="1400"/>
                </a:lnTo>
                <a:lnTo>
                  <a:pt x="1400" y="1400"/>
                </a:lnTo>
                <a:close/>
              </a:path>
              <a:path fill="darken" w="86454" h="21600">
                <a:moveTo>
                  <a:pt x="86454" y="0"/>
                </a:moveTo>
                <a:lnTo>
                  <a:pt x="86454" y="21600"/>
                </a:lnTo>
                <a:lnTo>
                  <a:pt x="85054" y="20200"/>
                </a:lnTo>
                <a:lnTo>
                  <a:pt x="85054" y="1400"/>
                </a:lnTo>
                <a:close/>
              </a:path>
              <a:path fill="darkenLess" w="86454" h="21600">
                <a:moveTo>
                  <a:pt x="86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54" y="20200"/>
                </a:lnTo>
                <a:close/>
              </a:path>
              <a:path fill="lighten" w="86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54" h="21600">
                <a:moveTo>
                  <a:pt x="46726" y="10800"/>
                </a:moveTo>
                <a:lnTo>
                  <a:pt x="36221" y="17806"/>
                </a:lnTo>
                <a:lnTo>
                  <a:pt x="36221" y="3794"/>
                </a:lnTo>
                <a:close/>
              </a:path>
              <a:path fill="darken" w="86454" h="21600">
                <a:moveTo>
                  <a:pt x="48571" y="3794"/>
                </a:moveTo>
                <a:lnTo>
                  <a:pt x="48571" y="17806"/>
                </a:lnTo>
                <a:lnTo>
                  <a:pt x="50234" y="17806"/>
                </a:lnTo>
                <a:lnTo>
                  <a:pt x="5023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7"/>
          <p:cNvSpPr txBox="1"/>
          <p:nvPr/>
        </p:nvSpPr>
        <p:spPr>
          <a:xfrm>
            <a:off x="3995640" y="5445000"/>
            <a:ext cx="2016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2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未标题-1_06"/>
          <p:cNvPicPr/>
          <p:nvPr/>
        </p:nvPicPr>
        <p:blipFill>
          <a:blip r:embed="rId1"/>
          <a:stretch/>
        </p:blipFill>
        <p:spPr>
          <a:xfrm>
            <a:off x="3132000" y="26028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50880" y="1693800"/>
            <a:ext cx="345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零级无风炊烟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550880" y="2303640"/>
            <a:ext cx="338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一级软风烟稍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547640" y="2913120"/>
            <a:ext cx="326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二级轻风吹脸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50880" y="3522600"/>
            <a:ext cx="31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三级微风红旗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550880" y="4132440"/>
            <a:ext cx="320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四级和风纸片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1550880" y="4741920"/>
            <a:ext cx="326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五级清风水起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550880" y="5351400"/>
            <a:ext cx="326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六级强风举伞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986360" y="1782720"/>
            <a:ext cx="331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七级疾风步难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86360" y="2468520"/>
            <a:ext cx="302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八级大风树枝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986360" y="3154320"/>
            <a:ext cx="307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九级烈风瓦片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4986360" y="3840120"/>
            <a:ext cx="307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十级狂风树根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5003640" y="4602240"/>
            <a:ext cx="337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十一级暴风陆罕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003640" y="5288040"/>
            <a:ext cx="337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十二级台风浪滔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3924360" y="1197000"/>
            <a:ext cx="16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风级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0A9F-A4F1-4504-80F0-4FC6F53FF55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4643280" cy="3452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616fc818e6707a2435fa41ae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49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xinsrc_330302311020250096836"/>
          <p:cNvPicPr/>
          <p:nvPr/>
        </p:nvPicPr>
        <p:blipFill>
          <a:blip r:embed="rId3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图片1"/>
          <p:cNvPicPr/>
          <p:nvPr/>
        </p:nvPicPr>
        <p:blipFill>
          <a:blip r:embed="rId4"/>
          <a:stretch/>
        </p:blipFill>
        <p:spPr>
          <a:xfrm>
            <a:off x="4643280" y="3494160"/>
            <a:ext cx="450072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方位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5"/>
          <p:cNvSpPr/>
          <p:nvPr/>
        </p:nvSpPr>
        <p:spPr>
          <a:xfrm>
            <a:off x="4140360" y="1052640"/>
            <a:ext cx="576000" cy="720720"/>
          </a:xfrm>
          <a:prstGeom prst="downArrow">
            <a:avLst>
              <a:gd name="adj1" fmla="val 50000"/>
              <a:gd name="adj2" fmla="val 3127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北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2195640" y="2997360"/>
            <a:ext cx="934920" cy="574560"/>
          </a:xfrm>
          <a:prstGeom prst="rightArrow">
            <a:avLst>
              <a:gd name="adj1" fmla="val 50000"/>
              <a:gd name="adj2" fmla="val 4067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西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 rot="18899400">
            <a:off x="5686920" y="4326120"/>
            <a:ext cx="576360" cy="936720"/>
          </a:xfrm>
          <a:prstGeom prst="upArrow">
            <a:avLst>
              <a:gd name="adj1" fmla="val 50000"/>
              <a:gd name="adj2" fmla="val 40623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东南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7343640" y="587700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风向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1835280" y="602136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风向：风吹来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64724E-006 L -1.38889E-006 0.57714 E">
                                      <p:cBhvr>
                                        <p:cTn id="14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82211E-006 L 0.41354 -2.82211E-006 E">
                                      <p:cBhvr>
                                        <p:cTn id="2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63706E-007 L -0.33473 -0.43003 E">
                                      <p:cBhvr>
                                        <p:cTn id="30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720" y="-360"/>
            <a:ext cx="9141120" cy="6857640"/>
            <a:chOff x="-36720" y="-360"/>
            <a:chExt cx="9141120" cy="6857640"/>
          </a:xfrm>
        </p:grpSpPr>
        <p:pic>
          <p:nvPicPr>
            <p:cNvPr id="65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-3672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4" descr=""/>
            <p:cNvPicPr/>
            <p:nvPr/>
          </p:nvPicPr>
          <p:blipFill>
            <a:blip r:embed="rId2"/>
            <a:stretch/>
          </p:blipFill>
          <p:spPr>
            <a:xfrm>
              <a:off x="-3636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5"/>
          <p:cNvGrpSpPr/>
          <p:nvPr/>
        </p:nvGrpSpPr>
        <p:grpSpPr>
          <a:xfrm>
            <a:off x="684360" y="3933720"/>
            <a:ext cx="1799640" cy="2069280"/>
            <a:chOff x="684360" y="3933720"/>
            <a:chExt cx="1799640" cy="2069280"/>
          </a:xfrm>
        </p:grpSpPr>
        <p:sp>
          <p:nvSpPr>
            <p:cNvPr id="68" name="Line 6"/>
            <p:cNvSpPr/>
            <p:nvPr/>
          </p:nvSpPr>
          <p:spPr>
            <a:xfrm>
              <a:off x="828720" y="4967280"/>
              <a:ext cx="1439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547640" y="4174920"/>
              <a:ext cx="0" cy="165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8"/>
            <p:cNvSpPr/>
            <p:nvPr/>
          </p:nvSpPr>
          <p:spPr>
            <a:xfrm>
              <a:off x="1332000" y="393372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9"/>
            <p:cNvSpPr/>
            <p:nvPr/>
          </p:nvSpPr>
          <p:spPr>
            <a:xfrm>
              <a:off x="684360" y="4751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1332000" y="554328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1979640" y="475128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2"/>
          <p:cNvSpPr/>
          <p:nvPr/>
        </p:nvSpPr>
        <p:spPr>
          <a:xfrm>
            <a:off x="3565440" y="260280"/>
            <a:ext cx="453564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根据旗面飘动的情况辨别风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6" descr="2"/>
          <p:cNvPicPr/>
          <p:nvPr/>
        </p:nvPicPr>
        <p:blipFill>
          <a:blip r:embed="rId3"/>
          <a:stretch/>
        </p:blipFill>
        <p:spPr>
          <a:xfrm>
            <a:off x="250920" y="765000"/>
            <a:ext cx="2663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4559400" y="404640"/>
            <a:ext cx="44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风向测量工具：风向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风向标的箭头指向的是风吹来的方向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8-4b"/>
          <p:cNvPicPr/>
          <p:nvPr/>
        </p:nvPicPr>
        <p:blipFill>
          <a:blip r:embed="rId1"/>
          <a:stretch/>
        </p:blipFill>
        <p:spPr>
          <a:xfrm>
            <a:off x="2340000" y="1916280"/>
            <a:ext cx="4105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2484360" y="476280"/>
            <a:ext cx="457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动动手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: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制作风向标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9" name="Picture 3" descr="u=3319110742,2006651671&amp;fm=0&amp;gp=-30"/>
          <p:cNvPicPr/>
          <p:nvPr/>
        </p:nvPicPr>
        <p:blipFill>
          <a:blip r:embed="rId1"/>
          <a:stretch/>
        </p:blipFill>
        <p:spPr>
          <a:xfrm>
            <a:off x="250920" y="2421000"/>
            <a:ext cx="3047760" cy="2209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2301"/>
          <p:cNvPicPr/>
          <p:nvPr/>
        </p:nvPicPr>
        <p:blipFill>
          <a:blip r:embed="rId2"/>
          <a:stretch/>
        </p:blipFill>
        <p:spPr>
          <a:xfrm>
            <a:off x="5940360" y="1197000"/>
            <a:ext cx="2870280" cy="1960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17447147"/>
          <p:cNvPicPr/>
          <p:nvPr/>
        </p:nvPicPr>
        <p:blipFill>
          <a:blip r:embed="rId3"/>
          <a:stretch/>
        </p:blipFill>
        <p:spPr>
          <a:xfrm>
            <a:off x="6084720" y="4437000"/>
            <a:ext cx="2630520" cy="2121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D094"/>
          <p:cNvPicPr/>
          <p:nvPr/>
        </p:nvPicPr>
        <p:blipFill>
          <a:blip r:embed="rId4"/>
          <a:stretch/>
        </p:blipFill>
        <p:spPr>
          <a:xfrm>
            <a:off x="3348000" y="134136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golden-big"/>
          <p:cNvPicPr/>
          <p:nvPr/>
        </p:nvPicPr>
        <p:blipFill>
          <a:blip r:embed="rId5"/>
          <a:stretch/>
        </p:blipFill>
        <p:spPr>
          <a:xfrm>
            <a:off x="2411280" y="3716280"/>
            <a:ext cx="3429000" cy="2955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%E9%92%88"/>
          <p:cNvPicPr/>
          <p:nvPr/>
        </p:nvPicPr>
        <p:blipFill>
          <a:blip r:embed="rId6"/>
          <a:stretch/>
        </p:blipFill>
        <p:spPr>
          <a:xfrm>
            <a:off x="324000" y="1052640"/>
            <a:ext cx="20890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5"/>
          <p:cNvGrpSpPr/>
          <p:nvPr/>
        </p:nvGrpSpPr>
        <p:grpSpPr>
          <a:xfrm>
            <a:off x="178920" y="1413000"/>
            <a:ext cx="3529080" cy="2302560"/>
            <a:chOff x="178920" y="1413000"/>
            <a:chExt cx="3529080" cy="2302560"/>
          </a:xfrm>
        </p:grpSpPr>
        <p:sp>
          <p:nvSpPr>
            <p:cNvPr id="86" name="Line 6"/>
            <p:cNvSpPr/>
            <p:nvPr/>
          </p:nvSpPr>
          <p:spPr>
            <a:xfrm flipH="1">
              <a:off x="178920" y="1713240"/>
              <a:ext cx="27068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7"/>
            <p:cNvSpPr/>
            <p:nvPr/>
          </p:nvSpPr>
          <p:spPr>
            <a:xfrm flipH="1">
              <a:off x="2650320" y="1413000"/>
              <a:ext cx="1057680" cy="701640"/>
            </a:xfrm>
            <a:custGeom>
              <a:avLst/>
              <a:gdLst>
                <a:gd name="textAreaLeft" fmla="*/ 360 w 1057680"/>
                <a:gd name="textAreaRight" fmla="*/ 1058400 w 105768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8"/>
            <p:cNvSpPr/>
            <p:nvPr/>
          </p:nvSpPr>
          <p:spPr>
            <a:xfrm>
              <a:off x="1708920" y="1613520"/>
              <a:ext cx="0" cy="1501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1592640" y="2114640"/>
              <a:ext cx="233280" cy="1600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4"/>
          <p:cNvSpPr/>
          <p:nvPr/>
        </p:nvSpPr>
        <p:spPr>
          <a:xfrm>
            <a:off x="3924360" y="1268280"/>
            <a:ext cx="4968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制作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选一根硬一点的吸管，在吸管的两端纵向切开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厘米的缝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用硬纸板剪一个大小适中的箭头和一个稍大的箭翼。分别插入吸管两端的空隙，并固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用一根大头针穿过吸管平衡点并插入铅笔一段的象皮肿，使其能自由转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注意：箭头和箭翼以及插入的大头针要尽可能在同一平面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468360" y="5373720"/>
            <a:ext cx="75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风向标的箭头指向的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风吹来的方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6"/>
          <p:cNvSpPr txBox="1"/>
          <p:nvPr/>
        </p:nvSpPr>
        <p:spPr>
          <a:xfrm>
            <a:off x="2268360" y="476280"/>
            <a:ext cx="457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动动手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: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制作风向标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0" y="1557360"/>
            <a:ext cx="1018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现在请同学们拿出老师给你们发的方位图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铅笔芯插入方位图的中心点。自己从不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角度向风向标吹气，自己测量一下你吹得是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么方向的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0:40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2:29Z</dcterms:modified>
  <cp:revision>7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