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D44-E1C2-4317-9627-9ECAEAC111A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D73-7756-4392-8253-9ABA973D3CC6}" type="slidenum"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13C-3A91-4B8D-81B1-A1ECE393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084-D9D3-4BC4-B125-D1582A7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385-76A8-4FD5-84D0-CC09A000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D01-415B-4B7A-9510-0D44B958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7E7-97DD-47CE-AEB1-A04FE298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688B-676C-465F-A4A1-8D502C3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0228-C28C-4760-BFC3-ADE185B3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9972-D053-4C35-91F8-E67A7B35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E45-E919-4601-8A74-96FB8622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AB16-46EA-46DC-B539-BCABD4A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6F3-D58A-41B3-9EC2-DFEC999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C9-A508-4E9F-B6C6-4FB67161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DAF3-10AC-4C09-8092-9D6811C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AD58-2B7E-4D7F-8F4B-645755F6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D760-4F7D-4E6B-9465-EC5659F7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B00-265E-4AD9-BFC9-1A9D7B47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B854-6AF1-4B5A-A0E1-ACBEFF2E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817-3071-4384-8623-D6AD0DA8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621-DE8C-4C05-9524-1CBE6A3D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522-804D-476B-B655-6254E684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C65-31B0-42ED-BAAD-FA76F2FF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9F7-16CB-4226-8509-ADDE55B8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9360-B4F5-49A5-BDF4-0881F45C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C4F-2471-47DB-8887-C8534D4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D761-E1A3-4C2B-8565-347CE9CECCCD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208-B395-404E-94FD-DA098B142357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6"/>
          <p:cNvSpPr txBox="1"/>
          <p:nvPr/>
        </p:nvSpPr>
        <p:spPr>
          <a:xfrm>
            <a:off x="2771640" y="620640"/>
            <a:ext cx="6048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707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山中访友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矩形 9"/>
          <p:cNvSpPr/>
          <p:nvPr/>
        </p:nvSpPr>
        <p:spPr>
          <a:xfrm>
            <a:off x="4126680" y="544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:\吴李萍\图片\悬崖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8948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悬崖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1909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爷爷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454680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给人清净无杂念的心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吴李萍\图片\云雀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7437600" y="579132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云雀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4324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弟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622760" y="2286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纯洁少年，从不说是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D:\吴李萍\图片\p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7878960" y="5526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石头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880720" y="304920"/>
            <a:ext cx="43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敲击，听见时间的回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:\吴李萍\图片\f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76662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969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落叶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135600" y="304920"/>
            <a:ext cx="37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纹理，命运的手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D:\吴李萍\图片\r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7086600" y="5715000"/>
            <a:ext cx="1720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小花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4864680" y="304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采一朵插头上悄悄做一会儿女性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D:\吴李萍\图片\雷阵雨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7666200" y="57150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9896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雷阵雨：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096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侠客吼叫  醉酒诗人朗诵  感动吓人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D:\吴李萍\图片\树.bmp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7878960" y="575460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6238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老柏树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3445920" y="304920"/>
            <a:ext cx="40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慈祥——遮雨——恩泽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D:\吴李萍\图片\蚂蚁.jpg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7802640" y="583092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0188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蚂蚁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89548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小弟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852800" y="304920"/>
            <a:ext cx="25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患难兄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D:\吴李萍\图片\鸟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8047080" y="573408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255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归鸟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226680" y="228600"/>
            <a:ext cx="314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伴我披月回家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0" y="3808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自主合作探究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533520" y="15238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者与大自然是那样贴近，关系是那么密切，他在山中拜访的众多“朋友”中，你最喜欢哪一个？说说你喜欢的理由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601040" y="563868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9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Picture 14" descr="D:\吴李萍\图片\g.jpg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0" y="114300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</a:rPr>
              <a:t>朗读课文，思考问题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04920" y="2514600"/>
            <a:ext cx="95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、作者在山中拜访了哪些“朋友”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80880" y="36972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、他带什么礼物去拜访这些朋友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6238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整体感知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0" y="380880"/>
            <a:ext cx="449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合作探究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33520" y="1905120"/>
            <a:ext cx="830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者“带着满怀的好心情”走进山林，进山看了一路的美景，可作者为什么却说成“山中访友”呢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395280" y="38088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配乐朗读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33520" y="190512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带着感情朗读课文，去体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会那“童话般的世界”。 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620280" y="431640"/>
            <a:ext cx="220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拓展延伸 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09480" y="190512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假设你是某一景物，实际上景物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已经成为游人的朋友了，请你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景物为角色，与游人互诉心声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学习小组合作，进行创造性对话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吴李萍\图片\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57200" y="18288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模仿课文第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节“我闭上眼睛，我真的变成了一棵树，脚上长出了根须……”观察一下身边的大自然，展开想像的翅膀，写一个片断或一篇小作文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04920" y="457200"/>
            <a:ext cx="32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布置作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文本框 1"/>
          <p:cNvSpPr/>
          <p:nvPr/>
        </p:nvSpPr>
        <p:spPr>
          <a:xfrm>
            <a:off x="746280" y="1371600"/>
            <a:ext cx="80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我感觉到了，身体渐渐地轻起来。半浮在空中。啊！一阵风吹来，我被卷入了他们的行列。我成了风，轻盈地穿梭在万物丛中。人类看不见我，只有我的花儿妹妹、树儿姐姐、草儿弟弟、鸟儿弟弟，他们向我挥手问好，我就使出最软、最柔的手轻轻地爱抚着他们。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838080" y="914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立在白花争艳、蝴蝶成群的花丛中，闭上眼睛，我真的变成了一只蝴蝶。手、脚变扁，成了两对美丽的翅膀，扑腾着在花丛间飞舞，我的身体慢慢缩小，几乎快被大翅膀掩盖。我的嘴巴变成了卷曲的口器，尽情地享受花粉的甜蜜，最后我的身体越来越轻盈。加入到彩蝶的队伍中，翩翩飞向远方，寻找另一处“快乐天堂”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457200" y="3603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 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秋天，秋高气爽，黄金的季节，丰收的季节。眼前那美丽的红枫叶徐徐飘下，好比仙女散花，又如翩翩起舞。美！真美！看着，看着，我被陶醉了。闭上眼睛，我仿佛也变成了一片枫叶，徐徐飘向远方。一路上，我和云彩儿嬉戏，和小鸟儿唱和。瞧！不怕冷的蝴蝶还在为我伴舞。飞呀飞，我往乡村田野看去：那里有农民伯伯在收割一大片金色的稻子，飘呀飘，我看到了城市的繁华，我真想落下去享受享受，可一阵暖风把我拉住，他亲切的抚摩着我，让我不要迷失方向。我继续飘呀飘，我领略了丰收的景象，我领略了祖国的繁荣，我和云彩、小鸟儿一一告别。我依依不舍地徐徐落下，落在一片青黄的草坪上。几个孩子在玩耍，他们纷纷围过来，兴奋地对我唧唧喳喳——好一片美丽的秋叶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86E-E150-459D-8E20-54FBE801C1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5" descr="D:\吴李萍\图片\g.jpg"/>
          <p:cNvPicPr/>
          <p:nvPr/>
        </p:nvPicPr>
        <p:blipFill>
          <a:blip r:embed="rId1"/>
          <a:stretch/>
        </p:blipFill>
        <p:spPr>
          <a:xfrm>
            <a:off x="-457200" y="-457200"/>
            <a:ext cx="960120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作者要访的是自然界的朋友，依次是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09480" y="1066680"/>
            <a:ext cx="1524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古桥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72880" y="1066680"/>
            <a:ext cx="851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3" action="ppaction://hlinksldjump"/>
              </a:rPr>
              <a:t>树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800600" y="1066680"/>
            <a:ext cx="1600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4" action="ppaction://hlinksldjump"/>
              </a:rPr>
              <a:t>山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705720" y="1066680"/>
            <a:ext cx="1828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5" action="ppaction://hlinksldjump"/>
              </a:rPr>
              <a:t>小溪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09480" y="2514600"/>
            <a:ext cx="15242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6" action="ppaction://hlinksldjump"/>
              </a:rPr>
              <a:t>白云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2819520" y="2514600"/>
            <a:ext cx="14475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7" action="ppaction://hlinksldjump"/>
              </a:rPr>
              <a:t>瀑布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876920" y="2514600"/>
            <a:ext cx="16761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8" action="ppaction://hlinksldjump"/>
              </a:rPr>
              <a:t>悬崖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6781680" y="2514600"/>
            <a:ext cx="2057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9" action="ppaction://hlinksldjump"/>
              </a:rPr>
              <a:t>云雀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609480" y="3886200"/>
            <a:ext cx="175284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0" action="ppaction://hlinksldjump"/>
              </a:rPr>
              <a:t>石头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2819520" y="3886200"/>
            <a:ext cx="16761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1" action="ppaction://hlinksldjump"/>
              </a:rPr>
              <a:t>落叶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4952880" y="3886200"/>
            <a:ext cx="1676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2" action="ppaction://hlinksldjump"/>
              </a:rPr>
              <a:t>小花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7086600" y="3809880"/>
            <a:ext cx="20574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3" action="ppaction://hlinksldjump"/>
              </a:rPr>
              <a:t>阵雨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533520" y="5257800"/>
            <a:ext cx="2133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4" action="ppaction://hlinksldjump"/>
              </a:rPr>
              <a:t>老柏树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31"/>
          <p:cNvSpPr/>
          <p:nvPr/>
        </p:nvSpPr>
        <p:spPr>
          <a:xfrm>
            <a:off x="3124080" y="5334120"/>
            <a:ext cx="16765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5" action="ppaction://hlinksldjump"/>
              </a:rPr>
              <a:t>蚂蚁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Rectangle 33"/>
          <p:cNvSpPr/>
          <p:nvPr/>
        </p:nvSpPr>
        <p:spPr>
          <a:xfrm>
            <a:off x="5181480" y="5334120"/>
            <a:ext cx="25909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b0ae6a"/>
                </a:solidFill>
                <a:uFillTx/>
                <a:latin typeface="Times New Roman"/>
                <a:hlinkClick r:id="rId16" action="ppaction://hlinksldjump"/>
              </a:rPr>
              <a:t>归鸟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53"/>
          <p:cNvSpPr/>
          <p:nvPr/>
        </p:nvSpPr>
        <p:spPr>
          <a:xfrm>
            <a:off x="7601040" y="6156360"/>
            <a:ext cx="7902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17" action="ppaction://hlinksldjump"/>
              </a:rPr>
              <a:t>继续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7696080" y="601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AutoShape 55">
            <a:hlinkClick r:id="rId18" action="ppaction://hlinksldjump"/>
          </p:cNvPr>
          <p:cNvSpPr/>
          <p:nvPr/>
        </p:nvSpPr>
        <p:spPr>
          <a:xfrm>
            <a:off x="380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7396" y="3794"/>
                </a:moveTo>
                <a:lnTo>
                  <a:pt x="21409" y="10800"/>
                </a:lnTo>
                <a:lnTo>
                  <a:pt x="739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 flipH="1">
            <a:off x="7619400" y="601992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2286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古桥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0574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德高望重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419720" y="45720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古老而坚韧的灵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:\吴李萍\图片\c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7848720" y="5811840"/>
            <a:ext cx="1311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28600" y="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树林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90760" y="271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知己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412520" y="304920"/>
            <a:ext cx="34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闭上眼我变成了树……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D:\吴李萍\图片\d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7527960" y="5791320"/>
            <a:ext cx="161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0"/>
            <a:ext cx="248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山泉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362320" y="30492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姐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816440" y="304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照出我的浑浊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Object 3" descr="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5634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7162920" y="5867280"/>
            <a:ext cx="1692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4924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ac164"/>
                </a:solidFill>
                <a:latin typeface="Times New Roman"/>
              </a:rPr>
              <a:t>小溪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28767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c164"/>
                </a:solidFill>
                <a:latin typeface="Times New Roman"/>
              </a:rPr>
              <a:t>妹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5781960" y="228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ac164"/>
                </a:solidFill>
                <a:latin typeface="Times New Roman"/>
              </a:rPr>
              <a:t>唱和一首小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D:\吴李萍\图片\白云蓝天.jpg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6119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7086600" y="6156360"/>
            <a:ext cx="161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白云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114640" y="17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124080" y="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月亮的好女儿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天空的好护士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39396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使天空返老还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D:\吴李萍\图片\j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7010280" y="6095880"/>
            <a:ext cx="1540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6836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瀑布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62360" y="228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100040" y="304920"/>
            <a:ext cx="39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金嗓子—无回报地从古唱到今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45:26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9:53Z</dcterms:modified>
  <cp:revision>5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