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1.gif" ContentType="image/gif"/>
  <Override PartName="/ppt/media/image19.gif" ContentType="image/gif"/>
  <Override PartName="/ppt/media/image14.jpeg" ContentType="image/jpeg"/>
  <Override PartName="/ppt/media/image18.jpeg" ContentType="image/jpeg"/>
  <Override PartName="/ppt/media/image5.jpeg" ContentType="image/jpeg"/>
  <Override PartName="/ppt/media/image26.jpeg" ContentType="image/jpeg"/>
  <Override PartName="/ppt/media/projctor.wav" ContentType="audio/x-wav"/>
  <Override PartName="/ppt/media/camera.wav" ContentType="audio/x-wav"/>
  <Override PartName="/ppt/media/image7.jpeg" ContentType="image/jpeg"/>
  <Override PartName="/ppt/media/image9.gif" ContentType="image/gif"/>
  <Override PartName="/ppt/media/laser.wav" ContentType="audio/x-wav"/>
  <Override PartName="/ppt/media/image17.gif" ContentType="image/gif"/>
  <Override PartName="/ppt/media/image27.jpeg" ContentType="image/jpeg"/>
  <Override PartName="/ppt/media/glass.wav" ContentType="audio/x-wav"/>
  <Override PartName="/ppt/media/type.wav" ContentType="audio/x-wav"/>
  <Override PartName="/ppt/media/image25.gif" ContentType="image/gif"/>
  <Override PartName="/ppt/media/image8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10.gif" ContentType="image/gif"/>
  <Override PartName="/ppt/media/image12.jpeg" ContentType="image/jpeg"/>
  <Override PartName="/ppt/media/image22.jpeg" ContentType="image/jpeg"/>
  <Override PartName="/ppt/media/cashreg.wav" ContentType="audio/x-wav"/>
  <Override PartName="/ppt/media/image6.gif" ContentType="image/gif"/>
  <Override PartName="/ppt/media/chimes.wav" ContentType="audio/x-wav"/>
  <Override PartName="/ppt/media/image13.gif" ContentType="image/gif"/>
  <Override PartName="/ppt/media/image24.png" ContentType="image/png"/>
  <Override PartName="/ppt/media/image11.jpeg" ContentType="image/jpeg"/>
  <Override PartName="/ppt/media/image15.jpeg" ContentType="image/jpeg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E1C-C3DC-4D49-A1AB-360C5D51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A7E-F868-49D1-A178-5FB27B02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E89-DAAC-45C4-9A82-FB574838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60A-79BA-423C-A685-B841E652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5F9-BA97-4534-9C27-D1B1CD9A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6FF-BEB5-4B5D-8C14-2AB639F1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021-09D9-4833-A22E-0B3C7465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ECA-3DE9-46FD-8D66-A999B3D7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2B7-D93A-4FE9-9504-3AFBB53E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FBF-B11C-46D7-AA64-4F59752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B94-206F-4287-8ACA-D424CD1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49F-A234-4498-BE59-4FE76BF2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A13E-F9F1-4674-A44C-6799D210A1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ods.mid" descr=""/>
          <p:cNvPicPr/>
          <p:nvPr/>
        </p:nvPicPr>
        <p:blipFill>
          <a:blip r:embed="rId2"/>
          <a:stretch/>
        </p:blipFill>
        <p:spPr>
          <a:xfrm>
            <a:off x="7620120" y="5719680"/>
            <a:ext cx="990360" cy="681120"/>
          </a:xfrm>
          <a:prstGeom prst="rect">
            <a:avLst/>
          </a:prstGeom>
          <a:ln w="0">
            <a:noFill/>
          </a:ln>
        </p:spPr>
      </p:pic>
      <p:pic>
        <p:nvPicPr>
          <p:cNvPr id="43" name="Text Box 10" descr=""/>
          <p:cNvPicPr/>
          <p:nvPr/>
        </p:nvPicPr>
        <p:blipFill>
          <a:blip r:embed="rId3"/>
          <a:stretch/>
        </p:blipFill>
        <p:spPr>
          <a:xfrm>
            <a:off x="1287360" y="733320"/>
            <a:ext cx="4751640" cy="2319480"/>
          </a:xfrm>
          <a:prstGeom prst="rect">
            <a:avLst/>
          </a:prstGeom>
          <a:ln w="0">
            <a:noFill/>
          </a:ln>
        </p:spPr>
      </p:pic>
      <p:sp>
        <p:nvSpPr>
          <p:cNvPr id="44" name="矩形 13"/>
          <p:cNvSpPr/>
          <p:nvPr/>
        </p:nvSpPr>
        <p:spPr>
          <a:xfrm>
            <a:off x="-91800" y="61848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transition advTm="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质疑探究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、“我不幸偶而看了一本外国的讲论儿童的书，才知道游戏是儿童的最正当的行为，玩具是儿童的天使。”为什么说“不幸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、从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段中找出一句有关文章主旨的句子，说说反映了什么主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、对待早年的过错，鲁迅先生的心情如此沉重，你从鲁迅先生身上学到一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08"/>
          <p:cNvPicPr/>
          <p:nvPr/>
        </p:nvPicPr>
        <p:blipFill>
          <a:blip r:embed="rId1"/>
          <a:stretch/>
        </p:blipFill>
        <p:spPr>
          <a:xfrm>
            <a:off x="6019920" y="380880"/>
            <a:ext cx="213336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BJ_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华文行楷"/>
                <a:ea typeface="华文行楷"/>
              </a:rPr>
              <a:t>小结</a:t>
            </a:r>
            <a:r>
              <a:rPr b="1" lang="zh-CN" sz="5400" spc="-1" strike="noStrike">
                <a:solidFill>
                  <a:srgbClr val="660033"/>
                </a:solidFill>
                <a:latin typeface="华文行楷"/>
                <a:ea typeface="华文行楷"/>
              </a:rPr>
              <a:t>(3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   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这部分主我们刻画了一个天真、活泼、聪明、瘦弱的小兄弟形象。而“我”是一个野蛮粗暴的“虐杀者”。文中隐含着对小兄弟的可怜、同情和痛楚的手足之情，也隐含着深深的自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ZW_008"/>
          <p:cNvPicPr/>
          <p:nvPr/>
        </p:nvPicPr>
        <p:blipFill>
          <a:blip r:embed="rId2"/>
          <a:stretch/>
        </p:blipFill>
        <p:spPr>
          <a:xfrm>
            <a:off x="6629400" y="480060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景色1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12"/>
          <p:cNvPicPr/>
          <p:nvPr/>
        </p:nvPicPr>
        <p:blipFill>
          <a:blip r:embed="rId2"/>
          <a:stretch/>
        </p:blipFill>
        <p:spPr>
          <a:xfrm>
            <a:off x="0" y="0"/>
            <a:ext cx="1095480" cy="1190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质疑探究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阅读最后段，回答下列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、为什么说“我”的悲哀是“无可把握的悲哀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、“我”为什么要“躲到肃杀的严冬中去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、如何理解最后的“寒威和冷气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质疑探究</a:t>
            </a: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中两次强调季节的严寒，语意双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面上写季节，实指当时的黑暗统治。“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杀”、“寒威”、“冷气”，形容冷酷萧条，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生气的景象和给人的感受，实指军阀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府实行高压政策造成冷酷沉闷气氛和“我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这种气氛的不满和愤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Br045"/>
          <p:cNvPicPr/>
          <p:nvPr/>
        </p:nvPicPr>
        <p:blipFill>
          <a:blip r:embed="rId1"/>
          <a:stretch/>
        </p:blipFill>
        <p:spPr>
          <a:xfrm>
            <a:off x="5562720" y="4952880"/>
            <a:ext cx="358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scene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华文行楷"/>
              </a:rPr>
              <a:t>全文小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篇散文，说的是“我”小时候以十分粗暴的行为不许小兄弟放风筝，不准小兄弟弄这种“我”当时以为没出息的玩意。待到终于醒悟过来，明白游戏之于儿童的意义，才觉得自己当年的行径，简直是“对于精神的虐杀”。虽然事隔久远，作者还是一心想补过，然而小兄弟却全然忘却，“我”的沉重的心只得一直沉重下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40000" y="62028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体验与拓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12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合课后“研讨与练习”三，阅读周粲的《满天的风筝》一文，比较与课文所蕴含的情感有什么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比较可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鲁迅《风筝》一文，感情的基调是深沉的悲哀：虐杀者觉悟要改过，而被虐杀者对过去的虐杀行为早已忘却，以致我无从补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周粲的《风筝》一文则完全不同，全文抒发的是小时候跟二哥一起放风筝的快乐，写自己类推风筝放起来又满足又骄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ZW_022"/>
          <p:cNvPicPr/>
          <p:nvPr/>
        </p:nvPicPr>
        <p:blipFill>
          <a:blip r:embed="rId2"/>
          <a:stretch/>
        </p:blipFill>
        <p:spPr>
          <a:xfrm>
            <a:off x="838080" y="30492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33" descr="scene383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029"/>
          <p:cNvSpPr txBox="1"/>
          <p:nvPr/>
        </p:nvSpPr>
        <p:spPr>
          <a:xfrm>
            <a:off x="1219320" y="838080"/>
            <a:ext cx="69339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大家参与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WordArt 1030"/>
          <p:cNvSpPr txBox="1"/>
          <p:nvPr/>
        </p:nvSpPr>
        <p:spPr>
          <a:xfrm>
            <a:off x="2209680" y="350532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2005</a:t>
            </a:r>
            <a:r>
              <a:rPr b="1" lang="zh-CN" sz="4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年元月</a:t>
            </a:r>
            <a:endParaRPr b="1" lang="en-US" sz="4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9" name="bgm12.mid" descr=""/>
          <p:cNvPicPr/>
          <p:nvPr/>
        </p:nvPicPr>
        <p:blipFill>
          <a:blip r:embed="rId6"/>
          <a:stretch/>
        </p:blipFill>
        <p:spPr>
          <a:xfrm>
            <a:off x="7391520" y="51814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FF77-A30A-452E-84DB-4CB5FF9198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46" name="Picture 5" descr="bj1201"/>
          <p:cNvPicPr/>
          <p:nvPr/>
        </p:nvPicPr>
        <p:blipFill>
          <a:blip r:embed="rId16"/>
          <a:srcRect l="0" t="0" r="6717" b="6336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教学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90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整体感知课文内容，提出问题，体会作者的思想感情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在合作中，探究问题，解决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结合具体的语境，分析语言所蕴含的深刻含义，巩固分析语言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学习鲁迅先生勇于自我解剖、自我反省，并从小事中透视出重大主题的精神和境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cover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幼圆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1816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、这篇散文回忆的是什么事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、“我”为什么不许小兄弟放风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、为什么说不许小兄弟放风筝是“对于精神的虐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、鲁迅对待自己错误的态度与一般人有什么不同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46"/>
          <p:cNvPicPr/>
          <p:nvPr/>
        </p:nvPicPr>
        <p:blipFill>
          <a:blip r:embed="rId1"/>
          <a:stretch/>
        </p:blipFill>
        <p:spPr>
          <a:xfrm>
            <a:off x="533520" y="457200"/>
            <a:ext cx="2286000" cy="135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ZW_039"/>
          <p:cNvPicPr/>
          <p:nvPr/>
        </p:nvPicPr>
        <p:blipFill>
          <a:blip r:embed="rId2"/>
          <a:stretch/>
        </p:blipFill>
        <p:spPr>
          <a:xfrm>
            <a:off x="7086600" y="5303880"/>
            <a:ext cx="2057400" cy="155412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-2147760" y="6305400"/>
            <a:ext cx="104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模板下载：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transition advTm="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小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这篇课文的意蕴很丰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有手足情；游戏对于儿童的意义；“我”的自省精神；小兄弟无怨恨的思想内容。又集中表达了“我”的惊异、悔恨、补过、悲哀的情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质疑探究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、为什么“在我是一种惊异和悲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、画出描写故乡风筝时节的“春光明媚”的句子，说说作者为什么把往事的回忆放在这样的画面中展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0002"/>
          <p:cNvPicPr/>
          <p:nvPr/>
        </p:nvPicPr>
        <p:blipFill>
          <a:blip r:embed="rId2"/>
          <a:stretch/>
        </p:blipFill>
        <p:spPr>
          <a:xfrm>
            <a:off x="838080" y="533520"/>
            <a:ext cx="2971800" cy="1218960"/>
          </a:xfrm>
          <a:prstGeom prst="rect">
            <a:avLst/>
          </a:prstGeom>
          <a:ln w="0">
            <a:noFill/>
          </a:ln>
        </p:spPr>
      </p:pic>
    </p:spTree>
  </p:cSld>
  <p:transition advTm="0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ZW_023"/>
          <p:cNvPicPr/>
          <p:nvPr/>
        </p:nvPicPr>
        <p:blipFill>
          <a:blip r:embed="rId2"/>
          <a:stretch/>
        </p:blipFill>
        <p:spPr>
          <a:xfrm>
            <a:off x="7391520" y="5375160"/>
            <a:ext cx="1752480" cy="148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小结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(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作者在北京的冬季看到天空中的风筝所引发的惊慌和悲哀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引出下文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)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在“春光明媚”的画面里展开了对往事的回忆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使现实中的严冬的“寒威”与回想中春日的“温和”互相映衬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既增添了回忆往事哀婉动 人的力量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又使文章带上几分明丽的色彩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透露出作者不满黑暗现实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向往光明天地的心情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BJ_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质疑探究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、找出描写小兄弟观望他人放风筝的语句，分析从哪几方面写的？他为我们勾画了一个什么样的儿童形象？对小兄弟流露出什么感情？（结合插图体会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、第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段、第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段，一面写“我”，一面写小兄弟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根据提示表演小短剧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、文中所说的“精神虐杀”的一幕，具体指什么？用自己的话概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16"/>
          <p:cNvPicPr/>
          <p:nvPr/>
        </p:nvPicPr>
        <p:blipFill>
          <a:blip r:embed="rId3"/>
          <a:stretch/>
        </p:blipFill>
        <p:spPr>
          <a:xfrm>
            <a:off x="685800" y="0"/>
            <a:ext cx="149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景色9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087200" y="260280"/>
            <a:ext cx="45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提示性词语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9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95920" y="206064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我”：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“生疑”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12400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445120" y="2205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侦察”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4" name="Line 7"/>
          <p:cNvSpPr/>
          <p:nvPr/>
        </p:nvSpPr>
        <p:spPr>
          <a:xfrm>
            <a:off x="3419640" y="2421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95640" y="220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破获”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>
            <a:off x="5003640" y="2492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783760" y="2276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抓断”</a:t>
            </a:r>
            <a:endParaRPr b="1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6443640" y="2492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7341480" y="2276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掷”</a:t>
            </a:r>
            <a:endParaRPr b="1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8028000" y="2492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31104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踏扁”</a:t>
            </a:r>
            <a:endParaRPr b="1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1042920" y="3357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154960" y="30877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傲然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走出”</a:t>
            </a:r>
            <a:endParaRPr b="1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419640" y="3357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619880" y="30877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没有留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心”</a:t>
            </a:r>
            <a:endParaRPr b="1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40200" y="386064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小兄弟”：</a:t>
            </a: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2465280" y="40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惊惶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3348000" y="42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4500720" y="3933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瑟缩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5435640" y="422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7004520" y="4005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绝望地站在小屋里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transition spd="slow" advTm="0">
    <p:wheel spokes="1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BJ_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小结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仿宋_GB2312"/>
              </a:rPr>
              <a:t>          </a:t>
            </a: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仿宋_GB2312"/>
              </a:rPr>
              <a:t>这部分为我们刻画了一个天真、活泼、聪明、瘦弱的小兄弟形象。而“我”是一个野蛮、粗暴的“虐杀者”。文中隐含着对小兄弟的可怜、同情和痛楚的手足之情，也隐含着深深的自责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13"/>
          <p:cNvPicPr/>
          <p:nvPr/>
        </p:nvPicPr>
        <p:blipFill>
          <a:blip r:embed="rId2"/>
          <a:stretch/>
        </p:blipFill>
        <p:spPr>
          <a:xfrm>
            <a:off x="838080" y="457200"/>
            <a:ext cx="1981440" cy="1246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6:49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2:43Z</dcterms:modified>
  <cp:revision>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