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E5D-7854-493F-A2A4-8FD161A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2A5-7B13-42EB-9B84-00FA2C3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E85-C91C-49E1-84F9-D84F0161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5D7-70F7-4351-B535-8D39432F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32F-9E39-48C2-A3DF-183C2FF9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A56-CEB0-402E-A7F4-0472AA4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C94-A31D-4D5A-81BB-5218CC0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DF1-EE86-4EEA-A1FD-0BD487B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4D3-A83B-44F8-B30F-0A745438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285-AF47-44F0-9665-23C1992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725-E551-4247-B29A-5340EE2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145-AE22-4D5C-B245-A3EE6BB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3DCF-AA0C-4DE6-8052-756B50B0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5475240" y="907920"/>
            <a:ext cx="23749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观      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282040" y="4508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11148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403280" y="0"/>
            <a:ext cx="77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200410311402145018"/>
          <p:cNvPicPr/>
          <p:nvPr/>
        </p:nvPicPr>
        <p:blipFill>
          <a:blip r:embed="rId1"/>
          <a:stretch/>
        </p:blipFill>
        <p:spPr>
          <a:xfrm>
            <a:off x="0" y="0"/>
            <a:ext cx="9970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907920"/>
            <a:ext cx="727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八月十八，我去海宁观潮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这天早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江面上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风平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岸边却早已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人山人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；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午后一点左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从远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来的潮声犹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闷雷滚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），过了一会儿水天相接处出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一条白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）；不一会儿，白线拉长变粗，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横贯江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近些，那浪潮是一浪一浪像六七米高的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白色城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一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浪像千万匹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白色战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此时的潮水声犹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山崩地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连大地都在惊颤；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霎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潮过去了，可是余波还在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漫天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涌来，而堤下的江水已经涨了七八米高。这真是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天下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C07B-6E64-4C06-BDC5-4F89F91F98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haoshuiW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195640" y="549360"/>
            <a:ext cx="45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浪淘沙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八月涛声吼地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头高数丈触山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须臾却入海门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卷起沙堆似雪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第二段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1379520" y="355608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45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-973080" y="-297000"/>
            <a:ext cx="10117080" cy="715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968200" y="828720"/>
            <a:ext cx="18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  <a:ea typeface="仿宋_GB2312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340000" y="620640"/>
            <a:ext cx="63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盐           据              堤             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若           昂              崩             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奇观       闷雷           据说        昂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人声鼎沸       浩浩荡荡        水天相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山崩地裂      风平浪静         若隐若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ic_2489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20050920132234194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00053103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41025205336209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4038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霎时，潮头奔腾西去，可是余波还在漫天卷地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00410311402145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838080" y="21337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07172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八月十八，我去海宁观潮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2200" spc="-1" strike="noStrike">
                <a:solidFill>
                  <a:srgbClr val="ff0066"/>
                </a:solidFill>
                <a:latin typeface="Arial"/>
              </a:rPr>
              <a:t>时间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）江面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             ），岸边却早已（                ）；（ </a:t>
            </a:r>
            <a:r>
              <a:rPr b="1" lang="zh-CN" sz="2200" spc="-1" strike="noStrike">
                <a:solidFill>
                  <a:srgbClr val="ff0066"/>
                </a:solidFill>
                <a:latin typeface="Arial"/>
              </a:rPr>
              <a:t>时间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）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从远处传来的潮声犹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，过了一会儿水天相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处出现了（                     ）；不一会儿，那条白线拉长变粗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                    ），再近些，浪潮是一浪一浪像六七米高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                 ），一浪一浪像千万匹（               ），此时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潮水声犹如（               ），连大地都在惊颤；（ </a:t>
            </a:r>
            <a:r>
              <a:rPr b="1" lang="zh-CN" sz="2200" spc="-1" strike="noStrike">
                <a:solidFill>
                  <a:srgbClr val="ff0066"/>
                </a:solidFill>
                <a:latin typeface="Arial"/>
              </a:rPr>
              <a:t>时间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潮过去了，可是余波还在（                 ）涌来，而堤下的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水已经涨了七八米高。这真是（               ）啊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1:0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36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