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whoosh.wav" ContentType="audio/x-wav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DCF2-0864-452E-B4A1-060F63A3B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225A-CFB4-4C83-8E84-9291EB444772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封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7666-E092-4527-A187-AF7CBC3299AA}" type="slidenum">
              <a:rPr b="0" lang="en-US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探究学习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82A-CA4A-4C0B-A6A0-350E0FF8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5D6B-0AA6-4587-84B9-A2394130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58AD-E0C5-496C-A676-CC332BCAE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A8E7-69ED-49F6-BB6A-8C4B7E79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038DB-0E3A-4AEC-93A9-67CC0F02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9B63-8845-43B6-93B9-93518906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2222-6419-4D7E-88D0-AF86721F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D44A-1271-4E03-9E18-4B9E0C45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E55E-8B0D-49CF-AE4D-31027717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B84A-B166-4DEB-A26D-33221993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D548-B1AC-463B-A68C-EA4F23C8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9A74-CB3A-47E1-8FA4-0290282C9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976E-14A5-430B-A9F3-7A147807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38F0-B028-4CBC-B011-2C3E7BB9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6087-FF3E-413E-9602-CC5F3556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D284-BA69-42B4-90E8-610EA068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B1E2-F933-4FE2-885D-56F6B0EDF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2943-7138-4A45-9FB8-7B5E3E1B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DE1-8541-4322-82B5-5BCE8D44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5FD-83B7-43AC-8DF4-E5A0AA21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5F36-15A4-4D40-A3A8-82F3705C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D4D-1E9C-4C37-8D37-0FB847FF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396-297B-4721-A71E-0CF7ADD1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36FC-F804-4486-8FB6-38A30B47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Group 3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Rectangle 5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Rectangle 6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Rectangle 7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Rectangle 8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Rectangle 9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Rectangle 11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Rectangle 15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Rectangle 17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Rectangle 21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" name="Group 22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Rectangle 23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Rectangle 27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Group 28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Rectangle 29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Rectangle 33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" name="Group 34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Group 35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Rectangle 36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" name="Group 38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Rectangle 39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Rectangle 40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" name="Group 41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Rectangle 42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Rectangle 43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" name="Group 44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Rectangle 45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Rectangle 46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" name="Group 47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Rectangle 48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Rectangle 49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Group 50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Rectangle 51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Rectangle 52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" name="Group 53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Rectangle 54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Rectangle 55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Group 56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Rectangle 57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Rectangle 58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3121-E0C0-45F1-8587-7EDEF9299ABB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Group 3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Group 4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Line 5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Line 6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Line 7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Line 8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Line 9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Line 10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Line 11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12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" name="Group 13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Group 14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Line 15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Line 16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Line 17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Line 18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Line 19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Line 20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Line 21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Line 22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Group 23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Line 24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Line 25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" name="Line 26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" name="Line 27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Line 28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Line 29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Line 30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Line 31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Group 32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Line 33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Line 34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" name="Line 35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Line 36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Line 37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Line 38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Line 39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Line 40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Group 41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Line 42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Line 43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Line 44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Line 45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Line 46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Line 47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Line 48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Line 49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6" name="Group 50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Group 51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Line 52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" name="Line 53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" name="Line 54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" name="Line 55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" name="Line 56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" name="Line 57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" name="Line 58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Line 59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Group 60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Line 61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Line 62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9" name="Line 63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0" name="Line 64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1" name="Line 65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" name="Line 66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" name="Line 67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" name="Line 68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" name="Group 69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Line 70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Line 71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Line 72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Line 73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Line 74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" name="Line 75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Line 76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Line 77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4" name="Group 78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Line 79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6" name="Line 80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7" name="Line 81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Line 82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9" name="Line 83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0" name="Line 84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Line 85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2" name="Line 86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3" name="Group 87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Group 88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Line 89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Line 90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Line 91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Line 92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Line 93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Line 94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Line 95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2" name="Line 96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3" name="Group 97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Line 98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Line 99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Line 100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Line 101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Line 102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Line 103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Line 104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Line 105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Group 106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Line 107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" name="Line 108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" name="Line 109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Line 110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Line 111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Line 112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Line 113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" name="Line 114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1" name="Group 115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Line 116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Line 117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Line 118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Line 119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Line 120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" name="Line 121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Line 122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" name="Line 123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0" name="Group 124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Group 125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Line 126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Line 127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Line 128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Line 129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Line 130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Line 131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Line 132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Line 133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0" name="Group 134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Line 135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2" name="Line 136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Line 137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" name="Line 138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" name="Line 139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Line 140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Line 141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Line 142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" name="Group 143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Line 144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Line 145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Line 146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Line 147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Line 148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Line 149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Line 150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Line 151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" name="Group 152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Line 153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Line 154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Line 155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Line 156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Line 157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Line 158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Line 159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Line 160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7" name="Group 161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Group 162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Line 163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Line 164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" name="Line 165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Line 166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" name="Line 167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" name="Line 168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Line 169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Line 170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7" name="Group 171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Line 172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Line 173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Line 174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Line 175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" name="Line 176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" name="Line 177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Line 178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Line 179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6" name="Group 180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Line 181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" name="Line 182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Line 183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Line 184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Line 185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Line 186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Line 187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Line 188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5" name="Group 189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Line 190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Line 191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Line 192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Line 193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Line 194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Line 195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Line 196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Line 197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383ad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4" name="Group 198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Line 199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Line 200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201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Line 202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Line 203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204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205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Line 206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Line 207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Line 208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209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210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Rectangle 211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8" name="Rectangle 212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09" name="Rectangle 213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0" name="Rectangle 214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  <p:sp>
            <p:nvSpPr>
              <p:cNvPr id="311" name="Rectangle 215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8383ad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216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Group 217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Rectangle 218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219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220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Rectangle 221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Rectangle 222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Group 223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Rectangle 224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225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Group 226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Rectangle 227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Rectangle 228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Group 229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Rectangle 230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Rectangle 231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232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Rectangle 233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Rectangle 234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235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Rectangle 236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Rectangle 237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238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Rectangle 239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240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8383ad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37" name="Picture 246" descr="posbul1a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758E-5F22-438D-AE2E-7DF13684007D}" type="slidenum">
              <a:rPr b="0" lang="en-US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2"/>
          <p:cNvSpPr/>
          <p:nvPr/>
        </p:nvSpPr>
        <p:spPr>
          <a:xfrm>
            <a:off x="533520" y="69228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efed6"/>
                </a:solidFill>
                <a:latin typeface="Times New Roman"/>
                <a:ea typeface="隶书"/>
              </a:rPr>
              <a:t>孤独之旅</a:t>
            </a:r>
            <a:endParaRPr b="0" lang="en-US" sz="115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87" name="中国古乐器之流水-陶埙月古筝 高山流水(古曲).mp3" descr=""/>
          <p:cNvPicPr/>
          <p:nvPr/>
        </p:nvPicPr>
        <p:blipFill>
          <a:blip r:embed="rId2"/>
          <a:stretch/>
        </p:blipFill>
        <p:spPr>
          <a:xfrm>
            <a:off x="380880" y="60199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388" name="矩形 5"/>
          <p:cNvSpPr/>
          <p:nvPr/>
        </p:nvSpPr>
        <p:spPr>
          <a:xfrm>
            <a:off x="2399400" y="58165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5" descr="FR_048"/>
          <p:cNvPicPr/>
          <p:nvPr/>
        </p:nvPicPr>
        <p:blipFill>
          <a:blip r:embed="rId1"/>
          <a:stretch/>
        </p:blipFill>
        <p:spPr>
          <a:xfrm>
            <a:off x="-2209680" y="0"/>
            <a:ext cx="12344400" cy="807732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2"/>
          <p:cNvSpPr/>
          <p:nvPr/>
        </p:nvSpPr>
        <p:spPr>
          <a:xfrm>
            <a:off x="2590920" y="0"/>
            <a:ext cx="6933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383ad"/>
                </a:solidFill>
                <a:latin typeface="Times New Roman"/>
              </a:rPr>
              <a:t>　　　　　　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2590920" y="1143000"/>
            <a:ext cx="3155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383ad"/>
                </a:solidFill>
                <a:latin typeface="Times New Roman"/>
                <a:ea typeface="隶书"/>
              </a:rPr>
              <a:t>作业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5" name="Rectangle 9"/>
          <p:cNvSpPr/>
          <p:nvPr/>
        </p:nvSpPr>
        <p:spPr>
          <a:xfrm>
            <a:off x="1219320" y="22860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8383ad"/>
                </a:solidFill>
                <a:latin typeface="Times New Roman"/>
              </a:rPr>
              <a:t>读书贵在感悟和联想，而作品贵在能引起读者的共鸣。杜 小康在孤独中成长的经历让人感动，你一定也有这样的成长经历，试着把它写出来，让大家体味一下你的“孤独之旅”，看谁写得真实感人。　　　　　　　　　　　　　　　　　　　　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毛阿敏-烛光里的妈妈.mp3" descr=""/>
          <p:cNvPicPr/>
          <p:nvPr/>
        </p:nvPicPr>
        <p:blipFill>
          <a:blip r:embed="rId1"/>
          <a:stretch/>
        </p:blipFill>
        <p:spPr>
          <a:xfrm>
            <a:off x="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" descr="BJ_014"/>
          <p:cNvPicPr/>
          <p:nvPr/>
        </p:nvPicPr>
        <p:blipFill>
          <a:blip r:embed="rId2"/>
          <a:stretch/>
        </p:blipFill>
        <p:spPr>
          <a:xfrm>
            <a:off x="-53352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Line 4"/>
          <p:cNvSpPr/>
          <p:nvPr/>
        </p:nvSpPr>
        <p:spPr>
          <a:xfrm flipH="1" flipV="1">
            <a:off x="7467480" y="5562360"/>
            <a:ext cx="152640" cy="152280"/>
          </a:xfrm>
          <a:prstGeom prst="line">
            <a:avLst/>
          </a:prstGeom>
          <a:ln w="93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9" name="WordArt 2"/>
          <p:cNvSpPr txBox="1"/>
          <p:nvPr/>
        </p:nvSpPr>
        <p:spPr>
          <a:xfrm>
            <a:off x="457200" y="1828800"/>
            <a:ext cx="77724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在逆境中学习更能成为佼佼者！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417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09e4a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09e4a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383a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866A-3DAD-493B-81D2-39B32BF0D9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矩形 8"/>
          <p:cNvSpPr/>
          <p:nvPr/>
        </p:nvSpPr>
        <p:spPr>
          <a:xfrm>
            <a:off x="1054080" y="45720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0" name="Rectangle 24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  <a:ea typeface="宋体"/>
              </a:rPr>
              <a:t>.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391" name="Picture 15" descr="BJ_020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4"/>
          <p:cNvSpPr/>
          <p:nvPr/>
        </p:nvSpPr>
        <p:spPr>
          <a:xfrm>
            <a:off x="838080" y="502920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914400" y="457200"/>
            <a:ext cx="7162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　　　　　　　　　　　　　　　　　　　　　　　　　　</a:t>
            </a:r>
            <a:r>
              <a:rPr b="0" lang="zh-CN" sz="3600" spc="-1" strike="noStrike">
                <a:solidFill>
                  <a:srgbClr val="ff5050"/>
                </a:solidFill>
                <a:latin typeface="Times New Roman"/>
                <a:ea typeface="隶书"/>
              </a:rPr>
              <a:t>走近作者</a:t>
            </a:r>
            <a:r>
              <a:rPr b="0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　 　　　　　　　　　　　　　　　　　　　曹文轩，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1954</a:t>
            </a:r>
            <a:r>
              <a:rPr b="0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年生于江苏盐城农村。１９７４年考入北京大学中文系读书，后留校任教．　现为中国作协全国委员会委员，北京市作协理事，北京大学教授。著有多种学术著作，另有长篇小说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山羊不吃天堂草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》《</a:t>
            </a:r>
            <a:r>
              <a:rPr b="0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草房子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》《</a:t>
            </a:r>
            <a:r>
              <a:rPr b="0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红瓦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等。小说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《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草房子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及改编的电影荣获多项国家，国际大奖。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Times New Roman"/>
                <a:ea typeface="宋体"/>
              </a:rPr>
              <a:t>     </a:t>
            </a:r>
            <a:r>
              <a:rPr b="0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了解背景</a:t>
            </a:r>
            <a:r>
              <a:rPr b="0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                  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        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草房子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是一部关于少年成长的长篇小说。全书共</a:t>
            </a:r>
            <a:r>
              <a:rPr b="0" lang="en-US" sz="2000" spc="-1" strike="noStrike">
                <a:solidFill>
                  <a:srgbClr val="ff5050"/>
                </a:solidFill>
                <a:latin typeface="Times New Roman"/>
              </a:rPr>
              <a:t>9</a:t>
            </a:r>
            <a:r>
              <a:rPr b="0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章，作者写了男孩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桑桑</a:t>
            </a:r>
            <a:r>
              <a:rPr b="0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终身难忘的六年小学生活。六年中他亲眼目睹或参与了 一连串看似寻常但又催人泪下的事件。本文节选部分写的是不幸少年杜小康与厄运抗争时的悲怆。杜小康原本生活在麻油地家底最厚实的人家，生活的富裕，使他一直有一种优越感，他又是班里成绩最好的学生。一次意外变故，家中破产，他被迫辍学，过早地担负起生活的重担，跟随父亲背井离乡去放鸭。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2133720" y="144792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1708560" y="228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整体感知</a:t>
            </a:r>
            <a:endParaRPr b="0" lang="en-US" sz="48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685800" y="990720"/>
            <a:ext cx="8077320" cy="40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默读课文，要求：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一不动唇；二不指读；三不回读；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钟内读完课文。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写一句感受最深的话。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理清小说的故事情节。</a:t>
            </a:r>
            <a:r>
              <a:rPr b="0" lang="zh-CN" sz="2400" spc="-1" strike="noStrike">
                <a:solidFill>
                  <a:srgbClr val="8383ad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97" name="Rectangle 11"/>
          <p:cNvSpPr/>
          <p:nvPr/>
        </p:nvSpPr>
        <p:spPr>
          <a:xfrm>
            <a:off x="533520" y="4038480"/>
            <a:ext cx="761976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</a:rPr>
              <a:t>开端：写杜小康因家道破落不得不辍学跟着父亲去放鸭。 　　　　　　　　　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</a:rPr>
              <a:t>发展：写杜小康与父亲撑船赶鸭去芦苇荡的感受。　　　　　　　　　　　　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</a:rPr>
              <a:t>高潮：写杜小康与父亲在芦苇荡中遇到暴风雨的情景。　　　　　　　　　　　　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</a:rPr>
              <a:t>结局：写鸭子们长大了，杜小康也</a:t>
            </a: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“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</a:rPr>
              <a:t>长大</a:t>
            </a: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”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</a:rPr>
              <a:t>了。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0066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7" descr="FR_067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90360" y="2819160"/>
            <a:ext cx="7721640" cy="25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176"/>
                </a:solidFill>
                <a:latin typeface="Arial"/>
              </a:rPr>
              <a:t>　　题目概括了主人公放鸭生活的全过程，</a:t>
            </a:r>
            <a:r>
              <a:rPr b="1" lang="zh-CN" sz="2000" spc="-1" strike="noStrike">
                <a:solidFill>
                  <a:srgbClr val="404176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404176"/>
                </a:solidFill>
                <a:latin typeface="Arial"/>
              </a:rPr>
              <a:t>孤独</a:t>
            </a:r>
            <a:r>
              <a:rPr b="1" lang="zh-CN" sz="2000" spc="-1" strike="noStrike">
                <a:solidFill>
                  <a:srgbClr val="404176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404176"/>
                </a:solidFill>
                <a:latin typeface="Arial"/>
              </a:rPr>
              <a:t>渗透于人物放鸭期间的全部生活空间和心灵空间。对杜小康来说，</a:t>
            </a:r>
            <a:r>
              <a:rPr b="1" lang="zh-CN" sz="2000" spc="-1" strike="noStrike">
                <a:solidFill>
                  <a:srgbClr val="404176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404176"/>
                </a:solidFill>
                <a:latin typeface="Arial"/>
              </a:rPr>
              <a:t>孤独</a:t>
            </a:r>
            <a:r>
              <a:rPr b="1" lang="zh-CN" sz="2000" spc="-1" strike="noStrike">
                <a:solidFill>
                  <a:srgbClr val="404176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404176"/>
                </a:solidFill>
                <a:latin typeface="Arial"/>
              </a:rPr>
              <a:t>含义是：</a:t>
            </a:r>
            <a:br>
              <a:rPr sz="2000"/>
            </a:br>
            <a:r>
              <a:rPr b="1" lang="zh-CN" sz="2000" spc="-1" strike="noStrike">
                <a:solidFill>
                  <a:srgbClr val="404176"/>
                </a:solidFill>
                <a:latin typeface="Arial"/>
              </a:rPr>
              <a:t>　　①、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情感世界的孤独。</a:t>
            </a:r>
            <a:r>
              <a:rPr b="1" lang="zh-CN" sz="2000" spc="-1" strike="noStrike">
                <a:solidFill>
                  <a:srgbClr val="404176"/>
                </a:solidFill>
                <a:latin typeface="Arial"/>
              </a:rPr>
              <a:t>杜小康离开学校，没有同学间的情感交流；远离人群；与父亲没有共同语言，缺乏心灵的沟通和交流。　　　②、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面对自然环境的孤独。</a:t>
            </a:r>
            <a:r>
              <a:rPr b="1" lang="zh-CN" sz="2000" spc="-1" strike="noStrike">
                <a:solidFill>
                  <a:srgbClr val="404176"/>
                </a:solidFill>
                <a:latin typeface="Arial"/>
              </a:rPr>
              <a:t>离开村庄，来到一个无比广阔而又神秘莫测的大自然，幼小的心灵感觉到了巨大的孤独。　　</a:t>
            </a:r>
            <a:br>
              <a:rPr sz="2000"/>
            </a:br>
            <a:r>
              <a:rPr b="1" lang="zh-CN" sz="2000" spc="-1" strike="noStrike">
                <a:solidFill>
                  <a:srgbClr val="404176"/>
                </a:solidFill>
                <a:latin typeface="Arial"/>
              </a:rPr>
              <a:t>　　③、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对未来的恐惧。</a:t>
            </a:r>
            <a:r>
              <a:rPr b="1" lang="zh-CN" sz="2000" spc="-1" strike="noStrike">
                <a:solidFill>
                  <a:srgbClr val="404176"/>
                </a:solidFill>
                <a:latin typeface="Arial"/>
              </a:rPr>
              <a:t>慢慢放鸭，路何处是尽头？　</a:t>
            </a:r>
            <a:br>
              <a:rPr sz="2000"/>
            </a:br>
            <a:r>
              <a:rPr b="1" lang="zh-CN" sz="2000" spc="-1" strike="noStrike">
                <a:solidFill>
                  <a:srgbClr val="404176"/>
                </a:solidFill>
                <a:latin typeface="Arial"/>
              </a:rPr>
              <a:t>    　这一切构成了人生的一段</a:t>
            </a:r>
            <a:r>
              <a:rPr b="1" lang="zh-CN" sz="2000" spc="-1" strike="noStrike">
                <a:solidFill>
                  <a:srgbClr val="404176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404176"/>
                </a:solidFill>
                <a:latin typeface="Arial"/>
              </a:rPr>
              <a:t>孤独之旅</a:t>
            </a:r>
            <a:r>
              <a:rPr b="1" lang="zh-CN" sz="2000" spc="-1" strike="noStrike">
                <a:solidFill>
                  <a:srgbClr val="404176"/>
                </a:solidFill>
                <a:latin typeface="Times New Roman"/>
              </a:rPr>
              <a:t>”</a:t>
            </a:r>
            <a:r>
              <a:rPr b="1" lang="zh-CN" sz="2000" spc="-1" strike="noStrike">
                <a:solidFill>
                  <a:srgbClr val="404176"/>
                </a:solidFill>
                <a:latin typeface="Arial"/>
              </a:rPr>
              <a:t>。　　　　　</a:t>
            </a:r>
            <a:endParaRPr b="0" lang="en-US" sz="20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1066680" y="15238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176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404176"/>
                </a:solidFill>
                <a:latin typeface="Times New Roman"/>
                <a:ea typeface="宋体"/>
              </a:rPr>
              <a:t>小说题目是“孤独之旅”，对杜小康这样的孩子来说，“孤独”的含义是什麽？文中最能体现“孤独”的语句是什麽？　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762120" y="556272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ff5050"/>
                </a:solidFill>
                <a:latin typeface="Arial"/>
                <a:ea typeface="宋体"/>
              </a:rPr>
              <a:t>文中最能体现孤独的句子是：</a:t>
            </a:r>
            <a:r>
              <a:rPr b="1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“</a:t>
            </a:r>
            <a:r>
              <a:rPr b="1" lang="zh-CN" sz="2000" spc="-1" strike="noStrike">
                <a:solidFill>
                  <a:srgbClr val="ff5050"/>
                </a:solidFill>
                <a:latin typeface="Arial"/>
                <a:ea typeface="宋体"/>
              </a:rPr>
              <a:t>一连十多天遇不到一个人，没有其他声音，天地又如此空旷。</a:t>
            </a:r>
            <a:r>
              <a:rPr b="1" lang="zh-CN" sz="2000" spc="-1" strike="noStrike">
                <a:solidFill>
                  <a:srgbClr val="ff5050"/>
                </a:solidFill>
                <a:latin typeface="Times New Roman"/>
                <a:ea typeface="宋体"/>
              </a:rPr>
              <a:t>”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页脚占位符 2"/>
          <p:cNvSpPr/>
          <p:nvPr/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.</a:t>
            </a:r>
            <a:endParaRPr b="0" lang="en-US" sz="1400" spc="-1" strike="noStrike">
              <a:solidFill>
                <a:srgbClr val="8383ad"/>
              </a:solidFill>
              <a:latin typeface="Times New Roman"/>
            </a:endParaRPr>
          </a:p>
        </p:txBody>
      </p:sp>
      <p:pic>
        <p:nvPicPr>
          <p:cNvPr id="403" name="Picture 7" descr="BJ_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2"/>
          <p:cNvSpPr/>
          <p:nvPr/>
        </p:nvSpPr>
        <p:spPr>
          <a:xfrm>
            <a:off x="1066680" y="205740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176"/>
                </a:solidFill>
                <a:latin typeface="Times New Roman"/>
              </a:rPr>
              <a:t>１、根据故事情节，你能概括杜小康成长的心理历程吗？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2743200" y="762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176"/>
                </a:solidFill>
                <a:latin typeface="Times New Roman"/>
                <a:ea typeface="隶书"/>
              </a:rPr>
              <a:t>探究人物形象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1371600" y="26668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茫然、恐惧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害怕、胆怯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感到孤独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不再恐惧</a:t>
            </a:r>
            <a:r>
              <a:rPr b="0" lang="en-US" sz="2000" spc="-1" strike="noStrike">
                <a:solidFill>
                  <a:srgbClr val="ff00ff"/>
                </a:solidFill>
                <a:latin typeface="Times New Roman"/>
              </a:rPr>
              <a:t>——</a:t>
            </a:r>
            <a:r>
              <a:rPr b="0" lang="zh-CN" sz="2000" spc="-1" strike="noStrike">
                <a:solidFill>
                  <a:srgbClr val="ff00ff"/>
                </a:solidFill>
                <a:latin typeface="Times New Roman"/>
              </a:rPr>
              <a:t>坚强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1143000" y="34290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176"/>
                </a:solidFill>
                <a:latin typeface="Times New Roman"/>
              </a:rPr>
              <a:t>２、你认为杜小康是一个怎样的孩子？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371600" y="409896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5050"/>
                </a:solidFill>
                <a:latin typeface="Times New Roman"/>
              </a:rPr>
              <a:t>他是一个不怕困难，在困境中成长，越来越坚强的孩子。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5050"/>
                </a:solidFill>
                <a:latin typeface="Times New Roman"/>
              </a:rPr>
              <a:t>他是一个能理解父母苦衷，能为家庭分忧的孩子。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5050"/>
                </a:solidFill>
                <a:latin typeface="Times New Roman"/>
              </a:rPr>
              <a:t>他是一个念念不忘求学上进，热爱生活，热爱大自然的孩子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563040"/>
            <a:ext cx="670572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环境描写探究</a:t>
            </a:r>
            <a:endParaRPr b="0" lang="en-US" sz="48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761760" y="3200040"/>
            <a:ext cx="739116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　　１、以较大的篇幅描写鸭子，以鸭群的变化折射杜小康的成长。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　　２、以芦苇作为人物心理变化的见证。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　　３、暴风雨成了杜小康成长的催生力量。面对芦苇荡中极其可怕的暴风雨，杜小康在暴风雨中搏斗，表现了成人般的勇气与坚强。　 　　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　  这样，文章出色的自然环境描写为人物的成长提供了广阔的背景和舞台。对表现杜小康的成长起到了</a:t>
            </a:r>
            <a:r>
              <a:rPr b="0" lang="zh-CN" sz="2000" spc="-1" strike="noStrike">
                <a:solidFill>
                  <a:srgbClr val="ff5050"/>
                </a:solidFill>
                <a:latin typeface="Arial"/>
              </a:rPr>
              <a:t>烘托、暗示、促进、推动</a:t>
            </a:r>
            <a:r>
              <a:rPr b="0" lang="zh-CN" sz="2000" spc="-1" strike="noStrike">
                <a:solidFill>
                  <a:srgbClr val="4d4d4d"/>
                </a:solidFill>
                <a:latin typeface="Arial"/>
              </a:rPr>
              <a:t>的作用。　　　　　　　　　　　　　　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914400" y="16002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Times New Roman"/>
                <a:ea typeface="宋体"/>
              </a:rPr>
              <a:t>　    跳读课文，找出文中描写自然环境的段落，说说这样的环境描写对表现杜小康的成长起什麽作用？</a:t>
            </a:r>
            <a:r>
              <a:rPr b="0" lang="zh-CN" sz="2000" spc="-1" strike="noStrike">
                <a:solidFill>
                  <a:srgbClr val="4d4d4d"/>
                </a:solidFill>
                <a:latin typeface="Times New Roman"/>
                <a:ea typeface="宋体"/>
              </a:rPr>
              <a:t>　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2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7" descr="BZM_072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2"/>
          <p:cNvSpPr/>
          <p:nvPr/>
        </p:nvSpPr>
        <p:spPr>
          <a:xfrm>
            <a:off x="2209680" y="60948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Times New Roman"/>
                <a:ea typeface="隶书"/>
              </a:rPr>
              <a:t>语言探究及运用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4" name="Text Box 3"/>
          <p:cNvSpPr/>
          <p:nvPr/>
        </p:nvSpPr>
        <p:spPr>
          <a:xfrm>
            <a:off x="1371600" y="2362320"/>
            <a:ext cx="5867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8383ad"/>
                </a:solidFill>
                <a:latin typeface="Times New Roman"/>
              </a:rPr>
              <a:t>找出你最喜欢的段落或语句大声地朗读，体会本文的语言特色，并说说喜欢的理由，并仿写。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83ad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8383ad"/>
                </a:solidFill>
                <a:latin typeface="Times New Roman"/>
              </a:rPr>
              <a:t>语言特色：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平白、朴实</a:t>
            </a:r>
            <a:r>
              <a:rPr b="0" lang="zh-CN" sz="2400" spc="-1" strike="noStrike">
                <a:solidFill>
                  <a:srgbClr val="8383ad"/>
                </a:solidFill>
                <a:latin typeface="Times New Roman"/>
              </a:rPr>
              <a:t>，没有过多的文采修饰，符合少年主人公单纯、简单的生活。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写景状物准确细致；对环境、人物描写生动、形象，且富有深层意义。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609480" y="57150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383ad"/>
                </a:solidFill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8383ad"/>
                </a:solidFill>
                <a:latin typeface="Times New Roman"/>
              </a:rPr>
              <a:t>课后积累到摘抄本上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6" descr="FR_054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2"/>
          <p:cNvSpPr/>
          <p:nvPr/>
        </p:nvSpPr>
        <p:spPr>
          <a:xfrm>
            <a:off x="16002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176"/>
                </a:solidFill>
                <a:latin typeface="Times New Roman"/>
              </a:rPr>
              <a:t>                       </a:t>
            </a:r>
            <a:r>
              <a:rPr b="0" lang="zh-CN" sz="5400" spc="-1" strike="noStrike">
                <a:solidFill>
                  <a:srgbClr val="404176"/>
                </a:solidFill>
                <a:latin typeface="Times New Roman"/>
                <a:ea typeface="隶书"/>
              </a:rPr>
              <a:t>体验反思</a:t>
            </a:r>
            <a:br>
              <a:rPr sz="3200"/>
            </a:br>
            <a:r>
              <a:rPr b="0" lang="zh-CN" sz="3200" spc="-1" strike="noStrike">
                <a:solidFill>
                  <a:srgbClr val="404176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、孟子曰；“天将降大任于是人也，必先苦其心志，劳其筋骨，饿其体肤，空乏其身 ”表明磨难可以使人成熟和奋进。那麽，你是希望在逆境中成长还是在顺  境中成长呢？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5050"/>
                </a:solidFill>
                <a:latin typeface="Times New Roman"/>
              </a:rPr>
              <a:t>、我们经常在报刊上看到一些父母为了孩子读书而历尽艰辛，甚至到了卖血的地步。而本文中杜雍和却让杜小康跟着他去放鸭，让杜小康走过‘孤独之旅’。对这两种父亲的做法你是怎麽认识的？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9f9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1029" descr="FR_032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1026"/>
          <p:cNvSpPr/>
          <p:nvPr/>
        </p:nvSpPr>
        <p:spPr>
          <a:xfrm>
            <a:off x="1981080" y="19810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383ad"/>
                </a:solidFill>
                <a:latin typeface="Times New Roman"/>
                <a:ea typeface="隶书"/>
              </a:rPr>
              <a:t>   </a:t>
            </a:r>
            <a:r>
              <a:rPr b="0" lang="zh-CN" sz="5400" spc="-1" strike="noStrike">
                <a:solidFill>
                  <a:srgbClr val="8383ad"/>
                </a:solidFill>
                <a:latin typeface="Times New Roman"/>
                <a:ea typeface="隶书"/>
              </a:rPr>
              <a:t>小结</a:t>
            </a:r>
            <a:endParaRPr b="0" lang="en-US" sz="54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0" name="Text Box 1027"/>
          <p:cNvSpPr/>
          <p:nvPr/>
        </p:nvSpPr>
        <p:spPr>
          <a:xfrm>
            <a:off x="1828800" y="3352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8383ad"/>
                </a:solidFill>
                <a:latin typeface="Times New Roman"/>
                <a:ea typeface="隶书"/>
              </a:rPr>
              <a:t>通过本节课的学习，你有哪些收获？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21" name="文本框 1"/>
          <p:cNvSpPr/>
          <p:nvPr/>
        </p:nvSpPr>
        <p:spPr>
          <a:xfrm>
            <a:off x="503280" y="578808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383ad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8383ad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8383ad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8383ad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5:39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7:27Z</dcterms:modified>
  <cp:revision>4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