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9DA4-847F-4944-9800-A074FADD3A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68B44-4698-4870-8320-CCE4CBE95A3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1A9E-C734-4376-AC76-B641FFF0E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205-CD2D-443F-950A-D9D76DF9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3EE6-2E88-4DC2-873A-69A979E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CDEE-7F94-4D1F-85CC-75FDCBE4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2F0CC-312F-4B16-A655-1708A8146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C8E39-9FCA-4D26-AC0F-67633A9B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45F3-55FE-4B14-AE3A-D9BCBB90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93851-405F-416F-9618-E72970C6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D2288-2A9C-4AB6-AF4E-DE8ABE5D4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636E-05A8-474B-A165-5956D4F7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4EB8-F8ED-4004-A18C-53AEED624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7B93-347C-4E5F-AB92-6931B09B0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AC34-1D5A-4329-80AB-736AEDEF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55346-E5F6-46DB-8881-327C627D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B92C-8A7C-4E2F-B6D8-723F8CEF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C8B2-1DCF-4851-837B-093EDABD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36F9E-4794-4404-B03C-F3B3CACF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81B7-178B-4A23-8B79-FE75E5EC8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10FE-27C3-47FB-B077-6601FCBF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BBE-0355-4B73-91DB-D71568405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EA1-D677-4B51-B0AE-0BF9DA91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78F6-8BDC-4CDB-AD9B-C574779C3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D191-B15F-426A-8EB5-95525DE85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6C2-A7CF-43ED-BD09-7A7F296A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Rectangle 3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5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6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4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6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57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58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59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0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1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4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5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6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67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68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69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0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1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2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3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74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Rectangle 75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6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77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78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79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0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1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2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3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4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5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86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87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88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9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0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91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92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93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94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95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96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97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98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99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00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01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02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03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04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05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06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07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08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09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Rectangle 110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111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12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13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114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115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116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117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118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119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Freeform 120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Freeform 121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22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23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Freeform 124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125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26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27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8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29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30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131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32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133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34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35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36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37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8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39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40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41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42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43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44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45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46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47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148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Freeform 149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50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51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152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153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154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155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56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57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58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59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0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161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62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Freeform 163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64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65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66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67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68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69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70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1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72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73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74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75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176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Freeform 177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78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79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80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81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82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83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84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5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86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87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88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89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190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Freeform 191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2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93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94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95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96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97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98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99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00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01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02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03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04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Freeform 205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206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207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208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209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210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211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212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213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214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215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216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217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218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Freeform 219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220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221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222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223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224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225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226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227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228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Freeform 229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30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31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232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Freeform 233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Group 234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Freeform 235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Freeform 236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Freeform 237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Freeform 238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Freeform 239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Freeform 240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Freeform 241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Freeform 242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Freeform 243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Freeform 244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Freeform 245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Freeform 246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Freeform 247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129A-C68B-4C9E-981B-338A00339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reeform 2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Freeform 4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5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7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8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9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1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2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4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5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6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Group 17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Rectangle 18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9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20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21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22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23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4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5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26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27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28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29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30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31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32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33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34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35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36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37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38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39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40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Rectangle 41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42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43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44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45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46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47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48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49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50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51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52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53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4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55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56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57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58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59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60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61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62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63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64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5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66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67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68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69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70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1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72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73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74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75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76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77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78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79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80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81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82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83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84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85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6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87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88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89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90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91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92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93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94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95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96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97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8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99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0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101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102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3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4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5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6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07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08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9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10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11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12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113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114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15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16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17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8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9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0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21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22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23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24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125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126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27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28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29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30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31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32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33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34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35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36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37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38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39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40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41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42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43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44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45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46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47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48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149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150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51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52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53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54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55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56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57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58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59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60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161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62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Group 168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49" name="Freeform 169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70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71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72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73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74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75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76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77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78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79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80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81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603-2C39-466D-97DC-09B36E6B1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5" descr="2007122484631253_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1" name="WordArt 38" descr=""/>
          <p:cNvPicPr/>
          <p:nvPr/>
        </p:nvPicPr>
        <p:blipFill>
          <a:blip r:embed="rId2"/>
          <a:stretch/>
        </p:blipFill>
        <p:spPr>
          <a:xfrm>
            <a:off x="736560" y="1311120"/>
            <a:ext cx="7934400" cy="2337120"/>
          </a:xfrm>
          <a:prstGeom prst="rect">
            <a:avLst/>
          </a:prstGeom>
          <a:ln w="0">
            <a:noFill/>
          </a:ln>
        </p:spPr>
      </p:pic>
      <p:pic>
        <p:nvPicPr>
          <p:cNvPr id="512" name="矩形 5" descr=""/>
          <p:cNvPicPr/>
          <p:nvPr/>
        </p:nvPicPr>
        <p:blipFill>
          <a:blip r:embed="rId3"/>
          <a:stretch/>
        </p:blipFill>
        <p:spPr>
          <a:xfrm>
            <a:off x="1930320" y="5867280"/>
            <a:ext cx="56707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AutoShape 7"/>
          <p:cNvSpPr/>
          <p:nvPr/>
        </p:nvSpPr>
        <p:spPr>
          <a:xfrm>
            <a:off x="2700360" y="2470320"/>
            <a:ext cx="4680000" cy="4678200"/>
          </a:xfrm>
          <a:custGeom>
            <a:avLst/>
            <a:gdLst/>
            <a:ahLst/>
            <a:rect l="l" t="t" r="r" b="b"/>
            <a:pathLst>
              <a:path w="21601" h="11069">
                <a:moveTo>
                  <a:pt x="4198" y="10964"/>
                </a:moveTo>
                <a:cubicBezTo>
                  <a:pt x="4196" y="10910"/>
                  <a:pt x="4196" y="10855"/>
                  <a:pt x="4196" y="10800"/>
                </a:cubicBezTo>
                <a:cubicBezTo>
                  <a:pt x="4196" y="7152"/>
                  <a:pt x="7152" y="4196"/>
                  <a:pt x="10800" y="4196"/>
                </a:cubicBezTo>
                <a:cubicBezTo>
                  <a:pt x="14447" y="4196"/>
                  <a:pt x="17404" y="7152"/>
                  <a:pt x="17404" y="10800"/>
                </a:cubicBezTo>
                <a:cubicBezTo>
                  <a:pt x="17404" y="10855"/>
                  <a:pt x="17403" y="10910"/>
                  <a:pt x="17401" y="10964"/>
                </a:cubicBezTo>
                <a:lnTo>
                  <a:pt x="21596" y="11069"/>
                </a:lnTo>
                <a:cubicBezTo>
                  <a:pt x="21598" y="10979"/>
                  <a:pt x="21600" y="1088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89"/>
                  <a:pt x="1" y="10979"/>
                  <a:pt x="3" y="11069"/>
                </a:cubicBezTo>
                <a:lnTo>
                  <a:pt x="4198" y="10964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8"/>
          <p:cNvSpPr/>
          <p:nvPr/>
        </p:nvSpPr>
        <p:spPr>
          <a:xfrm>
            <a:off x="4643280" y="1244520"/>
            <a:ext cx="574920" cy="115272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9"/>
          <p:cNvSpPr/>
          <p:nvPr/>
        </p:nvSpPr>
        <p:spPr>
          <a:xfrm>
            <a:off x="4356000" y="2685960"/>
            <a:ext cx="1224000" cy="432000"/>
          </a:xfrm>
          <a:prstGeom prst="leftRightArrow">
            <a:avLst>
              <a:gd name="adj1" fmla="val 80148"/>
              <a:gd name="adj2" fmla="val 105082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" name="Group 10"/>
          <p:cNvGrpSpPr/>
          <p:nvPr/>
        </p:nvGrpSpPr>
        <p:grpSpPr>
          <a:xfrm>
            <a:off x="3582000" y="2707200"/>
            <a:ext cx="2840760" cy="968040"/>
            <a:chOff x="3582000" y="2707200"/>
            <a:chExt cx="2840760" cy="968040"/>
          </a:xfrm>
        </p:grpSpPr>
        <p:sp>
          <p:nvSpPr>
            <p:cNvPr id="546" name="AutoShape 11"/>
            <p:cNvSpPr/>
            <p:nvPr/>
          </p:nvSpPr>
          <p:spPr>
            <a:xfrm rot="8747400">
              <a:off x="3707640" y="290160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AutoShape 12"/>
            <p:cNvSpPr/>
            <p:nvPr/>
          </p:nvSpPr>
          <p:spPr>
            <a:xfrm rot="1904400">
              <a:off x="5653080" y="282888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Group 13"/>
          <p:cNvGrpSpPr/>
          <p:nvPr/>
        </p:nvGrpSpPr>
        <p:grpSpPr>
          <a:xfrm>
            <a:off x="3010320" y="3272040"/>
            <a:ext cx="4070880" cy="975600"/>
            <a:chOff x="3010320" y="3272040"/>
            <a:chExt cx="4070880" cy="975600"/>
          </a:xfrm>
        </p:grpSpPr>
        <p:sp>
          <p:nvSpPr>
            <p:cNvPr id="549" name="AutoShape 14"/>
            <p:cNvSpPr/>
            <p:nvPr/>
          </p:nvSpPr>
          <p:spPr>
            <a:xfrm rot="7293600">
              <a:off x="3131640" y="347796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AutoShape 15"/>
            <p:cNvSpPr/>
            <p:nvPr/>
          </p:nvSpPr>
          <p:spPr>
            <a:xfrm rot="2930400">
              <a:off x="6300360" y="340488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Group 16"/>
          <p:cNvGrpSpPr/>
          <p:nvPr/>
        </p:nvGrpSpPr>
        <p:grpSpPr>
          <a:xfrm>
            <a:off x="2411280" y="4039920"/>
            <a:ext cx="5267880" cy="804600"/>
            <a:chOff x="2411280" y="4039920"/>
            <a:chExt cx="5267880" cy="804600"/>
          </a:xfrm>
        </p:grpSpPr>
        <p:grpSp>
          <p:nvGrpSpPr>
            <p:cNvPr id="552" name="Group 17"/>
            <p:cNvGrpSpPr/>
            <p:nvPr/>
          </p:nvGrpSpPr>
          <p:grpSpPr>
            <a:xfrm>
              <a:off x="6588000" y="4039920"/>
              <a:ext cx="1091160" cy="804600"/>
              <a:chOff x="6588000" y="4039920"/>
              <a:chExt cx="1091160" cy="804600"/>
            </a:xfrm>
          </p:grpSpPr>
          <p:sp>
            <p:nvSpPr>
              <p:cNvPr id="553" name="AutoShape 18"/>
              <p:cNvSpPr/>
              <p:nvPr/>
            </p:nvSpPr>
            <p:spPr>
              <a:xfrm rot="5400000">
                <a:off x="6588360" y="4196880"/>
                <a:ext cx="647280" cy="6480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AutoShape 19"/>
              <p:cNvSpPr/>
              <p:nvPr/>
            </p:nvSpPr>
            <p:spPr>
              <a:xfrm rot="21473400">
                <a:off x="7019640" y="4051440"/>
                <a:ext cx="647640" cy="64908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5" name="Group 20"/>
            <p:cNvGrpSpPr/>
            <p:nvPr/>
          </p:nvGrpSpPr>
          <p:grpSpPr>
            <a:xfrm>
              <a:off x="2411280" y="4054320"/>
              <a:ext cx="1079280" cy="789840"/>
              <a:chOff x="2411280" y="4054320"/>
              <a:chExt cx="1079280" cy="789840"/>
            </a:xfrm>
          </p:grpSpPr>
          <p:sp>
            <p:nvSpPr>
              <p:cNvPr id="556" name="AutoShape 21"/>
              <p:cNvSpPr/>
              <p:nvPr/>
            </p:nvSpPr>
            <p:spPr>
              <a:xfrm rot="5400000">
                <a:off x="2842920" y="4196520"/>
                <a:ext cx="647280" cy="64764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22"/>
              <p:cNvSpPr/>
              <p:nvPr/>
            </p:nvSpPr>
            <p:spPr>
              <a:xfrm rot="10800000">
                <a:off x="2411280" y="4054320"/>
                <a:ext cx="648000" cy="647280"/>
              </a:xfrm>
              <a:prstGeom prst="rightArrow">
                <a:avLst>
                  <a:gd name="adj1" fmla="val 50000"/>
                  <a:gd name="adj2" fmla="val 25028"/>
                </a:avLst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8" name="WordArt 18"/>
          <p:cNvSpPr txBox="1"/>
          <p:nvPr/>
        </p:nvSpPr>
        <p:spPr>
          <a:xfrm>
            <a:off x="304920" y="380880"/>
            <a:ext cx="5333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你能解释吗？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"/>
                            </p:stCondLst>
                            <p:childTnLst>
                              <p:par>
                                <p:cTn id="81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2"/>
                            </p:stCondLst>
                            <p:childTnLst>
                              <p:par>
                                <p:cTn id="84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03"/>
                            </p:stCondLst>
                            <p:childTnLst>
                              <p:par>
                                <p:cTn id="87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604"/>
                            </p:stCondLst>
                            <p:childTnLst>
                              <p:par>
                                <p:cTn id="90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WordArt 4"/>
          <p:cNvSpPr txBox="1"/>
          <p:nvPr/>
        </p:nvSpPr>
        <p:spPr>
          <a:xfrm>
            <a:off x="762120" y="68580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拱形承重的秘密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228600" y="243828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拱形承载重物时，能把压力</a:t>
            </a:r>
            <a:r>
              <a:rPr b="1" lang="zh-CN" sz="4400" spc="-1" strike="noStrike">
                <a:solidFill>
                  <a:srgbClr val="0066cc"/>
                </a:solidFill>
                <a:latin typeface="Arial"/>
              </a:rPr>
              <a:t>向下向外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传递给相邻的部分，拱形各部分相互挤压，结合得更加紧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WordArt 4"/>
          <p:cNvSpPr txBox="1"/>
          <p:nvPr/>
        </p:nvSpPr>
        <p:spPr>
          <a:xfrm>
            <a:off x="838080" y="838080"/>
            <a:ext cx="24386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思考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259092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怎样才能使纸拱承载更大的重量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WordArt 4"/>
          <p:cNvSpPr txBox="1"/>
          <p:nvPr/>
        </p:nvSpPr>
        <p:spPr>
          <a:xfrm>
            <a:off x="609480" y="838080"/>
            <a:ext cx="30481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做一做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304920" y="289548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不同力抵住拱足的对比试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2895480" y="403848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人一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40000"/>
                </a:solidFill>
                <a:latin typeface="Arial"/>
              </a:rPr>
              <a:t>活动记录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67" name=""/>
          <p:cNvGraphicFramePr/>
          <p:nvPr/>
        </p:nvGraphicFramePr>
        <p:xfrm>
          <a:off x="0" y="1600200"/>
          <a:ext cx="9144000" cy="4589640"/>
        </p:xfrm>
        <a:graphic>
          <a:graphicData uri="http://schemas.openxmlformats.org/drawingml/2006/table">
            <a:tbl>
              <a:tblPr/>
              <a:tblGrid>
                <a:gridCol w="1719360"/>
                <a:gridCol w="1641240"/>
                <a:gridCol w="1657440"/>
                <a:gridCol w="1671840"/>
                <a:gridCol w="2454120"/>
              </a:tblGrid>
              <a:tr h="990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抵住拱足的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承受的铁垫圈的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平均数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2800" spc="-1" strike="noStrike">
                          <a:solidFill>
                            <a:srgbClr val="e40000"/>
                          </a:solidFill>
                          <a:latin typeface="Arial"/>
                        </a:rPr>
                        <a:t>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4"/>
          <p:cNvSpPr/>
          <p:nvPr/>
        </p:nvSpPr>
        <p:spPr>
          <a:xfrm>
            <a:off x="304920" y="5335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Webdings"/>
                <a:ea typeface="Webdings"/>
              </a:rPr>
              <a:t>注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5"/>
          <p:cNvSpPr/>
          <p:nvPr/>
        </p:nvSpPr>
        <p:spPr>
          <a:xfrm>
            <a:off x="1433160" y="1752480"/>
            <a:ext cx="57502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拱足之间的距离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，保持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117360" y="3276720"/>
            <a:ext cx="78487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纸拱不能承受的判断标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放上垫圈使纸贴到水平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7"/>
          <p:cNvSpPr/>
          <p:nvPr/>
        </p:nvSpPr>
        <p:spPr>
          <a:xfrm>
            <a:off x="144360" y="2514600"/>
            <a:ext cx="80773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书抵拱足时两边要相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152280" y="4572000"/>
            <a:ext cx="8991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录抵住拱足的数量和承受铁垫圈的个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"/>
          <p:cNvSpPr/>
          <p:nvPr/>
        </p:nvSpPr>
        <p:spPr>
          <a:xfrm>
            <a:off x="1304640" y="5437080"/>
            <a:ext cx="41994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明显折痕的纸拱不能再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WordArt 5"/>
          <p:cNvSpPr txBox="1"/>
          <p:nvPr/>
        </p:nvSpPr>
        <p:spPr>
          <a:xfrm>
            <a:off x="0" y="17524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的发现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5" name="WordArt 6"/>
          <p:cNvSpPr txBox="1"/>
          <p:nvPr/>
        </p:nvSpPr>
        <p:spPr>
          <a:xfrm>
            <a:off x="152280" y="4400640"/>
            <a:ext cx="28958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的解释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6" name="Text Box 7"/>
          <p:cNvSpPr/>
          <p:nvPr/>
        </p:nvSpPr>
        <p:spPr>
          <a:xfrm>
            <a:off x="2819520" y="1295280"/>
            <a:ext cx="6324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抵住拱足的数量越多，承受的铁垫圈个数越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8"/>
          <p:cNvSpPr/>
          <p:nvPr/>
        </p:nvSpPr>
        <p:spPr>
          <a:xfrm>
            <a:off x="3124080" y="36576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拱形受压会产生一个向外推的力，抵住这个力，拱就能承载很大的重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AutoShape 2"/>
          <p:cNvSpPr/>
          <p:nvPr/>
        </p:nvSpPr>
        <p:spPr>
          <a:xfrm>
            <a:off x="7696080" y="45435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1547640" y="45435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9"/>
          <p:cNvSpPr/>
          <p:nvPr/>
        </p:nvSpPr>
        <p:spPr>
          <a:xfrm>
            <a:off x="2700360" y="2455920"/>
            <a:ext cx="4680000" cy="4678200"/>
          </a:xfrm>
          <a:custGeom>
            <a:avLst/>
            <a:gdLst/>
            <a:ahLst/>
            <a:rect l="l" t="t" r="r" b="b"/>
            <a:pathLst>
              <a:path w="21601" h="11069">
                <a:moveTo>
                  <a:pt x="4198" y="10964"/>
                </a:moveTo>
                <a:cubicBezTo>
                  <a:pt x="4196" y="10910"/>
                  <a:pt x="4196" y="10855"/>
                  <a:pt x="4196" y="10800"/>
                </a:cubicBezTo>
                <a:cubicBezTo>
                  <a:pt x="4196" y="7152"/>
                  <a:pt x="7152" y="4196"/>
                  <a:pt x="10800" y="4196"/>
                </a:cubicBezTo>
                <a:cubicBezTo>
                  <a:pt x="14447" y="4196"/>
                  <a:pt x="17404" y="7152"/>
                  <a:pt x="17404" y="10800"/>
                </a:cubicBezTo>
                <a:cubicBezTo>
                  <a:pt x="17404" y="10855"/>
                  <a:pt x="17403" y="10910"/>
                  <a:pt x="17401" y="10964"/>
                </a:cubicBezTo>
                <a:lnTo>
                  <a:pt x="21596" y="11069"/>
                </a:lnTo>
                <a:cubicBezTo>
                  <a:pt x="21598" y="10979"/>
                  <a:pt x="21600" y="1088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89"/>
                  <a:pt x="1" y="10979"/>
                  <a:pt x="3" y="11069"/>
                </a:cubicBezTo>
                <a:lnTo>
                  <a:pt x="4198" y="10964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0"/>
          <p:cNvSpPr/>
          <p:nvPr/>
        </p:nvSpPr>
        <p:spPr>
          <a:xfrm>
            <a:off x="4643280" y="1230480"/>
            <a:ext cx="574920" cy="115236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11"/>
          <p:cNvSpPr/>
          <p:nvPr/>
        </p:nvSpPr>
        <p:spPr>
          <a:xfrm>
            <a:off x="4356000" y="2671920"/>
            <a:ext cx="1224000" cy="431640"/>
          </a:xfrm>
          <a:prstGeom prst="leftRightArrow">
            <a:avLst>
              <a:gd name="adj1" fmla="val 80148"/>
              <a:gd name="adj2" fmla="val 1051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12"/>
          <p:cNvGrpSpPr/>
          <p:nvPr/>
        </p:nvGrpSpPr>
        <p:grpSpPr>
          <a:xfrm>
            <a:off x="3582000" y="2692800"/>
            <a:ext cx="2840760" cy="968040"/>
            <a:chOff x="3582000" y="2692800"/>
            <a:chExt cx="2840760" cy="968040"/>
          </a:xfrm>
        </p:grpSpPr>
        <p:sp>
          <p:nvSpPr>
            <p:cNvPr id="584" name="AutoShape 13"/>
            <p:cNvSpPr/>
            <p:nvPr/>
          </p:nvSpPr>
          <p:spPr>
            <a:xfrm rot="8747400">
              <a:off x="3707640" y="288720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AutoShape 14"/>
            <p:cNvSpPr/>
            <p:nvPr/>
          </p:nvSpPr>
          <p:spPr>
            <a:xfrm rot="1904400">
              <a:off x="5653080" y="281448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Group 15"/>
          <p:cNvGrpSpPr/>
          <p:nvPr/>
        </p:nvGrpSpPr>
        <p:grpSpPr>
          <a:xfrm>
            <a:off x="3010320" y="3257640"/>
            <a:ext cx="4070880" cy="975600"/>
            <a:chOff x="3010320" y="3257640"/>
            <a:chExt cx="4070880" cy="975600"/>
          </a:xfrm>
        </p:grpSpPr>
        <p:sp>
          <p:nvSpPr>
            <p:cNvPr id="587" name="AutoShape 16"/>
            <p:cNvSpPr/>
            <p:nvPr/>
          </p:nvSpPr>
          <p:spPr>
            <a:xfrm rot="7293600">
              <a:off x="3131640" y="346356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AutoShape 17"/>
            <p:cNvSpPr/>
            <p:nvPr/>
          </p:nvSpPr>
          <p:spPr>
            <a:xfrm rot="2930400">
              <a:off x="6300360" y="339048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AutoShape 18"/>
          <p:cNvSpPr/>
          <p:nvPr/>
        </p:nvSpPr>
        <p:spPr>
          <a:xfrm rot="5400000">
            <a:off x="6588000" y="4182840"/>
            <a:ext cx="64764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19"/>
          <p:cNvSpPr/>
          <p:nvPr/>
        </p:nvSpPr>
        <p:spPr>
          <a:xfrm rot="21473400">
            <a:off x="7019640" y="4041360"/>
            <a:ext cx="36036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AutoShape 20"/>
          <p:cNvSpPr/>
          <p:nvPr/>
        </p:nvSpPr>
        <p:spPr>
          <a:xfrm rot="5400000">
            <a:off x="2842920" y="41832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21"/>
          <p:cNvSpPr/>
          <p:nvPr/>
        </p:nvSpPr>
        <p:spPr>
          <a:xfrm rot="10800000">
            <a:off x="2700000" y="4039920"/>
            <a:ext cx="3589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4"/>
          <p:cNvSpPr/>
          <p:nvPr/>
        </p:nvSpPr>
        <p:spPr>
          <a:xfrm>
            <a:off x="1393920" y="636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22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2.25434E-006 L -0.04115 2.25434E-006 E">
                                      <p:cBhvr>
                                        <p:cTn id="126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4"/>
          <p:cNvSpPr/>
          <p:nvPr/>
        </p:nvSpPr>
        <p:spPr>
          <a:xfrm>
            <a:off x="7308720" y="45291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AutoShape 22"/>
          <p:cNvSpPr/>
          <p:nvPr/>
        </p:nvSpPr>
        <p:spPr>
          <a:xfrm>
            <a:off x="1822320" y="45291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2"/>
          <p:cNvSpPr/>
          <p:nvPr/>
        </p:nvSpPr>
        <p:spPr>
          <a:xfrm>
            <a:off x="7639200" y="43005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/>
          <p:cNvSpPr/>
          <p:nvPr/>
        </p:nvSpPr>
        <p:spPr>
          <a:xfrm>
            <a:off x="1547640" y="43005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9"/>
          <p:cNvSpPr/>
          <p:nvPr/>
        </p:nvSpPr>
        <p:spPr>
          <a:xfrm>
            <a:off x="2700360" y="2441520"/>
            <a:ext cx="4680000" cy="4678560"/>
          </a:xfrm>
          <a:custGeom>
            <a:avLst/>
            <a:gdLst/>
            <a:ahLst/>
            <a:rect l="l" t="t" r="r" b="b"/>
            <a:pathLst>
              <a:path w="21601" h="11069">
                <a:moveTo>
                  <a:pt x="4198" y="10964"/>
                </a:moveTo>
                <a:cubicBezTo>
                  <a:pt x="4196" y="10910"/>
                  <a:pt x="4196" y="10855"/>
                  <a:pt x="4196" y="10800"/>
                </a:cubicBezTo>
                <a:cubicBezTo>
                  <a:pt x="4196" y="7152"/>
                  <a:pt x="7152" y="4196"/>
                  <a:pt x="10800" y="4196"/>
                </a:cubicBezTo>
                <a:cubicBezTo>
                  <a:pt x="14447" y="4196"/>
                  <a:pt x="17404" y="7152"/>
                  <a:pt x="17404" y="10800"/>
                </a:cubicBezTo>
                <a:cubicBezTo>
                  <a:pt x="17404" y="10855"/>
                  <a:pt x="17403" y="10910"/>
                  <a:pt x="17401" y="10964"/>
                </a:cubicBezTo>
                <a:lnTo>
                  <a:pt x="21596" y="11069"/>
                </a:lnTo>
                <a:cubicBezTo>
                  <a:pt x="21598" y="10979"/>
                  <a:pt x="21600" y="1088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89"/>
                  <a:pt x="1" y="10979"/>
                  <a:pt x="3" y="11069"/>
                </a:cubicBezTo>
                <a:lnTo>
                  <a:pt x="4198" y="10964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0"/>
          <p:cNvSpPr/>
          <p:nvPr/>
        </p:nvSpPr>
        <p:spPr>
          <a:xfrm>
            <a:off x="4643280" y="1216080"/>
            <a:ext cx="574920" cy="1152360"/>
          </a:xfrm>
          <a:prstGeom prst="down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11"/>
          <p:cNvSpPr/>
          <p:nvPr/>
        </p:nvSpPr>
        <p:spPr>
          <a:xfrm>
            <a:off x="4356000" y="2657520"/>
            <a:ext cx="1224000" cy="431640"/>
          </a:xfrm>
          <a:prstGeom prst="leftRightArrow">
            <a:avLst>
              <a:gd name="adj1" fmla="val 80148"/>
              <a:gd name="adj2" fmla="val 1051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Group 12"/>
          <p:cNvGrpSpPr/>
          <p:nvPr/>
        </p:nvGrpSpPr>
        <p:grpSpPr>
          <a:xfrm>
            <a:off x="3582000" y="2678760"/>
            <a:ext cx="2840760" cy="968040"/>
            <a:chOff x="3582000" y="2678760"/>
            <a:chExt cx="2840760" cy="968040"/>
          </a:xfrm>
        </p:grpSpPr>
        <p:sp>
          <p:nvSpPr>
            <p:cNvPr id="602" name="AutoShape 13"/>
            <p:cNvSpPr/>
            <p:nvPr/>
          </p:nvSpPr>
          <p:spPr>
            <a:xfrm rot="8747400">
              <a:off x="3707640" y="287316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AutoShape 14"/>
            <p:cNvSpPr/>
            <p:nvPr/>
          </p:nvSpPr>
          <p:spPr>
            <a:xfrm rot="1904400">
              <a:off x="5653080" y="280044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4" name="Group 15"/>
          <p:cNvGrpSpPr/>
          <p:nvPr/>
        </p:nvGrpSpPr>
        <p:grpSpPr>
          <a:xfrm>
            <a:off x="3010320" y="3243240"/>
            <a:ext cx="4070880" cy="975600"/>
            <a:chOff x="3010320" y="3243240"/>
            <a:chExt cx="4070880" cy="975600"/>
          </a:xfrm>
        </p:grpSpPr>
        <p:sp>
          <p:nvSpPr>
            <p:cNvPr id="605" name="AutoShape 16"/>
            <p:cNvSpPr/>
            <p:nvPr/>
          </p:nvSpPr>
          <p:spPr>
            <a:xfrm rot="7293600">
              <a:off x="3131640" y="344916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AutoShape 17"/>
            <p:cNvSpPr/>
            <p:nvPr/>
          </p:nvSpPr>
          <p:spPr>
            <a:xfrm rot="2930400">
              <a:off x="6300360" y="337608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AutoShape 18"/>
          <p:cNvSpPr/>
          <p:nvPr/>
        </p:nvSpPr>
        <p:spPr>
          <a:xfrm rot="5400000">
            <a:off x="6588000" y="4168440"/>
            <a:ext cx="64764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19"/>
          <p:cNvSpPr/>
          <p:nvPr/>
        </p:nvSpPr>
        <p:spPr>
          <a:xfrm rot="21473400">
            <a:off x="7019640" y="4026960"/>
            <a:ext cx="36036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0"/>
          <p:cNvSpPr/>
          <p:nvPr/>
        </p:nvSpPr>
        <p:spPr>
          <a:xfrm rot="5400000">
            <a:off x="2842920" y="416880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1"/>
          <p:cNvSpPr/>
          <p:nvPr/>
        </p:nvSpPr>
        <p:spPr>
          <a:xfrm rot="10800000">
            <a:off x="2700000" y="4025520"/>
            <a:ext cx="3589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26"/>
          <p:cNvSpPr/>
          <p:nvPr/>
        </p:nvSpPr>
        <p:spPr>
          <a:xfrm>
            <a:off x="5522760" y="-85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38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2.25434E-006 L -0.04115 2.25434E-006 E">
                                      <p:cBhvr>
                                        <p:cTn id="142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AutoShape 5"/>
          <p:cNvSpPr/>
          <p:nvPr/>
        </p:nvSpPr>
        <p:spPr>
          <a:xfrm>
            <a:off x="1576440" y="404352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6"/>
          <p:cNvSpPr/>
          <p:nvPr/>
        </p:nvSpPr>
        <p:spPr>
          <a:xfrm>
            <a:off x="1649520" y="382284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28"/>
          <p:cNvSpPr/>
          <p:nvPr/>
        </p:nvSpPr>
        <p:spPr>
          <a:xfrm>
            <a:off x="1720800" y="359100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30"/>
          <p:cNvSpPr/>
          <p:nvPr/>
        </p:nvSpPr>
        <p:spPr>
          <a:xfrm>
            <a:off x="1878120" y="33735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36"/>
          <p:cNvSpPr/>
          <p:nvPr/>
        </p:nvSpPr>
        <p:spPr>
          <a:xfrm>
            <a:off x="2549520" y="26859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8"/>
          <p:cNvSpPr/>
          <p:nvPr/>
        </p:nvSpPr>
        <p:spPr>
          <a:xfrm>
            <a:off x="2987640" y="245592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3419640" y="222408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4500720" y="2252520"/>
            <a:ext cx="934920" cy="28764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"/>
          <p:cNvSpPr/>
          <p:nvPr/>
        </p:nvSpPr>
        <p:spPr>
          <a:xfrm>
            <a:off x="1822320" y="450072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24"/>
          <p:cNvSpPr/>
          <p:nvPr/>
        </p:nvSpPr>
        <p:spPr>
          <a:xfrm>
            <a:off x="1863720" y="427032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2"/>
          <p:cNvSpPr/>
          <p:nvPr/>
        </p:nvSpPr>
        <p:spPr>
          <a:xfrm>
            <a:off x="7308720" y="450072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25"/>
          <p:cNvSpPr/>
          <p:nvPr/>
        </p:nvSpPr>
        <p:spPr>
          <a:xfrm>
            <a:off x="7280280" y="427032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4"/>
          <p:cNvSpPr/>
          <p:nvPr/>
        </p:nvSpPr>
        <p:spPr>
          <a:xfrm>
            <a:off x="7567560" y="404352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27"/>
          <p:cNvSpPr/>
          <p:nvPr/>
        </p:nvSpPr>
        <p:spPr>
          <a:xfrm>
            <a:off x="7512120" y="38163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29"/>
          <p:cNvSpPr/>
          <p:nvPr/>
        </p:nvSpPr>
        <p:spPr>
          <a:xfrm>
            <a:off x="7412040" y="359100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1"/>
          <p:cNvSpPr/>
          <p:nvPr/>
        </p:nvSpPr>
        <p:spPr>
          <a:xfrm>
            <a:off x="7269120" y="33735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AutoShape 32"/>
          <p:cNvSpPr/>
          <p:nvPr/>
        </p:nvSpPr>
        <p:spPr>
          <a:xfrm>
            <a:off x="2049480" y="31449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3"/>
          <p:cNvSpPr/>
          <p:nvPr/>
        </p:nvSpPr>
        <p:spPr>
          <a:xfrm>
            <a:off x="7097760" y="31449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4"/>
          <p:cNvSpPr/>
          <p:nvPr/>
        </p:nvSpPr>
        <p:spPr>
          <a:xfrm>
            <a:off x="2206800" y="291636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AutoShape 35"/>
          <p:cNvSpPr/>
          <p:nvPr/>
        </p:nvSpPr>
        <p:spPr>
          <a:xfrm>
            <a:off x="6897600" y="29163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AutoShape 37"/>
          <p:cNvSpPr/>
          <p:nvPr/>
        </p:nvSpPr>
        <p:spPr>
          <a:xfrm>
            <a:off x="6611760" y="268776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9"/>
          <p:cNvSpPr/>
          <p:nvPr/>
        </p:nvSpPr>
        <p:spPr>
          <a:xfrm>
            <a:off x="6300720" y="2455920"/>
            <a:ext cx="93528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43"/>
          <p:cNvSpPr/>
          <p:nvPr/>
        </p:nvSpPr>
        <p:spPr>
          <a:xfrm>
            <a:off x="5710320" y="2224080"/>
            <a:ext cx="934920" cy="287280"/>
          </a:xfrm>
          <a:prstGeom prst="cube">
            <a:avLst>
              <a:gd name="adj" fmla="val 25000"/>
            </a:avLst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AutoShape 11"/>
          <p:cNvSpPr/>
          <p:nvPr/>
        </p:nvSpPr>
        <p:spPr>
          <a:xfrm>
            <a:off x="2700360" y="2413080"/>
            <a:ext cx="4680000" cy="4678200"/>
          </a:xfrm>
          <a:custGeom>
            <a:avLst/>
            <a:gdLst/>
            <a:ahLst/>
            <a:rect l="l" t="t" r="r" b="b"/>
            <a:pathLst>
              <a:path w="21601" h="11069">
                <a:moveTo>
                  <a:pt x="4198" y="10964"/>
                </a:moveTo>
                <a:cubicBezTo>
                  <a:pt x="4196" y="10910"/>
                  <a:pt x="4196" y="10855"/>
                  <a:pt x="4196" y="10800"/>
                </a:cubicBezTo>
                <a:cubicBezTo>
                  <a:pt x="4196" y="7152"/>
                  <a:pt x="7152" y="4196"/>
                  <a:pt x="10800" y="4196"/>
                </a:cubicBezTo>
                <a:cubicBezTo>
                  <a:pt x="14447" y="4196"/>
                  <a:pt x="17404" y="7152"/>
                  <a:pt x="17404" y="10800"/>
                </a:cubicBezTo>
                <a:cubicBezTo>
                  <a:pt x="17404" y="10855"/>
                  <a:pt x="17403" y="10910"/>
                  <a:pt x="17401" y="10964"/>
                </a:cubicBezTo>
                <a:lnTo>
                  <a:pt x="21596" y="11069"/>
                </a:lnTo>
                <a:cubicBezTo>
                  <a:pt x="21598" y="10979"/>
                  <a:pt x="21600" y="10889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89"/>
                  <a:pt x="1" y="10979"/>
                  <a:pt x="3" y="11069"/>
                </a:cubicBezTo>
                <a:lnTo>
                  <a:pt x="4198" y="10964"/>
                </a:lnTo>
                <a:close/>
              </a:path>
            </a:pathLst>
          </a:cu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4"/>
          <p:cNvGrpSpPr/>
          <p:nvPr/>
        </p:nvGrpSpPr>
        <p:grpSpPr>
          <a:xfrm>
            <a:off x="3582000" y="2649960"/>
            <a:ext cx="2840760" cy="968040"/>
            <a:chOff x="3582000" y="2649960"/>
            <a:chExt cx="2840760" cy="968040"/>
          </a:xfrm>
        </p:grpSpPr>
        <p:sp>
          <p:nvSpPr>
            <p:cNvPr id="637" name="AutoShape 15"/>
            <p:cNvSpPr/>
            <p:nvPr/>
          </p:nvSpPr>
          <p:spPr>
            <a:xfrm rot="8747400">
              <a:off x="3707640" y="284436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AutoShape 16"/>
            <p:cNvSpPr/>
            <p:nvPr/>
          </p:nvSpPr>
          <p:spPr>
            <a:xfrm rot="1904400">
              <a:off x="5653080" y="277164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AutoShape 12"/>
          <p:cNvSpPr/>
          <p:nvPr/>
        </p:nvSpPr>
        <p:spPr>
          <a:xfrm>
            <a:off x="4643280" y="1187280"/>
            <a:ext cx="574920" cy="1152720"/>
          </a:xfrm>
          <a:prstGeom prst="downArrow">
            <a:avLst>
              <a:gd name="adj1" fmla="val 50000"/>
              <a:gd name="adj2" fmla="val 50116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3"/>
          <p:cNvSpPr/>
          <p:nvPr/>
        </p:nvSpPr>
        <p:spPr>
          <a:xfrm>
            <a:off x="4356000" y="2629080"/>
            <a:ext cx="1224000" cy="431640"/>
          </a:xfrm>
          <a:prstGeom prst="leftRightArrow">
            <a:avLst>
              <a:gd name="adj1" fmla="val 80148"/>
              <a:gd name="adj2" fmla="val 10517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22"/>
          <p:cNvSpPr/>
          <p:nvPr/>
        </p:nvSpPr>
        <p:spPr>
          <a:xfrm rot="5400000">
            <a:off x="2842920" y="4140360"/>
            <a:ext cx="64764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17"/>
          <p:cNvGrpSpPr/>
          <p:nvPr/>
        </p:nvGrpSpPr>
        <p:grpSpPr>
          <a:xfrm>
            <a:off x="3010320" y="3214800"/>
            <a:ext cx="4070880" cy="975600"/>
            <a:chOff x="3010320" y="3214800"/>
            <a:chExt cx="4070880" cy="975600"/>
          </a:xfrm>
        </p:grpSpPr>
        <p:sp>
          <p:nvSpPr>
            <p:cNvPr id="643" name="AutoShape 18"/>
            <p:cNvSpPr/>
            <p:nvPr/>
          </p:nvSpPr>
          <p:spPr>
            <a:xfrm rot="7293600">
              <a:off x="3131640" y="3420720"/>
              <a:ext cx="647640" cy="64800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AutoShape 19"/>
            <p:cNvSpPr/>
            <p:nvPr/>
          </p:nvSpPr>
          <p:spPr>
            <a:xfrm rot="2930400">
              <a:off x="6300360" y="3347640"/>
              <a:ext cx="647640" cy="64764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AutoShape 23"/>
          <p:cNvSpPr/>
          <p:nvPr/>
        </p:nvSpPr>
        <p:spPr>
          <a:xfrm rot="10800000">
            <a:off x="2700000" y="3997080"/>
            <a:ext cx="358920" cy="647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20"/>
          <p:cNvSpPr/>
          <p:nvPr/>
        </p:nvSpPr>
        <p:spPr>
          <a:xfrm rot="5400000">
            <a:off x="6588000" y="4140000"/>
            <a:ext cx="647640" cy="648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21"/>
          <p:cNvSpPr/>
          <p:nvPr/>
        </p:nvSpPr>
        <p:spPr>
          <a:xfrm rot="21473400">
            <a:off x="7019640" y="3998520"/>
            <a:ext cx="360360" cy="6494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48"/>
          <p:cNvSpPr/>
          <p:nvPr/>
        </p:nvSpPr>
        <p:spPr>
          <a:xfrm>
            <a:off x="1393920" y="6365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01"/>
                            </p:stCondLst>
                            <p:childTnLst>
                              <p:par>
                                <p:cTn id="152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53" dur="5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901"/>
                            </p:stCondLst>
                            <p:childTnLst>
                              <p:par>
                                <p:cTn id="155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156" dur="5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601"/>
                            </p:stCondLst>
                            <p:childTnLst>
                              <p:par>
                                <p:cTn id="158" dur="indefinite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59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101"/>
                            </p:stCondLst>
                            <p:childTnLst>
                              <p:par>
                                <p:cTn id="1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102"/>
                            </p:stCondLst>
                            <p:childTnLst>
                              <p:par>
                                <p:cTn id="164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303"/>
                            </p:stCondLst>
                            <p:childTnLst>
                              <p:par>
                                <p:cTn id="167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168" dur="5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3003"/>
                            </p:stCondLst>
                            <p:childTnLst>
                              <p:par>
                                <p:cTn id="170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204"/>
                            </p:stCondLst>
                            <p:childTnLst>
                              <p:par>
                                <p:cTn id="175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76" dur="5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904"/>
                            </p:stCondLst>
                            <p:childTnLst>
                              <p:par>
                                <p:cTn id="178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179" dur="5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604"/>
                            </p:stCondLst>
                            <p:childTnLst>
                              <p:par>
                                <p:cTn id="181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805"/>
                            </p:stCondLst>
                            <p:childTnLst>
                              <p:par>
                                <p:cTn id="186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87" dur="5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505"/>
                            </p:stCondLst>
                            <p:childTnLst>
                              <p:par>
                                <p:cTn id="189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190" dur="5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6205"/>
                            </p:stCondLst>
                            <p:childTnLst>
                              <p:par>
                                <p:cTn id="192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6406"/>
                            </p:stCondLst>
                            <p:childTnLst>
                              <p:par>
                                <p:cTn id="197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198" dur="5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7106"/>
                            </p:stCondLst>
                            <p:childTnLst>
                              <p:par>
                                <p:cTn id="200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201" dur="5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7806"/>
                            </p:stCondLst>
                            <p:childTnLst>
                              <p:par>
                                <p:cTn id="203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8007"/>
                            </p:stCondLst>
                            <p:childTnLst>
                              <p:par>
                                <p:cTn id="208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209" dur="5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8707"/>
                            </p:stCondLst>
                            <p:childTnLst>
                              <p:par>
                                <p:cTn id="211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212" dur="5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407"/>
                            </p:stCondLst>
                            <p:childTnLst>
                              <p:par>
                                <p:cTn id="214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9608"/>
                            </p:stCondLst>
                            <p:childTnLst>
                              <p:par>
                                <p:cTn id="219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220" dur="5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308"/>
                            </p:stCondLst>
                            <p:childTnLst>
                              <p:par>
                                <p:cTn id="222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223" dur="500" fill="hold"/>
                                        <p:tgtEl>
                                          <p:spTgt spid="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1008"/>
                            </p:stCondLst>
                            <p:childTnLst>
                              <p:par>
                                <p:cTn id="225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209"/>
                            </p:stCondLst>
                            <p:childTnLst>
                              <p:par>
                                <p:cTn id="230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231" dur="500" fill="hold"/>
                                        <p:tgtEl>
                                          <p:spTgt spid="6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1909"/>
                            </p:stCondLst>
                            <p:childTnLst>
                              <p:par>
                                <p:cTn id="233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234" dur="5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2609"/>
                            </p:stCondLst>
                            <p:childTnLst>
                              <p:par>
                                <p:cTn id="236" dur="indefinite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2810"/>
                            </p:stCondLst>
                            <p:childTnLst>
                              <p:par>
                                <p:cTn id="239" dur="indefinite" nodeType="afterEffect" fill="hold" presetClass="path" presetID="35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-2.94798E-006 L -0.03333 -2.94798E-006 E">
                                      <p:cBhvr>
                                        <p:cTn id="240" dur="5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3510"/>
                            </p:stCondLst>
                            <p:childTnLst>
                              <p:par>
                                <p:cTn id="244" dur="indefinite" nodeType="afterEffect" fill="hold" presetClass="path" presetID="63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4.44444E-006 1.04046E-006 L 0.03559 0.00023 E">
                                      <p:cBhvr>
                                        <p:cTn id="245" dur="500" fill="hold"/>
                                        <p:tgtEl>
                                          <p:spTgt spid="6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5" descr="1223973595"/>
          <p:cNvPicPr/>
          <p:nvPr/>
        </p:nvPicPr>
        <p:blipFill>
          <a:blip r:embed="rId1"/>
          <a:stretch/>
        </p:blipFill>
        <p:spPr>
          <a:xfrm>
            <a:off x="0" y="304920"/>
            <a:ext cx="4762440" cy="35622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xs-207"/>
          <p:cNvPicPr/>
          <p:nvPr/>
        </p:nvPicPr>
        <p:blipFill>
          <a:blip r:embed="rId2"/>
          <a:stretch/>
        </p:blipFill>
        <p:spPr>
          <a:xfrm>
            <a:off x="4419720" y="380880"/>
            <a:ext cx="4495680" cy="35146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P227064_20091120043600650"/>
          <p:cNvPicPr/>
          <p:nvPr/>
        </p:nvPicPr>
        <p:blipFill>
          <a:blip r:embed="rId3"/>
          <a:stretch/>
        </p:blipFill>
        <p:spPr>
          <a:xfrm>
            <a:off x="0" y="3828960"/>
            <a:ext cx="4495680" cy="30290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0" descr="15702383"/>
          <p:cNvPicPr/>
          <p:nvPr/>
        </p:nvPicPr>
        <p:blipFill>
          <a:blip r:embed="rId4"/>
          <a:stretch/>
        </p:blipFill>
        <p:spPr>
          <a:xfrm>
            <a:off x="4495680" y="3886200"/>
            <a:ext cx="46483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5" descr="2008178957628_2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5" descr="2008178747351_2"/>
          <p:cNvPicPr/>
          <p:nvPr/>
        </p:nvPicPr>
        <p:blipFill>
          <a:blip r:embed="rId1"/>
          <a:stretch/>
        </p:blipFill>
        <p:spPr>
          <a:xfrm>
            <a:off x="-304920" y="176040"/>
            <a:ext cx="9753840" cy="6505920"/>
          </a:xfrm>
          <a:prstGeom prst="rect">
            <a:avLst/>
          </a:prstGeom>
          <a:ln w="0">
            <a:noFill/>
          </a:ln>
        </p:spPr>
      </p:pic>
      <p:sp>
        <p:nvSpPr>
          <p:cNvPr id="651" name="文本框 1"/>
          <p:cNvSpPr/>
          <p:nvPr/>
        </p:nvSpPr>
        <p:spPr>
          <a:xfrm>
            <a:off x="2746440" y="5626080"/>
            <a:ext cx="63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图片 3" descr="151249695524.jpg"/>
          <p:cNvPicPr/>
          <p:nvPr/>
        </p:nvPicPr>
        <p:blipFill>
          <a:blip r:embed="rId1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653" name="WordArt 4"/>
          <p:cNvSpPr txBox="1"/>
          <p:nvPr/>
        </p:nvSpPr>
        <p:spPr>
          <a:xfrm>
            <a:off x="380880" y="228600"/>
            <a:ext cx="32004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一试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6"/>
          <p:cNvSpPr/>
          <p:nvPr/>
        </p:nvSpPr>
        <p:spPr>
          <a:xfrm>
            <a:off x="152280" y="2133720"/>
            <a:ext cx="8991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为西瓜皮拱把受到的力</a:t>
            </a:r>
            <a:r>
              <a:rPr b="1" lang="zh-CN" sz="40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向下向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传递给相邻的部分，拱形各部分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挤压，结合得更紧密。所以西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皮拱不会挎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52280" y="762120"/>
            <a:ext cx="76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解释西瓜皮拱为什么不挎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4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66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6194-7586-4A30-BB46-6AB371B7E1A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矩形 8"/>
          <p:cNvSpPr/>
          <p:nvPr/>
        </p:nvSpPr>
        <p:spPr>
          <a:xfrm>
            <a:off x="3151080" y="251460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6" descr="b_20090616041824"/>
          <p:cNvPicPr/>
          <p:nvPr/>
        </p:nvPicPr>
        <p:blipFill>
          <a:blip r:embed="rId1"/>
          <a:stretch/>
        </p:blipFill>
        <p:spPr>
          <a:xfrm>
            <a:off x="0" y="0"/>
            <a:ext cx="3886200" cy="380988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7" descr="5281819_195638444134_2"/>
          <p:cNvPicPr/>
          <p:nvPr/>
        </p:nvPicPr>
        <p:blipFill>
          <a:blip r:embed="rId2"/>
          <a:stretch/>
        </p:blipFill>
        <p:spPr>
          <a:xfrm>
            <a:off x="0" y="3505320"/>
            <a:ext cx="4343400" cy="33526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9" descr="710996_164330487000_2"/>
          <p:cNvPicPr/>
          <p:nvPr/>
        </p:nvPicPr>
        <p:blipFill>
          <a:blip r:embed="rId3"/>
          <a:stretch/>
        </p:blipFill>
        <p:spPr>
          <a:xfrm>
            <a:off x="4114800" y="2470320"/>
            <a:ext cx="5029200" cy="438768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1" descr="20081128282733_2"/>
          <p:cNvPicPr/>
          <p:nvPr/>
        </p:nvPicPr>
        <p:blipFill>
          <a:blip r:embed="rId4"/>
          <a:stretch/>
        </p:blipFill>
        <p:spPr>
          <a:xfrm>
            <a:off x="3886200" y="0"/>
            <a:ext cx="5257800" cy="34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 Box 4"/>
          <p:cNvSpPr/>
          <p:nvPr/>
        </p:nvSpPr>
        <p:spPr>
          <a:xfrm>
            <a:off x="380880" y="1219320"/>
            <a:ext cx="815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做一个纸拱，试试它能承受多大的重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304920" y="3505320"/>
            <a:ext cx="853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平纸和纸拱承重能力的比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2"/>
          <p:cNvSpPr/>
          <p:nvPr/>
        </p:nvSpPr>
        <p:spPr>
          <a:xfrm>
            <a:off x="228600" y="3200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拱形和横梁承受压力的对比试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WordArt 16"/>
          <p:cNvSpPr txBox="1"/>
          <p:nvPr/>
        </p:nvSpPr>
        <p:spPr>
          <a:xfrm>
            <a:off x="380880" y="99072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做一做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540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活动记录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27" name=""/>
          <p:cNvGraphicFramePr/>
          <p:nvPr/>
        </p:nvGraphicFramePr>
        <p:xfrm>
          <a:off x="0" y="1828800"/>
          <a:ext cx="8991720" cy="449424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248200"/>
                <a:gridCol w="2247840"/>
              </a:tblGrid>
              <a:tr h="10339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实验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承受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铁垫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的个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67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4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平纸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8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纸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4"/>
          <p:cNvSpPr/>
          <p:nvPr/>
        </p:nvSpPr>
        <p:spPr>
          <a:xfrm>
            <a:off x="228600" y="304920"/>
            <a:ext cx="2895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e40000"/>
                </a:solidFill>
                <a:latin typeface="Webdings"/>
                <a:ea typeface="Webdings"/>
              </a:rPr>
              <a:t>注意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5"/>
          <p:cNvSpPr/>
          <p:nvPr/>
        </p:nvSpPr>
        <p:spPr>
          <a:xfrm>
            <a:off x="380880" y="1371600"/>
            <a:ext cx="83059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`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抵住拱足的书本厚度相同，两拱足之间的距离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厘米，保持不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6"/>
          <p:cNvSpPr/>
          <p:nvPr/>
        </p:nvSpPr>
        <p:spPr>
          <a:xfrm>
            <a:off x="380880" y="3200400"/>
            <a:ext cx="89917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平纸和纸拱不能承受的判断标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e40000"/>
                </a:solidFill>
                <a:latin typeface="Arial"/>
              </a:rPr>
              <a:t>放上垫圈使纸贴到水平桌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8"/>
          <p:cNvSpPr/>
          <p:nvPr/>
        </p:nvSpPr>
        <p:spPr>
          <a:xfrm>
            <a:off x="457200" y="4724280"/>
            <a:ext cx="640080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记录垫圈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9"/>
          <p:cNvSpPr/>
          <p:nvPr/>
        </p:nvSpPr>
        <p:spPr>
          <a:xfrm>
            <a:off x="2819520" y="6858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人一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10"/>
          <p:cNvSpPr/>
          <p:nvPr/>
        </p:nvSpPr>
        <p:spPr>
          <a:xfrm>
            <a:off x="380880" y="2514600"/>
            <a:ext cx="8534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宋体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垫片须轻放，可以用手适当的调节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12"/>
          <p:cNvSpPr/>
          <p:nvPr/>
        </p:nvSpPr>
        <p:spPr>
          <a:xfrm>
            <a:off x="457200" y="5638680"/>
            <a:ext cx="69343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600" spc="-1" strike="noStrike" baseline="-25000">
                <a:solidFill>
                  <a:srgbClr val="000000"/>
                </a:solidFill>
                <a:latin typeface="Arial"/>
              </a:rPr>
              <a:t>`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明显折痕的纸拱不能再使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WordArt 6"/>
          <p:cNvSpPr txBox="1"/>
          <p:nvPr/>
        </p:nvSpPr>
        <p:spPr>
          <a:xfrm>
            <a:off x="228600" y="15238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我们的发现：</a:t>
            </a:r>
            <a:endParaRPr b="0" lang="en-US" sz="18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6" name="WordArt 7"/>
          <p:cNvSpPr txBox="1"/>
          <p:nvPr/>
        </p:nvSpPr>
        <p:spPr>
          <a:xfrm>
            <a:off x="228600" y="4038480"/>
            <a:ext cx="2895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我们的解释：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Text Box 8"/>
          <p:cNvSpPr/>
          <p:nvPr/>
        </p:nvSpPr>
        <p:spPr>
          <a:xfrm>
            <a:off x="3352680" y="121932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拱形承受的铁垫圈个数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9"/>
          <p:cNvSpPr/>
          <p:nvPr/>
        </p:nvSpPr>
        <p:spPr>
          <a:xfrm>
            <a:off x="3429000" y="3809880"/>
            <a:ext cx="518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拱形能承受更大的压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7"/>
          <p:cNvSpPr/>
          <p:nvPr/>
        </p:nvSpPr>
        <p:spPr>
          <a:xfrm>
            <a:off x="0" y="2133720"/>
            <a:ext cx="8763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拿掉纸拱旁的物品，再往上放垫片后，纸拱形状有什么变化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WordArt 8"/>
          <p:cNvSpPr txBox="1"/>
          <p:nvPr/>
        </p:nvSpPr>
        <p:spPr>
          <a:xfrm>
            <a:off x="457200" y="457200"/>
            <a:ext cx="3276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仔细观察：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41" name="Text Box 10"/>
          <p:cNvSpPr/>
          <p:nvPr/>
        </p:nvSpPr>
        <p:spPr>
          <a:xfrm>
            <a:off x="609480" y="434340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40000"/>
                </a:solidFill>
                <a:latin typeface="Arial"/>
              </a:rPr>
              <a:t>纸拱的拱足向两边推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13:25:31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3:14Z</dcterms:modified>
  <cp:revision>6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