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E52-7F6A-45E4-9F46-962CF6DD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129-FDBA-4FDA-B6D0-D7AEB98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A77-A668-4D3E-8632-7EA1DD9B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620-9630-468E-A379-B22ACA54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590-82F0-46AC-82AC-1479188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7DB-FC15-4645-92A5-1A3E5631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AE0-986E-4052-A7F3-B7CA6F01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C63-3414-40E5-9C53-BFBBA87D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04C-AFB2-4CF5-8BB8-322F24E6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C56-8ADE-44CB-8BFD-161D3E25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581-E141-4DC8-AC12-449BCE82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EE4-F430-479B-950A-0BAF2A8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3D6-450A-43D6-BB1F-82CF9F36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050920" y="1341360"/>
            <a:ext cx="50421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什么是化石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10429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11032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xinsrc_7219bda75ec711d6913300105cadbb8d"/>
          <p:cNvPicPr/>
          <p:nvPr/>
        </p:nvPicPr>
        <p:blipFill>
          <a:blip r:embed="rId1"/>
          <a:stretch/>
        </p:blipFill>
        <p:spPr>
          <a:xfrm>
            <a:off x="900000" y="620640"/>
            <a:ext cx="7129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003"/>
          <p:cNvPicPr/>
          <p:nvPr/>
        </p:nvPicPr>
        <p:blipFill>
          <a:blip r:embed="rId1"/>
          <a:stretch/>
        </p:blipFill>
        <p:spPr>
          <a:xfrm>
            <a:off x="468360" y="576360"/>
            <a:ext cx="7920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755640" y="1484280"/>
            <a:ext cx="7201080" cy="2621160"/>
          </a:xfrm>
          <a:prstGeom prst="rect">
            <a:avLst/>
          </a:prstGeom>
        </p:spPr>
        <p:txBody>
          <a:bodyPr wrap="none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e6f10f"/>
                    </a:gs>
                  </a:gsLst>
                  <a:lin ang="5400000"/>
                </a:gradFill>
                <a:latin typeface="宋体"/>
              </a:rPr>
              <a:t>什么是活化石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e6f10f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e6f10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76464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化石”是在种系发生中的某一线系长期未发生前进进化，也未发生分支进化。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未发生线系中断（绝灭），而是处于停滞进化状态的结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仍是现生的种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24000" y="421452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在生境不变，成种率极低的情况下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这些生物在几百万年时间内没有发生什么变化。于是相应的就形成了一些延续了上千万年的古老的生物，同时代的其他生物早已绝灭，只有它们独自保留下来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生活在一个极狭小的区域，被称为“活化石”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水杉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杉为落叶、针叶大乔木。它以树姿优美，枝叶繁茂，叶色多变而独具一格，被列为古稀名贵植物之一，为我国一级保护植物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植物“活化石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银杏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银杏树又名白果树，古又称鸭脚树或公孙树。远在二亿七千多万年前，银杏的祖先就开始出现了，和当时遍布世界的蕨类植物相比，它还是高等植物。到了一亿七千多万年前，银杏已和当时称霸世界的恐龙一样遍布世界各地，后来，绝大部分银杏像恐龙一样灭绝了，只在我国部分地区保存下来一点点，流传到现在，成为稀世之宝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动物“活化石”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中国被誉为“活化石”的动物有：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大熊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水中“活化石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中华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225963404"/>
          <p:cNvPicPr/>
          <p:nvPr/>
        </p:nvPicPr>
        <p:blipFill>
          <a:blip r:embed="rId1"/>
          <a:stretch/>
        </p:blipFill>
        <p:spPr>
          <a:xfrm>
            <a:off x="4716360" y="549360"/>
            <a:ext cx="3799080" cy="313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H4044T1"/>
          <p:cNvPicPr/>
          <p:nvPr/>
        </p:nvPicPr>
        <p:blipFill>
          <a:blip r:embed="rId2"/>
          <a:stretch/>
        </p:blipFill>
        <p:spPr>
          <a:xfrm>
            <a:off x="3132000" y="4403880"/>
            <a:ext cx="48974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杏树又名白果树，它是几亿年前的树种，十分珍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005050709210733667"/>
          <p:cNvPicPr/>
          <p:nvPr/>
        </p:nvPicPr>
        <p:blipFill>
          <a:blip r:embed="rId1"/>
          <a:stretch/>
        </p:blipFill>
        <p:spPr>
          <a:xfrm>
            <a:off x="5651640" y="765000"/>
            <a:ext cx="3240000" cy="3024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952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银杏的样子很容易辨认，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一片片叶子像一把把小扇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84360" y="350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杏树长得慢极了，如果你小时侯种下一棵银杏树，一直要你当上爷爷，才能吃上他的果子。所以银杏树又叫公孙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126913"/>
          <p:cNvPicPr/>
          <p:nvPr/>
        </p:nvPicPr>
        <p:blipFill>
          <a:blip r:embed="rId1"/>
          <a:stretch/>
        </p:blipFill>
        <p:spPr>
          <a:xfrm>
            <a:off x="4211640" y="476280"/>
            <a:ext cx="4722840" cy="597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005050709210733667"/>
          <p:cNvPicPr/>
          <p:nvPr/>
        </p:nvPicPr>
        <p:blipFill>
          <a:blip r:embed="rId2"/>
          <a:stretch/>
        </p:blipFill>
        <p:spPr>
          <a:xfrm>
            <a:off x="468360" y="476280"/>
            <a:ext cx="3240000" cy="194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005101820195855267"/>
          <p:cNvPicPr/>
          <p:nvPr/>
        </p:nvPicPr>
        <p:blipFill>
          <a:blip r:embed="rId3"/>
          <a:stretch/>
        </p:blipFill>
        <p:spPr>
          <a:xfrm>
            <a:off x="395280" y="2852640"/>
            <a:ext cx="3600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Img225963404"/>
          <p:cNvPicPr/>
          <p:nvPr/>
        </p:nvPicPr>
        <p:blipFill>
          <a:blip r:embed="rId1"/>
          <a:stretch/>
        </p:blipFill>
        <p:spPr>
          <a:xfrm>
            <a:off x="250920" y="765000"/>
            <a:ext cx="4260600" cy="540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xinsrc_572120203082904605668"/>
          <p:cNvPicPr/>
          <p:nvPr/>
        </p:nvPicPr>
        <p:blipFill>
          <a:blip r:embed="rId2"/>
          <a:stretch/>
        </p:blipFill>
        <p:spPr>
          <a:xfrm>
            <a:off x="4932360" y="692280"/>
            <a:ext cx="3959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熊猫是我们熟悉的动物，非常可爱。和它在同一时期过生活的动物，许多早就灭绝了，大熊猫却一代一代地活到了今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xinsrc_57212020308290460566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84720" y="2060640"/>
            <a:ext cx="2775240" cy="448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611280" y="371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都知道大熊猫爱吃竹子，你能想到吗，它的祖先却食肉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79280" y="25966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化石就是生活在遥远的过去的生物的遗体或遗迹变成的石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在漫长的地质年代里，地球上曾经生活过无数的生物，这些生物死亡后的遗体或是生活遗留下来的痕迹，许多都被当时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泥沙掩埋起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在随后的岁月中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这些生物遗体中的有机质分解殆尽，坚硬的部分如外壳、骨骼、枝叶等与包围在周围的沉积物一起经过石化变成了石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但是它们原来的形态、结构（甚至一些细微的内部构造）依然保留着；同样，那些生物生活时留下的痕迹也可以这样保留下来。我们把这些石化了的生物遗体、遗迹就称为化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51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它身披着大片的硬鳞，核桃的大眼睛亮晶晶的，一张大嘴又尖又长，样子怪怪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H4044T1"/>
          <p:cNvPicPr/>
          <p:nvPr/>
        </p:nvPicPr>
        <p:blipFill>
          <a:blip r:embed="rId1"/>
          <a:stretch/>
        </p:blipFill>
        <p:spPr>
          <a:xfrm>
            <a:off x="3203640" y="1844640"/>
            <a:ext cx="56833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0054521552"/>
          <p:cNvPicPr/>
          <p:nvPr/>
        </p:nvPicPr>
        <p:blipFill>
          <a:blip r:embed="rId1"/>
          <a:stretch/>
        </p:blipFill>
        <p:spPr>
          <a:xfrm>
            <a:off x="0" y="0"/>
            <a:ext cx="507996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110246576_skaOna"/>
          <p:cNvPicPr/>
          <p:nvPr/>
        </p:nvPicPr>
        <p:blipFill>
          <a:blip r:embed="rId2"/>
          <a:stretch/>
        </p:blipFill>
        <p:spPr>
          <a:xfrm>
            <a:off x="4427640" y="3860640"/>
            <a:ext cx="446544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zhx"/>
          <p:cNvPicPr/>
          <p:nvPr/>
        </p:nvPicPr>
        <p:blipFill>
          <a:blip r:embed="rId3"/>
          <a:stretch/>
        </p:blipFill>
        <p:spPr>
          <a:xfrm>
            <a:off x="0" y="371628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无标题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6_1"/>
          <p:cNvPicPr/>
          <p:nvPr/>
        </p:nvPicPr>
        <p:blipFill>
          <a:blip r:embed="rId1"/>
          <a:stretch/>
        </p:blipFill>
        <p:spPr>
          <a:xfrm>
            <a:off x="5076720" y="260280"/>
            <a:ext cx="367200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112408319_KEayFI"/>
          <p:cNvPicPr/>
          <p:nvPr/>
        </p:nvPicPr>
        <p:blipFill>
          <a:blip r:embed="rId2"/>
          <a:stretch/>
        </p:blipFill>
        <p:spPr>
          <a:xfrm>
            <a:off x="468360" y="3213000"/>
            <a:ext cx="3598920" cy="29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F2003101715500200000"/>
          <p:cNvPicPr/>
          <p:nvPr/>
        </p:nvPicPr>
        <p:blipFill>
          <a:blip r:embed="rId3"/>
          <a:stretch/>
        </p:blipFill>
        <p:spPr>
          <a:xfrm>
            <a:off x="5076720" y="3141720"/>
            <a:ext cx="3598920" cy="295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H4044T1"/>
          <p:cNvPicPr/>
          <p:nvPr/>
        </p:nvPicPr>
        <p:blipFill>
          <a:blip r:embed="rId4"/>
          <a:stretch/>
        </p:blipFill>
        <p:spPr>
          <a:xfrm>
            <a:off x="179280" y="404640"/>
            <a:ext cx="468000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468360" y="620640"/>
            <a:ext cx="2438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读读写写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7520" y="1768320"/>
            <a:ext cx="62121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创艺简隶书"/>
              </a:rPr>
              <a:t>一片片叶子　一把把扇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创艺简隶书"/>
              </a:rPr>
              <a:t>一块块　        一条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创艺简隶书"/>
              </a:rPr>
              <a:t>一棵棵　        一只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3059280" y="371628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084720" y="371628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132000" y="4653000"/>
            <a:ext cx="93528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6156360" y="458136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121200" y="299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蛋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216840" y="299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192480" y="39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果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216840" y="39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B76-394D-48B2-839E-5BFEC66E2F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030331-0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96840" y="6492960"/>
            <a:ext cx="70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inosaur19050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n3rkj801ucz"/>
          <p:cNvPicPr/>
          <p:nvPr/>
        </p:nvPicPr>
        <p:blipFill>
          <a:blip r:embed="rId1"/>
          <a:stretch/>
        </p:blipFill>
        <p:spPr>
          <a:xfrm>
            <a:off x="0" y="3860640"/>
            <a:ext cx="3635280" cy="299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1667655_973643"/>
          <p:cNvPicPr/>
          <p:nvPr/>
        </p:nvPicPr>
        <p:blipFill>
          <a:blip r:embed="rId2"/>
          <a:stretch/>
        </p:blipFill>
        <p:spPr>
          <a:xfrm>
            <a:off x="3419640" y="0"/>
            <a:ext cx="2881080" cy="263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036057902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0051015142222719"/>
          <p:cNvPicPr/>
          <p:nvPr/>
        </p:nvPicPr>
        <p:blipFill>
          <a:blip r:embed="rId4"/>
          <a:stretch/>
        </p:blipFill>
        <p:spPr>
          <a:xfrm>
            <a:off x="0" y="0"/>
            <a:ext cx="3132000" cy="26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p003"/>
          <p:cNvPicPr/>
          <p:nvPr/>
        </p:nvPicPr>
        <p:blipFill>
          <a:blip r:embed="rId5"/>
          <a:stretch/>
        </p:blipFill>
        <p:spPr>
          <a:xfrm>
            <a:off x="6588000" y="3860640"/>
            <a:ext cx="2556000" cy="299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xinsrc_7219bda75ec711d6913300105cadbb8d"/>
          <p:cNvPicPr/>
          <p:nvPr/>
        </p:nvPicPr>
        <p:blipFill>
          <a:blip r:embed="rId6"/>
          <a:stretch/>
        </p:blipFill>
        <p:spPr>
          <a:xfrm>
            <a:off x="3708360" y="3860640"/>
            <a:ext cx="2857680" cy="299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4108320" y="28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化  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51015142222719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667655_97364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3605790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1:27:4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1:44Z</dcterms:modified>
  <cp:revision>2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