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8.jpeg" ContentType="image/jpeg"/>
  <Override PartName="/ppt/media/image4.jpeg" ContentType="image/jpeg"/>
  <Override PartName="/ppt/media/image2.png" ContentType="image/png"/>
  <Override PartName="/ppt/media/suction.wav" ContentType="audio/x-wav"/>
  <Override PartName="/ppt/media/laser.wav" ContentType="audio/x-wav"/>
  <Override PartName="/ppt/media/image16.jpeg" ContentType="image/jpeg"/>
  <Override PartName="/ppt/media/chimes.wav" ContentType="audio/x-wav"/>
  <Override PartName="/ppt/media/wind.wav" ContentType="audio/x-wav"/>
  <Override PartName="/ppt/media/image7.jpeg" ContentType="image/jpeg"/>
  <Override PartName="/ppt/media/voltage.wav" ContentType="audio/x-wav"/>
  <Override PartName="/ppt/media/image15.gif" ContentType="image/gif"/>
  <Override PartName="/ppt/media/image5.jpeg" ContentType="image/jpeg"/>
  <Override PartName="/ppt/media/image10.jpeg" ContentType="image/jpeg"/>
  <Override PartName="/ppt/media/whoosh.wav" ContentType="audio/x-wav"/>
  <Override PartName="/ppt/media/image8.jpeg" ContentType="image/jpeg"/>
  <Override PartName="/ppt/media/image3.png" ContentType="image/png"/>
  <Override PartName="/ppt/media/image1.jpeg" ContentType="image/jpeg"/>
  <Override PartName="/ppt/media/image11.jpeg" ContentType="image/jpeg"/>
  <Override PartName="/ppt/media/image17.jpeg" ContentType="image/jpeg"/>
  <Override PartName="/ppt/media/image12.gif" ContentType="image/gif"/>
  <Override PartName="/ppt/media/push.wav" ContentType="audio/x-wav"/>
  <Override PartName="/ppt/media/image6.jpeg" ContentType="image/jpeg"/>
  <Override PartName="/ppt/media/type.wav" ContentType="audio/x-wav"/>
  <Override PartName="/ppt/media/image13.jpeg" ContentType="image/jpeg"/>
  <Override PartName="/ppt/media/image9.jpeg" ContentType="image/jpeg"/>
  <Override PartName="/ppt/media/coin.wav" ContentType="audio/x-wav"/>
  <Override PartName="/ppt/media/image19.gif" ContentType="image/gif"/>
  <Override PartName="/ppt/media/image14.jpeg" ContentType="image/jpeg"/>
  <Override PartName="/ppt/media/breeze.wav" ContentType="audio/x-wav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1421-91DE-4333-8DC2-90E4A56F34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10.xml"/><Relationship Id="rId24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F453-851E-4530-BAFA-F74E62935B6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D2E5-5EB4-4F09-9658-900AE156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8BDB-B7C3-48D6-8356-2049529E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9CC4-DC64-465B-9786-48BA1047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17E1-86A9-491F-B00F-8AB529C1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A130-8A74-4F72-BAA6-F20ABCAA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7298-AC08-41E7-835B-421F2F31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7DC6-2086-48D8-9D4B-66E03140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BAFE-F7E6-484E-A1C3-35FD31B5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707C-987A-4463-BC3C-E95B77A5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9556-155C-4517-8979-930C664A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3C45-29CD-41BB-BA33-9E1E45F4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D63-3AB6-42F0-9D59-394D02D6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AA4D-92F5-4EB6-AA28-81015E267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push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laser.wav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audio" Target="../media/pu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voltage.wav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laser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breeze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87057b017cd996cf277fb5e2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9" name="矩形 2" descr=""/>
          <p:cNvPicPr/>
          <p:nvPr/>
        </p:nvPicPr>
        <p:blipFill>
          <a:blip r:embed="rId2"/>
          <a:stretch/>
        </p:blipFill>
        <p:spPr>
          <a:xfrm>
            <a:off x="4211640" y="404640"/>
            <a:ext cx="4572000" cy="2892600"/>
          </a:xfrm>
          <a:prstGeom prst="rect">
            <a:avLst/>
          </a:prstGeom>
          <a:ln w="0">
            <a:noFill/>
          </a:ln>
        </p:spPr>
      </p:pic>
      <p:pic>
        <p:nvPicPr>
          <p:cNvPr id="50" name="矩形 4" descr=""/>
          <p:cNvPicPr/>
          <p:nvPr/>
        </p:nvPicPr>
        <p:blipFill>
          <a:blip r:embed="rId3"/>
          <a:stretch/>
        </p:blipFill>
        <p:spPr>
          <a:xfrm>
            <a:off x="2214720" y="6093000"/>
            <a:ext cx="47703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2997360"/>
            <a:ext cx="763272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思考：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金鱼的身体是怎样的？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身上长有什么？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它用什么进行运动的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0060816084634321"/>
          <p:cNvPicPr/>
          <p:nvPr/>
        </p:nvPicPr>
        <p:blipFill>
          <a:blip r:embed="rId1"/>
          <a:stretch/>
        </p:blipFill>
        <p:spPr>
          <a:xfrm>
            <a:off x="2916360" y="333360"/>
            <a:ext cx="28796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我画的金鱼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金鱼 拷贝"/>
          <p:cNvPicPr/>
          <p:nvPr/>
        </p:nvPicPr>
        <p:blipFill>
          <a:blip r:embed="rId1"/>
          <a:stretch/>
        </p:blipFill>
        <p:spPr>
          <a:xfrm>
            <a:off x="250920" y="1600200"/>
            <a:ext cx="864216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金鱼    养"/>
          <p:cNvPicPr/>
          <p:nvPr/>
        </p:nvPicPr>
        <p:blipFill>
          <a:blip r:embed="rId1"/>
          <a:stretch/>
        </p:blipFill>
        <p:spPr>
          <a:xfrm>
            <a:off x="179280" y="189000"/>
            <a:ext cx="8642520" cy="6480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324000" y="3141360"/>
            <a:ext cx="8820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、金鱼吃食吗？它喜欢吃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、金鱼是怎样把食物吃下去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、金鱼缸里有粪便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、粪便是从金鱼哪里排出来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、饲养金鱼应注意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96B1E5CA9FADCD274BE88D35CD72F665"/>
          <p:cNvPicPr/>
          <p:nvPr/>
        </p:nvPicPr>
        <p:blipFill>
          <a:blip r:embed="rId2"/>
          <a:stretch/>
        </p:blipFill>
        <p:spPr>
          <a:xfrm>
            <a:off x="250920" y="260280"/>
            <a:ext cx="2736720" cy="2232000"/>
          </a:xfrm>
          <a:prstGeom prst="rect">
            <a:avLst/>
          </a:prstGeom>
          <a:ln w="0">
            <a:noFill/>
          </a:ln>
        </p:spPr>
      </p:pic>
      <p:sp>
        <p:nvSpPr>
          <p:cNvPr id="70" name="WordArt 7"/>
          <p:cNvSpPr txBox="1"/>
          <p:nvPr/>
        </p:nvSpPr>
        <p:spPr>
          <a:xfrm>
            <a:off x="3348000" y="692280"/>
            <a:ext cx="4032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探究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9966"/>
                </a:solidFill>
                <a:latin typeface="Arial"/>
              </a:rPr>
              <a:t>这是金鱼的什么器官？它起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鱼腮"/>
          <p:cNvPicPr/>
          <p:nvPr/>
        </p:nvPicPr>
        <p:blipFill>
          <a:blip r:embed="rId1"/>
          <a:stretch/>
        </p:blipFill>
        <p:spPr>
          <a:xfrm>
            <a:off x="179280" y="1413000"/>
            <a:ext cx="8713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金鱼在不停地喝水，会胀破肚子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155736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实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吸管吸一些红色食用色素，在金鱼的嘴前挤出红水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你看到了什么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这个现象说明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答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我看到了金鱼从嘴里进水，从腮出水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这个现象说明了金鱼不是真正的喝水，而是在不停地呼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 拷贝"/>
          <p:cNvPicPr/>
          <p:nvPr/>
        </p:nvPicPr>
        <p:blipFill>
          <a:blip r:embed="rId1"/>
          <a:stretch/>
        </p:blipFill>
        <p:spPr>
          <a:xfrm>
            <a:off x="0" y="1268280"/>
            <a:ext cx="9137520" cy="54453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比较蚂蚁和金鱼的相同和不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"/>
          <p:cNvSpPr/>
          <p:nvPr/>
        </p:nvSpPr>
        <p:spPr>
          <a:xfrm>
            <a:off x="1298520" y="5961240"/>
            <a:ext cx="53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金鱼    养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80" name="WordArt 5"/>
          <p:cNvSpPr txBox="1"/>
          <p:nvPr/>
        </p:nvSpPr>
        <p:spPr>
          <a:xfrm rot="16200000">
            <a:off x="807840" y="926640"/>
            <a:ext cx="255744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irclePour">
              <a:avLst>
                <a:gd name="adj1" fmla="val 11699915"/>
                <a:gd name="adj2" fmla="val 611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你有什么收获呀！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3640" y="1700280"/>
            <a:ext cx="8435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一、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金鱼生活在（　　），身体表面有（　），用（　）游泳，用（　）呼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金鱼在呼吸时，水流过金鱼的（　），（　）就能利用水中的氧气进行（　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二、判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金鱼是用肺呼吸。（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金鱼离开了水照样生存。（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金鱼的鳃不停地开合是它在喝水。（　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ook045"/>
          <p:cNvPicPr/>
          <p:nvPr/>
        </p:nvPicPr>
        <p:blipFill>
          <a:blip r:embed="rId1"/>
          <a:stretch/>
        </p:blipFill>
        <p:spPr>
          <a:xfrm>
            <a:off x="1162080" y="260280"/>
            <a:ext cx="244008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7863-61DE-41C1-9EC7-E58DE4DA426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小河中生活许多小动物，数量最多的是什么动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userid131124time20061224133045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6912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今天我们学习的是特殊鱼：金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3e62fe0897a61bc862d986e2"/>
          <p:cNvPicPr/>
          <p:nvPr/>
        </p:nvPicPr>
        <p:blipFill>
          <a:blip r:embed="rId1"/>
          <a:stretch/>
        </p:blipFill>
        <p:spPr>
          <a:xfrm>
            <a:off x="179280" y="1197000"/>
            <a:ext cx="8785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金鱼是人工培育的，品种很多，是常见的家养动物，我们来欣赏金鱼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236_21256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金鱼2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2226698677852kmwf0yvn8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金鱼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金鱼7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金鱼6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2:20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1:45Z</dcterms:modified>
  <cp:revision>5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