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392-F3AF-4095-959C-DC21B75B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B52-41A4-412E-BF82-6A48D649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ACF-67A0-43C6-B8ED-76E5EF0A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A03-5CDA-4FA9-96C5-5916EE65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7C6-EB23-4FF9-AACA-4754B21B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C4D-C87D-4680-9596-0B7EB941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7B7-68EB-4CE5-B013-407D616F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22B-5970-4065-95EA-F7D798A6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991-8B24-4A08-946E-E800FC7D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F19-B033-4496-A1AA-7A8D76F7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D68-A37A-4603-AEFE-07A7336B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0E5-3177-408B-8F86-C02247A9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9173-7AD4-44EF-9388-1D9F0F7CDFC6}" type="slidenum">
              <a:rPr b="0" lang="zh-CN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lccjcj_swf01.exe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54232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8"/>
          <p:cNvSpPr/>
          <p:nvPr/>
        </p:nvSpPr>
        <p:spPr>
          <a:xfrm>
            <a:off x="2784600" y="299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3" name="Picture 4" descr="ds情境创设"/>
          <p:cNvPicPr/>
          <p:nvPr/>
        </p:nvPicPr>
        <p:blipFill>
          <a:blip r:embed="rId1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947240" y="1476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小数的运算顺序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062160" y="595800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0.45×0.18×300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6" name="Picture 10" descr="">
            <a:hlinkClick r:id="rId2"/>
          </p:cNvPr>
          <p:cNvPicPr/>
          <p:nvPr/>
        </p:nvPicPr>
        <p:blipFill>
          <a:blip r:embed="rId3"/>
          <a:srcRect l="0" t="0" r="0" b="7365"/>
          <a:stretch/>
        </p:blipFill>
        <p:spPr>
          <a:xfrm>
            <a:off x="2133720" y="2239920"/>
            <a:ext cx="5029200" cy="349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5" descr="ds新知学习"/>
          <p:cNvPicPr/>
          <p:nvPr/>
        </p:nvPicPr>
        <p:blipFill>
          <a:blip r:embed="rId1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2"/>
          <p:cNvSpPr/>
          <p:nvPr/>
        </p:nvSpPr>
        <p:spPr>
          <a:xfrm>
            <a:off x="3127680" y="1424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说一说每个题的运算顺序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Text Box 33"/>
          <p:cNvSpPr/>
          <p:nvPr/>
        </p:nvSpPr>
        <p:spPr>
          <a:xfrm>
            <a:off x="1728720" y="2027160"/>
            <a:ext cx="55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2×3×6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　　　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50×7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85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Text Box 35"/>
          <p:cNvSpPr/>
          <p:nvPr/>
        </p:nvSpPr>
        <p:spPr>
          <a:xfrm>
            <a:off x="1728720" y="2681280"/>
            <a:ext cx="58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50×4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00           1.2×0.3×60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Text Box 37"/>
          <p:cNvSpPr/>
          <p:nvPr/>
        </p:nvSpPr>
        <p:spPr>
          <a:xfrm>
            <a:off x="1752480" y="329076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50×0.7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8.5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　   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.5×4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1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Text Box 39"/>
          <p:cNvSpPr/>
          <p:nvPr/>
        </p:nvSpPr>
        <p:spPr>
          <a:xfrm>
            <a:off x="3262680" y="4129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小数的运算顺序跟整数一样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Text Box 40"/>
          <p:cNvSpPr/>
          <p:nvPr/>
        </p:nvSpPr>
        <p:spPr>
          <a:xfrm>
            <a:off x="2777760" y="4694400"/>
            <a:ext cx="3016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45×0.18×300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081×300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24.3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s新知学习"/>
          <p:cNvPicPr/>
          <p:nvPr/>
        </p:nvPicPr>
        <p:blipFill>
          <a:blip r:embed="rId1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408320" y="1401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填空题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447920" y="2549520"/>
            <a:ext cx="6553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想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这道题里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运算，又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　　运算，要先算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，再算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447920" y="3997440"/>
            <a:ext cx="6248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想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这道题里只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运算，应按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的顺序进行运算。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58" name="Group 21"/>
          <p:cNvGrpSpPr/>
          <p:nvPr/>
        </p:nvGrpSpPr>
        <p:grpSpPr>
          <a:xfrm>
            <a:off x="1501560" y="2057400"/>
            <a:ext cx="3387600" cy="3585960"/>
            <a:chOff x="1501560" y="2057400"/>
            <a:chExt cx="3387600" cy="3585960"/>
          </a:xfrm>
        </p:grpSpPr>
        <p:sp>
          <p:nvSpPr>
            <p:cNvPr id="59" name="Text Box 5"/>
            <p:cNvSpPr/>
            <p:nvPr/>
          </p:nvSpPr>
          <p:spPr>
            <a:xfrm>
              <a:off x="1501560" y="2057400"/>
              <a:ext cx="33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(1) 4.07×8.6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＋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9.125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1590120" y="3568680"/>
              <a:ext cx="281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(2) 18.4×5.1×1.7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1" name="Text Box 9"/>
            <p:cNvSpPr/>
            <p:nvPr/>
          </p:nvSpPr>
          <p:spPr>
            <a:xfrm>
              <a:off x="1501920" y="5122800"/>
              <a:ext cx="338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(3) 5.67×0.21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－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0.62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62" name="Text Box 10"/>
          <p:cNvSpPr/>
          <p:nvPr/>
        </p:nvSpPr>
        <p:spPr>
          <a:xfrm>
            <a:off x="1447920" y="5486400"/>
            <a:ext cx="6553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想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这道题里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运算，又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　　运算，要先算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，再算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199760" y="254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乘法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079760" y="254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加法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4581000" y="3013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乘法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6622560" y="3013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加法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4565160" y="3976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乘法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575080" y="449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从左往右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26024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乘法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694296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减法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4581000" y="5943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乘法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6638400" y="5958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减法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26" descr="ds新知学习"/>
          <p:cNvPicPr/>
          <p:nvPr/>
        </p:nvPicPr>
        <p:blipFill>
          <a:blip r:embed="rId1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31"/>
          <p:cNvSpPr/>
          <p:nvPr/>
        </p:nvSpPr>
        <p:spPr>
          <a:xfrm>
            <a:off x="3243960" y="1554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连乘算式的意义、读法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Text Box 1033"/>
          <p:cNvSpPr/>
          <p:nvPr/>
        </p:nvSpPr>
        <p:spPr>
          <a:xfrm>
            <a:off x="2971800" y="23623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45×0.18×300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Text Box 1034"/>
          <p:cNvSpPr/>
          <p:nvPr/>
        </p:nvSpPr>
        <p:spPr>
          <a:xfrm>
            <a:off x="2164320" y="3124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这道题还可以怎样列式？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Text Box 1035"/>
          <p:cNvSpPr/>
          <p:nvPr/>
        </p:nvSpPr>
        <p:spPr>
          <a:xfrm>
            <a:off x="2987640" y="3900600"/>
            <a:ext cx="32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45×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18×30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）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Text Box 1036"/>
          <p:cNvSpPr/>
          <p:nvPr/>
        </p:nvSpPr>
        <p:spPr>
          <a:xfrm>
            <a:off x="2379240" y="466236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读作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45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乘以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18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积。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-36360" y="5972040"/>
            <a:ext cx="1059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更多免费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PPT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模板尽在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http://www.eeppt.co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820960" y="1500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做一做，只列式不计算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1" name="Picture 4" descr="ds知识应用"/>
          <p:cNvPicPr/>
          <p:nvPr/>
        </p:nvPicPr>
        <p:blipFill>
          <a:blip r:embed="rId1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834280" y="285444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4.5×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0.3×0.15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）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517480" y="4149720"/>
            <a:ext cx="33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3.19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5.2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×6.8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84" name="Group 11"/>
          <p:cNvGrpSpPr/>
          <p:nvPr/>
        </p:nvGrpSpPr>
        <p:grpSpPr>
          <a:xfrm>
            <a:off x="1143000" y="2300400"/>
            <a:ext cx="7173720" cy="3111120"/>
            <a:chOff x="1143000" y="2300400"/>
            <a:chExt cx="7173720" cy="3111120"/>
          </a:xfrm>
        </p:grpSpPr>
        <p:sp>
          <p:nvSpPr>
            <p:cNvPr id="85" name="Text Box 3"/>
            <p:cNvSpPr/>
            <p:nvPr/>
          </p:nvSpPr>
          <p:spPr>
            <a:xfrm>
              <a:off x="1143000" y="2300400"/>
              <a:ext cx="717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(1) 4.5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乘以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0.3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0.15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的积，结果是多少？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1143000" y="3595680"/>
              <a:ext cx="717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(2) 3.19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5.21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的和乘以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6.8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，结果是多少？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1143000" y="4890960"/>
              <a:ext cx="717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(3) 8.7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3.6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的差乘以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5.4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，结果是多少？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88" name="Text Box 10"/>
          <p:cNvSpPr/>
          <p:nvPr/>
        </p:nvSpPr>
        <p:spPr>
          <a:xfrm>
            <a:off x="2517120" y="5445000"/>
            <a:ext cx="29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8.7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3.6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×5.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9" descr="ds知识拓展"/>
          <p:cNvPicPr/>
          <p:nvPr/>
        </p:nvPicPr>
        <p:blipFill>
          <a:blip r:embed="rId1"/>
          <a:stretch/>
        </p:blipFill>
        <p:spPr>
          <a:xfrm>
            <a:off x="914400" y="971640"/>
            <a:ext cx="162252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3"/>
          <p:cNvSpPr/>
          <p:nvPr/>
        </p:nvSpPr>
        <p:spPr>
          <a:xfrm>
            <a:off x="990720" y="144792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 天山农场新建一座温室，室内耕地面积是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285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平方米，全部栽种西红柿，平均每平方米产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千克。每千克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.3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元计算，一共可以收入多少元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?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Text Box 84"/>
          <p:cNvSpPr/>
          <p:nvPr/>
        </p:nvSpPr>
        <p:spPr>
          <a:xfrm>
            <a:off x="3006360" y="3710160"/>
            <a:ext cx="2521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285×6×1.30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1710×1.30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222.3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元）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Text Box 85"/>
          <p:cNvSpPr/>
          <p:nvPr/>
        </p:nvSpPr>
        <p:spPr>
          <a:xfrm>
            <a:off x="3445200" y="5653080"/>
            <a:ext cx="20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答：一共可以收入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222.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元。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280C-ED15-483B-A2D0-4237A7FB6E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2:33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5:01Z</dcterms:modified>
  <cp:revision>10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