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dt" idx="25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7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D441-10FA-4140-91AA-6580D18055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4F4-2E5B-485D-9F6E-2C1FF3C3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9EF-96FC-4C94-A12D-41A3EC2E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9B3-8FE0-49E6-8CF0-02A9E519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C23-9B53-479F-A566-A9AD4736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A209-9BF6-4756-BC64-E2C040E4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6D06-2831-46C4-B4D6-5972F1E1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CB36-BB99-425F-A981-952F9416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101D-05B6-4EA9-A55E-87329A1A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54B8-F8C5-4718-8487-BED9B730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6254-C5DB-4DC6-AFC1-43447601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4B47-589C-441F-929C-56A3605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85A9-DBFA-45A1-A937-881C8AC7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A36D-F6FB-42A6-990C-DA098B33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D3E4-BA40-4921-BC0E-093BE559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FFA4-12F6-4DE6-B532-B516B1BB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7110-2DF1-4E6A-8C86-5ED134EE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0AED-00BA-4DC1-9ADF-09E2B659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79FAD-9851-43AF-8D7A-3B38EFB8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BC88-C51D-4240-B227-819E4C58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3722-C2A7-4EBA-A22F-1263FFA5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A203-4DF1-4BAE-8D86-FB8CFA39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82A9-B416-48B6-9A4D-8CC71ABE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E01-6FDC-49EC-A8A8-89CB8FDB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9957-67C0-4F9A-A2E0-551F3777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27E9-6711-4F72-8C4A-3E399477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1DBC-FA56-4962-AE13-3BB9FFFC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8F34-32CB-47CE-979C-024402BF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07376-F5A3-431E-B1D6-D4B56317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8B3E0-DE45-4973-ACF0-9E168A6C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C31F-2AB5-4416-9F31-A00929DC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31B41-68C4-460E-886B-18FFFF36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2D0E-5A4B-48D8-A263-E0A8C432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550A7-327B-48F6-A0DA-B0B18B97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E01-5972-49C1-81AD-D99738FD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F0A20-689E-43AE-A901-C84BE2F8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E0649-7A52-4596-8052-36A1B184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30E2-E173-44AE-8B40-9DBBEECB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47AB-7D91-4FDA-A62C-F6404296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2AD7-24DA-4DE5-B453-8253DDEA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13B4D-BCDE-4526-AEAD-E9679D4D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12D59-1785-4B43-B8B8-D5040655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65E1-1DBE-49A7-AB07-7B1A4E38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D1D9-AD1A-48AD-A74A-5CAC92D2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230DE-7655-4607-BF1A-75C1431E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E6F-8041-473B-868E-9981946A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C7A1E-0D4C-4D4E-89C7-6F711694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57533-E2CD-4E30-A0DF-4D3DB5EE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A3294-36D2-471A-A3BF-CA435CB7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593FD-9387-41A1-805B-16630843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00C65-63B8-4CA3-B742-867E4377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C623B-6330-4F48-9B13-5C7E8FC8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5E34E-6D2F-4517-8522-26C8965C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1EB08-2BEF-473A-BF4A-271D27EC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17025-A1CC-4C52-B9EA-EF8E74E2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4E6D0-13EA-4012-AA22-B05AE802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CC4-7F58-44DD-AB0A-055D2626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0E179-9EEB-4FB6-8C99-493EF2F0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6A431-2E11-45C4-ADDB-8ACB3090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2F650-D0DD-4EFB-9F4E-089EC7DE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916CA-BDD2-49EA-B0CF-6F184001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47AB4-E125-4839-A567-3C0A906A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C1D2D-2731-400B-AC6C-084A92A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118C-C856-4EA2-A239-3CB79B2E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01200-1E1F-429A-8C36-5238C1F6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D4961-6E86-424E-9C97-A7647D7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6D456-6B7E-48B9-A086-DEFF6E85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498-396A-4C3C-A7D0-EC310C78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6A51-2D46-4519-9632-9D65DC7D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74344-BD6E-45A4-B5B4-1717451E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CABF9-2864-46E8-B68F-38341DD1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5BD96-3CEB-4DA2-9B91-113E691F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800F6-A9D7-417F-BBC3-F2CAB6A3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F3661-5945-4737-9110-741EA31B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54D71-4E7B-4CBD-9A53-186759CF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A7E30-69DE-458F-98BB-817D61AB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D43B8-4441-4262-B5AE-BDE54111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40A1E-DCD3-47F8-8D9F-14C36216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E28-B2EE-473C-9250-5D302877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74C1E-4994-41CE-B1C8-75492E73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1C60B-F524-4AD1-A852-C546559A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9A3F2-4DCA-4E7C-8BF4-C61D16FE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DC994-6A40-422F-9F9E-07982163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01EBC-841C-437C-8AF8-9923317F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685A8-9C58-45AF-9AF6-98BC5594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46E01-60D2-400C-AFD4-AD0923B2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30652-5E14-4612-96C9-7EEC321E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19EAD-8019-4ED3-A2B6-5B0C5B1D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A231D-9FD4-418E-B3AE-E9353EBB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AB3-B3B6-45D5-9115-483E0196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FE801-FED0-4E2A-9775-07E141ED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834B3-E995-428D-B857-E382859D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F9B34-DAA0-4465-858A-4C374879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3A7A2-DD3E-440D-B828-8921A89B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8C87B-A72A-4609-8C51-741F6D1C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B61DC-FBE9-4C49-A3D5-3E78D578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FA802-A704-4F3E-8EF4-2E414F70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069A-FDD7-42CD-974F-F6AB431ABC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FF11-2E0E-4134-AE13-11E72F6418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未知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94FC-0627-45B3-9FA8-8749CE4BF1A8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未知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2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22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24" name="未知"/>
                <p:cNvSpPr/>
                <p:nvPr/>
              </p:nvSpPr>
              <p:spPr>
                <a:xfrm rot="18427200">
                  <a:off x="788112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未知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未知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未知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未知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未知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未知"/>
                <p:cNvSpPr/>
                <p:nvPr/>
              </p:nvSpPr>
              <p:spPr>
                <a:xfrm rot="18427200">
                  <a:off x="7911360" y="33192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未知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28D3-62F2-4028-8243-555AD97EBD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BB85-0AF6-4DA0-BA93-A56CE62BA1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858C-6B81-44FB-9568-B49DB074B6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94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98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8"/>
          <p:cNvGrpSpPr/>
          <p:nvPr/>
        </p:nvGrpSpPr>
        <p:grpSpPr>
          <a:xfrm>
            <a:off x="7796160" y="4317840"/>
            <a:ext cx="981360" cy="1160640"/>
            <a:chOff x="7796160" y="4317840"/>
            <a:chExt cx="981360" cy="1160640"/>
          </a:xfrm>
        </p:grpSpPr>
        <p:sp>
          <p:nvSpPr>
            <p:cNvPr id="304" name="未知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22"/>
            <p:cNvGrpSpPr/>
            <p:nvPr/>
          </p:nvGrpSpPr>
          <p:grpSpPr>
            <a:xfrm>
              <a:off x="7796160" y="4317840"/>
              <a:ext cx="981360" cy="1160640"/>
              <a:chOff x="7796160" y="4317840"/>
              <a:chExt cx="981360" cy="1160640"/>
            </a:xfrm>
          </p:grpSpPr>
          <p:sp>
            <p:nvSpPr>
              <p:cNvPr id="308" name="未知"/>
              <p:cNvSpPr/>
              <p:nvPr/>
            </p:nvSpPr>
            <p:spPr>
              <a:xfrm rot="7320000">
                <a:off x="7916400" y="5062320"/>
                <a:ext cx="9396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 rot="7320000">
                <a:off x="775728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6D05-4079-4DE6-AECA-F4777E6F9818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337D-8BFE-49C9-B618-D63218AB8781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图片 7" descr="米饭.jpg"/>
          <p:cNvPicPr/>
          <p:nvPr/>
        </p:nvPicPr>
        <p:blipFill>
          <a:blip r:embed="rId2"/>
          <a:stretch/>
        </p:blipFill>
        <p:spPr>
          <a:xfrm rot="20400000">
            <a:off x="-179280" y="1888920"/>
            <a:ext cx="2749320" cy="136836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8" descr="淀粉.jpg"/>
          <p:cNvPicPr/>
          <p:nvPr/>
        </p:nvPicPr>
        <p:blipFill>
          <a:blip r:embed="rId3"/>
          <a:stretch/>
        </p:blipFill>
        <p:spPr>
          <a:xfrm rot="20460000">
            <a:off x="900000" y="448920"/>
            <a:ext cx="3252960" cy="161748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9" descr="和.jpg"/>
          <p:cNvPicPr/>
          <p:nvPr/>
        </p:nvPicPr>
        <p:blipFill>
          <a:blip r:embed="rId4"/>
          <a:stretch/>
        </p:blipFill>
        <p:spPr>
          <a:xfrm rot="660000">
            <a:off x="2268000" y="809280"/>
            <a:ext cx="3395880" cy="168912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11" descr="变化.jpg"/>
          <p:cNvPicPr/>
          <p:nvPr/>
        </p:nvPicPr>
        <p:blipFill>
          <a:blip r:embed="rId5"/>
          <a:stretch/>
        </p:blipFill>
        <p:spPr>
          <a:xfrm>
            <a:off x="6300720" y="1314360"/>
            <a:ext cx="3095640" cy="194472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12" descr="碘酒.jpg"/>
          <p:cNvPicPr/>
          <p:nvPr/>
        </p:nvPicPr>
        <p:blipFill>
          <a:blip r:embed="rId6"/>
          <a:stretch/>
        </p:blipFill>
        <p:spPr>
          <a:xfrm rot="840000">
            <a:off x="3492000" y="2033280"/>
            <a:ext cx="3537000" cy="176040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1" descr=""/>
          <p:cNvPicPr/>
          <p:nvPr/>
        </p:nvPicPr>
        <p:blipFill>
          <a:blip r:embed="rId7"/>
          <a:stretch/>
        </p:blipFill>
        <p:spPr>
          <a:xfrm>
            <a:off x="725400" y="3467160"/>
            <a:ext cx="2259000" cy="180000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2" descr=""/>
          <p:cNvPicPr/>
          <p:nvPr/>
        </p:nvPicPr>
        <p:blipFill>
          <a:blip r:embed="rId8"/>
          <a:stretch/>
        </p:blipFill>
        <p:spPr>
          <a:xfrm>
            <a:off x="3332160" y="384012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3" descr=""/>
          <p:cNvPicPr/>
          <p:nvPr/>
        </p:nvPicPr>
        <p:blipFill>
          <a:blip r:embed="rId9"/>
          <a:stretch/>
        </p:blipFill>
        <p:spPr>
          <a:xfrm>
            <a:off x="6588000" y="3573360"/>
            <a:ext cx="2067120" cy="1905120"/>
          </a:xfrm>
          <a:prstGeom prst="rect">
            <a:avLst/>
          </a:prstGeom>
          <a:ln w="0">
            <a:noFill/>
          </a:ln>
        </p:spPr>
      </p:pic>
      <p:sp>
        <p:nvSpPr>
          <p:cNvPr id="412" name="矩形 15"/>
          <p:cNvSpPr/>
          <p:nvPr/>
        </p:nvSpPr>
        <p:spPr>
          <a:xfrm>
            <a:off x="2341800" y="60339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826920" y="260280"/>
            <a:ext cx="259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504d"/>
                </a:solidFill>
                <a:latin typeface="华文彩云"/>
                <a:ea typeface="华文彩云"/>
              </a:rPr>
              <a:t>总结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0" y="1700280"/>
            <a:ext cx="9252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★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淀粉与碘酒会发生化学变化，生成的新物质是</a:t>
            </a: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蓝</a:t>
            </a:r>
            <a:r>
              <a:rPr b="1" lang="en-US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zh-CN" sz="5400" spc="-1" strike="noStrike">
                <a:solidFill>
                  <a:srgbClr val="6600ff"/>
                </a:solidFill>
                <a:latin typeface="华文新魏"/>
                <a:ea typeface="华文新魏"/>
              </a:rPr>
              <a:t>紫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色的，利用这一特性可以检验食物中是否含有淀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1"/>
          <p:cNvSpPr/>
          <p:nvPr/>
        </p:nvSpPr>
        <p:spPr>
          <a:xfrm>
            <a:off x="1158840" y="5602320"/>
            <a:ext cx="540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矩形 1"/>
          <p:cNvSpPr/>
          <p:nvPr/>
        </p:nvSpPr>
        <p:spPr>
          <a:xfrm>
            <a:off x="539640" y="549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淀粉和碘酒的反应有很多不同的用途，其中有一项是用来检测假钞。纸币印刷技术要求高度保密，纸币制造中会采取很多仿造假措施，包括移走纸中的淀粉。制造假钞者没法掌握所有的印钞技术，所以警察只要在纸币上滴上碘酒，看看纸币是否会变蓝，出现蓝色就是伪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淀粉碘酒反应还有一个应用，就是用来治疗碘酒中毒，既然淀粉可以和碘酒发生反应，人们误食碘酒中毒，口服淀粉就成为一个简单易行的好办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制作神秘的信件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用毛笔蘸淀粉调制的液体，在白纸上写下几个字，晾干后送给同学，让同学想办法让白纸上的字显示出来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826920" y="3716280"/>
            <a:ext cx="7848720" cy="2158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白纸上均匀喷上碘酒，淀粉遇到碘酒变成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蓝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不一会儿白纸上就出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蓝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字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D7A2-FF06-4CCB-8E08-8F87AD41E1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395280" y="620640"/>
            <a:ext cx="3095280" cy="933480"/>
            <a:chOff x="395280" y="620640"/>
            <a:chExt cx="3095280" cy="933480"/>
          </a:xfrm>
        </p:grpSpPr>
        <p:pic>
          <p:nvPicPr>
            <p:cNvPr id="414" name="Picture 3" descr="69"/>
            <p:cNvPicPr/>
            <p:nvPr/>
          </p:nvPicPr>
          <p:blipFill>
            <a:blip r:embed="rId2"/>
            <a:stretch/>
          </p:blipFill>
          <p:spPr>
            <a:xfrm>
              <a:off x="395280" y="620640"/>
              <a:ext cx="30952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4"/>
            <p:cNvSpPr/>
            <p:nvPr/>
          </p:nvSpPr>
          <p:spPr>
            <a:xfrm>
              <a:off x="766080" y="751320"/>
              <a:ext cx="232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Arial"/>
                  <a:ea typeface="华文行楷"/>
                </a:rPr>
                <a:t>品尝思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7"/>
          <p:cNvSpPr/>
          <p:nvPr/>
        </p:nvSpPr>
        <p:spPr>
          <a:xfrm>
            <a:off x="828720" y="2060640"/>
            <a:ext cx="83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在品尝过程中思考两个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395280" y="3284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、米饭刚入口时是什么味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395280" y="4365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宋体"/>
              </a:rPr>
              <a:t>、咀嚼一会儿后又是什么味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36240" y="404280"/>
            <a:ext cx="40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饭为什么会变甜呢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252360" y="126828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楷体_GB2312"/>
              </a:rPr>
              <a:t>原来，米饭中有一种叫淀粉的东西，在我们的咀嚼过程中发生了变化，变得有甜味儿了。所以，原本并不甜的米饭，渐渐地出现了甜味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" descr="$F5L0ZHN6UW%SC7MBCSTIUC"/>
          <p:cNvPicPr/>
          <p:nvPr/>
        </p:nvPicPr>
        <p:blipFill>
          <a:blip r:embed="rId1"/>
          <a:stretch/>
        </p:blipFill>
        <p:spPr>
          <a:xfrm>
            <a:off x="324000" y="4726080"/>
            <a:ext cx="864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淀粉实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9640" y="134136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察感受淀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2301D"/>
          <p:cNvPicPr/>
          <p:nvPr/>
        </p:nvPicPr>
        <p:blipFill>
          <a:blip r:embed="rId1"/>
          <a:stretch/>
        </p:blipFill>
        <p:spPr>
          <a:xfrm>
            <a:off x="190440" y="2133720"/>
            <a:ext cx="8763120" cy="46609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1476360" y="5516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白色、无味、极细的粉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0" y="9907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0" y="2060640"/>
            <a:ext cx="5146560" cy="28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  <a:ea typeface="黑体"/>
              </a:rPr>
              <a:t>1.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用滴管吸取碘酒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滴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  <a:ea typeface="黑体"/>
              </a:rPr>
              <a:t>1-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  <a:ea typeface="黑体"/>
              </a:rPr>
              <a:t>2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滴碘酒与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体上，胶头滴管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管尖不要接触到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4" descr="胶头滴管"/>
          <p:cNvPicPr/>
          <p:nvPr/>
        </p:nvPicPr>
        <p:blipFill>
          <a:blip r:embed="rId1"/>
          <a:stretch/>
        </p:blipFill>
        <p:spPr>
          <a:xfrm>
            <a:off x="4572000" y="1341360"/>
            <a:ext cx="4613400" cy="3888000"/>
          </a:xfrm>
          <a:prstGeom prst="rect">
            <a:avLst/>
          </a:prstGeom>
          <a:ln w="0">
            <a:noFill/>
          </a:ln>
        </p:spPr>
      </p:pic>
      <p:sp>
        <p:nvSpPr>
          <p:cNvPr id="429" name="Line 5"/>
          <p:cNvSpPr/>
          <p:nvPr/>
        </p:nvSpPr>
        <p:spPr>
          <a:xfrm flipH="1">
            <a:off x="8532360" y="5086440"/>
            <a:ext cx="228600" cy="68580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7308720" y="566100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管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 flipV="1">
            <a:off x="5580000" y="2060640"/>
            <a:ext cx="1656000" cy="216000"/>
          </a:xfrm>
          <a:prstGeom prst="line">
            <a:avLst/>
          </a:prstGeom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6877080" y="1413000"/>
            <a:ext cx="23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宋体"/>
              </a:rPr>
              <a:t>滴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179280" y="44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将碘酒滴入淀粉中会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0" y="5562720"/>
            <a:ext cx="83059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Arial"/>
                <a:ea typeface="黑体"/>
              </a:rPr>
              <a:t>2.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滴管使用完毕之后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要放回到碘酒瓶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思考：生成的蓝色物质还是我们的米饭和淀粉吗？是新物质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DSC01763"/>
          <p:cNvPicPr/>
          <p:nvPr/>
        </p:nvPicPr>
        <p:blipFill>
          <a:blip r:embed="rId1"/>
          <a:stretch/>
        </p:blipFill>
        <p:spPr>
          <a:xfrm>
            <a:off x="252360" y="1700280"/>
            <a:ext cx="874872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36360" y="189000"/>
            <a:ext cx="9217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ff00ff"/>
                </a:solidFill>
                <a:latin typeface="华文新魏"/>
                <a:ea typeface="华文新魏"/>
              </a:rPr>
              <a:t>米饭、淀粉遇到碘酒，颜色发生了变化，这</a:t>
            </a: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蓝（</a:t>
            </a:r>
            <a:r>
              <a:rPr b="1" lang="zh-CN" sz="4800" spc="-1" strike="noStrike">
                <a:solidFill>
                  <a:srgbClr val="990099"/>
                </a:solidFill>
                <a:latin typeface="华文新魏"/>
                <a:ea typeface="华文新魏"/>
              </a:rPr>
              <a:t>紫</a:t>
            </a: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）色</a:t>
            </a:r>
            <a:r>
              <a:rPr b="1" lang="zh-CN" sz="4800" spc="-1" strike="noStrike">
                <a:solidFill>
                  <a:srgbClr val="ff00ff"/>
                </a:solidFill>
                <a:latin typeface="华文新魏"/>
                <a:ea typeface="华文新魏"/>
              </a:rPr>
              <a:t>的物质是一种不同于米饭和淀粉的新物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图片 1" descr=""/>
          <p:cNvPicPr/>
          <p:nvPr/>
        </p:nvPicPr>
        <p:blipFill>
          <a:blip r:embed="rId2"/>
          <a:stretch/>
        </p:blipFill>
        <p:spPr>
          <a:xfrm>
            <a:off x="28440" y="3343320"/>
            <a:ext cx="3240360" cy="303048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3"/>
          <a:stretch/>
        </p:blipFill>
        <p:spPr>
          <a:xfrm>
            <a:off x="3419640" y="3360600"/>
            <a:ext cx="34668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泪滴形 1"/>
          <p:cNvSpPr/>
          <p:nvPr/>
        </p:nvSpPr>
        <p:spPr>
          <a:xfrm rot="21285000">
            <a:off x="107640" y="4221000"/>
            <a:ext cx="1439640" cy="1368720"/>
          </a:xfrm>
          <a:custGeom>
            <a:avLst/>
            <a:gdLst/>
            <a:ahLst/>
            <a:rect l="l" t="t" r="r" b="b"/>
            <a:pathLst>
              <a:path w="1703387" h="1584325">
                <a:moveTo>
                  <a:pt x="0" y="792163"/>
                </a:moveTo>
                <a:lnTo>
                  <a:pt x="0" y="792163"/>
                </a:lnTo>
                <a:cubicBezTo>
                  <a:pt x="0" y="354663"/>
                  <a:pt x="381316" y="0"/>
                  <a:pt x="851694" y="1"/>
                </a:cubicBezTo>
                <a:cubicBezTo>
                  <a:pt x="851694" y="1"/>
                  <a:pt x="851694" y="1"/>
                  <a:pt x="851694" y="1"/>
                </a:cubicBezTo>
                <a:cubicBezTo>
                  <a:pt x="1151131" y="0"/>
                  <a:pt x="1450569" y="-14454"/>
                  <a:pt x="1750008" y="-43363"/>
                </a:cubicBezTo>
                <a:cubicBezTo>
                  <a:pt x="1718927" y="235146"/>
                  <a:pt x="1703387" y="513654"/>
                  <a:pt x="1703387" y="792163"/>
                </a:cubicBezTo>
                <a:cubicBezTo>
                  <a:pt x="1703387" y="1229662"/>
                  <a:pt x="1322070" y="1584325"/>
                  <a:pt x="851693" y="1584326"/>
                </a:cubicBezTo>
                <a:cubicBezTo>
                  <a:pt x="381315" y="1584326"/>
                  <a:pt x="-1" y="1229662"/>
                  <a:pt x="-1" y="792163"/>
                </a:cubicBezTo>
                <a:cubicBezTo>
                  <a:pt x="-2" y="792162"/>
                  <a:pt x="-1" y="792162"/>
                  <a:pt x="-1" y="792162"/>
                </a:cubicBezTo>
                <a:lnTo>
                  <a:pt x="0" y="79216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泪滴形 3"/>
          <p:cNvSpPr/>
          <p:nvPr/>
        </p:nvSpPr>
        <p:spPr>
          <a:xfrm rot="9557400">
            <a:off x="4426920" y="1267560"/>
            <a:ext cx="1703160" cy="1584360"/>
          </a:xfrm>
          <a:custGeom>
            <a:avLst/>
            <a:gdLst/>
            <a:ahLst/>
            <a:rect l="l" t="t" r="r" b="b"/>
            <a:pathLst>
              <a:path w="1703387" h="1584325">
                <a:moveTo>
                  <a:pt x="0" y="792163"/>
                </a:moveTo>
                <a:lnTo>
                  <a:pt x="0" y="792163"/>
                </a:lnTo>
                <a:cubicBezTo>
                  <a:pt x="0" y="354663"/>
                  <a:pt x="381316" y="0"/>
                  <a:pt x="851694" y="1"/>
                </a:cubicBezTo>
                <a:cubicBezTo>
                  <a:pt x="851694" y="1"/>
                  <a:pt x="851694" y="1"/>
                  <a:pt x="851694" y="1"/>
                </a:cubicBezTo>
                <a:cubicBezTo>
                  <a:pt x="1151131" y="0"/>
                  <a:pt x="1450569" y="-14454"/>
                  <a:pt x="1750008" y="-43363"/>
                </a:cubicBezTo>
                <a:cubicBezTo>
                  <a:pt x="1718927" y="235146"/>
                  <a:pt x="1703387" y="513654"/>
                  <a:pt x="1703387" y="792163"/>
                </a:cubicBezTo>
                <a:cubicBezTo>
                  <a:pt x="1703387" y="1229662"/>
                  <a:pt x="1322070" y="1584325"/>
                  <a:pt x="851693" y="1584326"/>
                </a:cubicBezTo>
                <a:cubicBezTo>
                  <a:pt x="381315" y="1584326"/>
                  <a:pt x="-1" y="1229662"/>
                  <a:pt x="-1" y="792163"/>
                </a:cubicBezTo>
                <a:cubicBezTo>
                  <a:pt x="-2" y="792162"/>
                  <a:pt x="-1" y="792162"/>
                  <a:pt x="-1" y="792162"/>
                </a:cubicBezTo>
                <a:lnTo>
                  <a:pt x="0" y="792163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泪滴形 4"/>
          <p:cNvSpPr/>
          <p:nvPr/>
        </p:nvSpPr>
        <p:spPr>
          <a:xfrm rot="11477400">
            <a:off x="6227640" y="1196640"/>
            <a:ext cx="1703520" cy="1584360"/>
          </a:xfrm>
          <a:custGeom>
            <a:avLst/>
            <a:gdLst/>
            <a:ahLst/>
            <a:rect l="l" t="t" r="r" b="b"/>
            <a:pathLst>
              <a:path w="1703387" h="1585912">
                <a:moveTo>
                  <a:pt x="0" y="792956"/>
                </a:moveTo>
                <a:lnTo>
                  <a:pt x="0" y="792956"/>
                </a:lnTo>
                <a:cubicBezTo>
                  <a:pt x="0" y="355018"/>
                  <a:pt x="381316" y="0"/>
                  <a:pt x="851694" y="1"/>
                </a:cubicBezTo>
                <a:cubicBezTo>
                  <a:pt x="851694" y="1"/>
                  <a:pt x="851694" y="1"/>
                  <a:pt x="851694" y="1"/>
                </a:cubicBezTo>
                <a:cubicBezTo>
                  <a:pt x="1151131" y="0"/>
                  <a:pt x="1450569" y="-14469"/>
                  <a:pt x="1750008" y="-43406"/>
                </a:cubicBezTo>
                <a:cubicBezTo>
                  <a:pt x="1718927" y="235381"/>
                  <a:pt x="1703387" y="514169"/>
                  <a:pt x="1703387" y="792956"/>
                </a:cubicBezTo>
                <a:cubicBezTo>
                  <a:pt x="1703387" y="1230893"/>
                  <a:pt x="1322070" y="1585911"/>
                  <a:pt x="851693" y="1585912"/>
                </a:cubicBezTo>
                <a:cubicBezTo>
                  <a:pt x="381315" y="1585912"/>
                  <a:pt x="-1" y="1230893"/>
                  <a:pt x="-1" y="792956"/>
                </a:cubicBezTo>
                <a:cubicBezTo>
                  <a:pt x="-2" y="792955"/>
                  <a:pt x="-1" y="792955"/>
                  <a:pt x="-1" y="792955"/>
                </a:cubicBezTo>
                <a:lnTo>
                  <a:pt x="0" y="79295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泪滴形 5"/>
          <p:cNvSpPr/>
          <p:nvPr/>
        </p:nvSpPr>
        <p:spPr>
          <a:xfrm rot="7603800">
            <a:off x="2580840" y="1100160"/>
            <a:ext cx="1703520" cy="1753920"/>
          </a:xfrm>
          <a:custGeom>
            <a:avLst/>
            <a:gdLst/>
            <a:ahLst/>
            <a:rect l="l" t="t" r="r" b="b"/>
            <a:pathLst>
              <a:path w="1703388" h="1585913">
                <a:moveTo>
                  <a:pt x="0" y="792957"/>
                </a:moveTo>
                <a:lnTo>
                  <a:pt x="0" y="792957"/>
                </a:lnTo>
                <a:cubicBezTo>
                  <a:pt x="0" y="355019"/>
                  <a:pt x="381316" y="0"/>
                  <a:pt x="851694" y="1"/>
                </a:cubicBezTo>
                <a:cubicBezTo>
                  <a:pt x="851694" y="1"/>
                  <a:pt x="851694" y="1"/>
                  <a:pt x="851694" y="1"/>
                </a:cubicBezTo>
                <a:cubicBezTo>
                  <a:pt x="1151132" y="0"/>
                  <a:pt x="1450570" y="-14469"/>
                  <a:pt x="1750009" y="-43406"/>
                </a:cubicBezTo>
                <a:cubicBezTo>
                  <a:pt x="1718928" y="235381"/>
                  <a:pt x="1703388" y="514169"/>
                  <a:pt x="1703388" y="792957"/>
                </a:cubicBezTo>
                <a:cubicBezTo>
                  <a:pt x="1703388" y="1230895"/>
                  <a:pt x="1322071" y="1585913"/>
                  <a:pt x="851694" y="1585914"/>
                </a:cubicBezTo>
                <a:cubicBezTo>
                  <a:pt x="381316" y="1585914"/>
                  <a:pt x="0" y="1230895"/>
                  <a:pt x="0" y="792957"/>
                </a:cubicBezTo>
                <a:cubicBezTo>
                  <a:pt x="-1" y="792956"/>
                  <a:pt x="0" y="792956"/>
                  <a:pt x="0" y="792956"/>
                </a:cubicBezTo>
                <a:lnTo>
                  <a:pt x="0" y="792957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泪滴形 7"/>
          <p:cNvSpPr/>
          <p:nvPr/>
        </p:nvSpPr>
        <p:spPr>
          <a:xfrm rot="18543600">
            <a:off x="4797360" y="4858920"/>
            <a:ext cx="1800360" cy="1676520"/>
          </a:xfrm>
          <a:custGeom>
            <a:avLst/>
            <a:gdLst/>
            <a:ahLst/>
            <a:rect l="l" t="t" r="r" b="b"/>
            <a:pathLst>
              <a:path w="1800225" h="1676400">
                <a:moveTo>
                  <a:pt x="0" y="838200"/>
                </a:moveTo>
                <a:lnTo>
                  <a:pt x="0" y="838200"/>
                </a:lnTo>
                <a:cubicBezTo>
                  <a:pt x="0" y="375275"/>
                  <a:pt x="402994" y="0"/>
                  <a:pt x="900113" y="1"/>
                </a:cubicBezTo>
                <a:cubicBezTo>
                  <a:pt x="900113" y="1"/>
                  <a:pt x="900113" y="1"/>
                  <a:pt x="900113" y="1"/>
                </a:cubicBezTo>
                <a:cubicBezTo>
                  <a:pt x="1216574" y="0"/>
                  <a:pt x="1533035" y="-15294"/>
                  <a:pt x="1849497" y="-45883"/>
                </a:cubicBezTo>
                <a:cubicBezTo>
                  <a:pt x="1816649" y="248811"/>
                  <a:pt x="1800225" y="543505"/>
                  <a:pt x="1800225" y="838200"/>
                </a:cubicBezTo>
                <a:cubicBezTo>
                  <a:pt x="1800225" y="1301125"/>
                  <a:pt x="1397230" y="1676399"/>
                  <a:pt x="900112" y="1676400"/>
                </a:cubicBezTo>
                <a:cubicBezTo>
                  <a:pt x="402993" y="1676400"/>
                  <a:pt x="-1" y="1301125"/>
                  <a:pt x="-1" y="838200"/>
                </a:cubicBezTo>
                <a:cubicBezTo>
                  <a:pt x="-2" y="838199"/>
                  <a:pt x="-1" y="838199"/>
                  <a:pt x="-1" y="838199"/>
                </a:cubicBezTo>
                <a:lnTo>
                  <a:pt x="0" y="838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泪滴形 8"/>
          <p:cNvSpPr/>
          <p:nvPr/>
        </p:nvSpPr>
        <p:spPr>
          <a:xfrm rot="13797600">
            <a:off x="7174440" y="2694600"/>
            <a:ext cx="1703520" cy="1584360"/>
          </a:xfrm>
          <a:custGeom>
            <a:avLst/>
            <a:gdLst/>
            <a:ahLst/>
            <a:rect l="l" t="t" r="r" b="b"/>
            <a:pathLst>
              <a:path w="1703387" h="1584325">
                <a:moveTo>
                  <a:pt x="0" y="792163"/>
                </a:moveTo>
                <a:lnTo>
                  <a:pt x="0" y="792163"/>
                </a:lnTo>
                <a:cubicBezTo>
                  <a:pt x="0" y="354663"/>
                  <a:pt x="381316" y="0"/>
                  <a:pt x="851694" y="1"/>
                </a:cubicBezTo>
                <a:cubicBezTo>
                  <a:pt x="851694" y="1"/>
                  <a:pt x="851694" y="1"/>
                  <a:pt x="851694" y="1"/>
                </a:cubicBezTo>
                <a:cubicBezTo>
                  <a:pt x="1151131" y="0"/>
                  <a:pt x="1450569" y="-14454"/>
                  <a:pt x="1750008" y="-43363"/>
                </a:cubicBezTo>
                <a:cubicBezTo>
                  <a:pt x="1718927" y="235146"/>
                  <a:pt x="1703387" y="513654"/>
                  <a:pt x="1703387" y="792163"/>
                </a:cubicBezTo>
                <a:cubicBezTo>
                  <a:pt x="1703387" y="1229662"/>
                  <a:pt x="1322070" y="1584325"/>
                  <a:pt x="851693" y="1584326"/>
                </a:cubicBezTo>
                <a:cubicBezTo>
                  <a:pt x="381315" y="1584326"/>
                  <a:pt x="-1" y="1229662"/>
                  <a:pt x="-1" y="792163"/>
                </a:cubicBezTo>
                <a:cubicBezTo>
                  <a:pt x="-2" y="792162"/>
                  <a:pt x="-1" y="792162"/>
                  <a:pt x="-1" y="792162"/>
                </a:cubicBezTo>
                <a:lnTo>
                  <a:pt x="0" y="792163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泪滴形 9"/>
          <p:cNvSpPr/>
          <p:nvPr/>
        </p:nvSpPr>
        <p:spPr>
          <a:xfrm rot="16225800">
            <a:off x="6529680" y="4278600"/>
            <a:ext cx="1702080" cy="1586160"/>
          </a:xfrm>
          <a:custGeom>
            <a:avLst/>
            <a:gdLst/>
            <a:ahLst/>
            <a:rect l="l" t="t" r="r" b="b"/>
            <a:pathLst>
              <a:path w="1701800" h="1585912">
                <a:moveTo>
                  <a:pt x="0" y="792956"/>
                </a:moveTo>
                <a:lnTo>
                  <a:pt x="0" y="792956"/>
                </a:lnTo>
                <a:cubicBezTo>
                  <a:pt x="0" y="355018"/>
                  <a:pt x="380961" y="0"/>
                  <a:pt x="850900" y="1"/>
                </a:cubicBezTo>
                <a:cubicBezTo>
                  <a:pt x="850900" y="1"/>
                  <a:pt x="850900" y="1"/>
                  <a:pt x="850900" y="1"/>
                </a:cubicBezTo>
                <a:cubicBezTo>
                  <a:pt x="1150059" y="0"/>
                  <a:pt x="1449218" y="-14469"/>
                  <a:pt x="1748378" y="-43406"/>
                </a:cubicBezTo>
                <a:cubicBezTo>
                  <a:pt x="1717326" y="235381"/>
                  <a:pt x="1701800" y="514169"/>
                  <a:pt x="1701800" y="792956"/>
                </a:cubicBezTo>
                <a:cubicBezTo>
                  <a:pt x="1701800" y="1230893"/>
                  <a:pt x="1320839" y="1585911"/>
                  <a:pt x="850900" y="1585912"/>
                </a:cubicBezTo>
                <a:cubicBezTo>
                  <a:pt x="380960" y="1585912"/>
                  <a:pt x="0" y="1230893"/>
                  <a:pt x="0" y="792956"/>
                </a:cubicBezTo>
                <a:cubicBezTo>
                  <a:pt x="-1" y="792955"/>
                  <a:pt x="0" y="792955"/>
                  <a:pt x="0" y="792955"/>
                </a:cubicBezTo>
                <a:lnTo>
                  <a:pt x="0" y="792956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泪滴形 10"/>
          <p:cNvSpPr/>
          <p:nvPr/>
        </p:nvSpPr>
        <p:spPr>
          <a:xfrm rot="5992800">
            <a:off x="913680" y="1182600"/>
            <a:ext cx="1702080" cy="1587240"/>
          </a:xfrm>
          <a:custGeom>
            <a:avLst/>
            <a:gdLst/>
            <a:ahLst/>
            <a:rect l="l" t="t" r="r" b="b"/>
            <a:pathLst>
              <a:path w="1703387" h="1585913">
                <a:moveTo>
                  <a:pt x="0" y="792957"/>
                </a:moveTo>
                <a:lnTo>
                  <a:pt x="0" y="792957"/>
                </a:lnTo>
                <a:cubicBezTo>
                  <a:pt x="0" y="355019"/>
                  <a:pt x="381316" y="0"/>
                  <a:pt x="851694" y="1"/>
                </a:cubicBezTo>
                <a:cubicBezTo>
                  <a:pt x="851694" y="1"/>
                  <a:pt x="851694" y="1"/>
                  <a:pt x="851694" y="1"/>
                </a:cubicBezTo>
                <a:cubicBezTo>
                  <a:pt x="1151131" y="0"/>
                  <a:pt x="1450569" y="-14469"/>
                  <a:pt x="1750008" y="-43406"/>
                </a:cubicBezTo>
                <a:cubicBezTo>
                  <a:pt x="1718927" y="235381"/>
                  <a:pt x="1703387" y="514169"/>
                  <a:pt x="1703387" y="792957"/>
                </a:cubicBezTo>
                <a:cubicBezTo>
                  <a:pt x="1703387" y="1230895"/>
                  <a:pt x="1322070" y="1585913"/>
                  <a:pt x="851693" y="1585914"/>
                </a:cubicBezTo>
                <a:cubicBezTo>
                  <a:pt x="381315" y="1585914"/>
                  <a:pt x="-1" y="1230895"/>
                  <a:pt x="-1" y="792957"/>
                </a:cubicBezTo>
                <a:cubicBezTo>
                  <a:pt x="-2" y="792956"/>
                  <a:pt x="-1" y="792956"/>
                  <a:pt x="-1" y="792956"/>
                </a:cubicBezTo>
                <a:lnTo>
                  <a:pt x="0" y="792957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泪滴形 11"/>
          <p:cNvSpPr/>
          <p:nvPr/>
        </p:nvSpPr>
        <p:spPr>
          <a:xfrm rot="2398800">
            <a:off x="154080" y="2630160"/>
            <a:ext cx="1512720" cy="1442880"/>
          </a:xfrm>
          <a:custGeom>
            <a:avLst/>
            <a:gdLst/>
            <a:ahLst/>
            <a:rect l="l" t="t" r="r" b="b"/>
            <a:pathLst>
              <a:path w="1703387" h="1585912">
                <a:moveTo>
                  <a:pt x="0" y="792956"/>
                </a:moveTo>
                <a:lnTo>
                  <a:pt x="0" y="792956"/>
                </a:lnTo>
                <a:cubicBezTo>
                  <a:pt x="0" y="355018"/>
                  <a:pt x="381316" y="0"/>
                  <a:pt x="851694" y="1"/>
                </a:cubicBezTo>
                <a:cubicBezTo>
                  <a:pt x="851694" y="1"/>
                  <a:pt x="851694" y="1"/>
                  <a:pt x="851694" y="1"/>
                </a:cubicBezTo>
                <a:cubicBezTo>
                  <a:pt x="1151131" y="0"/>
                  <a:pt x="1450569" y="-14469"/>
                  <a:pt x="1750008" y="-43406"/>
                </a:cubicBezTo>
                <a:cubicBezTo>
                  <a:pt x="1718927" y="235381"/>
                  <a:pt x="1703387" y="514169"/>
                  <a:pt x="1703387" y="792956"/>
                </a:cubicBezTo>
                <a:cubicBezTo>
                  <a:pt x="1703387" y="1230893"/>
                  <a:pt x="1322070" y="1585911"/>
                  <a:pt x="851693" y="1585912"/>
                </a:cubicBezTo>
                <a:cubicBezTo>
                  <a:pt x="381315" y="1585912"/>
                  <a:pt x="-1" y="1230893"/>
                  <a:pt x="-1" y="792956"/>
                </a:cubicBezTo>
                <a:cubicBezTo>
                  <a:pt x="-2" y="792955"/>
                  <a:pt x="-1" y="792955"/>
                  <a:pt x="-1" y="792955"/>
                </a:cubicBezTo>
                <a:lnTo>
                  <a:pt x="0" y="792956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云形 12"/>
          <p:cNvSpPr/>
          <p:nvPr/>
        </p:nvSpPr>
        <p:spPr>
          <a:xfrm>
            <a:off x="1908000" y="3141720"/>
            <a:ext cx="2664000" cy="19065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lnTo>
                  <a:pt x="3900" y="14370"/>
                </a:ln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blipFill rotWithShape="0">
            <a:blip r:embed="rId1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1908000" y="115920"/>
            <a:ext cx="5399280" cy="1052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寻找淀粉的踪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4" descr="8"/>
          <p:cNvPicPr/>
          <p:nvPr/>
        </p:nvPicPr>
        <p:blipFill>
          <a:blip r:embed="rId12"/>
          <a:stretch/>
        </p:blipFill>
        <p:spPr>
          <a:xfrm rot="20130600">
            <a:off x="4859280" y="2923920"/>
            <a:ext cx="1584360" cy="13287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5" descr="9"/>
          <p:cNvPicPr/>
          <p:nvPr/>
        </p:nvPicPr>
        <p:blipFill>
          <a:blip r:embed="rId13"/>
          <a:stretch/>
        </p:blipFill>
        <p:spPr>
          <a:xfrm rot="262200">
            <a:off x="3203640" y="5229000"/>
            <a:ext cx="1584360" cy="1211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6" descr="11"/>
          <p:cNvPicPr/>
          <p:nvPr/>
        </p:nvPicPr>
        <p:blipFill>
          <a:blip r:embed="rId14"/>
          <a:stretch/>
        </p:blipFill>
        <p:spPr>
          <a:xfrm rot="439200">
            <a:off x="1402920" y="5084640"/>
            <a:ext cx="16192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寻找淀粉的踪迹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250920" y="1636560"/>
          <a:ext cx="8686800" cy="503244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82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Comic Sans MS"/>
                          <a:ea typeface="宋体"/>
                        </a:rPr>
                        <a:t>含淀粉的食物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Comic Sans MS"/>
                          <a:ea typeface="宋体"/>
                        </a:rPr>
                        <a:t>不含淀粉的食物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420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Comic Sans MS"/>
                          <a:ea typeface="宋体"/>
                        </a:rPr>
                        <a:t>马铃薯（土豆）、玉米、、红薯、胡萝卜（含较少的淀粉）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00"/>
                          </a:solidFill>
                          <a:latin typeface="Comic Sans MS"/>
                          <a:ea typeface="宋体"/>
                        </a:rPr>
                        <a:t>苹果、番茄、小白菜、洋葱、橘子、花菜、白萝卜、黄瓜、菠菜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6:08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6:13Z</dcterms:modified>
  <cp:revision>4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