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chimes.wav..WAV" ContentType="audio/x-wav"/>
  <Override PartName="/ppt/media/image6.png" ContentType="image/png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493-0D81-47E2-8FF2-279AA79EDC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0E4-7AE0-4227-BF18-D5C9FDA96E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371-5AA6-43EE-8D12-66C8865C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6C1-D4E3-44F3-9B4F-C94CDA4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5F4-D7AB-4F98-9C03-B3DAF6BA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BCD-FC81-428D-84D6-5B9795D3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FB5-590F-46A7-B252-D1D15B2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DCB-5C57-45DF-B3FF-A9BD730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D45-554A-479D-A544-8AAA018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A5F-6102-4BA4-A03B-B1285B2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B86-E345-4D46-BBFD-BE4EDE0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303-A256-40D8-B99D-EA9A7C8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41D-4E1C-4F3B-AE4C-FC029B2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0D8-280C-45D5-96CE-A77DD4A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0BAC-0DB9-46FA-BBA6-2BD3B2F16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audio" Target="../media/chimes.wav.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.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.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.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.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.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50920" y="2421000"/>
            <a:ext cx="5185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755640" y="2133720"/>
            <a:ext cx="2951280" cy="22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马铃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851280" y="1916280"/>
            <a:ext cx="47530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在液体中的沉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66640" y="858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教科版《科学》五年级下册第一单元第七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060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31840" y="1201680"/>
            <a:ext cx="192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76360" y="1628640"/>
            <a:ext cx="676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700280"/>
          <a:ext cx="9105840" cy="2436840"/>
        </p:xfrm>
        <a:graphic>
          <a:graphicData uri="http://schemas.openxmlformats.org/drawingml/2006/table">
            <a:tbl>
              <a:tblPr/>
              <a:tblGrid>
                <a:gridCol w="1976400"/>
                <a:gridCol w="3240000"/>
                <a:gridCol w="3889440"/>
              </a:tblGrid>
              <a:tr h="1168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后的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估计是何种液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无明显痕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清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白色颗粒状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8"/>
          <p:cNvSpPr/>
          <p:nvPr/>
        </p:nvSpPr>
        <p:spPr>
          <a:xfrm>
            <a:off x="0" y="1841400"/>
            <a:ext cx="25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液体编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3203640" y="3068640"/>
            <a:ext cx="2336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3276720" y="112536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3059280" y="0"/>
            <a:ext cx="2663640" cy="11430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加热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2"/>
          <p:cNvSpPr/>
          <p:nvPr/>
        </p:nvSpPr>
        <p:spPr>
          <a:xfrm>
            <a:off x="943200" y="4292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我们的发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号烧杯中的液体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溶解了其他物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使马铃薯浮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9640" y="256536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当液体达到一定浓度时马铃薯才会浮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11280" y="76500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实验结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1133640" y="616104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本课小结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177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90807"/>
                </a:solidFill>
                <a:latin typeface="Arial"/>
              </a:rPr>
              <a:t>根据实验研究，我发现（                    ）可以改变物体的沉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357336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90807"/>
                </a:solidFill>
                <a:latin typeface="Arial"/>
              </a:rPr>
              <a:t>（                     ）的液体才能改变物体的沉浮，而这样的液体有许多。</a:t>
            </a:r>
            <a:r>
              <a:rPr b="1" lang="en-US" sz="3200" spc="-1" strike="noStrike">
                <a:solidFill>
                  <a:srgbClr val="09080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00000" y="35002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达到一定浓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219640" y="1773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体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909-741C-48EA-B850-4C4C95BE20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8" name="chimes.wav.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71640" y="537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算出石块受到的浮力大小：浮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重力—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466560" y="620640"/>
            <a:ext cx="82296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一：下沉的物体是否会受到水的浮力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9640" y="1413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计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的问题：沉入水中的物体是否受到水的浮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需器材：石块、弹簧测力计、细线、量杯、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71640" y="42926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先测出石块在空气中的重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71640" y="4869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再测出石块分别进入水中不同位置时对弹簧测力计的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himes.wav.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93377223139389484153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34920" y="-25560"/>
            <a:ext cx="9178920" cy="68742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466560" y="620640"/>
            <a:ext cx="82296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二：下沉的物体受到水的浮力的大小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9640" y="1413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注意量杯里水面的刻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记录好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填好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组内注意分工合作（一名同学看水面刻度，一名同学看测力计数值，一名同学提测力计操作，其他同学观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计算出石块受到的浮力大小与石块排开的水量进行比较，找出其中的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填好实验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788000" y="5589720"/>
            <a:ext cx="41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注重细节，认真实验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diamond/>
    <p:sndAc>
      <p:stSnd>
        <p:snd r:embed="rId4" name="chimes.wav.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322200" y="1481760"/>
            <a:ext cx="56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浮力大于重力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null_text"/>
          <p:cNvPicPr/>
          <p:nvPr/>
        </p:nvPicPr>
        <p:blipFill>
          <a:blip r:embed="rId1"/>
          <a:stretch/>
        </p:blipFill>
        <p:spPr>
          <a:xfrm>
            <a:off x="1771560" y="228600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828720" y="2708280"/>
            <a:ext cx="3240000" cy="2089080"/>
            <a:chOff x="828720" y="2708280"/>
            <a:chExt cx="3240000" cy="2089080"/>
          </a:xfrm>
        </p:grpSpPr>
        <p:sp>
          <p:nvSpPr>
            <p:cNvPr id="65" name="Rectangle 5"/>
            <p:cNvSpPr/>
            <p:nvPr/>
          </p:nvSpPr>
          <p:spPr>
            <a:xfrm>
              <a:off x="2185920" y="3470400"/>
              <a:ext cx="1393920" cy="78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6"/>
            <p:cNvGrpSpPr/>
            <p:nvPr/>
          </p:nvGrpSpPr>
          <p:grpSpPr>
            <a:xfrm>
              <a:off x="1770120" y="2708280"/>
              <a:ext cx="2298600" cy="2089080"/>
              <a:chOff x="1770120" y="2708280"/>
              <a:chExt cx="2298600" cy="2089080"/>
            </a:xfrm>
          </p:grpSpPr>
          <p:sp>
            <p:nvSpPr>
              <p:cNvPr id="67" name="Line 7"/>
              <p:cNvSpPr/>
              <p:nvPr/>
            </p:nvSpPr>
            <p:spPr>
              <a:xfrm>
                <a:off x="1770120" y="2708280"/>
                <a:ext cx="0" cy="20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8"/>
              <p:cNvSpPr/>
              <p:nvPr/>
            </p:nvSpPr>
            <p:spPr>
              <a:xfrm>
                <a:off x="1770120" y="4797360"/>
                <a:ext cx="229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9"/>
              <p:cNvSpPr/>
              <p:nvPr/>
            </p:nvSpPr>
            <p:spPr>
              <a:xfrm>
                <a:off x="4068720" y="2727360"/>
                <a:ext cx="0" cy="20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10"/>
            <p:cNvSpPr/>
            <p:nvPr/>
          </p:nvSpPr>
          <p:spPr>
            <a:xfrm flipV="1">
              <a:off x="1806480" y="3176280"/>
              <a:ext cx="2262240" cy="1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1"/>
            <p:cNvSpPr/>
            <p:nvPr/>
          </p:nvSpPr>
          <p:spPr>
            <a:xfrm flipH="1">
              <a:off x="828720" y="3294000"/>
              <a:ext cx="760320" cy="487440"/>
            </a:xfrm>
            <a:prstGeom prst="wedgeRectCallout">
              <a:avLst>
                <a:gd name="adj1" fmla="val -161907"/>
                <a:gd name="adj2" fmla="val 659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石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4500720" y="2781360"/>
            <a:ext cx="3671640" cy="2016000"/>
            <a:chOff x="4500720" y="2781360"/>
            <a:chExt cx="3671640" cy="2016000"/>
          </a:xfrm>
        </p:grpSpPr>
        <p:sp>
          <p:nvSpPr>
            <p:cNvPr id="73" name="Rectangle 13"/>
            <p:cNvSpPr/>
            <p:nvPr/>
          </p:nvSpPr>
          <p:spPr>
            <a:xfrm>
              <a:off x="4917960" y="3459240"/>
              <a:ext cx="1454400" cy="7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4"/>
            <p:cNvGrpSpPr/>
            <p:nvPr/>
          </p:nvGrpSpPr>
          <p:grpSpPr>
            <a:xfrm>
              <a:off x="4500720" y="2781360"/>
              <a:ext cx="2307960" cy="2016000"/>
              <a:chOff x="4500720" y="2781360"/>
              <a:chExt cx="2307960" cy="2016000"/>
            </a:xfrm>
          </p:grpSpPr>
          <p:sp>
            <p:nvSpPr>
              <p:cNvPr id="75" name="Line 15"/>
              <p:cNvSpPr/>
              <p:nvPr/>
            </p:nvSpPr>
            <p:spPr>
              <a:xfrm>
                <a:off x="4500720" y="2781360"/>
                <a:ext cx="0" cy="19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6"/>
              <p:cNvSpPr/>
              <p:nvPr/>
            </p:nvSpPr>
            <p:spPr>
              <a:xfrm>
                <a:off x="4500720" y="4797360"/>
                <a:ext cx="23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7"/>
              <p:cNvSpPr/>
              <p:nvPr/>
            </p:nvSpPr>
            <p:spPr>
              <a:xfrm>
                <a:off x="6808680" y="2800440"/>
                <a:ext cx="0" cy="19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Line 18"/>
            <p:cNvSpPr/>
            <p:nvPr/>
          </p:nvSpPr>
          <p:spPr>
            <a:xfrm flipV="1">
              <a:off x="4518000" y="3139560"/>
              <a:ext cx="2273400" cy="1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7209000" y="3384720"/>
              <a:ext cx="963360" cy="414000"/>
            </a:xfrm>
            <a:prstGeom prst="wedgeRectCallout">
              <a:avLst>
                <a:gd name="adj1" fmla="val -204717"/>
                <a:gd name="adj2" fmla="val 1090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泡沫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0"/>
          <p:cNvSpPr/>
          <p:nvPr/>
        </p:nvSpPr>
        <p:spPr>
          <a:xfrm>
            <a:off x="539640" y="515772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浮力小于重力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400080" y="1197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6471360" y="5661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484360" y="3429000"/>
            <a:ext cx="1008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重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5603040" y="23493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727720" y="270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浮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2629080" y="2925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661360" y="2332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浮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435640" y="3573360"/>
            <a:ext cx="792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重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28468230139389473173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久石让-Summer.mp3" descr="2978939421393894731734.png"/>
          <p:cNvPicPr/>
          <p:nvPr/>
        </p:nvPicPr>
        <p:blipFill>
          <a:blip r:embed="rId2"/>
          <a:stretch/>
        </p:blipFill>
        <p:spPr>
          <a:xfrm>
            <a:off x="468360" y="189000"/>
            <a:ext cx="43164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3" name="chimes.wav..WAV"/>
      </p:stSnd>
    </p:sndAc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457029721393894731734.png"/>
          <p:cNvPicPr/>
          <p:nvPr/>
        </p:nvPicPr>
        <p:blipFill>
          <a:blip r:embed="rId2"/>
          <a:stretch/>
        </p:blipFill>
        <p:spPr>
          <a:xfrm>
            <a:off x="-252360" y="-316080"/>
            <a:ext cx="3240000" cy="3579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476360" y="836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宋体"/>
              </a:rPr>
              <a:t>可能是什么因素改变了马铃薯的沉浮情况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19280" y="2421000"/>
            <a:ext cx="6858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马铃薯是同一个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液体的量是相同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杯子的大小是相同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014560" y="506268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影响马铃薯沉浮的因素可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杯子中的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himes.wav.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404640"/>
            <a:ext cx="8315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通过哪些方法我们可以检测两杯液体的不同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92360" y="2637000"/>
            <a:ext cx="441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835280" y="4653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加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68360" y="765000"/>
            <a:ext cx="6337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55640" y="134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加热工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242100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精灯（蜡烛代替）、火柴、药匙（易拉罐外壳代替）、木筷、滴管（自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16000" y="1052640"/>
            <a:ext cx="7343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9640" y="1413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、用滴管分别从两个烧杯中各取一些液体，分别在两个药匙上各滴加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—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滴。两支滴管分开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、点燃酒精灯，用酒精灯的外焰对药匙进行加热，待液体快要完全蒸发时停止加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、用酒精灯（蜡烛代替）盖熄灭火焰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观察比较两个药匙上液滴变干后留下的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468360" y="333360"/>
            <a:ext cx="28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加热液滴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  <p:sndAc>
      <p:stSnd>
        <p:snd r:embed="rId2" name="chimes.wav.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2:14:2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12:47Z</dcterms:modified>
  <cp:revision>1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