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5.jpeg" ContentType="image/jpeg"/>
  <Override PartName="/ppt/media/image8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6441-B0A9-41BC-B229-D5C2343A2D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A282-1F58-4226-86C1-2BE1A888A1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B5B-3C52-4F6F-B3F5-81C2F92A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B35-0721-44F1-9911-0F9229D2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C7C-A865-4F8D-A0B4-066B7EB6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005-2F61-4361-AB93-AC648E44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905-2656-4196-B006-E271947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A90-C66E-4B8B-9CDD-16A30AD0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557-E0B7-41A9-B675-781B174F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109-50BA-4133-80B2-D06D35BA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978-A2E9-40CC-BBE7-E041AC1D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AA5-119F-43B3-A315-C649201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CC0-9C33-495F-BEEB-47009EE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620-F6B2-401B-A19D-02CE5595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45C0-D24F-4495-B972-6BEA2B3CE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593_1"/>
          <p:cNvPicPr/>
          <p:nvPr/>
        </p:nvPicPr>
        <p:blipFill>
          <a:blip r:embed="rId1"/>
          <a:stretch/>
        </p:blipFill>
        <p:spPr>
          <a:xfrm>
            <a:off x="6553080" y="3808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泡泡"/>
          <p:cNvPicPr/>
          <p:nvPr/>
        </p:nvPicPr>
        <p:blipFill>
          <a:blip r:embed="rId2"/>
          <a:stretch/>
        </p:blipFill>
        <p:spPr>
          <a:xfrm rot="10800000">
            <a:off x="2895480" y="-1752480"/>
            <a:ext cx="228600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泡泡"/>
          <p:cNvPicPr/>
          <p:nvPr/>
        </p:nvPicPr>
        <p:blipFill>
          <a:blip r:embed="rId3"/>
          <a:stretch/>
        </p:blipFill>
        <p:spPr>
          <a:xfrm rot="10800000">
            <a:off x="0" y="228600"/>
            <a:ext cx="228600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buttafly2un"/>
          <p:cNvPicPr/>
          <p:nvPr/>
        </p:nvPicPr>
        <p:blipFill>
          <a:blip r:embed="rId4"/>
          <a:stretch/>
        </p:blipFill>
        <p:spPr>
          <a:xfrm>
            <a:off x="6732720" y="4267080"/>
            <a:ext cx="2411280" cy="215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6"/>
          <p:cNvPicPr/>
          <p:nvPr/>
        </p:nvPicPr>
        <p:blipFill>
          <a:blip r:embed="rId5"/>
          <a:stretch/>
        </p:blipFill>
        <p:spPr>
          <a:xfrm>
            <a:off x="0" y="2048040"/>
            <a:ext cx="4005360" cy="480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6"/>
          <p:cNvPicPr/>
          <p:nvPr/>
        </p:nvPicPr>
        <p:blipFill>
          <a:blip r:embed="rId6"/>
          <a:stretch/>
        </p:blipFill>
        <p:spPr>
          <a:xfrm>
            <a:off x="3962520" y="2209680"/>
            <a:ext cx="3948120" cy="4648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6"/>
          <p:cNvPicPr/>
          <p:nvPr/>
        </p:nvPicPr>
        <p:blipFill>
          <a:blip r:embed="rId7"/>
          <a:stretch/>
        </p:blipFill>
        <p:spPr>
          <a:xfrm>
            <a:off x="5329080" y="2289240"/>
            <a:ext cx="3814920" cy="4581360"/>
          </a:xfrm>
          <a:prstGeom prst="rect">
            <a:avLst/>
          </a:prstGeom>
          <a:ln w="0">
            <a:noFill/>
          </a:ln>
        </p:spPr>
      </p:pic>
      <p:sp>
        <p:nvSpPr>
          <p:cNvPr id="55" name="WordArt 15"/>
          <p:cNvSpPr txBox="1"/>
          <p:nvPr/>
        </p:nvSpPr>
        <p:spPr>
          <a:xfrm>
            <a:off x="1523880" y="1905120"/>
            <a:ext cx="60962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妈妈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558720" y="860400"/>
            <a:ext cx="45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一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171252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延伸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创编：妈妈是家里的（   ）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小朋友联系生活想一想，续说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9360" y="230040"/>
            <a:ext cx="78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380880" y="6094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仿照课文续写句子</a:t>
            </a:r>
            <a:endParaRPr b="0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38080" y="19810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妈妈是家里的星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762120" y="30481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妈妈是家里的（　　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762120" y="51814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妈妈（　　　　　　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41148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妈妈（　　　　　　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0595-5A91-4E84-BC09-5DF0D2121D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2209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齐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1760" y="3017880"/>
            <a:ext cx="7086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世上只有妈妈好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13.mp3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148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4382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读课文，背诵课文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会妈妈对子女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Q_039"/>
          <p:cNvPicPr/>
          <p:nvPr/>
        </p:nvPicPr>
        <p:blipFill>
          <a:blip r:embed="rId1"/>
          <a:stretch/>
        </p:blipFill>
        <p:spPr>
          <a:xfrm>
            <a:off x="304920" y="45720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3276720" y="838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124080" y="205740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105520" y="762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105520" y="2133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7086600" y="7621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à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7086600" y="21337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200400" y="35053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3124080" y="48006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486400" y="35053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5791320" y="47242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3"/>
          <p:cNvSpPr/>
          <p:nvPr/>
        </p:nvSpPr>
        <p:spPr>
          <a:xfrm>
            <a:off x="533520" y="2057400"/>
            <a:ext cx="1600200" cy="4038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94680" y="2666880"/>
            <a:ext cx="18262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ff"/>
                </a:solidFill>
                <a:latin typeface="Arial"/>
                <a:ea typeface="幼圆"/>
              </a:rPr>
              <a:t>拼拼读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img200701201640365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492280"/>
          </a:xfrm>
          <a:prstGeom prst="rect">
            <a:avLst/>
          </a:prstGeom>
          <a:ln w="0">
            <a:noFill/>
          </a:ln>
        </p:spPr>
      </p:pic>
      <p:sp>
        <p:nvSpPr>
          <p:cNvPr id="77" name="WordArt 6"/>
          <p:cNvSpPr txBox="1"/>
          <p:nvPr/>
        </p:nvSpPr>
        <p:spPr>
          <a:xfrm>
            <a:off x="152280" y="228600"/>
            <a:ext cx="17528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5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219320" y="289548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2133720" y="114300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加一加，变成其它字</a:t>
            </a:r>
            <a:endParaRPr b="0" lang="en-US" sz="5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09480" y="21337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Arial"/>
              </a:rPr>
              <a:t>日　</a:t>
            </a: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—</a:t>
            </a:r>
            <a:r>
              <a:rPr b="0" lang="zh-CN" sz="5400" spc="-1" strike="noStrike">
                <a:solidFill>
                  <a:srgbClr val="336600"/>
                </a:solidFill>
                <a:latin typeface="Arial"/>
              </a:rPr>
              <a:t>　（　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09480" y="32767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Arial"/>
              </a:rPr>
              <a:t>口　</a:t>
            </a: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—</a:t>
            </a:r>
            <a:r>
              <a:rPr b="0" lang="zh-CN" sz="5400" spc="-1" strike="noStrike">
                <a:solidFill>
                  <a:srgbClr val="336600"/>
                </a:solidFill>
                <a:latin typeface="Arial"/>
              </a:rPr>
              <a:t>　（　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09480" y="44197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Arial"/>
              </a:rPr>
              <a:t>大　</a:t>
            </a: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—</a:t>
            </a:r>
            <a:r>
              <a:rPr b="0" lang="zh-CN" sz="5400" spc="-1" strike="noStrike">
                <a:solidFill>
                  <a:srgbClr val="336600"/>
                </a:solidFill>
                <a:latin typeface="Arial"/>
              </a:rPr>
              <a:t>　（　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09480" y="5486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Arial"/>
              </a:rPr>
              <a:t>土　</a:t>
            </a: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—</a:t>
            </a:r>
            <a:r>
              <a:rPr b="0" lang="zh-CN" sz="5400" spc="-1" strike="noStrike">
                <a:solidFill>
                  <a:srgbClr val="336600"/>
                </a:solidFill>
                <a:latin typeface="Arial"/>
              </a:rPr>
              <a:t>　（　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3429000" y="1920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895480" y="0"/>
            <a:ext cx="5811840" cy="663732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 rot="5400000">
            <a:off x="-702000" y="2498760"/>
            <a:ext cx="429876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0" lang="en-US" sz="5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"/>
          <p:cNvPicPr/>
          <p:nvPr/>
        </p:nvPicPr>
        <p:blipFill>
          <a:blip r:embed="rId1"/>
          <a:stretch/>
        </p:blipFill>
        <p:spPr>
          <a:xfrm>
            <a:off x="5943600" y="3616200"/>
            <a:ext cx="2700360" cy="324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2"/>
          <p:cNvPicPr/>
          <p:nvPr/>
        </p:nvPicPr>
        <p:blipFill>
          <a:blip r:embed="rId2"/>
          <a:stretch/>
        </p:blipFill>
        <p:spPr>
          <a:xfrm>
            <a:off x="914400" y="3616200"/>
            <a:ext cx="2700360" cy="324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2"/>
          <p:cNvPicPr/>
          <p:nvPr/>
        </p:nvPicPr>
        <p:blipFill>
          <a:blip r:embed="rId3"/>
          <a:stretch/>
        </p:blipFill>
        <p:spPr>
          <a:xfrm>
            <a:off x="4343400" y="0"/>
            <a:ext cx="2700360" cy="324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2"/>
          <p:cNvPicPr/>
          <p:nvPr/>
        </p:nvPicPr>
        <p:blipFill>
          <a:blip r:embed="rId4"/>
          <a:stretch/>
        </p:blipFill>
        <p:spPr>
          <a:xfrm>
            <a:off x="0" y="0"/>
            <a:ext cx="2700360" cy="3241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80880" y="609480"/>
            <a:ext cx="79250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　　①为什么说妈妈是家里的星星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　　②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你对妈妈有着怎样的感情？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209680" y="2666880"/>
            <a:ext cx="3810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 rot="18710400">
            <a:off x="6286320" y="266400"/>
            <a:ext cx="1600200" cy="289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7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295280"/>
            <a:ext cx="84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①为什么把妈妈比作月亮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你能把对妈妈的热爱、赞美之情读出来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def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5"/>
          <p:cNvSpPr/>
          <p:nvPr/>
        </p:nvSpPr>
        <p:spPr>
          <a:xfrm>
            <a:off x="6400800" y="380880"/>
            <a:ext cx="2209680" cy="190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6400800" y="2057400"/>
            <a:ext cx="380880" cy="4572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8077320" y="2133720"/>
            <a:ext cx="228600" cy="5331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7620120" y="2286000"/>
            <a:ext cx="152280" cy="4572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>
            <a:off x="7010280" y="2209680"/>
            <a:ext cx="76320" cy="6098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019920" y="1066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8305920" y="19810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>
            <a:off x="6019920" y="1676520"/>
            <a:ext cx="457200" cy="3045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6248520" y="304920"/>
            <a:ext cx="380880" cy="380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 flipH="1">
            <a:off x="8610120" y="10666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 flipH="1" flipV="1">
            <a:off x="8610120" y="159984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7238880" y="22860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8076960" y="304920"/>
            <a:ext cx="75960" cy="3045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0" y="368280"/>
            <a:ext cx="70102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幼圆"/>
                <a:ea typeface="幼圆"/>
              </a:rPr>
              <a:t>小组合作，自学第</a:t>
            </a:r>
            <a:r>
              <a:rPr b="1" lang="en-US" sz="4800" spc="-1" strike="noStrike">
                <a:solidFill>
                  <a:srgbClr val="ff0000"/>
                </a:solidFill>
                <a:latin typeface="幼圆"/>
                <a:ea typeface="幼圆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幼圆"/>
                <a:ea typeface="幼圆"/>
              </a:rPr>
              <a:t>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想想把妈妈比作什么。为什么这样说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说说妈妈给家庭带来的温暖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52:24Z</dcterms:modified>
  <cp:revision>1</cp:revision>
  <dc:subject/>
  <dc:title>幻灯片 1</dc:title>
</cp:coreProperties>
</file>