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712C-72BC-4AC0-945F-AA39FD946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8D16-DE7C-4615-B093-7740DA29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266A-A873-481C-B193-B8F89A9F4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47BD-E306-4D98-B971-87B73516A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E9A8-D18D-429C-B11F-AA79A30B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5A85-8250-40EF-A85F-C30CA4E1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E7A5-DC65-4449-862F-275A4036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650D-7BFE-4ACA-B4CE-08A5D3A0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D366-67EA-46F5-B5D3-E8A72901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CD9E-0FE5-4613-9FA1-A63C5C11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F863-824F-4885-A75D-BB8E4D40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D115-DE28-4E66-9FEF-68A819B2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90B7-B044-44F7-8F81-49145D8D9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audio" Target="../media/chimes.wav"/><Relationship Id="rId2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468360" y="1557360"/>
            <a:ext cx="82119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农业的变化真大</a:t>
            </a:r>
            <a:endParaRPr b="0" lang="en-US" sz="1800" spc="-1" strike="noStrike">
              <a:ln w="0">
                <a:noFil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42" name="矩形 6"/>
          <p:cNvSpPr/>
          <p:nvPr/>
        </p:nvSpPr>
        <p:spPr>
          <a:xfrm>
            <a:off x="1950840" y="6021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206C-65F0-439D-8029-1527977DC81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5"/>
          <p:cNvSpPr/>
          <p:nvPr/>
        </p:nvSpPr>
        <p:spPr>
          <a:xfrm>
            <a:off x="3203640" y="2492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28" descr="34-8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40072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34-5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68836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34-7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4364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1"/>
          <p:cNvSpPr/>
          <p:nvPr/>
        </p:nvSpPr>
        <p:spPr>
          <a:xfrm>
            <a:off x="195120" y="6275520"/>
            <a:ext cx="89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34-6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47236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34-4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68800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34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34-3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25600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34-2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8T06:04:53Z</dcterms:created>
  <dc:creator>第一PPT模板网-WWW.1PPT.COM</dc:creator>
  <dc:description>第一PPT模板网-WWW.1PPT.COM
</dc:description>
  <cp:keywords/>
  <dc:language>en-US</dc:language>
  <cp:lastModifiedBy>xinxing</cp:lastModifiedBy>
  <dcterms:modified xsi:type="dcterms:W3CDTF">2017-04-16T15:41:06Z</dcterms:modified>
  <cp:revision>10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