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16.jpeg" ContentType="image/jpe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4057-17E7-4A50-82E2-BCC8EA1E482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15FF-B9ED-4706-A85A-CA97D97A65F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0C1A-9C03-42D2-BC1A-DB6FE5BA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6801-771C-4BB5-9A9F-8BFC129A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30B8-B8CE-4980-B44A-B23A245E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2E3D-FC55-4FD3-966D-346E87BE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64AF-24CA-4304-ABA7-26C3474C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20DF-F3CC-4178-8352-847EFE66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ECAA-328A-4EA0-9160-59FE706B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C519-F2D1-4767-83A8-94309B65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5B8D-2D7F-48AE-ABEE-7FD76525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EB29-DCAA-4080-BE9D-C03BCCD4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7B13-9604-4368-9B9E-D3EFD15A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A0A3-37AD-46C6-824C-0BBF81E9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F55C-8B30-4DA9-A7FF-0E87056B5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image" Target="../media/image11.jpeg"/><Relationship Id="rId4" Type="http://schemas.openxmlformats.org/officeDocument/2006/relationships/image" Target="../media/image14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&#20132;&#36890;&#20107;&#25925;&#25104;&#20026;&#20799;&#31461;&#31532;&#20108;&#22823;&#8220;&#26432;&#25163;&#8221;.mp4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20081208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27360" y="1321920"/>
            <a:ext cx="917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cc0099"/>
                </a:solidFill>
                <a:latin typeface="华文楷体"/>
                <a:ea typeface="华文楷体"/>
              </a:rPr>
              <a:t>6 </a:t>
            </a:r>
            <a:r>
              <a:rPr b="1" lang="zh-CN" sz="12000" spc="-1" strike="noStrike">
                <a:solidFill>
                  <a:srgbClr val="cc0099"/>
                </a:solidFill>
                <a:latin typeface="华文楷体"/>
                <a:ea typeface="华文楷体"/>
              </a:rPr>
              <a:t>平安回家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1823760" y="6021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20081208021"/>
          <p:cNvPicPr/>
          <p:nvPr/>
        </p:nvPicPr>
        <p:blipFill>
          <a:blip r:embed="rId1"/>
          <a:stretch/>
        </p:blipFill>
        <p:spPr>
          <a:xfrm>
            <a:off x="0" y="0"/>
            <a:ext cx="10439280" cy="6959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图片2"/>
          <p:cNvPicPr/>
          <p:nvPr/>
        </p:nvPicPr>
        <p:blipFill>
          <a:blip r:embed="rId2"/>
          <a:stretch/>
        </p:blipFill>
        <p:spPr>
          <a:xfrm>
            <a:off x="468360" y="189000"/>
            <a:ext cx="9577440" cy="63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20081208021"/>
          <p:cNvPicPr/>
          <p:nvPr/>
        </p:nvPicPr>
        <p:blipFill>
          <a:blip r:embed="rId1"/>
          <a:stretch/>
        </p:blipFill>
        <p:spPr>
          <a:xfrm>
            <a:off x="0" y="0"/>
            <a:ext cx="10439280" cy="69595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图片3"/>
          <p:cNvPicPr/>
          <p:nvPr/>
        </p:nvPicPr>
        <p:blipFill>
          <a:blip r:embed="rId2"/>
          <a:stretch/>
        </p:blipFill>
        <p:spPr>
          <a:xfrm>
            <a:off x="250920" y="333360"/>
            <a:ext cx="936144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20081208021"/>
          <p:cNvPicPr/>
          <p:nvPr/>
        </p:nvPicPr>
        <p:blipFill>
          <a:blip r:embed="rId1"/>
          <a:stretch/>
        </p:blipFill>
        <p:spPr>
          <a:xfrm>
            <a:off x="0" y="0"/>
            <a:ext cx="10439280" cy="69595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图片5"/>
          <p:cNvPicPr/>
          <p:nvPr/>
        </p:nvPicPr>
        <p:blipFill>
          <a:blip r:embed="rId2"/>
          <a:stretch/>
        </p:blipFill>
        <p:spPr>
          <a:xfrm>
            <a:off x="68436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20081208021"/>
          <p:cNvPicPr/>
          <p:nvPr/>
        </p:nvPicPr>
        <p:blipFill>
          <a:blip r:embed="rId1"/>
          <a:stretch/>
        </p:blipFill>
        <p:spPr>
          <a:xfrm>
            <a:off x="0" y="0"/>
            <a:ext cx="10439280" cy="6959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图片5"/>
          <p:cNvPicPr/>
          <p:nvPr/>
        </p:nvPicPr>
        <p:blipFill>
          <a:blip r:embed="rId2"/>
          <a:stretch/>
        </p:blipFill>
        <p:spPr>
          <a:xfrm>
            <a:off x="5364000" y="3716280"/>
            <a:ext cx="4537080" cy="3141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图片3"/>
          <p:cNvPicPr/>
          <p:nvPr/>
        </p:nvPicPr>
        <p:blipFill>
          <a:blip r:embed="rId3"/>
          <a:stretch/>
        </p:blipFill>
        <p:spPr>
          <a:xfrm>
            <a:off x="539640" y="3666960"/>
            <a:ext cx="4392720" cy="3191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图片2"/>
          <p:cNvPicPr/>
          <p:nvPr/>
        </p:nvPicPr>
        <p:blipFill>
          <a:blip r:embed="rId4"/>
          <a:stretch/>
        </p:blipFill>
        <p:spPr>
          <a:xfrm>
            <a:off x="5364000" y="404640"/>
            <a:ext cx="4462560" cy="3168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图片1"/>
          <p:cNvPicPr/>
          <p:nvPr/>
        </p:nvPicPr>
        <p:blipFill>
          <a:blip r:embed="rId5"/>
          <a:stretch/>
        </p:blipFill>
        <p:spPr>
          <a:xfrm>
            <a:off x="468360" y="404640"/>
            <a:ext cx="44640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society3_038.wmv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92000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4208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C:\Documents and Settings\Administrator\桌面\大市比赛资源包\图片\车祸\1309_200904231251323AK5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C:\Documents and Settings\Administrator\桌面\大市比赛资源包\图片\车祸\20106141653203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C:\Documents and Settings\Administrator\桌面\大市比赛资源包\图片\车祸\xinsrc_01201052512044532436040.jpg"/>
          <p:cNvPicPr/>
          <p:nvPr/>
        </p:nvPicPr>
        <p:blipFill>
          <a:blip r:embed="rId1"/>
          <a:stretch/>
        </p:blipFill>
        <p:spPr>
          <a:xfrm>
            <a:off x="0" y="-152280"/>
            <a:ext cx="937260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C:\Documents and Settings\Administrator\桌面\大市比赛资源包\图片\车祸\1309_200904231251323AK5y.jpg"/>
          <p:cNvPicPr/>
          <p:nvPr/>
        </p:nvPicPr>
        <p:blipFill>
          <a:blip r:embed="rId1"/>
          <a:stretch/>
        </p:blipFill>
        <p:spPr>
          <a:xfrm>
            <a:off x="0" y="0"/>
            <a:ext cx="5791320" cy="2031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Documents and Settings\Administrator\桌面\大市比赛资源包\图片\车祸\2010614165320317.jpg"/>
          <p:cNvPicPr/>
          <p:nvPr/>
        </p:nvPicPr>
        <p:blipFill>
          <a:blip r:embed="rId2"/>
          <a:stretch/>
        </p:blipFill>
        <p:spPr>
          <a:xfrm>
            <a:off x="-76320" y="2438280"/>
            <a:ext cx="3048120" cy="4564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:\Documents and Settings\Administrator\桌面\大市比赛资源包\图片\车祸\Img227762748.jpg"/>
          <p:cNvPicPr/>
          <p:nvPr/>
        </p:nvPicPr>
        <p:blipFill>
          <a:blip r:embed="rId3"/>
          <a:stretch/>
        </p:blipFill>
        <p:spPr>
          <a:xfrm>
            <a:off x="3048120" y="2438280"/>
            <a:ext cx="3047760" cy="4419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:\Documents and Settings\Administrator\桌面\大市比赛资源包\图片\车祸\xinsrc_01201052512044532436040.jpg"/>
          <p:cNvPicPr/>
          <p:nvPr/>
        </p:nvPicPr>
        <p:blipFill>
          <a:blip r:embed="rId4"/>
          <a:stretch/>
        </p:blipFill>
        <p:spPr>
          <a:xfrm>
            <a:off x="5943600" y="0"/>
            <a:ext cx="320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20081208021"/>
          <p:cNvPicPr/>
          <p:nvPr/>
        </p:nvPicPr>
        <p:blipFill>
          <a:blip r:embed="rId1"/>
          <a:stretch/>
        </p:blipFill>
        <p:spPr>
          <a:xfrm>
            <a:off x="0" y="0"/>
            <a:ext cx="10439280" cy="69595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有人曾说过，动荡年代最可怕的是战争，而和平年代最可怕的是车祸。你们知道吗？全球每年死于交通事故的人相当于一次中型战争的阵亡人数。据统计，我国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998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年交通事故平均每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秒发生一起，平均每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7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秒就有一人丧生。更让人不容忽视和痛心的是，少年儿童的死伤率在交通事故中呈逐年上升的趋势。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999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年，死于交通事故的儿童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389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人，占全年交通事故死亡人数的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%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交通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20081208021"/>
          <p:cNvPicPr/>
          <p:nvPr/>
        </p:nvPicPr>
        <p:blipFill>
          <a:blip r:embed="rId1"/>
          <a:stretch/>
        </p:blipFill>
        <p:spPr>
          <a:xfrm>
            <a:off x="0" y="0"/>
            <a:ext cx="10439280" cy="69595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有人曾说过，动荡年代最可怕的是战争，而和平年代最可怕的是车祸。你们知道吗？全球每年死于交通事故的人相当于一次中型战争的阵亡人数。据统计，我国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998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年交通事故平均每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50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秒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发生一起，平均每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分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7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秒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就有一人丧生。更让人不容忽视和痛心的是，少年儿童的死伤率在交通事故中呈逐年上升的趋势。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999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年，死于交通事故的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儿童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7389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人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占全年交通事故死亡人数的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9%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20081208021"/>
          <p:cNvPicPr/>
          <p:nvPr/>
        </p:nvPicPr>
        <p:blipFill>
          <a:blip r:embed="rId1"/>
          <a:stretch/>
        </p:blipFill>
        <p:spPr>
          <a:xfrm>
            <a:off x="0" y="0"/>
            <a:ext cx="10439280" cy="69595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>
            <a:hlinkClick r:id="rId2"/>
          </p:cNvPr>
          <p:cNvSpPr/>
          <p:nvPr/>
        </p:nvSpPr>
        <p:spPr>
          <a:xfrm>
            <a:off x="395280" y="1197000"/>
            <a:ext cx="9456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遵守交通规则，珍爱自己生命，善待他人生命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20081208021"/>
          <p:cNvPicPr/>
          <p:nvPr/>
        </p:nvPicPr>
        <p:blipFill>
          <a:blip r:embed="rId1"/>
          <a:stretch/>
        </p:blipFill>
        <p:spPr>
          <a:xfrm>
            <a:off x="0" y="0"/>
            <a:ext cx="10439280" cy="6959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94327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0" spc="-1" strike="noStrike">
                <a:solidFill>
                  <a:srgbClr val="ff0000"/>
                </a:solidFill>
                <a:latin typeface="Times New Roman"/>
              </a:rPr>
              <a:t>闯关大挑战：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20081208021"/>
          <p:cNvPicPr/>
          <p:nvPr/>
        </p:nvPicPr>
        <p:blipFill>
          <a:blip r:embed="rId1"/>
          <a:stretch/>
        </p:blipFill>
        <p:spPr>
          <a:xfrm>
            <a:off x="0" y="0"/>
            <a:ext cx="9144000" cy="69595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75708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宋体"/>
              </a:rPr>
              <a:t>辨一辨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2947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未满十二岁的儿童，可以在道路上骑自行车、三轮车和推、拉人力车。（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行人须在人行道内行走，没有人行道的靠路边行走。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横过车行道，须走人行横道。通过有交通信号控制的人行横道，须遵守信号的规定通过没有交通信号控制的人行横道，须注意车辆，不准追逐、猛跑。没有人行横道的，须直行通过，不准在车辆临近时突然横穿。有人行过街天桥或地道的，须走人行过街天桥或地道。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可以穿越、倚坐人行道、车行道和铁路道口的护栏。可以在道路上扒车、追车、强行拦车和抛物击车。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20081208021"/>
          <p:cNvPicPr/>
          <p:nvPr/>
        </p:nvPicPr>
        <p:blipFill>
          <a:blip r:embed="rId1"/>
          <a:stretch/>
        </p:blipFill>
        <p:spPr>
          <a:xfrm>
            <a:off x="0" y="0"/>
            <a:ext cx="9144000" cy="69595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75708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宋体"/>
              </a:rPr>
              <a:t>辨一辨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2947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未满十二岁的儿童，可以在道路上骑自行车、三轮车和推、拉人力车。（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错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行人须在人行道内行走，没有人行道的靠路边行走。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横过车行道，须走人行横道。通过有交通信号控制的人行横道，须遵守信号的规定通过没有交通信号控制的人行横道，须注意车辆，不准追逐、猛跑。没有人行横道的，须直行通过，不准在车辆临近时突然横穿。有人行过街天桥或地道的，须走人行过街天桥或地道。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可以穿越、倚坐人行道、车行道和铁路道口的护栏。可以在道路上扒车、追车、强行拦车和抛物击车。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20081208021"/>
          <p:cNvPicPr/>
          <p:nvPr/>
        </p:nvPicPr>
        <p:blipFill>
          <a:blip r:embed="rId1"/>
          <a:stretch/>
        </p:blipFill>
        <p:spPr>
          <a:xfrm>
            <a:off x="0" y="0"/>
            <a:ext cx="9144000" cy="6959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75708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宋体"/>
              </a:rPr>
              <a:t>辨一辨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2947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未满十二岁的儿童，可以在道路上骑自行车、三轮车和推、拉人力车。（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错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行人须在人行道内行走，没有人行道的靠路边行走。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正确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横过车行道，须走人行横道。通过有交通信号控制的人行横道，须遵守信号的规定通过没有交通信号控制的人行横道，须注意车辆，不准追逐、猛跑。没有人行横道的，须直行通过，不准在车辆临近时突然横穿。有人行过街天桥或地道的，须走人行过街天桥或地道。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可以穿越、倚坐人行道、车行道和铁路道口的护栏。可以在道路上扒车、追车、强行拦车和抛物击车。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20081208021"/>
          <p:cNvPicPr/>
          <p:nvPr/>
        </p:nvPicPr>
        <p:blipFill>
          <a:blip r:embed="rId1"/>
          <a:stretch/>
        </p:blipFill>
        <p:spPr>
          <a:xfrm>
            <a:off x="0" y="0"/>
            <a:ext cx="9144000" cy="6959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75708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宋体"/>
              </a:rPr>
              <a:t>辨一辨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2947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未满十二岁的儿童，可以在道路上骑自行车、三轮车和推、拉人力车。（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错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行人须在人行道内行走，没有人行道的靠路边行走。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正确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横过车行道，须走人行横道。通过有交通信号控制的人行横道，须遵守信号的规定通过没有交通信号控制的人行横道，须注意车辆，不准追逐、猛跑。没有人行横道的，须直行通过，不准在车辆临近时突然横穿。有人行过街天桥或地道的，须走人行过街天桥或地道。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正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可以穿越、倚坐人行道、车行道和铁路道口的护栏。可以在道路上扒车、追车、强行拦车和抛物击车。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20081208021"/>
          <p:cNvPicPr/>
          <p:nvPr/>
        </p:nvPicPr>
        <p:blipFill>
          <a:blip r:embed="rId1"/>
          <a:stretch/>
        </p:blipFill>
        <p:spPr>
          <a:xfrm>
            <a:off x="0" y="0"/>
            <a:ext cx="9144000" cy="69595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75708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宋体"/>
              </a:rPr>
              <a:t>辨一辨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2947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未满十二岁的儿童，可以在道路上骑自行车、三轮车和推、拉人力车。（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错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行人须在人行道内行走，没有人行道的靠路边行走。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正确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横过车行道，须走人行横道。通过有交通信号控制的人行横道，须遵守信号的规定通过没有交通信号控制的人行横道，须注意车辆，不准追逐、猛跑。没有人行横道的，须直行通过，不准在车辆临近时突然横穿。有人行过街天桥或地道的，须走人行过街天桥或地道。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正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可以穿越、倚坐人行道、车行道和铁路道口的护栏。可以在道路上扒车、追车、强行拦车和抛物击车。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错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20081208021"/>
          <p:cNvPicPr/>
          <p:nvPr/>
        </p:nvPicPr>
        <p:blipFill>
          <a:blip r:embed="rId1"/>
          <a:stretch/>
        </p:blipFill>
        <p:spPr>
          <a:xfrm>
            <a:off x="0" y="0"/>
            <a:ext cx="9144000" cy="69595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75708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宋体"/>
              </a:rPr>
              <a:t>辨一辨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2947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未满十二岁的儿童，可以在道路上骑自行车、三轮车和推、拉人力车。（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错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行人须在人行道内行走，没有人行道的靠路边行走。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正确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横过车行道，须走人行横道。通过有交通信号控制的人行横道，须遵守信号的规定通过没有交通信号控制的人行横道，须注意车辆，不准追逐、猛跑。没有人行横道的，须直行通过，不准在车辆临近时突然横穿。有人行过街天桥或地道的，须走人行过街天桥或地道。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正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可以穿越、倚坐人行道、车行道和铁路道口的护栏。可以在道路上扒车、追车、强行拦车和抛物击车。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错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20081208021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611280" y="26028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选一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042920" y="1341360"/>
            <a:ext cx="75614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过路口遇到黄灯时，我会（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正常行走通过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闯过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等几秒钟后再走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等绿灯亮了再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交通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3" descr="20081208021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611280" y="26028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选一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042920" y="1341360"/>
            <a:ext cx="75614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过路口遇到黄灯时，我会（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正常行走通过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闯过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等几秒钟后再走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等绿灯亮了再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3" descr="20081208021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611280" y="26028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选一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042920" y="1341360"/>
            <a:ext cx="75614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在农村公路上，我们（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可以追逐玩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可以顺着路边行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过马路要注意来往车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可以散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文本框 1"/>
          <p:cNvSpPr/>
          <p:nvPr/>
        </p:nvSpPr>
        <p:spPr>
          <a:xfrm>
            <a:off x="549360" y="6066000"/>
            <a:ext cx="79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3" descr="20081208021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611280" y="26028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选一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042920" y="1341360"/>
            <a:ext cx="75614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在农村公路上，我们（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可以追逐玩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可以顺着路边行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过马路要注意来往车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可以散步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课件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4FD1-E2BF-4C79-931E-D4B700BC670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07eb7e6f684bbb4"/>
          <p:cNvPicPr/>
          <p:nvPr/>
        </p:nvPicPr>
        <p:blipFill>
          <a:blip r:embed="rId1"/>
          <a:stretch/>
        </p:blipFill>
        <p:spPr>
          <a:xfrm>
            <a:off x="826920" y="1125360"/>
            <a:ext cx="3384720" cy="44658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187280" y="544500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  <a:ea typeface="黑体"/>
              </a:rPr>
              <a:t>非机动车车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26"/>
          <p:cNvPicPr/>
          <p:nvPr/>
        </p:nvPicPr>
        <p:blipFill>
          <a:blip r:embed="rId2"/>
          <a:stretch/>
        </p:blipFill>
        <p:spPr>
          <a:xfrm>
            <a:off x="4859280" y="1052640"/>
            <a:ext cx="3888000" cy="4535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5813640" y="5391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ff"/>
                </a:solidFill>
                <a:latin typeface="Arial"/>
                <a:ea typeface="华文新魏"/>
              </a:rPr>
              <a:t>机动车车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84360" y="18900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Times New Roman"/>
              </a:rPr>
              <a:t>指示标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20081208021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59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1"/>
          <p:cNvSpPr/>
          <p:nvPr/>
        </p:nvSpPr>
        <p:spPr>
          <a:xfrm>
            <a:off x="1756080" y="2347920"/>
            <a:ext cx="5637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警告标志黄与黑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告知车辆要守规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指示标志蓝与白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十字路口莫徘徊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禁令标志红与黑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严格遵守不犯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468360" y="404640"/>
            <a:ext cx="44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拍手念一念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468360" y="8366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20081208021"/>
          <p:cNvPicPr/>
          <p:nvPr/>
        </p:nvPicPr>
        <p:blipFill>
          <a:blip r:embed="rId1"/>
          <a:stretch/>
        </p:blipFill>
        <p:spPr>
          <a:xfrm>
            <a:off x="-108000" y="-76320"/>
            <a:ext cx="9433080" cy="6959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1"/>
          <p:cNvPicPr/>
          <p:nvPr/>
        </p:nvPicPr>
        <p:blipFill>
          <a:blip r:embed="rId2"/>
          <a:stretch/>
        </p:blipFill>
        <p:spPr>
          <a:xfrm>
            <a:off x="0" y="404640"/>
            <a:ext cx="34416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20081208021"/>
          <p:cNvPicPr/>
          <p:nvPr/>
        </p:nvPicPr>
        <p:blipFill>
          <a:blip r:embed="rId1"/>
          <a:stretch/>
        </p:blipFill>
        <p:spPr>
          <a:xfrm>
            <a:off x="-684360" y="-101520"/>
            <a:ext cx="10439640" cy="6959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1"/>
          <p:cNvPicPr/>
          <p:nvPr/>
        </p:nvPicPr>
        <p:blipFill>
          <a:blip r:embed="rId2"/>
          <a:stretch/>
        </p:blipFill>
        <p:spPr>
          <a:xfrm>
            <a:off x="-541440" y="476280"/>
            <a:ext cx="3441960" cy="54007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2340000" y="403560"/>
            <a:ext cx="7416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红绿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红绿灯，眨眼睛，走路千万要认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红灯亮了快停下，不和左右起摩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黄眼睛，眨一眨，告诉大家准备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绿灯亮了开步走，还要注意左右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红绿灯，要遵守，争当文明好市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20081208021"/>
          <p:cNvPicPr/>
          <p:nvPr/>
        </p:nvPicPr>
        <p:blipFill>
          <a:blip r:embed="rId1"/>
          <a:stretch/>
        </p:blipFill>
        <p:spPr>
          <a:xfrm>
            <a:off x="-685800" y="-76320"/>
            <a:ext cx="10439280" cy="6959880"/>
          </a:xfrm>
          <a:prstGeom prst="rect">
            <a:avLst/>
          </a:prstGeom>
          <a:ln w="0">
            <a:noFill/>
          </a:ln>
        </p:spPr>
      </p:pic>
      <p:pic>
        <p:nvPicPr>
          <p:cNvPr id="79" name="society3_034.wmv" descr=""/>
          <p:cNvPicPr/>
          <p:nvPr/>
        </p:nvPicPr>
        <p:blipFill>
          <a:blip r:embed="rId2"/>
          <a:stretch/>
        </p:blipFill>
        <p:spPr>
          <a:xfrm>
            <a:off x="-181080" y="0"/>
            <a:ext cx="9145800" cy="67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288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0081208021"/>
          <p:cNvPicPr/>
          <p:nvPr/>
        </p:nvPicPr>
        <p:blipFill>
          <a:blip r:embed="rId1"/>
          <a:stretch/>
        </p:blipFill>
        <p:spPr>
          <a:xfrm>
            <a:off x="0" y="0"/>
            <a:ext cx="10439280" cy="69595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6" descr="图片1"/>
          <p:cNvPicPr/>
          <p:nvPr/>
        </p:nvPicPr>
        <p:blipFill>
          <a:blip r:embed="rId2"/>
          <a:stretch/>
        </p:blipFill>
        <p:spPr>
          <a:xfrm>
            <a:off x="196920" y="620640"/>
            <a:ext cx="100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23:54:5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0:30Z</dcterms:modified>
  <cp:revision>4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