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44AD-7503-4C2D-AC61-584E4F417A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F1D4-B1A5-4B8F-B7B3-9EE1E6824D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DEA-5DDD-461B-A42E-B8A1FE57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E22-B524-4A63-BE3C-46952E34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450-D453-4284-B831-284950CD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C90-7693-46A4-95AD-18AA2AC0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FFF-F947-4D4C-BC95-3D397FBC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E44-3ED5-463D-9109-97A4271A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E53-F11D-4478-9929-FFFA73EB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67C-E16D-489D-A641-0A6F1F0A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B487-7F94-4942-AAE5-C7781219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E0D-7E22-4FFB-B16E-EA3EECB2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752-4109-4D9C-8EB8-EBDD7446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5BE-3723-4025-B378-4B3F1015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6FC0-B527-4EAF-983F-3349C39E4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2.xml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sports.xd990.net/xsport/index_1.htm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chinawater.com.cn/newscenter/tpbd/20020720/200207200040.htm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www.fly-ober-grass.com/docc/panyan.htm" TargetMode="External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" descr="t0119d8217edd32dd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3" descr=""/>
          <p:cNvPicPr/>
          <p:nvPr/>
        </p:nvPicPr>
        <p:blipFill>
          <a:blip r:embed="rId2"/>
          <a:stretch/>
        </p:blipFill>
        <p:spPr>
          <a:xfrm>
            <a:off x="630360" y="1123920"/>
            <a:ext cx="788508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矩形 4" descr=""/>
          <p:cNvPicPr/>
          <p:nvPr/>
        </p:nvPicPr>
        <p:blipFill>
          <a:blip r:embed="rId3"/>
          <a:stretch/>
        </p:blipFill>
        <p:spPr>
          <a:xfrm>
            <a:off x="1424160" y="5661000"/>
            <a:ext cx="6402240" cy="560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" descr="9252150_201409455377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放声读第二自然段，思考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者从哪几个方面介绍爬山虎的叶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从哪里体会到叶子的美，画出相关的句子，读一读，说说你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2005629143588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01005191055263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06101244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11280" y="69228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爬山虎刚长出来的叶子是嫩红的，不几天叶子长大，就变成嫩绿的。爬山虎的嫩叶不大引人注意，引人注意的是长大了的叶子。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那些叶子绿得那么新鲜，看着非常舒服，叶尖一顺儿朝下，在墙上铺得那么均匀，没有重叠起来的，也不留一点儿空隙。一阵风拂过，一墙的叶子就漾起波纹，好看得很</a:t>
            </a:r>
            <a:r>
              <a:rPr b="1" lang="zh-CN" sz="4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7451640" y="638172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叶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24000" y="69228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刚长出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134136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不几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2627280" y="2565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长大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227640" y="6922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嫩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227640" y="1341360"/>
            <a:ext cx="23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嫩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11280" y="260280"/>
            <a:ext cx="129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6443640" y="3141720"/>
            <a:ext cx="1728720" cy="0"/>
          </a:xfrm>
          <a:prstGeom prst="line">
            <a:avLst/>
          </a:prstGeom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V="1">
            <a:off x="826920" y="3715920"/>
            <a:ext cx="7129800" cy="144360"/>
          </a:xfrm>
          <a:prstGeom prst="line">
            <a:avLst/>
          </a:prstGeom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755640" y="4437000"/>
            <a:ext cx="7345440" cy="0"/>
          </a:xfrm>
          <a:prstGeom prst="line">
            <a:avLst/>
          </a:prstGeom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900000" y="5084640"/>
            <a:ext cx="7201080" cy="0"/>
          </a:xfrm>
          <a:prstGeom prst="line">
            <a:avLst/>
          </a:prstGeom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755640" y="5734080"/>
            <a:ext cx="1441440" cy="0"/>
          </a:xfrm>
          <a:prstGeom prst="line">
            <a:avLst/>
          </a:prstGeom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 flipV="1">
            <a:off x="3132000" y="5660640"/>
            <a:ext cx="4896000" cy="71640"/>
          </a:xfrm>
          <a:prstGeom prst="line">
            <a:avLst/>
          </a:prstGeom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684360" y="6453360"/>
            <a:ext cx="4895640" cy="0"/>
          </a:xfrm>
          <a:prstGeom prst="line">
            <a:avLst/>
          </a:prstGeom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8317080" y="620640"/>
            <a:ext cx="50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颜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8388360" y="278136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8353440" y="530064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755640" y="1268280"/>
            <a:ext cx="7777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些叶子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绿得那么新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让人看着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非常舒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还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一顺儿朝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均匀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铺在墙上，没有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重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也不留一点儿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空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一阵风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拂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墙的叶子就</a:t>
            </a:r>
            <a:r>
              <a:rPr b="1" lang="zh-CN" sz="36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漾起波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好看得很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0060811200736m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(15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7">
            <a:hlinkClick r:id="rId2" action="ppaction://hlinksldjump"/>
          </p:cNvPr>
          <p:cNvSpPr/>
          <p:nvPr/>
        </p:nvSpPr>
        <p:spPr>
          <a:xfrm>
            <a:off x="1763640" y="6381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10800"/>
                </a:moveTo>
                <a:lnTo>
                  <a:pt x="26584" y="3794"/>
                </a:lnTo>
                <a:lnTo>
                  <a:pt x="265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462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本文描写了爬山虎（                    ） 、 （           ）以及（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爬山虎刚长出来的叶子是（           ），过几天长出的叶子变成了（           ），这些叶子不太（              ），长大了的叶子绿得那么（        ），看着非常（           ）。叶尖（                   ），在墙上铺得那么（        ），没有（               ），也不留一点（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932360" y="1052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生长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332000" y="1628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叶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211640" y="155736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012000" y="2060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嫩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651640" y="2637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嫩绿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132000" y="3068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引人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340000" y="3573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新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6156360" y="3645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舒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979640" y="4005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一顺儿朝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116000" y="4508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均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4067280" y="4581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重叠起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619280" y="5084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缝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放声朗读课文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—5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自然段，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画出描写爬山虎脚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位置、形状、颜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句子，读一读，再用自己的话说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爬山虎是怎样一脚一脚往上爬的？画出相关的句子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圈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词语。说说你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爬山虎与墙的关系怎样，你从哪知道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rId1" action="ppaction://hlinksldjump"/>
          </p:cNvPr>
          <p:cNvSpPr/>
          <p:nvPr/>
        </p:nvSpPr>
        <p:spPr>
          <a:xfrm>
            <a:off x="1042920" y="6093000"/>
            <a:ext cx="289080" cy="504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4720"/>
              <a:gd name="textAreaBottom" fmla="*/ 486000 h 504720"/>
            </a:gdLst>
            <a:ahLst/>
            <a:rect l="textAreaLeft" t="textAreaTop" r="textAreaRight" b="textAreaBottom"/>
            <a:pathLst>
              <a:path w="21600" h="37693">
                <a:moveTo>
                  <a:pt x="0" y="0"/>
                </a:moveTo>
                <a:lnTo>
                  <a:pt x="21600" y="0"/>
                </a:lnTo>
                <a:lnTo>
                  <a:pt x="21600" y="37693"/>
                </a:lnTo>
                <a:lnTo>
                  <a:pt x="0" y="37693"/>
                </a:lnTo>
                <a:close/>
              </a:path>
              <a:path fill="lightenLess" w="21600" h="37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93">
                <a:moveTo>
                  <a:pt x="21600" y="0"/>
                </a:moveTo>
                <a:lnTo>
                  <a:pt x="21600" y="37693"/>
                </a:lnTo>
                <a:lnTo>
                  <a:pt x="20200" y="36293"/>
                </a:lnTo>
                <a:lnTo>
                  <a:pt x="20200" y="1400"/>
                </a:lnTo>
                <a:close/>
              </a:path>
              <a:path fill="darkenLess" w="21600" h="37693">
                <a:moveTo>
                  <a:pt x="21600" y="37693"/>
                </a:moveTo>
                <a:lnTo>
                  <a:pt x="0" y="37693"/>
                </a:lnTo>
                <a:lnTo>
                  <a:pt x="1400" y="36293"/>
                </a:lnTo>
                <a:lnTo>
                  <a:pt x="20200" y="36293"/>
                </a:lnTo>
                <a:close/>
              </a:path>
              <a:path fill="lighten" w="21600" h="37693">
                <a:moveTo>
                  <a:pt x="0" y="37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>
            <a:hlinkClick r:id="rId2" action="ppaction://hlinksldjump"/>
          </p:cNvPr>
          <p:cNvSpPr/>
          <p:nvPr/>
        </p:nvSpPr>
        <p:spPr>
          <a:xfrm>
            <a:off x="1692360" y="6093000"/>
            <a:ext cx="287280" cy="504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4720"/>
              <a:gd name="textAreaBottom" fmla="*/ 486360 h 504720"/>
            </a:gdLst>
            <a:ahLst/>
            <a:rect l="textAreaLeft" t="textAreaTop" r="textAreaRight" b="textAreaBottom"/>
            <a:pathLst>
              <a:path w="21600" h="37928">
                <a:moveTo>
                  <a:pt x="0" y="0"/>
                </a:moveTo>
                <a:lnTo>
                  <a:pt x="21600" y="0"/>
                </a:lnTo>
                <a:lnTo>
                  <a:pt x="21600" y="37928"/>
                </a:lnTo>
                <a:lnTo>
                  <a:pt x="0" y="37928"/>
                </a:lnTo>
                <a:close/>
              </a:path>
              <a:path fill="lightenLess" w="21600" h="37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28">
                <a:moveTo>
                  <a:pt x="21600" y="0"/>
                </a:moveTo>
                <a:lnTo>
                  <a:pt x="21600" y="37928"/>
                </a:lnTo>
                <a:lnTo>
                  <a:pt x="20200" y="36528"/>
                </a:lnTo>
                <a:lnTo>
                  <a:pt x="20200" y="1400"/>
                </a:lnTo>
                <a:close/>
              </a:path>
              <a:path fill="darkenLess" w="21600" h="37928">
                <a:moveTo>
                  <a:pt x="21600" y="37928"/>
                </a:moveTo>
                <a:lnTo>
                  <a:pt x="0" y="37928"/>
                </a:lnTo>
                <a:lnTo>
                  <a:pt x="1400" y="36528"/>
                </a:lnTo>
                <a:lnTo>
                  <a:pt x="20200" y="36528"/>
                </a:lnTo>
                <a:close/>
              </a:path>
              <a:path fill="lighten" w="21600" h="37928">
                <a:moveTo>
                  <a:pt x="0" y="37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>
            <a:hlinkClick r:id="rId3" action="ppaction://hlinksldjump"/>
          </p:cNvPr>
          <p:cNvSpPr/>
          <p:nvPr/>
        </p:nvSpPr>
        <p:spPr>
          <a:xfrm>
            <a:off x="2411280" y="602136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" descr="9252150_201409455377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805968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爬山虎”是一种攀援在墙壁上的供观赏的植物。也叫巴山虎、常春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SC04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爬山虎的脚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长在茎上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。茎上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长叶柄</a:t>
            </a:r>
            <a:r>
              <a:rPr b="1" lang="zh-CN" sz="4400" spc="-1" strike="noStrike" u="sng">
                <a:solidFill>
                  <a:srgbClr val="006600"/>
                </a:solidFill>
                <a:uFillTx/>
                <a:latin typeface="楷体_GB2312"/>
                <a:ea typeface="楷体_GB2312"/>
              </a:rPr>
              <a:t>的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地方，</a:t>
            </a:r>
            <a:r>
              <a:rPr b="1" lang="zh-CN" sz="4400" spc="-1" strike="noStrike" u="sng">
                <a:solidFill>
                  <a:srgbClr val="006600"/>
                </a:solidFill>
                <a:uFillTx/>
                <a:latin typeface="楷体_GB2312"/>
                <a:ea typeface="楷体_GB2312"/>
              </a:rPr>
              <a:t>反面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伸出枝状的六七根细丝，</a:t>
            </a:r>
            <a:r>
              <a:rPr b="1" lang="zh-CN" sz="4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每根细丝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像</a:t>
            </a:r>
            <a:r>
              <a:rPr b="1" lang="zh-CN" sz="4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蜗牛的触角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。细丝跟新叶子一样，也是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嫩红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的。这就是爬山虎的脚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148360" y="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028000" y="2349360"/>
            <a:ext cx="11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059280" y="386064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颜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144_5_5de1b319373ec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4">
            <a:hlinkClick r:id="rId2" action="ppaction://hlinksldjump"/>
          </p:cNvPr>
          <p:cNvSpPr/>
          <p:nvPr/>
        </p:nvSpPr>
        <p:spPr>
          <a:xfrm>
            <a:off x="817236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55280" y="2205000"/>
            <a:ext cx="80024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爬山虎的脚       墙的时候，六七根细丝的头上就变成小圆片，巴住墙。细丝原先是直的，现在弯曲了，把爬山虎的嫩茎拉一把，使它紧贴在墙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3"/>
          <p:cNvSpPr/>
          <p:nvPr/>
        </p:nvSpPr>
        <p:spPr>
          <a:xfrm>
            <a:off x="1116000" y="4508640"/>
            <a:ext cx="503280" cy="504720"/>
          </a:xfrm>
          <a:prstGeom prst="ellips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5580000" y="3141720"/>
            <a:ext cx="576360" cy="503280"/>
          </a:xfrm>
          <a:prstGeom prst="ellips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3995640" y="2421000"/>
            <a:ext cx="505080" cy="504720"/>
          </a:xfrm>
          <a:prstGeom prst="ellips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924360" y="2349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4643280" y="1052640"/>
            <a:ext cx="720720" cy="504720"/>
          </a:xfrm>
          <a:prstGeom prst="rightArrow">
            <a:avLst>
              <a:gd name="adj1" fmla="val 50000"/>
              <a:gd name="adj2" fmla="val 35679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1332000" y="404640"/>
            <a:ext cx="2592000" cy="1656000"/>
            <a:chOff x="1332000" y="404640"/>
            <a:chExt cx="2592000" cy="1656000"/>
          </a:xfrm>
        </p:grpSpPr>
        <p:pic>
          <p:nvPicPr>
            <p:cNvPr id="154" name="Picture 9" descr="1-0Z9291PF5-lp"/>
            <p:cNvPicPr/>
            <p:nvPr/>
          </p:nvPicPr>
          <p:blipFill>
            <a:blip r:embed="rId1"/>
            <a:stretch/>
          </p:blipFill>
          <p:spPr>
            <a:xfrm>
              <a:off x="1332000" y="404640"/>
              <a:ext cx="259200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Oval 10"/>
            <p:cNvSpPr/>
            <p:nvPr/>
          </p:nvSpPr>
          <p:spPr>
            <a:xfrm>
              <a:off x="1629000" y="476280"/>
              <a:ext cx="1036440" cy="792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1"/>
          <p:cNvGrpSpPr/>
          <p:nvPr/>
        </p:nvGrpSpPr>
        <p:grpSpPr>
          <a:xfrm>
            <a:off x="5940360" y="404640"/>
            <a:ext cx="2322720" cy="1656000"/>
            <a:chOff x="5940360" y="404640"/>
            <a:chExt cx="2322720" cy="1656000"/>
          </a:xfrm>
        </p:grpSpPr>
        <p:pic>
          <p:nvPicPr>
            <p:cNvPr id="157" name="Picture 12" descr="脚２"/>
            <p:cNvPicPr/>
            <p:nvPr/>
          </p:nvPicPr>
          <p:blipFill>
            <a:blip r:embed="rId2"/>
            <a:stretch/>
          </p:blipFill>
          <p:spPr>
            <a:xfrm>
              <a:off x="5940360" y="404640"/>
              <a:ext cx="232272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Oval 13"/>
            <p:cNvSpPr/>
            <p:nvPr/>
          </p:nvSpPr>
          <p:spPr>
            <a:xfrm>
              <a:off x="7164360" y="476280"/>
              <a:ext cx="1008000" cy="72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Oval 14"/>
          <p:cNvSpPr/>
          <p:nvPr/>
        </p:nvSpPr>
        <p:spPr>
          <a:xfrm>
            <a:off x="3995640" y="4508640"/>
            <a:ext cx="503280" cy="504720"/>
          </a:xfrm>
          <a:prstGeom prst="ellipse">
            <a:avLst/>
          </a:pr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>
            <a:hlinkClick r:id="rId3" action="ppaction://hlinksldjump"/>
          </p:cNvPr>
          <p:cNvSpPr/>
          <p:nvPr/>
        </p:nvSpPr>
        <p:spPr>
          <a:xfrm>
            <a:off x="738036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爬山虎的脚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爬山虎的脚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24000" y="2060640"/>
            <a:ext cx="849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爬山虎就是这样一脚一脚地往上爬。如果你仔细观察那些细小的脚，你会想起图画上蛟龙的爪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>
            <a:hlinkClick r:id="rId1" action="ppaction://hlinksldjump"/>
          </p:cNvPr>
          <p:cNvSpPr/>
          <p:nvPr/>
        </p:nvSpPr>
        <p:spPr>
          <a:xfrm>
            <a:off x="7020000" y="566100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3794" y="12135"/>
                </a:moveTo>
                <a:lnTo>
                  <a:pt x="17806" y="5128"/>
                </a:lnTo>
                <a:lnTo>
                  <a:pt x="17806" y="191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与墙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58716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爬山虎的脚要是没触着墙，不几天就萎了，后来连痕迹也没有了。触着墙的，细丝和小圆片逐渐变成灰色。不要瞧不起那些灰色的脚，那些脚巴在墙上相当牢固，要是你的手指不费一点儿劲，休想拉下爬山虎的一根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orders39"/>
          <p:cNvPicPr/>
          <p:nvPr/>
        </p:nvPicPr>
        <p:blipFill>
          <a:blip r:embed="rId1"/>
          <a:stretch/>
        </p:blipFill>
        <p:spPr>
          <a:xfrm>
            <a:off x="0" y="0"/>
            <a:ext cx="1571760" cy="65246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6">
            <a:hlinkClick r:id="rId2" action="ppaction://hlinksldjump"/>
          </p:cNvPr>
          <p:cNvSpPr/>
          <p:nvPr/>
        </p:nvSpPr>
        <p:spPr>
          <a:xfrm>
            <a:off x="7740720" y="609300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爬山虎的脚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79280" y="130320"/>
            <a:ext cx="8785440" cy="65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会填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爬山虎的脚（　　）着墙的时候，六七根细丝的头上就（　　）成小圆片，（　　）住墙。细丝原先是直的，现在弯曲了，把爬山虎的嫩茎（　　）一把，使它紧（　　）在墙上。爬山虎就是这样一脚一脚的往上（　　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0" y="1052640"/>
            <a:ext cx="8686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爬山虎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刚长出来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的叶子是嫩红的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不几天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叶子长大，就变成嫩绿的。爬山虎的嫩叶不大引人注意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引人注意的是长大了的叶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50920" y="2708280"/>
            <a:ext cx="84978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丝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原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直的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现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弯曲了，把爬山虎的嫩茎拉一把，使它紧贴在墙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5560" y="4292640"/>
            <a:ext cx="8624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爬山虎的脚要是没触着墙，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不几天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就萎了，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后来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连痕迹也没有了。触着墙的，细丝和小圆片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逐渐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变成灰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>
            <a:hlinkClick r:id="rId1" action="ppaction://hlinksldjump"/>
          </p:cNvPr>
          <p:cNvSpPr/>
          <p:nvPr/>
        </p:nvSpPr>
        <p:spPr>
          <a:xfrm>
            <a:off x="759636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、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爬山虎的叶子的叶尖为什么一顺儿朝下呢？为什么“在墙上铺得那么均匀，没有重叠起来的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从文中哪些地方看出作者连续观察了很长时间？说说你的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971640" y="57340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1692360" y="580536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k"/>
          <p:cNvPicPr/>
          <p:nvPr/>
        </p:nvPicPr>
        <p:blipFill>
          <a:blip r:embed="rId1"/>
          <a:stretch/>
        </p:blipFill>
        <p:spPr>
          <a:xfrm>
            <a:off x="0" y="0"/>
            <a:ext cx="3132000" cy="39481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3564000" y="692280"/>
            <a:ext cx="53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叶圣陶（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1894-1988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）， 现代作家、儿童文学作家、教育家。原名绍钧，字圣陶。江苏苏州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374920" y="3284640"/>
            <a:ext cx="676908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曾写过以下童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稻草人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旅行家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小白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古代英雄的石像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粒种子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皇帝的新衣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玫瑰和金鱼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月亮姑娘的亲事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含羞草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快乐的人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爬山虎的脚有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爬山虎的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脚长在茎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每片叶子长叶柄的地方的反面都有脚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每个脚都是在拉着茎和叶子往上爬，我想这是爬山虎能够爬满墙，而且“叶尖一顺朝下”，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在墙上铺得那么均匀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没有重叠起来的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的主要原因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实叶子是有稍些重叠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叶尖是绝不会重叠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且据观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些新叶子叶尖朝上也有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叶尖一顺儿朝下是指长大了的叶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所以这样还是脚的关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>
            <a:hlinkClick r:id="rId1" action="ppaction://hlinksldjump"/>
          </p:cNvPr>
          <p:cNvSpPr/>
          <p:nvPr/>
        </p:nvSpPr>
        <p:spPr>
          <a:xfrm>
            <a:off x="7524720" y="6381720"/>
            <a:ext cx="576360" cy="142920"/>
          </a:xfrm>
          <a:custGeom>
            <a:avLst/>
            <a:gdLst>
              <a:gd name="textAreaLeft" fmla="*/ 9000 w 576360"/>
              <a:gd name="textAreaRight" fmla="*/ 567360 w 57636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943" h="21600">
                <a:moveTo>
                  <a:pt x="0" y="0"/>
                </a:moveTo>
                <a:lnTo>
                  <a:pt x="86943" y="0"/>
                </a:lnTo>
                <a:lnTo>
                  <a:pt x="86943" y="21600"/>
                </a:lnTo>
                <a:lnTo>
                  <a:pt x="0" y="21600"/>
                </a:lnTo>
                <a:close/>
              </a:path>
              <a:path fill="lightenLess" w="86943" h="21600">
                <a:moveTo>
                  <a:pt x="0" y="0"/>
                </a:moveTo>
                <a:lnTo>
                  <a:pt x="86943" y="0"/>
                </a:lnTo>
                <a:lnTo>
                  <a:pt x="85543" y="1400"/>
                </a:lnTo>
                <a:lnTo>
                  <a:pt x="1400" y="1400"/>
                </a:lnTo>
                <a:close/>
              </a:path>
              <a:path fill="darken" w="86943" h="21600">
                <a:moveTo>
                  <a:pt x="86943" y="0"/>
                </a:moveTo>
                <a:lnTo>
                  <a:pt x="86943" y="21600"/>
                </a:lnTo>
                <a:lnTo>
                  <a:pt x="85543" y="20200"/>
                </a:lnTo>
                <a:lnTo>
                  <a:pt x="85543" y="1400"/>
                </a:lnTo>
                <a:close/>
              </a:path>
              <a:path fill="darkenLess" w="86943" h="21600">
                <a:moveTo>
                  <a:pt x="86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543" y="20200"/>
                </a:lnTo>
                <a:close/>
              </a:path>
              <a:path fill="lighten" w="86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943" h="21600">
                <a:moveTo>
                  <a:pt x="36465" y="10800"/>
                </a:moveTo>
                <a:lnTo>
                  <a:pt x="50478" y="3794"/>
                </a:lnTo>
                <a:lnTo>
                  <a:pt x="5047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R40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1447920" y="1676520"/>
            <a:ext cx="609588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拓展练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人类有哪些方面模仿了爬山虎的脚攀爬的原理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"/>
          <p:cNvSpPr/>
          <p:nvPr/>
        </p:nvSpPr>
        <p:spPr>
          <a:xfrm>
            <a:off x="2773440" y="4805280"/>
            <a:ext cx="54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28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6"/>
          <p:cNvGrpSpPr/>
          <p:nvPr/>
        </p:nvGrpSpPr>
        <p:grpSpPr>
          <a:xfrm>
            <a:off x="147600" y="2840040"/>
            <a:ext cx="8848800" cy="1174680"/>
            <a:chOff x="147600" y="2840040"/>
            <a:chExt cx="8848800" cy="1174680"/>
          </a:xfrm>
        </p:grpSpPr>
        <p:sp>
          <p:nvSpPr>
            <p:cNvPr id="187" name="Rectangle 5"/>
            <p:cNvSpPr/>
            <p:nvPr/>
          </p:nvSpPr>
          <p:spPr>
            <a:xfrm>
              <a:off x="147600" y="2840040"/>
              <a:ext cx="8848800" cy="11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"/>
            <p:cNvSpPr/>
            <p:nvPr/>
          </p:nvSpPr>
          <p:spPr>
            <a:xfrm>
              <a:off x="147600" y="2840040"/>
              <a:ext cx="8848800" cy="11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7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4" descr="57"/>
          <p:cNvPicPr/>
          <p:nvPr/>
        </p:nvPicPr>
        <p:blipFill>
          <a:blip r:embed="rId1"/>
          <a:stretch/>
        </p:blipFill>
        <p:spPr>
          <a:xfrm>
            <a:off x="533520" y="3581280"/>
            <a:ext cx="3352680" cy="29829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>
            <a:off x="34113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7983360" y="2629080"/>
            <a:ext cx="360" cy="360"/>
            <a:chOff x="7983360" y="2629080"/>
            <a:chExt cx="360" cy="360"/>
          </a:xfrm>
        </p:grpSpPr>
        <p:sp>
          <p:nvSpPr>
            <p:cNvPr id="192" name="Rectangle 12"/>
            <p:cNvSpPr/>
            <p:nvPr/>
          </p:nvSpPr>
          <p:spPr>
            <a:xfrm>
              <a:off x="7983360" y="262908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1"/>
            <p:cNvGrpSpPr/>
            <p:nvPr/>
          </p:nvGrpSpPr>
          <p:grpSpPr>
            <a:xfrm>
              <a:off x="7983360" y="2629080"/>
              <a:ext cx="360" cy="360"/>
              <a:chOff x="7983360" y="2629080"/>
              <a:chExt cx="360" cy="360"/>
            </a:xfrm>
          </p:grpSpPr>
          <p:sp>
            <p:nvSpPr>
              <p:cNvPr id="194" name="Rectangle 8"/>
              <p:cNvSpPr/>
              <p:nvPr/>
            </p:nvSpPr>
            <p:spPr>
              <a:xfrm>
                <a:off x="7983360" y="262908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7983360" y="262908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6" name="Picture 10" descr="yangjing"/>
          <p:cNvPicPr/>
          <p:nvPr/>
        </p:nvPicPr>
        <p:blipFill>
          <a:blip r:embed="rId2"/>
          <a:stretch/>
        </p:blipFill>
        <p:spPr>
          <a:xfrm>
            <a:off x="5181480" y="3745080"/>
            <a:ext cx="3581640" cy="280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9" descr="img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304920"/>
            <a:ext cx="2209680" cy="2903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200207200040_951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380880"/>
            <a:ext cx="2114640" cy="281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3" descr="panyan-2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52680" y="304920"/>
            <a:ext cx="2222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46BB-1A53-496B-84EF-8FAF154B93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6840" y="155736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虎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hǔ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爬山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占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à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占据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均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jūn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均匀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均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叠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d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é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重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354560" y="1557360"/>
            <a:ext cx="432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茎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jīng</a:t>
            </a: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茎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柄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bǐng</a:t>
            </a: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叶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触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接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痕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痕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逐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z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ú</a:t>
            </a: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逐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orders39"/>
          <p:cNvPicPr/>
          <p:nvPr/>
        </p:nvPicPr>
        <p:blipFill>
          <a:blip r:embed="rId1"/>
          <a:stretch/>
        </p:blipFill>
        <p:spPr>
          <a:xfrm>
            <a:off x="-95400" y="73080"/>
            <a:ext cx="1571760" cy="65246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5">
            <a:hlinkClick r:id="rId2" action="ppaction://hlinksldjump"/>
          </p:cNvPr>
          <p:cNvSpPr/>
          <p:nvPr/>
        </p:nvSpPr>
        <p:spPr>
          <a:xfrm>
            <a:off x="8028000" y="6093000"/>
            <a:ext cx="720720" cy="5029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1" descr="9252150_201409455377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均匀       茎叶       叶柄        蛟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爬山虎     空隙    枯萎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372360" y="112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ji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627280" y="2492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kò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627280" y="400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k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627280" y="4653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611280" y="105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jūn    y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2771640" y="1125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jī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4572000" y="119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ǐ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" descr="6345d84ejw1dmz5zhikw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考考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比谁的眼睛最亮，找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错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嫩茎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ī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           痕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é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铺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平              蛟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iā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匀       老虑       站领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3" descr="9252150_201409455377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684360" y="1844640"/>
            <a:ext cx="77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知道课文主要讲了爬山虎的什么吗？读一读课文，找出答案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9" descr="6345d84ejw1dmz5zhikw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爬山虎生长的地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50920" y="32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爬山虎生长的叶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95280" y="47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爬山虎生长的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724360" y="765000"/>
            <a:ext cx="18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435640" y="206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435640" y="3716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219640" y="5013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--5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31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生长的位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4400" y="165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校操场北边墙上满是爬山虎。我家也有爬山虎，从小院的西墙爬上去，在房顶上占了一大片地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borders39"/>
          <p:cNvPicPr/>
          <p:nvPr/>
        </p:nvPicPr>
        <p:blipFill>
          <a:blip r:embed="rId1"/>
          <a:stretch/>
        </p:blipFill>
        <p:spPr>
          <a:xfrm>
            <a:off x="0" y="0"/>
            <a:ext cx="1571760" cy="6524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7334280" y="168264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满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957920" y="240336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也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868480" y="513864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爬山虎很常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3:16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2:58Z</dcterms:modified>
  <cp:revision>7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