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7.gif" ContentType="image/gif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11.gif" ContentType="image/gif"/>
  <Override PartName="/ppt/media/image5.png" ContentType="image/png"/>
  <Override PartName="/ppt/media/image10.png" ContentType="image/png"/>
  <Override PartName="/ppt/media/image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chimes.wav" ContentType="audio/x-wav"/>
  <Override PartName="/ppt/media/wind.wav" ContentType="audio/x-wav"/>
  <Override PartName="/ppt/media/camera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F01-7648-4F91-BE95-1977496A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C1E-21F0-49EC-B90B-214A0DDD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9EB42-5CF5-4E82-B910-5F85E0FC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CA104-DEDE-4081-A966-058050A0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92528-0DC4-412F-9A46-AD9A3DE2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C8354-B19D-45BA-BE3F-B60D6FD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5BCC5-BD6F-44C7-B63C-B23C423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B31E8-062E-4EF0-90A2-062A1EEB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97EFF-B2D1-46C5-B333-8F0D4C48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BD984-4861-4930-8AB9-EC7AAB01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F6099-2B07-405D-988E-EEACD203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FC7FE-53FE-4B12-BE90-D596D13E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C5C-6452-445E-A48B-83195D34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FF9DE-E436-4B4E-AB78-D0CA486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34E0A-E884-488E-AE00-52580876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04634-0BA7-449C-8D34-1CF1CAA4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799EA-5457-49DB-A867-9EFDCDCC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D90FD-3DE4-437C-943E-515098B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677CE-2E18-4751-83A3-50E8614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17472-D0AC-4C8E-AA75-0FB413E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6401D-2C8C-4BEB-AA00-00C7F1A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42A9C-6F2D-4FEC-8D76-40ED2AD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E8E0D-A0B4-4B16-AB33-A9EEA1B7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46F-F181-4602-8553-9FFC3736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9CD2F-3606-48E4-9303-2E085C60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24357-D479-445D-8E56-2783DDDA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B9C85-1DD9-403B-AD4C-5DC57862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F64D5-1ADF-44F9-A77E-09AB3E5E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11F1F-74D1-49B8-A30C-7BA2CEEF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47F74-C277-4B3D-9E81-1AB55F74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39CBF-5FDC-4490-A5AE-ADE1136A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394AD-503D-4168-B406-E0F994DE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5A63F-6EA0-4197-A344-D64ECA2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4421C-DDA0-4745-86DD-7406F47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9C41-E8F2-491F-9D2F-8197DAED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1D455-A4E2-4894-97B6-73C5D844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EBBFC-48BC-40B5-AFA4-13DAE0EC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AB7B7-0348-4827-AF4C-CF549A12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EE1DE-B108-44A3-9193-763F0A21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654F8-160D-4843-AB95-907106F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A1949-6390-4870-910A-78FEC998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C05AA-2719-47CA-A5C3-46F1636F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8BD75-015B-4581-B2BA-2B1E9C30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7D4DA-E3DE-4AB9-878B-94129034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714C5-2A56-4575-A477-CCF9FB0D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6A4D-B20B-40C2-9FB5-18D2BA8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8A451-E8BD-4FEC-8D06-B8582061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99713-D5AA-4061-8058-5AB07C10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16EF7-0ABE-4971-94E9-63622C49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F53D3-9FAA-4820-BF13-6B13F710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895DF-54ED-4ED0-9B4B-F06DA334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10A2-2279-4F48-9C88-7C579C4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CC5-50AE-44B2-9367-784E885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51A-7D69-443E-B307-3051A71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D187-2B54-4992-ABE2-05EA49F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AB05-DA42-49E7-BD62-3A19A35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B04-D4CB-4548-BF51-90568698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9C92-6B99-442C-B37B-16C8A9CC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96F0-9E5D-48BB-B487-18C99FC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9F3D-2E18-419B-9745-D27A778A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DA45-1D7A-4BD8-8B82-BE209C50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8F4E-0439-4A6A-BB51-49258741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1439-E493-4F88-A46A-B7055E6E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EC8A-55AD-4757-BD92-81EA89F1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0579-2891-444C-B4F3-4769DAAA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BA0B-6DDB-4730-A36C-32C3683B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0B49-4B0C-4C98-99CA-601F1F12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FA5-9C94-4B9E-8732-BCA2B2E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22F8-F0CD-43C9-902C-83C0EA14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2F96-1658-4675-985A-6DD19AC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48D6-A91A-4E9E-A4D3-BE55A7F8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3F41-BD4D-41B2-A72B-23C11FE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C072-24B2-4DE7-A62B-5B34BB99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0FB5-CA47-481A-B634-8B898A16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90D9-568C-48BB-9763-FE3DCBA5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E296-6123-4F0F-AD8C-C99B14F1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53F9-D4A2-4829-AFC1-DCB3614F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2348-5FC2-49CE-8EED-11F5B62B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98F-D310-423A-9928-D26AF8C8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8D85E-EDD0-438A-9871-5FD77549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1D29-7F98-4893-8CF3-022E2255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470A7-0BDA-486F-A87B-9F51C8DC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A1683-1356-4569-A0A7-06B722C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E34C7-8EB6-44C7-86BA-929551D7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DE822-89CE-44EF-A3DB-880AB67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AC8E-897C-465C-B4D8-21CBF5A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13FAA-162A-4A2D-B8DD-52604294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C07F8-1149-4141-A785-33D4D347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8C99-DE48-42FA-94D1-299A4168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BD8-AB84-4C33-AB2A-0116FB48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EEF6E-03A6-4116-A6F7-44C04FC7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D685-9F1F-46DB-8487-3A5F2BFA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CE578-7663-4072-AC8C-FA21F8DE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856F7-983B-4067-979F-81CB8330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366C-FA73-499F-84BF-FEDBBED0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F10D-3AE5-49D1-8267-1495984A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5CFD-39A4-4D5C-A1D6-51035C7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6142-15CE-4010-975B-C54E01C7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EBFA-E088-4DC9-8828-03799745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08ACC-B02C-4383-A10D-AD4B9F0A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1FF-FA15-4C2B-9BBF-16958597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5FD40-5E72-4F70-8411-9E84F06A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03EAF-F9A2-46C7-86A0-44C4F6AD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BDEB6-1B62-4323-B77D-209ED94A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8046-5215-4D35-BA47-CE8E60C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BBB7-A80B-47A4-825C-1B63A409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05079-4C2B-44B9-B648-7CED2AEA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7D53-EC86-4700-9DE3-0F6C1918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0027-46E8-44EA-AAF7-83800B0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334A-9E5E-4E5A-9716-9DF6CF6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680A-88CA-4357-AAF8-4AD50AA8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BD6-C6F7-458C-AC81-F23E9FA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0997-DD03-4020-B188-57CF444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3E7A1-5637-437F-A765-3439ED95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B0ED-6AFA-4FFF-A27A-1C0166A4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F27FE-2788-47B2-A6DF-AB6CD7E1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F0CC-54CC-4DAF-AB97-68F693F8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28EB9-A352-45CE-B823-A7A428C2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53D6F-77A9-4B14-9771-EE8DC3DB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EB878-92BF-4239-B4FB-91865A17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B4BB5-E944-4F22-903A-7DAB2A8A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74D9A-184D-42DC-80B3-C317FAD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95D-5BA2-4012-9D03-D38F281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9CF8-317A-46C1-8E26-E36F78B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778E-5F82-4F1E-AC69-2242E18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85AC5-62D2-4E14-8B72-56B5AF6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84E23-6EB5-4C2F-B9E6-DE5708C2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A8E7-B83E-4090-8F3E-2BA980A1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FA615-3BA5-4CFC-89AF-2EC7AC5A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44A6-A436-4F28-BCBA-37493DD2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B8557-4F1A-4C87-928D-04055C61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6AC8C-BB87-47D8-BBFE-60384517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EB3FC-6E98-40BA-9396-7F221805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95F-BE3D-47D9-BAD6-94D0C51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02B14-7912-4980-B335-D6BB64B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B02EA-F3BA-49B0-B6C2-5B28E549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BDF64-FF82-4587-96A8-B886F92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0A3E1-9B0F-4917-BE63-494443B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CF862-E644-439E-B6CB-83E13CD8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FE284-B4AA-45B0-A00C-7E824537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2F168-9F90-4963-9F3E-72081FA9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88FF8-1FA0-4F27-BD25-E5D287B7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0A314-E1DF-4B3D-845B-F0C36B2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0F14C-63F5-46AE-A75C-7B98D28C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DA9B-8A71-4807-892A-CC11739DE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A83D-4233-4B4D-A148-A48F65CE8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6F5E-F824-41C4-AE20-519B730F9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C6D3-2BDA-4E4C-A10C-B3CAD7A4F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880B-1048-498B-83A2-0D9380C33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088D-475F-4ADB-A7A7-6E0D013BF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C08B-5AE0-4564-8D85-1B869F193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F543-1BA4-406F-BC47-6E2A1BD74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AB70-A04E-4414-9A8A-8929B9E6B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455E-C233-4C23-B892-A05E44A42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2CCB-442E-4FF9-8C4E-6F690A89D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149D-D128-42E4-B283-01AA26F25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4.xml"/><Relationship Id="rId8" Type="http://schemas.openxmlformats.org/officeDocument/2006/relationships/slide" Target="slide10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1.gif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7/1/08/20061024929621019.gif" TargetMode="External"/><Relationship Id="rId2" Type="http://schemas.openxmlformats.org/officeDocument/2006/relationships/image" Target="../media/image4.gif"/><Relationship Id="rId3" Type="http://schemas.openxmlformats.org/officeDocument/2006/relationships/slide" Target="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wind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" Target="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草地天空图片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3"/>
          <p:cNvSpPr/>
          <p:nvPr/>
        </p:nvSpPr>
        <p:spPr>
          <a:xfrm rot="20792400">
            <a:off x="7740720" y="3141360"/>
            <a:ext cx="957240" cy="708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395280" y="4076640"/>
            <a:ext cx="1727280" cy="360360"/>
          </a:xfrm>
          <a:prstGeom prst="parallelogram">
            <a:avLst>
              <a:gd name="adj" fmla="val 119830"/>
            </a:avLst>
          </a:prstGeom>
          <a:gradFill rotWithShape="0">
            <a:gsLst>
              <a:gs pos="0">
                <a:srgbClr val="ffff66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 rot="20862600">
            <a:off x="7092720" y="259920"/>
            <a:ext cx="1373040" cy="6955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8">
            <a:hlinkClick r:id="rId2" action="ppaction://hlinksldjump"/>
          </p:cNvPr>
          <p:cNvSpPr/>
          <p:nvPr/>
        </p:nvSpPr>
        <p:spPr>
          <a:xfrm>
            <a:off x="1476360" y="6081840"/>
            <a:ext cx="1008000" cy="533160"/>
          </a:xfrm>
          <a:custGeom>
            <a:avLst/>
            <a:gdLst>
              <a:gd name="textAreaLeft" fmla="*/ 34560 w 1008000"/>
              <a:gd name="textAreaRight" fmla="*/ 973440 w 1008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824" h="21600">
                <a:moveTo>
                  <a:pt x="0" y="0"/>
                </a:moveTo>
                <a:lnTo>
                  <a:pt x="40824" y="0"/>
                </a:lnTo>
                <a:lnTo>
                  <a:pt x="40824" y="21600"/>
                </a:lnTo>
                <a:lnTo>
                  <a:pt x="0" y="21600"/>
                </a:lnTo>
                <a:close/>
              </a:path>
              <a:path fill="lightenLess" w="40824" h="21600">
                <a:moveTo>
                  <a:pt x="0" y="0"/>
                </a:moveTo>
                <a:lnTo>
                  <a:pt x="40824" y="0"/>
                </a:lnTo>
                <a:lnTo>
                  <a:pt x="39424" y="1400"/>
                </a:lnTo>
                <a:lnTo>
                  <a:pt x="1400" y="1400"/>
                </a:lnTo>
                <a:close/>
              </a:path>
              <a:path fill="darken" w="40824" h="21600">
                <a:moveTo>
                  <a:pt x="40824" y="0"/>
                </a:moveTo>
                <a:lnTo>
                  <a:pt x="40824" y="21600"/>
                </a:lnTo>
                <a:lnTo>
                  <a:pt x="39424" y="20200"/>
                </a:lnTo>
                <a:lnTo>
                  <a:pt x="39424" y="1400"/>
                </a:lnTo>
                <a:close/>
              </a:path>
              <a:path fill="darkenLess" w="40824" h="21600">
                <a:moveTo>
                  <a:pt x="40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24" y="20200"/>
                </a:lnTo>
                <a:close/>
              </a:path>
              <a:path fill="lighten" w="40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99ff66"/>
                </a:solidFill>
                <a:uFillTx/>
                <a:latin typeface="黑体"/>
                <a:ea typeface="黑体"/>
                <a:hlinkClick r:id="rId3" action="ppaction://hlinksldjump"/>
              </a:rPr>
              <a:t>复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9">
            <a:hlinkClick r:id="rId4" action="ppaction://hlinksldjump"/>
          </p:cNvPr>
          <p:cNvSpPr/>
          <p:nvPr/>
        </p:nvSpPr>
        <p:spPr>
          <a:xfrm>
            <a:off x="2556000" y="6081840"/>
            <a:ext cx="863640" cy="533160"/>
          </a:xfrm>
          <a:custGeom>
            <a:avLst/>
            <a:gdLst>
              <a:gd name="textAreaLeft" fmla="*/ 34560 w 863640"/>
              <a:gd name="textAreaRight" fmla="*/ 829080 w 863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4980" h="21600">
                <a:moveTo>
                  <a:pt x="0" y="0"/>
                </a:moveTo>
                <a:lnTo>
                  <a:pt x="34980" y="0"/>
                </a:lnTo>
                <a:lnTo>
                  <a:pt x="34980" y="21600"/>
                </a:lnTo>
                <a:lnTo>
                  <a:pt x="0" y="21600"/>
                </a:lnTo>
                <a:close/>
              </a:path>
              <a:path fill="lightenLess" w="34980" h="21600">
                <a:moveTo>
                  <a:pt x="0" y="0"/>
                </a:moveTo>
                <a:lnTo>
                  <a:pt x="34980" y="0"/>
                </a:lnTo>
                <a:lnTo>
                  <a:pt x="33580" y="1400"/>
                </a:lnTo>
                <a:lnTo>
                  <a:pt x="1400" y="1400"/>
                </a:lnTo>
                <a:close/>
              </a:path>
              <a:path fill="darken" w="34980" h="21600">
                <a:moveTo>
                  <a:pt x="34980" y="0"/>
                </a:moveTo>
                <a:lnTo>
                  <a:pt x="34980" y="21600"/>
                </a:lnTo>
                <a:lnTo>
                  <a:pt x="33580" y="20200"/>
                </a:lnTo>
                <a:lnTo>
                  <a:pt x="33580" y="1400"/>
                </a:lnTo>
                <a:close/>
              </a:path>
              <a:path fill="darkenLess" w="34980" h="21600">
                <a:moveTo>
                  <a:pt x="34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80" y="20200"/>
                </a:lnTo>
                <a:close/>
              </a:path>
              <a:path fill="lighten" w="34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99ff66"/>
                </a:solidFill>
                <a:uFillTx/>
                <a:latin typeface="黑体"/>
                <a:ea typeface="黑体"/>
                <a:hlinkClick r:id="rId5" action="ppaction://hlinksldjump"/>
              </a:rPr>
              <a:t>转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10">
            <a:hlinkClick r:id="rId6" action="ppaction://hlinksldjump"/>
          </p:cNvPr>
          <p:cNvSpPr/>
          <p:nvPr/>
        </p:nvSpPr>
        <p:spPr>
          <a:xfrm>
            <a:off x="3564000" y="6081840"/>
            <a:ext cx="863640" cy="533160"/>
          </a:xfrm>
          <a:custGeom>
            <a:avLst/>
            <a:gdLst>
              <a:gd name="textAreaLeft" fmla="*/ 34560 w 863640"/>
              <a:gd name="textAreaRight" fmla="*/ 829080 w 863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4980" h="21600">
                <a:moveTo>
                  <a:pt x="0" y="0"/>
                </a:moveTo>
                <a:lnTo>
                  <a:pt x="34980" y="0"/>
                </a:lnTo>
                <a:lnTo>
                  <a:pt x="34980" y="21600"/>
                </a:lnTo>
                <a:lnTo>
                  <a:pt x="0" y="21600"/>
                </a:lnTo>
                <a:close/>
              </a:path>
              <a:path fill="lightenLess" w="34980" h="21600">
                <a:moveTo>
                  <a:pt x="0" y="0"/>
                </a:moveTo>
                <a:lnTo>
                  <a:pt x="34980" y="0"/>
                </a:lnTo>
                <a:lnTo>
                  <a:pt x="33580" y="1400"/>
                </a:lnTo>
                <a:lnTo>
                  <a:pt x="1400" y="1400"/>
                </a:lnTo>
                <a:close/>
              </a:path>
              <a:path fill="darken" w="34980" h="21600">
                <a:moveTo>
                  <a:pt x="34980" y="0"/>
                </a:moveTo>
                <a:lnTo>
                  <a:pt x="34980" y="21600"/>
                </a:lnTo>
                <a:lnTo>
                  <a:pt x="33580" y="20200"/>
                </a:lnTo>
                <a:lnTo>
                  <a:pt x="33580" y="1400"/>
                </a:lnTo>
                <a:close/>
              </a:path>
              <a:path fill="darkenLess" w="34980" h="21600">
                <a:moveTo>
                  <a:pt x="34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80" y="20200"/>
                </a:lnTo>
                <a:close/>
              </a:path>
              <a:path fill="lighten" w="34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99ff66"/>
                </a:solidFill>
                <a:uFillTx/>
                <a:latin typeface="黑体"/>
                <a:ea typeface="黑体"/>
                <a:hlinkClick r:id="rId7" action="ppaction://hlinksldjump"/>
              </a:rPr>
              <a:t>公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1">
            <a:hlinkClick r:id="rId8" action="ppaction://hlinksldjump"/>
          </p:cNvPr>
          <p:cNvSpPr/>
          <p:nvPr/>
        </p:nvSpPr>
        <p:spPr>
          <a:xfrm>
            <a:off x="4500720" y="6081840"/>
            <a:ext cx="863280" cy="533160"/>
          </a:xfrm>
          <a:custGeom>
            <a:avLst/>
            <a:gdLst>
              <a:gd name="textAreaLeft" fmla="*/ 34560 w 863280"/>
              <a:gd name="textAreaRight" fmla="*/ 828720 w 863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4965" h="21600">
                <a:moveTo>
                  <a:pt x="0" y="0"/>
                </a:moveTo>
                <a:lnTo>
                  <a:pt x="34965" y="0"/>
                </a:lnTo>
                <a:lnTo>
                  <a:pt x="34965" y="21600"/>
                </a:lnTo>
                <a:lnTo>
                  <a:pt x="0" y="21600"/>
                </a:lnTo>
                <a:close/>
              </a:path>
              <a:path fill="lightenLess" w="34965" h="21600">
                <a:moveTo>
                  <a:pt x="0" y="0"/>
                </a:moveTo>
                <a:lnTo>
                  <a:pt x="34965" y="0"/>
                </a:lnTo>
                <a:lnTo>
                  <a:pt x="33565" y="1400"/>
                </a:lnTo>
                <a:lnTo>
                  <a:pt x="1400" y="1400"/>
                </a:lnTo>
                <a:close/>
              </a:path>
              <a:path fill="darken" w="34965" h="21600">
                <a:moveTo>
                  <a:pt x="34965" y="0"/>
                </a:moveTo>
                <a:lnTo>
                  <a:pt x="34965" y="21600"/>
                </a:lnTo>
                <a:lnTo>
                  <a:pt x="33565" y="20200"/>
                </a:lnTo>
                <a:lnTo>
                  <a:pt x="33565" y="1400"/>
                </a:lnTo>
                <a:close/>
              </a:path>
              <a:path fill="darkenLess" w="34965" h="21600">
                <a:moveTo>
                  <a:pt x="34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65" y="20200"/>
                </a:lnTo>
                <a:close/>
              </a:path>
              <a:path fill="lighten" w="34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99ff66"/>
                </a:solidFill>
                <a:uFillTx/>
                <a:latin typeface="黑体"/>
                <a:ea typeface="黑体"/>
                <a:hlinkClick r:id="rId9" action="ppaction://hlinksldjump"/>
              </a:rPr>
              <a:t>例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12">
            <a:hlinkClick r:id="rId10" action="ppaction://hlinksldjump"/>
          </p:cNvPr>
          <p:cNvSpPr/>
          <p:nvPr/>
        </p:nvSpPr>
        <p:spPr>
          <a:xfrm>
            <a:off x="5580000" y="6081840"/>
            <a:ext cx="865080" cy="533160"/>
          </a:xfrm>
          <a:custGeom>
            <a:avLst/>
            <a:gdLst>
              <a:gd name="textAreaLeft" fmla="*/ 34560 w 865080"/>
              <a:gd name="textAreaRight" fmla="*/ 830520 w 865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5038" h="21600">
                <a:moveTo>
                  <a:pt x="0" y="0"/>
                </a:moveTo>
                <a:lnTo>
                  <a:pt x="35038" y="0"/>
                </a:lnTo>
                <a:lnTo>
                  <a:pt x="35038" y="21600"/>
                </a:lnTo>
                <a:lnTo>
                  <a:pt x="0" y="21600"/>
                </a:lnTo>
                <a:close/>
              </a:path>
              <a:path fill="lightenLess" w="35038" h="21600">
                <a:moveTo>
                  <a:pt x="0" y="0"/>
                </a:moveTo>
                <a:lnTo>
                  <a:pt x="35038" y="0"/>
                </a:lnTo>
                <a:lnTo>
                  <a:pt x="33638" y="1400"/>
                </a:lnTo>
                <a:lnTo>
                  <a:pt x="1400" y="1400"/>
                </a:lnTo>
                <a:close/>
              </a:path>
              <a:path fill="darken" w="35038" h="21600">
                <a:moveTo>
                  <a:pt x="35038" y="0"/>
                </a:moveTo>
                <a:lnTo>
                  <a:pt x="35038" y="21600"/>
                </a:lnTo>
                <a:lnTo>
                  <a:pt x="33638" y="20200"/>
                </a:lnTo>
                <a:lnTo>
                  <a:pt x="33638" y="1400"/>
                </a:lnTo>
                <a:close/>
              </a:path>
              <a:path fill="darkenLess" w="35038" h="21600">
                <a:moveTo>
                  <a:pt x="35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38" y="20200"/>
                </a:lnTo>
                <a:close/>
              </a:path>
              <a:path fill="lighten" w="35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99ff66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做一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13">
            <a:hlinkClick r:id="rId12" action="ppaction://hlinksldjump"/>
          </p:cNvPr>
          <p:cNvSpPr/>
          <p:nvPr/>
        </p:nvSpPr>
        <p:spPr>
          <a:xfrm>
            <a:off x="6659640" y="6081840"/>
            <a:ext cx="863640" cy="533160"/>
          </a:xfrm>
          <a:custGeom>
            <a:avLst/>
            <a:gdLst>
              <a:gd name="textAreaLeft" fmla="*/ 34560 w 863640"/>
              <a:gd name="textAreaRight" fmla="*/ 829080 w 863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4980" h="21600">
                <a:moveTo>
                  <a:pt x="0" y="0"/>
                </a:moveTo>
                <a:lnTo>
                  <a:pt x="34980" y="0"/>
                </a:lnTo>
                <a:lnTo>
                  <a:pt x="34980" y="21600"/>
                </a:lnTo>
                <a:lnTo>
                  <a:pt x="0" y="21600"/>
                </a:lnTo>
                <a:close/>
              </a:path>
              <a:path fill="lightenLess" w="34980" h="21600">
                <a:moveTo>
                  <a:pt x="0" y="0"/>
                </a:moveTo>
                <a:lnTo>
                  <a:pt x="34980" y="0"/>
                </a:lnTo>
                <a:lnTo>
                  <a:pt x="33580" y="1400"/>
                </a:lnTo>
                <a:lnTo>
                  <a:pt x="1400" y="1400"/>
                </a:lnTo>
                <a:close/>
              </a:path>
              <a:path fill="darken" w="34980" h="21600">
                <a:moveTo>
                  <a:pt x="34980" y="0"/>
                </a:moveTo>
                <a:lnTo>
                  <a:pt x="34980" y="21600"/>
                </a:lnTo>
                <a:lnTo>
                  <a:pt x="33580" y="20200"/>
                </a:lnTo>
                <a:lnTo>
                  <a:pt x="33580" y="1400"/>
                </a:lnTo>
                <a:close/>
              </a:path>
              <a:path fill="darkenLess" w="34980" h="21600">
                <a:moveTo>
                  <a:pt x="34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80" y="20200"/>
                </a:lnTo>
                <a:close/>
              </a:path>
              <a:path fill="lighten" w="34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99ff66"/>
                </a:solidFill>
                <a:uFillTx/>
                <a:latin typeface="黑体"/>
                <a:ea typeface="黑体"/>
                <a:hlinkClick r:id="rId13" action="ppaction://hlinksldjump"/>
              </a:rPr>
              <a:t>变一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7740720" y="6081840"/>
            <a:ext cx="936720" cy="533160"/>
          </a:xfrm>
          <a:custGeom>
            <a:avLst/>
            <a:gdLst>
              <a:gd name="textAreaLeft" fmla="*/ 34560 w 936720"/>
              <a:gd name="textAreaRight" fmla="*/ 902160 w 936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938" h="21600">
                <a:moveTo>
                  <a:pt x="0" y="0"/>
                </a:moveTo>
                <a:lnTo>
                  <a:pt x="37938" y="0"/>
                </a:lnTo>
                <a:lnTo>
                  <a:pt x="37938" y="21600"/>
                </a:lnTo>
                <a:lnTo>
                  <a:pt x="0" y="21600"/>
                </a:lnTo>
                <a:close/>
              </a:path>
              <a:path fill="lightenLess" w="37938" h="21600">
                <a:moveTo>
                  <a:pt x="0" y="0"/>
                </a:moveTo>
                <a:lnTo>
                  <a:pt x="37938" y="0"/>
                </a:lnTo>
                <a:lnTo>
                  <a:pt x="36539" y="1400"/>
                </a:lnTo>
                <a:lnTo>
                  <a:pt x="1400" y="1400"/>
                </a:lnTo>
                <a:close/>
              </a:path>
              <a:path fill="darken" w="37938" h="21600">
                <a:moveTo>
                  <a:pt x="37938" y="0"/>
                </a:moveTo>
                <a:lnTo>
                  <a:pt x="37938" y="21600"/>
                </a:lnTo>
                <a:lnTo>
                  <a:pt x="36539" y="20200"/>
                </a:lnTo>
                <a:lnTo>
                  <a:pt x="36539" y="1400"/>
                </a:lnTo>
                <a:close/>
              </a:path>
              <a:path fill="darkenLess" w="37938" h="21600">
                <a:moveTo>
                  <a:pt x="37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39" y="20200"/>
                </a:lnTo>
                <a:close/>
              </a:path>
              <a:path fill="lighten" w="37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99ff66"/>
                </a:solidFill>
                <a:uFillTx/>
                <a:latin typeface="黑体"/>
                <a:ea typeface="黑体"/>
                <a:hlinkClick r:id="rId14" action="ppaction://hlinksldjump"/>
              </a:rPr>
              <a:t>拓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WordArt 19"/>
          <p:cNvSpPr txBox="1"/>
          <p:nvPr/>
        </p:nvSpPr>
        <p:spPr>
          <a:xfrm>
            <a:off x="1042920" y="1341360"/>
            <a:ext cx="6553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平行四边形面积的计算</a:t>
            </a:r>
            <a:endParaRPr b="0" lang="en-US" sz="4800" spc="-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539640" y="40464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宋体"/>
              </a:rPr>
              <a:t>人教九义教材小学数学课本第九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矩形 18"/>
          <p:cNvSpPr/>
          <p:nvPr/>
        </p:nvSpPr>
        <p:spPr>
          <a:xfrm>
            <a:off x="2391480" y="5516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7"/>
          <p:cNvSpPr/>
          <p:nvPr/>
        </p:nvSpPr>
        <p:spPr>
          <a:xfrm>
            <a:off x="324000" y="148428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已知一个平行四边形的面积和底（如右图），求高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8"/>
          <p:cNvSpPr/>
          <p:nvPr/>
        </p:nvSpPr>
        <p:spPr>
          <a:xfrm>
            <a:off x="4356000" y="1413000"/>
            <a:ext cx="3311640" cy="1655640"/>
          </a:xfrm>
          <a:prstGeom prst="parallelogram">
            <a:avLst>
              <a:gd name="adj" fmla="val 50005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5148360" y="1413000"/>
            <a:ext cx="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10"/>
          <p:cNvSpPr/>
          <p:nvPr/>
        </p:nvSpPr>
        <p:spPr>
          <a:xfrm>
            <a:off x="5192640" y="1413000"/>
            <a:ext cx="0" cy="1655640"/>
          </a:xfrm>
          <a:prstGeom prst="line">
            <a:avLst/>
          </a:prstGeom>
          <a:ln w="7632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1"/>
          <p:cNvSpPr/>
          <p:nvPr/>
        </p:nvSpPr>
        <p:spPr>
          <a:xfrm>
            <a:off x="5003640" y="177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１５平方厘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2"/>
          <p:cNvSpPr/>
          <p:nvPr/>
        </p:nvSpPr>
        <p:spPr>
          <a:xfrm>
            <a:off x="5364000" y="3068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５厘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WordArt 13"/>
          <p:cNvSpPr txBox="1"/>
          <p:nvPr/>
        </p:nvSpPr>
        <p:spPr>
          <a:xfrm>
            <a:off x="468360" y="33336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比一比谁最聪明</a:t>
            </a:r>
            <a:endParaRPr b="0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9" name="Picture 14" descr="rose8"/>
          <p:cNvPicPr/>
          <p:nvPr/>
        </p:nvPicPr>
        <p:blipFill>
          <a:blip r:embed="rId3"/>
          <a:stretch/>
        </p:blipFill>
        <p:spPr>
          <a:xfrm>
            <a:off x="7236000" y="5445000"/>
            <a:ext cx="1171440" cy="11718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16"/>
          <p:cNvSpPr/>
          <p:nvPr/>
        </p:nvSpPr>
        <p:spPr>
          <a:xfrm>
            <a:off x="1332000" y="4581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１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５＝３（厘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17"/>
          <p:cNvSpPr/>
          <p:nvPr/>
        </p:nvSpPr>
        <p:spPr>
          <a:xfrm>
            <a:off x="7451640" y="5877000"/>
            <a:ext cx="649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4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8"/>
          <p:cNvSpPr/>
          <p:nvPr/>
        </p:nvSpPr>
        <p:spPr>
          <a:xfrm>
            <a:off x="1258920" y="573408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3659-0D3C-42BD-AB67-DA2DA0226D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1295280" y="333360"/>
          <a:ext cx="3745080" cy="2590920"/>
        </p:xfrm>
        <a:graphic>
          <a:graphicData uri="http://schemas.openxmlformats.org/drawingml/2006/table">
            <a:tbl>
              <a:tblPr/>
              <a:tblGrid>
                <a:gridCol w="469800"/>
                <a:gridCol w="465120"/>
                <a:gridCol w="470160"/>
                <a:gridCol w="469800"/>
                <a:gridCol w="465120"/>
                <a:gridCol w="471600"/>
                <a:gridCol w="428400"/>
                <a:gridCol w="505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5256360" y="333360"/>
          <a:ext cx="3744720" cy="2590920"/>
        </p:xfrm>
        <a:graphic>
          <a:graphicData uri="http://schemas.openxmlformats.org/drawingml/2006/table">
            <a:tbl>
              <a:tblPr/>
              <a:tblGrid>
                <a:gridCol w="469440"/>
                <a:gridCol w="465120"/>
                <a:gridCol w="470160"/>
                <a:gridCol w="469800"/>
                <a:gridCol w="465120"/>
                <a:gridCol w="471600"/>
                <a:gridCol w="463320"/>
                <a:gridCol w="4701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AutoShape 114"/>
          <p:cNvSpPr/>
          <p:nvPr/>
        </p:nvSpPr>
        <p:spPr>
          <a:xfrm>
            <a:off x="1258920" y="836640"/>
            <a:ext cx="3744720" cy="1584360"/>
          </a:xfrm>
          <a:prstGeom prst="parallelogram">
            <a:avLst>
              <a:gd name="adj" fmla="val 59089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115"/>
          <p:cNvSpPr/>
          <p:nvPr/>
        </p:nvSpPr>
        <p:spPr>
          <a:xfrm>
            <a:off x="5724360" y="836640"/>
            <a:ext cx="2808360" cy="1584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16"/>
          <p:cNvSpPr/>
          <p:nvPr/>
        </p:nvSpPr>
        <p:spPr>
          <a:xfrm>
            <a:off x="0" y="333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厘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17"/>
          <p:cNvSpPr/>
          <p:nvPr/>
        </p:nvSpPr>
        <p:spPr>
          <a:xfrm>
            <a:off x="0" y="476280"/>
            <a:ext cx="75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18"/>
          <p:cNvSpPr/>
          <p:nvPr/>
        </p:nvSpPr>
        <p:spPr>
          <a:xfrm>
            <a:off x="971640" y="333360"/>
            <a:ext cx="287280" cy="5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19"/>
          <p:cNvSpPr/>
          <p:nvPr/>
        </p:nvSpPr>
        <p:spPr>
          <a:xfrm>
            <a:off x="395280" y="4076640"/>
            <a:ext cx="87487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数一数：平行四边形的面积（　　）平方厘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长方形面积是（　　）平方厘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122" descr="20061024929621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43760" y="5897520"/>
            <a:ext cx="1200240" cy="9604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23"/>
          <p:cNvSpPr/>
          <p:nvPr/>
        </p:nvSpPr>
        <p:spPr>
          <a:xfrm>
            <a:off x="6012000" y="4437000"/>
            <a:ext cx="64764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１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24"/>
          <p:cNvSpPr/>
          <p:nvPr/>
        </p:nvSpPr>
        <p:spPr>
          <a:xfrm>
            <a:off x="3492360" y="5157720"/>
            <a:ext cx="57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１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25"/>
          <p:cNvSpPr/>
          <p:nvPr/>
        </p:nvSpPr>
        <p:spPr>
          <a:xfrm>
            <a:off x="8064360" y="6165720"/>
            <a:ext cx="107964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ff66"/>
                </a:solidFill>
                <a:uFillTx/>
                <a:latin typeface="Arial"/>
                <a:ea typeface="隶书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27"/>
          <p:cNvSpPr/>
          <p:nvPr/>
        </p:nvSpPr>
        <p:spPr>
          <a:xfrm>
            <a:off x="-605520" y="1268280"/>
            <a:ext cx="13993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  <a:ea typeface="隶书"/>
              </a:rPr>
              <a:t>复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28"/>
          <p:cNvSpPr/>
          <p:nvPr/>
        </p:nvSpPr>
        <p:spPr>
          <a:xfrm>
            <a:off x="212868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2"/>
          <p:cNvSpPr/>
          <p:nvPr/>
        </p:nvSpPr>
        <p:spPr>
          <a:xfrm>
            <a:off x="1116000" y="1989000"/>
            <a:ext cx="1008000" cy="18003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3635280" y="1052640"/>
            <a:ext cx="976320" cy="576000"/>
          </a:xfrm>
          <a:prstGeom prst="rightArrow">
            <a:avLst>
              <a:gd name="adj1" fmla="val 50000"/>
              <a:gd name="adj2" fmla="val 423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0" y="404640"/>
            <a:ext cx="4032360" cy="1800360"/>
          </a:xfrm>
          <a:prstGeom prst="parallelogram">
            <a:avLst>
              <a:gd name="adj" fmla="val 5599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116000" y="9079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826920" y="2276640"/>
            <a:ext cx="10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7" descr="11"/>
          <p:cNvPicPr/>
          <p:nvPr/>
        </p:nvPicPr>
        <p:blipFill>
          <a:blip r:embed="rId1"/>
          <a:srcRect l="0" t="0" r="78029" b="34908"/>
          <a:stretch/>
        </p:blipFill>
        <p:spPr>
          <a:xfrm>
            <a:off x="4572000" y="189000"/>
            <a:ext cx="1006560" cy="18604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11"/>
          <p:cNvPicPr/>
          <p:nvPr/>
        </p:nvPicPr>
        <p:blipFill>
          <a:blip r:embed="rId2">
            <a:alphaModFix amt="0"/>
          </a:blip>
          <a:srcRect l="22002" t="0" r="13830" b="34908"/>
          <a:stretch/>
        </p:blipFill>
        <p:spPr>
          <a:xfrm>
            <a:off x="5724360" y="189000"/>
            <a:ext cx="2940120" cy="1860480"/>
          </a:xfrm>
          <a:prstGeom prst="rect">
            <a:avLst/>
          </a:prstGeom>
          <a:ln w="0">
            <a:noFill/>
          </a:ln>
        </p:spPr>
      </p:pic>
      <p:sp>
        <p:nvSpPr>
          <p:cNvPr id="543" name="Line 9"/>
          <p:cNvSpPr/>
          <p:nvPr/>
        </p:nvSpPr>
        <p:spPr>
          <a:xfrm flipH="1">
            <a:off x="971640" y="404640"/>
            <a:ext cx="7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1042920" y="40464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　　通过实验看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们可以把一个平行四边形转化成一个长方形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它的面积与原来的平行四边形相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611280" y="4653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这个长方形的长与平行四边形的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11280" y="5229360"/>
            <a:ext cx="801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这个长方形的宽与平行四边形的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7236000" y="458136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Arial"/>
                <a:ea typeface="宋体"/>
              </a:rPr>
              <a:t>相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7236000" y="5157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Arial"/>
                <a:ea typeface="宋体"/>
              </a:rPr>
              <a:t>相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6948360" y="5157720"/>
            <a:ext cx="187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7"/>
          <p:cNvSpPr/>
          <p:nvPr/>
        </p:nvSpPr>
        <p:spPr>
          <a:xfrm>
            <a:off x="6948360" y="5157720"/>
            <a:ext cx="1368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>
            <a:off x="6877080" y="5661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6877080" y="5734080"/>
            <a:ext cx="15825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20"/>
          <p:cNvSpPr/>
          <p:nvPr/>
        </p:nvSpPr>
        <p:spPr>
          <a:xfrm>
            <a:off x="6227640" y="20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8532720" y="1052640"/>
            <a:ext cx="3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22" descr="rose5"/>
          <p:cNvPicPr/>
          <p:nvPr/>
        </p:nvPicPr>
        <p:blipFill>
          <a:blip r:embed="rId3"/>
          <a:stretch/>
        </p:blipFill>
        <p:spPr>
          <a:xfrm>
            <a:off x="8028000" y="5810400"/>
            <a:ext cx="743040" cy="10476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3"/>
          <p:cNvSpPr/>
          <p:nvPr/>
        </p:nvSpPr>
        <p:spPr>
          <a:xfrm>
            <a:off x="5651640" y="645336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7920000" y="6078600"/>
            <a:ext cx="122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4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0" y="260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Arial"/>
                <a:ea typeface="隶书"/>
              </a:rPr>
              <a:t>转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0.05521 0.00092 L 0.33872 0.00092 E">
                                      <p:cBhvr>
                                        <p:cTn id="68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1" descr="rose2"/>
          <p:cNvPicPr/>
          <p:nvPr/>
        </p:nvPicPr>
        <p:blipFill>
          <a:blip r:embed="rId1"/>
          <a:stretch/>
        </p:blipFill>
        <p:spPr>
          <a:xfrm>
            <a:off x="7920000" y="5702400"/>
            <a:ext cx="1224000" cy="11556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　　　　　　　　　　　　　　　　　　　　　　　　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95280" y="851040"/>
            <a:ext cx="8280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因为：长方形的面积</a:t>
            </a:r>
            <a:r>
              <a:rPr b="0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:=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长</a:t>
            </a:r>
            <a:r>
              <a:rPr b="0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×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所以</a:t>
            </a:r>
            <a:r>
              <a:rPr b="0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平行四边形面积</a:t>
            </a:r>
            <a:r>
              <a:rPr b="0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=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底</a:t>
            </a:r>
            <a:r>
              <a:rPr b="0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×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5"/>
          <p:cNvSpPr/>
          <p:nvPr/>
        </p:nvSpPr>
        <p:spPr>
          <a:xfrm>
            <a:off x="6877080" y="164304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6"/>
          <p:cNvSpPr/>
          <p:nvPr/>
        </p:nvSpPr>
        <p:spPr>
          <a:xfrm>
            <a:off x="8317080" y="171468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716360" y="394668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 =a ×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9"/>
          <p:cNvSpPr/>
          <p:nvPr/>
        </p:nvSpPr>
        <p:spPr>
          <a:xfrm>
            <a:off x="6877080" y="37306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0"/>
          <p:cNvSpPr/>
          <p:nvPr/>
        </p:nvSpPr>
        <p:spPr>
          <a:xfrm>
            <a:off x="8101080" y="373068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7956720" y="6078600"/>
            <a:ext cx="936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209520" y="317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  <a:ea typeface="隶书"/>
              </a:rPr>
              <a:t>公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文本框 1"/>
          <p:cNvSpPr/>
          <p:nvPr/>
        </p:nvSpPr>
        <p:spPr>
          <a:xfrm>
            <a:off x="395280" y="6078600"/>
            <a:ext cx="60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5"/>
          <p:cNvSpPr/>
          <p:nvPr/>
        </p:nvSpPr>
        <p:spPr>
          <a:xfrm>
            <a:off x="755640" y="836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块平行四边形钢板（如下图），它的面积是多少？（得数保留整数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1835280" y="1844640"/>
            <a:ext cx="3600360" cy="1513080"/>
          </a:xfrm>
          <a:prstGeom prst="parallelogram">
            <a:avLst>
              <a:gd name="adj" fmla="val 59487"/>
            </a:avLst>
          </a:prstGeom>
          <a:solidFill>
            <a:srgbClr val="99cc00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2771640" y="184464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2843280" y="234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５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3"/>
          <p:cNvSpPr/>
          <p:nvPr/>
        </p:nvSpPr>
        <p:spPr>
          <a:xfrm>
            <a:off x="2411280" y="3357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1042920" y="436572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×3.5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１７（平方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答：它的面积约是１７平方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4984920" y="38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WordArt 17"/>
          <p:cNvSpPr txBox="1"/>
          <p:nvPr/>
        </p:nvSpPr>
        <p:spPr>
          <a:xfrm>
            <a:off x="324000" y="189000"/>
            <a:ext cx="1523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例题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79" name="Picture 18" descr="rose7"/>
          <p:cNvPicPr/>
          <p:nvPr/>
        </p:nvPicPr>
        <p:blipFill>
          <a:blip r:embed="rId3"/>
          <a:stretch/>
        </p:blipFill>
        <p:spPr>
          <a:xfrm>
            <a:off x="7236000" y="4888080"/>
            <a:ext cx="1657080" cy="165708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19"/>
          <p:cNvSpPr/>
          <p:nvPr/>
        </p:nvSpPr>
        <p:spPr>
          <a:xfrm>
            <a:off x="7596360" y="5373720"/>
            <a:ext cx="1295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4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29"/>
          <p:cNvSpPr/>
          <p:nvPr/>
        </p:nvSpPr>
        <p:spPr>
          <a:xfrm>
            <a:off x="0" y="0"/>
            <a:ext cx="2124000" cy="1197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"/>
          <p:cNvSpPr/>
          <p:nvPr/>
        </p:nvSpPr>
        <p:spPr>
          <a:xfrm>
            <a:off x="2627280" y="333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计算出下面图形的面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3"/>
          <p:cNvSpPr/>
          <p:nvPr/>
        </p:nvSpPr>
        <p:spPr>
          <a:xfrm>
            <a:off x="755640" y="1052640"/>
            <a:ext cx="3168720" cy="1296720"/>
          </a:xfrm>
          <a:prstGeom prst="parallelogram">
            <a:avLst>
              <a:gd name="adj" fmla="val 6109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900000" y="98100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1116000" y="1341360"/>
            <a:ext cx="2735280" cy="1295640"/>
          </a:xfrm>
          <a:prstGeom prst="parallelogram">
            <a:avLst>
              <a:gd name="adj" fmla="val 527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611280" y="1700280"/>
            <a:ext cx="2881080" cy="1297080"/>
          </a:xfrm>
          <a:prstGeom prst="parallelogram">
            <a:avLst>
              <a:gd name="adj" fmla="val 555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539640" y="1628640"/>
            <a:ext cx="2737080" cy="1368720"/>
          </a:xfrm>
          <a:prstGeom prst="parallelogram">
            <a:avLst>
              <a:gd name="adj" fmla="val 499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826920" y="1773360"/>
            <a:ext cx="2881440" cy="1295280"/>
          </a:xfrm>
          <a:prstGeom prst="parallelogram">
            <a:avLst>
              <a:gd name="adj" fmla="val 55614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547640" y="1773360"/>
            <a:ext cx="0" cy="1295280"/>
          </a:xfrm>
          <a:prstGeom prst="line">
            <a:avLst/>
          </a:prstGeom>
          <a:ln w="9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 rot="16200000">
            <a:off x="1091880" y="2225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1187280" y="3141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12"/>
          <p:cNvSpPr/>
          <p:nvPr/>
        </p:nvSpPr>
        <p:spPr>
          <a:xfrm>
            <a:off x="5148360" y="1052640"/>
            <a:ext cx="71280" cy="72720"/>
          </a:xfrm>
          <a:prstGeom prst="parallelogram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3"/>
          <p:cNvSpPr/>
          <p:nvPr/>
        </p:nvSpPr>
        <p:spPr>
          <a:xfrm flipH="1" rot="1020000">
            <a:off x="4500000" y="1341000"/>
            <a:ext cx="2016000" cy="2016360"/>
          </a:xfrm>
          <a:prstGeom prst="parallelogram">
            <a:avLst>
              <a:gd name="adj" fmla="val 25000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4"/>
          <p:cNvSpPr/>
          <p:nvPr/>
        </p:nvSpPr>
        <p:spPr>
          <a:xfrm>
            <a:off x="6300720" y="1628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5"/>
          <p:cNvSpPr/>
          <p:nvPr/>
        </p:nvSpPr>
        <p:spPr>
          <a:xfrm>
            <a:off x="6300720" y="155736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6"/>
          <p:cNvSpPr/>
          <p:nvPr/>
        </p:nvSpPr>
        <p:spPr>
          <a:xfrm>
            <a:off x="6227640" y="1557360"/>
            <a:ext cx="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7"/>
          <p:cNvSpPr/>
          <p:nvPr/>
        </p:nvSpPr>
        <p:spPr>
          <a:xfrm>
            <a:off x="6300720" y="1557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8"/>
          <p:cNvSpPr/>
          <p:nvPr/>
        </p:nvSpPr>
        <p:spPr>
          <a:xfrm flipH="1">
            <a:off x="6227280" y="1557360"/>
            <a:ext cx="7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9"/>
          <p:cNvSpPr/>
          <p:nvPr/>
        </p:nvSpPr>
        <p:spPr>
          <a:xfrm flipH="1">
            <a:off x="4788000" y="1557360"/>
            <a:ext cx="151272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4932360" y="155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分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 rot="5400000">
            <a:off x="3214800" y="25513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分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2"/>
          <p:cNvSpPr/>
          <p:nvPr/>
        </p:nvSpPr>
        <p:spPr>
          <a:xfrm>
            <a:off x="4067280" y="4076640"/>
            <a:ext cx="2808360" cy="2160720"/>
          </a:xfrm>
          <a:prstGeom prst="parallelogram">
            <a:avLst>
              <a:gd name="adj" fmla="val 58819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3"/>
          <p:cNvSpPr/>
          <p:nvPr/>
        </p:nvSpPr>
        <p:spPr>
          <a:xfrm>
            <a:off x="3851280" y="3637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4"/>
          <p:cNvSpPr/>
          <p:nvPr/>
        </p:nvSpPr>
        <p:spPr>
          <a:xfrm flipH="1">
            <a:off x="3780000" y="3710160"/>
            <a:ext cx="7128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5"/>
          <p:cNvSpPr/>
          <p:nvPr/>
        </p:nvSpPr>
        <p:spPr>
          <a:xfrm>
            <a:off x="5364000" y="4076640"/>
            <a:ext cx="1152720" cy="5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26"/>
          <p:cNvSpPr/>
          <p:nvPr/>
        </p:nvSpPr>
        <p:spPr>
          <a:xfrm rot="1860000">
            <a:off x="5218560" y="4436640"/>
            <a:ext cx="70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27"/>
          <p:cNvSpPr/>
          <p:nvPr/>
        </p:nvSpPr>
        <p:spPr>
          <a:xfrm rot="18300000">
            <a:off x="5684040" y="390096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WordArt 31"/>
          <p:cNvSpPr txBox="1"/>
          <p:nvPr/>
        </p:nvSpPr>
        <p:spPr>
          <a:xfrm>
            <a:off x="395280" y="333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9" name="Picture 32" descr="rose7"/>
          <p:cNvPicPr/>
          <p:nvPr/>
        </p:nvPicPr>
        <p:blipFill>
          <a:blip r:embed="rId1"/>
          <a:stretch/>
        </p:blipFill>
        <p:spPr>
          <a:xfrm>
            <a:off x="6804000" y="5084640"/>
            <a:ext cx="1459080" cy="1224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3"/>
          <p:cNvSpPr/>
          <p:nvPr/>
        </p:nvSpPr>
        <p:spPr>
          <a:xfrm>
            <a:off x="468360" y="3710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３＝１２（平方厘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5"/>
          <p:cNvSpPr/>
          <p:nvPr/>
        </p:nvSpPr>
        <p:spPr>
          <a:xfrm>
            <a:off x="468360" y="43578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18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平方分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36"/>
          <p:cNvSpPr/>
          <p:nvPr/>
        </p:nvSpPr>
        <p:spPr>
          <a:xfrm>
            <a:off x="611280" y="5076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×1.5=4.5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平方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38"/>
          <p:cNvSpPr/>
          <p:nvPr/>
        </p:nvSpPr>
        <p:spPr>
          <a:xfrm>
            <a:off x="7185960" y="55166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Oval 14"/>
          <p:cNvSpPr/>
          <p:nvPr/>
        </p:nvSpPr>
        <p:spPr>
          <a:xfrm>
            <a:off x="324000" y="0"/>
            <a:ext cx="1295280" cy="836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900000" y="765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有一块地近似平行四边形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底是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高是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0.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米。这块地的面积约是多少平方米？（得数保留整数。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 flipH="1">
            <a:off x="1546920" y="2852640"/>
            <a:ext cx="4537080" cy="1656000"/>
          </a:xfrm>
          <a:prstGeom prst="parallelogram">
            <a:avLst>
              <a:gd name="adj" fmla="val 61125"/>
            </a:avLst>
          </a:prstGeom>
          <a:noFill/>
          <a:ln w="414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5003640" y="2852640"/>
            <a:ext cx="0" cy="1656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3348000" y="33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3203640" y="4653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Freeform 12"/>
          <p:cNvSpPr/>
          <p:nvPr/>
        </p:nvSpPr>
        <p:spPr>
          <a:xfrm>
            <a:off x="1495440" y="2700360"/>
            <a:ext cx="4546440" cy="2001960"/>
          </a:xfrm>
          <a:custGeom>
            <a:avLst/>
            <a:gdLst/>
            <a:ahLst/>
            <a:rect l="l" t="t" r="r" b="b"/>
            <a:pathLst>
              <a:path w="2864" h="1261">
                <a:moveTo>
                  <a:pt x="183" y="466"/>
                </a:moveTo>
                <a:cubicBezTo>
                  <a:pt x="143" y="426"/>
                  <a:pt x="114" y="383"/>
                  <a:pt x="73" y="342"/>
                </a:cubicBezTo>
                <a:cubicBezTo>
                  <a:pt x="64" y="333"/>
                  <a:pt x="45" y="315"/>
                  <a:pt x="45" y="315"/>
                </a:cubicBezTo>
                <a:cubicBezTo>
                  <a:pt x="41" y="301"/>
                  <a:pt x="39" y="286"/>
                  <a:pt x="32" y="274"/>
                </a:cubicBezTo>
                <a:cubicBezTo>
                  <a:pt x="25" y="263"/>
                  <a:pt x="5" y="259"/>
                  <a:pt x="4" y="246"/>
                </a:cubicBezTo>
                <a:cubicBezTo>
                  <a:pt x="0" y="200"/>
                  <a:pt x="3" y="153"/>
                  <a:pt x="18" y="109"/>
                </a:cubicBezTo>
                <a:cubicBezTo>
                  <a:pt x="23" y="95"/>
                  <a:pt x="86" y="69"/>
                  <a:pt x="100" y="68"/>
                </a:cubicBezTo>
                <a:cubicBezTo>
                  <a:pt x="260" y="59"/>
                  <a:pt x="420" y="59"/>
                  <a:pt x="580" y="54"/>
                </a:cubicBezTo>
                <a:cubicBezTo>
                  <a:pt x="752" y="0"/>
                  <a:pt x="798" y="32"/>
                  <a:pt x="1047" y="41"/>
                </a:cubicBezTo>
                <a:cubicBezTo>
                  <a:pt x="1079" y="51"/>
                  <a:pt x="1117" y="47"/>
                  <a:pt x="1143" y="68"/>
                </a:cubicBezTo>
                <a:cubicBezTo>
                  <a:pt x="1154" y="77"/>
                  <a:pt x="1152" y="95"/>
                  <a:pt x="1156" y="109"/>
                </a:cubicBezTo>
                <a:cubicBezTo>
                  <a:pt x="1261" y="105"/>
                  <a:pt x="1368" y="115"/>
                  <a:pt x="1472" y="96"/>
                </a:cubicBezTo>
                <a:cubicBezTo>
                  <a:pt x="1498" y="91"/>
                  <a:pt x="1502" y="47"/>
                  <a:pt x="1527" y="41"/>
                </a:cubicBezTo>
                <a:cubicBezTo>
                  <a:pt x="1563" y="32"/>
                  <a:pt x="1600" y="22"/>
                  <a:pt x="1636" y="13"/>
                </a:cubicBezTo>
                <a:cubicBezTo>
                  <a:pt x="1809" y="21"/>
                  <a:pt x="1935" y="15"/>
                  <a:pt x="2089" y="68"/>
                </a:cubicBezTo>
                <a:cubicBezTo>
                  <a:pt x="2098" y="77"/>
                  <a:pt x="2109" y="85"/>
                  <a:pt x="2116" y="96"/>
                </a:cubicBezTo>
                <a:cubicBezTo>
                  <a:pt x="2123" y="108"/>
                  <a:pt x="2120" y="127"/>
                  <a:pt x="2130" y="137"/>
                </a:cubicBezTo>
                <a:cubicBezTo>
                  <a:pt x="2140" y="147"/>
                  <a:pt x="2157" y="148"/>
                  <a:pt x="2171" y="150"/>
                </a:cubicBezTo>
                <a:cubicBezTo>
                  <a:pt x="2216" y="157"/>
                  <a:pt x="2262" y="159"/>
                  <a:pt x="2308" y="164"/>
                </a:cubicBezTo>
                <a:cubicBezTo>
                  <a:pt x="2338" y="253"/>
                  <a:pt x="2362" y="330"/>
                  <a:pt x="2432" y="397"/>
                </a:cubicBezTo>
                <a:cubicBezTo>
                  <a:pt x="2436" y="411"/>
                  <a:pt x="2433" y="430"/>
                  <a:pt x="2445" y="438"/>
                </a:cubicBezTo>
                <a:cubicBezTo>
                  <a:pt x="2464" y="451"/>
                  <a:pt x="2505" y="430"/>
                  <a:pt x="2514" y="452"/>
                </a:cubicBezTo>
                <a:cubicBezTo>
                  <a:pt x="2538" y="507"/>
                  <a:pt x="2522" y="571"/>
                  <a:pt x="2528" y="630"/>
                </a:cubicBezTo>
                <a:cubicBezTo>
                  <a:pt x="2542" y="754"/>
                  <a:pt x="2606" y="734"/>
                  <a:pt x="2706" y="768"/>
                </a:cubicBezTo>
                <a:cubicBezTo>
                  <a:pt x="2748" y="832"/>
                  <a:pt x="2747" y="873"/>
                  <a:pt x="2816" y="918"/>
                </a:cubicBezTo>
                <a:cubicBezTo>
                  <a:pt x="2864" y="1066"/>
                  <a:pt x="2845" y="972"/>
                  <a:pt x="2829" y="1206"/>
                </a:cubicBezTo>
                <a:cubicBezTo>
                  <a:pt x="2733" y="1202"/>
                  <a:pt x="2637" y="1200"/>
                  <a:pt x="2541" y="1193"/>
                </a:cubicBezTo>
                <a:cubicBezTo>
                  <a:pt x="2513" y="1191"/>
                  <a:pt x="2484" y="1191"/>
                  <a:pt x="2459" y="1179"/>
                </a:cubicBezTo>
                <a:cubicBezTo>
                  <a:pt x="2444" y="1172"/>
                  <a:pt x="2446" y="1147"/>
                  <a:pt x="2432" y="1138"/>
                </a:cubicBezTo>
                <a:cubicBezTo>
                  <a:pt x="2407" y="1122"/>
                  <a:pt x="2349" y="1110"/>
                  <a:pt x="2349" y="1110"/>
                </a:cubicBezTo>
                <a:cubicBezTo>
                  <a:pt x="2249" y="1115"/>
                  <a:pt x="2148" y="1118"/>
                  <a:pt x="2048" y="1124"/>
                </a:cubicBezTo>
                <a:cubicBezTo>
                  <a:pt x="1998" y="1127"/>
                  <a:pt x="1945" y="1122"/>
                  <a:pt x="1897" y="1138"/>
                </a:cubicBezTo>
                <a:cubicBezTo>
                  <a:pt x="1857" y="1151"/>
                  <a:pt x="1816" y="1233"/>
                  <a:pt x="1787" y="1261"/>
                </a:cubicBezTo>
                <a:cubicBezTo>
                  <a:pt x="1773" y="1257"/>
                  <a:pt x="1758" y="1255"/>
                  <a:pt x="1746" y="1248"/>
                </a:cubicBezTo>
                <a:cubicBezTo>
                  <a:pt x="1735" y="1241"/>
                  <a:pt x="1731" y="1226"/>
                  <a:pt x="1719" y="1220"/>
                </a:cubicBezTo>
                <a:cubicBezTo>
                  <a:pt x="1693" y="1207"/>
                  <a:pt x="1664" y="1202"/>
                  <a:pt x="1636" y="1193"/>
                </a:cubicBezTo>
                <a:cubicBezTo>
                  <a:pt x="1558" y="1167"/>
                  <a:pt x="1483" y="1140"/>
                  <a:pt x="1403" y="1124"/>
                </a:cubicBezTo>
                <a:cubicBezTo>
                  <a:pt x="1252" y="1129"/>
                  <a:pt x="1101" y="1126"/>
                  <a:pt x="951" y="1138"/>
                </a:cubicBezTo>
                <a:cubicBezTo>
                  <a:pt x="922" y="1140"/>
                  <a:pt x="868" y="1165"/>
                  <a:pt x="868" y="1165"/>
                </a:cubicBezTo>
                <a:cubicBezTo>
                  <a:pt x="799" y="1237"/>
                  <a:pt x="694" y="1194"/>
                  <a:pt x="608" y="1165"/>
                </a:cubicBezTo>
                <a:cubicBezTo>
                  <a:pt x="588" y="1105"/>
                  <a:pt x="559" y="1059"/>
                  <a:pt x="539" y="1001"/>
                </a:cubicBezTo>
                <a:cubicBezTo>
                  <a:pt x="534" y="941"/>
                  <a:pt x="534" y="881"/>
                  <a:pt x="525" y="822"/>
                </a:cubicBezTo>
                <a:cubicBezTo>
                  <a:pt x="507" y="711"/>
                  <a:pt x="398" y="555"/>
                  <a:pt x="292" y="521"/>
                </a:cubicBezTo>
                <a:cubicBezTo>
                  <a:pt x="274" y="503"/>
                  <a:pt x="262" y="474"/>
                  <a:pt x="237" y="466"/>
                </a:cubicBezTo>
                <a:cubicBezTo>
                  <a:pt x="173" y="444"/>
                  <a:pt x="144" y="427"/>
                  <a:pt x="87" y="397"/>
                </a:cubicBezTo>
              </a:path>
            </a:pathLst>
          </a:custGeom>
          <a:noFill/>
          <a:ln w="9360">
            <a:solidFill>
              <a:srgbClr val="ffff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324000" y="18900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WordArt 15"/>
          <p:cNvSpPr txBox="1"/>
          <p:nvPr/>
        </p:nvSpPr>
        <p:spPr>
          <a:xfrm>
            <a:off x="0" y="18900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做一做</a:t>
            </a:r>
            <a:endParaRPr b="0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23" name="Picture 16" descr="rose8"/>
          <p:cNvPicPr/>
          <p:nvPr/>
        </p:nvPicPr>
        <p:blipFill>
          <a:blip r:embed="rId3"/>
          <a:stretch/>
        </p:blipFill>
        <p:spPr>
          <a:xfrm>
            <a:off x="7684920" y="5398920"/>
            <a:ext cx="1459080" cy="14590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7"/>
          <p:cNvSpPr/>
          <p:nvPr/>
        </p:nvSpPr>
        <p:spPr>
          <a:xfrm>
            <a:off x="1969920" y="51703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４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２０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1=864.3≈864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平方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7956720" y="5877000"/>
            <a:ext cx="72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4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9"/>
          <p:cNvSpPr/>
          <p:nvPr/>
        </p:nvSpPr>
        <p:spPr>
          <a:xfrm>
            <a:off x="1509840" y="617544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这块地的面积约是８６４平方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Oval 25"/>
          <p:cNvSpPr/>
          <p:nvPr/>
        </p:nvSpPr>
        <p:spPr>
          <a:xfrm>
            <a:off x="250920" y="0"/>
            <a:ext cx="1944720" cy="907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1187280" y="836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计算下面平行四边形的面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1042920" y="2060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做法一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4500720" y="2133720"/>
            <a:ext cx="376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做法二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7"/>
          <p:cNvSpPr/>
          <p:nvPr/>
        </p:nvSpPr>
        <p:spPr>
          <a:xfrm>
            <a:off x="1116000" y="3068640"/>
            <a:ext cx="2592360" cy="1297080"/>
          </a:xfrm>
          <a:prstGeom prst="parallelogram">
            <a:avLst>
              <a:gd name="adj" fmla="val 4993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8"/>
          <p:cNvSpPr/>
          <p:nvPr/>
        </p:nvSpPr>
        <p:spPr>
          <a:xfrm>
            <a:off x="4140360" y="3068640"/>
            <a:ext cx="2592360" cy="1297080"/>
          </a:xfrm>
          <a:prstGeom prst="parallelogram">
            <a:avLst>
              <a:gd name="adj" fmla="val 4993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1763640" y="3068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147636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4500720" y="472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3"/>
          <p:cNvSpPr/>
          <p:nvPr/>
        </p:nvSpPr>
        <p:spPr>
          <a:xfrm>
            <a:off x="4788000" y="3068640"/>
            <a:ext cx="1512720" cy="79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14"/>
          <p:cNvSpPr/>
          <p:nvPr/>
        </p:nvSpPr>
        <p:spPr>
          <a:xfrm rot="1080000">
            <a:off x="5292000" y="3141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324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6×5=48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平方厘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6"/>
          <p:cNvSpPr/>
          <p:nvPr/>
        </p:nvSpPr>
        <p:spPr>
          <a:xfrm>
            <a:off x="4211640" y="5229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6×7=67.2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平方厘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1187280" y="836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计算下面平行四边形的面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8"/>
          <p:cNvSpPr/>
          <p:nvPr/>
        </p:nvSpPr>
        <p:spPr>
          <a:xfrm>
            <a:off x="1763640" y="3068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9"/>
          <p:cNvSpPr/>
          <p:nvPr/>
        </p:nvSpPr>
        <p:spPr>
          <a:xfrm>
            <a:off x="1908000" y="350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５厘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20"/>
          <p:cNvSpPr/>
          <p:nvPr/>
        </p:nvSpPr>
        <p:spPr>
          <a:xfrm>
            <a:off x="1116000" y="3068640"/>
            <a:ext cx="2592360" cy="1297080"/>
          </a:xfrm>
          <a:prstGeom prst="parallelogram">
            <a:avLst>
              <a:gd name="adj" fmla="val 4993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21"/>
          <p:cNvSpPr/>
          <p:nvPr/>
        </p:nvSpPr>
        <p:spPr>
          <a:xfrm>
            <a:off x="1763640" y="3068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258920" y="57340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哪种方法正确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为什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0" y="33336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27"/>
          <p:cNvSpPr/>
          <p:nvPr/>
        </p:nvSpPr>
        <p:spPr>
          <a:xfrm>
            <a:off x="4788000" y="3068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WordArt 32"/>
          <p:cNvSpPr txBox="1"/>
          <p:nvPr/>
        </p:nvSpPr>
        <p:spPr>
          <a:xfrm>
            <a:off x="0" y="260280"/>
            <a:ext cx="1828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变一变</a:t>
            </a:r>
            <a:endParaRPr b="0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49" name="Picture 33" descr="rose8"/>
          <p:cNvPicPr/>
          <p:nvPr/>
        </p:nvPicPr>
        <p:blipFill>
          <a:blip r:embed="rId3"/>
          <a:stretch/>
        </p:blipFill>
        <p:spPr>
          <a:xfrm>
            <a:off x="7524720" y="5589720"/>
            <a:ext cx="1098720" cy="10983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34"/>
          <p:cNvSpPr/>
          <p:nvPr/>
        </p:nvSpPr>
        <p:spPr>
          <a:xfrm>
            <a:off x="2411280" y="2133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940360" y="22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596360" y="5877000"/>
            <a:ext cx="1008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4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Oval 6"/>
          <p:cNvSpPr/>
          <p:nvPr/>
        </p:nvSpPr>
        <p:spPr>
          <a:xfrm>
            <a:off x="324000" y="260280"/>
            <a:ext cx="3816360" cy="158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684360" y="206064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下图中两个平行四边形的面积相等吗？为什么？每个平行四边形的面积是多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684360" y="476280"/>
            <a:ext cx="24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提高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6" name="Line 15"/>
          <p:cNvSpPr/>
          <p:nvPr/>
        </p:nvSpPr>
        <p:spPr>
          <a:xfrm>
            <a:off x="2276640" y="3203640"/>
            <a:ext cx="27349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6"/>
          <p:cNvSpPr/>
          <p:nvPr/>
        </p:nvSpPr>
        <p:spPr>
          <a:xfrm>
            <a:off x="2419200" y="3924360"/>
            <a:ext cx="39610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7"/>
          <p:cNvSpPr/>
          <p:nvPr/>
        </p:nvSpPr>
        <p:spPr>
          <a:xfrm flipV="1">
            <a:off x="3787920" y="3203640"/>
            <a:ext cx="1296720" cy="72072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8"/>
          <p:cNvSpPr/>
          <p:nvPr/>
        </p:nvSpPr>
        <p:spPr>
          <a:xfrm>
            <a:off x="5084640" y="320364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9"/>
          <p:cNvSpPr/>
          <p:nvPr/>
        </p:nvSpPr>
        <p:spPr>
          <a:xfrm flipV="1">
            <a:off x="5084640" y="3203640"/>
            <a:ext cx="1366920" cy="72072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20"/>
          <p:cNvSpPr/>
          <p:nvPr/>
        </p:nvSpPr>
        <p:spPr>
          <a:xfrm>
            <a:off x="4435560" y="3203640"/>
            <a:ext cx="720720" cy="72072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21"/>
          <p:cNvSpPr/>
          <p:nvPr/>
        </p:nvSpPr>
        <p:spPr>
          <a:xfrm flipH="1" flipV="1">
            <a:off x="3067200" y="3203640"/>
            <a:ext cx="720720" cy="72072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23"/>
          <p:cNvSpPr/>
          <p:nvPr/>
        </p:nvSpPr>
        <p:spPr>
          <a:xfrm>
            <a:off x="3067200" y="3203640"/>
            <a:ext cx="14414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24"/>
          <p:cNvSpPr/>
          <p:nvPr/>
        </p:nvSpPr>
        <p:spPr>
          <a:xfrm>
            <a:off x="5084640" y="3203640"/>
            <a:ext cx="12956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5"/>
          <p:cNvSpPr/>
          <p:nvPr/>
        </p:nvSpPr>
        <p:spPr>
          <a:xfrm>
            <a:off x="3787920" y="3924360"/>
            <a:ext cx="136836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7"/>
          <p:cNvSpPr/>
          <p:nvPr/>
        </p:nvSpPr>
        <p:spPr>
          <a:xfrm>
            <a:off x="3787920" y="3203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28"/>
          <p:cNvSpPr/>
          <p:nvPr/>
        </p:nvSpPr>
        <p:spPr>
          <a:xfrm>
            <a:off x="3716280" y="3276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１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６厘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29"/>
          <p:cNvSpPr/>
          <p:nvPr/>
        </p:nvSpPr>
        <p:spPr>
          <a:xfrm>
            <a:off x="3787920" y="4140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厘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30"/>
          <p:cNvSpPr/>
          <p:nvPr/>
        </p:nvSpPr>
        <p:spPr>
          <a:xfrm>
            <a:off x="907920" y="3995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相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31"/>
          <p:cNvSpPr/>
          <p:nvPr/>
        </p:nvSpPr>
        <p:spPr>
          <a:xfrm>
            <a:off x="619200" y="4788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5×1.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＝４（平方厘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32"/>
          <p:cNvSpPr/>
          <p:nvPr/>
        </p:nvSpPr>
        <p:spPr>
          <a:xfrm>
            <a:off x="7956720" y="4940280"/>
            <a:ext cx="1008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6:55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51Z</dcterms:modified>
  <cp:revision>8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