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05C-3147-4B21-849D-EF6F5166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749-F8C5-4C0B-9A2A-2A08FB3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59F-8BD0-4864-8915-A727597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689-0F26-483F-B12E-F2EAD169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05B4-0418-4E7B-BDC7-DB5D5001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8BD9-EE81-45BD-BF08-59294B31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CB5-AE70-49F6-92A3-785EF99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EF9-6134-413E-839B-E7E3BC93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2287-E2F3-4B02-AA6D-CB0C7453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2F1F-8FE9-4135-9A1B-F69B0FF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FA17-8617-4923-A67C-22A8AFF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E8A-FB9B-49F0-9639-0BBB54C7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336-265F-450A-9990-C3F53F5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7BA-FBBE-498E-9CB0-47BD418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11FC-E202-4891-904A-C134E0D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73FA-9589-4998-9804-B5AF4793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1F5-0A24-412A-A389-9814D3CC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D21-73D6-468E-B0E8-5F2937F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F9A-A6D4-46C0-ACEA-05CAA8F0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177-7DF7-419F-AEC6-1DCEB0DC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0E3-1551-4B17-AFC4-A7B4734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4B3-6D18-4A08-92CD-E18B60BF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7C4-23F7-41F6-AE66-4C898ECD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837-E8E9-473B-ACF6-C2D011A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97E3-C305-4D43-AC3B-E9B64D6E4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9B6-54FA-4C04-879C-412245EF31F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6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4" descr=""/>
          <p:cNvPicPr/>
          <p:nvPr/>
        </p:nvPicPr>
        <p:blipFill>
          <a:blip r:embed="rId17"/>
          <a:stretch/>
        </p:blipFill>
        <p:spPr>
          <a:xfrm>
            <a:off x="539640" y="1052640"/>
            <a:ext cx="7991640" cy="2216160"/>
          </a:xfrm>
          <a:prstGeom prst="rect">
            <a:avLst/>
          </a:prstGeom>
          <a:ln w="0">
            <a:noFill/>
          </a:ln>
        </p:spPr>
      </p:pic>
      <p:sp>
        <p:nvSpPr>
          <p:cNvPr id="85" name="矩形 11"/>
          <p:cNvSpPr/>
          <p:nvPr/>
        </p:nvSpPr>
        <p:spPr>
          <a:xfrm>
            <a:off x="2355120" y="6334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沙漠是怎样形成的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世界上有许多大沙漠，如非洲撒哈拉大沙漠，面积为</a:t>
            </a:r>
            <a:r>
              <a:rPr b="1" lang="en-US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800</a:t>
            </a: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多万平方千米，比澳大利亚面积还大。我国沙漠的面积，相当于我国可耕地面积的总和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　　干旱和风是形成沙漠的两个主要原因。沙漠地区气候干燥，雨量稀少，地面上缺少植物的掩盖；白天光照强烈，气温很高，而夜间气温急骤下降，往往降到零度以下。岩石长期遭受昼夜不息的热胀冷缩，于是像蜕壳一样不断地剥落，而风化的石块又进一步被粉碎成沙粒。当岩石被风化成沙粒后，狂风把沙粒吹跑堆积成一个个沙丘，铺盖在整个地面上。世界上几乎所有的大沙漠都是这样形成的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　　人类滥伐森林，破坏草原，使土地表面失去植物的掩盖，也是沙漠形成的一个重要原因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国家环保总局和中国科学院联合组织的“探索沙尘暴”科考结果表明：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沙尘暴与干旱荒漠化地区不合理开发有直接关系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通过考察沙尘暴发源地生态环境的现状，探究了沙尘暴的形成原因和危害，为探寻更科学、更合理的沙尘暴防治措施奠定了基础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　科学家深入荒漠、戈壁和绿洲，实地考察了近年来荒漠化加剧，生态急剧恶化、沙尘暴频发区以及沙尘源区，全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7000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多公里，收集了大量的第一手资料，为我国北方治理沙尘暴提供了宝贵的资料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　考察活动的研究表明，进入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年代沙尘暴频繁发生，与人类在干旱荒漠化地区不合理的开发利用有着直接关系，人类对环境过度的“索取”是造成沙尘暴频发的一个主要原因。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706320" y="5978520"/>
            <a:ext cx="80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183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国家环保总局和中国科学院联合组织的“探索沙尘暴”科考结果表明：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　沙尘暴与干旱荒漠化地区不合理开发有直接关系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　通过考察沙尘暴发源地生态环境的现状，探究了沙尘暴的形成原因和危害，为探寻更科学、更合理的沙尘暴防治措施奠定了基础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　科学家深入荒漠、戈壁和绿洲，实地考察了近年来荒漠化加剧，生态急剧恶化、沙尘暴频发区以及沙尘源区，全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7000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多公里，收集了大量的第一手资料，为我国北方治理沙尘暴提供了宝贵的资料。</a:t>
            </a:r>
            <a:br>
              <a:rPr sz="2400"/>
            </a:b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　　考察活动的研究表明，进入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年代沙尘暴频繁发生，与人类在干旱荒漠化地区不合理的开发利用有着直接关系，人类对环境过度的“索取”是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造成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沙尘暴频发的一个主要原因。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心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”的宣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483920"/>
            <a:ext cx="88423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我们同处一个星球，我们都有一个共同的家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“爱护地球，爱我们的家”不是一句空话，不是一句口号，而是我发自内心的呼喊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让我们看看这个曾经、正在并且还要养育我们的蓝色星球吧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她已经满目疮痍、不忍瘁睹。她曾经是多么的美丽动人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是我们这些不孝的子孙却把她这样的蹂躏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我们来自于自然，本属于自然，可是我们却总想着有一天驾凌于自然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两年前，我去宁波。在一路飞驰的列车上，我极目远眺。一幢幢的楼房拔地而起，可悲哀的是，我没有找到哪怕一条清清的小河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是不是我们只有在酣梦中才可见到蓝色的大海，是不是我们只有在幻想里才可找到儿时的美景</a:t>
            </a: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?</a:t>
            </a:r>
            <a:r>
              <a:rPr b="1" lang="zh-CN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是不是我们从来只会搬起石头砸自己的脚，是不是只有在走投无路时，我们才会在绝望里回忆从前的蠢举</a:t>
            </a: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?!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亲爱的朋友，问问我们自己：我们能为这个家做点什么</a:t>
            </a: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?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问问我们自己：我们应该为这个家做点什么</a:t>
            </a: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?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问问我们自己：我们现在该为这个家做点什么</a:t>
            </a: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?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问问我们的朋友：你能为这个家做点什么</a:t>
            </a:r>
            <a:r>
              <a:rPr b="1" lang="en-US" sz="2800" spc="-1" strike="noStrike">
                <a:solidFill>
                  <a:srgbClr val="003399"/>
                </a:solidFill>
                <a:latin typeface="仿宋_GB2312"/>
                <a:ea typeface="仿宋_GB2312"/>
              </a:rPr>
              <a:t>?</a:t>
            </a:r>
            <a:r>
              <a:rPr b="0" lang="en-US" sz="5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4783-1433-4332-BB01-BB11D5BFAC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26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2:24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