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gif" ContentType="image/gif"/>
  <Override PartName="/ppt/media/image19.jpeg" ContentType="image/jpeg"/>
  <Override PartName="/ppt/media/image1.jpeg" ContentType="image/jpeg"/>
  <Override PartName="/ppt/media/image5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2.gif" ContentType="image/gif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455-A102-4EDB-863B-6C24B166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17D-5DA1-4FAD-9146-953F5A7C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2E3-5FAE-4655-98FD-9E2399C6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D9E4-C0DC-4E5A-8871-F1FC4657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8E3-E84E-4679-A210-FBA0E4BB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34F-5A49-4CBC-AE25-748B2C45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68B3-8F43-431B-B895-9C306C19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BC1-A399-4639-8D3F-8B6E1E41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69E-5B4A-49B0-9EFE-F8EA35AE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5C9-E405-4D79-87EE-613B9397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600-40F9-4406-B94D-6D6E5EF7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E29-AEEE-4002-86CF-72D9E9F3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D1E1-83C9-416A-B3C7-4B01111B4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16360" y="3068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021031051c_2"/>
          <p:cNvPicPr/>
          <p:nvPr/>
        </p:nvPicPr>
        <p:blipFill>
          <a:blip r:embed="rId1"/>
          <a:stretch/>
        </p:blipFill>
        <p:spPr>
          <a:xfrm>
            <a:off x="2133720" y="1828800"/>
            <a:ext cx="5029200" cy="335268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1447920" y="533520"/>
            <a:ext cx="525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秋天的图画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908000" y="5624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D:\Program Files\My Documents\秋天的图画\FJ096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59c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D:\Program Files\My Documents\秋天的图画\dd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D:\Program Files\My Documents\秋天的图画\d190.gif"/>
          <p:cNvPicPr/>
          <p:nvPr/>
        </p:nvPicPr>
        <p:blipFill>
          <a:blip r:embed="rId3"/>
          <a:stretch/>
        </p:blipFill>
        <p:spPr>
          <a:xfrm>
            <a:off x="5562720" y="268200"/>
            <a:ext cx="761760" cy="40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D:\Program Files\My Documents\秋天的图画\d190.gif"/>
          <p:cNvPicPr/>
          <p:nvPr/>
        </p:nvPicPr>
        <p:blipFill>
          <a:blip r:embed="rId4"/>
          <a:stretch/>
        </p:blipFill>
        <p:spPr>
          <a:xfrm>
            <a:off x="7391520" y="420840"/>
            <a:ext cx="761760" cy="40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D:\Program Files\My Documents\秋天的图画\d190.gif"/>
          <p:cNvPicPr/>
          <p:nvPr/>
        </p:nvPicPr>
        <p:blipFill>
          <a:blip r:embed="rId5"/>
          <a:stretch/>
        </p:blipFill>
        <p:spPr>
          <a:xfrm>
            <a:off x="5181480" y="533520"/>
            <a:ext cx="914400" cy="55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D:\Program Files\My Documents\秋天的图画\d190.gif"/>
          <p:cNvPicPr/>
          <p:nvPr/>
        </p:nvPicPr>
        <p:blipFill>
          <a:blip r:embed="rId6"/>
          <a:stretch/>
        </p:blipFill>
        <p:spPr>
          <a:xfrm>
            <a:off x="4876920" y="1030320"/>
            <a:ext cx="1066680" cy="56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D:\Program Files\My Documents\秋天的图画\d190.gif"/>
          <p:cNvPicPr/>
          <p:nvPr/>
        </p:nvPicPr>
        <p:blipFill>
          <a:blip r:embed="rId7"/>
          <a:stretch/>
        </p:blipFill>
        <p:spPr>
          <a:xfrm>
            <a:off x="4800600" y="1523880"/>
            <a:ext cx="1066680" cy="563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D:\Program Files\My Documents\秋天的图画\d190.gif"/>
          <p:cNvPicPr/>
          <p:nvPr/>
        </p:nvPicPr>
        <p:blipFill>
          <a:blip r:embed="rId8"/>
          <a:stretch/>
        </p:blipFill>
        <p:spPr>
          <a:xfrm>
            <a:off x="4648320" y="1981080"/>
            <a:ext cx="1295280" cy="608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D:\Program Files\My Documents\秋天的图画\d190.gif"/>
          <p:cNvPicPr/>
          <p:nvPr/>
        </p:nvPicPr>
        <p:blipFill>
          <a:blip r:embed="rId9"/>
          <a:stretch/>
        </p:blipFill>
        <p:spPr>
          <a:xfrm>
            <a:off x="5715000" y="1600200"/>
            <a:ext cx="1143000" cy="603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D:\Program Files\My Documents\秋天的图画\d190.gif"/>
          <p:cNvPicPr/>
          <p:nvPr/>
        </p:nvPicPr>
        <p:blipFill>
          <a:blip r:embed="rId10"/>
          <a:stretch/>
        </p:blipFill>
        <p:spPr>
          <a:xfrm>
            <a:off x="6324480" y="1219320"/>
            <a:ext cx="990720" cy="523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D:\Program Files\My Documents\秋天的图画\d190.gif"/>
          <p:cNvPicPr/>
          <p:nvPr/>
        </p:nvPicPr>
        <p:blipFill>
          <a:blip r:embed="rId11"/>
          <a:stretch/>
        </p:blipFill>
        <p:spPr>
          <a:xfrm>
            <a:off x="6934320" y="838080"/>
            <a:ext cx="83808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367080" y="533520"/>
            <a:ext cx="2504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5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梨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D:\Program Files\My Documents\秋天的图画\d187.gif"/>
          <p:cNvPicPr/>
          <p:nvPr/>
        </p:nvPicPr>
        <p:blipFill>
          <a:blip r:embed="rId2"/>
          <a:stretch/>
        </p:blipFill>
        <p:spPr>
          <a:xfrm>
            <a:off x="762120" y="4876920"/>
            <a:ext cx="12189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367080" y="533520"/>
            <a:ext cx="2504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5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作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D:\Program Files\My Documents\秋天的图画\d039.gif"/>
          <p:cNvPicPr/>
          <p:nvPr/>
        </p:nvPicPr>
        <p:blipFill>
          <a:blip r:embed="rId2"/>
          <a:stretch/>
        </p:blipFill>
        <p:spPr>
          <a:xfrm>
            <a:off x="7315200" y="4952880"/>
            <a:ext cx="9763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5">
            <a:hlinkClick r:id="rId2" action="ppaction://hlinksldjump"/>
          </p:cNvPr>
          <p:cNvSpPr/>
          <p:nvPr/>
        </p:nvSpPr>
        <p:spPr>
          <a:xfrm>
            <a:off x="1066680" y="1295280"/>
            <a:ext cx="2895840" cy="1143000"/>
          </a:xfrm>
          <a:custGeom>
            <a:avLst/>
            <a:gdLst>
              <a:gd name="textAreaLeft" fmla="*/ 423720 w 2895840"/>
              <a:gd name="textAreaRight" fmla="*/ 2472120 w 2895840"/>
              <a:gd name="textAreaTop" fmla="*/ 11880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187" y="0"/>
                </a:lnTo>
                <a:arcTo wR="675" hR="563" stAng="16200000" swAng="5400000"/>
                <a:lnTo>
                  <a:pt x="5862" y="2250"/>
                </a:lnTo>
                <a:lnTo>
                  <a:pt x="15738" y="2250"/>
                </a:lnTo>
                <a:lnTo>
                  <a:pt x="15738" y="563"/>
                </a:lnTo>
                <a:arcTo wR="675" hR="563" stAng="10800000" swAng="5400000"/>
                <a:lnTo>
                  <a:pt x="21600" y="0"/>
                </a:lnTo>
                <a:lnTo>
                  <a:pt x="18900" y="9675"/>
                </a:lnTo>
                <a:lnTo>
                  <a:pt x="21600" y="19350"/>
                </a:lnTo>
                <a:lnTo>
                  <a:pt x="18438" y="19350"/>
                </a:lnTo>
                <a:lnTo>
                  <a:pt x="18438" y="21038"/>
                </a:lnTo>
                <a:arcTo wR="675" hR="563" stAng="0" swAng="5400000"/>
                <a:lnTo>
                  <a:pt x="3837" y="21600"/>
                </a:lnTo>
                <a:arcTo wR="675" hR="563" stAng="5400000" swAng="5400000"/>
                <a:lnTo>
                  <a:pt x="3162" y="19350"/>
                </a:lnTo>
                <a:lnTo>
                  <a:pt x="0" y="19350"/>
                </a:lnTo>
                <a:lnTo>
                  <a:pt x="2700" y="9675"/>
                </a:lnTo>
                <a:close/>
              </a:path>
              <a:path fill="none" w="21600" h="21600">
                <a:moveTo>
                  <a:pt x="5862" y="563"/>
                </a:moveTo>
                <a:arcTo wR="675" hR="563" stAng="0" swAng="5400000"/>
                <a:lnTo>
                  <a:pt x="3837" y="1125"/>
                </a:lnTo>
                <a:arcTo wR="675" hR="563" stAng="16200000" swAng="-5400000"/>
                <a:arcTo wR="675" hR="563" stAng="10800000" swAng="-5400000"/>
                <a:lnTo>
                  <a:pt x="5862" y="2250"/>
                </a:lnTo>
              </a:path>
              <a:path fill="none" w="21600" h="21600">
                <a:moveTo>
                  <a:pt x="15738" y="563"/>
                </a:moveTo>
                <a:arcTo wR="675" hR="563" stAng="10800000" swAng="-5400000"/>
                <a:lnTo>
                  <a:pt x="17763" y="1125"/>
                </a:lnTo>
                <a:arcTo wR="675" hR="563" stAng="16200000" swAng="5400000"/>
                <a:arcTo wR="675" hR="563" stAng="0" swAng="5400000"/>
                <a:lnTo>
                  <a:pt x="15738" y="2250"/>
                </a:lnTo>
              </a:path>
              <a:path fill="none" w="21600" h="21600">
                <a:moveTo>
                  <a:pt x="3162" y="1688"/>
                </a:moveTo>
                <a:lnTo>
                  <a:pt x="3162" y="19350"/>
                </a:lnTo>
              </a:path>
              <a:path fill="none" w="21600" h="21600">
                <a:moveTo>
                  <a:pt x="18438" y="1688"/>
                </a:moveTo>
                <a:lnTo>
                  <a:pt x="18438" y="1935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imes New Roman"/>
                <a:ea typeface="幼圆"/>
              </a:rPr>
              <a:t>风光欣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6">
            <a:hlinkClick r:id="rId3" action="ppaction://hlinksldjump"/>
          </p:cNvPr>
          <p:cNvSpPr/>
          <p:nvPr/>
        </p:nvSpPr>
        <p:spPr>
          <a:xfrm>
            <a:off x="990720" y="3581280"/>
            <a:ext cx="2895480" cy="1219320"/>
          </a:xfrm>
          <a:custGeom>
            <a:avLst/>
            <a:gdLst>
              <a:gd name="textAreaLeft" fmla="*/ 423720 w 2895480"/>
              <a:gd name="textAreaRight" fmla="*/ 2471760 w 2895480"/>
              <a:gd name="textAreaTop" fmla="*/ 12672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187" y="0"/>
                </a:lnTo>
                <a:arcTo wR="675" hR="563" stAng="16200000" swAng="5400000"/>
                <a:lnTo>
                  <a:pt x="5862" y="2250"/>
                </a:lnTo>
                <a:lnTo>
                  <a:pt x="15738" y="2250"/>
                </a:lnTo>
                <a:lnTo>
                  <a:pt x="15738" y="563"/>
                </a:lnTo>
                <a:arcTo wR="675" hR="563" stAng="10800000" swAng="5400000"/>
                <a:lnTo>
                  <a:pt x="21600" y="0"/>
                </a:lnTo>
                <a:lnTo>
                  <a:pt x="18900" y="9675"/>
                </a:lnTo>
                <a:lnTo>
                  <a:pt x="21600" y="19350"/>
                </a:lnTo>
                <a:lnTo>
                  <a:pt x="18438" y="19350"/>
                </a:lnTo>
                <a:lnTo>
                  <a:pt x="18438" y="21038"/>
                </a:lnTo>
                <a:arcTo wR="675" hR="563" stAng="0" swAng="5400000"/>
                <a:lnTo>
                  <a:pt x="3837" y="21600"/>
                </a:lnTo>
                <a:arcTo wR="675" hR="563" stAng="5400000" swAng="5400000"/>
                <a:lnTo>
                  <a:pt x="3162" y="19350"/>
                </a:lnTo>
                <a:lnTo>
                  <a:pt x="0" y="19350"/>
                </a:lnTo>
                <a:lnTo>
                  <a:pt x="2700" y="9675"/>
                </a:lnTo>
                <a:close/>
              </a:path>
              <a:path fill="none" w="21600" h="21600">
                <a:moveTo>
                  <a:pt x="5862" y="563"/>
                </a:moveTo>
                <a:arcTo wR="675" hR="563" stAng="0" swAng="5400000"/>
                <a:lnTo>
                  <a:pt x="3837" y="1125"/>
                </a:lnTo>
                <a:arcTo wR="675" hR="563" stAng="16200000" swAng="-5400000"/>
                <a:arcTo wR="675" hR="563" stAng="10800000" swAng="-5400000"/>
                <a:lnTo>
                  <a:pt x="5862" y="2250"/>
                </a:lnTo>
              </a:path>
              <a:path fill="none" w="21600" h="21600">
                <a:moveTo>
                  <a:pt x="15738" y="563"/>
                </a:moveTo>
                <a:arcTo wR="675" hR="563" stAng="10800000" swAng="-5400000"/>
                <a:lnTo>
                  <a:pt x="17763" y="1125"/>
                </a:lnTo>
                <a:arcTo wR="675" hR="563" stAng="16200000" swAng="5400000"/>
                <a:arcTo wR="675" hR="563" stAng="0" swAng="5400000"/>
                <a:lnTo>
                  <a:pt x="15738" y="2250"/>
                </a:lnTo>
              </a:path>
              <a:path fill="none" w="21600" h="21600">
                <a:moveTo>
                  <a:pt x="3162" y="1688"/>
                </a:moveTo>
                <a:lnTo>
                  <a:pt x="3162" y="19350"/>
                </a:lnTo>
              </a:path>
              <a:path fill="none" w="21600" h="21600">
                <a:moveTo>
                  <a:pt x="18438" y="1688"/>
                </a:moveTo>
                <a:lnTo>
                  <a:pt x="18438" y="1935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幼圆"/>
              </a:rPr>
              <a:t>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7">
            <a:hlinkClick r:id="rId4" action="ppaction://hlinksldjump"/>
          </p:cNvPr>
          <p:cNvSpPr/>
          <p:nvPr/>
        </p:nvSpPr>
        <p:spPr>
          <a:xfrm>
            <a:off x="5257800" y="3505320"/>
            <a:ext cx="2895480" cy="1218960"/>
          </a:xfrm>
          <a:custGeom>
            <a:avLst/>
            <a:gdLst>
              <a:gd name="textAreaLeft" fmla="*/ 423720 w 2895480"/>
              <a:gd name="textAreaRight" fmla="*/ 2471760 w 2895480"/>
              <a:gd name="textAreaTop" fmla="*/ 12672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187" y="0"/>
                </a:lnTo>
                <a:arcTo wR="675" hR="563" stAng="16200000" swAng="5400000"/>
                <a:lnTo>
                  <a:pt x="5862" y="2250"/>
                </a:lnTo>
                <a:lnTo>
                  <a:pt x="15738" y="2250"/>
                </a:lnTo>
                <a:lnTo>
                  <a:pt x="15738" y="563"/>
                </a:lnTo>
                <a:arcTo wR="675" hR="563" stAng="10800000" swAng="5400000"/>
                <a:lnTo>
                  <a:pt x="21600" y="0"/>
                </a:lnTo>
                <a:lnTo>
                  <a:pt x="18900" y="9675"/>
                </a:lnTo>
                <a:lnTo>
                  <a:pt x="21600" y="19350"/>
                </a:lnTo>
                <a:lnTo>
                  <a:pt x="18438" y="19350"/>
                </a:lnTo>
                <a:lnTo>
                  <a:pt x="18438" y="21038"/>
                </a:lnTo>
                <a:arcTo wR="675" hR="563" stAng="0" swAng="5400000"/>
                <a:lnTo>
                  <a:pt x="3837" y="21600"/>
                </a:lnTo>
                <a:arcTo wR="675" hR="563" stAng="5400000" swAng="5400000"/>
                <a:lnTo>
                  <a:pt x="3162" y="19350"/>
                </a:lnTo>
                <a:lnTo>
                  <a:pt x="0" y="19350"/>
                </a:lnTo>
                <a:lnTo>
                  <a:pt x="2700" y="9675"/>
                </a:lnTo>
                <a:close/>
              </a:path>
              <a:path fill="none" w="21600" h="21600">
                <a:moveTo>
                  <a:pt x="5862" y="563"/>
                </a:moveTo>
                <a:arcTo wR="675" hR="563" stAng="0" swAng="5400000"/>
                <a:lnTo>
                  <a:pt x="3837" y="1125"/>
                </a:lnTo>
                <a:arcTo wR="675" hR="563" stAng="16200000" swAng="-5400000"/>
                <a:arcTo wR="675" hR="563" stAng="10800000" swAng="-5400000"/>
                <a:lnTo>
                  <a:pt x="5862" y="2250"/>
                </a:lnTo>
              </a:path>
              <a:path fill="none" w="21600" h="21600">
                <a:moveTo>
                  <a:pt x="15738" y="563"/>
                </a:moveTo>
                <a:arcTo wR="675" hR="563" stAng="10800000" swAng="-5400000"/>
                <a:lnTo>
                  <a:pt x="17763" y="1125"/>
                </a:lnTo>
                <a:arcTo wR="675" hR="563" stAng="16200000" swAng="5400000"/>
                <a:arcTo wR="675" hR="563" stAng="0" swAng="5400000"/>
                <a:lnTo>
                  <a:pt x="15738" y="2250"/>
                </a:lnTo>
              </a:path>
              <a:path fill="none" w="21600" h="21600">
                <a:moveTo>
                  <a:pt x="3162" y="1688"/>
                </a:moveTo>
                <a:lnTo>
                  <a:pt x="3162" y="19350"/>
                </a:lnTo>
              </a:path>
              <a:path fill="none" w="21600" h="21600">
                <a:moveTo>
                  <a:pt x="18438" y="1688"/>
                </a:moveTo>
                <a:lnTo>
                  <a:pt x="18438" y="1935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幼圆"/>
              </a:rPr>
              <a:t>首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8">
            <a:hlinkClick r:id="rId5" action="ppaction://hlinksldjump"/>
          </p:cNvPr>
          <p:cNvSpPr/>
          <p:nvPr/>
        </p:nvSpPr>
        <p:spPr>
          <a:xfrm>
            <a:off x="5181480" y="1295280"/>
            <a:ext cx="2895840" cy="1143000"/>
          </a:xfrm>
          <a:custGeom>
            <a:avLst/>
            <a:gdLst>
              <a:gd name="textAreaLeft" fmla="*/ 423720 w 2895840"/>
              <a:gd name="textAreaRight" fmla="*/ 2472120 w 2895840"/>
              <a:gd name="textAreaTop" fmla="*/ 11880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187" y="0"/>
                </a:lnTo>
                <a:arcTo wR="675" hR="563" stAng="16200000" swAng="5400000"/>
                <a:lnTo>
                  <a:pt x="5862" y="2250"/>
                </a:lnTo>
                <a:lnTo>
                  <a:pt x="15738" y="2250"/>
                </a:lnTo>
                <a:lnTo>
                  <a:pt x="15738" y="563"/>
                </a:lnTo>
                <a:arcTo wR="675" hR="563" stAng="10800000" swAng="5400000"/>
                <a:lnTo>
                  <a:pt x="21600" y="0"/>
                </a:lnTo>
                <a:lnTo>
                  <a:pt x="18900" y="9675"/>
                </a:lnTo>
                <a:lnTo>
                  <a:pt x="21600" y="19350"/>
                </a:lnTo>
                <a:lnTo>
                  <a:pt x="18438" y="19350"/>
                </a:lnTo>
                <a:lnTo>
                  <a:pt x="18438" y="21038"/>
                </a:lnTo>
                <a:arcTo wR="675" hR="563" stAng="0" swAng="5400000"/>
                <a:lnTo>
                  <a:pt x="3837" y="21600"/>
                </a:lnTo>
                <a:arcTo wR="675" hR="563" stAng="5400000" swAng="5400000"/>
                <a:lnTo>
                  <a:pt x="3162" y="19350"/>
                </a:lnTo>
                <a:lnTo>
                  <a:pt x="0" y="19350"/>
                </a:lnTo>
                <a:lnTo>
                  <a:pt x="2700" y="9675"/>
                </a:lnTo>
                <a:close/>
              </a:path>
              <a:path fill="none" w="21600" h="21600">
                <a:moveTo>
                  <a:pt x="5862" y="563"/>
                </a:moveTo>
                <a:arcTo wR="675" hR="563" stAng="0" swAng="5400000"/>
                <a:lnTo>
                  <a:pt x="3837" y="1125"/>
                </a:lnTo>
                <a:arcTo wR="675" hR="563" stAng="16200000" swAng="-5400000"/>
                <a:arcTo wR="675" hR="563" stAng="10800000" swAng="-5400000"/>
                <a:lnTo>
                  <a:pt x="5862" y="2250"/>
                </a:lnTo>
              </a:path>
              <a:path fill="none" w="21600" h="21600">
                <a:moveTo>
                  <a:pt x="15738" y="563"/>
                </a:moveTo>
                <a:arcTo wR="675" hR="563" stAng="10800000" swAng="-5400000"/>
                <a:lnTo>
                  <a:pt x="17763" y="1125"/>
                </a:lnTo>
                <a:arcTo wR="675" hR="563" stAng="16200000" swAng="5400000"/>
                <a:arcTo wR="675" hR="563" stAng="0" swAng="5400000"/>
                <a:lnTo>
                  <a:pt x="15738" y="2250"/>
                </a:lnTo>
              </a:path>
              <a:path fill="none" w="21600" h="21600">
                <a:moveTo>
                  <a:pt x="3162" y="1688"/>
                </a:moveTo>
                <a:lnTo>
                  <a:pt x="3162" y="19350"/>
                </a:lnTo>
              </a:path>
              <a:path fill="none" w="21600" h="21600">
                <a:moveTo>
                  <a:pt x="18438" y="1688"/>
                </a:moveTo>
                <a:lnTo>
                  <a:pt x="18438" y="1935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幼圆"/>
              </a:rPr>
              <a:t>秋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347760" y="5619600"/>
            <a:ext cx="64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367080" y="533520"/>
            <a:ext cx="2504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5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笼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D:\Program Files\My Documents\秋天的图画\d293.gif"/>
          <p:cNvPicPr/>
          <p:nvPr/>
        </p:nvPicPr>
        <p:blipFill>
          <a:blip r:embed="rId2"/>
          <a:stretch/>
        </p:blipFill>
        <p:spPr>
          <a:xfrm>
            <a:off x="7162920" y="5105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367080" y="533520"/>
            <a:ext cx="2504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5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字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D:\Program Files\My Documents\秋天的图画\d142.gif"/>
          <p:cNvPicPr/>
          <p:nvPr/>
        </p:nvPicPr>
        <p:blipFill>
          <a:blip r:embed="rId2"/>
          <a:stretch/>
        </p:blipFill>
        <p:spPr>
          <a:xfrm>
            <a:off x="304920" y="4924440"/>
            <a:ext cx="16002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367080" y="533520"/>
            <a:ext cx="2504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5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梁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D:\Program Files\My Documents\秋天的图画\d039.gif"/>
          <p:cNvPicPr/>
          <p:nvPr/>
        </p:nvPicPr>
        <p:blipFill>
          <a:blip r:embed="rId2"/>
          <a:stretch/>
        </p:blipFill>
        <p:spPr>
          <a:xfrm>
            <a:off x="7315200" y="4952880"/>
            <a:ext cx="9763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367080" y="533520"/>
            <a:ext cx="2504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5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燃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D:\Program Files\My Documents\秋天的图画\d187.gif"/>
          <p:cNvPicPr/>
          <p:nvPr/>
        </p:nvPicPr>
        <p:blipFill>
          <a:blip r:embed="rId2"/>
          <a:stretch/>
        </p:blipFill>
        <p:spPr>
          <a:xfrm>
            <a:off x="838080" y="4876920"/>
            <a:ext cx="113040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523880" y="1219320"/>
            <a:ext cx="739152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波浪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D:\Program Files\My Documents\秋天的图画\d039.gif"/>
          <p:cNvPicPr/>
          <p:nvPr/>
        </p:nvPicPr>
        <p:blipFill>
          <a:blip r:embed="rId2"/>
          <a:stretch/>
        </p:blipFill>
        <p:spPr>
          <a:xfrm>
            <a:off x="7315200" y="4952880"/>
            <a:ext cx="9763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600200" y="1066680"/>
            <a:ext cx="647712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勤劳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D:\Program Files\My Documents\秋天的图画\d293.gif"/>
          <p:cNvPicPr/>
          <p:nvPr/>
        </p:nvPicPr>
        <p:blipFill>
          <a:blip r:embed="rId2"/>
          <a:stretch/>
        </p:blipFill>
        <p:spPr>
          <a:xfrm>
            <a:off x="7238880" y="50292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c9"/>
            </a:gs>
            <a:gs pos="50000">
              <a:srgbClr val="ccccff"/>
            </a:gs>
            <a:gs pos="100000">
              <a:srgbClr val="a1a1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838080" y="76320"/>
            <a:ext cx="1822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梨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10680" y="7632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作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501240" y="15228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笼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243440" y="426708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字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986640" y="426708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梁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6577560" y="43434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燃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>
            <a:hlinkClick r:id="rId1" action="ppaction://hlinksldjump"/>
          </p:cNvPr>
          <p:cNvSpPr/>
          <p:nvPr/>
        </p:nvSpPr>
        <p:spPr>
          <a:xfrm>
            <a:off x="1495080" y="2057400"/>
            <a:ext cx="2146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波浪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>
            <a:hlinkClick r:id="rId2" action="ppaction://hlinksldjump"/>
          </p:cNvPr>
          <p:cNvSpPr/>
          <p:nvPr/>
        </p:nvSpPr>
        <p:spPr>
          <a:xfrm>
            <a:off x="5381280" y="2057400"/>
            <a:ext cx="2146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勤劳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15A6-4955-4B97-B641-AF5D48FC55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2:17:42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32:33Z</dcterms:modified>
  <cp:revision>9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