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A83-E97E-42A0-8D0F-53AD77BF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A2F-71D4-4705-9018-A19E120D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5B1-32C3-4C6A-9A08-0E3DCF9B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023-4C84-4D41-B24F-FAF4B391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6B5-3D6C-4A69-95C1-1D103A2F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93D-8BE0-4FE7-9849-C7B73614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086-926E-4F20-84D7-F17DA1D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D18-07B0-4FF0-B171-0288E38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378-DE08-4016-B450-D3DA4EC1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E93-83C1-4B88-B5B4-4284A19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22E-3186-4A55-A77F-8B4A42F9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3A1-8689-4ECA-96E4-E72784EF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DC8B-37AD-442D-AD79-5FF5321D98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43C3-B5A7-4C8D-8E90-F3BDD5ECD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8760" y="428760"/>
          <a:ext cx="5929200" cy="7156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e1e20"/>
                          </a:solidFill>
                          <a:latin typeface="Arial"/>
                          <a:ea typeface="黑体"/>
                        </a:rPr>
                        <a:t>Recycle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6"/>
          <p:cNvSpPr/>
          <p:nvPr/>
        </p:nvSpPr>
        <p:spPr>
          <a:xfrm>
            <a:off x="642960" y="220968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e1e20"/>
                </a:solidFill>
                <a:latin typeface="Arial"/>
              </a:rPr>
              <a:t>第二课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396160" y="59436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04920" y="2300040"/>
            <a:ext cx="7162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Listen to “Listen and chant.”and try to recite the ch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2)Introduce your parents to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676880" y="609480"/>
            <a:ext cx="46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6600cc"/>
                </a:solidFill>
                <a:latin typeface="Arial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3F2D-BB7E-4AE7-855B-C718086C9A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28"/>
          <p:cNvPicPr/>
          <p:nvPr/>
        </p:nvPicPr>
        <p:blipFill>
          <a:blip r:embed="rId1"/>
          <a:stretch/>
        </p:blipFill>
        <p:spPr>
          <a:xfrm>
            <a:off x="304920" y="5029200"/>
            <a:ext cx="1981080" cy="890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895480" y="5181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lue bird is f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009042412401935"/>
          <p:cNvPicPr/>
          <p:nvPr/>
        </p:nvPicPr>
        <p:blipFill>
          <a:blip r:embed="rId2"/>
          <a:stretch/>
        </p:blipFill>
        <p:spPr>
          <a:xfrm>
            <a:off x="304920" y="609480"/>
            <a:ext cx="1752480" cy="1349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514600" y="1066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urtle is very s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09030216293879_480"/>
          <p:cNvPicPr/>
          <p:nvPr/>
        </p:nvPicPr>
        <p:blipFill>
          <a:blip r:embed="rId3"/>
          <a:stretch/>
        </p:blipFill>
        <p:spPr>
          <a:xfrm>
            <a:off x="304920" y="26668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133720" y="32767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t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own bird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ittle 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s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8"/>
          <p:cNvPicPr/>
          <p:nvPr/>
        </p:nvPicPr>
        <p:blipFill>
          <a:blip r:embed="rId1"/>
          <a:stretch/>
        </p:blipFill>
        <p:spPr>
          <a:xfrm>
            <a:off x="2743200" y="838080"/>
            <a:ext cx="3352680" cy="1506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57200" y="3352680"/>
            <a:ext cx="838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___ bird, l___ bi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are s_____ and f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914400" y="3505320"/>
            <a:ext cx="838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ittle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3429000" y="49528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mall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6553080" y="5029200"/>
            <a:ext cx="10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ast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WordArt 10"/>
          <p:cNvSpPr txBox="1"/>
          <p:nvPr/>
        </p:nvSpPr>
        <p:spPr>
          <a:xfrm>
            <a:off x="3657600" y="3505320"/>
            <a:ext cx="838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ittle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2006640" y="2743200"/>
            <a:ext cx="59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2413527_155631077062_2"/>
          <p:cNvPicPr/>
          <p:nvPr/>
        </p:nvPicPr>
        <p:blipFill>
          <a:blip r:embed="rId1"/>
          <a:stretch/>
        </p:blipFill>
        <p:spPr>
          <a:xfrm>
            <a:off x="1600200" y="7621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61" name="Line 5"/>
          <p:cNvSpPr/>
          <p:nvPr/>
        </p:nvSpPr>
        <p:spPr>
          <a:xfrm flipH="1">
            <a:off x="1066680" y="3581280"/>
            <a:ext cx="1981440" cy="2514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5943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 p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5257800" y="2590920"/>
            <a:ext cx="1600200" cy="32004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0" y="5943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her p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578029311693481424"/>
          <p:cNvPicPr/>
          <p:nvPr/>
        </p:nvPicPr>
        <p:blipFill>
          <a:blip r:embed="rId1"/>
          <a:stretch/>
        </p:blipFill>
        <p:spPr>
          <a:xfrm>
            <a:off x="1981080" y="228600"/>
            <a:ext cx="4876920" cy="3900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33520" y="4191120"/>
            <a:ext cx="838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___ panda, b___ bi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are a little bit f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4648320" y="4495680"/>
            <a:ext cx="99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aby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5943600" y="5791320"/>
            <a:ext cx="457200" cy="56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at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1066680" y="4495680"/>
            <a:ext cx="99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aby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med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66ff33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011329121316708"/>
          <p:cNvPicPr/>
          <p:nvPr/>
        </p:nvPicPr>
        <p:blipFill>
          <a:blip r:embed="rId1"/>
          <a:stretch/>
        </p:blipFill>
        <p:spPr>
          <a:xfrm>
            <a:off x="762120" y="2286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10"/>
          <p:cNvPicPr/>
          <p:nvPr/>
        </p:nvPicPr>
        <p:blipFill>
          <a:blip r:embed="rId2"/>
          <a:stretch/>
        </p:blipFill>
        <p:spPr>
          <a:xfrm>
            <a:off x="5562720" y="304920"/>
            <a:ext cx="3124080" cy="2728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80880" y="2819520"/>
            <a:ext cx="51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bbit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b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monkey, baby mon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a little bi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191120" y="480060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bbit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b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ail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monkey, baby mon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ail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4786235_165722673864_2"/>
          <p:cNvPicPr/>
          <p:nvPr/>
        </p:nvPicPr>
        <p:blipFill>
          <a:blip r:embed="rId1"/>
          <a:stretch/>
        </p:blipFill>
        <p:spPr>
          <a:xfrm>
            <a:off x="304920" y="152280"/>
            <a:ext cx="2027160" cy="2543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39688_224927098759_2"/>
          <p:cNvPicPr/>
          <p:nvPr/>
        </p:nvPicPr>
        <p:blipFill>
          <a:blip r:embed="rId2"/>
          <a:stretch/>
        </p:blipFill>
        <p:spPr>
          <a:xfrm>
            <a:off x="6629400" y="228600"/>
            <a:ext cx="2144880" cy="2590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380880" y="2819520"/>
            <a:ext cx="51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giraffe, little giraf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s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elephant, baby eleph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a little bi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09880" y="4800600"/>
            <a:ext cx="51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giraffe, little giraf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neck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l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elephant, baby eleph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ear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493573_094813056_2"/>
          <p:cNvPicPr/>
          <p:nvPr/>
        </p:nvPicPr>
        <p:blipFill>
          <a:blip r:embed="rId1"/>
          <a:stretch/>
        </p:blipFill>
        <p:spPr>
          <a:xfrm>
            <a:off x="1447920" y="380880"/>
            <a:ext cx="1736640" cy="1752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onaga2b"/>
          <p:cNvPicPr/>
          <p:nvPr/>
        </p:nvPicPr>
        <p:blipFill>
          <a:blip r:embed="rId2"/>
          <a:stretch/>
        </p:blipFill>
        <p:spPr>
          <a:xfrm>
            <a:off x="1905120" y="2209680"/>
            <a:ext cx="990360" cy="895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79616e673831343435313332342b3637392c312c3639347833303030"/>
          <p:cNvPicPr/>
          <p:nvPr/>
        </p:nvPicPr>
        <p:blipFill>
          <a:blip r:embed="rId3"/>
          <a:stretch/>
        </p:blipFill>
        <p:spPr>
          <a:xfrm>
            <a:off x="1600200" y="3657600"/>
            <a:ext cx="1771560" cy="1228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575213_233926022890_2"/>
          <p:cNvPicPr/>
          <p:nvPr/>
        </p:nvPicPr>
        <p:blipFill>
          <a:blip r:embed="rId4"/>
          <a:stretch/>
        </p:blipFill>
        <p:spPr>
          <a:xfrm>
            <a:off x="1828800" y="5334120"/>
            <a:ext cx="901800" cy="1218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638680" y="60948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715000" y="457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5792760" y="228600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5961240" y="403848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fat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645160" y="57150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long n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3200400" y="1143000"/>
            <a:ext cx="2514600" cy="48769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2819520" y="761760"/>
            <a:ext cx="2895480" cy="19810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3276720" y="4191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2666520" y="2666880"/>
            <a:ext cx="3048120" cy="3276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1080" y="8380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440" y="266688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1440" y="41148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1440" y="57150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506760" y="8380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3430800" y="2514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3354480" y="3886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2973600" y="5791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99ff99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4920" y="60120"/>
            <a:ext cx="85341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big. It’s gre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has a long no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has two big ea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is a bo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is tal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is big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has two big ey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bag is bl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’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55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2:25Z</dcterms:modified>
  <cp:revision>8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