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13.gif" ContentType="image/gif"/>
  <Override PartName="/ppt/media/image48.jpeg" ContentType="image/jpeg"/>
  <Override PartName="/ppt/media/image37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16.jpeg" ContentType="image/jpeg"/>
  <Override PartName="/ppt/media/image39.gif" ContentType="image/gif"/>
  <Override PartName="/ppt/media/image43.jpeg" ContentType="image/jpeg"/>
  <Override PartName="/ppt/media/camera.wav" ContentType="audio/x-wav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  <p:custShowLst>
    <p:custShow name="自定义放映 1" id="0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D81-4B43-457A-92A9-D629861712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62A-79D0-4288-9DFF-9BB94BD41E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26F-4822-4ED1-AA80-E2FC64E5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553-8E39-4572-B7D2-98DBCF9B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332-9FF0-4553-B155-B1FF3FD7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1A3-82B2-4215-9C91-17868DBD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333-8253-4507-8309-F358D486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586-3610-487C-B19D-884043CD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7F8-3F7B-4BAD-A9E8-9419F00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11D-63F7-491D-A36C-FCB313C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47B-ABA8-45A7-81C1-8CF31C1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38C-A339-433D-98FA-27E0418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895-2BCE-40D8-A0DD-1F1D042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E07-3FBE-4262-959A-6D1DC90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C564-82CD-42F4-AB2C-8F6BF01C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6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6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黑体"/>
              </a:rPr>
              <a:t>日食和月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209320" y="56451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u=3786268488,261910390&amp;fm=0&amp;gp=0.gif"/>
          <p:cNvPicPr/>
          <p:nvPr/>
        </p:nvPicPr>
        <p:blipFill>
          <a:blip r:embed="rId2"/>
          <a:stretch/>
        </p:blipFill>
        <p:spPr>
          <a:xfrm>
            <a:off x="611280" y="1916280"/>
            <a:ext cx="8064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345760" y="836640"/>
            <a:ext cx="460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食：当月球运动到太阳和地球中间，如果三者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处在一条直上线时，月球就会挡住太阳射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光，在地球上处于影子中的人，只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到太阳的一部分或全部看不到，于是就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了日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食：太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流程图: 联系 2"/>
          <p:cNvSpPr/>
          <p:nvPr/>
        </p:nvSpPr>
        <p:spPr>
          <a:xfrm>
            <a:off x="1258920" y="3645000"/>
            <a:ext cx="936720" cy="1104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联系 3"/>
          <p:cNvSpPr/>
          <p:nvPr/>
        </p:nvSpPr>
        <p:spPr>
          <a:xfrm>
            <a:off x="5364000" y="3933720"/>
            <a:ext cx="358920" cy="358920"/>
          </a:xfrm>
          <a:prstGeom prst="flowChartConnector">
            <a:avLst/>
          </a:prstGeom>
          <a:solidFill>
            <a:srgbClr val="9ed3d7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流程图: 联系 4"/>
          <p:cNvSpPr/>
          <p:nvPr/>
        </p:nvSpPr>
        <p:spPr>
          <a:xfrm>
            <a:off x="6875640" y="3645000"/>
            <a:ext cx="792000" cy="93636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8"/>
          <p:cNvSpPr/>
          <p:nvPr/>
        </p:nvSpPr>
        <p:spPr>
          <a:xfrm>
            <a:off x="1727280" y="3645000"/>
            <a:ext cx="5508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1"/>
          <p:cNvSpPr/>
          <p:nvPr/>
        </p:nvSpPr>
        <p:spPr>
          <a:xfrm flipV="1">
            <a:off x="1727280" y="4076640"/>
            <a:ext cx="5508720" cy="673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3"/>
          <p:cNvSpPr/>
          <p:nvPr/>
        </p:nvSpPr>
        <p:spPr>
          <a:xfrm>
            <a:off x="1726560" y="3645000"/>
            <a:ext cx="5545080" cy="936360"/>
          </a:xfrm>
          <a:prstGeom prst="line">
            <a:avLst/>
          </a:prstGeom>
          <a:ln w="381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5"/>
          <p:cNvSpPr/>
          <p:nvPr/>
        </p:nvSpPr>
        <p:spPr>
          <a:xfrm flipV="1">
            <a:off x="1692360" y="3573360"/>
            <a:ext cx="5543640" cy="12240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48140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0"/>
          <p:cNvSpPr/>
          <p:nvPr/>
        </p:nvSpPr>
        <p:spPr>
          <a:xfrm>
            <a:off x="5297760" y="49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月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1"/>
          <p:cNvSpPr/>
          <p:nvPr/>
        </p:nvSpPr>
        <p:spPr>
          <a:xfrm>
            <a:off x="7025040" y="49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16300000377725124885163874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11253SK3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日全食"/>
          <p:cNvPicPr/>
          <p:nvPr/>
        </p:nvPicPr>
        <p:blipFill>
          <a:blip r:embed="rId1"/>
          <a:stretch/>
        </p:blipFill>
        <p:spPr>
          <a:xfrm>
            <a:off x="0" y="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日偏食"/>
          <p:cNvPicPr/>
          <p:nvPr/>
        </p:nvPicPr>
        <p:blipFill>
          <a:blip r:embed="rId2"/>
          <a:stretch/>
        </p:blipFill>
        <p:spPr>
          <a:xfrm>
            <a:off x="3203640" y="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日环食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日全食1"/>
          <p:cNvPicPr/>
          <p:nvPr/>
        </p:nvPicPr>
        <p:blipFill>
          <a:blip r:embed="rId4"/>
          <a:stretch/>
        </p:blipFill>
        <p:spPr>
          <a:xfrm>
            <a:off x="0" y="411480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日偏食出现在南达科他州上空"/>
          <p:cNvPicPr/>
          <p:nvPr/>
        </p:nvPicPr>
        <p:blipFill>
          <a:blip r:embed="rId5"/>
          <a:stretch/>
        </p:blipFill>
        <p:spPr>
          <a:xfrm>
            <a:off x="3132000" y="411480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日环食。3"/>
          <p:cNvPicPr/>
          <p:nvPr/>
        </p:nvPicPr>
        <p:blipFill>
          <a:blip r:embed="rId6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762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全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114800" y="34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偏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162920" y="33526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环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" descr="2221361253-0.jpg"/>
          <p:cNvPicPr/>
          <p:nvPr/>
        </p:nvPicPr>
        <p:blipFill>
          <a:blip r:embed="rId1"/>
          <a:stretch/>
        </p:blipFill>
        <p:spPr>
          <a:xfrm>
            <a:off x="0" y="0"/>
            <a:ext cx="45957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073700_789_cgnwb3a=.g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" descr="F2009072209480501442.jpg"/>
          <p:cNvPicPr/>
          <p:nvPr/>
        </p:nvPicPr>
        <p:blipFill>
          <a:blip r:embed="rId3"/>
          <a:stretch/>
        </p:blipFill>
        <p:spPr>
          <a:xfrm>
            <a:off x="0" y="3071880"/>
            <a:ext cx="4643280" cy="37861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20090723014753.jpg"/>
          <p:cNvPicPr/>
          <p:nvPr/>
        </p:nvPicPr>
        <p:blipFill>
          <a:blip r:embed="rId4"/>
          <a:stretch/>
        </p:blipFill>
        <p:spPr>
          <a:xfrm>
            <a:off x="4643280" y="3092400"/>
            <a:ext cx="4500720" cy="3765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497880" y="4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f53d"/>
                </a:solidFill>
                <a:latin typeface="Times New Roman"/>
              </a:rPr>
              <a:t>日食的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59000" y="1197000"/>
            <a:ext cx="2133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日全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476360" y="3124080"/>
            <a:ext cx="2590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日偏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366920" y="4876920"/>
            <a:ext cx="19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日环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210601pix2"/>
          <p:cNvPicPr/>
          <p:nvPr/>
        </p:nvPicPr>
        <p:blipFill>
          <a:blip r:embed="rId5"/>
          <a:stretch/>
        </p:blipFill>
        <p:spPr>
          <a:xfrm>
            <a:off x="3492360" y="333360"/>
            <a:ext cx="2370240" cy="190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blackburn1_big"/>
          <p:cNvPicPr/>
          <p:nvPr/>
        </p:nvPicPr>
        <p:blipFill>
          <a:blip r:embed="rId6"/>
          <a:stretch/>
        </p:blipFill>
        <p:spPr>
          <a:xfrm>
            <a:off x="4067280" y="2565360"/>
            <a:ext cx="1600200" cy="15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7"/>
          <a:stretch/>
        </p:blipFill>
        <p:spPr>
          <a:xfrm>
            <a:off x="3348000" y="4292640"/>
            <a:ext cx="3024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3714840" y="285840"/>
            <a:ext cx="521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全食是日食的一种，即太阳被月亮全部遮住的天文现象。如果太阳、月球、地球三者正好排成或接近一条直线，月球挡住了射到地球上去的太阳光，月球身后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331776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影正好落到地球上，这时发生日食现象。 在地球上月影里的人们开始看到阳光逐渐减弱，太阳面被圆的黑影遮住，天色转暗，全部遮住时，天空中 可以看到最亮的恒星和行星，几分钟后，从月球黑影边缘逐渐露出阳光，开始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、复圆。由于月球比地球小，只有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影中的人们才能看到日全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4" descr="1-4.gif"/>
          <p:cNvPicPr/>
          <p:nvPr/>
        </p:nvPicPr>
        <p:blipFill>
          <a:blip r:embed="rId1"/>
          <a:stretch/>
        </p:blipFill>
        <p:spPr>
          <a:xfrm>
            <a:off x="0" y="0"/>
            <a:ext cx="3643200" cy="3424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94600" y="5557680"/>
            <a:ext cx="1622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"/>
          <p:cNvSpPr/>
          <p:nvPr/>
        </p:nvSpPr>
        <p:spPr>
          <a:xfrm>
            <a:off x="214200" y="364320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阳之间，地球运行到月球的半影区时，地球有一部分被月球阴影外侧的半影覆盖的地区，在此地区所见到的太阳有一部分会被月球挡住，此种天文现象就叫日偏食。日偏食是一种常见的天文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u=2859500228,2359843061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5214960" cy="355608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5143680" y="214200"/>
            <a:ext cx="321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全食是日食的一种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月球运行到地球与太阳之间，地球运行到月球的半影区时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月球运行到地球与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70720" y="5557680"/>
            <a:ext cx="16207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1643040" y="45007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之间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距离地球较远，不能完全遮住太阳而形成的。发生日环食时，体物的投影有时会交错重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" descr="4264064422190798465.jpg"/>
          <p:cNvPicPr/>
          <p:nvPr/>
        </p:nvPicPr>
        <p:blipFill>
          <a:blip r:embed="rId1"/>
          <a:stretch/>
        </p:blipFill>
        <p:spPr>
          <a:xfrm>
            <a:off x="0" y="0"/>
            <a:ext cx="5645160" cy="4500720"/>
          </a:xfrm>
          <a:prstGeom prst="rect">
            <a:avLst/>
          </a:prstGeom>
          <a:ln w="0">
            <a:noFill/>
          </a:ln>
        </p:spPr>
      </p:pic>
      <p:sp>
        <p:nvSpPr>
          <p:cNvPr id="122" name="矩形 5"/>
          <p:cNvSpPr/>
          <p:nvPr/>
        </p:nvSpPr>
        <p:spPr>
          <a:xfrm>
            <a:off x="5643720" y="64296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环食是日食的一种。发生时太阳的中心部分黑暗，边缘仍然明亮，形成光环。这是因为月球在太阳和地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u=723326615,2890714980&amp;fm=0&amp;gp=0.gif"/>
          <p:cNvPicPr/>
          <p:nvPr/>
        </p:nvPicPr>
        <p:blipFill>
          <a:blip r:embed="rId2"/>
          <a:stretch/>
        </p:blipFill>
        <p:spPr>
          <a:xfrm>
            <a:off x="755640" y="692280"/>
            <a:ext cx="7738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0907242202da0b62559a612887.jpg"/>
          <p:cNvPicPr/>
          <p:nvPr/>
        </p:nvPicPr>
        <p:blipFill>
          <a:blip r:embed="rId1"/>
          <a:stretch/>
        </p:blipFill>
        <p:spPr>
          <a:xfrm>
            <a:off x="-500040" y="-142920"/>
            <a:ext cx="10144080" cy="700092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785880" y="64296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食的一个食季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，这个天数比一个朔望月的平均长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.5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要长。因此在一个日食的食季内必定会发生一次日食，也可能发生两次日食。一年之中有两个日食食季，所以在一年之内至少有两次日食发生，也可能有四次日食发生（如果每个食季中都包含两个朔日的话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15246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8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日，当两河流域的米底王国与吕底亚王国的士兵们正在交战时，天突然黑了下来，白天顿时变成黑夜。交战的双方惊恐万分，以为“上天”怪罪下来，于是马上停战和好。其实这并不是什么“上天”怪罪，而是一种普通的天文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这种天文现象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日食现象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食现象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流星现象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极光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这种天文现象发生的时间是农历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初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初七或初八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十五或十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二十二或二十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发生这种天文现象时，日、地、月三者的位置关系是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地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球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地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球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地球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地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月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3646800" y="20718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6647040" y="3357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718200" y="50720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35160" y="9720"/>
            <a:ext cx="746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日食现象是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突然消失的现象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被地球遮掩的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遮掩月球的现象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被月球遮掩的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日食可能发生的日期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可以在农历十五到三十之间出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肯定是在新月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在农历每个月的初一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可以在任何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" descr="1"/>
          <p:cNvPicPr/>
          <p:nvPr/>
        </p:nvPicPr>
        <p:blipFill>
          <a:blip r:embed="rId1"/>
          <a:stretch/>
        </p:blipFill>
        <p:spPr>
          <a:xfrm rot="21403200">
            <a:off x="606240" y="2676240"/>
            <a:ext cx="6359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22870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下列四幅图中有可能发生日食的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40050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不同类型日食的形成与下列因素有关的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观察者在月球阴影区的位置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时间的不同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月、地距离的不同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太阳大小的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55764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在下列的节日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有可能发生日食的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200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大年初一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正月十五远宵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八月十五中秋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九月初九重阳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2431800" y="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3857760" y="10717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5360040" y="228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6288840" y="39290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5860440" y="564372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819080" y="1500120"/>
            <a:ext cx="62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食一般发生在（           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食一般发生在（                                    ）。月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（             ）、（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080080" y="2428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月全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4357800" y="142884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农历初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4366080" y="2357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月偏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4071960" y="192888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农历十五或十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u=3220989650,2647797313&amp;fm=15&amp;gp=0.gif"/>
          <p:cNvPicPr/>
          <p:nvPr/>
        </p:nvPicPr>
        <p:blipFill>
          <a:blip r:embed="rId2"/>
          <a:stretch/>
        </p:blipFill>
        <p:spPr>
          <a:xfrm>
            <a:off x="611280" y="692280"/>
            <a:ext cx="7813440" cy="5637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448280" y="119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528b6c22faeb990c.jpg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932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690480" y="26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83ee3c820b14a1c7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"/>
          <p:cNvGrpSpPr/>
          <p:nvPr/>
        </p:nvGrpSpPr>
        <p:grpSpPr>
          <a:xfrm>
            <a:off x="684360" y="2421000"/>
            <a:ext cx="7488000" cy="2798640"/>
            <a:chOff x="684360" y="2421000"/>
            <a:chExt cx="7488000" cy="2798640"/>
          </a:xfrm>
        </p:grpSpPr>
        <p:pic>
          <p:nvPicPr>
            <p:cNvPr id="150" name="Picture 5" descr="eclipse9907c_fig1"/>
            <p:cNvPicPr/>
            <p:nvPr/>
          </p:nvPicPr>
          <p:blipFill>
            <a:blip r:embed="rId1"/>
            <a:stretch/>
          </p:blipFill>
          <p:spPr>
            <a:xfrm>
              <a:off x="684360" y="2636640"/>
              <a:ext cx="748800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8"/>
            <p:cNvSpPr/>
            <p:nvPr/>
          </p:nvSpPr>
          <p:spPr>
            <a:xfrm>
              <a:off x="5219640" y="464652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1402"/>
                  </a:solidFill>
                  <a:latin typeface="Arial"/>
                </a:rPr>
                <a:t>地球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6443640" y="242100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1402"/>
                  </a:solidFill>
                  <a:latin typeface="Arial"/>
                </a:rPr>
                <a:t>月球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2"/>
          <p:cNvSpPr/>
          <p:nvPr/>
        </p:nvSpPr>
        <p:spPr>
          <a:xfrm>
            <a:off x="611280" y="1125360"/>
            <a:ext cx="853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食成因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2105278159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2974320" y="5234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月食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530080" y="765000"/>
            <a:ext cx="4062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食：当地球运动到太阳和月球中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三者正好处在一条直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地球就会挡住太阳射向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的光，于是就发生了月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食：太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流程图: 联系 2"/>
          <p:cNvSpPr/>
          <p:nvPr/>
        </p:nvSpPr>
        <p:spPr>
          <a:xfrm>
            <a:off x="1187280" y="3429000"/>
            <a:ext cx="1081080" cy="11779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流程图: 联系 3"/>
          <p:cNvSpPr/>
          <p:nvPr/>
        </p:nvSpPr>
        <p:spPr>
          <a:xfrm>
            <a:off x="4788000" y="3573360"/>
            <a:ext cx="863640" cy="93528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流程图: 联系 4"/>
          <p:cNvSpPr/>
          <p:nvPr/>
        </p:nvSpPr>
        <p:spPr>
          <a:xfrm>
            <a:off x="6948360" y="3716280"/>
            <a:ext cx="648000" cy="720720"/>
          </a:xfrm>
          <a:prstGeom prst="flowChartConnector">
            <a:avLst/>
          </a:prstGeom>
          <a:solidFill>
            <a:srgbClr val="9ed3d7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6"/>
          <p:cNvSpPr/>
          <p:nvPr/>
        </p:nvSpPr>
        <p:spPr>
          <a:xfrm>
            <a:off x="1727280" y="3429000"/>
            <a:ext cx="608472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8"/>
          <p:cNvSpPr/>
          <p:nvPr/>
        </p:nvSpPr>
        <p:spPr>
          <a:xfrm flipV="1">
            <a:off x="1727280" y="4437000"/>
            <a:ext cx="6300720" cy="169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0"/>
          <p:cNvSpPr/>
          <p:nvPr/>
        </p:nvSpPr>
        <p:spPr>
          <a:xfrm flipV="1">
            <a:off x="1692360" y="2852280"/>
            <a:ext cx="5867280" cy="1754280"/>
          </a:xfrm>
          <a:prstGeom prst="line">
            <a:avLst/>
          </a:prstGeom>
          <a:ln w="9360">
            <a:solidFill>
              <a:srgbClr val="2f2f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2"/>
          <p:cNvSpPr/>
          <p:nvPr/>
        </p:nvSpPr>
        <p:spPr>
          <a:xfrm>
            <a:off x="1726560" y="3429000"/>
            <a:ext cx="6157800" cy="1944720"/>
          </a:xfrm>
          <a:prstGeom prst="line">
            <a:avLst/>
          </a:prstGeom>
          <a:ln w="9360">
            <a:solidFill>
              <a:srgbClr val="2f2f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336680" y="51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721400" y="51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695340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u=2322772377,2835901348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9960" y="443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854720" y="5157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为什么会发生日食？（日食发生的特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917800" y="580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太阳光被物体挡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305360" y="90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3301920" y="3108240"/>
            <a:ext cx="70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857160" y="3571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讨论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332000" y="1700280"/>
            <a:ext cx="5072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为什么说月食发生的机会比日食要多一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月食发生在农历的什么时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6a5cb8226e374e29023d9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判        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560" y="1557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月食是月球的形状发生了变化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农历每月初一都会发生日食。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日食和月食可以发生在同一个时间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古时候所说的“天狗吃月亮”，实际上是    一种月食现象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“天狗吃月”是一种天文现象，并非灾害的讯息。（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786120" y="36432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2714760" y="47862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7286760" y="14288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7000920" y="200016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001000" y="257184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7" descr="7713c509cb7c3c802fddd413"/>
          <p:cNvPicPr/>
          <p:nvPr/>
        </p:nvPicPr>
        <p:blipFill>
          <a:blip r:embed="rId1"/>
          <a:stretch/>
        </p:blipFill>
        <p:spPr>
          <a:xfrm>
            <a:off x="34920" y="-23760"/>
            <a:ext cx="9144000" cy="6692760"/>
          </a:xfrm>
          <a:prstGeom prst="rect">
            <a:avLst/>
          </a:prstGeom>
          <a:ln w="0">
            <a:noFill/>
          </a:ln>
        </p:spPr>
      </p:pic>
      <p:sp>
        <p:nvSpPr>
          <p:cNvPr id="178" name="Oval 4"/>
          <p:cNvSpPr/>
          <p:nvPr/>
        </p:nvSpPr>
        <p:spPr>
          <a:xfrm>
            <a:off x="684360" y="1197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230480" y="148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763640" y="1123920"/>
            <a:ext cx="720720" cy="720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132000" y="936720"/>
            <a:ext cx="93528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84360" y="1844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球           地球              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2195640" y="4365720"/>
            <a:ext cx="93492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46708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2556000" y="148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167472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11600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826920" y="450864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140508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11600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2"/>
          <p:cNvSpPr/>
          <p:nvPr/>
        </p:nvSpPr>
        <p:spPr>
          <a:xfrm>
            <a:off x="5076720" y="414972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5910120" y="45021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>
            <a:off x="6443640" y="4286160"/>
            <a:ext cx="433440" cy="43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>
            <a:off x="7480440" y="3954600"/>
            <a:ext cx="93492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5364000" y="486252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球                             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6948360" y="45021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6444000" y="3854520"/>
            <a:ext cx="5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8"/>
          <p:cNvSpPr/>
          <p:nvPr/>
        </p:nvSpPr>
        <p:spPr>
          <a:xfrm>
            <a:off x="5867280" y="907920"/>
            <a:ext cx="720720" cy="654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9"/>
          <p:cNvSpPr/>
          <p:nvPr/>
        </p:nvSpPr>
        <p:spPr>
          <a:xfrm>
            <a:off x="7093080" y="836640"/>
            <a:ext cx="93492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7364520" y="1771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6572160" y="1339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5940360" y="47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5996160" y="220500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4"/>
          <p:cNvSpPr/>
          <p:nvPr/>
        </p:nvSpPr>
        <p:spPr>
          <a:xfrm>
            <a:off x="6284880" y="1627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6026040" y="2736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1403280" y="2205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5940360" y="32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971640" y="5877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1189080" y="3500280"/>
            <a:ext cx="433440" cy="43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6"/>
          <p:cNvSpPr/>
          <p:nvPr/>
        </p:nvSpPr>
        <p:spPr>
          <a:xfrm>
            <a:off x="3976200" y="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下列三球间的位置关系有可能产生日、月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7"/>
          <p:cNvSpPr/>
          <p:nvPr/>
        </p:nvSpPr>
        <p:spPr>
          <a:xfrm>
            <a:off x="6627600" y="5572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8"/>
          <p:cNvSpPr/>
          <p:nvPr/>
        </p:nvSpPr>
        <p:spPr>
          <a:xfrm>
            <a:off x="2484000" y="2143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9"/>
          <p:cNvSpPr/>
          <p:nvPr/>
        </p:nvSpPr>
        <p:spPr>
          <a:xfrm>
            <a:off x="1983960" y="585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0"/>
          <p:cNvSpPr/>
          <p:nvPr/>
        </p:nvSpPr>
        <p:spPr>
          <a:xfrm>
            <a:off x="698472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8a2f6639d04caadc3b87ce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   会  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28440" y="1500120"/>
            <a:ext cx="78166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日食可以分为（         ）、（         ）、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日食和月食是（      ）、（       ）、（      ）三个天体运动形成的天文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日食一般发生在农历（     ）、月食一般发生在农历（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传说中“天狗吃月亮”其实是（         ）现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643280" y="150012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日全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109640" y="142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日偏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1752120" y="192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日环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4740120" y="25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6669000" y="25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月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1739880" y="300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5995080" y="357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初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4919040" y="4071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十五或十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1950120" y="5143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月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0" descr="u=3806208943,163619847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矩形 1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发生月食时的月相是                                                  （     ）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新月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上弦月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下弦月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满月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下列日期中可能会发生月食现象的是                                    （     ）</a:t>
            </a:r>
            <a:br>
              <a:rPr sz="2000"/>
            </a:b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端午     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春节 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重阳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中秋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随着航天事业的发展，人类有可能移居月球，对月球上的居民，更能看到的是  （     ）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月食现象                    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现象                       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和月食现象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根本看不到日食和月食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关于日食和月食的说法中不正确的是                                       （     ）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和月食持续的时间长短不同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和月食时地球和月球的位置对调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和月食都有全、偏、环三种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日食和月食初亏方向不同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下列三球间的位置关系，有可能产生月食的是                     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(     )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. 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日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地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       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. 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日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地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               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地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日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                  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．在中秋节中你可能看到的天文景观是                                    （     ）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北斗七星的斗柄朝东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发生月食现象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发生日食    </a:t>
            </a: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看到一个弯弯的月牙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下列说法正确的是                                                     （     ）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A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当月球运行到地球和太阳之间时，必发生月食现象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B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当月球月相为满月时，可能发生月食现象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C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日食是指太阳表面全部或部分被地球遮掩的现象</a:t>
            </a:r>
            <a:br>
              <a:rPr sz="2000"/>
            </a:br>
            <a:r>
              <a:rPr b="0" lang="en-US" sz="2000" spc="-1" strike="noStrike">
                <a:solidFill>
                  <a:srgbClr val="0505bb"/>
                </a:solidFill>
                <a:latin typeface="Arial"/>
              </a:rPr>
              <a:t>D.</a:t>
            </a:r>
            <a:r>
              <a:rPr b="0" lang="zh-CN" sz="2000" spc="-1" strike="noStrike">
                <a:solidFill>
                  <a:srgbClr val="0505bb"/>
                </a:solidFill>
                <a:latin typeface="Arial"/>
              </a:rPr>
              <a:t>日食和月食可能会在同一时间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7218000" y="571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6288840" y="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717840" y="15001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7218720" y="271476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7575480" y="4000680"/>
            <a:ext cx="4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/>
          <p:cNvSpPr/>
          <p:nvPr/>
        </p:nvSpPr>
        <p:spPr>
          <a:xfrm>
            <a:off x="7290000" y="45720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6218280" y="521496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BA2A-296B-4012-8CF8-6AF50C3584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u=2601249678,3922944963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964160" y="4237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观察思考：挡住太阳光的物体是什么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11320" y="587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（圆形或球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u=105785132,1575095972&amp;fm=0&amp;gp=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068480" y="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挡住的物体是运动的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585120" y="602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（运动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fe582f031a2e49d3.jpg"/>
          <p:cNvPicPr/>
          <p:nvPr/>
        </p:nvPicPr>
        <p:blipFill>
          <a:blip r:embed="rId2"/>
          <a:stretch/>
        </p:blipFill>
        <p:spPr>
          <a:xfrm>
            <a:off x="900000" y="1014480"/>
            <a:ext cx="7417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001eec63c4300bce68372d"/>
          <p:cNvPicPr/>
          <p:nvPr/>
        </p:nvPicPr>
        <p:blipFill>
          <a:blip r:embed="rId2"/>
          <a:stretch/>
        </p:blipFill>
        <p:spPr>
          <a:xfrm>
            <a:off x="174600" y="981000"/>
            <a:ext cx="8589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1"/>
          <p:cNvGrpSpPr/>
          <p:nvPr/>
        </p:nvGrpSpPr>
        <p:grpSpPr>
          <a:xfrm>
            <a:off x="0" y="549360"/>
            <a:ext cx="8782200" cy="5735520"/>
            <a:chOff x="0" y="549360"/>
            <a:chExt cx="8782200" cy="5735520"/>
          </a:xfrm>
        </p:grpSpPr>
        <p:sp>
          <p:nvSpPr>
            <p:cNvPr id="67" name="Rectangle 1"/>
            <p:cNvSpPr/>
            <p:nvPr/>
          </p:nvSpPr>
          <p:spPr>
            <a:xfrm>
              <a:off x="793440" y="1526040"/>
              <a:ext cx="392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）太阳被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AdobeHeitiStd-Regular"/>
                </a:rPr>
                <a:t>一个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物体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挡住了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"/>
            <p:cNvSpPr/>
            <p:nvPr/>
          </p:nvSpPr>
          <p:spPr>
            <a:xfrm>
              <a:off x="695160" y="3097800"/>
              <a:ext cx="411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）挡光的物体是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运动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着的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907200" y="4004640"/>
              <a:ext cx="549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）挡光的物体看上去和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太阳差不多大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780120" y="2311920"/>
              <a:ext cx="466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）挡光的物体是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圆形或球形的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0" y="4869000"/>
              <a:ext cx="86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）地球、挡光物体和太阳差不多在一条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直线上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6"/>
            <p:cNvSpPr/>
            <p:nvPr/>
          </p:nvSpPr>
          <p:spPr>
            <a:xfrm>
              <a:off x="4231440" y="549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我们知道日食发生过程中的一些特点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8"/>
            <p:cNvSpPr/>
            <p:nvPr/>
          </p:nvSpPr>
          <p:spPr>
            <a:xfrm>
              <a:off x="2034360" y="5764320"/>
              <a:ext cx="38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彩云"/>
                  <a:ea typeface="华文彩云"/>
                </a:rPr>
                <a:t>可能是月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" descr="D:\我的文档\My Pictures\2009072308532552.jpg"/>
            <p:cNvPicPr/>
            <p:nvPr/>
          </p:nvPicPr>
          <p:blipFill>
            <a:blip r:embed="rId2"/>
            <a:stretch/>
          </p:blipFill>
          <p:spPr>
            <a:xfrm>
              <a:off x="5867640" y="1197360"/>
              <a:ext cx="2914560" cy="26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sun_1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913760" y="573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日食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16:2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6:11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