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CFB-6109-4DE1-A33F-8FCA9F7B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10E-2620-4C68-B234-558C7B7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8AF-59D9-4A94-BEDF-C1C6A86D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C6C-81B9-40DD-9AF9-B42D5FB0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C088-7F07-4EF6-8E79-46D92EB2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A089-7C56-4DCF-848A-975EFB1A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EDFF-E605-412C-8585-E8263C39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6195-3CA0-4C13-BD3B-2A4EBFE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270-3A9C-4991-AFFB-A3B05467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369A-3747-4998-86F8-590737F5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2D8-68BA-4E34-99E5-3EF2A67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74B-6659-43B7-82D5-05AF9DC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97B-E89B-4737-9AF6-C9C9D84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964A-3DD2-4E22-99CA-9301411A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7834-DBE1-468A-844C-6AB744D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9D92-3FB4-4A99-9C9A-3C10F819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3B65-46D2-4A48-A960-759324CE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925-239A-4F0F-9245-4A60991F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8FE-AEFB-480E-BF67-D615133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B52-F75E-4300-9871-22D7CA80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252-EED7-4FB0-B6F5-774C0F6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BF0-FD21-47F1-9A73-2D85C693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7AD-C318-4651-8C47-36D3FC1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9DB-F6E6-4CAF-88F0-21EF490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7A60-185D-4354-86E5-93E413D77B5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771-A750-465C-8522-025BAC37F7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1262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认识钟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2686680" y="6308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2"/>
          <p:cNvSpPr/>
          <p:nvPr/>
        </p:nvSpPr>
        <p:spPr>
          <a:xfrm>
            <a:off x="2411280" y="4695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125"/>
          <p:cNvPicPr/>
          <p:nvPr/>
        </p:nvPicPr>
        <p:blipFill>
          <a:blip r:embed="rId1"/>
          <a:stretch/>
        </p:blipFill>
        <p:spPr>
          <a:xfrm>
            <a:off x="1949400" y="1290600"/>
            <a:ext cx="4783320" cy="4478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"/>
          <p:cNvPicPr/>
          <p:nvPr/>
        </p:nvPicPr>
        <p:blipFill>
          <a:blip r:embed="rId2"/>
          <a:stretch/>
        </p:blipFill>
        <p:spPr>
          <a:xfrm rot="1500000">
            <a:off x="1260360" y="1557000"/>
            <a:ext cx="3059280" cy="1284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2" descr=""/>
          <p:cNvPicPr/>
          <p:nvPr/>
        </p:nvPicPr>
        <p:blipFill>
          <a:blip r:embed="rId3"/>
          <a:stretch/>
        </p:blipFill>
        <p:spPr>
          <a:xfrm rot="1500000">
            <a:off x="1260360" y="2327040"/>
            <a:ext cx="3059280" cy="1284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22120" y="129060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分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66840" y="232740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380360" y="360360"/>
            <a:ext cx="125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分针指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针指向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，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4"/>
          <a:stretch/>
        </p:blipFill>
        <p:spPr>
          <a:xfrm rot="9900000">
            <a:off x="4341600" y="1012320"/>
            <a:ext cx="2431800" cy="1284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"/>
          <p:cNvPicPr/>
          <p:nvPr/>
        </p:nvPicPr>
        <p:blipFill>
          <a:blip r:embed="rId5"/>
          <a:stretch/>
        </p:blipFill>
        <p:spPr>
          <a:xfrm rot="9300000">
            <a:off x="2727000" y="2736720"/>
            <a:ext cx="4653000" cy="1284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126"/>
          <p:cNvPicPr/>
          <p:nvPr/>
        </p:nvPicPr>
        <p:blipFill>
          <a:blip r:embed="rId1"/>
          <a:stretch/>
        </p:blipFill>
        <p:spPr>
          <a:xfrm>
            <a:off x="863640" y="2357280"/>
            <a:ext cx="9367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128"/>
          <p:cNvPicPr/>
          <p:nvPr/>
        </p:nvPicPr>
        <p:blipFill>
          <a:blip r:embed="rId2"/>
          <a:stretch/>
        </p:blipFill>
        <p:spPr>
          <a:xfrm>
            <a:off x="6983280" y="2359080"/>
            <a:ext cx="959040" cy="1138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127"/>
          <p:cNvPicPr/>
          <p:nvPr/>
        </p:nvPicPr>
        <p:blipFill>
          <a:blip r:embed="rId3"/>
          <a:stretch/>
        </p:blipFill>
        <p:spPr>
          <a:xfrm>
            <a:off x="4284720" y="2444760"/>
            <a:ext cx="998640" cy="1050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00" name="Picture 6" descr="130"/>
          <p:cNvPicPr/>
          <p:nvPr/>
        </p:nvPicPr>
        <p:blipFill>
          <a:blip r:embed="rId4"/>
          <a:stretch/>
        </p:blipFill>
        <p:spPr>
          <a:xfrm>
            <a:off x="5535720" y="2444760"/>
            <a:ext cx="909360" cy="93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31"/>
          <p:cNvPicPr/>
          <p:nvPr/>
        </p:nvPicPr>
        <p:blipFill>
          <a:blip r:embed="rId5"/>
          <a:stretch/>
        </p:blipFill>
        <p:spPr>
          <a:xfrm>
            <a:off x="2422440" y="2359080"/>
            <a:ext cx="1241640" cy="1136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863640" y="368928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700360" y="368928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284720" y="381636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732640" y="3816360"/>
            <a:ext cx="12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983280" y="381636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863640" y="487044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9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549520" y="4997520"/>
            <a:ext cx="15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6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4110120" y="499752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1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668920" y="4997520"/>
            <a:ext cx="15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3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983280" y="4997520"/>
            <a:ext cx="15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2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1427040" y="616284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136"/>
          <p:cNvPicPr/>
          <p:nvPr/>
        </p:nvPicPr>
        <p:blipFill>
          <a:blip r:embed="rId1"/>
          <a:stretch/>
        </p:blipFill>
        <p:spPr>
          <a:xfrm>
            <a:off x="1835280" y="274680"/>
            <a:ext cx="4429080" cy="4486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835280" y="49179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明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在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 rot="8940000">
            <a:off x="5816160" y="1130040"/>
            <a:ext cx="898560" cy="287280"/>
          </a:xfrm>
          <a:custGeom>
            <a:avLst/>
            <a:gdLst>
              <a:gd name="textAreaLeft" fmla="*/ 156960 w 898560"/>
              <a:gd name="textAreaRight" fmla="*/ 651600 w 8985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04000" y="352440"/>
            <a:ext cx="19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明上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在做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 rot="8940000">
            <a:off x="5943240" y="3717720"/>
            <a:ext cx="898560" cy="287280"/>
          </a:xfrm>
          <a:custGeom>
            <a:avLst/>
            <a:gdLst>
              <a:gd name="textAreaLeft" fmla="*/ 156960 w 898560"/>
              <a:gd name="textAreaRight" fmla="*/ 651600 w 8985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715080" y="3206880"/>
            <a:ext cx="19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明晚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 flipH="1" rot="11400000">
            <a:off x="899280" y="1130040"/>
            <a:ext cx="1452600" cy="218880"/>
          </a:xfrm>
          <a:custGeom>
            <a:avLst/>
            <a:gdLst>
              <a:gd name="textAreaLeft" fmla="*/ 253800 w 1452600"/>
              <a:gd name="textAreaRight" fmla="*/ 1053000 w 1452600"/>
              <a:gd name="textAreaTop" fmla="*/ 29160 h 218880"/>
              <a:gd name="textAreaBottom" fmla="*/ 189720 h 21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31760" y="573120"/>
            <a:ext cx="19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明早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漱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 flipH="1" rot="11400000">
            <a:off x="1026360" y="2420280"/>
            <a:ext cx="1452600" cy="220680"/>
          </a:xfrm>
          <a:custGeom>
            <a:avLst/>
            <a:gdLst>
              <a:gd name="textAreaLeft" fmla="*/ 253800 w 1452600"/>
              <a:gd name="textAreaRight" fmla="*/ 1053000 w 1452600"/>
              <a:gd name="textAreaTop" fmla="*/ 29520 h 220680"/>
              <a:gd name="textAreaBottom" fmla="*/ 1911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-4680" y="210816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明上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做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 rot="8940000">
            <a:off x="6264360" y="2277720"/>
            <a:ext cx="900000" cy="287280"/>
          </a:xfrm>
          <a:custGeom>
            <a:avLst/>
            <a:gdLst>
              <a:gd name="textAreaLeft" fmla="*/ 157320 w 900000"/>
              <a:gd name="textAreaRight" fmla="*/ 652680 w 900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805440" y="2031840"/>
            <a:ext cx="23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明上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在做吃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 flipH="1" rot="11400000">
            <a:off x="899280" y="3894840"/>
            <a:ext cx="1452600" cy="219240"/>
          </a:xfrm>
          <a:custGeom>
            <a:avLst/>
            <a:gdLst>
              <a:gd name="textAreaLeft" fmla="*/ 253800 w 1452600"/>
              <a:gd name="textAreaRight" fmla="*/ 1053000 w 1452600"/>
              <a:gd name="textAreaTop" fmla="*/ 29160 h 219240"/>
              <a:gd name="textAreaBottom" fmla="*/ 190080 h 21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-82440" y="3581280"/>
            <a:ext cx="196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明下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看电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137"/>
          <p:cNvPicPr/>
          <p:nvPr/>
        </p:nvPicPr>
        <p:blipFill>
          <a:blip r:embed="rId1"/>
          <a:stretch/>
        </p:blipFill>
        <p:spPr>
          <a:xfrm>
            <a:off x="900000" y="274680"/>
            <a:ext cx="6316920" cy="2522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2567160" y="1682640"/>
            <a:ext cx="3528720" cy="433440"/>
          </a:xfrm>
          <a:prstGeom prst="line">
            <a:avLst/>
          </a:prstGeom>
          <a:ln w="414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997440" y="1521000"/>
            <a:ext cx="790560" cy="595080"/>
          </a:xfrm>
          <a:prstGeom prst="line">
            <a:avLst/>
          </a:prstGeom>
          <a:ln w="414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3997440" y="1682640"/>
            <a:ext cx="2089080" cy="433440"/>
          </a:xfrm>
          <a:prstGeom prst="line">
            <a:avLst/>
          </a:prstGeom>
          <a:ln w="414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138"/>
          <p:cNvPicPr/>
          <p:nvPr/>
        </p:nvPicPr>
        <p:blipFill>
          <a:blip r:embed="rId2"/>
          <a:stretch/>
        </p:blipFill>
        <p:spPr>
          <a:xfrm>
            <a:off x="324000" y="2637000"/>
            <a:ext cx="8737560" cy="2703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863640" y="534024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4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771640" y="5340240"/>
            <a:ext cx="15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0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4788000" y="5340240"/>
            <a:ext cx="15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6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948360" y="5450040"/>
            <a:ext cx="15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2∶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139"/>
          <p:cNvPicPr/>
          <p:nvPr/>
        </p:nvPicPr>
        <p:blipFill>
          <a:blip r:embed="rId1"/>
          <a:stretch/>
        </p:blipFill>
        <p:spPr>
          <a:xfrm>
            <a:off x="1940040" y="266760"/>
            <a:ext cx="6467400" cy="2836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205080" y="1685880"/>
            <a:ext cx="3382920" cy="665280"/>
          </a:xfrm>
          <a:prstGeom prst="line">
            <a:avLst/>
          </a:prstGeom>
          <a:ln w="414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5075280" y="1687680"/>
            <a:ext cx="217440" cy="663480"/>
          </a:xfrm>
          <a:prstGeom prst="line">
            <a:avLst/>
          </a:prstGeom>
          <a:ln w="414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H="1">
            <a:off x="2987280" y="1684440"/>
            <a:ext cx="1009800" cy="666720"/>
          </a:xfrm>
          <a:prstGeom prst="line">
            <a:avLst/>
          </a:prstGeom>
          <a:ln w="414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V="1">
            <a:off x="4284720" y="1684080"/>
            <a:ext cx="1655640" cy="664920"/>
          </a:xfrm>
          <a:prstGeom prst="line">
            <a:avLst/>
          </a:prstGeom>
          <a:ln w="414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141"/>
          <p:cNvPicPr/>
          <p:nvPr/>
        </p:nvPicPr>
        <p:blipFill>
          <a:blip r:embed="rId2"/>
          <a:stretch/>
        </p:blipFill>
        <p:spPr>
          <a:xfrm>
            <a:off x="2052720" y="3417840"/>
            <a:ext cx="5935680" cy="2328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2409840" y="586584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508720" y="5865840"/>
            <a:ext cx="28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过一点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51" name="Picture 3" descr="142"/>
          <p:cNvPicPr/>
          <p:nvPr/>
        </p:nvPicPr>
        <p:blipFill>
          <a:blip r:embed="rId1"/>
          <a:stretch/>
        </p:blipFill>
        <p:spPr>
          <a:xfrm>
            <a:off x="179280" y="1417680"/>
            <a:ext cx="8982360" cy="2576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5029200" y="306864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7907400" y="3068640"/>
            <a:ext cx="15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6CC6-E353-418D-979C-D907A13D5F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0:28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37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