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C03-99FF-4DC8-AE13-731E8A87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2583-C3D6-4A44-8FD8-1B15C6E07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C9D6C-2763-4BFE-BDD5-A09908A0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64D69-EB77-47B2-93EB-40B25BB3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AE508-CA33-4E7C-9DEC-33C7502C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81A48-7F25-4D29-92CA-8C603C12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6978F-48A7-420C-8E77-0A2923E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E99CF-4234-415A-A8A6-7F338434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6DD1C-12F8-40CD-A213-F6D4E28C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8FB8F-EA68-4FE5-AF56-612B47A3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00C1C-0AA1-400E-84E9-DEBBA7B6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C7FD0-07E8-42DD-9907-1CAFB54CF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B4E-5F1D-4052-A08E-765629FB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09507-58D6-45F6-9629-B87C1AAE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17F47-7F03-4906-8777-F6BF8652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68AF3-1E08-47CE-A4A0-07627BBF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E2D266-5C16-41F3-A5FC-C8BD5C14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D2336-2B45-4155-82F2-314AECC9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9878CA-6AC2-4A8C-893A-1564020C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38FA8-643A-408D-999F-1073E5A1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520BF9-3998-4104-ADD1-547634BE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AECF92-5E40-4370-859C-28ABEFE4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544C5-15B4-4BA8-91F7-396EC753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99CB-7E36-4D25-8B79-DC62A7D5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6A81F-F7D2-4BFC-A938-5289F54E1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B09EF-86E5-4024-B084-2F4EE5BB8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9FA72-0CF9-4CC7-9323-9430FA72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13E18-6AA9-4090-A3A3-1C1CA070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02A57-7C6D-4DB1-B616-D68CFDB24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6DE34-FB1A-4C7F-A395-FA7A9DBF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48115C-0734-451A-8E2C-3511F3E5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B580B-5ECF-42ED-BD96-D0A98137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2EAB9-E84A-4774-BC2E-B5799E47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2D4BBB-EB09-410E-A93D-C1D80F77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52B3-F3E7-4569-A468-A9D2BC4F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4813D-8A07-4F9F-A036-FC776342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A6D2E7-4496-4E44-B993-F85E79DD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6252A-0CF6-4894-A0B6-060BBF9D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34E52-8638-449B-90A1-6C76656E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6B4A2-533E-4B37-B6CE-9A1B88BD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08981-714E-4650-904E-F4C587CF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D2CB0-1D2A-48D0-BC92-D9886E9C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42B673-3541-4665-8769-1905748C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BECCE-B2CB-4011-B09A-BF98904F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4AA66-A7F1-4F54-8170-9F22AA38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B7BD-F197-4805-A3C2-B268379C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2A9FF-1C3A-41C6-8361-10A68385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5FB39D-CE4C-47F5-B5D7-F7D0D2D7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DFF4C-3B3C-4069-82B8-3857C5B8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063807-1648-4A63-BB4E-173FBB14F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6ADA3-5C4C-4454-BD55-F709BF5FB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AE863-6934-43A4-8043-EC54534C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0E6A5F-E9C6-4249-98CA-08204C0D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5EE65F-8618-4641-AFB8-9D150EED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F25E3A-7006-4829-BFCB-12AAB35F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71C69-4172-46A5-9DBE-FDBFAD61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8381-6D35-4011-AFD2-1290746D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9FD63D-AA11-4608-9937-9E74DB9B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460F0B-E1A0-4FD2-8C63-C20D9194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42581-228B-4ADF-89A4-064924B7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C508E-80DA-4824-BEB3-3CBC2058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6686C3-3595-4617-A2D2-D0C0479E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DE8A9-A9E0-4579-90F6-2ABDABE5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59838-2E38-43D9-A09F-3B1A52D5A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FB85-4AEF-4DB1-8D2A-0CA291E91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47BE-6EDA-48E4-881E-B1D0A29E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A846-8171-4CAA-93BD-01CEBAEA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68ED-B995-4F99-8169-13D61EC4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4B00-F1BC-447D-A41F-80E3A47A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428A-6F89-4A00-925B-95A95D66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DD6F-28F7-4925-AF32-E2665259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C790-C7EE-4977-8D19-758F82B8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BE28-CA20-4635-B745-DC84416B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EDC7-E26C-442F-A02C-961D9534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1C8E5-ED1C-4618-ADF7-9702C089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3CE3C-DF63-46FE-B53B-CCAA4B35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F6354-B929-4079-B2FE-D9CD6CE8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294A4-8C24-4E38-8124-60B79E31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5AA3-0B9B-4A87-B56C-60A53C5E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678E-8CF4-4D9E-826A-970E9D73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740ED-F0EB-4B8F-88DC-249F7C3B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3A829-E96D-4AF9-9398-E59D5C74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A082-BE8C-4FD7-9431-BFC54618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43476-D80F-4F49-85D9-F4D79AE0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368CE-FB13-41B7-AFD3-F977455A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7573C-D8CA-4910-A1D9-A8C7C775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C8311-67B7-44F2-834F-9F37079DA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C4732-1583-4C20-9638-9ABAA866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30522-7685-462D-9A9B-8377EF79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B8443-08ED-4B4A-90BE-09C57589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178-7F6D-434E-9EA9-2FDDF7A2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216C0-477B-4338-890A-F4D5C2DB0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A5214-0038-4DE0-A155-E9A89F15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E146-A234-4DDC-A628-D4650FB82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27C97-A0B5-4853-9139-EC13B2FC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018A-D43C-4DED-9426-6A8D9922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DE13B-F2CA-4C1A-84AC-252692CA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7E494-E69D-4AE4-87F9-7D793655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EB8E8-5E89-4DE9-97C9-B0ACA73BE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7393E-E08A-4DE7-9F31-6F08FFA79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52B54-CCE9-4EBA-BEDB-BF74B2DA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BEF9-76A5-4A11-AC50-CC1E5F60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117AD-5049-44FF-8848-3AEB48DF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B6169-BBE7-4149-A6F1-5E8FF9975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E179D-022A-43B2-8F11-DCF095DD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E9B42-8188-4EC8-BB21-A42BBE3A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6274E-98D8-4243-A595-6226CE5F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B4DB0-D9F9-4EB6-8F8F-0EC08C71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9D142-D663-41BF-880F-F49F40DC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282E2-B806-420F-A212-99DDADD8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CB861-6871-42B0-BBA8-0A44BBCF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D4467-C734-4A97-9C0B-73A6A3685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8FFC-5DE9-4DBA-AC3D-54FD842E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D3163-1816-4DB7-80FC-BB2FDD69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8056C-90FC-4423-9FEA-C8EE85C9A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AB750-9C06-419B-91CA-D160B6455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65A7B-E1EB-4033-8BE7-1D606108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8DDB-5A51-4689-98F1-BF644DA5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1C41B-5FD0-439C-A467-8D9E89EA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9FEA8-1B59-4090-AE8A-4FC7E594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AF829-98B5-4D42-9EB4-31680D32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5274C-A37C-4821-8D7F-BA018D9C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1CAFC-874E-4C43-81F3-925946BD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A933-0B6E-4762-89A0-DA2984BE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1E51B-B6E7-4CA8-8D67-77BA94E7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62F9E-7B96-4514-8F0C-D2C5D018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FE2FA-67E9-4D39-BF2E-4076B753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D4FBE-0A73-4098-A63F-C813FD11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C486F-BB5E-4BE4-BD7A-928205AA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4C7DC-40D0-46A9-8471-6DD5F9FC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BFA9C-7991-4311-B87B-DE5CBCB2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2968A-477A-4D7F-8497-B278914E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E792-B172-4413-A62B-AF6AABCC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9860B-3A07-45C8-8AEC-E60D42F4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BFE-7BB8-451C-819A-8BB769D4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084B4-2E7E-4FF5-8B95-ACDAE052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EB5DA-DE40-4861-A965-A6AC0AD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023D1-4FC5-4E3A-BFBD-3325DE3C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8016-A7C7-4BE8-9876-65FED9932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EE8CF-7283-49F8-8B3C-89D8E8BB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0202B-5612-4BDB-8E80-EADAF045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D0694-C1E3-4634-987D-7AE35EFA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7547A8-BEC3-4F0D-BC0C-70F8685B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92FDE-2E57-4E40-B5E0-420E21958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CD8FE-3B04-446D-91CC-38544C0B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5860-B3A3-4A81-8AEF-BEFB6AB8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50CB4-B458-40B2-A116-55628B0C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8F067-5D71-41C2-815B-8CABEA9C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339E8-A943-4962-840C-DFAD4100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9A637C-1E4F-49E4-A753-62101CD2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F7A83-406D-4B18-832B-2DE8A1C4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05D0B-CF96-4E30-8AFA-82C00D9A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95442-53B4-4796-8680-703E476B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484FA-FD01-4BB6-B1FE-5402442B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FE4ADF-2F6D-4A38-81B1-08AA66C7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7B334E-6FE9-438B-9BCA-99C6C066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000"/>
              <a:chOff x="6273360" y="-21240"/>
              <a:chExt cx="2870280" cy="226800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000"/>
                <a:chOff x="6273360" y="-21240"/>
                <a:chExt cx="2867400" cy="226800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4520" cy="1140840"/>
                  <a:chOff x="7833960" y="843120"/>
                  <a:chExt cx="106452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328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560" y="1601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960" y="906120"/>
                  <a:ext cx="1064160" cy="1141560"/>
                  <a:chOff x="6537960" y="906120"/>
                  <a:chExt cx="1064160" cy="114156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524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200"/>
                  <a:ext cx="608040" cy="784440"/>
                  <a:chOff x="7111800" y="16200"/>
                  <a:chExt cx="60804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4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600" y="103680"/>
                    <a:ext cx="30312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560"/>
                  <a:chOff x="7665480" y="-11160"/>
                  <a:chExt cx="497520" cy="79056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432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0840" y="454680"/>
                    <a:ext cx="59256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08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080"/>
                  <a:ext cx="177840" cy="745920"/>
                  <a:chOff x="7708680" y="-1080"/>
                  <a:chExt cx="177840" cy="74592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52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08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760" y="930240"/>
                  <a:ext cx="912960" cy="1248840"/>
                  <a:chOff x="6710760" y="93024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400"/>
                    <a:ext cx="8845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920" y="1787760"/>
                    <a:ext cx="4744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5600" cy="1248480"/>
                  <a:chOff x="7014960" y="979200"/>
                  <a:chExt cx="61560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792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160" y="1851120"/>
                    <a:ext cx="438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3240" cy="1217880"/>
                  <a:chOff x="7312680" y="1001160"/>
                  <a:chExt cx="36324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280" y="1328400"/>
                    <a:ext cx="785520" cy="143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7040"/>
                    <a:ext cx="421200" cy="22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50760" cy="1229040"/>
                  <a:chOff x="7798680" y="909360"/>
                  <a:chExt cx="95076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440"/>
                    <a:ext cx="47484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840" y="1841040"/>
                    <a:ext cx="4539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1640"/>
                  <a:chOff x="7756920" y="1005120"/>
                  <a:chExt cx="510120" cy="124164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920" y="1907640"/>
                    <a:ext cx="44028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2880" y="1378080"/>
                    <a:ext cx="75456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480"/>
                  <a:ext cx="276120" cy="1131840"/>
                  <a:chOff x="7500600" y="1077480"/>
                  <a:chExt cx="276120" cy="113184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0760"/>
                    <a:ext cx="7372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880"/>
                    <a:ext cx="39564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924A-5811-4B29-B4C2-564DD1478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D19A-3428-45B8-8446-8D941DCCB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9EDE-BDBA-4BAF-A665-CDB35E1A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DFA4-4ABF-45CD-8A76-2D7718110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C52D-02BB-4166-8F6E-7C9478281E4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1840"/>
            <a:chOff x="2010960" y="245520"/>
            <a:chExt cx="689616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1840"/>
              <a:chOff x="2010960" y="245520"/>
              <a:chExt cx="689616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320" y="301968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3400" y="41450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4640"/>
                    <a:ext cx="2556720" cy="2740680"/>
                    <a:chOff x="2646720" y="2474640"/>
                    <a:chExt cx="2556720" cy="27406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2320"/>
                      <a:ext cx="21268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080" y="429624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520"/>
                    <a:ext cx="1460520" cy="1885680"/>
                    <a:chOff x="4027320" y="335520"/>
                    <a:chExt cx="146052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960"/>
                      <a:ext cx="1356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6480"/>
                      <a:ext cx="72900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7840"/>
                    <a:ext cx="68040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6080" y="270000"/>
                    <a:ext cx="1196280" cy="1901160"/>
                    <a:chOff x="535608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520" y="1418400"/>
                      <a:ext cx="130860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800" y="388800"/>
                    <a:ext cx="1891080" cy="1796400"/>
                    <a:chOff x="5347800" y="388800"/>
                    <a:chExt cx="189108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720" y="1389240"/>
                      <a:ext cx="142380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320"/>
                    <a:chOff x="5458320" y="292680"/>
                    <a:chExt cx="42732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600" y="1445760"/>
                      <a:ext cx="117504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480" y="532800"/>
                      <a:ext cx="63036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1800"/>
                      <a:ext cx="11408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8600" y="3439440"/>
                      <a:ext cx="1965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4000" y="4745160"/>
                      <a:ext cx="10548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8280" y="2703600"/>
                    <a:ext cx="875160" cy="2926800"/>
                    <a:chOff x="4508280" y="2703600"/>
                    <a:chExt cx="87516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9840"/>
                      <a:ext cx="1887480" cy="34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5720" y="4809240"/>
                      <a:ext cx="1012680" cy="54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560" y="2483280"/>
                    <a:ext cx="2280960" cy="2953080"/>
                    <a:chOff x="5677560" y="2483280"/>
                    <a:chExt cx="228096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480" y="3250440"/>
                      <a:ext cx="212652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400" y="4497840"/>
                      <a:ext cx="11408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7880" cy="3032640"/>
                    <a:chOff x="5648400" y="2593440"/>
                    <a:chExt cx="175788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520"/>
                      <a:ext cx="2033280" cy="367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360" cy="2986560"/>
                    <a:chOff x="5576400" y="2710800"/>
                    <a:chExt cx="122436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960"/>
                      <a:ext cx="105912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7320" cy="2778120"/>
                    <a:chOff x="5521320" y="2840760"/>
                    <a:chExt cx="69732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296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920" y="4865040"/>
                      <a:ext cx="97380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7200"/>
                    <a:ext cx="663480" cy="2717640"/>
                    <a:chOff x="4961160" y="288720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400" y="3663720"/>
                      <a:ext cx="1770840" cy="23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6360" y="4931280"/>
                      <a:ext cx="950040" cy="36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6942-0800-476C-9B1B-284F61D29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738C-B540-455C-890E-AF1C9A939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C715-2C63-4ABD-B7D8-1A28BFEFC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892B-FC8B-415C-8B37-7CCEDF6E2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BA72-F019-4973-AAE7-5F22E65FB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4641-85C9-45A8-B533-C54D1DE7E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2626-BAE0-4B7D-8B6F-1117AE244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E0A2-476F-418E-BD7D-8B131E128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7"/>
          <p:cNvSpPr/>
          <p:nvPr/>
        </p:nvSpPr>
        <p:spPr>
          <a:xfrm>
            <a:off x="1224000" y="836640"/>
            <a:ext cx="60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  <a:ea typeface="华文行楷"/>
              </a:rPr>
              <a:t>小学三年级上册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1332000" y="1844640"/>
            <a:ext cx="65530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0000"/>
                </a:solidFill>
                <a:latin typeface="Arial Black"/>
              </a:rPr>
              <a:t>四边形</a:t>
            </a:r>
            <a:endParaRPr b="0" lang="en-US" sz="1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矩形 7"/>
          <p:cNvSpPr/>
          <p:nvPr/>
        </p:nvSpPr>
        <p:spPr>
          <a:xfrm>
            <a:off x="2427840" y="6021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8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" dur="2000"/>
                                        <p:tgtEl>
                                          <p:spTgt spid="8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>
            <a:hlinkClick r:id="rId2" action="ppaction://hlinksldjump"/>
          </p:cNvPr>
          <p:cNvSpPr/>
          <p:nvPr/>
        </p:nvSpPr>
        <p:spPr>
          <a:xfrm>
            <a:off x="1476360" y="1125360"/>
            <a:ext cx="2448000" cy="2590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899" name="Group 3"/>
          <p:cNvGrpSpPr/>
          <p:nvPr/>
        </p:nvGrpSpPr>
        <p:grpSpPr>
          <a:xfrm>
            <a:off x="1476360" y="2637000"/>
            <a:ext cx="1584360" cy="1078920"/>
            <a:chOff x="1476360" y="2637000"/>
            <a:chExt cx="1584360" cy="1078920"/>
          </a:xfrm>
        </p:grpSpPr>
        <p:sp>
          <p:nvSpPr>
            <p:cNvPr id="900" name="AutoShape 4"/>
            <p:cNvSpPr/>
            <p:nvPr/>
          </p:nvSpPr>
          <p:spPr>
            <a:xfrm>
              <a:off x="1476360" y="2637000"/>
              <a:ext cx="1584360" cy="10789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01" name="Oval 5"/>
            <p:cNvSpPr/>
            <p:nvPr/>
          </p:nvSpPr>
          <p:spPr>
            <a:xfrm>
              <a:off x="1602720" y="3134880"/>
              <a:ext cx="316800" cy="4147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902" name="Group 6"/>
          <p:cNvGrpSpPr/>
          <p:nvPr/>
        </p:nvGrpSpPr>
        <p:grpSpPr>
          <a:xfrm>
            <a:off x="3059280" y="2276640"/>
            <a:ext cx="866520" cy="1428480"/>
            <a:chOff x="3059280" y="2276640"/>
            <a:chExt cx="866520" cy="1428480"/>
          </a:xfrm>
        </p:grpSpPr>
        <p:sp>
          <p:nvSpPr>
            <p:cNvPr id="903" name="AutoShape 7"/>
            <p:cNvSpPr/>
            <p:nvPr/>
          </p:nvSpPr>
          <p:spPr>
            <a:xfrm rot="16200000">
              <a:off x="2778120" y="2557440"/>
              <a:ext cx="1428480" cy="86652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04" name="Oval 8"/>
            <p:cNvSpPr/>
            <p:nvPr/>
          </p:nvSpPr>
          <p:spPr>
            <a:xfrm rot="16200000">
              <a:off x="3483000" y="3281760"/>
              <a:ext cx="285480" cy="333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905" name="Group 9"/>
          <p:cNvGrpSpPr/>
          <p:nvPr/>
        </p:nvGrpSpPr>
        <p:grpSpPr>
          <a:xfrm>
            <a:off x="2410920" y="1125360"/>
            <a:ext cx="1530360" cy="1072800"/>
            <a:chOff x="2410920" y="1125360"/>
            <a:chExt cx="1530360" cy="1072800"/>
          </a:xfrm>
        </p:grpSpPr>
        <p:sp>
          <p:nvSpPr>
            <p:cNvPr id="906" name="AutoShape 10"/>
            <p:cNvSpPr/>
            <p:nvPr/>
          </p:nvSpPr>
          <p:spPr>
            <a:xfrm rot="10800000">
              <a:off x="2410920" y="1125000"/>
              <a:ext cx="1530360" cy="107280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07" name="Oval 11"/>
            <p:cNvSpPr/>
            <p:nvPr/>
          </p:nvSpPr>
          <p:spPr>
            <a:xfrm rot="10800000">
              <a:off x="3513240" y="1290240"/>
              <a:ext cx="306000" cy="41256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908" name="Group 12"/>
          <p:cNvGrpSpPr/>
          <p:nvPr/>
        </p:nvGrpSpPr>
        <p:grpSpPr>
          <a:xfrm>
            <a:off x="1474560" y="1125360"/>
            <a:ext cx="803160" cy="1575000"/>
            <a:chOff x="1474560" y="1125360"/>
            <a:chExt cx="803160" cy="1575000"/>
          </a:xfrm>
        </p:grpSpPr>
        <p:sp>
          <p:nvSpPr>
            <p:cNvPr id="909" name="AutoShape 13"/>
            <p:cNvSpPr/>
            <p:nvPr/>
          </p:nvSpPr>
          <p:spPr>
            <a:xfrm rot="5400000">
              <a:off x="1088280" y="1511280"/>
              <a:ext cx="1575000" cy="80316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0" name="Oval 14"/>
            <p:cNvSpPr/>
            <p:nvPr/>
          </p:nvSpPr>
          <p:spPr>
            <a:xfrm rot="5400000">
              <a:off x="1595160" y="1253880"/>
              <a:ext cx="314640" cy="308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911" name="Group 15"/>
          <p:cNvGrpSpPr/>
          <p:nvPr/>
        </p:nvGrpSpPr>
        <p:grpSpPr>
          <a:xfrm>
            <a:off x="1476360" y="3500280"/>
            <a:ext cx="216000" cy="160560"/>
            <a:chOff x="1476360" y="3500280"/>
            <a:chExt cx="216000" cy="160560"/>
          </a:xfrm>
        </p:grpSpPr>
        <p:sp>
          <p:nvSpPr>
            <p:cNvPr id="912" name="Line 16"/>
            <p:cNvSpPr/>
            <p:nvPr/>
          </p:nvSpPr>
          <p:spPr>
            <a:xfrm>
              <a:off x="1476360" y="3500280"/>
              <a:ext cx="21600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3" name="Line 17"/>
            <p:cNvSpPr/>
            <p:nvPr/>
          </p:nvSpPr>
          <p:spPr>
            <a:xfrm>
              <a:off x="1692360" y="3500280"/>
              <a:ext cx="0" cy="160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914" name="Group 18"/>
          <p:cNvGrpSpPr/>
          <p:nvPr/>
        </p:nvGrpSpPr>
        <p:grpSpPr>
          <a:xfrm>
            <a:off x="1476360" y="1125360"/>
            <a:ext cx="304920" cy="304920"/>
            <a:chOff x="1476360" y="1125360"/>
            <a:chExt cx="304920" cy="304920"/>
          </a:xfrm>
        </p:grpSpPr>
        <p:sp>
          <p:nvSpPr>
            <p:cNvPr id="915" name="Line 19"/>
            <p:cNvSpPr/>
            <p:nvPr/>
          </p:nvSpPr>
          <p:spPr>
            <a:xfrm>
              <a:off x="1476360" y="143028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6" name="Line 20"/>
            <p:cNvSpPr/>
            <p:nvPr/>
          </p:nvSpPr>
          <p:spPr>
            <a:xfrm>
              <a:off x="1781280" y="1125360"/>
              <a:ext cx="0" cy="304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917" name="Group 21"/>
          <p:cNvGrpSpPr/>
          <p:nvPr/>
        </p:nvGrpSpPr>
        <p:grpSpPr>
          <a:xfrm>
            <a:off x="3708360" y="1125360"/>
            <a:ext cx="304920" cy="216000"/>
            <a:chOff x="3708360" y="1125360"/>
            <a:chExt cx="304920" cy="216000"/>
          </a:xfrm>
        </p:grpSpPr>
        <p:sp>
          <p:nvSpPr>
            <p:cNvPr id="918" name="Line 22"/>
            <p:cNvSpPr/>
            <p:nvPr/>
          </p:nvSpPr>
          <p:spPr>
            <a:xfrm>
              <a:off x="3708360" y="1125360"/>
              <a:ext cx="0" cy="216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19" name="Line 23"/>
            <p:cNvSpPr/>
            <p:nvPr/>
          </p:nvSpPr>
          <p:spPr>
            <a:xfrm>
              <a:off x="3708360" y="1341360"/>
              <a:ext cx="30492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920" name="Group 24"/>
          <p:cNvGrpSpPr/>
          <p:nvPr/>
        </p:nvGrpSpPr>
        <p:grpSpPr>
          <a:xfrm>
            <a:off x="3635280" y="3429000"/>
            <a:ext cx="304920" cy="304920"/>
            <a:chOff x="3635280" y="3429000"/>
            <a:chExt cx="304920" cy="304920"/>
          </a:xfrm>
        </p:grpSpPr>
        <p:sp>
          <p:nvSpPr>
            <p:cNvPr id="921" name="Line 25"/>
            <p:cNvSpPr/>
            <p:nvPr/>
          </p:nvSpPr>
          <p:spPr>
            <a:xfrm>
              <a:off x="3635280" y="3429000"/>
              <a:ext cx="0" cy="304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922" name="Line 26"/>
            <p:cNvSpPr/>
            <p:nvPr/>
          </p:nvSpPr>
          <p:spPr>
            <a:xfrm>
              <a:off x="3635280" y="3429000"/>
              <a:ext cx="304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923" name="Text Box 27"/>
          <p:cNvSpPr/>
          <p:nvPr/>
        </p:nvSpPr>
        <p:spPr>
          <a:xfrm>
            <a:off x="468360" y="4653000"/>
            <a:ext cx="727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正方形的四个角都是直角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新魏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 Black"/>
              </a:rPr>
              <a:t>正方形的四条边都相等</a:t>
            </a: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5" name="Line 31"/>
          <p:cNvSpPr/>
          <p:nvPr/>
        </p:nvSpPr>
        <p:spPr>
          <a:xfrm>
            <a:off x="4356000" y="2565360"/>
            <a:ext cx="251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6" name="Line 32"/>
          <p:cNvSpPr/>
          <p:nvPr/>
        </p:nvSpPr>
        <p:spPr>
          <a:xfrm>
            <a:off x="4356000" y="2781360"/>
            <a:ext cx="25196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7" name="Line 33"/>
          <p:cNvSpPr/>
          <p:nvPr/>
        </p:nvSpPr>
        <p:spPr>
          <a:xfrm>
            <a:off x="4356000" y="2997360"/>
            <a:ext cx="251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8" name="Line 34"/>
          <p:cNvSpPr/>
          <p:nvPr/>
        </p:nvSpPr>
        <p:spPr>
          <a:xfrm>
            <a:off x="4356000" y="2349360"/>
            <a:ext cx="251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9" name="Line 35"/>
          <p:cNvSpPr/>
          <p:nvPr/>
        </p:nvSpPr>
        <p:spPr>
          <a:xfrm>
            <a:off x="4356000" y="2781360"/>
            <a:ext cx="2519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0" name="Line 36"/>
          <p:cNvSpPr/>
          <p:nvPr/>
        </p:nvSpPr>
        <p:spPr>
          <a:xfrm>
            <a:off x="1403280" y="3716280"/>
            <a:ext cx="2519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1" name="Line 37"/>
          <p:cNvSpPr/>
          <p:nvPr/>
        </p:nvSpPr>
        <p:spPr>
          <a:xfrm>
            <a:off x="3922560" y="1195560"/>
            <a:ext cx="0" cy="25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2" name="Line 38"/>
          <p:cNvSpPr/>
          <p:nvPr/>
        </p:nvSpPr>
        <p:spPr>
          <a:xfrm flipV="1">
            <a:off x="1474920" y="1123920"/>
            <a:ext cx="0" cy="2519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3" name="Line 39"/>
          <p:cNvSpPr/>
          <p:nvPr/>
        </p:nvSpPr>
        <p:spPr>
          <a:xfrm>
            <a:off x="1476360" y="1125360"/>
            <a:ext cx="25192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2"/>
          <p:cNvSpPr/>
          <p:nvPr/>
        </p:nvSpPr>
        <p:spPr>
          <a:xfrm>
            <a:off x="468360" y="620640"/>
            <a:ext cx="3155760" cy="208908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5" name="Rectangle 3"/>
          <p:cNvSpPr/>
          <p:nvPr/>
        </p:nvSpPr>
        <p:spPr>
          <a:xfrm>
            <a:off x="4140360" y="620640"/>
            <a:ext cx="2232000" cy="21589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6" name="Text Box 4"/>
          <p:cNvSpPr/>
          <p:nvPr/>
        </p:nvSpPr>
        <p:spPr>
          <a:xfrm>
            <a:off x="0" y="2852640"/>
            <a:ext cx="946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讨论：长方形、正方形的联系和 区别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7" name="Text Box 5"/>
          <p:cNvSpPr/>
          <p:nvPr/>
        </p:nvSpPr>
        <p:spPr>
          <a:xfrm>
            <a:off x="324000" y="3716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相同点：对边相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四个角是直角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250920" y="4941720"/>
            <a:ext cx="88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不相同点：长方形只是对边相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正方形是四条边都相等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9" dur="2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4"/>
          <p:cNvSpPr/>
          <p:nvPr/>
        </p:nvSpPr>
        <p:spPr>
          <a:xfrm>
            <a:off x="2987640" y="5373720"/>
            <a:ext cx="151308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0" name="Rectangle 5"/>
          <p:cNvSpPr/>
          <p:nvPr/>
        </p:nvSpPr>
        <p:spPr>
          <a:xfrm rot="2281200">
            <a:off x="4572000" y="4365720"/>
            <a:ext cx="72072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1" name="Rectangle 7"/>
          <p:cNvSpPr/>
          <p:nvPr/>
        </p:nvSpPr>
        <p:spPr>
          <a:xfrm rot="3826200">
            <a:off x="3688920" y="2872080"/>
            <a:ext cx="18367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2" name="AutoShape 8"/>
          <p:cNvSpPr/>
          <p:nvPr/>
        </p:nvSpPr>
        <p:spPr>
          <a:xfrm>
            <a:off x="2556000" y="4365720"/>
            <a:ext cx="1655640" cy="647640"/>
          </a:xfrm>
          <a:prstGeom prst="parallelogram">
            <a:avLst>
              <a:gd name="adj" fmla="val 6391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3" name="AutoShape 9"/>
          <p:cNvSpPr/>
          <p:nvPr/>
        </p:nvSpPr>
        <p:spPr>
          <a:xfrm>
            <a:off x="3635280" y="2924280"/>
            <a:ext cx="505080" cy="1152360"/>
          </a:xfrm>
          <a:prstGeom prst="pi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5724360" y="4365720"/>
            <a:ext cx="648000" cy="1439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5" name="AutoShape 11"/>
          <p:cNvSpPr/>
          <p:nvPr/>
        </p:nvSpPr>
        <p:spPr>
          <a:xfrm>
            <a:off x="6948360" y="1989000"/>
            <a:ext cx="1008360" cy="1008360"/>
          </a:xfrm>
          <a:prstGeom prst="triangle">
            <a:avLst>
              <a:gd name="adj" fmla="val 8125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6" name="Rectangle 12"/>
          <p:cNvSpPr/>
          <p:nvPr/>
        </p:nvSpPr>
        <p:spPr>
          <a:xfrm>
            <a:off x="6805440" y="3502080"/>
            <a:ext cx="1511640" cy="1511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10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7" name="AutoShape 13"/>
          <p:cNvSpPr/>
          <p:nvPr/>
        </p:nvSpPr>
        <p:spPr>
          <a:xfrm rot="5400000">
            <a:off x="4752000" y="2167560"/>
            <a:ext cx="1942920" cy="1008000"/>
          </a:xfrm>
          <a:prstGeom prst="parallelogram">
            <a:avLst>
              <a:gd name="adj" fmla="val 53854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8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8" name="AutoShape 14"/>
          <p:cNvSpPr/>
          <p:nvPr/>
        </p:nvSpPr>
        <p:spPr>
          <a:xfrm rot="12480600">
            <a:off x="7308360" y="5373360"/>
            <a:ext cx="1150920" cy="719280"/>
          </a:xfrm>
          <a:prstGeom prst="flowChartDecision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华文新魏"/>
              </a:rPr>
              <a:t>11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9" name="Rectangle 15"/>
          <p:cNvSpPr/>
          <p:nvPr/>
        </p:nvSpPr>
        <p:spPr>
          <a:xfrm>
            <a:off x="4859280" y="5661000"/>
            <a:ext cx="57636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华文新魏"/>
              </a:rPr>
              <a:t>6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0" name="Text Box 17"/>
          <p:cNvSpPr/>
          <p:nvPr/>
        </p:nvSpPr>
        <p:spPr>
          <a:xfrm>
            <a:off x="684360" y="47628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、涂颜色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1" name="Text Box 20"/>
          <p:cNvSpPr/>
          <p:nvPr/>
        </p:nvSpPr>
        <p:spPr>
          <a:xfrm>
            <a:off x="539640" y="1268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新魏"/>
              </a:rPr>
              <a:t>要求：长方形涂红色、正方形涂黄色、平行四边形涂绿色。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7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418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2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3" dur="2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2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6" dur="2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8" dur="2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29" dur="2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34" dur="2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6" dur="2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37" dur="2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40" dur="2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137160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900" spc="-1" strike="noStrike">
                <a:solidFill>
                  <a:srgbClr val="ff0000"/>
                </a:solidFill>
                <a:latin typeface="Arial Black"/>
              </a:rPr>
              <a:t>谢谢</a:t>
            </a:r>
            <a:r>
              <a:rPr b="0" lang="en-US" sz="22900" spc="-1" strike="noStrike">
                <a:solidFill>
                  <a:srgbClr val="ff0000"/>
                </a:solidFill>
                <a:latin typeface="Arial Black"/>
              </a:rPr>
              <a:t>!</a:t>
            </a:r>
            <a:endParaRPr b="0" lang="en-US" sz="229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 Black"/>
              </a:rPr>
              <a:t> </a:t>
            </a:r>
            <a:r>
              <a:rPr b="0" lang="zh-CN" sz="1400" spc="-1" strike="noStrike" u="sng">
                <a:solidFill>
                  <a:srgbClr val="ff3399"/>
                </a:solidFill>
                <a:uFillTx/>
                <a:latin typeface="Arial Black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99"/>
                </a:solidFill>
                <a:uFillTx/>
                <a:latin typeface="Arial Black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dongtai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chuangyi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gongzuo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 Black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kejian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shangwu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sucai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99"/>
                </a:solidFill>
                <a:uFillTx/>
                <a:latin typeface="Arial Black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fengjing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jianjie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jiaoyu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lunwen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 Black"/>
              </a:rPr>
              <a:t>http://www.eeppt.com/moban/yiliao/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084C-28DD-4194-AF3D-F0A9823786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矩形 5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05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13428720" cy="100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</a:rPr>
              <a:t>例１把你认为是四边形的图形涂上颜色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AutoShape 5"/>
          <p:cNvSpPr/>
          <p:nvPr/>
        </p:nvSpPr>
        <p:spPr>
          <a:xfrm>
            <a:off x="1332000" y="1557360"/>
            <a:ext cx="1152360" cy="1150920"/>
          </a:xfrm>
          <a:prstGeom prst="pentagon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3419640" y="1773360"/>
            <a:ext cx="1296720" cy="792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AutoShape 7"/>
          <p:cNvSpPr/>
          <p:nvPr/>
        </p:nvSpPr>
        <p:spPr>
          <a:xfrm>
            <a:off x="5940360" y="1557360"/>
            <a:ext cx="1944720" cy="1079640"/>
          </a:xfrm>
          <a:prstGeom prst="rtTriangl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Oval 8"/>
          <p:cNvSpPr/>
          <p:nvPr/>
        </p:nvSpPr>
        <p:spPr>
          <a:xfrm>
            <a:off x="1619280" y="3141720"/>
            <a:ext cx="865080" cy="1008000"/>
          </a:xfrm>
          <a:prstGeom prst="ellipse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AutoShape 9"/>
          <p:cNvSpPr/>
          <p:nvPr/>
        </p:nvSpPr>
        <p:spPr>
          <a:xfrm rot="1943400">
            <a:off x="3203280" y="3213000"/>
            <a:ext cx="1320840" cy="741600"/>
          </a:xfrm>
          <a:prstGeom prst="parallelogram">
            <a:avLst>
              <a:gd name="adj" fmla="val 4452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AutoShape 10"/>
          <p:cNvSpPr/>
          <p:nvPr/>
        </p:nvSpPr>
        <p:spPr>
          <a:xfrm rot="6160200">
            <a:off x="4859280" y="3211200"/>
            <a:ext cx="1152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3" name="AutoShape 12"/>
          <p:cNvSpPr/>
          <p:nvPr/>
        </p:nvSpPr>
        <p:spPr>
          <a:xfrm>
            <a:off x="1187280" y="4365720"/>
            <a:ext cx="1440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4" name="AutoShape 13"/>
          <p:cNvSpPr/>
          <p:nvPr/>
        </p:nvSpPr>
        <p:spPr>
          <a:xfrm>
            <a:off x="3203640" y="4076640"/>
            <a:ext cx="1368360" cy="865080"/>
          </a:xfrm>
          <a:prstGeom prst="roundRect">
            <a:avLst>
              <a:gd name="adj" fmla="val 16667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5" name="AutoShape 14"/>
          <p:cNvSpPr/>
          <p:nvPr/>
        </p:nvSpPr>
        <p:spPr>
          <a:xfrm>
            <a:off x="4859280" y="4292640"/>
            <a:ext cx="1440000" cy="792000"/>
          </a:xfrm>
          <a:prstGeom prst="plus">
            <a:avLst>
              <a:gd name="adj" fmla="val 25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6" name="AutoShape 15"/>
          <p:cNvSpPr/>
          <p:nvPr/>
        </p:nvSpPr>
        <p:spPr>
          <a:xfrm>
            <a:off x="826920" y="5661000"/>
            <a:ext cx="1872000" cy="720720"/>
          </a:xfrm>
          <a:prstGeom prst="parallelogram">
            <a:avLst>
              <a:gd name="adj" fmla="val 6493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7" name="AutoShape 16"/>
          <p:cNvSpPr/>
          <p:nvPr/>
        </p:nvSpPr>
        <p:spPr>
          <a:xfrm>
            <a:off x="3059280" y="5516640"/>
            <a:ext cx="136836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8" name="AutoShape 17"/>
          <p:cNvSpPr/>
          <p:nvPr/>
        </p:nvSpPr>
        <p:spPr>
          <a:xfrm>
            <a:off x="4859280" y="5373720"/>
            <a:ext cx="1513080" cy="907920"/>
          </a:xfrm>
          <a:prstGeom prst="cube">
            <a:avLst>
              <a:gd name="adj" fmla="val 25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6659640" y="5229360"/>
            <a:ext cx="1008000" cy="1008000"/>
          </a:xfrm>
          <a:prstGeom prst="rect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0" name="AutoShape 20"/>
          <p:cNvSpPr/>
          <p:nvPr/>
        </p:nvSpPr>
        <p:spPr>
          <a:xfrm>
            <a:off x="6732720" y="3068640"/>
            <a:ext cx="936360" cy="1008000"/>
          </a:xfrm>
          <a:prstGeom prst="flowChartDelay">
            <a:avLst/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1" name="Rectangle 21"/>
          <p:cNvSpPr/>
          <p:nvPr/>
        </p:nvSpPr>
        <p:spPr>
          <a:xfrm>
            <a:off x="3419640" y="1773360"/>
            <a:ext cx="1296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2" name="AutoShape 22"/>
          <p:cNvSpPr/>
          <p:nvPr/>
        </p:nvSpPr>
        <p:spPr>
          <a:xfrm rot="1943400">
            <a:off x="3203280" y="3213000"/>
            <a:ext cx="1320840" cy="741600"/>
          </a:xfrm>
          <a:prstGeom prst="parallelogram">
            <a:avLst>
              <a:gd name="adj" fmla="val 44527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3" name="AutoShape 23"/>
          <p:cNvSpPr/>
          <p:nvPr/>
        </p:nvSpPr>
        <p:spPr>
          <a:xfrm rot="6160200">
            <a:off x="4859280" y="3211200"/>
            <a:ext cx="1152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AutoShape 24"/>
          <p:cNvSpPr/>
          <p:nvPr/>
        </p:nvSpPr>
        <p:spPr>
          <a:xfrm>
            <a:off x="1187280" y="4365720"/>
            <a:ext cx="1440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5" name="AutoShape 25"/>
          <p:cNvSpPr/>
          <p:nvPr/>
        </p:nvSpPr>
        <p:spPr>
          <a:xfrm>
            <a:off x="826920" y="5661000"/>
            <a:ext cx="1872000" cy="720720"/>
          </a:xfrm>
          <a:prstGeom prst="parallelogram">
            <a:avLst>
              <a:gd name="adj" fmla="val 64935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6" name="AutoShape 26"/>
          <p:cNvSpPr/>
          <p:nvPr/>
        </p:nvSpPr>
        <p:spPr>
          <a:xfrm>
            <a:off x="3059280" y="5516640"/>
            <a:ext cx="136836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7" name="Rectangle 27"/>
          <p:cNvSpPr/>
          <p:nvPr/>
        </p:nvSpPr>
        <p:spPr>
          <a:xfrm>
            <a:off x="6659640" y="5229360"/>
            <a:ext cx="100800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AutoShape 13"/>
          <p:cNvSpPr/>
          <p:nvPr/>
        </p:nvSpPr>
        <p:spPr>
          <a:xfrm>
            <a:off x="826920" y="0"/>
            <a:ext cx="7345440" cy="1989000"/>
          </a:xfrm>
          <a:custGeom>
            <a:avLst/>
            <a:gdLst>
              <a:gd name="textAreaLeft" fmla="*/ 0 w 7345440"/>
              <a:gd name="textAreaRight" fmla="*/ 7345800 w 7345440"/>
              <a:gd name="textAreaTop" fmla="*/ 257760 h 1989000"/>
              <a:gd name="textAreaBottom" fmla="*/ 1731240 h 1989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99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Rectangle 4"/>
          <p:cNvSpPr/>
          <p:nvPr/>
        </p:nvSpPr>
        <p:spPr>
          <a:xfrm>
            <a:off x="611280" y="2205000"/>
            <a:ext cx="1296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AutoShape 5"/>
          <p:cNvSpPr/>
          <p:nvPr/>
        </p:nvSpPr>
        <p:spPr>
          <a:xfrm rot="1943400">
            <a:off x="539280" y="3213000"/>
            <a:ext cx="1320840" cy="741600"/>
          </a:xfrm>
          <a:prstGeom prst="parallelogram">
            <a:avLst>
              <a:gd name="adj" fmla="val 44527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1" name="AutoShape 6"/>
          <p:cNvSpPr/>
          <p:nvPr/>
        </p:nvSpPr>
        <p:spPr>
          <a:xfrm rot="6160200">
            <a:off x="2050920" y="3069720"/>
            <a:ext cx="1152720" cy="717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2" name="AutoShape 7"/>
          <p:cNvSpPr/>
          <p:nvPr/>
        </p:nvSpPr>
        <p:spPr>
          <a:xfrm>
            <a:off x="324000" y="4437000"/>
            <a:ext cx="143964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AutoShape 8"/>
          <p:cNvSpPr/>
          <p:nvPr/>
        </p:nvSpPr>
        <p:spPr>
          <a:xfrm>
            <a:off x="0" y="5445000"/>
            <a:ext cx="1871640" cy="720720"/>
          </a:xfrm>
          <a:prstGeom prst="parallelogram">
            <a:avLst>
              <a:gd name="adj" fmla="val 64923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AutoShape 9"/>
          <p:cNvSpPr/>
          <p:nvPr/>
        </p:nvSpPr>
        <p:spPr>
          <a:xfrm>
            <a:off x="1835280" y="5445000"/>
            <a:ext cx="136836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5" name="Rectangle 10"/>
          <p:cNvSpPr/>
          <p:nvPr/>
        </p:nvSpPr>
        <p:spPr>
          <a:xfrm>
            <a:off x="2050920" y="4292640"/>
            <a:ext cx="100836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69760" y="375840"/>
            <a:ext cx="7468920" cy="13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你认为四边形有什么特点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7" name="AutoShape 14"/>
          <p:cNvSpPr/>
          <p:nvPr/>
        </p:nvSpPr>
        <p:spPr>
          <a:xfrm>
            <a:off x="3132000" y="2637000"/>
            <a:ext cx="5435640" cy="1368360"/>
          </a:xfrm>
          <a:prstGeom prst="wedgeEllipseCallout">
            <a:avLst>
              <a:gd name="adj1" fmla="val -45268"/>
              <a:gd name="adj2" fmla="val 69953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  <a:ea typeface="华文新魏"/>
              </a:rPr>
              <a:t>有四条直的边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AutoShape 16"/>
          <p:cNvSpPr/>
          <p:nvPr/>
        </p:nvSpPr>
        <p:spPr>
          <a:xfrm>
            <a:off x="4859280" y="5084640"/>
            <a:ext cx="3097440" cy="11527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  <a:ea typeface="华文新魏"/>
              </a:rPr>
              <a:t>有四个角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AutoShape 3"/>
          <p:cNvSpPr/>
          <p:nvPr/>
        </p:nvSpPr>
        <p:spPr>
          <a:xfrm>
            <a:off x="971640" y="1844640"/>
            <a:ext cx="1152360" cy="115092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3924360" y="1916280"/>
            <a:ext cx="1297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AutoShape 5"/>
          <p:cNvSpPr/>
          <p:nvPr/>
        </p:nvSpPr>
        <p:spPr>
          <a:xfrm>
            <a:off x="6227640" y="1773360"/>
            <a:ext cx="1944720" cy="107928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2" name="Oval 6"/>
          <p:cNvSpPr/>
          <p:nvPr/>
        </p:nvSpPr>
        <p:spPr>
          <a:xfrm>
            <a:off x="1619280" y="3141720"/>
            <a:ext cx="86508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3" name="AutoShape 7"/>
          <p:cNvSpPr/>
          <p:nvPr/>
        </p:nvSpPr>
        <p:spPr>
          <a:xfrm rot="1943400">
            <a:off x="3492360" y="3068640"/>
            <a:ext cx="1320840" cy="741240"/>
          </a:xfrm>
          <a:prstGeom prst="parallelogram">
            <a:avLst>
              <a:gd name="adj" fmla="val 44548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AutoShape 8"/>
          <p:cNvSpPr/>
          <p:nvPr/>
        </p:nvSpPr>
        <p:spPr>
          <a:xfrm rot="6160200">
            <a:off x="4859280" y="3211200"/>
            <a:ext cx="1152720" cy="720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1187280" y="4365720"/>
            <a:ext cx="144000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AutoShape 10"/>
          <p:cNvSpPr/>
          <p:nvPr/>
        </p:nvSpPr>
        <p:spPr>
          <a:xfrm>
            <a:off x="3203640" y="4076640"/>
            <a:ext cx="1368360" cy="865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7" name="AutoShape 11"/>
          <p:cNvSpPr/>
          <p:nvPr/>
        </p:nvSpPr>
        <p:spPr>
          <a:xfrm>
            <a:off x="4859280" y="4292640"/>
            <a:ext cx="1440000" cy="79200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8" name="AutoShape 12"/>
          <p:cNvSpPr/>
          <p:nvPr/>
        </p:nvSpPr>
        <p:spPr>
          <a:xfrm>
            <a:off x="0" y="5300640"/>
            <a:ext cx="1871640" cy="720720"/>
          </a:xfrm>
          <a:prstGeom prst="parallelogram">
            <a:avLst>
              <a:gd name="adj" fmla="val 64923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AutoShape 13"/>
          <p:cNvSpPr/>
          <p:nvPr/>
        </p:nvSpPr>
        <p:spPr>
          <a:xfrm>
            <a:off x="1835280" y="5300640"/>
            <a:ext cx="136836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AutoShape 14"/>
          <p:cNvSpPr/>
          <p:nvPr/>
        </p:nvSpPr>
        <p:spPr>
          <a:xfrm>
            <a:off x="5003640" y="5157720"/>
            <a:ext cx="1513080" cy="90828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Rectangle 15"/>
          <p:cNvSpPr/>
          <p:nvPr/>
        </p:nvSpPr>
        <p:spPr>
          <a:xfrm>
            <a:off x="6659640" y="5229360"/>
            <a:ext cx="1008000" cy="100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AutoShape 16"/>
          <p:cNvSpPr/>
          <p:nvPr/>
        </p:nvSpPr>
        <p:spPr>
          <a:xfrm>
            <a:off x="7380360" y="3068640"/>
            <a:ext cx="936720" cy="1008000"/>
          </a:xfrm>
          <a:prstGeom prst="flowChartDelay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Rectangle 19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四边形　　　　其它图形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528 0.00023 L 0.41528 0.00023 E">
                                      <p:cBhvr>
                                        <p:cTn id="124" dur="2000" fill="hold"/>
                                        <p:tgtEl>
                                          <p:spTgt spid="8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73 -0.00509 L -0.33073 -0.00509 E">
                                      <p:cBhvr>
                                        <p:cTn id="128" dur="2000" fill="hold"/>
                                        <p:tgtEl>
                                          <p:spTgt spid="8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84 -0.01042 L 0.39184 -0.01042 E">
                                      <p:cBhvr>
                                        <p:cTn id="132" dur="2000" fill="hold"/>
                                        <p:tgtEl>
                                          <p:spTgt spid="8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73 0.01967 L -0.33212 0.01967 E">
                                      <p:cBhvr>
                                        <p:cTn id="136" dur="2000" fill="hold"/>
                                        <p:tgtEl>
                                          <p:spTgt spid="8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0" dur="2000" fill="hold"/>
                                        <p:tgtEl>
                                          <p:spTgt spid="8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11 0.02616 L 0.18489 0.02616 E">
                                      <p:cBhvr>
                                        <p:cTn id="144" dur="2000" fill="hold"/>
                                        <p:tgtEl>
                                          <p:spTgt spid="8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8" dur="2000" fill="hold"/>
                                        <p:tgtEl>
                                          <p:spTgt spid="8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996 -0.02083 L -0.36996 -0.02083 E">
                                      <p:cBhvr>
                                        <p:cTn id="152" dur="2000" fill="hold"/>
                                        <p:tgtEl>
                                          <p:spTgt spid="8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WordArt 5"/>
          <p:cNvSpPr txBox="1"/>
          <p:nvPr/>
        </p:nvSpPr>
        <p:spPr>
          <a:xfrm>
            <a:off x="755640" y="404640"/>
            <a:ext cx="266400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想一想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855" name="Text Box 6"/>
          <p:cNvSpPr/>
          <p:nvPr/>
        </p:nvSpPr>
        <p:spPr>
          <a:xfrm>
            <a:off x="0" y="371628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 Black"/>
                <a:ea typeface="华文行楷"/>
              </a:rPr>
              <a:t>      </a:t>
            </a: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行楷"/>
              </a:rPr>
              <a:t>现实生活中你在哪里见到了这样的四边形</a:t>
            </a:r>
            <a:r>
              <a:rPr b="0" lang="en-US" sz="6000" spc="-1" strike="noStrike">
                <a:solidFill>
                  <a:srgbClr val="ff0000"/>
                </a:solidFill>
                <a:latin typeface="Arial Black"/>
                <a:ea typeface="华文行楷"/>
              </a:rPr>
              <a:t>?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WordArt 4"/>
          <p:cNvSpPr txBox="1"/>
          <p:nvPr/>
        </p:nvSpPr>
        <p:spPr>
          <a:xfrm>
            <a:off x="755640" y="476280"/>
            <a:ext cx="511164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巧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7" name="Text Box 7"/>
          <p:cNvSpPr/>
          <p:nvPr/>
        </p:nvSpPr>
        <p:spPr>
          <a:xfrm>
            <a:off x="250920" y="4221000"/>
            <a:ext cx="9144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600" spc="-1" strike="noStrike">
                <a:solidFill>
                  <a:srgbClr val="ff0000"/>
                </a:solidFill>
                <a:latin typeface="Arial Black"/>
                <a:ea typeface="华文行楷"/>
              </a:rPr>
              <a:t>做一个四边形</a:t>
            </a:r>
            <a:endParaRPr b="0" lang="en-US" sz="10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8" name="文本框 1"/>
          <p:cNvSpPr/>
          <p:nvPr/>
        </p:nvSpPr>
        <p:spPr>
          <a:xfrm>
            <a:off x="152280" y="5775480"/>
            <a:ext cx="63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更多免费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PPT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模板尽在：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http://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6868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拿出学具袋，将里面的图形分分类．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有没有直角分              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方法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1       {1,3,4}         {2,5,6}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         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对边相等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方法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2      {1,2,3,4,6}     {5}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对边相等的情况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方法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3      {1,3,6}          {2,4}       {5}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1" name="AutoShape 5"/>
          <p:cNvSpPr/>
          <p:nvPr/>
        </p:nvSpPr>
        <p:spPr>
          <a:xfrm rot="1943400">
            <a:off x="1835280" y="1916280"/>
            <a:ext cx="792000" cy="504720"/>
          </a:xfrm>
          <a:prstGeom prst="parallelogram">
            <a:avLst>
              <a:gd name="adj" fmla="val 39230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⒉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2" name="Rectangle 6"/>
          <p:cNvSpPr/>
          <p:nvPr/>
        </p:nvSpPr>
        <p:spPr>
          <a:xfrm>
            <a:off x="2916360" y="981000"/>
            <a:ext cx="57600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⒊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3851280" y="1700280"/>
            <a:ext cx="720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4" name="AutoShape 9"/>
          <p:cNvSpPr/>
          <p:nvPr/>
        </p:nvSpPr>
        <p:spPr>
          <a:xfrm>
            <a:off x="6227640" y="1916280"/>
            <a:ext cx="1440000" cy="433080"/>
          </a:xfrm>
          <a:prstGeom prst="parallelogram">
            <a:avLst>
              <a:gd name="adj" fmla="val 83126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5" name="Rectangle 11"/>
          <p:cNvSpPr/>
          <p:nvPr/>
        </p:nvSpPr>
        <p:spPr>
          <a:xfrm>
            <a:off x="250920" y="1916280"/>
            <a:ext cx="143964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⒈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6" name="Rectangle 12"/>
          <p:cNvSpPr/>
          <p:nvPr/>
        </p:nvSpPr>
        <p:spPr>
          <a:xfrm>
            <a:off x="2916360" y="981000"/>
            <a:ext cx="57600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⒊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7" name="Rectangle 13"/>
          <p:cNvSpPr/>
          <p:nvPr/>
        </p:nvSpPr>
        <p:spPr>
          <a:xfrm>
            <a:off x="3851280" y="1700280"/>
            <a:ext cx="720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8" name="Rectangle 26"/>
          <p:cNvSpPr/>
          <p:nvPr/>
        </p:nvSpPr>
        <p:spPr>
          <a:xfrm>
            <a:off x="250920" y="1916280"/>
            <a:ext cx="1439640" cy="43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⒈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9" name="AutoShape 28"/>
          <p:cNvSpPr/>
          <p:nvPr/>
        </p:nvSpPr>
        <p:spPr>
          <a:xfrm rot="1943400">
            <a:off x="1835280" y="1916280"/>
            <a:ext cx="792000" cy="504720"/>
          </a:xfrm>
          <a:prstGeom prst="parallelogram">
            <a:avLst>
              <a:gd name="adj" fmla="val 39230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⒉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0" name="Rectangle 29"/>
          <p:cNvSpPr/>
          <p:nvPr/>
        </p:nvSpPr>
        <p:spPr>
          <a:xfrm>
            <a:off x="2916360" y="981000"/>
            <a:ext cx="576000" cy="1513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⒊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1" name="Rectangle 30"/>
          <p:cNvSpPr/>
          <p:nvPr/>
        </p:nvSpPr>
        <p:spPr>
          <a:xfrm>
            <a:off x="3851280" y="1700280"/>
            <a:ext cx="720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⒋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2" name="AutoShape 31"/>
          <p:cNvSpPr/>
          <p:nvPr/>
        </p:nvSpPr>
        <p:spPr>
          <a:xfrm rot="10656600">
            <a:off x="4859280" y="1483920"/>
            <a:ext cx="1152720" cy="1008000"/>
          </a:xfrm>
          <a:prstGeom prst="pie">
            <a:avLst/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⒌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3" name="AutoShape 32"/>
          <p:cNvSpPr/>
          <p:nvPr/>
        </p:nvSpPr>
        <p:spPr>
          <a:xfrm>
            <a:off x="6227640" y="1916280"/>
            <a:ext cx="1440000" cy="433080"/>
          </a:xfrm>
          <a:prstGeom prst="parallelogram">
            <a:avLst>
              <a:gd name="adj" fmla="val 83126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华文新魏"/>
              </a:rPr>
              <a:t>⒍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2">
            <a:hlinkClick r:id="rId2" action="ppaction://hlinksldjump"/>
          </p:cNvPr>
          <p:cNvSpPr/>
          <p:nvPr/>
        </p:nvSpPr>
        <p:spPr>
          <a:xfrm>
            <a:off x="2822400" y="2205000"/>
            <a:ext cx="2087640" cy="1224000"/>
          </a:xfrm>
          <a:prstGeom prst="rect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792760" y="1500120"/>
            <a:ext cx="701640" cy="2720880"/>
          </a:xfrm>
          <a:prstGeom prst="rect">
            <a:avLst/>
          </a:prstGeom>
          <a:solidFill>
            <a:srgbClr val="6699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6" name="Line 4"/>
          <p:cNvSpPr/>
          <p:nvPr/>
        </p:nvSpPr>
        <p:spPr>
          <a:xfrm>
            <a:off x="2771640" y="2205000"/>
            <a:ext cx="2130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7" name="Line 5"/>
          <p:cNvSpPr/>
          <p:nvPr/>
        </p:nvSpPr>
        <p:spPr>
          <a:xfrm>
            <a:off x="2822400" y="2227320"/>
            <a:ext cx="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8" name="Line 6"/>
          <p:cNvSpPr/>
          <p:nvPr/>
        </p:nvSpPr>
        <p:spPr>
          <a:xfrm>
            <a:off x="5791320" y="1484280"/>
            <a:ext cx="0" cy="275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9" name="Line 7"/>
          <p:cNvSpPr/>
          <p:nvPr/>
        </p:nvSpPr>
        <p:spPr>
          <a:xfrm>
            <a:off x="5791320" y="1496880"/>
            <a:ext cx="7189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0" name="Text Box 8"/>
          <p:cNvSpPr/>
          <p:nvPr/>
        </p:nvSpPr>
        <p:spPr>
          <a:xfrm>
            <a:off x="826920" y="422100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长方形的对边相等。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1" name="Text Box 9"/>
          <p:cNvSpPr/>
          <p:nvPr/>
        </p:nvSpPr>
        <p:spPr>
          <a:xfrm>
            <a:off x="3635280" y="1628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宋体"/>
              </a:rPr>
              <a:t>长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2101680" y="2637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宋体"/>
              </a:rPr>
              <a:t>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5270400" y="24685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宋体"/>
              </a:rPr>
              <a:t>长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84" name="Text Box 12"/>
          <p:cNvSpPr/>
          <p:nvPr/>
        </p:nvSpPr>
        <p:spPr>
          <a:xfrm>
            <a:off x="5940360" y="765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宋体"/>
              </a:rPr>
              <a:t>宽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885" name="Group 13"/>
          <p:cNvGrpSpPr/>
          <p:nvPr/>
        </p:nvGrpSpPr>
        <p:grpSpPr>
          <a:xfrm>
            <a:off x="2843280" y="2492280"/>
            <a:ext cx="504720" cy="936720"/>
            <a:chOff x="2843280" y="2492280"/>
            <a:chExt cx="504720" cy="936720"/>
          </a:xfrm>
        </p:grpSpPr>
        <p:sp>
          <p:nvSpPr>
            <p:cNvPr id="886" name="AutoShape 14"/>
            <p:cNvSpPr/>
            <p:nvPr/>
          </p:nvSpPr>
          <p:spPr>
            <a:xfrm flipH="1" rot="5400000">
              <a:off x="2627280" y="2708280"/>
              <a:ext cx="936720" cy="504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87" name="Oval 15"/>
            <p:cNvSpPr/>
            <p:nvPr/>
          </p:nvSpPr>
          <p:spPr>
            <a:xfrm flipH="1" rot="5400000">
              <a:off x="2923920" y="3163320"/>
              <a:ext cx="187200" cy="19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888" name="Group 16"/>
          <p:cNvGrpSpPr/>
          <p:nvPr/>
        </p:nvGrpSpPr>
        <p:grpSpPr>
          <a:xfrm>
            <a:off x="4356000" y="2205000"/>
            <a:ext cx="505080" cy="936720"/>
            <a:chOff x="4356000" y="2205000"/>
            <a:chExt cx="505080" cy="936720"/>
          </a:xfrm>
        </p:grpSpPr>
        <p:sp>
          <p:nvSpPr>
            <p:cNvPr id="889" name="AutoShape 17"/>
            <p:cNvSpPr/>
            <p:nvPr/>
          </p:nvSpPr>
          <p:spPr>
            <a:xfrm flipH="1" rot="16200000">
              <a:off x="4139640" y="2420640"/>
              <a:ext cx="936720" cy="505080"/>
            </a:xfrm>
            <a:prstGeom prst="rtTriangl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90" name="Oval 18"/>
            <p:cNvSpPr/>
            <p:nvPr/>
          </p:nvSpPr>
          <p:spPr>
            <a:xfrm rot="16200000">
              <a:off x="4592160" y="2276280"/>
              <a:ext cx="187200" cy="19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891" name="Group 19"/>
          <p:cNvGrpSpPr/>
          <p:nvPr/>
        </p:nvGrpSpPr>
        <p:grpSpPr>
          <a:xfrm>
            <a:off x="3995640" y="2924280"/>
            <a:ext cx="936720" cy="504720"/>
            <a:chOff x="3995640" y="2924280"/>
            <a:chExt cx="936720" cy="504720"/>
          </a:xfrm>
        </p:grpSpPr>
        <p:sp>
          <p:nvSpPr>
            <p:cNvPr id="892" name="AutoShape 20"/>
            <p:cNvSpPr/>
            <p:nvPr/>
          </p:nvSpPr>
          <p:spPr>
            <a:xfrm flipH="1">
              <a:off x="3995640" y="2924280"/>
              <a:ext cx="936720" cy="504720"/>
            </a:xfrm>
            <a:prstGeom prst="rtTriangl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93" name="Oval 21"/>
            <p:cNvSpPr/>
            <p:nvPr/>
          </p:nvSpPr>
          <p:spPr>
            <a:xfrm flipH="1">
              <a:off x="4670280" y="3157200"/>
              <a:ext cx="187200" cy="19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894" name="Group 22"/>
          <p:cNvGrpSpPr/>
          <p:nvPr/>
        </p:nvGrpSpPr>
        <p:grpSpPr>
          <a:xfrm>
            <a:off x="2843280" y="2205000"/>
            <a:ext cx="934920" cy="504720"/>
            <a:chOff x="2843280" y="2205000"/>
            <a:chExt cx="934920" cy="504720"/>
          </a:xfrm>
        </p:grpSpPr>
        <p:sp>
          <p:nvSpPr>
            <p:cNvPr id="895" name="AutoShape 23"/>
            <p:cNvSpPr/>
            <p:nvPr/>
          </p:nvSpPr>
          <p:spPr>
            <a:xfrm flipH="1" rot="10800000">
              <a:off x="2842920" y="2205000"/>
              <a:ext cx="934920" cy="504720"/>
            </a:xfrm>
            <a:prstGeom prst="rtTriangl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  <p:sp>
          <p:nvSpPr>
            <p:cNvPr id="896" name="Oval 24"/>
            <p:cNvSpPr/>
            <p:nvPr/>
          </p:nvSpPr>
          <p:spPr>
            <a:xfrm flipH="1" flipV="1" rot="10800000">
              <a:off x="2917440" y="2282760"/>
              <a:ext cx="186840" cy="194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897" name="PlaceHolder 1"/>
          <p:cNvSpPr>
            <a:spLocks noGrp="1"/>
          </p:cNvSpPr>
          <p:nvPr>
            <p:ph/>
          </p:nvPr>
        </p:nvSpPr>
        <p:spPr>
          <a:xfrm>
            <a:off x="468360" y="479736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Arial Black"/>
              </a:rPr>
              <a:t>长方形四个角是直角</a:t>
            </a: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.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53744E-006 L 4.72222E-006 0.17876 E">
                                      <p:cBhvr>
                                        <p:cTn id="217" dur="20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44444E-006 L 0.2283 4.44444E-006 E">
                                      <p:cBhvr>
                                        <p:cTn id="226" dur="2000" fill="hold"/>
                                        <p:tgtEl>
                                          <p:spTgt spid="8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2.30466E-006 L -0.00243 0.39972 E">
                                      <p:cBhvr>
                                        <p:cTn id="235" dur="2000" fill="hold"/>
                                        <p:tgtEl>
                                          <p:spTgt spid="8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19035E-006 L 0.07622 -3.19035E-006 E">
                                      <p:cBhvr>
                                        <p:cTn id="244" dur="2000" fill="hold"/>
                                        <p:tgtEl>
                                          <p:spTgt spid="8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0T06:35:1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5:40Z</dcterms:modified>
  <cp:revision>4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