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8.gif" ContentType="image/gif"/>
  <Override PartName="/ppt/media/image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4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FFC9-3770-4B24-9E8A-D6DF78A4AF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9.xml"/><Relationship Id="rId24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CC03-E369-4202-812A-81AE69B157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006-29F2-49CF-94A8-5FE5E167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D11-145A-4876-ACD8-8F0D4FFF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976-7F3C-4369-98FD-F46419AB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756-C022-4C58-A9F0-847FF569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A2DA-10D5-46C0-B320-AAE2677B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0908-C503-4B44-B84B-7B4A6A2C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2D8-76E3-473D-882B-CBBF19CB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5C66-B215-40F8-8DF6-D9B17ECE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86C-E00D-4C11-9372-E6FA143E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CCB-19C1-4615-8BA7-9466FE8C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E9C2-B4AE-4049-8EC1-27EDD604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6460-B8E8-4503-A4F9-C21C296F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AB19-2024-4C00-90FA-91CA73F6FD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42920" y="765000"/>
            <a:ext cx="88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送给奶奶的阳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1827000" y="6021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SC20050722111933343"/>
          <p:cNvPicPr/>
          <p:nvPr/>
        </p:nvPicPr>
        <p:blipFill>
          <a:blip r:embed="rId1"/>
          <a:stretch/>
        </p:blipFill>
        <p:spPr>
          <a:xfrm>
            <a:off x="0" y="260280"/>
            <a:ext cx="3240000" cy="6265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276720" y="1890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清晨，鹿儿刚睁开眼，太阳就从东山上升起来，照得满院亮堂堂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348000" y="1197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多好的天气呀！鹿儿打开房门，蹚过小溪，向对面的草地走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348000" y="2276640"/>
            <a:ext cx="5796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芬芳扑鼻的紫花开遍大地，叽叽喳喳的小鸟在空中飞着，整个大地沐浴着灿烂的阳光。鹿儿高兴得跳哇，蹦啊，乌黑的头发在阳光下闪闪发亮。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伸出双脚坐在地上。啊！裙子上洒满了阳光。看到这可爱的阳光，鹿儿的心里突然产生了一个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美好的想法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“多好的阳光啊！我要把它带回去，作为礼物送给奶奶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>
            <a:hlinkClick r:id="" action="ppaction://hlinkshowjump?jump=firstslide"/>
          </p:cNvPr>
          <p:cNvSpPr/>
          <p:nvPr/>
        </p:nvSpPr>
        <p:spPr>
          <a:xfrm>
            <a:off x="8388360" y="616572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5982"/>
                </a:moveTo>
                <a:lnTo>
                  <a:pt x="13376" y="8593"/>
                </a:ln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lnTo>
                  <a:pt x="17763" y="12945"/>
                </a:lnTo>
                <a:lnTo>
                  <a:pt x="16109" y="12945"/>
                </a:lnTo>
                <a:lnTo>
                  <a:pt x="16109" y="20134"/>
                </a:lnTo>
                <a:lnTo>
                  <a:pt x="5491" y="20134"/>
                </a:lnTo>
                <a:lnTo>
                  <a:pt x="5491" y="12945"/>
                </a:lnTo>
                <a:lnTo>
                  <a:pt x="3837" y="12945"/>
                </a:lnTo>
                <a:close/>
              </a:path>
              <a:path fill="darkenLess" w="21600" h="25890">
                <a:moveTo>
                  <a:pt x="13376" y="8593"/>
                </a:move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close/>
              </a:path>
              <a:path fill="darkenLess" w="21600" h="25890">
                <a:moveTo>
                  <a:pt x="9877" y="16444"/>
                </a:moveTo>
                <a:lnTo>
                  <a:pt x="11723" y="16444"/>
                </a:lnTo>
                <a:lnTo>
                  <a:pt x="11723" y="20134"/>
                </a:lnTo>
                <a:lnTo>
                  <a:pt x="16109" y="20134"/>
                </a:lnTo>
                <a:lnTo>
                  <a:pt x="16109" y="12945"/>
                </a:lnTo>
                <a:lnTo>
                  <a:pt x="5491" y="12945"/>
                </a:lnTo>
                <a:lnTo>
                  <a:pt x="5491" y="20134"/>
                </a:lnTo>
                <a:lnTo>
                  <a:pt x="9877" y="2013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00379094094696"/>
          <p:cNvPicPr/>
          <p:nvPr/>
        </p:nvPicPr>
        <p:blipFill>
          <a:blip r:embed="rId1"/>
          <a:stretch/>
        </p:blipFill>
        <p:spPr>
          <a:xfrm flipH="1">
            <a:off x="0" y="4292640"/>
            <a:ext cx="2341440" cy="237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155820957"/>
          <p:cNvPicPr/>
          <p:nvPr/>
        </p:nvPicPr>
        <p:blipFill>
          <a:blip r:embed="rId2"/>
          <a:stretch/>
        </p:blipFill>
        <p:spPr>
          <a:xfrm>
            <a:off x="6762600" y="404640"/>
            <a:ext cx="238140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611280" y="2205360"/>
            <a:ext cx="6840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方正姚体"/>
                <a:ea typeface="方正姚体"/>
              </a:rPr>
              <a:t>1</a:t>
            </a:r>
            <a:r>
              <a:rPr b="0" lang="zh-CN" sz="3600" spc="-1" strike="noStrike">
                <a:solidFill>
                  <a:srgbClr val="cc0099"/>
                </a:solidFill>
                <a:latin typeface="方正姚体"/>
                <a:ea typeface="方正姚体"/>
              </a:rPr>
              <a:t>、鹿儿是怎样给奶奶送阳光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图片2"/>
          <p:cNvPicPr/>
          <p:nvPr/>
        </p:nvPicPr>
        <p:blipFill>
          <a:blip r:embed="rId3"/>
          <a:stretch/>
        </p:blipFill>
        <p:spPr>
          <a:xfrm>
            <a:off x="468360" y="981000"/>
            <a:ext cx="1655640" cy="1054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3452040" y="3068640"/>
            <a:ext cx="232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微软雅黑"/>
              </a:rPr>
              <a:t>鹿儿把阳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微软雅黑"/>
              </a:rPr>
              <a:t>紧紧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微软雅黑"/>
              </a:rPr>
              <a:t>包在自己的裙子里回家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24000" y="1486080"/>
            <a:ext cx="84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奶奶，奶奶，我从田野里给您带来礼物了！您瞧，这是阳光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以，不知道为什么，裙子里的阳光都没了。跑到哪儿去了呢？鹿儿急的差点儿哭出声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奶奶看着鹿儿，紧紧地把她抱在自己的怀里，安慰她说：“好孩子，不要担心，阳光都跑到我心里来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k"/>
          <p:cNvPicPr/>
          <p:nvPr/>
        </p:nvPicPr>
        <p:blipFill>
          <a:blip r:embed="rId2"/>
          <a:stretch/>
        </p:blipFill>
        <p:spPr>
          <a:xfrm>
            <a:off x="-379440" y="0"/>
            <a:ext cx="4037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图片5"/>
          <p:cNvPicPr/>
          <p:nvPr/>
        </p:nvPicPr>
        <p:blipFill>
          <a:blip r:embed="rId1"/>
          <a:stretch/>
        </p:blipFill>
        <p:spPr>
          <a:xfrm>
            <a:off x="-34920" y="-241200"/>
            <a:ext cx="9466200" cy="68562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0" y="-169920"/>
            <a:ext cx="813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跑到奶奶心里的阳光指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79280" y="404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指鹿儿对奶奶的爱，这爱就像阳光一样温暖着奶奶的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1844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、你觉得鹿儿是一个怎样的孩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84360" y="2997360"/>
            <a:ext cx="761976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她是一个关心孝敬老人 、热爱生活的孩子。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、你做过关心长辈的事吗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k"/>
          <p:cNvPicPr/>
          <p:nvPr/>
        </p:nvPicPr>
        <p:blipFill>
          <a:blip r:embed="rId1"/>
          <a:stretch/>
        </p:blipFill>
        <p:spPr>
          <a:xfrm>
            <a:off x="-379440" y="0"/>
            <a:ext cx="4037040" cy="213372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"/>
          <p:cNvSpPr/>
          <p:nvPr/>
        </p:nvSpPr>
        <p:spPr>
          <a:xfrm>
            <a:off x="228600" y="6154560"/>
            <a:ext cx="58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060720" y="2637000"/>
            <a:ext cx="30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关爱老人，孝敬老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563920" y="1104840"/>
            <a:ext cx="438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学完这篇课文，我们小朋友要怎样做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611280" y="163836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天，我和小妹妹、奶奶在楼下玩捉迷藏的游戏。我和小妹妹先藏，让奶奶来找。我们两人一起躲在一个门后，刚躲好，奶奶就来找我们了。没想到奶奶虽然年纪大了，可眼睛却是雪亮的，轻而易举地就把我俩找到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妹妹兴致很高，对奶奶叫着：“奶奶，我还要要玩，你再找一次，这次你要数到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”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！“好！好！好！”奶奶拗不过我们就答应了。这次，我们找了一个隐蔽的地方，藏在了一个暗道里。奶奶找了很长时间也没发现。只见她一边找一边自言自语：“咦，在哪里呢？”我捂住嘴巴，使劲不让自己笑出声来，可小妹妹忍不住了，自己跑了出来：“奶奶，我们在这儿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奶奶见我们上当了，笑得连腰也直不起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个游戏真好玩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11280" y="404640"/>
            <a:ext cx="7632720" cy="1197000"/>
          </a:xfrm>
          <a:custGeom>
            <a:avLst/>
            <a:gdLst>
              <a:gd name="textAreaLeft" fmla="*/ 1908000 w 7632720"/>
              <a:gd name="textAreaRight" fmla="*/ 5724720 w 7632720"/>
              <a:gd name="textAreaTop" fmla="*/ 149400 h 1197000"/>
              <a:gd name="textAreaBottom" fmla="*/ 119700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我和奶奶捉迷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E462-161B-4175-848B-D3DAF47C0B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68360" y="39337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头发     （       ）的想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95280" y="4941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）的阳光     （      ）的紫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>
            <a:hlinkClick r:id="" action="ppaction://hlinkshowjump?jump=firstslide"/>
          </p:cNvPr>
          <p:cNvSpPr/>
          <p:nvPr/>
        </p:nvSpPr>
        <p:spPr>
          <a:xfrm>
            <a:off x="8028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66560" y="620640"/>
            <a:ext cx="81378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学课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自由读课文，读准字音，做到不加字，不漏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给课文标上小节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试着在文中找出问题的答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197000"/>
            <a:ext cx="7705800" cy="49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睁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      亮</a:t>
            </a: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堂堂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蹚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总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      </a:t>
            </a: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念叨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礼物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灿烂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沐浴     芬芳扑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乌黑的头发           美好的想法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爱的阳光           灿烂的阳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47640" y="184464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堂  蹚  芬  念   叨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芳  扑  鼻  沐   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浴  灿  烂  礼   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</a:t>
            </a: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图片2"/>
          <p:cNvPicPr/>
          <p:nvPr/>
        </p:nvPicPr>
        <p:blipFill>
          <a:blip r:embed="rId2"/>
          <a:stretch/>
        </p:blipFill>
        <p:spPr>
          <a:xfrm>
            <a:off x="395280" y="1413000"/>
            <a:ext cx="1655640" cy="124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图片2"/>
          <p:cNvPicPr/>
          <p:nvPr/>
        </p:nvPicPr>
        <p:blipFill>
          <a:blip r:embed="rId3"/>
          <a:stretch/>
        </p:blipFill>
        <p:spPr>
          <a:xfrm>
            <a:off x="1908000" y="1484280"/>
            <a:ext cx="1656000" cy="1249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图片2"/>
          <p:cNvPicPr/>
          <p:nvPr/>
        </p:nvPicPr>
        <p:blipFill>
          <a:blip r:embed="rId4"/>
          <a:stretch/>
        </p:blipFill>
        <p:spPr>
          <a:xfrm>
            <a:off x="3419640" y="1484280"/>
            <a:ext cx="1655640" cy="1249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图片2"/>
          <p:cNvPicPr/>
          <p:nvPr/>
        </p:nvPicPr>
        <p:blipFill>
          <a:blip r:embed="rId5"/>
          <a:stretch/>
        </p:blipFill>
        <p:spPr>
          <a:xfrm>
            <a:off x="5148360" y="1484280"/>
            <a:ext cx="1655640" cy="1249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图片2"/>
          <p:cNvPicPr/>
          <p:nvPr/>
        </p:nvPicPr>
        <p:blipFill>
          <a:blip r:embed="rId6"/>
          <a:stretch/>
        </p:blipFill>
        <p:spPr>
          <a:xfrm>
            <a:off x="395280" y="2781360"/>
            <a:ext cx="1655640" cy="1249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图片2"/>
          <p:cNvPicPr/>
          <p:nvPr/>
        </p:nvPicPr>
        <p:blipFill>
          <a:blip r:embed="rId7"/>
          <a:stretch/>
        </p:blipFill>
        <p:spPr>
          <a:xfrm>
            <a:off x="1908000" y="2781360"/>
            <a:ext cx="1656000" cy="1249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图片2"/>
          <p:cNvPicPr/>
          <p:nvPr/>
        </p:nvPicPr>
        <p:blipFill>
          <a:blip r:embed="rId8"/>
          <a:stretch/>
        </p:blipFill>
        <p:spPr>
          <a:xfrm>
            <a:off x="3419640" y="2708280"/>
            <a:ext cx="1655640" cy="1251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图片2"/>
          <p:cNvPicPr/>
          <p:nvPr/>
        </p:nvPicPr>
        <p:blipFill>
          <a:blip r:embed="rId9"/>
          <a:stretch/>
        </p:blipFill>
        <p:spPr>
          <a:xfrm>
            <a:off x="5148360" y="2708280"/>
            <a:ext cx="1655640" cy="124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图片2"/>
          <p:cNvPicPr/>
          <p:nvPr/>
        </p:nvPicPr>
        <p:blipFill>
          <a:blip r:embed="rId10"/>
          <a:stretch/>
        </p:blipFill>
        <p:spPr>
          <a:xfrm>
            <a:off x="1835280" y="3933720"/>
            <a:ext cx="1657080" cy="1247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图片2"/>
          <p:cNvPicPr/>
          <p:nvPr/>
        </p:nvPicPr>
        <p:blipFill>
          <a:blip r:embed="rId11"/>
          <a:stretch/>
        </p:blipFill>
        <p:spPr>
          <a:xfrm>
            <a:off x="3419640" y="3933720"/>
            <a:ext cx="1655640" cy="1247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图片2"/>
          <p:cNvPicPr/>
          <p:nvPr/>
        </p:nvPicPr>
        <p:blipFill>
          <a:blip r:embed="rId12"/>
          <a:stretch/>
        </p:blipFill>
        <p:spPr>
          <a:xfrm>
            <a:off x="5148360" y="3933720"/>
            <a:ext cx="1655640" cy="124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图片2"/>
          <p:cNvPicPr/>
          <p:nvPr/>
        </p:nvPicPr>
        <p:blipFill>
          <a:blip r:embed="rId13"/>
          <a:stretch/>
        </p:blipFill>
        <p:spPr>
          <a:xfrm>
            <a:off x="324000" y="3933720"/>
            <a:ext cx="1654200" cy="1249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图片2"/>
          <p:cNvPicPr/>
          <p:nvPr/>
        </p:nvPicPr>
        <p:blipFill>
          <a:blip r:embed="rId14"/>
          <a:stretch/>
        </p:blipFill>
        <p:spPr>
          <a:xfrm>
            <a:off x="6804000" y="1413000"/>
            <a:ext cx="1657440" cy="12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图片2"/>
          <p:cNvPicPr/>
          <p:nvPr/>
        </p:nvPicPr>
        <p:blipFill>
          <a:blip r:embed="rId15"/>
          <a:stretch/>
        </p:blipFill>
        <p:spPr>
          <a:xfrm>
            <a:off x="6804000" y="2637000"/>
            <a:ext cx="1657440" cy="1249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图片2"/>
          <p:cNvPicPr/>
          <p:nvPr/>
        </p:nvPicPr>
        <p:blipFill>
          <a:blip r:embed="rId16"/>
          <a:stretch/>
        </p:blipFill>
        <p:spPr>
          <a:xfrm>
            <a:off x="6804000" y="3860640"/>
            <a:ext cx="1657440" cy="125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图片2"/>
          <p:cNvPicPr/>
          <p:nvPr/>
        </p:nvPicPr>
        <p:blipFill>
          <a:blip r:embed="rId17"/>
          <a:stretch/>
        </p:blipFill>
        <p:spPr>
          <a:xfrm>
            <a:off x="6804000" y="5013360"/>
            <a:ext cx="1657440" cy="12492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aoSc6_307_200524113351360_S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试一试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芬芳扑</a:t>
            </a:r>
            <a:r>
              <a:rPr b="1" lang="zh-CN" sz="4000" spc="-1" strike="noStrike">
                <a:solidFill>
                  <a:srgbClr val="333399"/>
                </a:solidFill>
                <a:latin typeface="微软雅黑"/>
                <a:ea typeface="微软雅黑"/>
              </a:rPr>
              <a:t>鼻的紫花开遍大地，叽叽喳喳的小鸟在空中飞着，整个大地沐浴着灿烂的阳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微软雅黑"/>
                <a:ea typeface="微软雅黑"/>
              </a:rPr>
              <a:t>我要把它带回去，作为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礼物</a:t>
            </a:r>
            <a:r>
              <a:rPr b="1" lang="zh-CN" sz="4000" spc="-1" strike="noStrike">
                <a:solidFill>
                  <a:srgbClr val="333399"/>
                </a:solidFill>
                <a:latin typeface="微软雅黑"/>
                <a:ea typeface="微软雅黑"/>
              </a:rPr>
              <a:t>送给奶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微软雅黑"/>
                <a:ea typeface="微软雅黑"/>
              </a:rPr>
              <a:t>鹿儿的奶奶腿坏了，不能出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屋</a:t>
            </a:r>
            <a:r>
              <a:rPr b="1" lang="zh-CN" sz="4000" spc="-1" strike="noStrike">
                <a:solidFill>
                  <a:srgbClr val="333399"/>
                </a:solidFill>
                <a:latin typeface="微软雅黑"/>
                <a:ea typeface="微软雅黑"/>
              </a:rPr>
              <a:t>，她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总</a:t>
            </a:r>
            <a:r>
              <a:rPr b="1" lang="zh-CN" sz="4000" spc="-1" strike="noStrike">
                <a:solidFill>
                  <a:srgbClr val="333399"/>
                </a:solidFill>
                <a:latin typeface="微软雅黑"/>
                <a:ea typeface="微软雅黑"/>
              </a:rPr>
              <a:t>是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念叨</a:t>
            </a:r>
            <a:r>
              <a:rPr b="1" lang="zh-CN" sz="4000" spc="-1" strike="noStrike">
                <a:solidFill>
                  <a:srgbClr val="333399"/>
                </a:solidFill>
                <a:latin typeface="微软雅黑"/>
                <a:ea typeface="微软雅黑"/>
              </a:rPr>
              <a:t>着：“多想见到阳光啊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20068852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08000" y="5157720"/>
            <a:ext cx="8748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鹿儿的奶奶腿坏了，不能出屋，她总是念叨着：“多想见到阳光啊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26028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鹿儿为什么要送阳光给奶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2457331_19041700600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-12032r3455t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读课文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——4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节，边读边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——”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划出描写阳光美好的句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SC20050722111933343"/>
          <p:cNvPicPr/>
          <p:nvPr/>
        </p:nvPicPr>
        <p:blipFill>
          <a:blip r:embed="rId2"/>
          <a:stretch/>
        </p:blipFill>
        <p:spPr>
          <a:xfrm>
            <a:off x="2413080" y="476280"/>
            <a:ext cx="6121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7T01:44:11Z</dcterms:modified>
  <cp:revision>1</cp:revision>
  <dc:subject/>
  <dc:title>幻灯片 1</dc:title>
</cp:coreProperties>
</file>