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HIMES.WAV" ContentType="audio/x-wav"/>
  <Override PartName="/ppt/media/image7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TYPE.WAV" ContentType="audio/x-wav"/>
  <Override PartName="/ppt/media/bomb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BD3-B15A-4301-A661-85D7553A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77C-2862-4579-9456-1037D277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96B-E41E-45FB-A216-88FB8E69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B83-BBB4-41ED-960F-4E97A9B9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4E7E-3B54-44B6-A248-5A2FB044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AD4-F2C4-4AC5-84D2-28AA3ADD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ABB-8ECB-4DB5-B00A-E9D1A90A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85EC-1A4C-4D70-A9AC-B8FCD90C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D03-A939-4D8A-A18E-B3E6162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79E-BA49-498F-A284-4F57D29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E7A-40C4-4B7C-A5DD-F04B9D7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34D-2D5C-49C9-8BA8-D9640862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7BBA-420E-49B6-A8C5-D9AB3CE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6825-88DD-42DA-B401-4244B14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ADF0-8CE2-49A4-9DDE-D733F35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716D-D907-4677-BA8E-421E1014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DD89-0120-4B5C-9A50-130A6DAA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31A-BFB7-49B0-B15F-EA7378B9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5BC-E3A2-4386-A23F-E36E830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519-6965-42B2-B610-DE23A3B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FBE-01F9-453B-AD2D-1B073CE1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4D4-1E5C-43D3-BD4C-E4F6A03C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90F-7B5D-43F2-A1BC-8DA87DC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DBF-5ED1-44DD-83FA-B266B42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A691-5039-4B56-A28A-B93EBCD8487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7F7-A3E1-4B91-818D-EF7137D7BC4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51D0-1650-480A-AB2A-19F6F38F3F2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7B8-C4F7-43DB-9C4A-3D7CF1F0013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24000" y="151128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隶书"/>
                <a:ea typeface="隶书"/>
              </a:rPr>
              <a:t>三角形的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403280" y="630360"/>
            <a:ext cx="38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16280" y="64389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3024360" y="3068640"/>
            <a:ext cx="295092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3A7-66D0-4C6C-97DF-7D6B35E844B4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24000" y="1190160"/>
            <a:ext cx="80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三根木棒长分别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用这木棒能否围成一个三角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39640" y="3213000"/>
            <a:ext cx="799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16200" y="46368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404640"/>
            <a:ext cx="129985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按边分可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成几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按角分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12720" y="1557360"/>
            <a:ext cx="6846120" cy="2197080"/>
            <a:chOff x="612720" y="1557360"/>
            <a:chExt cx="6846120" cy="2197080"/>
          </a:xfrm>
        </p:grpSpPr>
        <p:sp>
          <p:nvSpPr>
            <p:cNvPr id="173" name="Text Box 5"/>
            <p:cNvSpPr/>
            <p:nvPr/>
          </p:nvSpPr>
          <p:spPr>
            <a:xfrm>
              <a:off x="2340720" y="2854440"/>
              <a:ext cx="12474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腰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612720" y="1557360"/>
              <a:ext cx="6846120" cy="2197080"/>
              <a:chOff x="612720" y="1557360"/>
              <a:chExt cx="6846120" cy="2197080"/>
            </a:xfrm>
          </p:grpSpPr>
          <p:sp>
            <p:nvSpPr>
              <p:cNvPr id="175" name="Text Box 7"/>
              <p:cNvSpPr/>
              <p:nvPr/>
            </p:nvSpPr>
            <p:spPr>
              <a:xfrm>
                <a:off x="612720" y="21528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8"/>
              <p:cNvSpPr/>
              <p:nvPr/>
            </p:nvSpPr>
            <p:spPr>
              <a:xfrm>
                <a:off x="1638360" y="1773360"/>
                <a:ext cx="288720" cy="144144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37440 h 1441440"/>
                  <a:gd name="textAreaBottom" fmla="*/ 1404000 h 144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360160" y="155736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不等边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0"/>
              <p:cNvSpPr/>
              <p:nvPr/>
            </p:nvSpPr>
            <p:spPr>
              <a:xfrm>
                <a:off x="3870360" y="2565360"/>
                <a:ext cx="144360" cy="11527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9880 h 1152720"/>
                  <a:gd name="textAreaBottom" fmla="*/ 1122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1"/>
              <p:cNvSpPr/>
              <p:nvPr/>
            </p:nvSpPr>
            <p:spPr>
              <a:xfrm>
                <a:off x="4931280" y="2225520"/>
                <a:ext cx="252756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腰与底不等的等腰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"/>
              <p:cNvSpPr/>
              <p:nvPr/>
            </p:nvSpPr>
            <p:spPr>
              <a:xfrm>
                <a:off x="4572720" y="323388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等边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Text Box 13"/>
          <p:cNvSpPr/>
          <p:nvPr/>
        </p:nvSpPr>
        <p:spPr>
          <a:xfrm>
            <a:off x="1455840" y="442440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612720" y="3860640"/>
            <a:ext cx="5207400" cy="2197080"/>
            <a:chOff x="612720" y="3860640"/>
            <a:chExt cx="5207400" cy="2197080"/>
          </a:xfrm>
        </p:grpSpPr>
        <p:sp>
          <p:nvSpPr>
            <p:cNvPr id="183" name="Text Box 15"/>
            <p:cNvSpPr/>
            <p:nvPr/>
          </p:nvSpPr>
          <p:spPr>
            <a:xfrm>
              <a:off x="2268720" y="5157720"/>
              <a:ext cx="1034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斜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6"/>
            <p:cNvGrpSpPr/>
            <p:nvPr/>
          </p:nvGrpSpPr>
          <p:grpSpPr>
            <a:xfrm>
              <a:off x="612720" y="3860640"/>
              <a:ext cx="5207400" cy="2197080"/>
              <a:chOff x="612720" y="3860640"/>
              <a:chExt cx="5207400" cy="2197080"/>
            </a:xfrm>
          </p:grpSpPr>
          <p:sp>
            <p:nvSpPr>
              <p:cNvPr id="185" name="Text Box 17"/>
              <p:cNvSpPr/>
              <p:nvPr/>
            </p:nvSpPr>
            <p:spPr>
              <a:xfrm>
                <a:off x="612720" y="445608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18"/>
              <p:cNvSpPr/>
              <p:nvPr/>
            </p:nvSpPr>
            <p:spPr>
              <a:xfrm>
                <a:off x="1638360" y="4076640"/>
                <a:ext cx="288720" cy="1441440"/>
              </a:xfrm>
              <a:custGeom>
                <a:avLst/>
                <a:gdLst>
                  <a:gd name="textAreaLeft" fmla="*/ 184680 w 288720"/>
                  <a:gd name="textAreaRight" fmla="*/ 289080 w 288720"/>
                  <a:gd name="textAreaTop" fmla="*/ 37440 h 1441440"/>
                  <a:gd name="textAreaBottom" fmla="*/ 1404000 h 144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9"/>
              <p:cNvSpPr/>
              <p:nvPr/>
            </p:nvSpPr>
            <p:spPr>
              <a:xfrm>
                <a:off x="2288520" y="386064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直角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20"/>
              <p:cNvSpPr/>
              <p:nvPr/>
            </p:nvSpPr>
            <p:spPr>
              <a:xfrm>
                <a:off x="3870360" y="4868640"/>
                <a:ext cx="144360" cy="11527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9880 h 1152720"/>
                  <a:gd name="textAreaBottom" fmla="*/ 1122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1"/>
              <p:cNvSpPr/>
              <p:nvPr/>
            </p:nvSpPr>
            <p:spPr>
              <a:xfrm>
                <a:off x="4500000" y="452880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锐角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2"/>
              <p:cNvSpPr/>
              <p:nvPr/>
            </p:nvSpPr>
            <p:spPr>
              <a:xfrm>
                <a:off x="4572720" y="553716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7a7a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钝角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7A3-7BD9-46A4-BDDC-50BEAF60841B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79280" y="62064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9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195" name="Line 4"/>
            <p:cNvSpPr/>
            <p:nvPr/>
          </p:nvSpPr>
          <p:spPr>
            <a:xfrm>
              <a:off x="2209680" y="39625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7"/>
            <p:cNvGrpSpPr/>
            <p:nvPr/>
          </p:nvGrpSpPr>
          <p:grpSpPr>
            <a:xfrm>
              <a:off x="1619280" y="1274760"/>
              <a:ext cx="4248000" cy="3228480"/>
              <a:chOff x="1619280" y="1274760"/>
              <a:chExt cx="4248000" cy="3228480"/>
            </a:xfrm>
          </p:grpSpPr>
          <p:sp>
            <p:nvSpPr>
              <p:cNvPr id="197" name="Line 3"/>
              <p:cNvSpPr/>
              <p:nvPr/>
            </p:nvSpPr>
            <p:spPr>
              <a:xfrm>
                <a:off x="2971800" y="1523880"/>
                <a:ext cx="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 flipV="1">
                <a:off x="2209680" y="1523880"/>
                <a:ext cx="76212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2971800" y="3657600"/>
                <a:ext cx="22860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"/>
              <p:cNvSpPr/>
              <p:nvPr/>
            </p:nvSpPr>
            <p:spPr>
              <a:xfrm>
                <a:off x="2971800" y="1523880"/>
                <a:ext cx="99072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"/>
              <p:cNvSpPr/>
              <p:nvPr/>
            </p:nvSpPr>
            <p:spPr>
              <a:xfrm>
                <a:off x="2971800" y="1523880"/>
                <a:ext cx="205740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13"/>
              <p:cNvGrpSpPr/>
              <p:nvPr/>
            </p:nvGrpSpPr>
            <p:grpSpPr>
              <a:xfrm>
                <a:off x="1619280" y="1274760"/>
                <a:ext cx="4248000" cy="3228480"/>
                <a:chOff x="1619280" y="1274760"/>
                <a:chExt cx="4248000" cy="3228480"/>
              </a:xfrm>
            </p:grpSpPr>
            <p:sp>
              <p:nvSpPr>
                <p:cNvPr id="203" name="Text Box 10"/>
                <p:cNvSpPr/>
                <p:nvPr/>
              </p:nvSpPr>
              <p:spPr>
                <a:xfrm>
                  <a:off x="2340000" y="1274760"/>
                  <a:ext cx="57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11"/>
                <p:cNvSpPr/>
                <p:nvPr/>
              </p:nvSpPr>
              <p:spPr>
                <a:xfrm>
                  <a:off x="1619280" y="3500280"/>
                  <a:ext cx="1440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12"/>
                <p:cNvSpPr/>
                <p:nvPr/>
              </p:nvSpPr>
              <p:spPr>
                <a:xfrm>
                  <a:off x="5004000" y="3716280"/>
                  <a:ext cx="863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13"/>
                <p:cNvSpPr/>
                <p:nvPr/>
              </p:nvSpPr>
              <p:spPr>
                <a:xfrm>
                  <a:off x="2556000" y="3860640"/>
                  <a:ext cx="863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D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14"/>
                <p:cNvSpPr/>
                <p:nvPr/>
              </p:nvSpPr>
              <p:spPr>
                <a:xfrm>
                  <a:off x="3780000" y="3860640"/>
                  <a:ext cx="72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E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0C8-EBB8-470E-BA02-25FCF8392D78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2209320" y="1523880"/>
            <a:ext cx="7621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2209680" y="3962520"/>
            <a:ext cx="762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2971800" y="1523880"/>
            <a:ext cx="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5105520" y="1447920"/>
            <a:ext cx="304560" cy="990360"/>
            <a:chOff x="5105520" y="1447920"/>
            <a:chExt cx="304560" cy="990360"/>
          </a:xfrm>
        </p:grpSpPr>
        <p:sp>
          <p:nvSpPr>
            <p:cNvPr id="219" name="AutoShape 12"/>
            <p:cNvSpPr/>
            <p:nvPr/>
          </p:nvSpPr>
          <p:spPr>
            <a:xfrm>
              <a:off x="5105520" y="1447920"/>
              <a:ext cx="304560" cy="99036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5257440" y="228564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108000" y="54936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ject 15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7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224" name="Text Box 17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8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9766-1FF6-4F73-AE52-390DC3DF1A12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2971800" y="1600200"/>
            <a:ext cx="0" cy="23623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2971800" y="396252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2971800" y="1523880"/>
            <a:ext cx="9907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5943600" y="1447920"/>
            <a:ext cx="380880" cy="990360"/>
            <a:chOff x="5943600" y="1447920"/>
            <a:chExt cx="380880" cy="990360"/>
          </a:xfrm>
        </p:grpSpPr>
        <p:sp>
          <p:nvSpPr>
            <p:cNvPr id="241" name="AutoShape 13"/>
            <p:cNvSpPr/>
            <p:nvPr/>
          </p:nvSpPr>
          <p:spPr>
            <a:xfrm>
              <a:off x="5943600" y="1447920"/>
              <a:ext cx="380880" cy="99036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943600" y="228564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5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50920" y="54936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ject 17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9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247" name="Text Box 19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1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2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1E1-8F17-4A1D-BC70-AA1CD1B12733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 flipH="1" flipV="1">
            <a:off x="2971800" y="1523880"/>
            <a:ext cx="9907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3962520" y="3962520"/>
            <a:ext cx="1066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 flipH="1" flipV="1">
            <a:off x="2971440" y="1523880"/>
            <a:ext cx="205740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6"/>
          <p:cNvGrpSpPr/>
          <p:nvPr/>
        </p:nvGrpSpPr>
        <p:grpSpPr>
          <a:xfrm>
            <a:off x="7467480" y="1447920"/>
            <a:ext cx="838080" cy="914400"/>
            <a:chOff x="7467480" y="1447920"/>
            <a:chExt cx="838080" cy="914400"/>
          </a:xfrm>
        </p:grpSpPr>
        <p:sp>
          <p:nvSpPr>
            <p:cNvPr id="267" name="AutoShape 16"/>
            <p:cNvSpPr/>
            <p:nvPr/>
          </p:nvSpPr>
          <p:spPr>
            <a:xfrm>
              <a:off x="7467480" y="14479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7696080" y="1524240"/>
              <a:ext cx="609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18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179280" y="54936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Object 20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2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273" name="Text Box 22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6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5E5-28F8-4AF9-95D0-B2CB6D9C3B3B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2209320" y="1523880"/>
            <a:ext cx="7621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2209680" y="3962520"/>
            <a:ext cx="17528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 flipV="1">
            <a:off x="2971800" y="1523880"/>
            <a:ext cx="9907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79280" y="476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Object 20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22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299" name="Text Box 22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6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D66-7400-4A59-81C8-D0BEDACCD579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2971800" y="396252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 flipH="1" flipV="1">
            <a:off x="2971440" y="1523880"/>
            <a:ext cx="205740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9"/>
          <p:cNvGrpSpPr/>
          <p:nvPr/>
        </p:nvGrpSpPr>
        <p:grpSpPr>
          <a:xfrm>
            <a:off x="7467480" y="2590920"/>
            <a:ext cx="914400" cy="914400"/>
            <a:chOff x="7467480" y="2590920"/>
            <a:chExt cx="914400" cy="914400"/>
          </a:xfrm>
        </p:grpSpPr>
        <p:sp>
          <p:nvSpPr>
            <p:cNvPr id="322" name="AutoShape 19"/>
            <p:cNvSpPr/>
            <p:nvPr/>
          </p:nvSpPr>
          <p:spPr>
            <a:xfrm>
              <a:off x="7467480" y="25909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0"/>
            <p:cNvSpPr/>
            <p:nvPr/>
          </p:nvSpPr>
          <p:spPr>
            <a:xfrm>
              <a:off x="7696080" y="26672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6477120" y="2514600"/>
            <a:ext cx="838080" cy="1066680"/>
            <a:chOff x="6477120" y="2514600"/>
            <a:chExt cx="838080" cy="1066680"/>
          </a:xfrm>
        </p:grpSpPr>
        <p:sp>
          <p:nvSpPr>
            <p:cNvPr id="325" name="AutoShape 22"/>
            <p:cNvSpPr/>
            <p:nvPr/>
          </p:nvSpPr>
          <p:spPr>
            <a:xfrm>
              <a:off x="6477120" y="2514600"/>
              <a:ext cx="838080" cy="1066680"/>
            </a:xfrm>
            <a:prstGeom prst="triangle">
              <a:avLst>
                <a:gd name="adj" fmla="val 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6477120" y="3352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4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179280" y="476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ject 26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8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331" name="Text Box 28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9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0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1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2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52A-4221-4EAC-A998-3D5E2BE12743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 flipH="1" flipV="1">
            <a:off x="2971440" y="1523880"/>
            <a:ext cx="205740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2209320" y="1523880"/>
            <a:ext cx="762120" cy="2438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9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3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5"/>
          <p:cNvGrpSpPr/>
          <p:nvPr/>
        </p:nvGrpSpPr>
        <p:grpSpPr>
          <a:xfrm>
            <a:off x="7467480" y="3733920"/>
            <a:ext cx="914400" cy="914400"/>
            <a:chOff x="7467480" y="3733920"/>
            <a:chExt cx="914400" cy="914400"/>
          </a:xfrm>
        </p:grpSpPr>
        <p:sp>
          <p:nvSpPr>
            <p:cNvPr id="360" name="AutoShape 25"/>
            <p:cNvSpPr/>
            <p:nvPr/>
          </p:nvSpPr>
          <p:spPr>
            <a:xfrm>
              <a:off x="7467480" y="37339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6"/>
            <p:cNvSpPr/>
            <p:nvPr/>
          </p:nvSpPr>
          <p:spPr>
            <a:xfrm>
              <a:off x="7696080" y="38102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7"/>
          <p:cNvSpPr/>
          <p:nvPr/>
        </p:nvSpPr>
        <p:spPr>
          <a:xfrm>
            <a:off x="250920" y="476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Object 28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0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365" name="Text Box 30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文本框 1"/>
          <p:cNvSpPr/>
          <p:nvPr/>
        </p:nvSpPr>
        <p:spPr>
          <a:xfrm>
            <a:off x="1778040" y="5338800"/>
            <a:ext cx="74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8CBC-6BE5-401E-909A-F64C421054BE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2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4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250920" y="54936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Object 25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27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397" name="Text Box 27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8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0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31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F2A5-0D5E-4060-B5C2-ED35BD6240DF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620640"/>
            <a:ext cx="9144000" cy="36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2" descr="snap00004"/>
          <p:cNvPicPr/>
          <p:nvPr/>
        </p:nvPicPr>
        <p:blipFill>
          <a:blip r:embed="rId1"/>
          <a:stretch/>
        </p:blipFill>
        <p:spPr>
          <a:xfrm>
            <a:off x="971640" y="1344600"/>
            <a:ext cx="3119400" cy="41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jzt401_jpg"/>
          <p:cNvPicPr/>
          <p:nvPr/>
        </p:nvPicPr>
        <p:blipFill>
          <a:blip r:embed="rId2"/>
          <a:stretch/>
        </p:blipFill>
        <p:spPr>
          <a:xfrm>
            <a:off x="5000760" y="1428840"/>
            <a:ext cx="2519280" cy="17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jzt402_jpg"/>
          <p:cNvPicPr/>
          <p:nvPr/>
        </p:nvPicPr>
        <p:blipFill>
          <a:blip r:embed="rId3"/>
          <a:stretch/>
        </p:blipFill>
        <p:spPr>
          <a:xfrm>
            <a:off x="4932360" y="3624120"/>
            <a:ext cx="2665440" cy="18925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"/>
          <p:cNvGrpSpPr/>
          <p:nvPr/>
        </p:nvGrpSpPr>
        <p:grpSpPr>
          <a:xfrm>
            <a:off x="1763280" y="3284640"/>
            <a:ext cx="1656000" cy="1944720"/>
            <a:chOff x="1763280" y="3284640"/>
            <a:chExt cx="1656000" cy="1944720"/>
          </a:xfrm>
        </p:grpSpPr>
        <p:sp>
          <p:nvSpPr>
            <p:cNvPr id="105" name="Line 35"/>
            <p:cNvSpPr/>
            <p:nvPr/>
          </p:nvSpPr>
          <p:spPr>
            <a:xfrm flipH="1">
              <a:off x="1763280" y="3284640"/>
              <a:ext cx="1655640" cy="194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6"/>
            <p:cNvSpPr/>
            <p:nvPr/>
          </p:nvSpPr>
          <p:spPr>
            <a:xfrm flipH="1">
              <a:off x="3132000" y="3284640"/>
              <a:ext cx="287280" cy="172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7"/>
            <p:cNvSpPr/>
            <p:nvPr/>
          </p:nvSpPr>
          <p:spPr>
            <a:xfrm flipV="1">
              <a:off x="1763640" y="5013360"/>
              <a:ext cx="136836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6300360" y="4149720"/>
            <a:ext cx="1080000" cy="719280"/>
            <a:chOff x="6300360" y="4149720"/>
            <a:chExt cx="1080000" cy="719280"/>
          </a:xfrm>
        </p:grpSpPr>
        <p:sp>
          <p:nvSpPr>
            <p:cNvPr id="109" name="Line 39"/>
            <p:cNvSpPr/>
            <p:nvPr/>
          </p:nvSpPr>
          <p:spPr>
            <a:xfrm flipH="1">
              <a:off x="6300360" y="4149720"/>
              <a:ext cx="64764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0"/>
            <p:cNvSpPr/>
            <p:nvPr/>
          </p:nvSpPr>
          <p:spPr>
            <a:xfrm flipV="1">
              <a:off x="6300720" y="4653000"/>
              <a:ext cx="10796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>
              <a:off x="6948360" y="4149720"/>
              <a:ext cx="43200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2FA-8CEE-4289-843C-7073EE805C2D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1523880"/>
            <a:ext cx="1752840" cy="2438640"/>
          </a:xfrm>
          <a:prstGeom prst="triangle">
            <a:avLst>
              <a:gd name="adj" fmla="val 43477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7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8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2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3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250920" y="4762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6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28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429" name="Text Box 28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9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0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1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2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ECA-434E-497B-B1CD-CAF1B141A1DF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9"/>
          <p:cNvSpPr/>
          <p:nvPr/>
        </p:nvSpPr>
        <p:spPr>
          <a:xfrm>
            <a:off x="2209680" y="1523880"/>
            <a:ext cx="2819520" cy="2438640"/>
          </a:xfrm>
          <a:prstGeom prst="triangle">
            <a:avLst>
              <a:gd name="adj" fmla="val 26579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755640" y="5734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有２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3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4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228600" y="30492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Object 27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29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462" name="Text Box 29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30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31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32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33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DB4C-2CB2-48BF-8423-972F16420527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9"/>
          <p:cNvSpPr/>
          <p:nvPr/>
        </p:nvSpPr>
        <p:spPr>
          <a:xfrm>
            <a:off x="2209680" y="1523880"/>
            <a:ext cx="762120" cy="2438640"/>
          </a:xfrm>
          <a:prstGeom prst="triangle">
            <a:avLst>
              <a:gd name="adj" fmla="val 99167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838080" y="5410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有２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8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9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3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4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228600" y="30492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Object 27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29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495" name="Text Box 29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0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31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32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33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2F11-D03F-450E-8E10-24F5E83C3DE4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971800" y="1523880"/>
            <a:ext cx="990720" cy="2438640"/>
          </a:xfrm>
          <a:prstGeom prst="triangle">
            <a:avLst>
              <a:gd name="adj" fmla="val 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838080" y="5410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有２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8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1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3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4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228600" y="30492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Object 27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29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528" name="Text Box 29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0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1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2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3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CD7-0124-4012-86D6-98BA186B2A83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2971800" y="1523880"/>
            <a:ext cx="2057400" cy="2438640"/>
          </a:xfrm>
          <a:prstGeom prst="triangle">
            <a:avLst>
              <a:gd name="adj" fmla="val 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684360" y="56610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有２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4572000" y="5805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角三角形有３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6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1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2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4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5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228600" y="30492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Object 28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0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562" name="Text Box 30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1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2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33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34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0AC6-0BB8-46A9-8811-ACF112B768A4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"/>
          <p:cNvSpPr/>
          <p:nvPr/>
        </p:nvSpPr>
        <p:spPr>
          <a:xfrm>
            <a:off x="297180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22096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 flipV="1">
            <a:off x="2209680" y="1523880"/>
            <a:ext cx="7621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971800" y="365760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2971800" y="1523880"/>
            <a:ext cx="99072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971800" y="1523880"/>
            <a:ext cx="20574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83808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图形中一共有６个三角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838080" y="5410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三角形有２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4495680" y="5410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角三角形有３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 rot="13800000">
            <a:off x="2120760" y="2603520"/>
            <a:ext cx="3124080" cy="812520"/>
          </a:xfrm>
          <a:prstGeom prst="triangle">
            <a:avLst>
              <a:gd name="adj" fmla="val 22134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838080" y="6019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钝角三角形有１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334120" y="2514600"/>
            <a:ext cx="761760" cy="1066680"/>
          </a:xfrm>
          <a:prstGeom prst="triangle">
            <a:avLst>
              <a:gd name="adj" fmla="val 434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 rot="13800000">
            <a:off x="6119640" y="1877400"/>
            <a:ext cx="1212840" cy="349200"/>
          </a:xfrm>
          <a:prstGeom prst="triangle">
            <a:avLst>
              <a:gd name="adj" fmla="val 221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5943600" y="1447920"/>
            <a:ext cx="380880" cy="99036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105520" y="1447920"/>
            <a:ext cx="304560" cy="99036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7"/>
          <p:cNvSpPr/>
          <p:nvPr/>
        </p:nvSpPr>
        <p:spPr>
          <a:xfrm>
            <a:off x="59436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7467480" y="1447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7696080" y="15238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0"/>
          <p:cNvSpPr/>
          <p:nvPr/>
        </p:nvSpPr>
        <p:spPr>
          <a:xfrm>
            <a:off x="6477120" y="2514600"/>
            <a:ext cx="838080" cy="106668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7467480" y="2590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2"/>
          <p:cNvSpPr/>
          <p:nvPr/>
        </p:nvSpPr>
        <p:spPr>
          <a:xfrm>
            <a:off x="6477120" y="335268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5257800" y="2286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7696080" y="2666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5"/>
          <p:cNvSpPr/>
          <p:nvPr/>
        </p:nvSpPr>
        <p:spPr>
          <a:xfrm>
            <a:off x="5867280" y="3581280"/>
            <a:ext cx="1295640" cy="1067040"/>
          </a:xfrm>
          <a:prstGeom prst="triangle">
            <a:avLst>
              <a:gd name="adj" fmla="val 265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6"/>
          <p:cNvSpPr/>
          <p:nvPr/>
        </p:nvSpPr>
        <p:spPr>
          <a:xfrm>
            <a:off x="7467480" y="37339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769608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228600" y="30492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图形中一共有多少个三角形？锐角三角形、直角三角形、钝角三角形各有多少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Object 29" descr=""/>
          <p:cNvPicPr/>
          <p:nvPr/>
        </p:nvPicPr>
        <p:blipFill>
          <a:blip r:embed="rId1"/>
          <a:stretch/>
        </p:blipFill>
        <p:spPr>
          <a:xfrm>
            <a:off x="228600" y="0"/>
            <a:ext cx="1295280" cy="75708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31"/>
          <p:cNvGrpSpPr/>
          <p:nvPr/>
        </p:nvGrpSpPr>
        <p:grpSpPr>
          <a:xfrm>
            <a:off x="1619280" y="1274760"/>
            <a:ext cx="4248000" cy="3228480"/>
            <a:chOff x="1619280" y="1274760"/>
            <a:chExt cx="4248000" cy="3228480"/>
          </a:xfrm>
        </p:grpSpPr>
        <p:sp>
          <p:nvSpPr>
            <p:cNvPr id="597" name="Text Box 31"/>
            <p:cNvSpPr/>
            <p:nvPr/>
          </p:nvSpPr>
          <p:spPr>
            <a:xfrm>
              <a:off x="2340000" y="1274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2"/>
            <p:cNvSpPr/>
            <p:nvPr/>
          </p:nvSpPr>
          <p:spPr>
            <a:xfrm>
              <a:off x="1619280" y="3500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3"/>
            <p:cNvSpPr/>
            <p:nvPr/>
          </p:nvSpPr>
          <p:spPr>
            <a:xfrm>
              <a:off x="5004000" y="371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34"/>
            <p:cNvSpPr/>
            <p:nvPr/>
          </p:nvSpPr>
          <p:spPr>
            <a:xfrm>
              <a:off x="2556000" y="38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5"/>
            <p:cNvSpPr/>
            <p:nvPr/>
          </p:nvSpPr>
          <p:spPr>
            <a:xfrm>
              <a:off x="3780000" y="3860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4A9-DA30-4FC4-B6AD-7CD78E983841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1429200" y="735840"/>
            <a:ext cx="36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忆一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我们学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2016720" y="2421360"/>
            <a:ext cx="502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的有关概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、角、顶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用符号表示一个三角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过实践了解三角形的三边不等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9937-E5A9-4CEF-9D1C-04A4569E7B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CAD-2B76-4DCC-B24F-4E20F5170EF6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_1044145384_1"/>
          <p:cNvPicPr/>
          <p:nvPr/>
        </p:nvPicPr>
        <p:blipFill>
          <a:blip r:embed="rId1"/>
          <a:stretch/>
        </p:blipFill>
        <p:spPr>
          <a:xfrm>
            <a:off x="1116000" y="333360"/>
            <a:ext cx="6840720" cy="3021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11114055981018848032374992"/>
          <p:cNvPicPr/>
          <p:nvPr/>
        </p:nvPicPr>
        <p:blipFill>
          <a:blip r:embed="rId2"/>
          <a:stretch/>
        </p:blipFill>
        <p:spPr>
          <a:xfrm>
            <a:off x="1476360" y="3500280"/>
            <a:ext cx="5832360" cy="31179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3132000" y="4797360"/>
            <a:ext cx="1655640" cy="1657440"/>
            <a:chOff x="3132000" y="4797360"/>
            <a:chExt cx="1655640" cy="1657440"/>
          </a:xfrm>
        </p:grpSpPr>
        <p:sp>
          <p:nvSpPr>
            <p:cNvPr id="116" name="Line 12"/>
            <p:cNvSpPr/>
            <p:nvPr/>
          </p:nvSpPr>
          <p:spPr>
            <a:xfrm flipV="1">
              <a:off x="3132000" y="4797360"/>
              <a:ext cx="165564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H="1">
              <a:off x="3202920" y="4797360"/>
              <a:ext cx="1584360" cy="1657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3203280" y="5446800"/>
              <a:ext cx="0" cy="1008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A43-E295-4279-8840-9C804133C2D0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907920" y="105192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活动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959840" y="205992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交流在日常生活中所看到的三角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051280" y="2699280"/>
            <a:ext cx="49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派代表说明三角形的存在于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生活之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936-138B-4621-8587-4733BDD928C7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295280" y="45720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9d8ec"/>
                </a:solidFill>
                <a:latin typeface="Times New Roman"/>
                <a:ea typeface="黑体"/>
              </a:rPr>
              <a:t>电线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867280" y="198900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9d8ec"/>
                </a:solidFill>
                <a:latin typeface="Times New Roman"/>
                <a:ea typeface="黑体"/>
              </a:rPr>
              <a:t>自行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"/>
          <p:cNvPicPr/>
          <p:nvPr/>
        </p:nvPicPr>
        <p:blipFill>
          <a:blip r:embed="rId1"/>
          <a:stretch/>
        </p:blipFill>
        <p:spPr>
          <a:xfrm>
            <a:off x="4211640" y="335772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"/>
          <p:cNvPicPr/>
          <p:nvPr/>
        </p:nvPicPr>
        <p:blipFill>
          <a:blip r:embed="rId2"/>
          <a:stretch/>
        </p:blipFill>
        <p:spPr>
          <a:xfrm>
            <a:off x="250920" y="1341360"/>
            <a:ext cx="3429000" cy="335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/>
          <p:cNvSpPr/>
          <p:nvPr/>
        </p:nvSpPr>
        <p:spPr>
          <a:xfrm rot="10800000">
            <a:off x="2268360" y="2781000"/>
            <a:ext cx="609840" cy="762120"/>
          </a:xfrm>
          <a:prstGeom prst="triangle">
            <a:avLst>
              <a:gd name="adj" fmla="val 100000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 rot="10800000">
            <a:off x="5724000" y="4365720"/>
            <a:ext cx="1600200" cy="838080"/>
          </a:xfrm>
          <a:prstGeom prst="triangle">
            <a:avLst>
              <a:gd name="adj" fmla="val 38917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022-D0EA-410C-B00F-B6AECE2E99D2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09480" y="1333440"/>
            <a:ext cx="806616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并回答以下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叫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有几条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几个内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几个顶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符号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用小写字母分别表示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724360" y="4221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564000" y="537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118-0111-4FE7-95BA-41E182E93E07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2133720" y="2590920"/>
            <a:ext cx="4572000" cy="3200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35280" y="3573360"/>
            <a:ext cx="170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15000" y="365760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51280" y="57340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733920" y="1752480"/>
            <a:ext cx="220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54100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705720" y="533412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点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2438280" y="5410080"/>
            <a:ext cx="304920" cy="3812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0"/>
                </a:moveTo>
                <a:cubicBezTo>
                  <a:pt x="56" y="28"/>
                  <a:pt x="112" y="56"/>
                  <a:pt x="144" y="96"/>
                </a:cubicBezTo>
                <a:cubicBezTo>
                  <a:pt x="176" y="136"/>
                  <a:pt x="184" y="188"/>
                  <a:pt x="192" y="24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"/>
          <p:cNvSpPr/>
          <p:nvPr/>
        </p:nvSpPr>
        <p:spPr>
          <a:xfrm>
            <a:off x="6172200" y="5410080"/>
            <a:ext cx="241200" cy="381240"/>
          </a:xfrm>
          <a:custGeom>
            <a:avLst/>
            <a:gdLst/>
            <a:ahLst/>
            <a:rect l="l" t="t" r="r" b="b"/>
            <a:pathLst>
              <a:path w="152" h="240">
                <a:moveTo>
                  <a:pt x="152" y="0"/>
                </a:moveTo>
                <a:cubicBezTo>
                  <a:pt x="116" y="12"/>
                  <a:pt x="80" y="24"/>
                  <a:pt x="56" y="48"/>
                </a:cubicBezTo>
                <a:cubicBezTo>
                  <a:pt x="32" y="72"/>
                  <a:pt x="16" y="112"/>
                  <a:pt x="8" y="144"/>
                </a:cubicBezTo>
                <a:cubicBezTo>
                  <a:pt x="0" y="176"/>
                  <a:pt x="4" y="208"/>
                  <a:pt x="8" y="24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4952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486400" y="4952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3"/>
          <p:cNvSpPr/>
          <p:nvPr/>
        </p:nvSpPr>
        <p:spPr>
          <a:xfrm>
            <a:off x="4191120" y="2895480"/>
            <a:ext cx="457200" cy="17784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48"/>
                </a:moveTo>
                <a:cubicBezTo>
                  <a:pt x="32" y="68"/>
                  <a:pt x="64" y="88"/>
                  <a:pt x="96" y="96"/>
                </a:cubicBezTo>
                <a:cubicBezTo>
                  <a:pt x="128" y="104"/>
                  <a:pt x="160" y="112"/>
                  <a:pt x="192" y="96"/>
                </a:cubicBezTo>
                <a:cubicBezTo>
                  <a:pt x="224" y="80"/>
                  <a:pt x="256" y="40"/>
                  <a:pt x="288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038480" y="2971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6629400" y="5715000"/>
            <a:ext cx="152280" cy="15228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2057400" y="5715000"/>
            <a:ext cx="152280" cy="15228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d9d8ec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304920" y="304920"/>
            <a:ext cx="861048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围成三角形的每条线段叫做三角形的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两条线段的交点叫做三角形的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顶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2133720" y="2590920"/>
            <a:ext cx="228600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2133720" y="5791320"/>
            <a:ext cx="457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 flipV="1">
            <a:off x="4419720" y="2590920"/>
            <a:ext cx="2286000" cy="3200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3"/>
          <p:cNvSpPr/>
          <p:nvPr/>
        </p:nvSpPr>
        <p:spPr>
          <a:xfrm>
            <a:off x="6553080" y="5881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2D7-B200-4189-AF7E-5139851BF42E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1122120"/>
            <a:ext cx="8136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出一个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假设有一只小虫要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出发，沿三角形的边爬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它有几种路线可以选择？各条路线的长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619280" y="3454560"/>
            <a:ext cx="6264360" cy="2929680"/>
            <a:chOff x="1619280" y="3454560"/>
            <a:chExt cx="6264360" cy="2929680"/>
          </a:xfrm>
        </p:grpSpPr>
        <p:grpSp>
          <p:nvGrpSpPr>
            <p:cNvPr id="158" name="Group 5"/>
            <p:cNvGrpSpPr/>
            <p:nvPr/>
          </p:nvGrpSpPr>
          <p:grpSpPr>
            <a:xfrm>
              <a:off x="2411280" y="4302000"/>
              <a:ext cx="4751280" cy="1439280"/>
              <a:chOff x="2411280" y="4302000"/>
              <a:chExt cx="4751280" cy="1439280"/>
            </a:xfrm>
          </p:grpSpPr>
          <p:sp>
            <p:nvSpPr>
              <p:cNvPr id="159" name="Line 9"/>
              <p:cNvSpPr/>
              <p:nvPr/>
            </p:nvSpPr>
            <p:spPr>
              <a:xfrm flipH="1">
                <a:off x="2482200" y="4302000"/>
                <a:ext cx="3745080" cy="143928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6227640" y="4302000"/>
                <a:ext cx="934920" cy="143928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>
                <a:off x="2411280" y="5741280"/>
                <a:ext cx="4751280" cy="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3"/>
            <p:cNvSpPr/>
            <p:nvPr/>
          </p:nvSpPr>
          <p:spPr>
            <a:xfrm>
              <a:off x="1619280" y="5741640"/>
              <a:ext cx="647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7236000" y="5454360"/>
              <a:ext cx="647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5572080" y="3454560"/>
              <a:ext cx="647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5D1-73BF-4CA4-A47F-7CA49A6100F7}" type="slidenum">
              <a:rPr b="1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39640" y="1518120"/>
            <a:ext cx="7848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议一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三角形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意两边之和与第三边有什么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个三角形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意两边之差与第三边有什么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三边有怎样的不等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动手实验同学们可以得到哪些结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由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2:44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37Z</dcterms:modified>
  <cp:revision>1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