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9D8B-E8C6-4B1F-9E5E-D54A9FC7BC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ED52-0ADA-48C8-A1D8-952D2F66D2D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39E-3B63-4444-8B76-A67C02AE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8F1-D41C-4DE9-89FC-4ED5ABC2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C46-BCFA-41A2-AA62-0AE3D964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C10-D1EF-49EE-BF0A-E2F9FCBD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835BF-1C33-414B-B818-1892B012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5CB-C038-4508-B0E8-FD3A0885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BD76-9754-4112-9365-EBD98B9A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558A3-BFC0-4959-A718-EC919E10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D8E2-C328-4B92-BB2A-345566CB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330D4-2E6B-4E11-921A-29C0DC05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B99A-0DA9-48B5-BA3C-C815006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66B0-B095-460C-AE5A-80C7F6C2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0FBFA-B22B-4D41-8451-E8602BB7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2F32F-8386-4571-8571-C0AB0A09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5B5A-1C7F-441D-8AC7-BF2C337B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652E-BB61-4D25-8C25-B09DBCD50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A6EEA-FA04-4D29-AD89-BFBF9CAA7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3794E-01E4-445A-8021-4996FC15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3FA7-1A4F-44D1-B802-72B31136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71FCB-89E7-4644-B730-6F8AA744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477F-1B88-4100-8D0B-AB523E58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AF9C-552C-48ED-8EBB-BF94C972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539-F538-47B3-A70A-B29CBD023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671A5-644C-4D9E-A402-44874D39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B7A39-BB4F-4824-B15A-58021249E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5BD4B-CD91-40CD-B707-0B0BCA0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04E50-95C0-42CE-BDC3-2E1D8AFD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09BEC-D939-47CB-A1F9-77EE4BAA9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1811A-73FD-4003-AA48-9226E1131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C8D89-9725-46B3-9505-967AEBC6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0EE-B87D-4A63-B87E-40E1CE2D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BDDC-2057-42EB-BEB1-D8F43AD8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DEB-5803-4769-83CA-115B5920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41EB-7045-4D08-94E8-C0438736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E568-D417-497D-BDF4-55BC721D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CE9-6AB2-4198-B633-EDC1EA0D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103F-E585-4E3C-869E-64640F257E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0876-455E-4ECD-A3EA-BE9AFC8F8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9B6BE-C601-4EC9-AABA-02B09A71C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2"/>
          <p:cNvSpPr txBox="1"/>
          <p:nvPr/>
        </p:nvSpPr>
        <p:spPr>
          <a:xfrm>
            <a:off x="1116000" y="1341360"/>
            <a:ext cx="70563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3d007a"/>
                  </a:outerShdw>
                </a:effectLst>
                <a:latin typeface="微软雅黑"/>
              </a:rPr>
              <a:t>水能溶解一些物质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17819" dir="2700000" blurRad="0" rotWithShape="0">
                  <a:srgbClr val="3d007a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2276640" y="60087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82" descr="未命名"/>
          <p:cNvPicPr/>
          <p:nvPr/>
        </p:nvPicPr>
        <p:blipFill>
          <a:blip r:embed="rId2"/>
          <a:stretch/>
        </p:blipFill>
        <p:spPr>
          <a:xfrm>
            <a:off x="1908000" y="333360"/>
            <a:ext cx="1872000" cy="284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826920" y="3213000"/>
          <a:ext cx="7129440" cy="2470320"/>
        </p:xfrm>
        <a:graphic>
          <a:graphicData uri="http://schemas.openxmlformats.org/drawingml/2006/table">
            <a:tbl>
              <a:tblPr/>
              <a:tblGrid>
                <a:gridCol w="801720"/>
                <a:gridCol w="2222640"/>
                <a:gridCol w="2220840"/>
                <a:gridCol w="18842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不搅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搅拌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放置一会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食盐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Picture 116" descr="未命名"/>
          <p:cNvPicPr/>
          <p:nvPr/>
        </p:nvPicPr>
        <p:blipFill>
          <a:blip r:embed="rId3"/>
          <a:stretch/>
        </p:blipFill>
        <p:spPr>
          <a:xfrm>
            <a:off x="4932360" y="333360"/>
            <a:ext cx="1962000" cy="28479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9"/>
          <p:cNvSpPr/>
          <p:nvPr/>
        </p:nvSpPr>
        <p:spPr>
          <a:xfrm>
            <a:off x="2609640" y="4149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颗粒沉、变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20"/>
          <p:cNvSpPr/>
          <p:nvPr/>
        </p:nvSpPr>
        <p:spPr>
          <a:xfrm>
            <a:off x="1547640" y="4869000"/>
            <a:ext cx="24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细沙飘、粗砂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颗粒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22"/>
          <p:cNvSpPr/>
          <p:nvPr/>
        </p:nvSpPr>
        <p:spPr>
          <a:xfrm>
            <a:off x="4067280" y="4869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水变黄了、颗粒沉水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23"/>
          <p:cNvSpPr/>
          <p:nvPr/>
        </p:nvSpPr>
        <p:spPr>
          <a:xfrm>
            <a:off x="6227640" y="4869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水浑浊、颗粒沉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4"/>
          <p:cNvSpPr/>
          <p:nvPr/>
        </p:nvSpPr>
        <p:spPr>
          <a:xfrm>
            <a:off x="4849560" y="42210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颗粒变小、消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25"/>
          <p:cNvSpPr/>
          <p:nvPr/>
        </p:nvSpPr>
        <p:spPr>
          <a:xfrm>
            <a:off x="6701040" y="4149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无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6"/>
          <p:cNvSpPr/>
          <p:nvPr/>
        </p:nvSpPr>
        <p:spPr>
          <a:xfrm>
            <a:off x="5863320" y="59500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沙子有溶解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5"/>
          <p:cNvSpPr/>
          <p:nvPr/>
        </p:nvSpPr>
        <p:spPr>
          <a:xfrm>
            <a:off x="611280" y="2349360"/>
            <a:ext cx="813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像沙这样，放置一段时间后，不溶物能跟水分离，水在上层、不溶物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沉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在下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沙子不能溶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像食盐这样能均匀地分散在水中，不会自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沉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物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食盐能溶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1539720" y="11970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再次感受溶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1332000" y="1700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面粉在水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7" descr="未命名"/>
          <p:cNvPicPr/>
          <p:nvPr/>
        </p:nvPicPr>
        <p:blipFill>
          <a:blip r:embed="rId2"/>
          <a:stretch/>
        </p:blipFill>
        <p:spPr>
          <a:xfrm>
            <a:off x="5364000" y="549360"/>
            <a:ext cx="1872000" cy="28479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12"/>
          <p:cNvGrpSpPr/>
          <p:nvPr/>
        </p:nvGrpSpPr>
        <p:grpSpPr>
          <a:xfrm>
            <a:off x="0" y="3500280"/>
            <a:ext cx="9143640" cy="3356640"/>
            <a:chOff x="0" y="3500280"/>
            <a:chExt cx="9143640" cy="3356640"/>
          </a:xfrm>
        </p:grpSpPr>
        <p:pic>
          <p:nvPicPr>
            <p:cNvPr id="184" name="Picture 9" descr="8K(79J@TSP[3EENR5@26P@8"/>
            <p:cNvPicPr/>
            <p:nvPr/>
          </p:nvPicPr>
          <p:blipFill>
            <a:blip r:embed="rId3"/>
            <a:stretch/>
          </p:blipFill>
          <p:spPr>
            <a:xfrm>
              <a:off x="0" y="3500280"/>
              <a:ext cx="9143640" cy="16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10"/>
            <p:cNvSpPr/>
            <p:nvPr/>
          </p:nvSpPr>
          <p:spPr>
            <a:xfrm>
              <a:off x="0" y="5178600"/>
              <a:ext cx="9143640" cy="16783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" name="Picture 11" descr="8K(79J@TSP[3EENR5@26P@8"/>
            <p:cNvPicPr/>
            <p:nvPr/>
          </p:nvPicPr>
          <p:blipFill>
            <a:blip r:embed="rId4"/>
            <a:stretch/>
          </p:blipFill>
          <p:spPr>
            <a:xfrm>
              <a:off x="0" y="5199120"/>
              <a:ext cx="9143640" cy="1657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5" descr="未命名"/>
          <p:cNvPicPr/>
          <p:nvPr/>
        </p:nvPicPr>
        <p:blipFill>
          <a:blip r:embed="rId1"/>
          <a:stretch/>
        </p:blipFill>
        <p:spPr>
          <a:xfrm>
            <a:off x="2124000" y="189000"/>
            <a:ext cx="5257800" cy="269244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6"/>
          <p:cNvSpPr/>
          <p:nvPr/>
        </p:nvSpPr>
        <p:spPr>
          <a:xfrm>
            <a:off x="539640" y="2997360"/>
            <a:ext cx="69818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把面粉放在水里，观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沙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比较        与盐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问：更像前者还是后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8"/>
          <p:cNvSpPr/>
          <p:nvPr/>
        </p:nvSpPr>
        <p:spPr>
          <a:xfrm>
            <a:off x="1042920" y="4292640"/>
            <a:ext cx="712944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然后搅拌，观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沙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比较        与盐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问：更像前者还是后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836720" y="5583240"/>
            <a:ext cx="712800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静置一会后，观察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与沙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比较        与盐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比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问：更像前者还是后者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12244566"/>
          <p:cNvPicPr/>
          <p:nvPr/>
        </p:nvPicPr>
        <p:blipFill>
          <a:blip r:embed="rId1"/>
          <a:stretch/>
        </p:blipFill>
        <p:spPr>
          <a:xfrm>
            <a:off x="1547640" y="692280"/>
            <a:ext cx="3667320" cy="520056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625320" y="1301760"/>
            <a:ext cx="106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过滤实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5226120" y="82224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把滤纸对折两次后，沿一条边打开，放入漏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5226120" y="25369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让漏斗下端的管口靠近烧杯内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5226120" y="39243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略倾斜玻璃棒，一端对着三层滤纸，沿着玻璃棒慢慢导流液体进入漏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组合 25"/>
          <p:cNvGrpSpPr/>
          <p:nvPr/>
        </p:nvGrpSpPr>
        <p:grpSpPr>
          <a:xfrm>
            <a:off x="2463840" y="4322880"/>
            <a:ext cx="1214280" cy="857160"/>
            <a:chOff x="2463840" y="4322880"/>
            <a:chExt cx="1214280" cy="857160"/>
          </a:xfrm>
        </p:grpSpPr>
        <p:sp>
          <p:nvSpPr>
            <p:cNvPr id="197" name="椭圆 9"/>
            <p:cNvSpPr/>
            <p:nvPr/>
          </p:nvSpPr>
          <p:spPr>
            <a:xfrm>
              <a:off x="2820960" y="4322880"/>
              <a:ext cx="857160" cy="857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23"/>
            <p:cNvSpPr/>
            <p:nvPr/>
          </p:nvSpPr>
          <p:spPr>
            <a:xfrm>
              <a:off x="2463840" y="453708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26"/>
          <p:cNvGrpSpPr/>
          <p:nvPr/>
        </p:nvGrpSpPr>
        <p:grpSpPr>
          <a:xfrm>
            <a:off x="2320920" y="1965240"/>
            <a:ext cx="1214280" cy="857160"/>
            <a:chOff x="2320920" y="1965240"/>
            <a:chExt cx="1214280" cy="857160"/>
          </a:xfrm>
        </p:grpSpPr>
        <p:sp>
          <p:nvSpPr>
            <p:cNvPr id="200" name="椭圆 12"/>
            <p:cNvSpPr/>
            <p:nvPr/>
          </p:nvSpPr>
          <p:spPr>
            <a:xfrm>
              <a:off x="2678040" y="1965240"/>
              <a:ext cx="857160" cy="8571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24"/>
            <p:cNvSpPr/>
            <p:nvPr/>
          </p:nvSpPr>
          <p:spPr>
            <a:xfrm>
              <a:off x="2320920" y="2179440"/>
              <a:ext cx="28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2195640" y="620640"/>
            <a:ext cx="453708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讲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5292720" y="2133720"/>
          <a:ext cx="2664000" cy="3600360"/>
        </p:xfrm>
        <a:graphic>
          <a:graphicData uri="http://schemas.openxmlformats.org/drawingml/2006/table">
            <a:tbl>
              <a:tblPr/>
              <a:tblGrid>
                <a:gridCol w="593640"/>
                <a:gridCol w="596880"/>
                <a:gridCol w="254160"/>
                <a:gridCol w="642960"/>
                <a:gridCol w="5763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1692360" y="2133720"/>
          <a:ext cx="2663640" cy="3024000"/>
        </p:xfrm>
        <a:graphic>
          <a:graphicData uri="http://schemas.openxmlformats.org/drawingml/2006/table">
            <a:tbl>
              <a:tblPr/>
              <a:tblGrid>
                <a:gridCol w="576000"/>
                <a:gridCol w="576000"/>
                <a:gridCol w="287640"/>
                <a:gridCol w="599760"/>
                <a:gridCol w="6242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205" name="Text Box 116"/>
          <p:cNvSpPr/>
          <p:nvPr/>
        </p:nvSpPr>
        <p:spPr>
          <a:xfrm>
            <a:off x="993240" y="3500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面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7"/>
          <p:cNvSpPr/>
          <p:nvPr/>
        </p:nvSpPr>
        <p:spPr>
          <a:xfrm>
            <a:off x="993240" y="285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18"/>
          <p:cNvSpPr/>
          <p:nvPr/>
        </p:nvSpPr>
        <p:spPr>
          <a:xfrm>
            <a:off x="4665240" y="5229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面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19"/>
          <p:cNvSpPr/>
          <p:nvPr/>
        </p:nvSpPr>
        <p:spPr>
          <a:xfrm>
            <a:off x="993240" y="4724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0"/>
          <p:cNvSpPr/>
          <p:nvPr/>
        </p:nvSpPr>
        <p:spPr>
          <a:xfrm>
            <a:off x="4665240" y="3429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面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21"/>
          <p:cNvSpPr/>
          <p:nvPr/>
        </p:nvSpPr>
        <p:spPr>
          <a:xfrm>
            <a:off x="4665240" y="4653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2"/>
          <p:cNvSpPr/>
          <p:nvPr/>
        </p:nvSpPr>
        <p:spPr>
          <a:xfrm>
            <a:off x="4665240" y="2852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3"/>
          <p:cNvSpPr/>
          <p:nvPr/>
        </p:nvSpPr>
        <p:spPr>
          <a:xfrm>
            <a:off x="993240" y="22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4"/>
          <p:cNvSpPr/>
          <p:nvPr/>
        </p:nvSpPr>
        <p:spPr>
          <a:xfrm>
            <a:off x="4665240" y="4005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5"/>
          <p:cNvSpPr/>
          <p:nvPr/>
        </p:nvSpPr>
        <p:spPr>
          <a:xfrm>
            <a:off x="993240" y="40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6"/>
          <p:cNvSpPr/>
          <p:nvPr/>
        </p:nvSpPr>
        <p:spPr>
          <a:xfrm>
            <a:off x="4665240" y="2276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食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"/>
          <p:cNvSpPr/>
          <p:nvPr/>
        </p:nvSpPr>
        <p:spPr>
          <a:xfrm>
            <a:off x="1298520" y="6197760"/>
            <a:ext cx="562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8"/>
          <p:cNvSpPr/>
          <p:nvPr/>
        </p:nvSpPr>
        <p:spPr>
          <a:xfrm>
            <a:off x="755640" y="1341360"/>
            <a:ext cx="1938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食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粉：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755640" y="40464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通过过滤实验知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971640" y="4221000"/>
            <a:ext cx="7129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中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溶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物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过滤分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  在水中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溶解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物质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过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过滤分离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3418560" y="1341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分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6010920" y="141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能溶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363636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6082200" y="227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溶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3708000" y="299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6082200" y="2997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不溶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"/>
          <p:cNvSpPr/>
          <p:nvPr/>
        </p:nvSpPr>
        <p:spPr>
          <a:xfrm>
            <a:off x="4886280" y="170028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8"/>
          <p:cNvSpPr/>
          <p:nvPr/>
        </p:nvSpPr>
        <p:spPr>
          <a:xfrm>
            <a:off x="4859280" y="256536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9"/>
          <p:cNvSpPr/>
          <p:nvPr/>
        </p:nvSpPr>
        <p:spPr>
          <a:xfrm>
            <a:off x="4859280" y="3284640"/>
            <a:ext cx="72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14"/>
          <p:cNvSpPr/>
          <p:nvPr/>
        </p:nvSpPr>
        <p:spPr>
          <a:xfrm>
            <a:off x="755640" y="836640"/>
            <a:ext cx="6858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总结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溶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物质均匀地分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静置后不会沉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沉淀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过滤后物质不能被分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过滤法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8048-94AE-4C4B-B0A5-A1FC8B731A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 rot="670200">
            <a:off x="6516720" y="3357360"/>
            <a:ext cx="2401920" cy="25635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9"/>
          <p:cNvSpPr/>
          <p:nvPr/>
        </p:nvSpPr>
        <p:spPr>
          <a:xfrm>
            <a:off x="600840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装什么才不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971640" y="1700280"/>
            <a:ext cx="763272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快装满水的杯子里可以装下什么，而使水不满出来？一小杯水？一小杯沙子？一小杯蔗糖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611280" y="4797360"/>
            <a:ext cx="5400720" cy="719280"/>
          </a:xfrm>
          <a:prstGeom prst="cloudCallout">
            <a:avLst>
              <a:gd name="adj1" fmla="val 61962"/>
              <a:gd name="adj2" fmla="val -122407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们来试试就是知道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4"/>
          <p:cNvSpPr/>
          <p:nvPr/>
        </p:nvSpPr>
        <p:spPr>
          <a:xfrm>
            <a:off x="2195640" y="620640"/>
            <a:ext cx="453708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讲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932360" y="2133720"/>
          <a:ext cx="2664000" cy="3600360"/>
        </p:xfrm>
        <a:graphic>
          <a:graphicData uri="http://schemas.openxmlformats.org/drawingml/2006/table">
            <a:tbl>
              <a:tblPr/>
              <a:tblGrid>
                <a:gridCol w="593640"/>
                <a:gridCol w="596880"/>
                <a:gridCol w="254160"/>
                <a:gridCol w="642960"/>
                <a:gridCol w="5763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332000" y="2133720"/>
          <a:ext cx="2663640" cy="3024000"/>
        </p:xfrm>
        <a:graphic>
          <a:graphicData uri="http://schemas.openxmlformats.org/drawingml/2006/table">
            <a:tbl>
              <a:tblPr/>
              <a:tblGrid>
                <a:gridCol w="576000"/>
                <a:gridCol w="576000"/>
                <a:gridCol w="287640"/>
                <a:gridCol w="599760"/>
                <a:gridCol w="6242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900000" y="1557360"/>
            <a:ext cx="756144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小勺、小棒、食盐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187280" y="2852640"/>
            <a:ext cx="691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观察食盐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取一平匙盐，放在烧杯的水中（静置）观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轻轻的搅拌几下后观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静置一会儿，水有发生变化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最后再画一画食盐在水中的样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6"/>
          <p:cNvSpPr/>
          <p:nvPr/>
        </p:nvSpPr>
        <p:spPr>
          <a:xfrm>
            <a:off x="3203640" y="62064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9"/>
          <p:cNvSpPr/>
          <p:nvPr/>
        </p:nvSpPr>
        <p:spPr>
          <a:xfrm>
            <a:off x="5435640" y="51577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403280" y="1413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食盐在水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2"/>
          <p:cNvPicPr/>
          <p:nvPr/>
        </p:nvPicPr>
        <p:blipFill>
          <a:blip r:embed="rId2"/>
          <a:stretch/>
        </p:blipFill>
        <p:spPr>
          <a:xfrm>
            <a:off x="5580000" y="476280"/>
            <a:ext cx="2065320" cy="2448000"/>
          </a:xfrm>
          <a:prstGeom prst="rect">
            <a:avLst/>
          </a:prstGeom>
          <a:ln w="0">
            <a:noFill/>
          </a:ln>
        </p:spPr>
      </p:pic>
      <p:grpSp>
        <p:nvGrpSpPr>
          <p:cNvPr id="145" name="Group 6"/>
          <p:cNvGrpSpPr/>
          <p:nvPr/>
        </p:nvGrpSpPr>
        <p:grpSpPr>
          <a:xfrm>
            <a:off x="0" y="3141720"/>
            <a:ext cx="9143640" cy="3312720"/>
            <a:chOff x="0" y="3141720"/>
            <a:chExt cx="9143640" cy="3312720"/>
          </a:xfrm>
        </p:grpSpPr>
        <p:pic>
          <p:nvPicPr>
            <p:cNvPr id="146" name="Picture 7" descr="8K(79J@TSP[3EENR5@26P@8"/>
            <p:cNvPicPr/>
            <p:nvPr/>
          </p:nvPicPr>
          <p:blipFill>
            <a:blip r:embed="rId3"/>
            <a:stretch/>
          </p:blipFill>
          <p:spPr>
            <a:xfrm>
              <a:off x="0" y="3141720"/>
              <a:ext cx="9143640" cy="33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Rectangle 8"/>
            <p:cNvSpPr/>
            <p:nvPr/>
          </p:nvSpPr>
          <p:spPr>
            <a:xfrm>
              <a:off x="0" y="4956840"/>
              <a:ext cx="9143640" cy="1494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547640" y="292428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溶解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像食盐这样放入水中，变小，均匀分散在水中，变成看不见的微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1539720" y="119700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初步感受溶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4"/>
          <p:cNvSpPr/>
          <p:nvPr/>
        </p:nvSpPr>
        <p:spPr>
          <a:xfrm>
            <a:off x="2627280" y="11592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沙子、面粉在水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539640" y="1197000"/>
            <a:ext cx="799308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实验器材：</a:t>
            </a: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烧杯、小勺、小棒、沙子、面粉、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2"/>
          <p:cNvSpPr/>
          <p:nvPr/>
        </p:nvSpPr>
        <p:spPr>
          <a:xfrm>
            <a:off x="900000" y="263700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观察沙子、面粉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取一平匙沙子、面粉，放在烧杯的水中（静置）观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轻轻的搅拌几下后观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静置一会儿，水有发生变化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最后再画一画沙子、面粉在水中的样子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195640" y="620640"/>
            <a:ext cx="453708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讲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932360" y="2133720"/>
          <a:ext cx="2664000" cy="3600360"/>
        </p:xfrm>
        <a:graphic>
          <a:graphicData uri="http://schemas.openxmlformats.org/drawingml/2006/table">
            <a:tbl>
              <a:tblPr/>
              <a:tblGrid>
                <a:gridCol w="593640"/>
                <a:gridCol w="596880"/>
                <a:gridCol w="254160"/>
                <a:gridCol w="642960"/>
                <a:gridCol w="5763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332000" y="2133720"/>
          <a:ext cx="2663640" cy="3024000"/>
        </p:xfrm>
        <a:graphic>
          <a:graphicData uri="http://schemas.openxmlformats.org/drawingml/2006/table">
            <a:tbl>
              <a:tblPr/>
              <a:tblGrid>
                <a:gridCol w="576000"/>
                <a:gridCol w="576000"/>
                <a:gridCol w="287640"/>
                <a:gridCol w="599760"/>
                <a:gridCol w="624240"/>
              </a:tblGrid>
              <a:tr h="60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</a:tbl>
          </a:graphicData>
        </a:graphic>
      </p:graphicFrame>
      <p:sp>
        <p:nvSpPr>
          <p:cNvPr id="156" name="Text Box 113"/>
          <p:cNvSpPr/>
          <p:nvPr/>
        </p:nvSpPr>
        <p:spPr>
          <a:xfrm>
            <a:off x="552852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面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4"/>
          <p:cNvSpPr/>
          <p:nvPr/>
        </p:nvSpPr>
        <p:spPr>
          <a:xfrm>
            <a:off x="495252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5"/>
          <p:cNvSpPr/>
          <p:nvPr/>
        </p:nvSpPr>
        <p:spPr>
          <a:xfrm>
            <a:off x="704160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面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646524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7"/>
          <p:cNvSpPr/>
          <p:nvPr/>
        </p:nvSpPr>
        <p:spPr>
          <a:xfrm>
            <a:off x="200124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面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8"/>
          <p:cNvSpPr/>
          <p:nvPr/>
        </p:nvSpPr>
        <p:spPr>
          <a:xfrm>
            <a:off x="142488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9"/>
          <p:cNvSpPr/>
          <p:nvPr/>
        </p:nvSpPr>
        <p:spPr>
          <a:xfrm>
            <a:off x="344124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面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0"/>
          <p:cNvSpPr/>
          <p:nvPr/>
        </p:nvSpPr>
        <p:spPr>
          <a:xfrm>
            <a:off x="2864880" y="1628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沙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332000" y="1700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沙子在水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9"/>
          <p:cNvGrpSpPr/>
          <p:nvPr/>
        </p:nvGrpSpPr>
        <p:grpSpPr>
          <a:xfrm>
            <a:off x="0" y="3284640"/>
            <a:ext cx="9144000" cy="3573000"/>
            <a:chOff x="0" y="3284640"/>
            <a:chExt cx="9144000" cy="3573000"/>
          </a:xfrm>
        </p:grpSpPr>
        <p:pic>
          <p:nvPicPr>
            <p:cNvPr id="166" name="Picture 6" descr="8K(79J@TSP[3EENR5@26P@8"/>
            <p:cNvPicPr/>
            <p:nvPr/>
          </p:nvPicPr>
          <p:blipFill>
            <a:blip r:embed="rId2"/>
            <a:stretch/>
          </p:blipFill>
          <p:spPr>
            <a:xfrm>
              <a:off x="0" y="3284640"/>
              <a:ext cx="9144000" cy="35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Rectangle 7"/>
            <p:cNvSpPr/>
            <p:nvPr/>
          </p:nvSpPr>
          <p:spPr>
            <a:xfrm>
              <a:off x="0" y="5558760"/>
              <a:ext cx="9144000" cy="12985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8" descr="未命名"/>
          <p:cNvPicPr/>
          <p:nvPr/>
        </p:nvPicPr>
        <p:blipFill>
          <a:blip r:embed="rId3"/>
          <a:stretch/>
        </p:blipFill>
        <p:spPr>
          <a:xfrm>
            <a:off x="5940360" y="260280"/>
            <a:ext cx="1962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16:00:34Z</dcterms:modified>
  <cp:revision>1</cp:revision>
  <dc:subject/>
  <dc:title>幻灯片 1</dc:title>
</cp:coreProperties>
</file>