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.jpeg" ContentType="image/jpeg"/>
  <Override PartName="/ppt/media/image3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9C7-63A8-4D86-A736-4733C5B9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F42-9AC1-418B-905C-23BCB9E1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F5F-0343-42DF-8C15-13EDAF7A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CB6-18CB-4FB4-9388-705EE772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1B8-4E98-4E13-B77C-4E23D735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340-C647-4EB1-9580-AECF2F19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591-4A97-4519-BFCF-10F3C68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1B2-57FF-4BB6-BCE6-0113C4C5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316-D328-468A-A025-6B068737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794-BA57-479A-9230-B94F88A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4AD-CAA2-46B2-BC58-16AEFAD6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ECB-D722-4A58-88C3-AF1DF22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EA3F-BF6D-4C5B-AEEF-9B755425C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新安江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2" descr=""/>
          <p:cNvPicPr/>
          <p:nvPr/>
        </p:nvPicPr>
        <p:blipFill>
          <a:blip r:embed="rId2"/>
          <a:stretch/>
        </p:blipFill>
        <p:spPr>
          <a:xfrm>
            <a:off x="755640" y="1339920"/>
            <a:ext cx="7416720" cy="2819160"/>
          </a:xfrm>
          <a:prstGeom prst="rect">
            <a:avLst/>
          </a:prstGeom>
          <a:ln w="0">
            <a:noFill/>
          </a:ln>
        </p:spPr>
      </p:pic>
      <p:pic>
        <p:nvPicPr>
          <p:cNvPr id="43" name="刀郎 - 冲动的惩罚 1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218880" y="62434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-272520" y="954000"/>
            <a:ext cx="97084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春雪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                 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韩愈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新年都未有芳华，二月初惊见草芽。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白雪却嫌春色晚，故穿庭树作飞花。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556640" y="2286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体会下面这首诗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Picture 4" descr="无标题"/>
          <p:cNvPicPr/>
          <p:nvPr/>
        </p:nvPicPr>
        <p:blipFill>
          <a:blip r:embed="rId1"/>
          <a:stretch/>
        </p:blipFill>
        <p:spPr>
          <a:xfrm>
            <a:off x="609480" y="3657600"/>
            <a:ext cx="8001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741120" y="7873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陈太丘与友期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33720" y="2209680"/>
            <a:ext cx="6289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自学要求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反复朗读课文，读至熟练为止。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同桌合作，理解疑难词句，并口头翻译课文。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文章有许多值得揣摩的地方，请找出来体会体会，并提出有价值的问题。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Picture 4" descr="BD00028_"/>
          <p:cNvPicPr/>
          <p:nvPr/>
        </p:nvPicPr>
        <p:blipFill>
          <a:blip r:embed="rId1"/>
          <a:stretch/>
        </p:blipFill>
        <p:spPr>
          <a:xfrm>
            <a:off x="1295280" y="2057400"/>
            <a:ext cx="86220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41400" y="685800"/>
            <a:ext cx="14000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比谁最快：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期：    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舍去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不（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fou)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非人哉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去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引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顾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447920" y="25909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 flipV="1">
            <a:off x="1523880" y="2590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439280" y="1600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约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023200" y="2057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不再等候就走了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372760" y="25146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通“否”，吗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190960" y="2895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不是人呀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591920" y="33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离开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520640" y="3809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434240" y="4267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回头看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029200" y="1143000"/>
            <a:ext cx="345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Times New Roman"/>
              </a:rPr>
              <a:t>小组讨论后，再指定一人回答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君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尊君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家君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361920" y="2438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您，对他人的尊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514200" y="28954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对他人父亲的尊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514200" y="3352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对自己父亲的尊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Picture 18" descr="U179P8T1D104610F913DT20040811130611"/>
          <p:cNvPicPr/>
          <p:nvPr/>
        </p:nvPicPr>
        <p:blipFill>
          <a:blip r:embed="rId1"/>
          <a:stretch/>
        </p:blipFill>
        <p:spPr>
          <a:xfrm>
            <a:off x="4648320" y="4495680"/>
            <a:ext cx="4267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cljtj-031112-02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279440" y="93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08040" y="3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981080" y="1828800"/>
            <a:ext cx="513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对课文你还有什么问题吗，请你提出来，供大家讨论。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905120" y="3429000"/>
            <a:ext cx="50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你对元方“入门不顾”是否失礼？说说你的看法。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3557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828800" y="4876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、文章的主题是什么呢，想告诉我们什么？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029400" y="838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扩展题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1FC8-86B3-420B-AE66-3771942D44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O01862_"/>
          <p:cNvPicPr/>
          <p:nvPr/>
        </p:nvPicPr>
        <p:blipFill>
          <a:blip r:embed="rId1"/>
          <a:stretch/>
        </p:blipFill>
        <p:spPr>
          <a:xfrm>
            <a:off x="-990720" y="-533520"/>
            <a:ext cx="10972800" cy="7963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1889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1143000"/>
            <a:ext cx="8991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教学目标：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  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、了解古代聪颖机智的少年儿童的故事，学  习古人的智慧、诚实、守信、尊重他人的美德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  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、了解刘义庆和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世说新语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  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、阅读浅易文言文，积累常见的文言词语，能借助注解和工具书理解基本内容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  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教学重点：诵读课文，积累常见的文言词语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  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教学难点：针对文中内容，谈谈自己的见解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SO01871_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990720" y="838080"/>
            <a:ext cx="716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刘义庆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03——44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，南宋人，爱好文学。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世说新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由他组织一批文人编写的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  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世说新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六朝志人小说的代表作。古代小说所记大多是传闻、轶事，以短篇为主，在写法上一般是直叙其事，不作任何夸饰。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世说新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全书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卷，按照类书的形式编排，分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德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言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政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文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等三十六门。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咏雪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选自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言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门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陈太丘与友期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选自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方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门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58920" y="6054840"/>
            <a:ext cx="77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更多免费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PPT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模板下载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ttp://www.eeppt.co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4"/>
          <p:cNvSpPr/>
          <p:nvPr/>
        </p:nvSpPr>
        <p:spPr>
          <a:xfrm>
            <a:off x="3059280" y="320832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2" name="Picture 5" descr="1077606087594"/>
          <p:cNvPicPr/>
          <p:nvPr/>
        </p:nvPicPr>
        <p:blipFill>
          <a:blip r:embed="rId16"/>
          <a:stretch/>
        </p:blipFill>
        <p:spPr>
          <a:xfrm>
            <a:off x="2286000" y="228600"/>
            <a:ext cx="4267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K00030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304920" y="304920"/>
            <a:ext cx="883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世说新语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内容主要记述自东汉至东晋文人名士的言行，尤重于晋。所记事情，以反映人物的性格、精神风貌为主，作为史实来看，绝大多数无关紧要。书中表彰了一些孝子、贤妻、良母、廉吏的事迹，也揭露和讽刺了士族中某些人物贪残、酷虐、吝啬、虚伪的行为，体现了一些基本的评价准则。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世说新语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的文字，素称简洁隽永，笔调含蓄委婉。它没有铺叙或过多的描写，更绝少夸张之处。但寥寥几笔，却能表现出相当生动的人物形象。这是因为作者采取遗貌取神的手法，删落枝叶，抓住人物本身最有特征、最富于意味的动作和语言，直接呈现在读者面前。并且，它所记载的人物语言，大多是活的口语，使人如闻其声。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NA00864_"/>
          <p:cNvPicPr/>
          <p:nvPr/>
        </p:nvPicPr>
        <p:blipFill>
          <a:blip r:embed="rId1"/>
          <a:stretch/>
        </p:blipFill>
        <p:spPr>
          <a:xfrm>
            <a:off x="0" y="5334120"/>
            <a:ext cx="9144000" cy="1342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1981080" y="457200"/>
            <a:ext cx="541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学生自学，思考以下问题：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、读通课文，读准字音。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、根据注释，看懂文章，并准备简要复述。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、文章中有哪些值得探讨的地方，提出有价值的问题。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7" name="Picture 4" descr="BD00028_"/>
          <p:cNvPicPr/>
          <p:nvPr/>
        </p:nvPicPr>
        <p:blipFill>
          <a:blip r:embed="rId2"/>
          <a:stretch/>
        </p:blipFill>
        <p:spPr>
          <a:xfrm>
            <a:off x="914400" y="4572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19320" y="960480"/>
            <a:ext cx="4984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、口头说出下面字词的意思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内集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俄而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欣然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拟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未若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雪骤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636920" y="27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检查自学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572200" y="1371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家庭聚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100680" y="18288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不久，一会儿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567160" y="2286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高兴的样子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353680" y="2743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相比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2952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2424600" y="3200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比不上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567160" y="3581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雪越下越大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055960" y="4419720"/>
            <a:ext cx="357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、理清文中的人物关系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谢太傅（谢安）     兄子胡儿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公大兄无奕女         左将军王凝之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1143000" y="30492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、从上下文看，“儿女”的含义与今天有什么不同？这样的词，你还知道哪些。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143000" y="2133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儿女在文中指子侄辈，指家中的年轻一代。现在指子女。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143000" y="3200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再如：此句“携妻子去之走”，“妻子”是什么意思呢？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143000" y="4267080"/>
            <a:ext cx="66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、文中营造了怎样的家庭氛围？就此谈谈你自己的感受。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647080" y="51814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融洽、欢快、轻松。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000160" y="579132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、复述课文。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2794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670480" y="1143000"/>
            <a:ext cx="36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、文中第一句话交代了哪些内容？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630960" y="1847880"/>
            <a:ext cx="9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时间、地点、人物、事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3880" y="2514600"/>
            <a:ext cx="6019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、文章结尾交代了谢道韫的身份，有什么用意？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523880" y="3962520"/>
            <a:ext cx="55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、文中的两个比喻，你认为哪个好？为什么？你还能说出一两个形容飞雪的好比喻吗？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752480" y="380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04372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讨论：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9:51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2:33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