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26F-C026-429F-A9F3-F660BBE392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3B9-DDD0-464D-9374-8D0F4775E4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824-20AE-4C74-BCFC-05261AF9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9D5-D9E1-4DE1-AD5C-F7253180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CCF-0254-48E1-90A4-5B2A67BA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7AE-3F6A-445D-AC67-D16E512A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76A-92CC-4574-8DF9-9CEC0FF5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4FE-7287-49B9-8BD4-771EC4FE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85C-A197-4BBC-A5FB-C2C21F3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E45-0D5D-434B-8637-05B1071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40F-C665-4953-9EB2-6A6729D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D93-B54B-4976-A6F3-ADD3FA9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EC8-9B6D-4B33-B493-188B344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130-2EC6-416E-8DD5-9C76A0D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6F8-320E-479D-A94A-F393AD31DA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bud.cn/new-news/nalture/new-news_nalture_20040609_9.html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.baidu.com/i?ct=503316480&amp;z=76368801&amp;tn=baiduimagedetail&amp;word=&#27700;&#33899;&#33446;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www.cnnb.com.cn/gb/node2/node48/node50/kjwxw/userobject7ai916204.html" TargetMode="External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5" descr="斑贝"/>
            <p:cNvPicPr/>
            <p:nvPr/>
          </p:nvPicPr>
          <p:blipFill>
            <a:blip r:embed="rId1"/>
            <a:srcRect l="0" t="0" r="0" b="2606"/>
            <a:stretch/>
          </p:blipFill>
          <p:spPr>
            <a:xfrm>
              <a:off x="5562720" y="4572000"/>
              <a:ext cx="3581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蛇1"/>
            <p:cNvPicPr/>
            <p:nvPr/>
          </p:nvPicPr>
          <p:blipFill>
            <a:blip r:embed="rId2"/>
            <a:stretch/>
          </p:blipFill>
          <p:spPr>
            <a:xfrm>
              <a:off x="3124080" y="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果蝇1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32767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水葫芦1"/>
            <p:cNvPicPr/>
            <p:nvPr/>
          </p:nvPicPr>
          <p:blipFill>
            <a:blip r:embed="rId4"/>
            <a:srcRect l="0" t="0" r="291" b="329"/>
            <a:stretch/>
          </p:blipFill>
          <p:spPr>
            <a:xfrm>
              <a:off x="6172200" y="0"/>
              <a:ext cx="29718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蜥蜴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124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山猫2"/>
            <p:cNvPicPr/>
            <p:nvPr/>
          </p:nvPicPr>
          <p:blipFill>
            <a:blip r:embed="rId6"/>
            <a:stretch/>
          </p:blipFill>
          <p:spPr>
            <a:xfrm>
              <a:off x="3276720" y="4572000"/>
              <a:ext cx="220968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页脚占位符 2"/>
          <p:cNvSpPr/>
          <p:nvPr/>
        </p:nvSpPr>
        <p:spPr>
          <a:xfrm>
            <a:off x="2627280" y="62485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2"/>
          <p:cNvSpPr txBox="1"/>
          <p:nvPr/>
        </p:nvSpPr>
        <p:spPr>
          <a:xfrm>
            <a:off x="1028880" y="2666880"/>
            <a:ext cx="7238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584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微软雅黑"/>
              </a:rPr>
              <a:t>生物入侵者</a:t>
            </a:r>
            <a:endParaRPr b="0" lang="en-US" sz="4800" spc="1" strike="noStrike">
              <a:ln w="15840">
                <a:solidFill>
                  <a:srgbClr val="ff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8" name="Picture 3" descr="斑贝"/>
            <p:cNvPicPr/>
            <p:nvPr/>
          </p:nvPicPr>
          <p:blipFill>
            <a:blip r:embed="rId1"/>
            <a:srcRect l="0" t="0" r="0" b="2606"/>
            <a:stretch/>
          </p:blipFill>
          <p:spPr>
            <a:xfrm>
              <a:off x="5562720" y="4572000"/>
              <a:ext cx="3581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" descr="蛇1"/>
            <p:cNvPicPr/>
            <p:nvPr/>
          </p:nvPicPr>
          <p:blipFill>
            <a:blip r:embed="rId2"/>
            <a:stretch/>
          </p:blipFill>
          <p:spPr>
            <a:xfrm>
              <a:off x="3124080" y="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果蝇1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32767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水葫芦1"/>
            <p:cNvPicPr/>
            <p:nvPr/>
          </p:nvPicPr>
          <p:blipFill>
            <a:blip r:embed="rId4"/>
            <a:srcRect l="0" t="0" r="291" b="329"/>
            <a:stretch/>
          </p:blipFill>
          <p:spPr>
            <a:xfrm>
              <a:off x="6172200" y="0"/>
              <a:ext cx="29718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蜥蜴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124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山猫2"/>
            <p:cNvPicPr/>
            <p:nvPr/>
          </p:nvPicPr>
          <p:blipFill>
            <a:blip r:embed="rId6"/>
            <a:stretch/>
          </p:blipFill>
          <p:spPr>
            <a:xfrm>
              <a:off x="3276720" y="4572000"/>
              <a:ext cx="220968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9"/>
          <p:cNvSpPr/>
          <p:nvPr/>
        </p:nvSpPr>
        <p:spPr>
          <a:xfrm>
            <a:off x="304920" y="2666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文中生物学和生态学界对待“生物入侵者”的两种观点，你赞同哪一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你知道自然界还有哪些生物入侵者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?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你在现实生活中发现过生物入侵的现象吗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怎样才能有效扼制生物入侵的现象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swrq0011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476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2004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143000"/>
            <a:ext cx="8077320" cy="480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u=1144071904,428190575&amp;gp=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143000"/>
            <a:ext cx="8001000" cy="480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0028916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1143000"/>
            <a:ext cx="807732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523880" y="304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葫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" descr="00052776"/>
          <p:cNvPicPr/>
          <p:nvPr/>
        </p:nvPicPr>
        <p:blipFill>
          <a:blip r:embed="rId8"/>
          <a:stretch/>
        </p:blipFill>
        <p:spPr>
          <a:xfrm>
            <a:off x="457200" y="114300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2779560" y="5904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南美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55640" y="609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原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00179857"/>
          <p:cNvPicPr/>
          <p:nvPr/>
        </p:nvPicPr>
        <p:blipFill>
          <a:blip r:embed="rId1"/>
          <a:stretch/>
        </p:blipFill>
        <p:spPr>
          <a:xfrm>
            <a:off x="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8280360" y="0"/>
            <a:ext cx="863640" cy="416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988760" y="5013360"/>
            <a:ext cx="1155240" cy="158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大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473680" y="4221000"/>
            <a:ext cx="546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0010117"/>
          <p:cNvPicPr/>
          <p:nvPr/>
        </p:nvPicPr>
        <p:blipFill>
          <a:blip r:embed="rId1"/>
          <a:stretch/>
        </p:blipFill>
        <p:spPr>
          <a:xfrm>
            <a:off x="3276720" y="6480"/>
            <a:ext cx="4952880" cy="387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0010115"/>
          <p:cNvPicPr/>
          <p:nvPr/>
        </p:nvPicPr>
        <p:blipFill>
          <a:blip r:embed="rId2"/>
          <a:stretch/>
        </p:blipFill>
        <p:spPr>
          <a:xfrm>
            <a:off x="0" y="3139920"/>
            <a:ext cx="9144000" cy="371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elp_04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76320"/>
            <a:ext cx="2743200" cy="1434600"/>
          </a:xfrm>
          <a:prstGeom prst="rect">
            <a:avLst/>
          </a:prstGeom>
          <a:noFill/>
          <a:ln w="12708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亚  洲  虎  蚊  的  吸血  过  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1240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0117g08"/>
          <p:cNvPicPr/>
          <p:nvPr/>
        </p:nvPicPr>
        <p:blipFill>
          <a:blip r:embed="rId1"/>
          <a:stretch/>
        </p:blipFill>
        <p:spPr>
          <a:xfrm>
            <a:off x="533520" y="1295280"/>
            <a:ext cx="708660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6201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中海果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8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斑贝堵塞的管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斑贝堵塞的管道"/>
          <p:cNvPicPr/>
          <p:nvPr/>
        </p:nvPicPr>
        <p:blipFill>
          <a:blip r:embed="rId1"/>
          <a:stretch/>
        </p:blipFill>
        <p:spPr>
          <a:xfrm>
            <a:off x="835200" y="1371600"/>
            <a:ext cx="7472160" cy="5121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8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斑贝危害触目惊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斑贝（斑马纹贻贝）入侵1"/>
          <p:cNvPicPr/>
          <p:nvPr/>
        </p:nvPicPr>
        <p:blipFill>
          <a:blip r:embed="rId1"/>
          <a:stretch/>
        </p:blipFill>
        <p:spPr>
          <a:xfrm>
            <a:off x="762120" y="1143000"/>
            <a:ext cx="7529400" cy="5651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1830600" y="304920"/>
            <a:ext cx="223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ff"/>
                </a:solidFill>
                <a:latin typeface="Times New Roman"/>
              </a:rPr>
              <a:t>食人鲳在中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611280" y="2492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则消息告诉了我们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据农业部最新统计数字显示，目前我国已经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入侵植物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入侵动物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国际自然保护联盟公布的全球１００种最具威胁的外来生物中，中国已有５０余种。我国因为外来物种入侵造成的直接和间接损失每年达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98.7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亿元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据最新研究表明，在全世界濒危物种名录中的植物，大约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6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由外来生物入侵引起的，生物入侵已成为导致物种濒危和灭绝的第二位因素，仅次于生存环境的丧失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华社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椰心叶甲虫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250920" y="5300640"/>
            <a:ext cx="1800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椰心叶甲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人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29084"/>
          <p:cNvPicPr/>
          <p:nvPr/>
        </p:nvPicPr>
        <p:blipFill>
          <a:blip r:embed="rId1"/>
          <a:stretch/>
        </p:blipFill>
        <p:spPr>
          <a:xfrm>
            <a:off x="4932360" y="2276640"/>
            <a:ext cx="3672000" cy="33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食人鲳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8520" y="76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入侵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棕树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棕树蛇2"/>
          <p:cNvPicPr/>
          <p:nvPr/>
        </p:nvPicPr>
        <p:blipFill>
          <a:blip r:embed="rId1"/>
          <a:stretch/>
        </p:blipFill>
        <p:spPr>
          <a:xfrm>
            <a:off x="4876920" y="914400"/>
            <a:ext cx="3581280" cy="2817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Picture 4" descr="棕树蛇吃鸟"/>
          <p:cNvPicPr/>
          <p:nvPr/>
        </p:nvPicPr>
        <p:blipFill>
          <a:blip r:embed="rId2"/>
          <a:stretch/>
        </p:blipFill>
        <p:spPr>
          <a:xfrm>
            <a:off x="4876920" y="3886200"/>
            <a:ext cx="358128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0" name="Picture 5" descr="棕树蛇3"/>
          <p:cNvPicPr/>
          <p:nvPr/>
        </p:nvPicPr>
        <p:blipFill>
          <a:blip r:embed="rId3"/>
          <a:stretch/>
        </p:blipFill>
        <p:spPr>
          <a:xfrm>
            <a:off x="685800" y="3886200"/>
            <a:ext cx="3581280" cy="28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1" name="Picture 6" descr="棕树蛇1"/>
          <p:cNvPicPr/>
          <p:nvPr/>
        </p:nvPicPr>
        <p:blipFill>
          <a:blip r:embed="rId4"/>
          <a:stretch/>
        </p:blipFill>
        <p:spPr>
          <a:xfrm>
            <a:off x="685800" y="914400"/>
            <a:ext cx="3581280" cy="28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8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对人类的威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191120" y="49528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来，己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有人被咬，大多数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下的孩子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bigsnkwcaption"/>
          <p:cNvPicPr/>
          <p:nvPr/>
        </p:nvPicPr>
        <p:blipFill>
          <a:blip r:embed="rId1"/>
          <a:stretch/>
        </p:blipFill>
        <p:spPr>
          <a:xfrm>
            <a:off x="457200" y="1263600"/>
            <a:ext cx="3086280" cy="5289480"/>
          </a:xfrm>
          <a:prstGeom prst="rect">
            <a:avLst/>
          </a:prstGeom>
          <a:ln w="1908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6" name="Picture 5" descr="hand2"/>
          <p:cNvPicPr/>
          <p:nvPr/>
        </p:nvPicPr>
        <p:blipFill>
          <a:blip r:embed="rId2"/>
          <a:stretch/>
        </p:blipFill>
        <p:spPr>
          <a:xfrm>
            <a:off x="4191120" y="1244520"/>
            <a:ext cx="3886200" cy="3481560"/>
          </a:xfrm>
          <a:prstGeom prst="rect">
            <a:avLst/>
          </a:prstGeom>
          <a:ln w="19080">
            <a:solidFill>
              <a:srgbClr val="33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0360" y="457200"/>
            <a:ext cx="889164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本文的说明对象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段画线句子主要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段“该方案”一词具体指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类对处理废弃塑料袋感到头疼的主要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简要说明（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内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278000" y="1147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塑料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278000" y="24336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塑料袋在短时间内被大量应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78000" y="35863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使用可降解的材料制造塑料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246320" y="5429160"/>
            <a:ext cx="75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埋在土里难以分化、降解，燃烧产生有害气体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7AB-5E88-4FF1-BACA-AA5D350BD0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8320" y="609120"/>
            <a:ext cx="449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0400" y="226008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语言环境中掌握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说明顺序、说明方法的掌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文章语言的揣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激发科学兴趣、培养科学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304920" y="152280"/>
            <a:ext cx="79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梅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1844280"/>
            <a:ext cx="5256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</a:rPr>
              <a:t> 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我国当代科普作家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博士生导师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1962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月出生于江西。现任中国科学院合肥智能机械研究所常务副所长。获专利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项，其中发明专利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华文彩云"/>
                <a:ea typeface="华文彩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tao[1]"/>
          <p:cNvPicPr/>
          <p:nvPr/>
        </p:nvPicPr>
        <p:blipFill>
          <a:blip r:embed="rId1"/>
          <a:stretch/>
        </p:blipFill>
        <p:spPr>
          <a:xfrm>
            <a:off x="6084720" y="2060640"/>
            <a:ext cx="24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12760" y="762120"/>
            <a:ext cx="87026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藩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厄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蜥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酝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蒲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公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五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斑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（　　　）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啸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聚山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手无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竞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天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无动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72240" y="-666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生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332000" y="83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635280" y="83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012000" y="836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187280" y="1413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70836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940360" y="141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ī y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187280" y="20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ùn ni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788000" y="198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700360" y="37893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2411280" y="2565360"/>
            <a:ext cx="18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ān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195640" y="321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i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2195640" y="3789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2484360" y="429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ì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2411280" y="486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77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4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995640" y="105264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明确“生物入侵者”的含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03640" y="292428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在异国他乡通过非自然途径迁移到新的生态环境中的“移民”称为“生物入侵者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2209680" y="609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7"/>
          <p:cNvGrpSpPr/>
          <p:nvPr/>
        </p:nvGrpSpPr>
        <p:grpSpPr>
          <a:xfrm>
            <a:off x="0" y="0"/>
            <a:ext cx="1981080" cy="2638440"/>
            <a:chOff x="0" y="0"/>
            <a:chExt cx="1981080" cy="2638440"/>
          </a:xfrm>
        </p:grpSpPr>
        <p:pic>
          <p:nvPicPr>
            <p:cNvPr id="94" name="Picture 2" descr="甲虫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810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6"/>
            <p:cNvSpPr/>
            <p:nvPr/>
          </p:nvSpPr>
          <p:spPr>
            <a:xfrm>
              <a:off x="0" y="1752480"/>
              <a:ext cx="1752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什么叫“生物入侵者”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38"/>
          <p:cNvGrpSpPr/>
          <p:nvPr/>
        </p:nvGrpSpPr>
        <p:grpSpPr>
          <a:xfrm>
            <a:off x="3352680" y="0"/>
            <a:ext cx="5791320" cy="2562480"/>
            <a:chOff x="3352680" y="0"/>
            <a:chExt cx="5791320" cy="2562480"/>
          </a:xfrm>
        </p:grpSpPr>
        <p:grpSp>
          <p:nvGrpSpPr>
            <p:cNvPr id="97" name="Group 28"/>
            <p:cNvGrpSpPr/>
            <p:nvPr/>
          </p:nvGrpSpPr>
          <p:grpSpPr>
            <a:xfrm>
              <a:off x="3352680" y="0"/>
              <a:ext cx="5791320" cy="1600200"/>
              <a:chOff x="3352680" y="0"/>
              <a:chExt cx="5791320" cy="1600200"/>
            </a:xfrm>
          </p:grpSpPr>
          <p:grpSp>
            <p:nvGrpSpPr>
              <p:cNvPr id="98" name="Group 14"/>
              <p:cNvGrpSpPr/>
              <p:nvPr/>
            </p:nvGrpSpPr>
            <p:grpSpPr>
              <a:xfrm>
                <a:off x="3352680" y="0"/>
                <a:ext cx="3809880" cy="1600200"/>
                <a:chOff x="3352680" y="0"/>
                <a:chExt cx="3809880" cy="1600200"/>
              </a:xfrm>
            </p:grpSpPr>
            <p:pic>
              <p:nvPicPr>
                <p:cNvPr id="99" name="Picture 3" descr="斑贝"/>
                <p:cNvPicPr/>
                <p:nvPr/>
              </p:nvPicPr>
              <p:blipFill>
                <a:blip r:embed="rId2"/>
                <a:srcRect l="0" t="0" r="0" b="456"/>
                <a:stretch/>
              </p:blipFill>
              <p:spPr>
                <a:xfrm>
                  <a:off x="3352680" y="0"/>
                  <a:ext cx="121572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" descr="天牛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68400" y="0"/>
                  <a:ext cx="137808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5" descr="红蚂蚁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65480" y="0"/>
                  <a:ext cx="129708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2" name="Picture 6" descr="蛇1"/>
              <p:cNvPicPr/>
              <p:nvPr/>
            </p:nvPicPr>
            <p:blipFill>
              <a:blip r:embed="rId5"/>
              <a:stretch/>
            </p:blipFill>
            <p:spPr>
              <a:xfrm>
                <a:off x="7162920" y="0"/>
                <a:ext cx="198108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Text Box 27"/>
            <p:cNvSpPr/>
            <p:nvPr/>
          </p:nvSpPr>
          <p:spPr>
            <a:xfrm>
              <a:off x="3505320" y="1676520"/>
              <a:ext cx="4647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介绍“生物入侵者”给人类带来的危害和对生态环境的破坏作用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AutoShape 29"/>
          <p:cNvSpPr/>
          <p:nvPr/>
        </p:nvSpPr>
        <p:spPr>
          <a:xfrm>
            <a:off x="8001000" y="16765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2895480" y="320040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39"/>
          <p:cNvGrpSpPr/>
          <p:nvPr/>
        </p:nvGrpSpPr>
        <p:grpSpPr>
          <a:xfrm>
            <a:off x="4191120" y="2819520"/>
            <a:ext cx="4952520" cy="2409840"/>
            <a:chOff x="4191120" y="2819520"/>
            <a:chExt cx="4952520" cy="2409840"/>
          </a:xfrm>
        </p:grpSpPr>
        <p:grpSp>
          <p:nvGrpSpPr>
            <p:cNvPr id="107" name="Group 15"/>
            <p:cNvGrpSpPr/>
            <p:nvPr/>
          </p:nvGrpSpPr>
          <p:grpSpPr>
            <a:xfrm>
              <a:off x="4191120" y="2819520"/>
              <a:ext cx="4952520" cy="1523520"/>
              <a:chOff x="4191120" y="2819520"/>
              <a:chExt cx="4952520" cy="1523520"/>
            </a:xfrm>
          </p:grpSpPr>
          <p:pic>
            <p:nvPicPr>
              <p:cNvPr id="108" name="Picture 7" descr="蔬菜"/>
              <p:cNvPicPr/>
              <p:nvPr/>
            </p:nvPicPr>
            <p:blipFill>
              <a:blip r:embed="rId6"/>
              <a:stretch/>
            </p:blipFill>
            <p:spPr>
              <a:xfrm>
                <a:off x="7687080" y="2819520"/>
                <a:ext cx="1456560" cy="152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8" descr="食人鲳"/>
              <p:cNvPicPr/>
              <p:nvPr/>
            </p:nvPicPr>
            <p:blipFill>
              <a:blip r:embed="rId7"/>
              <a:stretch/>
            </p:blipFill>
            <p:spPr>
              <a:xfrm>
                <a:off x="4191120" y="2819520"/>
                <a:ext cx="1780560" cy="14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9" descr="蜥蜴3"/>
              <p:cNvPicPr/>
              <p:nvPr/>
            </p:nvPicPr>
            <p:blipFill>
              <a:blip r:embed="rId8"/>
              <a:stretch/>
            </p:blipFill>
            <p:spPr>
              <a:xfrm>
                <a:off x="5938920" y="2819520"/>
                <a:ext cx="1731960" cy="150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 Box 31"/>
            <p:cNvSpPr/>
            <p:nvPr/>
          </p:nvSpPr>
          <p:spPr>
            <a:xfrm>
              <a:off x="5029200" y="4343400"/>
              <a:ext cx="3429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生物入侵者”入侵的途径和增多的原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41"/>
          <p:cNvGrpSpPr/>
          <p:nvPr/>
        </p:nvGrpSpPr>
        <p:grpSpPr>
          <a:xfrm>
            <a:off x="0" y="2743200"/>
            <a:ext cx="2911320" cy="2409840"/>
            <a:chOff x="0" y="2743200"/>
            <a:chExt cx="2911320" cy="2409840"/>
          </a:xfrm>
        </p:grpSpPr>
        <p:grpSp>
          <p:nvGrpSpPr>
            <p:cNvPr id="113" name="Group 13"/>
            <p:cNvGrpSpPr/>
            <p:nvPr/>
          </p:nvGrpSpPr>
          <p:grpSpPr>
            <a:xfrm>
              <a:off x="0" y="2743200"/>
              <a:ext cx="2894760" cy="1447560"/>
              <a:chOff x="0" y="2743200"/>
              <a:chExt cx="2894760" cy="1447560"/>
            </a:xfrm>
          </p:grpSpPr>
          <p:pic>
            <p:nvPicPr>
              <p:cNvPr id="114" name="Picture 11" descr="人物4"/>
              <p:cNvPicPr/>
              <p:nvPr/>
            </p:nvPicPr>
            <p:blipFill>
              <a:blip r:embed="rId9"/>
              <a:srcRect l="51440" t="54886" r="0" b="0"/>
              <a:stretch/>
            </p:blipFill>
            <p:spPr>
              <a:xfrm>
                <a:off x="1302480" y="2743200"/>
                <a:ext cx="1592280" cy="144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2" descr="人物4"/>
              <p:cNvPicPr/>
              <p:nvPr/>
            </p:nvPicPr>
            <p:blipFill>
              <a:blip r:embed="rId10"/>
              <a:srcRect l="0" t="0" r="54320" b="67824"/>
              <a:stretch/>
            </p:blipFill>
            <p:spPr>
              <a:xfrm>
                <a:off x="0" y="2743200"/>
                <a:ext cx="1302480" cy="144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Text Box 33"/>
            <p:cNvSpPr/>
            <p:nvPr/>
          </p:nvSpPr>
          <p:spPr>
            <a:xfrm>
              <a:off x="0" y="4267080"/>
              <a:ext cx="2911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生物学和生态学界的两种不同态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AutoShape 34"/>
          <p:cNvSpPr/>
          <p:nvPr/>
        </p:nvSpPr>
        <p:spPr>
          <a:xfrm rot="5400000">
            <a:off x="342360" y="5600520"/>
            <a:ext cx="9907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1295280" y="5638680"/>
            <a:ext cx="2667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世界各国都在采取相应的措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6021360" y="556272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逻辑顺序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755640" y="638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本文主要运用了哪些说明方法？找出来并说说它们的表达效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5280" y="213372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00000" y="3860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987640" y="38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举例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64000" y="38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2004651936566241"/>
          <p:cNvPicPr/>
          <p:nvPr/>
        </p:nvPicPr>
        <p:blipFill>
          <a:blip r:embed="rId1"/>
          <a:stretch/>
        </p:blipFill>
        <p:spPr>
          <a:xfrm>
            <a:off x="0" y="0"/>
            <a:ext cx="4211640" cy="62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2004651936566241"/>
          <p:cNvPicPr/>
          <p:nvPr/>
        </p:nvPicPr>
        <p:blipFill>
          <a:blip r:embed="rId2"/>
          <a:stretch/>
        </p:blipFill>
        <p:spPr>
          <a:xfrm>
            <a:off x="2556000" y="0"/>
            <a:ext cx="3960720" cy="620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004651936566241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620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4651936566241"/>
          <p:cNvPicPr/>
          <p:nvPr/>
        </p:nvPicPr>
        <p:blipFill>
          <a:blip r:embed="rId4"/>
          <a:stretch/>
        </p:blipFill>
        <p:spPr>
          <a:xfrm>
            <a:off x="5219640" y="6237360"/>
            <a:ext cx="3924360" cy="62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004651936566241"/>
          <p:cNvPicPr/>
          <p:nvPr/>
        </p:nvPicPr>
        <p:blipFill>
          <a:blip r:embed="rId5"/>
          <a:stretch/>
        </p:blipFill>
        <p:spPr>
          <a:xfrm>
            <a:off x="287280" y="6237360"/>
            <a:ext cx="3924360" cy="620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395280" y="549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打比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生物入侵者”这个概念本身就具有比喻意义，它告诉人们这一类“入侵者”的行为，会给人类与自然带来危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29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把登陆北美的欧洲斑贝比成“偷渡者”，它们在不知不觉中登上北美大陆，并悄悄给人类造成危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打比方使说明更形象、更生动、更能吸引读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4:2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01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