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png" ContentType="image/png"/>
  <Override PartName="/ppt/media/image14.jpeg" ContentType="image/jpeg"/>
  <Override PartName="/ppt/media/image1.gif" ContentType="image/gif"/>
  <Override PartName="/ppt/media/image10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6CA-37ED-491B-9A1A-56930A39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27A-33CF-4728-89C0-5DC2AA27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6E2-402D-4140-877E-A3621D8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C5B-EE49-4D8F-9E8F-717AB8F9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96E-3254-42C2-84D4-CB046409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D64-B458-4908-80B8-751139E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9BB-6723-4662-9942-274424F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508-EFC9-4B1B-9A8F-C0C579B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08C-CD12-4642-AC27-2864F10C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1D0-8DDE-4844-B091-931E5E2F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509-E063-4E62-AEF0-48166768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D7-E8E1-4EAA-9326-AAD913C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F31-E277-465D-8C89-F307E6381E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3lian.com/img2009/02/06/179.gif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3lian.com/img2009/02/06/183.gif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3lian.com/sucai2/img18/167/044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3lian.com/img2009/04/19/2004730162641676.gi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jpeg"/><Relationship Id="rId3" Type="http://schemas.openxmlformats.org/officeDocument/2006/relationships/hyperlink" Target="http://www.3lian.com/img2008/15/10/card0242.jpg" TargetMode="External"/><Relationship Id="rId4" Type="http://schemas.openxmlformats.org/officeDocument/2006/relationships/image" Target="../media/image9.jpeg"/><Relationship Id="rId5" Type="http://schemas.openxmlformats.org/officeDocument/2006/relationships/slide" Target="slide5.xml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3lian.com/img2008/08/001/pic0026.gif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3lian.com/sucai2/img18/167/044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3lian.com/sucai2/img18/167/044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03240"/>
            <a:ext cx="8136000" cy="4362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1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55840" y="4822920"/>
            <a:ext cx="6049800" cy="1512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143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数学广角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53960" y="6335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47628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pic_76508"/>
          <p:cNvPicPr/>
          <p:nvPr/>
        </p:nvPicPr>
        <p:blipFill>
          <a:blip r:embed="rId3"/>
          <a:srcRect l="12739" t="41066" r="12460" b="35136"/>
          <a:stretch/>
        </p:blipFill>
        <p:spPr>
          <a:xfrm>
            <a:off x="826920" y="1916280"/>
            <a:ext cx="7345440" cy="4086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4"/>
          <p:cNvSpPr/>
          <p:nvPr/>
        </p:nvSpPr>
        <p:spPr>
          <a:xfrm rot="18969000">
            <a:off x="1287360" y="4120920"/>
            <a:ext cx="1009800" cy="315720"/>
          </a:xfrm>
          <a:prstGeom prst="parallelogram">
            <a:avLst>
              <a:gd name="adj" fmla="val 7996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 rot="18682200">
            <a:off x="1319400" y="377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猴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2063880" y="2997360"/>
            <a:ext cx="4187520" cy="2712960"/>
            <a:chOff x="2063880" y="2997360"/>
            <a:chExt cx="4187520" cy="2712960"/>
          </a:xfrm>
        </p:grpSpPr>
        <p:sp>
          <p:nvSpPr>
            <p:cNvPr id="173" name="Freeform 7"/>
            <p:cNvSpPr/>
            <p:nvPr/>
          </p:nvSpPr>
          <p:spPr>
            <a:xfrm>
              <a:off x="2340000" y="2997360"/>
              <a:ext cx="3672000" cy="1163520"/>
            </a:xfrm>
            <a:custGeom>
              <a:avLst/>
              <a:gdLst/>
              <a:ahLst/>
              <a:rect l="l" t="t" r="r" b="b"/>
              <a:pathLst>
                <a:path w="2313" h="778">
                  <a:moveTo>
                    <a:pt x="0" y="778"/>
                  </a:moveTo>
                  <a:cubicBezTo>
                    <a:pt x="109" y="570"/>
                    <a:pt x="219" y="363"/>
                    <a:pt x="363" y="234"/>
                  </a:cubicBezTo>
                  <a:cubicBezTo>
                    <a:pt x="507" y="105"/>
                    <a:pt x="711" y="14"/>
                    <a:pt x="862" y="7"/>
                  </a:cubicBezTo>
                  <a:cubicBezTo>
                    <a:pt x="1013" y="0"/>
                    <a:pt x="1142" y="136"/>
                    <a:pt x="1270" y="189"/>
                  </a:cubicBezTo>
                  <a:cubicBezTo>
                    <a:pt x="1398" y="242"/>
                    <a:pt x="1459" y="348"/>
                    <a:pt x="1633" y="325"/>
                  </a:cubicBezTo>
                  <a:cubicBezTo>
                    <a:pt x="1807" y="302"/>
                    <a:pt x="2200" y="98"/>
                    <a:pt x="2313" y="5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2268360" y="3224160"/>
              <a:ext cx="3743640" cy="1441440"/>
            </a:xfrm>
            <a:custGeom>
              <a:avLst/>
              <a:gdLst/>
              <a:ahLst/>
              <a:rect l="l" t="t" r="r" b="b"/>
              <a:pathLst>
                <a:path w="2177" h="855">
                  <a:moveTo>
                    <a:pt x="0" y="726"/>
                  </a:moveTo>
                  <a:cubicBezTo>
                    <a:pt x="321" y="790"/>
                    <a:pt x="642" y="855"/>
                    <a:pt x="952" y="817"/>
                  </a:cubicBezTo>
                  <a:cubicBezTo>
                    <a:pt x="1262" y="779"/>
                    <a:pt x="1656" y="635"/>
                    <a:pt x="1860" y="499"/>
                  </a:cubicBezTo>
                  <a:cubicBezTo>
                    <a:pt x="2064" y="363"/>
                    <a:pt x="2117" y="91"/>
                    <a:pt x="2177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2063880" y="3152880"/>
              <a:ext cx="4187520" cy="2557440"/>
            </a:xfrm>
            <a:custGeom>
              <a:avLst/>
              <a:gdLst/>
              <a:ahLst/>
              <a:rect l="l" t="t" r="r" b="b"/>
              <a:pathLst>
                <a:path w="2638" h="1611">
                  <a:moveTo>
                    <a:pt x="38" y="816"/>
                  </a:moveTo>
                  <a:cubicBezTo>
                    <a:pt x="19" y="1099"/>
                    <a:pt x="0" y="1383"/>
                    <a:pt x="265" y="1497"/>
                  </a:cubicBezTo>
                  <a:cubicBezTo>
                    <a:pt x="530" y="1611"/>
                    <a:pt x="1255" y="1588"/>
                    <a:pt x="1625" y="1497"/>
                  </a:cubicBezTo>
                  <a:cubicBezTo>
                    <a:pt x="1995" y="1406"/>
                    <a:pt x="2336" y="1202"/>
                    <a:pt x="2487" y="953"/>
                  </a:cubicBezTo>
                  <a:cubicBezTo>
                    <a:pt x="2638" y="704"/>
                    <a:pt x="2525" y="159"/>
                    <a:pt x="2533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0"/>
          <p:cNvGrpSpPr/>
          <p:nvPr/>
        </p:nvGrpSpPr>
        <p:grpSpPr>
          <a:xfrm>
            <a:off x="6084720" y="2311560"/>
            <a:ext cx="1884600" cy="2989080"/>
            <a:chOff x="6084720" y="2311560"/>
            <a:chExt cx="1884600" cy="2989080"/>
          </a:xfrm>
        </p:grpSpPr>
        <p:sp>
          <p:nvSpPr>
            <p:cNvPr id="177" name="Freeform 11"/>
            <p:cNvSpPr/>
            <p:nvPr/>
          </p:nvSpPr>
          <p:spPr>
            <a:xfrm>
              <a:off x="6119640" y="3211560"/>
              <a:ext cx="1355760" cy="2089080"/>
            </a:xfrm>
            <a:custGeom>
              <a:avLst/>
              <a:gdLst/>
              <a:ahLst/>
              <a:rect l="l" t="t" r="r" b="b"/>
              <a:pathLst>
                <a:path w="854" h="1316">
                  <a:moveTo>
                    <a:pt x="68" y="0"/>
                  </a:moveTo>
                  <a:cubicBezTo>
                    <a:pt x="45" y="200"/>
                    <a:pt x="23" y="401"/>
                    <a:pt x="23" y="590"/>
                  </a:cubicBezTo>
                  <a:cubicBezTo>
                    <a:pt x="23" y="779"/>
                    <a:pt x="0" y="1013"/>
                    <a:pt x="68" y="1134"/>
                  </a:cubicBezTo>
                  <a:cubicBezTo>
                    <a:pt x="136" y="1255"/>
                    <a:pt x="310" y="1316"/>
                    <a:pt x="431" y="1316"/>
                  </a:cubicBezTo>
                  <a:cubicBezTo>
                    <a:pt x="552" y="1316"/>
                    <a:pt x="734" y="1194"/>
                    <a:pt x="794" y="1134"/>
                  </a:cubicBezTo>
                  <a:cubicBezTo>
                    <a:pt x="854" y="1074"/>
                    <a:pt x="794" y="983"/>
                    <a:pt x="794" y="95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6084720" y="2311560"/>
              <a:ext cx="1884600" cy="1332000"/>
            </a:xfrm>
            <a:custGeom>
              <a:avLst/>
              <a:gdLst/>
              <a:ahLst/>
              <a:rect l="l" t="t" r="r" b="b"/>
              <a:pathLst>
                <a:path w="1187" h="839">
                  <a:moveTo>
                    <a:pt x="952" y="839"/>
                  </a:moveTo>
                  <a:cubicBezTo>
                    <a:pt x="1069" y="658"/>
                    <a:pt x="1187" y="477"/>
                    <a:pt x="1134" y="341"/>
                  </a:cubicBezTo>
                  <a:cubicBezTo>
                    <a:pt x="1081" y="205"/>
                    <a:pt x="824" y="0"/>
                    <a:pt x="635" y="23"/>
                  </a:cubicBezTo>
                  <a:cubicBezTo>
                    <a:pt x="446" y="46"/>
                    <a:pt x="98" y="401"/>
                    <a:pt x="0" y="477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AutoShape 13"/>
          <p:cNvSpPr/>
          <p:nvPr/>
        </p:nvSpPr>
        <p:spPr>
          <a:xfrm>
            <a:off x="826920" y="476280"/>
            <a:ext cx="5400720" cy="1224000"/>
          </a:xfrm>
          <a:prstGeom prst="wedgeEllipseCallout">
            <a:avLst>
              <a:gd name="adj1" fmla="val 53115"/>
              <a:gd name="adj2" fmla="val -22763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猴山经过百鸟园到数学乐园一共有几条路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453440" y="3357720"/>
            <a:ext cx="1079280" cy="1223640"/>
          </a:xfrm>
          <a:custGeom>
            <a:avLst/>
            <a:gdLst/>
            <a:ahLst/>
            <a:rect l="l" t="t" r="r" b="b"/>
            <a:pathLst>
              <a:path w="467" h="474">
                <a:moveTo>
                  <a:pt x="0" y="474"/>
                </a:moveTo>
                <a:cubicBezTo>
                  <a:pt x="13" y="461"/>
                  <a:pt x="28" y="450"/>
                  <a:pt x="39" y="435"/>
                </a:cubicBezTo>
                <a:cubicBezTo>
                  <a:pt x="58" y="410"/>
                  <a:pt x="91" y="356"/>
                  <a:pt x="91" y="356"/>
                </a:cubicBezTo>
                <a:cubicBezTo>
                  <a:pt x="115" y="267"/>
                  <a:pt x="131" y="187"/>
                  <a:pt x="196" y="120"/>
                </a:cubicBezTo>
                <a:cubicBezTo>
                  <a:pt x="215" y="63"/>
                  <a:pt x="216" y="48"/>
                  <a:pt x="275" y="29"/>
                </a:cubicBezTo>
                <a:cubicBezTo>
                  <a:pt x="288" y="20"/>
                  <a:pt x="298" y="5"/>
                  <a:pt x="314" y="3"/>
                </a:cubicBezTo>
                <a:cubicBezTo>
                  <a:pt x="336" y="0"/>
                  <a:pt x="379" y="16"/>
                  <a:pt x="379" y="16"/>
                </a:cubicBezTo>
                <a:lnTo>
                  <a:pt x="467" y="52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5"/>
          <p:cNvSpPr/>
          <p:nvPr/>
        </p:nvSpPr>
        <p:spPr>
          <a:xfrm>
            <a:off x="7451640" y="3500280"/>
            <a:ext cx="1008000" cy="1481400"/>
          </a:xfrm>
          <a:custGeom>
            <a:avLst/>
            <a:gdLst/>
            <a:ahLst/>
            <a:rect l="l" t="t" r="r" b="b"/>
            <a:pathLst>
              <a:path w="423" h="615">
                <a:moveTo>
                  <a:pt x="423" y="0"/>
                </a:moveTo>
                <a:cubicBezTo>
                  <a:pt x="374" y="146"/>
                  <a:pt x="329" y="295"/>
                  <a:pt x="292" y="445"/>
                </a:cubicBezTo>
                <a:cubicBezTo>
                  <a:pt x="288" y="489"/>
                  <a:pt x="296" y="536"/>
                  <a:pt x="279" y="576"/>
                </a:cubicBezTo>
                <a:cubicBezTo>
                  <a:pt x="273" y="591"/>
                  <a:pt x="268" y="542"/>
                  <a:pt x="253" y="536"/>
                </a:cubicBezTo>
                <a:cubicBezTo>
                  <a:pt x="240" y="531"/>
                  <a:pt x="227" y="545"/>
                  <a:pt x="214" y="549"/>
                </a:cubicBezTo>
                <a:cubicBezTo>
                  <a:pt x="201" y="558"/>
                  <a:pt x="184" y="563"/>
                  <a:pt x="174" y="576"/>
                </a:cubicBezTo>
                <a:cubicBezTo>
                  <a:pt x="165" y="587"/>
                  <a:pt x="175" y="615"/>
                  <a:pt x="161" y="615"/>
                </a:cubicBezTo>
                <a:cubicBezTo>
                  <a:pt x="147" y="615"/>
                  <a:pt x="155" y="588"/>
                  <a:pt x="148" y="576"/>
                </a:cubicBezTo>
                <a:cubicBezTo>
                  <a:pt x="142" y="565"/>
                  <a:pt x="131" y="558"/>
                  <a:pt x="122" y="549"/>
                </a:cubicBezTo>
                <a:cubicBezTo>
                  <a:pt x="113" y="523"/>
                  <a:pt x="105" y="497"/>
                  <a:pt x="96" y="471"/>
                </a:cubicBezTo>
                <a:cubicBezTo>
                  <a:pt x="92" y="458"/>
                  <a:pt x="83" y="432"/>
                  <a:pt x="83" y="432"/>
                </a:cubicBezTo>
                <a:cubicBezTo>
                  <a:pt x="0" y="446"/>
                  <a:pt x="4" y="418"/>
                  <a:pt x="4" y="458"/>
                </a:cubicBez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 rot="1419600">
            <a:off x="7451640" y="3439440"/>
            <a:ext cx="790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数学乐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3203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2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9">
            <a:hlinkClick r:id="rId4" action="ppaction://hlinksldjump"/>
          </p:cNvPr>
          <p:cNvSpPr/>
          <p:nvPr/>
        </p:nvSpPr>
        <p:spPr>
          <a:xfrm>
            <a:off x="716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0">
            <a:hlinkClick r:id="rId5" action="ppaction://hlinksldjump"/>
          </p:cNvPr>
          <p:cNvSpPr/>
          <p:nvPr/>
        </p:nvSpPr>
        <p:spPr>
          <a:xfrm>
            <a:off x="7740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1"/>
          <p:cNvPicPr/>
          <p:nvPr/>
        </p:nvPicPr>
        <p:blipFill>
          <a:blip r:embed="rId1"/>
          <a:srcRect l="11506" t="11658" r="16093" b="19124"/>
          <a:stretch/>
        </p:blipFill>
        <p:spPr>
          <a:xfrm>
            <a:off x="971640" y="620640"/>
            <a:ext cx="7273800" cy="51847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1"/>
          <p:cNvSpPr/>
          <p:nvPr/>
        </p:nvSpPr>
        <p:spPr>
          <a:xfrm>
            <a:off x="3780000" y="404640"/>
            <a:ext cx="4679640" cy="1584360"/>
          </a:xfrm>
          <a:prstGeom prst="cloudCallout">
            <a:avLst>
              <a:gd name="adj1" fmla="val 6106"/>
              <a:gd name="adj2" fmla="val 28254"/>
            </a:avLst>
          </a:prstGeom>
          <a:solidFill>
            <a:srgbClr val="ffffcc"/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43280" y="692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小动物单独和圣诞老人、聪聪、明明各拍一张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773440" y="59500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张胶卷够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3">
            <a:hlinkClick r:id="rId2" action="ppaction://hlinksldjump"/>
          </p:cNvPr>
          <p:cNvSpPr/>
          <p:nvPr/>
        </p:nvSpPr>
        <p:spPr>
          <a:xfrm>
            <a:off x="6877080" y="6237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877080" y="6140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6">
            <a:hlinkClick r:id="rId3" action="ppaction://hlinksldjump"/>
          </p:cNvPr>
          <p:cNvSpPr/>
          <p:nvPr/>
        </p:nvSpPr>
        <p:spPr>
          <a:xfrm>
            <a:off x="7453440" y="6237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451640" y="6140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8">
            <a:hlinkClick r:id="rId1" action="ppaction://hlinksldjump"/>
          </p:cNvPr>
          <p:cNvSpPr/>
          <p:nvPr/>
        </p:nvSpPr>
        <p:spPr>
          <a:xfrm>
            <a:off x="7453440" y="6237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1"/>
          <p:cNvPicPr/>
          <p:nvPr/>
        </p:nvPicPr>
        <p:blipFill>
          <a:blip r:embed="rId2"/>
          <a:srcRect l="11506" t="11658" r="16093" b="19124"/>
          <a:stretch/>
        </p:blipFill>
        <p:spPr>
          <a:xfrm>
            <a:off x="971640" y="620640"/>
            <a:ext cx="7273800" cy="51847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3"/>
          <p:cNvSpPr/>
          <p:nvPr/>
        </p:nvSpPr>
        <p:spPr>
          <a:xfrm>
            <a:off x="3780000" y="404640"/>
            <a:ext cx="4679640" cy="1584360"/>
          </a:xfrm>
          <a:prstGeom prst="cloudCallout">
            <a:avLst>
              <a:gd name="adj1" fmla="val 6106"/>
              <a:gd name="adj2" fmla="val 28254"/>
            </a:avLst>
          </a:prstGeom>
          <a:solidFill>
            <a:srgbClr val="ffffcc"/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643280" y="692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小动物单独和圣诞老人、聪聪、明明各拍一张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203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3=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7451640" y="6140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9">
            <a:hlinkClick r:id="rId3" action="ppaction://hlinksldjump"/>
          </p:cNvPr>
          <p:cNvSpPr/>
          <p:nvPr/>
        </p:nvSpPr>
        <p:spPr>
          <a:xfrm>
            <a:off x="8029440" y="6237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"/>
          <p:cNvPicPr/>
          <p:nvPr/>
        </p:nvPicPr>
        <p:blipFill>
          <a:blip r:embed="rId1"/>
          <a:srcRect l="11506" t="11658" r="16093" b="19124"/>
          <a:stretch/>
        </p:blipFill>
        <p:spPr>
          <a:xfrm>
            <a:off x="971640" y="620640"/>
            <a:ext cx="7273800" cy="51847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3780000" y="404640"/>
            <a:ext cx="4679640" cy="1584360"/>
          </a:xfrm>
          <a:prstGeom prst="cloudCallout">
            <a:avLst>
              <a:gd name="adj1" fmla="val 6106"/>
              <a:gd name="adj2" fmla="val 28254"/>
            </a:avLst>
          </a:prstGeom>
          <a:solidFill>
            <a:srgbClr val="ffffcc"/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43280" y="692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小动物单独和圣诞老人、聪聪、明明各拍一张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916360" y="58770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4=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7">
            <a:hlinkClick r:id="rId2" action="ppaction://hlinksldjump"/>
          </p:cNvPr>
          <p:cNvSpPr/>
          <p:nvPr/>
        </p:nvSpPr>
        <p:spPr>
          <a:xfrm>
            <a:off x="7451640" y="6237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8">
            <a:hlinkClick r:id="rId3" action="ppaction://hlinksldjump"/>
          </p:cNvPr>
          <p:cNvSpPr/>
          <p:nvPr/>
        </p:nvSpPr>
        <p:spPr>
          <a:xfrm>
            <a:off x="6877080" y="6237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877080" y="6140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1"/>
          <p:cNvSpPr/>
          <p:nvPr/>
        </p:nvSpPr>
        <p:spPr>
          <a:xfrm>
            <a:off x="826920" y="335772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45"/>
          <p:cNvGrpSpPr/>
          <p:nvPr/>
        </p:nvGrpSpPr>
        <p:grpSpPr>
          <a:xfrm>
            <a:off x="7451640" y="2492280"/>
            <a:ext cx="1692360" cy="1208520"/>
            <a:chOff x="7451640" y="2492280"/>
            <a:chExt cx="1692360" cy="1208520"/>
          </a:xfrm>
        </p:grpSpPr>
        <p:sp>
          <p:nvSpPr>
            <p:cNvPr id="210" name="AutoShape 10"/>
            <p:cNvSpPr/>
            <p:nvPr/>
          </p:nvSpPr>
          <p:spPr>
            <a:xfrm>
              <a:off x="7740720" y="2492280"/>
              <a:ext cx="576360" cy="64944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67480 h 649440"/>
                <a:gd name="textAreaBottom" fmla="*/ 38196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7451640" y="2997360"/>
              <a:ext cx="16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隶书"/>
                </a:rPr>
                <a:t>北京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43"/>
          <p:cNvGrpSpPr/>
          <p:nvPr/>
        </p:nvGrpSpPr>
        <p:grpSpPr>
          <a:xfrm>
            <a:off x="684360" y="2492280"/>
            <a:ext cx="5832360" cy="1154520"/>
            <a:chOff x="684360" y="2492280"/>
            <a:chExt cx="5832360" cy="1154520"/>
          </a:xfrm>
        </p:grpSpPr>
        <p:sp>
          <p:nvSpPr>
            <p:cNvPr id="213" name="AutoShape 8"/>
            <p:cNvSpPr/>
            <p:nvPr/>
          </p:nvSpPr>
          <p:spPr>
            <a:xfrm>
              <a:off x="1042920" y="2492280"/>
              <a:ext cx="576360" cy="64944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67480 h 649440"/>
                <a:gd name="textAreaBottom" fmla="*/ 38196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>
              <a:off x="3564000" y="2492280"/>
              <a:ext cx="576360" cy="64944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67480 h 649440"/>
                <a:gd name="textAreaBottom" fmla="*/ 38196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684360" y="2943360"/>
              <a:ext cx="122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隶书"/>
                </a:rPr>
                <a:t>宁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3348000" y="2924280"/>
              <a:ext cx="316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隶书"/>
                </a:rPr>
                <a:t>上海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4"/>
          <p:cNvGrpSpPr/>
          <p:nvPr/>
        </p:nvGrpSpPr>
        <p:grpSpPr>
          <a:xfrm>
            <a:off x="1656720" y="1628640"/>
            <a:ext cx="1943640" cy="1799640"/>
            <a:chOff x="1656720" y="1628640"/>
            <a:chExt cx="1943640" cy="1799640"/>
          </a:xfrm>
        </p:grpSpPr>
        <p:sp>
          <p:nvSpPr>
            <p:cNvPr id="218" name="Arc 18"/>
            <p:cNvSpPr/>
            <p:nvPr/>
          </p:nvSpPr>
          <p:spPr>
            <a:xfrm flipV="1" rot="15250200">
              <a:off x="2111040" y="1830960"/>
              <a:ext cx="1034280" cy="1726920"/>
            </a:xfrm>
            <a:custGeom>
              <a:avLst/>
              <a:gdLst/>
              <a:ahLst/>
              <a:rect l="l" t="t" r="r" b="b"/>
              <a:pathLst>
                <a:path fill="none" w="21600" h="34434">
                  <a:moveTo>
                    <a:pt x="7227" y="0"/>
                  </a:moveTo>
                  <a:cubicBezTo>
                    <a:pt x="15843" y="3059"/>
                    <a:pt x="21600" y="11212"/>
                    <a:pt x="21600" y="20355"/>
                  </a:cubicBezTo>
                  <a:cubicBezTo>
                    <a:pt x="21600" y="25520"/>
                    <a:pt x="19748" y="30515"/>
                    <a:pt x="16381" y="34433"/>
                  </a:cubicBezTo>
                </a:path>
                <a:path stroke="0" w="21600" h="34434">
                  <a:moveTo>
                    <a:pt x="7227" y="0"/>
                  </a:moveTo>
                  <a:cubicBezTo>
                    <a:pt x="15843" y="3059"/>
                    <a:pt x="21600" y="11212"/>
                    <a:pt x="21600" y="20355"/>
                  </a:cubicBezTo>
                  <a:cubicBezTo>
                    <a:pt x="21600" y="25520"/>
                    <a:pt x="19748" y="30515"/>
                    <a:pt x="16381" y="34433"/>
                  </a:cubicBezTo>
                  <a:lnTo>
                    <a:pt x="0" y="20355"/>
                  </a:lnTo>
                  <a:lnTo>
                    <a:pt x="7227" y="0"/>
                  </a:lnTo>
                  <a:close/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2197080" y="1628640"/>
              <a:ext cx="108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轮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1692360" y="2565360"/>
            <a:ext cx="1800000" cy="520560"/>
            <a:chOff x="1692360" y="2565360"/>
            <a:chExt cx="1800000" cy="520560"/>
          </a:xfrm>
        </p:grpSpPr>
        <p:sp>
          <p:nvSpPr>
            <p:cNvPr id="221" name="Line 20"/>
            <p:cNvSpPr/>
            <p:nvPr/>
          </p:nvSpPr>
          <p:spPr>
            <a:xfrm>
              <a:off x="1692360" y="2852640"/>
              <a:ext cx="1800000" cy="0"/>
            </a:xfrm>
            <a:prstGeom prst="line">
              <a:avLst/>
            </a:prstGeom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2195640" y="2565360"/>
              <a:ext cx="9363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火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1655640" y="2395440"/>
            <a:ext cx="1943280" cy="1841760"/>
            <a:chOff x="1655640" y="2395440"/>
            <a:chExt cx="1943280" cy="1841760"/>
          </a:xfrm>
        </p:grpSpPr>
        <p:sp>
          <p:nvSpPr>
            <p:cNvPr id="224" name="Arc 22"/>
            <p:cNvSpPr/>
            <p:nvPr/>
          </p:nvSpPr>
          <p:spPr>
            <a:xfrm flipH="1" rot="15250200">
              <a:off x="2111040" y="2263680"/>
              <a:ext cx="1032120" cy="1727280"/>
            </a:xfrm>
            <a:custGeom>
              <a:avLst/>
              <a:gdLst/>
              <a:ahLst/>
              <a:rect l="l" t="t" r="r" b="b"/>
              <a:pathLst>
                <a:path fill="none" w="21600" h="34434">
                  <a:moveTo>
                    <a:pt x="7227" y="0"/>
                  </a:moveTo>
                  <a:cubicBezTo>
                    <a:pt x="15843" y="3059"/>
                    <a:pt x="21600" y="11212"/>
                    <a:pt x="21600" y="20355"/>
                  </a:cubicBezTo>
                  <a:cubicBezTo>
                    <a:pt x="21600" y="25520"/>
                    <a:pt x="19748" y="30515"/>
                    <a:pt x="16381" y="34433"/>
                  </a:cubicBezTo>
                </a:path>
                <a:path stroke="0" w="21600" h="34434">
                  <a:moveTo>
                    <a:pt x="7227" y="0"/>
                  </a:moveTo>
                  <a:cubicBezTo>
                    <a:pt x="15843" y="3059"/>
                    <a:pt x="21600" y="11212"/>
                    <a:pt x="21600" y="20355"/>
                  </a:cubicBezTo>
                  <a:cubicBezTo>
                    <a:pt x="21600" y="25520"/>
                    <a:pt x="19748" y="30515"/>
                    <a:pt x="16381" y="34433"/>
                  </a:cubicBezTo>
                  <a:lnTo>
                    <a:pt x="0" y="20355"/>
                  </a:lnTo>
                  <a:lnTo>
                    <a:pt x="7227" y="0"/>
                  </a:lnTo>
                  <a:close/>
                </a:path>
              </a:pathLst>
            </a:custGeom>
            <a:noFill/>
            <a:ln w="57240">
              <a:solidFill>
                <a:srgbClr val="33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2197080" y="37166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汽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46"/>
          <p:cNvGrpSpPr/>
          <p:nvPr/>
        </p:nvGrpSpPr>
        <p:grpSpPr>
          <a:xfrm>
            <a:off x="4211640" y="1685880"/>
            <a:ext cx="3565440" cy="1022040"/>
            <a:chOff x="4211640" y="1685880"/>
            <a:chExt cx="3565440" cy="1022040"/>
          </a:xfrm>
        </p:grpSpPr>
        <p:sp>
          <p:nvSpPr>
            <p:cNvPr id="227" name="Text Box 32"/>
            <p:cNvSpPr/>
            <p:nvPr/>
          </p:nvSpPr>
          <p:spPr>
            <a:xfrm>
              <a:off x="5437080" y="168588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飞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rc 34"/>
            <p:cNvSpPr/>
            <p:nvPr/>
          </p:nvSpPr>
          <p:spPr>
            <a:xfrm flipV="1" rot="16200000">
              <a:off x="5794920" y="725760"/>
              <a:ext cx="398880" cy="3565440"/>
            </a:xfrm>
            <a:custGeom>
              <a:avLst/>
              <a:gdLst/>
              <a:ahLst/>
              <a:rect l="l" t="t" r="r" b="b"/>
              <a:pathLst>
                <a:path fill="none" w="21600" h="4319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76"/>
                    <a:pt x="12166" y="42982"/>
                    <a:pt x="392" y="43196"/>
                  </a:cubicBezTo>
                </a:path>
                <a:path stroke="0" w="21600" h="4319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76"/>
                    <a:pt x="12166" y="42982"/>
                    <a:pt x="392" y="4319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47"/>
          <p:cNvGrpSpPr/>
          <p:nvPr/>
        </p:nvGrpSpPr>
        <p:grpSpPr>
          <a:xfrm>
            <a:off x="4175280" y="2924280"/>
            <a:ext cx="3565440" cy="1097280"/>
            <a:chOff x="4175280" y="2924280"/>
            <a:chExt cx="3565440" cy="1097280"/>
          </a:xfrm>
        </p:grpSpPr>
        <p:sp>
          <p:nvSpPr>
            <p:cNvPr id="230" name="Arc 36"/>
            <p:cNvSpPr/>
            <p:nvPr/>
          </p:nvSpPr>
          <p:spPr>
            <a:xfrm rot="5400000">
              <a:off x="5758920" y="1340280"/>
              <a:ext cx="397800" cy="3565440"/>
            </a:xfrm>
            <a:custGeom>
              <a:avLst/>
              <a:gdLst/>
              <a:ahLst/>
              <a:rect l="l" t="t" r="r" b="b"/>
              <a:pathLst>
                <a:path fill="none" w="21600" h="4319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76"/>
                    <a:pt x="12166" y="42982"/>
                    <a:pt x="392" y="43196"/>
                  </a:cubicBezTo>
                </a:path>
                <a:path stroke="0" w="21600" h="4319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76"/>
                    <a:pt x="12166" y="42982"/>
                    <a:pt x="392" y="4319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7"/>
            <p:cNvSpPr/>
            <p:nvPr/>
          </p:nvSpPr>
          <p:spPr>
            <a:xfrm>
              <a:off x="5508720" y="35010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火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48"/>
          <p:cNvGrpSpPr/>
          <p:nvPr/>
        </p:nvGrpSpPr>
        <p:grpSpPr>
          <a:xfrm>
            <a:off x="1258560" y="749160"/>
            <a:ext cx="6841800" cy="1815840"/>
            <a:chOff x="1258560" y="749160"/>
            <a:chExt cx="6841800" cy="1815840"/>
          </a:xfrm>
        </p:grpSpPr>
        <p:sp>
          <p:nvSpPr>
            <p:cNvPr id="233" name="Arc 38"/>
            <p:cNvSpPr/>
            <p:nvPr/>
          </p:nvSpPr>
          <p:spPr>
            <a:xfrm flipV="1" rot="16200000">
              <a:off x="4104000" y="-1431360"/>
              <a:ext cx="1150920" cy="6841800"/>
            </a:xfrm>
            <a:custGeom>
              <a:avLst/>
              <a:gdLst/>
              <a:ahLst/>
              <a:rect l="l" t="t" r="r" b="b"/>
              <a:pathLst>
                <a:path fill="none" w="21600" h="42308">
                  <a:moveTo>
                    <a:pt x="3720" y="-1"/>
                  </a:moveTo>
                  <a:cubicBezTo>
                    <a:pt x="14057" y="1807"/>
                    <a:pt x="21600" y="10782"/>
                    <a:pt x="21600" y="21277"/>
                  </a:cubicBezTo>
                  <a:cubicBezTo>
                    <a:pt x="21600" y="31309"/>
                    <a:pt x="14692" y="40021"/>
                    <a:pt x="4924" y="42308"/>
                  </a:cubicBezTo>
                </a:path>
                <a:path stroke="0" w="21600" h="42308">
                  <a:moveTo>
                    <a:pt x="3720" y="-1"/>
                  </a:moveTo>
                  <a:cubicBezTo>
                    <a:pt x="14057" y="1807"/>
                    <a:pt x="21600" y="10782"/>
                    <a:pt x="21600" y="21277"/>
                  </a:cubicBezTo>
                  <a:cubicBezTo>
                    <a:pt x="21600" y="31309"/>
                    <a:pt x="14692" y="40021"/>
                    <a:pt x="4924" y="42308"/>
                  </a:cubicBezTo>
                  <a:lnTo>
                    <a:pt x="0" y="21277"/>
                  </a:lnTo>
                  <a:lnTo>
                    <a:pt x="3720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40"/>
            <p:cNvSpPr/>
            <p:nvPr/>
          </p:nvSpPr>
          <p:spPr>
            <a:xfrm>
              <a:off x="3852720" y="7491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飞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49"/>
          <p:cNvGrpSpPr/>
          <p:nvPr/>
        </p:nvGrpSpPr>
        <p:grpSpPr>
          <a:xfrm>
            <a:off x="1258920" y="3500280"/>
            <a:ext cx="6626160" cy="1601640"/>
            <a:chOff x="1258920" y="3500280"/>
            <a:chExt cx="6626160" cy="1601640"/>
          </a:xfrm>
        </p:grpSpPr>
        <p:sp>
          <p:nvSpPr>
            <p:cNvPr id="236" name="Arc 39"/>
            <p:cNvSpPr/>
            <p:nvPr/>
          </p:nvSpPr>
          <p:spPr>
            <a:xfrm rot="5400000">
              <a:off x="4103640" y="655200"/>
              <a:ext cx="936720" cy="6626160"/>
            </a:xfrm>
            <a:custGeom>
              <a:avLst/>
              <a:gdLst/>
              <a:ahLst/>
              <a:rect l="l" t="t" r="r" b="b"/>
              <a:pathLst>
                <a:path fill="none" w="21600" h="42308">
                  <a:moveTo>
                    <a:pt x="3720" y="-1"/>
                  </a:moveTo>
                  <a:cubicBezTo>
                    <a:pt x="14057" y="1807"/>
                    <a:pt x="21600" y="10782"/>
                    <a:pt x="21600" y="21277"/>
                  </a:cubicBezTo>
                  <a:cubicBezTo>
                    <a:pt x="21600" y="31309"/>
                    <a:pt x="14692" y="40021"/>
                    <a:pt x="4924" y="42308"/>
                  </a:cubicBezTo>
                </a:path>
                <a:path stroke="0" w="21600" h="42308">
                  <a:moveTo>
                    <a:pt x="3720" y="-1"/>
                  </a:moveTo>
                  <a:cubicBezTo>
                    <a:pt x="14057" y="1807"/>
                    <a:pt x="21600" y="10782"/>
                    <a:pt x="21600" y="21277"/>
                  </a:cubicBezTo>
                  <a:cubicBezTo>
                    <a:pt x="21600" y="31309"/>
                    <a:pt x="14692" y="40021"/>
                    <a:pt x="4924" y="42308"/>
                  </a:cubicBezTo>
                  <a:lnTo>
                    <a:pt x="0" y="21277"/>
                  </a:lnTo>
                  <a:lnTo>
                    <a:pt x="3720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1"/>
            <p:cNvSpPr/>
            <p:nvPr/>
          </p:nvSpPr>
          <p:spPr>
            <a:xfrm>
              <a:off x="4211640" y="458136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火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2"/>
          <p:cNvSpPr/>
          <p:nvPr/>
        </p:nvSpPr>
        <p:spPr>
          <a:xfrm>
            <a:off x="1403280" y="5373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从宁波到北京一共有几种走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1" descr="santa"/>
          <p:cNvPicPr/>
          <p:nvPr/>
        </p:nvPicPr>
        <p:blipFill>
          <a:blip r:embed="rId1"/>
          <a:srcRect l="0" t="0" r="8373" b="0"/>
          <a:stretch/>
        </p:blipFill>
        <p:spPr>
          <a:xfrm>
            <a:off x="0" y="44280"/>
            <a:ext cx="1584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93E-B5C8-4BE2-878B-DD0EB1DFCA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3"/>
          <p:cNvSpPr/>
          <p:nvPr/>
        </p:nvSpPr>
        <p:spPr>
          <a:xfrm>
            <a:off x="1476360" y="525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31"/>
          <p:cNvGrpSpPr/>
          <p:nvPr/>
        </p:nvGrpSpPr>
        <p:grpSpPr>
          <a:xfrm>
            <a:off x="1258920" y="333360"/>
            <a:ext cx="4608360" cy="5040360"/>
            <a:chOff x="1258920" y="333360"/>
            <a:chExt cx="4608360" cy="5040360"/>
          </a:xfrm>
        </p:grpSpPr>
        <p:pic>
          <p:nvPicPr>
            <p:cNvPr id="47" name="Picture 27" descr="文件:2004730162641676.gif  &lt;br&gt;  尺寸:110 × 110  ">
              <a:hlinkClick r:id="rId1"/>
            </p:cNvPr>
            <p:cNvPicPr/>
            <p:nvPr/>
          </p:nvPicPr>
          <p:blipFill>
            <a:blip r:embed="rId2"/>
            <a:srcRect l="5533" t="4124" r="5533" b="0"/>
            <a:stretch/>
          </p:blipFill>
          <p:spPr>
            <a:xfrm>
              <a:off x="1258920" y="333360"/>
              <a:ext cx="460836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9" descr="pic_76505"/>
            <p:cNvPicPr/>
            <p:nvPr/>
          </p:nvPicPr>
          <p:blipFill>
            <a:blip r:embed="rId3"/>
            <a:srcRect l="25080" t="23086" r="22040" b="65709"/>
            <a:stretch/>
          </p:blipFill>
          <p:spPr>
            <a:xfrm>
              <a:off x="1979640" y="1341360"/>
              <a:ext cx="3095640" cy="30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AutoShape 32"/>
          <p:cNvSpPr/>
          <p:nvPr/>
        </p:nvSpPr>
        <p:spPr>
          <a:xfrm>
            <a:off x="8532720" y="645336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5"/>
          <p:cNvGrpSpPr/>
          <p:nvPr/>
        </p:nvGrpSpPr>
        <p:grpSpPr>
          <a:xfrm>
            <a:off x="6372360" y="2781360"/>
            <a:ext cx="2232000" cy="3743280"/>
            <a:chOff x="6372360" y="2781360"/>
            <a:chExt cx="2232000" cy="3743280"/>
          </a:xfrm>
        </p:grpSpPr>
        <p:grpSp>
          <p:nvGrpSpPr>
            <p:cNvPr id="51" name="Group 25"/>
            <p:cNvGrpSpPr/>
            <p:nvPr/>
          </p:nvGrpSpPr>
          <p:grpSpPr>
            <a:xfrm>
              <a:off x="6372360" y="2781360"/>
              <a:ext cx="2232000" cy="1297080"/>
              <a:chOff x="6372360" y="2781360"/>
              <a:chExt cx="2232000" cy="1297080"/>
            </a:xfrm>
          </p:grpSpPr>
          <p:sp>
            <p:nvSpPr>
              <p:cNvPr id="52" name="AutoShape 22"/>
              <p:cNvSpPr/>
              <p:nvPr/>
            </p:nvSpPr>
            <p:spPr>
              <a:xfrm>
                <a:off x="6372360" y="2781360"/>
                <a:ext cx="2232000" cy="1297080"/>
              </a:xfrm>
              <a:prstGeom prst="wedgeEllipseCallout">
                <a:avLst>
                  <a:gd name="adj1" fmla="val 2916"/>
                  <a:gd name="adj2" fmla="val 71787"/>
                </a:avLst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24"/>
              <p:cNvSpPr/>
              <p:nvPr/>
            </p:nvSpPr>
            <p:spPr>
              <a:xfrm>
                <a:off x="6659640" y="2997360"/>
                <a:ext cx="1727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我该穿什么衣服去呢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34" descr="兔子1"/>
            <p:cNvPicPr/>
            <p:nvPr/>
          </p:nvPicPr>
          <p:blipFill>
            <a:blip r:embed="rId4"/>
            <a:stretch/>
          </p:blipFill>
          <p:spPr>
            <a:xfrm>
              <a:off x="6821640" y="4508640"/>
              <a:ext cx="1566720" cy="20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2060640" y="1052640"/>
            <a:ext cx="4887000" cy="4752360"/>
            <a:chOff x="2060640" y="1052640"/>
            <a:chExt cx="4887000" cy="4752360"/>
          </a:xfrm>
        </p:grpSpPr>
        <p:pic>
          <p:nvPicPr>
            <p:cNvPr id="56" name="Picture 7" descr="pic_76505"/>
            <p:cNvPicPr/>
            <p:nvPr/>
          </p:nvPicPr>
          <p:blipFill>
            <a:blip r:embed="rId1"/>
            <a:srcRect l="25080" t="23792" r="65165" b="69209"/>
            <a:stretch/>
          </p:blipFill>
          <p:spPr>
            <a:xfrm>
              <a:off x="2060640" y="1052640"/>
              <a:ext cx="1609200" cy="17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8" descr="pic_76505"/>
            <p:cNvPicPr/>
            <p:nvPr/>
          </p:nvPicPr>
          <p:blipFill>
            <a:blip r:embed="rId2"/>
            <a:srcRect l="36800" t="23786" r="51496" b="69203"/>
            <a:stretch/>
          </p:blipFill>
          <p:spPr>
            <a:xfrm>
              <a:off x="5016600" y="1052640"/>
              <a:ext cx="1931040" cy="17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pic_76505"/>
            <p:cNvPicPr/>
            <p:nvPr/>
          </p:nvPicPr>
          <p:blipFill>
            <a:blip r:embed="rId3"/>
            <a:srcRect l="48512" t="23086" r="22040" b="66644"/>
            <a:stretch/>
          </p:blipFill>
          <p:spPr>
            <a:xfrm>
              <a:off x="2060640" y="3197160"/>
              <a:ext cx="4855320" cy="260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4"/>
          <p:cNvGrpSpPr/>
          <p:nvPr/>
        </p:nvGrpSpPr>
        <p:grpSpPr>
          <a:xfrm>
            <a:off x="108000" y="115920"/>
            <a:ext cx="8929800" cy="6420960"/>
            <a:chOff x="108000" y="115920"/>
            <a:chExt cx="8929800" cy="6420960"/>
          </a:xfrm>
        </p:grpSpPr>
        <p:pic>
          <p:nvPicPr>
            <p:cNvPr id="60" name="Picture 15" descr="2004818225953644"/>
            <p:cNvPicPr/>
            <p:nvPr/>
          </p:nvPicPr>
          <p:blipFill>
            <a:blip r:embed="rId4"/>
            <a:stretch/>
          </p:blipFill>
          <p:spPr>
            <a:xfrm>
              <a:off x="179640" y="115920"/>
              <a:ext cx="864540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6" descr="2004818225953644"/>
            <p:cNvPicPr/>
            <p:nvPr/>
          </p:nvPicPr>
          <p:blipFill>
            <a:blip r:embed="rId5"/>
            <a:srcRect l="50811" t="0" r="12432" b="26574"/>
            <a:stretch/>
          </p:blipFill>
          <p:spPr>
            <a:xfrm>
              <a:off x="108000" y="115920"/>
              <a:ext cx="216000" cy="63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7" descr="2004818225953644"/>
            <p:cNvPicPr/>
            <p:nvPr/>
          </p:nvPicPr>
          <p:blipFill>
            <a:blip r:embed="rId6"/>
            <a:srcRect l="50811" t="0" r="12432" b="26574"/>
            <a:stretch/>
          </p:blipFill>
          <p:spPr>
            <a:xfrm>
              <a:off x="8821800" y="155160"/>
              <a:ext cx="216000" cy="63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8" descr="2004818225953644"/>
            <p:cNvPicPr/>
            <p:nvPr/>
          </p:nvPicPr>
          <p:blipFill>
            <a:blip r:embed="rId7"/>
            <a:stretch/>
          </p:blipFill>
          <p:spPr>
            <a:xfrm>
              <a:off x="179640" y="6308640"/>
              <a:ext cx="8645400" cy="22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文本框 1"/>
          <p:cNvSpPr/>
          <p:nvPr/>
        </p:nvSpPr>
        <p:spPr>
          <a:xfrm>
            <a:off x="426960" y="5715000"/>
            <a:ext cx="93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0">
            <a:hlinkClick r:id="rId1" action="ppaction://hlinksldjump"/>
          </p:cNvPr>
          <p:cNvSpPr/>
          <p:nvPr/>
        </p:nvSpPr>
        <p:spPr>
          <a:xfrm flipV="1">
            <a:off x="8459640" y="638100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3" descr="pic_76508"/>
          <p:cNvPicPr/>
          <p:nvPr/>
        </p:nvPicPr>
        <p:blipFill>
          <a:blip r:embed="rId2"/>
          <a:srcRect l="19120" t="20863" r="43475" b="63458"/>
          <a:stretch/>
        </p:blipFill>
        <p:spPr>
          <a:xfrm>
            <a:off x="395280" y="1378080"/>
            <a:ext cx="4105440" cy="3563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6"/>
          <p:cNvGrpSpPr/>
          <p:nvPr/>
        </p:nvGrpSpPr>
        <p:grpSpPr>
          <a:xfrm>
            <a:off x="4643280" y="1844640"/>
            <a:ext cx="3924360" cy="4581720"/>
            <a:chOff x="4643280" y="1844640"/>
            <a:chExt cx="3924360" cy="4581720"/>
          </a:xfrm>
        </p:grpSpPr>
        <p:pic>
          <p:nvPicPr>
            <p:cNvPr id="68" name="Picture 4" descr="card0242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27640" y="3933720"/>
              <a:ext cx="2151360" cy="249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14"/>
            <p:cNvGrpSpPr/>
            <p:nvPr/>
          </p:nvGrpSpPr>
          <p:grpSpPr>
            <a:xfrm>
              <a:off x="4643280" y="1844640"/>
              <a:ext cx="3924360" cy="2016000"/>
              <a:chOff x="4643280" y="1844640"/>
              <a:chExt cx="3924360" cy="2016000"/>
            </a:xfrm>
          </p:grpSpPr>
          <p:sp>
            <p:nvSpPr>
              <p:cNvPr id="70" name="AutoShape 10"/>
              <p:cNvSpPr/>
              <p:nvPr/>
            </p:nvSpPr>
            <p:spPr>
              <a:xfrm>
                <a:off x="4643280" y="1844640"/>
                <a:ext cx="3924360" cy="2016000"/>
              </a:xfrm>
              <a:prstGeom prst="cloudCallout">
                <a:avLst>
                  <a:gd name="adj1" fmla="val -10314"/>
                  <a:gd name="adj2" fmla="val 32833"/>
                </a:avLst>
              </a:pr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11"/>
              <p:cNvSpPr/>
              <p:nvPr/>
            </p:nvSpPr>
            <p:spPr>
              <a:xfrm>
                <a:off x="5076720" y="2133720"/>
                <a:ext cx="295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饮料和点心只能各选一样，我有几种不同的搭配方式？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AutoShape 16">
            <a:hlinkClick r:id="rId5" action="ppaction://hlinksldjump"/>
          </p:cNvPr>
          <p:cNvSpPr/>
          <p:nvPr/>
        </p:nvSpPr>
        <p:spPr>
          <a:xfrm flipV="1">
            <a:off x="7956720" y="638100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8459640" y="638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78850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5"/>
          <p:cNvGrpSpPr/>
          <p:nvPr/>
        </p:nvGrpSpPr>
        <p:grpSpPr>
          <a:xfrm>
            <a:off x="-36360" y="260280"/>
            <a:ext cx="9072360" cy="5905080"/>
            <a:chOff x="-36360" y="260280"/>
            <a:chExt cx="9072360" cy="5905080"/>
          </a:xfrm>
        </p:grpSpPr>
        <p:pic>
          <p:nvPicPr>
            <p:cNvPr id="76" name="Picture 22" descr="2004818225941607"/>
            <p:cNvPicPr/>
            <p:nvPr/>
          </p:nvPicPr>
          <p:blipFill>
            <a:blip r:embed="rId6"/>
            <a:stretch/>
          </p:blipFill>
          <p:spPr>
            <a:xfrm>
              <a:off x="34920" y="260280"/>
              <a:ext cx="90010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3" descr="2004818225941607"/>
            <p:cNvPicPr/>
            <p:nvPr/>
          </p:nvPicPr>
          <p:blipFill>
            <a:blip r:embed="rId7"/>
            <a:srcRect l="29174" t="-63836" r="12287" b="36164"/>
            <a:stretch/>
          </p:blipFill>
          <p:spPr>
            <a:xfrm rot="16200000">
              <a:off x="-280800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4" descr="2004818225941607"/>
            <p:cNvPicPr/>
            <p:nvPr/>
          </p:nvPicPr>
          <p:blipFill>
            <a:blip r:embed="rId8"/>
            <a:srcRect l="29174" t="-63836" r="12287" b="36164"/>
            <a:stretch/>
          </p:blipFill>
          <p:spPr>
            <a:xfrm rot="16200000">
              <a:off x="597528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ic_76508"/>
          <p:cNvPicPr/>
          <p:nvPr/>
        </p:nvPicPr>
        <p:blipFill>
          <a:blip r:embed="rId1"/>
          <a:srcRect l="19120" t="20863" r="43475" b="63458"/>
          <a:stretch/>
        </p:blipFill>
        <p:spPr>
          <a:xfrm>
            <a:off x="1979640" y="981000"/>
            <a:ext cx="4897440" cy="429912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 flipH="1">
            <a:off x="2842920" y="2781360"/>
            <a:ext cx="576360" cy="431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3419640" y="2708280"/>
            <a:ext cx="576000" cy="86508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 flipH="1" flipV="1">
            <a:off x="3419280" y="2708280"/>
            <a:ext cx="2881080" cy="79200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2987280" y="2637000"/>
            <a:ext cx="2305080" cy="792000"/>
          </a:xfrm>
          <a:prstGeom prst="line">
            <a:avLst/>
          </a:prstGeom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H="1">
            <a:off x="4932000" y="2637000"/>
            <a:ext cx="360360" cy="720720"/>
          </a:xfrm>
          <a:prstGeom prst="line">
            <a:avLst/>
          </a:prstGeom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5292720" y="2637000"/>
            <a:ext cx="1008000" cy="792000"/>
          </a:xfrm>
          <a:prstGeom prst="line">
            <a:avLst/>
          </a:prstGeom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76720" y="54450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2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 rot="19032600">
            <a:off x="5651640" y="25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580480" y="26226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3157560" y="2781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 rot="18384000">
            <a:off x="3734280" y="239364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7"/>
          <p:cNvSpPr/>
          <p:nvPr/>
        </p:nvSpPr>
        <p:spPr>
          <a:xfrm rot="2145000">
            <a:off x="4490280" y="2349360"/>
            <a:ext cx="7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 rot="1852800">
            <a:off x="5169240" y="27550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0">
            <a:hlinkClick r:id="rId2" action="ppaction://hlinksldjump"/>
          </p:cNvPr>
          <p:cNvSpPr/>
          <p:nvPr/>
        </p:nvSpPr>
        <p:spPr>
          <a:xfrm flipV="1">
            <a:off x="8459640" y="638100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8459640" y="638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22">
            <a:hlinkClick r:id="rId3" action="ppaction://hlinksldjump"/>
          </p:cNvPr>
          <p:cNvSpPr/>
          <p:nvPr/>
        </p:nvSpPr>
        <p:spPr>
          <a:xfrm flipV="1">
            <a:off x="7885080" y="638100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883640" y="6356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4"/>
          <p:cNvGrpSpPr/>
          <p:nvPr/>
        </p:nvGrpSpPr>
        <p:grpSpPr>
          <a:xfrm>
            <a:off x="-36360" y="260280"/>
            <a:ext cx="9072360" cy="5905080"/>
            <a:chOff x="-36360" y="260280"/>
            <a:chExt cx="9072360" cy="5905080"/>
          </a:xfrm>
        </p:grpSpPr>
        <p:pic>
          <p:nvPicPr>
            <p:cNvPr id="98" name="Picture 25" descr="2004818225941607"/>
            <p:cNvPicPr/>
            <p:nvPr/>
          </p:nvPicPr>
          <p:blipFill>
            <a:blip r:embed="rId4"/>
            <a:stretch/>
          </p:blipFill>
          <p:spPr>
            <a:xfrm>
              <a:off x="34920" y="260280"/>
              <a:ext cx="90010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6" descr="2004818225941607"/>
            <p:cNvPicPr/>
            <p:nvPr/>
          </p:nvPicPr>
          <p:blipFill>
            <a:blip r:embed="rId5"/>
            <a:srcRect l="29174" t="-63836" r="12287" b="36164"/>
            <a:stretch/>
          </p:blipFill>
          <p:spPr>
            <a:xfrm rot="16200000">
              <a:off x="-280800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7" descr="2004818225941607"/>
            <p:cNvPicPr/>
            <p:nvPr/>
          </p:nvPicPr>
          <p:blipFill>
            <a:blip r:embed="rId6"/>
            <a:srcRect l="29174" t="-63836" r="12287" b="36164"/>
            <a:stretch/>
          </p:blipFill>
          <p:spPr>
            <a:xfrm rot="16200000">
              <a:off x="597528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ic_76508"/>
          <p:cNvPicPr/>
          <p:nvPr/>
        </p:nvPicPr>
        <p:blipFill>
          <a:blip r:embed="rId1"/>
          <a:srcRect l="19120" t="20863" r="43475" b="63458"/>
          <a:stretch/>
        </p:blipFill>
        <p:spPr>
          <a:xfrm>
            <a:off x="1979640" y="981000"/>
            <a:ext cx="4897440" cy="4299120"/>
          </a:xfrm>
          <a:prstGeom prst="rect">
            <a:avLst/>
          </a:prstGeom>
          <a:ln w="0">
            <a:noFill/>
          </a:ln>
        </p:spPr>
      </p:pic>
      <p:sp>
        <p:nvSpPr>
          <p:cNvPr id="102" name="Line 5"/>
          <p:cNvSpPr/>
          <p:nvPr/>
        </p:nvSpPr>
        <p:spPr>
          <a:xfrm flipV="1">
            <a:off x="2987640" y="2781000"/>
            <a:ext cx="360360" cy="647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 flipV="1">
            <a:off x="2987640" y="2565000"/>
            <a:ext cx="2305080" cy="863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H="1" flipV="1">
            <a:off x="3419640" y="2708280"/>
            <a:ext cx="792000" cy="792000"/>
          </a:xfrm>
          <a:prstGeom prst="line">
            <a:avLst/>
          </a:prstGeom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211640" y="2565000"/>
            <a:ext cx="1081080" cy="934920"/>
          </a:xfrm>
          <a:prstGeom prst="line">
            <a:avLst/>
          </a:prstGeom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 flipH="1" flipV="1">
            <a:off x="3563640" y="2636640"/>
            <a:ext cx="2592360" cy="936360"/>
          </a:xfrm>
          <a:prstGeom prst="line">
            <a:avLst/>
          </a:prstGeom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 flipH="1" flipV="1">
            <a:off x="5363640" y="2565360"/>
            <a:ext cx="792360" cy="1008000"/>
          </a:xfrm>
          <a:prstGeom prst="line">
            <a:avLst/>
          </a:prstGeom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76720" y="54450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3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580480" y="262260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3157560" y="2781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 rot="1361400">
            <a:off x="3589200" y="31413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7"/>
          <p:cNvSpPr/>
          <p:nvPr/>
        </p:nvSpPr>
        <p:spPr>
          <a:xfrm flipV="1" rot="12364800">
            <a:off x="3994560" y="2955240"/>
            <a:ext cx="8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8"/>
          <p:cNvSpPr/>
          <p:nvPr/>
        </p:nvSpPr>
        <p:spPr>
          <a:xfrm rot="19126200">
            <a:off x="5184000" y="285192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9"/>
          <p:cNvSpPr/>
          <p:nvPr/>
        </p:nvSpPr>
        <p:spPr>
          <a:xfrm rot="19116000">
            <a:off x="5652000" y="25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宋体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0">
            <a:hlinkClick r:id="rId2" action="ppaction://hlinksldjump"/>
          </p:cNvPr>
          <p:cNvSpPr/>
          <p:nvPr/>
        </p:nvSpPr>
        <p:spPr>
          <a:xfrm flipV="1">
            <a:off x="7956720" y="638100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788508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2">
            <a:hlinkClick r:id="rId3" action="ppaction://hlinksldjump"/>
          </p:cNvPr>
          <p:cNvSpPr/>
          <p:nvPr/>
        </p:nvSpPr>
        <p:spPr>
          <a:xfrm flipV="1">
            <a:off x="7164360" y="638100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7164360" y="638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24"/>
          <p:cNvGrpSpPr/>
          <p:nvPr/>
        </p:nvGrpSpPr>
        <p:grpSpPr>
          <a:xfrm>
            <a:off x="-36360" y="260280"/>
            <a:ext cx="9072360" cy="5905080"/>
            <a:chOff x="-36360" y="260280"/>
            <a:chExt cx="9072360" cy="5905080"/>
          </a:xfrm>
        </p:grpSpPr>
        <p:pic>
          <p:nvPicPr>
            <p:cNvPr id="120" name="Picture 25" descr="2004818225941607"/>
            <p:cNvPicPr/>
            <p:nvPr/>
          </p:nvPicPr>
          <p:blipFill>
            <a:blip r:embed="rId4"/>
            <a:stretch/>
          </p:blipFill>
          <p:spPr>
            <a:xfrm>
              <a:off x="34920" y="260280"/>
              <a:ext cx="900108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6" descr="2004818225941607"/>
            <p:cNvPicPr/>
            <p:nvPr/>
          </p:nvPicPr>
          <p:blipFill>
            <a:blip r:embed="rId5"/>
            <a:srcRect l="29174" t="-63836" r="12287" b="36164"/>
            <a:stretch/>
          </p:blipFill>
          <p:spPr>
            <a:xfrm rot="16200000">
              <a:off x="-280800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7" descr="2004818225941607"/>
            <p:cNvPicPr/>
            <p:nvPr/>
          </p:nvPicPr>
          <p:blipFill>
            <a:blip r:embed="rId6"/>
            <a:srcRect l="29174" t="-63836" r="12287" b="36164"/>
            <a:stretch/>
          </p:blipFill>
          <p:spPr>
            <a:xfrm rot="16200000">
              <a:off x="5975280" y="3104640"/>
              <a:ext cx="583236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文件:pic0026.gif  &lt;br&gt;  尺寸:568 × 591  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429000"/>
            <a:ext cx="3097440" cy="273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0" y="9301320"/>
          <a:ext cx="3303720" cy="517320"/>
        </p:xfrm>
        <a:graphic>
          <a:graphicData uri="http://schemas.openxmlformats.org/drawingml/2006/table">
            <a:tbl>
              <a:tblPr/>
              <a:tblGrid>
                <a:gridCol w="2946240"/>
                <a:gridCol w="3574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印本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1" descr="pic_76505"/>
          <p:cNvPicPr/>
          <p:nvPr/>
        </p:nvPicPr>
        <p:blipFill>
          <a:blip r:embed="rId3"/>
          <a:srcRect l="54106" t="80228" r="23584" b="8595"/>
          <a:stretch/>
        </p:blipFill>
        <p:spPr>
          <a:xfrm>
            <a:off x="1332000" y="333360"/>
            <a:ext cx="3816360" cy="34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2" descr="printer"/>
          <p:cNvPicPr/>
          <p:nvPr/>
        </p:nvPicPr>
        <p:blipFill>
          <a:blip r:embed="rId4"/>
          <a:stretch/>
        </p:blipFill>
        <p:spPr>
          <a:xfrm>
            <a:off x="2330280" y="9468000"/>
            <a:ext cx="142920" cy="1904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5"/>
          <p:cNvSpPr/>
          <p:nvPr/>
        </p:nvSpPr>
        <p:spPr>
          <a:xfrm>
            <a:off x="5364000" y="2131920"/>
            <a:ext cx="2880000" cy="1297080"/>
          </a:xfrm>
          <a:prstGeom prst="wedgeRoundRectCallout">
            <a:avLst>
              <a:gd name="adj1" fmla="val 3583"/>
              <a:gd name="adj2" fmla="val 68847"/>
              <a:gd name="adj3" fmla="val 16667"/>
            </a:avLst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</a:rPr>
              <a:t>能组成哪几个不同的两位数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71"/>
          <p:cNvGrpSpPr/>
          <p:nvPr/>
        </p:nvGrpSpPr>
        <p:grpSpPr>
          <a:xfrm>
            <a:off x="179280" y="260280"/>
            <a:ext cx="8929800" cy="6421680"/>
            <a:chOff x="179280" y="260280"/>
            <a:chExt cx="8929800" cy="6421680"/>
          </a:xfrm>
        </p:grpSpPr>
        <p:pic>
          <p:nvPicPr>
            <p:cNvPr id="129" name="Picture 67" descr="2004818225953644"/>
            <p:cNvPicPr/>
            <p:nvPr/>
          </p:nvPicPr>
          <p:blipFill>
            <a:blip r:embed="rId5"/>
            <a:stretch/>
          </p:blipFill>
          <p:spPr>
            <a:xfrm>
              <a:off x="250920" y="260280"/>
              <a:ext cx="86454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8" descr="2004818225953644"/>
            <p:cNvPicPr/>
            <p:nvPr/>
          </p:nvPicPr>
          <p:blipFill>
            <a:blip r:embed="rId6"/>
            <a:srcRect l="50811" t="0" r="12432" b="26574"/>
            <a:stretch/>
          </p:blipFill>
          <p:spPr>
            <a:xfrm>
              <a:off x="179280" y="260280"/>
              <a:ext cx="216000" cy="63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9" descr="2004818225953644"/>
            <p:cNvPicPr/>
            <p:nvPr/>
          </p:nvPicPr>
          <p:blipFill>
            <a:blip r:embed="rId7"/>
            <a:srcRect l="50811" t="0" r="12432" b="26574"/>
            <a:stretch/>
          </p:blipFill>
          <p:spPr>
            <a:xfrm>
              <a:off x="8893080" y="299880"/>
              <a:ext cx="216000" cy="636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70" descr="2004818225953644"/>
            <p:cNvPicPr/>
            <p:nvPr/>
          </p:nvPicPr>
          <p:blipFill>
            <a:blip r:embed="rId8"/>
            <a:stretch/>
          </p:blipFill>
          <p:spPr>
            <a:xfrm>
              <a:off x="250920" y="6453360"/>
              <a:ext cx="864540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47628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pic_76508"/>
          <p:cNvPicPr/>
          <p:nvPr/>
        </p:nvPicPr>
        <p:blipFill>
          <a:blip r:embed="rId3"/>
          <a:srcRect l="12739" t="41066" r="12460" b="35136"/>
          <a:stretch/>
        </p:blipFill>
        <p:spPr>
          <a:xfrm>
            <a:off x="826920" y="2205000"/>
            <a:ext cx="7345440" cy="4086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/>
          <p:cNvSpPr/>
          <p:nvPr/>
        </p:nvSpPr>
        <p:spPr>
          <a:xfrm rot="18969000">
            <a:off x="1287360" y="4120920"/>
            <a:ext cx="1009800" cy="315720"/>
          </a:xfrm>
          <a:prstGeom prst="parallelogram">
            <a:avLst>
              <a:gd name="adj" fmla="val 7996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 rot="18682200">
            <a:off x="1319400" y="377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猴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9"/>
          <p:cNvGrpSpPr/>
          <p:nvPr/>
        </p:nvGrpSpPr>
        <p:grpSpPr>
          <a:xfrm>
            <a:off x="2063880" y="3308400"/>
            <a:ext cx="4187520" cy="2712960"/>
            <a:chOff x="2063880" y="3308400"/>
            <a:chExt cx="4187520" cy="2712960"/>
          </a:xfrm>
        </p:grpSpPr>
        <p:sp>
          <p:nvSpPr>
            <p:cNvPr id="138" name="Freeform 28"/>
            <p:cNvSpPr/>
            <p:nvPr/>
          </p:nvSpPr>
          <p:spPr>
            <a:xfrm>
              <a:off x="2340000" y="3308400"/>
              <a:ext cx="3672000" cy="1163520"/>
            </a:xfrm>
            <a:custGeom>
              <a:avLst/>
              <a:gdLst/>
              <a:ahLst/>
              <a:rect l="l" t="t" r="r" b="b"/>
              <a:pathLst>
                <a:path w="2313" h="778">
                  <a:moveTo>
                    <a:pt x="0" y="778"/>
                  </a:moveTo>
                  <a:cubicBezTo>
                    <a:pt x="109" y="570"/>
                    <a:pt x="219" y="363"/>
                    <a:pt x="363" y="234"/>
                  </a:cubicBezTo>
                  <a:cubicBezTo>
                    <a:pt x="507" y="105"/>
                    <a:pt x="711" y="14"/>
                    <a:pt x="862" y="7"/>
                  </a:cubicBezTo>
                  <a:cubicBezTo>
                    <a:pt x="1013" y="0"/>
                    <a:pt x="1142" y="136"/>
                    <a:pt x="1270" y="189"/>
                  </a:cubicBezTo>
                  <a:cubicBezTo>
                    <a:pt x="1398" y="242"/>
                    <a:pt x="1459" y="348"/>
                    <a:pt x="1633" y="325"/>
                  </a:cubicBezTo>
                  <a:cubicBezTo>
                    <a:pt x="1807" y="302"/>
                    <a:pt x="2200" y="98"/>
                    <a:pt x="2313" y="5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2268360" y="3535200"/>
              <a:ext cx="3743640" cy="1441440"/>
            </a:xfrm>
            <a:custGeom>
              <a:avLst/>
              <a:gdLst/>
              <a:ahLst/>
              <a:rect l="l" t="t" r="r" b="b"/>
              <a:pathLst>
                <a:path w="2177" h="855">
                  <a:moveTo>
                    <a:pt x="0" y="726"/>
                  </a:moveTo>
                  <a:cubicBezTo>
                    <a:pt x="321" y="790"/>
                    <a:pt x="642" y="855"/>
                    <a:pt x="952" y="817"/>
                  </a:cubicBezTo>
                  <a:cubicBezTo>
                    <a:pt x="1262" y="779"/>
                    <a:pt x="1656" y="635"/>
                    <a:pt x="1860" y="499"/>
                  </a:cubicBezTo>
                  <a:cubicBezTo>
                    <a:pt x="2064" y="363"/>
                    <a:pt x="2117" y="91"/>
                    <a:pt x="2177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2063880" y="3463920"/>
              <a:ext cx="4187520" cy="2557440"/>
            </a:xfrm>
            <a:custGeom>
              <a:avLst/>
              <a:gdLst/>
              <a:ahLst/>
              <a:rect l="l" t="t" r="r" b="b"/>
              <a:pathLst>
                <a:path w="2638" h="1611">
                  <a:moveTo>
                    <a:pt x="38" y="816"/>
                  </a:moveTo>
                  <a:cubicBezTo>
                    <a:pt x="19" y="1099"/>
                    <a:pt x="0" y="1383"/>
                    <a:pt x="265" y="1497"/>
                  </a:cubicBezTo>
                  <a:cubicBezTo>
                    <a:pt x="530" y="1611"/>
                    <a:pt x="1255" y="1588"/>
                    <a:pt x="1625" y="1497"/>
                  </a:cubicBezTo>
                  <a:cubicBezTo>
                    <a:pt x="1995" y="1406"/>
                    <a:pt x="2336" y="1202"/>
                    <a:pt x="2487" y="953"/>
                  </a:cubicBezTo>
                  <a:cubicBezTo>
                    <a:pt x="2638" y="704"/>
                    <a:pt x="2525" y="159"/>
                    <a:pt x="2533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40"/>
          <p:cNvGrpSpPr/>
          <p:nvPr/>
        </p:nvGrpSpPr>
        <p:grpSpPr>
          <a:xfrm>
            <a:off x="6084720" y="2600280"/>
            <a:ext cx="1884600" cy="2989080"/>
            <a:chOff x="6084720" y="2600280"/>
            <a:chExt cx="1884600" cy="2989080"/>
          </a:xfrm>
        </p:grpSpPr>
        <p:sp>
          <p:nvSpPr>
            <p:cNvPr id="142" name="Freeform 36"/>
            <p:cNvSpPr/>
            <p:nvPr/>
          </p:nvSpPr>
          <p:spPr>
            <a:xfrm>
              <a:off x="6119640" y="3500280"/>
              <a:ext cx="1355760" cy="2089080"/>
            </a:xfrm>
            <a:custGeom>
              <a:avLst/>
              <a:gdLst/>
              <a:ahLst/>
              <a:rect l="l" t="t" r="r" b="b"/>
              <a:pathLst>
                <a:path w="854" h="1316">
                  <a:moveTo>
                    <a:pt x="68" y="0"/>
                  </a:moveTo>
                  <a:cubicBezTo>
                    <a:pt x="45" y="200"/>
                    <a:pt x="23" y="401"/>
                    <a:pt x="23" y="590"/>
                  </a:cubicBezTo>
                  <a:cubicBezTo>
                    <a:pt x="23" y="779"/>
                    <a:pt x="0" y="1013"/>
                    <a:pt x="68" y="1134"/>
                  </a:cubicBezTo>
                  <a:cubicBezTo>
                    <a:pt x="136" y="1255"/>
                    <a:pt x="310" y="1316"/>
                    <a:pt x="431" y="1316"/>
                  </a:cubicBezTo>
                  <a:cubicBezTo>
                    <a:pt x="552" y="1316"/>
                    <a:pt x="734" y="1194"/>
                    <a:pt x="794" y="1134"/>
                  </a:cubicBezTo>
                  <a:cubicBezTo>
                    <a:pt x="854" y="1074"/>
                    <a:pt x="794" y="983"/>
                    <a:pt x="794" y="95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>
              <a:off x="6084720" y="2600280"/>
              <a:ext cx="1884600" cy="1332000"/>
            </a:xfrm>
            <a:custGeom>
              <a:avLst/>
              <a:gdLst/>
              <a:ahLst/>
              <a:rect l="l" t="t" r="r" b="b"/>
              <a:pathLst>
                <a:path w="1187" h="839">
                  <a:moveTo>
                    <a:pt x="952" y="839"/>
                  </a:moveTo>
                  <a:cubicBezTo>
                    <a:pt x="1069" y="658"/>
                    <a:pt x="1187" y="477"/>
                    <a:pt x="1134" y="341"/>
                  </a:cubicBezTo>
                  <a:cubicBezTo>
                    <a:pt x="1081" y="205"/>
                    <a:pt x="824" y="0"/>
                    <a:pt x="635" y="23"/>
                  </a:cubicBezTo>
                  <a:cubicBezTo>
                    <a:pt x="446" y="46"/>
                    <a:pt x="98" y="401"/>
                    <a:pt x="0" y="477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AutoShape 41"/>
          <p:cNvSpPr/>
          <p:nvPr/>
        </p:nvSpPr>
        <p:spPr>
          <a:xfrm>
            <a:off x="826920" y="476280"/>
            <a:ext cx="5400720" cy="1224000"/>
          </a:xfrm>
          <a:prstGeom prst="wedgeEllipseCallout">
            <a:avLst>
              <a:gd name="adj1" fmla="val 53115"/>
              <a:gd name="adj2" fmla="val -22763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猴山经过百鸟园到数学乐园一共有几条路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2"/>
          <p:cNvSpPr/>
          <p:nvPr/>
        </p:nvSpPr>
        <p:spPr>
          <a:xfrm>
            <a:off x="7453440" y="3357720"/>
            <a:ext cx="1079280" cy="1223640"/>
          </a:xfrm>
          <a:custGeom>
            <a:avLst/>
            <a:gdLst/>
            <a:ahLst/>
            <a:rect l="l" t="t" r="r" b="b"/>
            <a:pathLst>
              <a:path w="467" h="474">
                <a:moveTo>
                  <a:pt x="0" y="474"/>
                </a:moveTo>
                <a:cubicBezTo>
                  <a:pt x="13" y="461"/>
                  <a:pt x="28" y="450"/>
                  <a:pt x="39" y="435"/>
                </a:cubicBezTo>
                <a:cubicBezTo>
                  <a:pt x="58" y="410"/>
                  <a:pt x="91" y="356"/>
                  <a:pt x="91" y="356"/>
                </a:cubicBezTo>
                <a:cubicBezTo>
                  <a:pt x="115" y="267"/>
                  <a:pt x="131" y="187"/>
                  <a:pt x="196" y="120"/>
                </a:cubicBezTo>
                <a:cubicBezTo>
                  <a:pt x="215" y="63"/>
                  <a:pt x="216" y="48"/>
                  <a:pt x="275" y="29"/>
                </a:cubicBezTo>
                <a:cubicBezTo>
                  <a:pt x="288" y="20"/>
                  <a:pt x="298" y="5"/>
                  <a:pt x="314" y="3"/>
                </a:cubicBezTo>
                <a:cubicBezTo>
                  <a:pt x="336" y="0"/>
                  <a:pt x="379" y="16"/>
                  <a:pt x="379" y="16"/>
                </a:cubicBezTo>
                <a:lnTo>
                  <a:pt x="467" y="52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3"/>
          <p:cNvSpPr/>
          <p:nvPr/>
        </p:nvSpPr>
        <p:spPr>
          <a:xfrm>
            <a:off x="7451640" y="3500280"/>
            <a:ext cx="1008000" cy="1481400"/>
          </a:xfrm>
          <a:custGeom>
            <a:avLst/>
            <a:gdLst/>
            <a:ahLst/>
            <a:rect l="l" t="t" r="r" b="b"/>
            <a:pathLst>
              <a:path w="423" h="615">
                <a:moveTo>
                  <a:pt x="423" y="0"/>
                </a:moveTo>
                <a:cubicBezTo>
                  <a:pt x="374" y="146"/>
                  <a:pt x="329" y="295"/>
                  <a:pt x="292" y="445"/>
                </a:cubicBezTo>
                <a:cubicBezTo>
                  <a:pt x="288" y="489"/>
                  <a:pt x="296" y="536"/>
                  <a:pt x="279" y="576"/>
                </a:cubicBezTo>
                <a:cubicBezTo>
                  <a:pt x="273" y="591"/>
                  <a:pt x="268" y="542"/>
                  <a:pt x="253" y="536"/>
                </a:cubicBezTo>
                <a:cubicBezTo>
                  <a:pt x="240" y="531"/>
                  <a:pt x="227" y="545"/>
                  <a:pt x="214" y="549"/>
                </a:cubicBezTo>
                <a:cubicBezTo>
                  <a:pt x="201" y="558"/>
                  <a:pt x="184" y="563"/>
                  <a:pt x="174" y="576"/>
                </a:cubicBezTo>
                <a:cubicBezTo>
                  <a:pt x="165" y="587"/>
                  <a:pt x="175" y="615"/>
                  <a:pt x="161" y="615"/>
                </a:cubicBezTo>
                <a:cubicBezTo>
                  <a:pt x="147" y="615"/>
                  <a:pt x="155" y="588"/>
                  <a:pt x="148" y="576"/>
                </a:cubicBezTo>
                <a:cubicBezTo>
                  <a:pt x="142" y="565"/>
                  <a:pt x="131" y="558"/>
                  <a:pt x="122" y="549"/>
                </a:cubicBezTo>
                <a:cubicBezTo>
                  <a:pt x="113" y="523"/>
                  <a:pt x="105" y="497"/>
                  <a:pt x="96" y="471"/>
                </a:cubicBezTo>
                <a:cubicBezTo>
                  <a:pt x="92" y="458"/>
                  <a:pt x="83" y="432"/>
                  <a:pt x="83" y="432"/>
                </a:cubicBezTo>
                <a:cubicBezTo>
                  <a:pt x="0" y="446"/>
                  <a:pt x="4" y="418"/>
                  <a:pt x="4" y="458"/>
                </a:cubicBez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 rot="1419600">
            <a:off x="7451640" y="3439440"/>
            <a:ext cx="790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数学乐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4">
            <a:hlinkClick r:id="rId4" action="ppaction://hlinksldjump"/>
          </p:cNvPr>
          <p:cNvSpPr/>
          <p:nvPr/>
        </p:nvSpPr>
        <p:spPr>
          <a:xfrm>
            <a:off x="716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5">
            <a:hlinkClick r:id="rId5" action="ppaction://hlinksldjump"/>
          </p:cNvPr>
          <p:cNvSpPr/>
          <p:nvPr/>
        </p:nvSpPr>
        <p:spPr>
          <a:xfrm>
            <a:off x="7596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47628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pic_76508"/>
          <p:cNvPicPr/>
          <p:nvPr/>
        </p:nvPicPr>
        <p:blipFill>
          <a:blip r:embed="rId3"/>
          <a:srcRect l="12739" t="41066" r="12460" b="35136"/>
          <a:stretch/>
        </p:blipFill>
        <p:spPr>
          <a:xfrm>
            <a:off x="900000" y="1916280"/>
            <a:ext cx="7345440" cy="4086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/>
          <p:cNvSpPr/>
          <p:nvPr/>
        </p:nvSpPr>
        <p:spPr>
          <a:xfrm rot="18969000">
            <a:off x="1287360" y="4120920"/>
            <a:ext cx="1009800" cy="315720"/>
          </a:xfrm>
          <a:prstGeom prst="parallelogram">
            <a:avLst>
              <a:gd name="adj" fmla="val 7996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 rot="18682200">
            <a:off x="1319400" y="377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猴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2184480" y="2997360"/>
            <a:ext cx="4187520" cy="2712960"/>
            <a:chOff x="2184480" y="2997360"/>
            <a:chExt cx="4187520" cy="2712960"/>
          </a:xfrm>
        </p:grpSpPr>
        <p:sp>
          <p:nvSpPr>
            <p:cNvPr id="155" name="Freeform 7"/>
            <p:cNvSpPr/>
            <p:nvPr/>
          </p:nvSpPr>
          <p:spPr>
            <a:xfrm>
              <a:off x="2460600" y="2997360"/>
              <a:ext cx="3672000" cy="1163520"/>
            </a:xfrm>
            <a:custGeom>
              <a:avLst/>
              <a:gdLst/>
              <a:ahLst/>
              <a:rect l="l" t="t" r="r" b="b"/>
              <a:pathLst>
                <a:path w="2313" h="778">
                  <a:moveTo>
                    <a:pt x="0" y="778"/>
                  </a:moveTo>
                  <a:cubicBezTo>
                    <a:pt x="109" y="570"/>
                    <a:pt x="219" y="363"/>
                    <a:pt x="363" y="234"/>
                  </a:cubicBezTo>
                  <a:cubicBezTo>
                    <a:pt x="507" y="105"/>
                    <a:pt x="711" y="14"/>
                    <a:pt x="862" y="7"/>
                  </a:cubicBezTo>
                  <a:cubicBezTo>
                    <a:pt x="1013" y="0"/>
                    <a:pt x="1142" y="136"/>
                    <a:pt x="1270" y="189"/>
                  </a:cubicBezTo>
                  <a:cubicBezTo>
                    <a:pt x="1398" y="242"/>
                    <a:pt x="1459" y="348"/>
                    <a:pt x="1633" y="325"/>
                  </a:cubicBezTo>
                  <a:cubicBezTo>
                    <a:pt x="1807" y="302"/>
                    <a:pt x="2200" y="98"/>
                    <a:pt x="2313" y="5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2388960" y="3224160"/>
              <a:ext cx="3743640" cy="1441440"/>
            </a:xfrm>
            <a:custGeom>
              <a:avLst/>
              <a:gdLst/>
              <a:ahLst/>
              <a:rect l="l" t="t" r="r" b="b"/>
              <a:pathLst>
                <a:path w="2177" h="855">
                  <a:moveTo>
                    <a:pt x="0" y="726"/>
                  </a:moveTo>
                  <a:cubicBezTo>
                    <a:pt x="321" y="790"/>
                    <a:pt x="642" y="855"/>
                    <a:pt x="952" y="817"/>
                  </a:cubicBezTo>
                  <a:cubicBezTo>
                    <a:pt x="1262" y="779"/>
                    <a:pt x="1656" y="635"/>
                    <a:pt x="1860" y="499"/>
                  </a:cubicBezTo>
                  <a:cubicBezTo>
                    <a:pt x="2064" y="363"/>
                    <a:pt x="2117" y="91"/>
                    <a:pt x="2177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184480" y="3152880"/>
              <a:ext cx="4187520" cy="2557440"/>
            </a:xfrm>
            <a:custGeom>
              <a:avLst/>
              <a:gdLst/>
              <a:ahLst/>
              <a:rect l="l" t="t" r="r" b="b"/>
              <a:pathLst>
                <a:path w="2638" h="1611">
                  <a:moveTo>
                    <a:pt x="38" y="816"/>
                  </a:moveTo>
                  <a:cubicBezTo>
                    <a:pt x="19" y="1099"/>
                    <a:pt x="0" y="1383"/>
                    <a:pt x="265" y="1497"/>
                  </a:cubicBezTo>
                  <a:cubicBezTo>
                    <a:pt x="530" y="1611"/>
                    <a:pt x="1255" y="1588"/>
                    <a:pt x="1625" y="1497"/>
                  </a:cubicBezTo>
                  <a:cubicBezTo>
                    <a:pt x="1995" y="1406"/>
                    <a:pt x="2336" y="1202"/>
                    <a:pt x="2487" y="953"/>
                  </a:cubicBezTo>
                  <a:cubicBezTo>
                    <a:pt x="2638" y="704"/>
                    <a:pt x="2525" y="159"/>
                    <a:pt x="2533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6216480" y="2384280"/>
            <a:ext cx="1884600" cy="2989080"/>
            <a:chOff x="6216480" y="2384280"/>
            <a:chExt cx="1884600" cy="2989080"/>
          </a:xfrm>
        </p:grpSpPr>
        <p:sp>
          <p:nvSpPr>
            <p:cNvPr id="159" name="Freeform 11"/>
            <p:cNvSpPr/>
            <p:nvPr/>
          </p:nvSpPr>
          <p:spPr>
            <a:xfrm>
              <a:off x="6251400" y="3284280"/>
              <a:ext cx="1355760" cy="2089080"/>
            </a:xfrm>
            <a:custGeom>
              <a:avLst/>
              <a:gdLst/>
              <a:ahLst/>
              <a:rect l="l" t="t" r="r" b="b"/>
              <a:pathLst>
                <a:path w="854" h="1316">
                  <a:moveTo>
                    <a:pt x="68" y="0"/>
                  </a:moveTo>
                  <a:cubicBezTo>
                    <a:pt x="45" y="200"/>
                    <a:pt x="23" y="401"/>
                    <a:pt x="23" y="590"/>
                  </a:cubicBezTo>
                  <a:cubicBezTo>
                    <a:pt x="23" y="779"/>
                    <a:pt x="0" y="1013"/>
                    <a:pt x="68" y="1134"/>
                  </a:cubicBezTo>
                  <a:cubicBezTo>
                    <a:pt x="136" y="1255"/>
                    <a:pt x="310" y="1316"/>
                    <a:pt x="431" y="1316"/>
                  </a:cubicBezTo>
                  <a:cubicBezTo>
                    <a:pt x="552" y="1316"/>
                    <a:pt x="734" y="1194"/>
                    <a:pt x="794" y="1134"/>
                  </a:cubicBezTo>
                  <a:cubicBezTo>
                    <a:pt x="854" y="1074"/>
                    <a:pt x="794" y="983"/>
                    <a:pt x="794" y="95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6216480" y="2384280"/>
              <a:ext cx="1884600" cy="1332000"/>
            </a:xfrm>
            <a:custGeom>
              <a:avLst/>
              <a:gdLst/>
              <a:ahLst/>
              <a:rect l="l" t="t" r="r" b="b"/>
              <a:pathLst>
                <a:path w="1187" h="839">
                  <a:moveTo>
                    <a:pt x="952" y="839"/>
                  </a:moveTo>
                  <a:cubicBezTo>
                    <a:pt x="1069" y="658"/>
                    <a:pt x="1187" y="477"/>
                    <a:pt x="1134" y="341"/>
                  </a:cubicBezTo>
                  <a:cubicBezTo>
                    <a:pt x="1081" y="205"/>
                    <a:pt x="824" y="0"/>
                    <a:pt x="635" y="23"/>
                  </a:cubicBezTo>
                  <a:cubicBezTo>
                    <a:pt x="446" y="46"/>
                    <a:pt x="98" y="401"/>
                    <a:pt x="0" y="477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AutoShape 13"/>
          <p:cNvSpPr/>
          <p:nvPr/>
        </p:nvSpPr>
        <p:spPr>
          <a:xfrm>
            <a:off x="826920" y="476280"/>
            <a:ext cx="5400720" cy="1224000"/>
          </a:xfrm>
          <a:prstGeom prst="wedgeEllipseCallout">
            <a:avLst>
              <a:gd name="adj1" fmla="val 53115"/>
              <a:gd name="adj2" fmla="val -22763"/>
            </a:avLst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猴山经过百鸟园到数学乐园一共有几条路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4"/>
          <p:cNvSpPr/>
          <p:nvPr/>
        </p:nvSpPr>
        <p:spPr>
          <a:xfrm>
            <a:off x="7453440" y="3357720"/>
            <a:ext cx="1079280" cy="1223640"/>
          </a:xfrm>
          <a:custGeom>
            <a:avLst/>
            <a:gdLst/>
            <a:ahLst/>
            <a:rect l="l" t="t" r="r" b="b"/>
            <a:pathLst>
              <a:path w="467" h="474">
                <a:moveTo>
                  <a:pt x="0" y="474"/>
                </a:moveTo>
                <a:cubicBezTo>
                  <a:pt x="13" y="461"/>
                  <a:pt x="28" y="450"/>
                  <a:pt x="39" y="435"/>
                </a:cubicBezTo>
                <a:cubicBezTo>
                  <a:pt x="58" y="410"/>
                  <a:pt x="91" y="356"/>
                  <a:pt x="91" y="356"/>
                </a:cubicBezTo>
                <a:cubicBezTo>
                  <a:pt x="115" y="267"/>
                  <a:pt x="131" y="187"/>
                  <a:pt x="196" y="120"/>
                </a:cubicBezTo>
                <a:cubicBezTo>
                  <a:pt x="215" y="63"/>
                  <a:pt x="216" y="48"/>
                  <a:pt x="275" y="29"/>
                </a:cubicBezTo>
                <a:cubicBezTo>
                  <a:pt x="288" y="20"/>
                  <a:pt x="298" y="5"/>
                  <a:pt x="314" y="3"/>
                </a:cubicBezTo>
                <a:cubicBezTo>
                  <a:pt x="336" y="0"/>
                  <a:pt x="379" y="16"/>
                  <a:pt x="379" y="16"/>
                </a:cubicBezTo>
                <a:lnTo>
                  <a:pt x="467" y="52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5"/>
          <p:cNvSpPr/>
          <p:nvPr/>
        </p:nvSpPr>
        <p:spPr>
          <a:xfrm>
            <a:off x="7451640" y="3500280"/>
            <a:ext cx="1008000" cy="1481400"/>
          </a:xfrm>
          <a:custGeom>
            <a:avLst/>
            <a:gdLst/>
            <a:ahLst/>
            <a:rect l="l" t="t" r="r" b="b"/>
            <a:pathLst>
              <a:path w="423" h="615">
                <a:moveTo>
                  <a:pt x="423" y="0"/>
                </a:moveTo>
                <a:cubicBezTo>
                  <a:pt x="374" y="146"/>
                  <a:pt x="329" y="295"/>
                  <a:pt x="292" y="445"/>
                </a:cubicBezTo>
                <a:cubicBezTo>
                  <a:pt x="288" y="489"/>
                  <a:pt x="296" y="536"/>
                  <a:pt x="279" y="576"/>
                </a:cubicBezTo>
                <a:cubicBezTo>
                  <a:pt x="273" y="591"/>
                  <a:pt x="268" y="542"/>
                  <a:pt x="253" y="536"/>
                </a:cubicBezTo>
                <a:cubicBezTo>
                  <a:pt x="240" y="531"/>
                  <a:pt x="227" y="545"/>
                  <a:pt x="214" y="549"/>
                </a:cubicBezTo>
                <a:cubicBezTo>
                  <a:pt x="201" y="558"/>
                  <a:pt x="184" y="563"/>
                  <a:pt x="174" y="576"/>
                </a:cubicBezTo>
                <a:cubicBezTo>
                  <a:pt x="165" y="587"/>
                  <a:pt x="175" y="615"/>
                  <a:pt x="161" y="615"/>
                </a:cubicBezTo>
                <a:cubicBezTo>
                  <a:pt x="147" y="615"/>
                  <a:pt x="155" y="588"/>
                  <a:pt x="148" y="576"/>
                </a:cubicBezTo>
                <a:cubicBezTo>
                  <a:pt x="142" y="565"/>
                  <a:pt x="131" y="558"/>
                  <a:pt x="122" y="549"/>
                </a:cubicBezTo>
                <a:cubicBezTo>
                  <a:pt x="113" y="523"/>
                  <a:pt x="105" y="497"/>
                  <a:pt x="96" y="471"/>
                </a:cubicBezTo>
                <a:cubicBezTo>
                  <a:pt x="92" y="458"/>
                  <a:pt x="83" y="432"/>
                  <a:pt x="83" y="432"/>
                </a:cubicBezTo>
                <a:cubicBezTo>
                  <a:pt x="0" y="446"/>
                  <a:pt x="4" y="418"/>
                  <a:pt x="4" y="458"/>
                </a:cubicBez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 rot="1419600">
            <a:off x="7451640" y="3439440"/>
            <a:ext cx="790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Times New Roman"/>
              </a:rPr>
              <a:t>数学乐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203640" y="5950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3=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9">
            <a:hlinkClick r:id="rId4" action="ppaction://hlinksldjump"/>
          </p:cNvPr>
          <p:cNvSpPr/>
          <p:nvPr/>
        </p:nvSpPr>
        <p:spPr>
          <a:xfrm>
            <a:off x="7596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0">
            <a:hlinkClick r:id="rId5" action="ppaction://hlinksldjump"/>
          </p:cNvPr>
          <p:cNvSpPr/>
          <p:nvPr/>
        </p:nvSpPr>
        <p:spPr>
          <a:xfrm>
            <a:off x="810108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5:47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4:04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