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29BD-0B61-4405-9CE3-6F85E49370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0A5E-0750-4773-B59B-C5678511BF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EDE1-93A1-4EED-A864-5973294C40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72"/>
          <p:cNvGrpSpPr/>
          <p:nvPr/>
        </p:nvGrpSpPr>
        <p:grpSpPr>
          <a:xfrm>
            <a:off x="2651400" y="0"/>
            <a:ext cx="474840" cy="653760"/>
            <a:chOff x="2651400" y="0"/>
            <a:chExt cx="474840" cy="653760"/>
          </a:xfrm>
        </p:grpSpPr>
        <p:sp>
          <p:nvSpPr>
            <p:cNvPr id="1" name="AutoShape 273"/>
            <p:cNvSpPr/>
            <p:nvPr/>
          </p:nvSpPr>
          <p:spPr>
            <a:xfrm>
              <a:off x="2905200" y="0"/>
              <a:ext cx="34560" cy="49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274"/>
            <p:cNvGrpSpPr/>
            <p:nvPr/>
          </p:nvGrpSpPr>
          <p:grpSpPr>
            <a:xfrm>
              <a:off x="2651400" y="99360"/>
              <a:ext cx="295200" cy="221040"/>
              <a:chOff x="2651400" y="99360"/>
              <a:chExt cx="295200" cy="221040"/>
            </a:xfrm>
          </p:grpSpPr>
          <p:sp>
            <p:nvSpPr>
              <p:cNvPr id="3" name="Freeform 275"/>
              <p:cNvSpPr/>
              <p:nvPr/>
            </p:nvSpPr>
            <p:spPr>
              <a:xfrm rot="801000">
                <a:off x="2704680" y="117000"/>
                <a:ext cx="17496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276"/>
              <p:cNvSpPr/>
              <p:nvPr/>
            </p:nvSpPr>
            <p:spPr>
              <a:xfrm flipH="1" rot="4797600">
                <a:off x="2732040" y="84960"/>
                <a:ext cx="133560" cy="2761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Group 277"/>
            <p:cNvGrpSpPr/>
            <p:nvPr/>
          </p:nvGrpSpPr>
          <p:grpSpPr>
            <a:xfrm>
              <a:off x="2796120" y="394560"/>
              <a:ext cx="227520" cy="259200"/>
              <a:chOff x="2796120" y="394560"/>
              <a:chExt cx="227520" cy="259200"/>
            </a:xfrm>
          </p:grpSpPr>
          <p:sp>
            <p:nvSpPr>
              <p:cNvPr id="6" name="Freeform 278"/>
              <p:cNvSpPr/>
              <p:nvPr/>
            </p:nvSpPr>
            <p:spPr>
              <a:xfrm rot="19658400">
                <a:off x="2821320" y="450000"/>
                <a:ext cx="15336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279"/>
              <p:cNvSpPr/>
              <p:nvPr/>
            </p:nvSpPr>
            <p:spPr>
              <a:xfrm flipH="1" rot="2055000">
                <a:off x="2862720" y="401040"/>
                <a:ext cx="99720" cy="2455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280"/>
            <p:cNvGrpSpPr/>
            <p:nvPr/>
          </p:nvGrpSpPr>
          <p:grpSpPr>
            <a:xfrm>
              <a:off x="2895480" y="220680"/>
              <a:ext cx="230760" cy="245880"/>
              <a:chOff x="2895480" y="220680"/>
              <a:chExt cx="230760" cy="245880"/>
            </a:xfrm>
          </p:grpSpPr>
          <p:sp>
            <p:nvSpPr>
              <p:cNvPr id="9" name="Freeform 281"/>
              <p:cNvSpPr/>
              <p:nvPr/>
            </p:nvSpPr>
            <p:spPr>
              <a:xfrm rot="16605000">
                <a:off x="2941920" y="244440"/>
                <a:ext cx="131760" cy="210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282"/>
              <p:cNvSpPr/>
              <p:nvPr/>
            </p:nvSpPr>
            <p:spPr>
              <a:xfrm flipH="1" rot="20601600">
                <a:off x="2946600" y="23796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283"/>
          <p:cNvGrpSpPr/>
          <p:nvPr/>
        </p:nvGrpSpPr>
        <p:grpSpPr>
          <a:xfrm>
            <a:off x="2139120" y="-5400"/>
            <a:ext cx="336960" cy="260640"/>
            <a:chOff x="2139120" y="-5400"/>
            <a:chExt cx="336960" cy="260640"/>
          </a:xfrm>
        </p:grpSpPr>
        <p:sp>
          <p:nvSpPr>
            <p:cNvPr id="12" name="Freeform 284"/>
            <p:cNvSpPr/>
            <p:nvPr/>
          </p:nvSpPr>
          <p:spPr>
            <a:xfrm rot="17679600">
              <a:off x="2233800" y="-26280"/>
              <a:ext cx="147600" cy="303120"/>
            </a:xfrm>
            <a:custGeom>
              <a:avLst/>
              <a:gdLst/>
              <a:ahLst/>
              <a:rect l="l" t="t" r="r" b="b"/>
              <a:pathLst>
                <a:path w="213" h="343">
                  <a:moveTo>
                    <a:pt x="205" y="38"/>
                  </a:moveTo>
                  <a:cubicBezTo>
                    <a:pt x="213" y="0"/>
                    <a:pt x="99" y="57"/>
                    <a:pt x="69" y="106"/>
                  </a:cubicBezTo>
                  <a:cubicBezTo>
                    <a:pt x="39" y="155"/>
                    <a:pt x="0" y="343"/>
                    <a:pt x="23" y="332"/>
                  </a:cubicBezTo>
                  <a:cubicBezTo>
                    <a:pt x="46" y="321"/>
                    <a:pt x="197" y="76"/>
                    <a:pt x="205" y="38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85"/>
            <p:cNvSpPr/>
            <p:nvPr/>
          </p:nvSpPr>
          <p:spPr>
            <a:xfrm flipH="1" rot="75600">
              <a:off x="2220120" y="9720"/>
              <a:ext cx="218880" cy="235440"/>
            </a:xfrm>
            <a:custGeom>
              <a:avLst/>
              <a:gdLst/>
              <a:ahLst/>
              <a:rect l="l" t="t" r="r" b="b"/>
              <a:pathLst>
                <a:path w="213" h="343">
                  <a:moveTo>
                    <a:pt x="205" y="38"/>
                  </a:moveTo>
                  <a:cubicBezTo>
                    <a:pt x="213" y="0"/>
                    <a:pt x="99" y="57"/>
                    <a:pt x="69" y="106"/>
                  </a:cubicBezTo>
                  <a:cubicBezTo>
                    <a:pt x="39" y="155"/>
                    <a:pt x="0" y="343"/>
                    <a:pt x="23" y="332"/>
                  </a:cubicBezTo>
                  <a:cubicBezTo>
                    <a:pt x="46" y="321"/>
                    <a:pt x="197" y="76"/>
                    <a:pt x="205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336600"/>
                </a:gs>
              </a:gsLst>
              <a:lin ang="3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Group 286"/>
          <p:cNvGrpSpPr/>
          <p:nvPr/>
        </p:nvGrpSpPr>
        <p:grpSpPr>
          <a:xfrm>
            <a:off x="995400" y="0"/>
            <a:ext cx="475200" cy="1009440"/>
            <a:chOff x="995400" y="0"/>
            <a:chExt cx="475200" cy="1009440"/>
          </a:xfrm>
        </p:grpSpPr>
        <p:sp>
          <p:nvSpPr>
            <p:cNvPr id="15" name="AutoShape 287"/>
            <p:cNvSpPr/>
            <p:nvPr/>
          </p:nvSpPr>
          <p:spPr>
            <a:xfrm flipH="1">
              <a:off x="1218960" y="0"/>
              <a:ext cx="51120" cy="81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Group 288"/>
            <p:cNvGrpSpPr/>
            <p:nvPr/>
          </p:nvGrpSpPr>
          <p:grpSpPr>
            <a:xfrm>
              <a:off x="1195920" y="186840"/>
              <a:ext cx="247680" cy="245520"/>
              <a:chOff x="1195920" y="186840"/>
              <a:chExt cx="247680" cy="245520"/>
            </a:xfrm>
          </p:grpSpPr>
          <p:sp>
            <p:nvSpPr>
              <p:cNvPr id="17" name="Freeform 289"/>
              <p:cNvSpPr/>
              <p:nvPr/>
            </p:nvSpPr>
            <p:spPr>
              <a:xfrm rot="17293200">
                <a:off x="1246680" y="210600"/>
                <a:ext cx="145440" cy="212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90"/>
              <p:cNvSpPr/>
              <p:nvPr/>
            </p:nvSpPr>
            <p:spPr>
              <a:xfrm flipH="1" rot="21289800">
                <a:off x="1262520" y="192960"/>
                <a:ext cx="153720" cy="232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91"/>
            <p:cNvGrpSpPr/>
            <p:nvPr/>
          </p:nvGrpSpPr>
          <p:grpSpPr>
            <a:xfrm>
              <a:off x="995400" y="423720"/>
              <a:ext cx="295200" cy="221040"/>
              <a:chOff x="995400" y="423720"/>
              <a:chExt cx="295200" cy="221040"/>
            </a:xfrm>
          </p:grpSpPr>
          <p:sp>
            <p:nvSpPr>
              <p:cNvPr id="20" name="Freeform 292"/>
              <p:cNvSpPr/>
              <p:nvPr/>
            </p:nvSpPr>
            <p:spPr>
              <a:xfrm rot="801000">
                <a:off x="1048680" y="441360"/>
                <a:ext cx="17496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93"/>
              <p:cNvSpPr/>
              <p:nvPr/>
            </p:nvSpPr>
            <p:spPr>
              <a:xfrm flipH="1" rot="4797600">
                <a:off x="1076040" y="409320"/>
                <a:ext cx="133560" cy="2761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294"/>
            <p:cNvGrpSpPr/>
            <p:nvPr/>
          </p:nvGrpSpPr>
          <p:grpSpPr>
            <a:xfrm>
              <a:off x="1172520" y="754920"/>
              <a:ext cx="180360" cy="254520"/>
              <a:chOff x="1172520" y="754920"/>
              <a:chExt cx="180360" cy="254520"/>
            </a:xfrm>
          </p:grpSpPr>
          <p:sp>
            <p:nvSpPr>
              <p:cNvPr id="23" name="Freeform 295"/>
              <p:cNvSpPr/>
              <p:nvPr/>
            </p:nvSpPr>
            <p:spPr>
              <a:xfrm rot="17280000">
                <a:off x="1185840" y="821160"/>
                <a:ext cx="15336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96"/>
              <p:cNvSpPr/>
              <p:nvPr/>
            </p:nvSpPr>
            <p:spPr>
              <a:xfrm flipH="1" rot="21276600">
                <a:off x="1227600" y="758880"/>
                <a:ext cx="98640" cy="246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97"/>
            <p:cNvGrpSpPr/>
            <p:nvPr/>
          </p:nvGrpSpPr>
          <p:grpSpPr>
            <a:xfrm>
              <a:off x="1239840" y="545400"/>
              <a:ext cx="230760" cy="245880"/>
              <a:chOff x="1239840" y="545400"/>
              <a:chExt cx="230760" cy="245880"/>
            </a:xfrm>
          </p:grpSpPr>
          <p:sp>
            <p:nvSpPr>
              <p:cNvPr id="26" name="Freeform 298"/>
              <p:cNvSpPr/>
              <p:nvPr/>
            </p:nvSpPr>
            <p:spPr>
              <a:xfrm rot="16605000">
                <a:off x="1286280" y="569160"/>
                <a:ext cx="131760" cy="210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9"/>
              <p:cNvSpPr/>
              <p:nvPr/>
            </p:nvSpPr>
            <p:spPr>
              <a:xfrm flipH="1" rot="20601600">
                <a:off x="1290960" y="56268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" name="Rectangle 300"/>
          <p:cNvSpPr/>
          <p:nvPr/>
        </p:nvSpPr>
        <p:spPr>
          <a:xfrm>
            <a:off x="2627280" y="0"/>
            <a:ext cx="720720" cy="108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" name="Group 301"/>
          <p:cNvGrpSpPr/>
          <p:nvPr/>
        </p:nvGrpSpPr>
        <p:grpSpPr>
          <a:xfrm>
            <a:off x="460440" y="-31320"/>
            <a:ext cx="597960" cy="2914920"/>
            <a:chOff x="460440" y="-31320"/>
            <a:chExt cx="597960" cy="2914920"/>
          </a:xfrm>
        </p:grpSpPr>
        <p:grpSp>
          <p:nvGrpSpPr>
            <p:cNvPr id="30" name="Group 302"/>
            <p:cNvGrpSpPr/>
            <p:nvPr/>
          </p:nvGrpSpPr>
          <p:grpSpPr>
            <a:xfrm>
              <a:off x="491040" y="-31320"/>
              <a:ext cx="307440" cy="302760"/>
              <a:chOff x="491040" y="-31320"/>
              <a:chExt cx="307440" cy="302760"/>
            </a:xfrm>
          </p:grpSpPr>
          <p:sp>
            <p:nvSpPr>
              <p:cNvPr id="31" name="Freeform 303"/>
              <p:cNvSpPr/>
              <p:nvPr/>
            </p:nvSpPr>
            <p:spPr>
              <a:xfrm rot="1368000">
                <a:off x="546120" y="-3600"/>
                <a:ext cx="191880" cy="247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04"/>
              <p:cNvSpPr/>
              <p:nvPr/>
            </p:nvSpPr>
            <p:spPr>
              <a:xfrm flipH="1" rot="5364600">
                <a:off x="555480" y="-12240"/>
                <a:ext cx="178200" cy="305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" name="AutoShape 305"/>
            <p:cNvSpPr/>
            <p:nvPr/>
          </p:nvSpPr>
          <p:spPr>
            <a:xfrm>
              <a:off x="771840" y="0"/>
              <a:ext cx="32040" cy="272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306"/>
            <p:cNvGrpSpPr/>
            <p:nvPr/>
          </p:nvGrpSpPr>
          <p:grpSpPr>
            <a:xfrm>
              <a:off x="689400" y="228600"/>
              <a:ext cx="355680" cy="269640"/>
              <a:chOff x="689400" y="228600"/>
              <a:chExt cx="355680" cy="269640"/>
            </a:xfrm>
          </p:grpSpPr>
          <p:sp>
            <p:nvSpPr>
              <p:cNvPr id="35" name="Freeform 307"/>
              <p:cNvSpPr/>
              <p:nvPr/>
            </p:nvSpPr>
            <p:spPr>
              <a:xfrm rot="17679600">
                <a:off x="793080" y="201600"/>
                <a:ext cx="147960" cy="32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08"/>
              <p:cNvSpPr/>
              <p:nvPr/>
            </p:nvSpPr>
            <p:spPr>
              <a:xfrm flipH="1" rot="75600">
                <a:off x="773280" y="244800"/>
                <a:ext cx="235080" cy="2340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" name="Group 309"/>
            <p:cNvGrpSpPr/>
            <p:nvPr/>
          </p:nvGrpSpPr>
          <p:grpSpPr>
            <a:xfrm>
              <a:off x="550800" y="1361520"/>
              <a:ext cx="295200" cy="219960"/>
              <a:chOff x="550800" y="1361520"/>
              <a:chExt cx="295200" cy="219960"/>
            </a:xfrm>
          </p:grpSpPr>
          <p:sp>
            <p:nvSpPr>
              <p:cNvPr id="38" name="Freeform 310"/>
              <p:cNvSpPr/>
              <p:nvPr/>
            </p:nvSpPr>
            <p:spPr>
              <a:xfrm rot="801000">
                <a:off x="604440" y="1378800"/>
                <a:ext cx="172440" cy="18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311"/>
              <p:cNvSpPr/>
              <p:nvPr/>
            </p:nvSpPr>
            <p:spPr>
              <a:xfrm flipH="1" rot="4797600">
                <a:off x="631800" y="1346400"/>
                <a:ext cx="132840" cy="2764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312"/>
            <p:cNvGrpSpPr/>
            <p:nvPr/>
          </p:nvGrpSpPr>
          <p:grpSpPr>
            <a:xfrm>
              <a:off x="492480" y="760680"/>
              <a:ext cx="307440" cy="267120"/>
              <a:chOff x="492480" y="760680"/>
              <a:chExt cx="307440" cy="267120"/>
            </a:xfrm>
          </p:grpSpPr>
          <p:sp>
            <p:nvSpPr>
              <p:cNvPr id="41" name="Freeform 313"/>
              <p:cNvSpPr/>
              <p:nvPr/>
            </p:nvSpPr>
            <p:spPr>
              <a:xfrm rot="1368000">
                <a:off x="541080" y="789480"/>
                <a:ext cx="192240" cy="208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314"/>
              <p:cNvSpPr/>
              <p:nvPr/>
            </p:nvSpPr>
            <p:spPr>
              <a:xfrm flipH="1" rot="5364600">
                <a:off x="571680" y="760680"/>
                <a:ext cx="149040" cy="3060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Group 315"/>
            <p:cNvGrpSpPr/>
            <p:nvPr/>
          </p:nvGrpSpPr>
          <p:grpSpPr>
            <a:xfrm>
              <a:off x="460440" y="334800"/>
              <a:ext cx="338400" cy="310320"/>
              <a:chOff x="460440" y="334800"/>
              <a:chExt cx="338400" cy="310320"/>
            </a:xfrm>
          </p:grpSpPr>
          <p:sp>
            <p:nvSpPr>
              <p:cNvPr id="44" name="Freeform 316"/>
              <p:cNvSpPr/>
              <p:nvPr/>
            </p:nvSpPr>
            <p:spPr>
              <a:xfrm rot="1368000">
                <a:off x="517680" y="365760"/>
                <a:ext cx="211320" cy="247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317"/>
              <p:cNvSpPr/>
              <p:nvPr/>
            </p:nvSpPr>
            <p:spPr>
              <a:xfrm flipH="1" rot="5364600">
                <a:off x="540720" y="343080"/>
                <a:ext cx="177840" cy="336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318"/>
            <p:cNvGrpSpPr/>
            <p:nvPr/>
          </p:nvGrpSpPr>
          <p:grpSpPr>
            <a:xfrm>
              <a:off x="691560" y="527400"/>
              <a:ext cx="355320" cy="268560"/>
              <a:chOff x="691560" y="527400"/>
              <a:chExt cx="355320" cy="268560"/>
            </a:xfrm>
          </p:grpSpPr>
          <p:sp>
            <p:nvSpPr>
              <p:cNvPr id="47" name="Freeform 319"/>
              <p:cNvSpPr/>
              <p:nvPr/>
            </p:nvSpPr>
            <p:spPr>
              <a:xfrm rot="17679600">
                <a:off x="795600" y="499680"/>
                <a:ext cx="146880" cy="32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320"/>
              <p:cNvSpPr/>
              <p:nvPr/>
            </p:nvSpPr>
            <p:spPr>
              <a:xfrm flipH="1" rot="75600">
                <a:off x="773280" y="546840"/>
                <a:ext cx="235080" cy="2340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321"/>
            <p:cNvGrpSpPr/>
            <p:nvPr/>
          </p:nvGrpSpPr>
          <p:grpSpPr>
            <a:xfrm>
              <a:off x="721080" y="1044360"/>
              <a:ext cx="337320" cy="260640"/>
              <a:chOff x="721080" y="1044360"/>
              <a:chExt cx="337320" cy="260640"/>
            </a:xfrm>
          </p:grpSpPr>
          <p:sp>
            <p:nvSpPr>
              <p:cNvPr id="50" name="Freeform 322"/>
              <p:cNvSpPr/>
              <p:nvPr/>
            </p:nvSpPr>
            <p:spPr>
              <a:xfrm rot="17679600">
                <a:off x="815760" y="1022760"/>
                <a:ext cx="147240" cy="3034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323"/>
              <p:cNvSpPr/>
              <p:nvPr/>
            </p:nvSpPr>
            <p:spPr>
              <a:xfrm flipH="1" rot="75600">
                <a:off x="799920" y="1058400"/>
                <a:ext cx="219240" cy="2340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24"/>
            <p:cNvGrpSpPr/>
            <p:nvPr/>
          </p:nvGrpSpPr>
          <p:grpSpPr>
            <a:xfrm>
              <a:off x="720720" y="1548360"/>
              <a:ext cx="254520" cy="237600"/>
              <a:chOff x="720720" y="1548360"/>
              <a:chExt cx="254520" cy="237600"/>
            </a:xfrm>
          </p:grpSpPr>
          <p:sp>
            <p:nvSpPr>
              <p:cNvPr id="53" name="Freeform 325"/>
              <p:cNvSpPr/>
              <p:nvPr/>
            </p:nvSpPr>
            <p:spPr>
              <a:xfrm rot="17679600">
                <a:off x="774000" y="1560600"/>
                <a:ext cx="1472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326"/>
              <p:cNvSpPr/>
              <p:nvPr/>
            </p:nvSpPr>
            <p:spPr>
              <a:xfrm flipH="1" rot="75600">
                <a:off x="789840" y="1549800"/>
                <a:ext cx="153360" cy="2343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327"/>
            <p:cNvGrpSpPr/>
            <p:nvPr/>
          </p:nvGrpSpPr>
          <p:grpSpPr>
            <a:xfrm>
              <a:off x="721080" y="2095200"/>
              <a:ext cx="247320" cy="246960"/>
              <a:chOff x="721080" y="2095200"/>
              <a:chExt cx="247320" cy="246960"/>
            </a:xfrm>
          </p:grpSpPr>
          <p:sp>
            <p:nvSpPr>
              <p:cNvPr id="56" name="Freeform 328"/>
              <p:cNvSpPr/>
              <p:nvPr/>
            </p:nvSpPr>
            <p:spPr>
              <a:xfrm rot="17293200">
                <a:off x="771480" y="2114280"/>
                <a:ext cx="14616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329"/>
              <p:cNvSpPr/>
              <p:nvPr/>
            </p:nvSpPr>
            <p:spPr>
              <a:xfrm flipH="1" rot="21289800">
                <a:off x="785160" y="2101320"/>
                <a:ext cx="153720" cy="2343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330"/>
            <p:cNvGrpSpPr/>
            <p:nvPr/>
          </p:nvGrpSpPr>
          <p:grpSpPr>
            <a:xfrm>
              <a:off x="517320" y="1820160"/>
              <a:ext cx="295200" cy="220320"/>
              <a:chOff x="517320" y="1820160"/>
              <a:chExt cx="295200" cy="220320"/>
            </a:xfrm>
          </p:grpSpPr>
          <p:sp>
            <p:nvSpPr>
              <p:cNvPr id="59" name="Freeform 331"/>
              <p:cNvSpPr/>
              <p:nvPr/>
            </p:nvSpPr>
            <p:spPr>
              <a:xfrm rot="801000">
                <a:off x="572040" y="1837440"/>
                <a:ext cx="173880" cy="18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332"/>
              <p:cNvSpPr/>
              <p:nvPr/>
            </p:nvSpPr>
            <p:spPr>
              <a:xfrm flipH="1" rot="4797600">
                <a:off x="598320" y="1805760"/>
                <a:ext cx="132840" cy="2764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333"/>
            <p:cNvGrpSpPr/>
            <p:nvPr/>
          </p:nvGrpSpPr>
          <p:grpSpPr>
            <a:xfrm>
              <a:off x="517320" y="2331360"/>
              <a:ext cx="295200" cy="220320"/>
              <a:chOff x="517320" y="2331360"/>
              <a:chExt cx="295200" cy="220320"/>
            </a:xfrm>
          </p:grpSpPr>
          <p:sp>
            <p:nvSpPr>
              <p:cNvPr id="62" name="Freeform 334"/>
              <p:cNvSpPr/>
              <p:nvPr/>
            </p:nvSpPr>
            <p:spPr>
              <a:xfrm rot="801000">
                <a:off x="572040" y="2348640"/>
                <a:ext cx="173880" cy="18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335"/>
              <p:cNvSpPr/>
              <p:nvPr/>
            </p:nvSpPr>
            <p:spPr>
              <a:xfrm flipH="1" rot="4797600">
                <a:off x="598320" y="2316960"/>
                <a:ext cx="132840" cy="2764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36"/>
            <p:cNvGrpSpPr/>
            <p:nvPr/>
          </p:nvGrpSpPr>
          <p:grpSpPr>
            <a:xfrm>
              <a:off x="663840" y="2624760"/>
              <a:ext cx="224640" cy="258840"/>
              <a:chOff x="663840" y="2624760"/>
              <a:chExt cx="224640" cy="258840"/>
            </a:xfrm>
          </p:grpSpPr>
          <p:sp>
            <p:nvSpPr>
              <p:cNvPr id="65" name="Freeform 337"/>
              <p:cNvSpPr/>
              <p:nvPr/>
            </p:nvSpPr>
            <p:spPr>
              <a:xfrm rot="19658400">
                <a:off x="689040" y="2681280"/>
                <a:ext cx="153360" cy="139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338"/>
              <p:cNvSpPr/>
              <p:nvPr/>
            </p:nvSpPr>
            <p:spPr>
              <a:xfrm flipH="1" rot="2055000">
                <a:off x="728640" y="2631240"/>
                <a:ext cx="99000" cy="245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39"/>
            <p:cNvGrpSpPr/>
            <p:nvPr/>
          </p:nvGrpSpPr>
          <p:grpSpPr>
            <a:xfrm>
              <a:off x="761400" y="2451600"/>
              <a:ext cx="230760" cy="245520"/>
              <a:chOff x="761400" y="2451600"/>
              <a:chExt cx="230760" cy="245520"/>
            </a:xfrm>
          </p:grpSpPr>
          <p:sp>
            <p:nvSpPr>
              <p:cNvPr id="68" name="Freeform 340"/>
              <p:cNvSpPr/>
              <p:nvPr/>
            </p:nvSpPr>
            <p:spPr>
              <a:xfrm rot="16605000">
                <a:off x="807480" y="2472480"/>
                <a:ext cx="1314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41"/>
              <p:cNvSpPr/>
              <p:nvPr/>
            </p:nvSpPr>
            <p:spPr>
              <a:xfrm flipH="1" rot="20601600">
                <a:off x="811440" y="2468880"/>
                <a:ext cx="153720" cy="210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Rectangle 342"/>
          <p:cNvSpPr/>
          <p:nvPr/>
        </p:nvSpPr>
        <p:spPr>
          <a:xfrm>
            <a:off x="430200" y="0"/>
            <a:ext cx="612720" cy="306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43"/>
          <p:cNvGrpSpPr/>
          <p:nvPr/>
        </p:nvGrpSpPr>
        <p:grpSpPr>
          <a:xfrm>
            <a:off x="-12600" y="0"/>
            <a:ext cx="474840" cy="1385280"/>
            <a:chOff x="-12600" y="0"/>
            <a:chExt cx="474840" cy="1385280"/>
          </a:xfrm>
        </p:grpSpPr>
        <p:sp>
          <p:nvSpPr>
            <p:cNvPr id="72" name="AutoShape 344"/>
            <p:cNvSpPr/>
            <p:nvPr/>
          </p:nvSpPr>
          <p:spPr>
            <a:xfrm>
              <a:off x="241200" y="0"/>
              <a:ext cx="34560" cy="121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345"/>
            <p:cNvGrpSpPr/>
            <p:nvPr/>
          </p:nvGrpSpPr>
          <p:grpSpPr>
            <a:xfrm>
              <a:off x="187560" y="583560"/>
              <a:ext cx="247320" cy="245880"/>
              <a:chOff x="187560" y="583560"/>
              <a:chExt cx="247320" cy="245880"/>
            </a:xfrm>
          </p:grpSpPr>
          <p:sp>
            <p:nvSpPr>
              <p:cNvPr id="74" name="Freeform 346"/>
              <p:cNvSpPr/>
              <p:nvPr/>
            </p:nvSpPr>
            <p:spPr>
              <a:xfrm rot="17293200">
                <a:off x="238320" y="607680"/>
                <a:ext cx="1454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47"/>
              <p:cNvSpPr/>
              <p:nvPr/>
            </p:nvSpPr>
            <p:spPr>
              <a:xfrm flipH="1" rot="21289800">
                <a:off x="254160" y="589680"/>
                <a:ext cx="153360" cy="23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48"/>
            <p:cNvGrpSpPr/>
            <p:nvPr/>
          </p:nvGrpSpPr>
          <p:grpSpPr>
            <a:xfrm>
              <a:off x="-12600" y="308880"/>
              <a:ext cx="295200" cy="221040"/>
              <a:chOff x="-12600" y="308880"/>
              <a:chExt cx="295200" cy="221040"/>
            </a:xfrm>
          </p:grpSpPr>
          <p:sp>
            <p:nvSpPr>
              <p:cNvPr id="77" name="Freeform 349"/>
              <p:cNvSpPr/>
              <p:nvPr/>
            </p:nvSpPr>
            <p:spPr>
              <a:xfrm rot="801000">
                <a:off x="40680" y="326520"/>
                <a:ext cx="17496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50"/>
              <p:cNvSpPr/>
              <p:nvPr/>
            </p:nvSpPr>
            <p:spPr>
              <a:xfrm flipH="1" rot="4797600">
                <a:off x="68040" y="294480"/>
                <a:ext cx="133560" cy="2761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51"/>
            <p:cNvGrpSpPr/>
            <p:nvPr/>
          </p:nvGrpSpPr>
          <p:grpSpPr>
            <a:xfrm>
              <a:off x="-12600" y="820800"/>
              <a:ext cx="295200" cy="221040"/>
              <a:chOff x="-12600" y="820800"/>
              <a:chExt cx="295200" cy="221040"/>
            </a:xfrm>
          </p:grpSpPr>
          <p:sp>
            <p:nvSpPr>
              <p:cNvPr id="80" name="Freeform 352"/>
              <p:cNvSpPr/>
              <p:nvPr/>
            </p:nvSpPr>
            <p:spPr>
              <a:xfrm rot="801000">
                <a:off x="40680" y="838440"/>
                <a:ext cx="17496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53"/>
              <p:cNvSpPr/>
              <p:nvPr/>
            </p:nvSpPr>
            <p:spPr>
              <a:xfrm flipH="1" rot="4797600">
                <a:off x="68040" y="806400"/>
                <a:ext cx="133560" cy="2761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54"/>
            <p:cNvGrpSpPr/>
            <p:nvPr/>
          </p:nvGrpSpPr>
          <p:grpSpPr>
            <a:xfrm>
              <a:off x="140760" y="1122120"/>
              <a:ext cx="204120" cy="263160"/>
              <a:chOff x="140760" y="1122120"/>
              <a:chExt cx="204120" cy="263160"/>
            </a:xfrm>
          </p:grpSpPr>
          <p:sp>
            <p:nvSpPr>
              <p:cNvPr id="83" name="Freeform 355"/>
              <p:cNvSpPr/>
              <p:nvPr/>
            </p:nvSpPr>
            <p:spPr>
              <a:xfrm rot="18480000">
                <a:off x="165960" y="1186200"/>
                <a:ext cx="153360" cy="139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56"/>
              <p:cNvSpPr/>
              <p:nvPr/>
            </p:nvSpPr>
            <p:spPr>
              <a:xfrm flipH="1" rot="876600">
                <a:off x="206280" y="1130400"/>
                <a:ext cx="98280" cy="246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57"/>
            <p:cNvGrpSpPr/>
            <p:nvPr/>
          </p:nvGrpSpPr>
          <p:grpSpPr>
            <a:xfrm>
              <a:off x="231480" y="942120"/>
              <a:ext cx="230760" cy="245880"/>
              <a:chOff x="231480" y="942120"/>
              <a:chExt cx="230760" cy="245880"/>
            </a:xfrm>
          </p:grpSpPr>
          <p:sp>
            <p:nvSpPr>
              <p:cNvPr id="86" name="Freeform 358"/>
              <p:cNvSpPr/>
              <p:nvPr/>
            </p:nvSpPr>
            <p:spPr>
              <a:xfrm rot="16605000">
                <a:off x="277920" y="965880"/>
                <a:ext cx="131760" cy="210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59"/>
              <p:cNvSpPr/>
              <p:nvPr/>
            </p:nvSpPr>
            <p:spPr>
              <a:xfrm flipH="1" rot="20601600">
                <a:off x="282600" y="95940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Freeform 361"/>
          <p:cNvSpPr/>
          <p:nvPr/>
        </p:nvSpPr>
        <p:spPr>
          <a:xfrm>
            <a:off x="863640" y="7920"/>
            <a:ext cx="569880" cy="2058840"/>
          </a:xfrm>
          <a:custGeom>
            <a:avLst/>
            <a:gdLst/>
            <a:ahLst/>
            <a:rect l="l" t="t" r="r" b="b"/>
            <a:pathLst>
              <a:path w="359" h="1297">
                <a:moveTo>
                  <a:pt x="0" y="0"/>
                </a:moveTo>
                <a:cubicBezTo>
                  <a:pt x="21" y="112"/>
                  <a:pt x="42" y="224"/>
                  <a:pt x="68" y="341"/>
                </a:cubicBezTo>
                <a:cubicBezTo>
                  <a:pt x="94" y="458"/>
                  <a:pt x="114" y="595"/>
                  <a:pt x="159" y="704"/>
                </a:cubicBezTo>
                <a:cubicBezTo>
                  <a:pt x="204" y="813"/>
                  <a:pt x="321" y="907"/>
                  <a:pt x="340" y="998"/>
                </a:cubicBezTo>
                <a:cubicBezTo>
                  <a:pt x="359" y="1089"/>
                  <a:pt x="310" y="1199"/>
                  <a:pt x="272" y="1248"/>
                </a:cubicBezTo>
                <a:cubicBezTo>
                  <a:pt x="234" y="1297"/>
                  <a:pt x="151" y="1297"/>
                  <a:pt x="113" y="1293"/>
                </a:cubicBezTo>
                <a:cubicBezTo>
                  <a:pt x="75" y="1289"/>
                  <a:pt x="56" y="1255"/>
                  <a:pt x="45" y="1225"/>
                </a:cubicBezTo>
                <a:cubicBezTo>
                  <a:pt x="34" y="1195"/>
                  <a:pt x="34" y="1142"/>
                  <a:pt x="45" y="1112"/>
                </a:cubicBezTo>
                <a:cubicBezTo>
                  <a:pt x="56" y="1082"/>
                  <a:pt x="83" y="1055"/>
                  <a:pt x="113" y="1044"/>
                </a:cubicBezTo>
                <a:cubicBezTo>
                  <a:pt x="143" y="1033"/>
                  <a:pt x="201" y="1029"/>
                  <a:pt x="227" y="1044"/>
                </a:cubicBezTo>
                <a:cubicBezTo>
                  <a:pt x="253" y="1059"/>
                  <a:pt x="268" y="1104"/>
                  <a:pt x="272" y="1134"/>
                </a:cubicBezTo>
                <a:cubicBezTo>
                  <a:pt x="276" y="1164"/>
                  <a:pt x="268" y="1206"/>
                  <a:pt x="249" y="1225"/>
                </a:cubicBezTo>
                <a:cubicBezTo>
                  <a:pt x="230" y="1244"/>
                  <a:pt x="185" y="1252"/>
                  <a:pt x="159" y="1248"/>
                </a:cubicBezTo>
                <a:cubicBezTo>
                  <a:pt x="133" y="1244"/>
                  <a:pt x="102" y="1221"/>
                  <a:pt x="91" y="1202"/>
                </a:cubicBezTo>
                <a:cubicBezTo>
                  <a:pt x="80" y="1183"/>
                  <a:pt x="84" y="1153"/>
                  <a:pt x="91" y="1134"/>
                </a:cubicBezTo>
                <a:cubicBezTo>
                  <a:pt x="98" y="1115"/>
                  <a:pt x="117" y="1097"/>
                  <a:pt x="136" y="1089"/>
                </a:cubicBezTo>
                <a:cubicBezTo>
                  <a:pt x="155" y="1081"/>
                  <a:pt x="189" y="1078"/>
                  <a:pt x="204" y="1089"/>
                </a:cubicBezTo>
                <a:cubicBezTo>
                  <a:pt x="219" y="1100"/>
                  <a:pt x="231" y="1138"/>
                  <a:pt x="227" y="1157"/>
                </a:cubicBezTo>
                <a:cubicBezTo>
                  <a:pt x="223" y="1176"/>
                  <a:pt x="196" y="1195"/>
                  <a:pt x="181" y="1202"/>
                </a:cubicBezTo>
                <a:cubicBezTo>
                  <a:pt x="166" y="1209"/>
                  <a:pt x="147" y="1209"/>
                  <a:pt x="136" y="1202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62"/>
          <p:cNvSpPr/>
          <p:nvPr/>
        </p:nvSpPr>
        <p:spPr>
          <a:xfrm>
            <a:off x="1150920" y="981000"/>
            <a:ext cx="546120" cy="455760"/>
          </a:xfrm>
          <a:custGeom>
            <a:avLst/>
            <a:gdLst/>
            <a:ahLst/>
            <a:rect l="l" t="t" r="r" b="b"/>
            <a:pathLst>
              <a:path w="344" h="287">
                <a:moveTo>
                  <a:pt x="0" y="132"/>
                </a:moveTo>
                <a:cubicBezTo>
                  <a:pt x="43" y="190"/>
                  <a:pt x="87" y="249"/>
                  <a:pt x="136" y="268"/>
                </a:cubicBezTo>
                <a:cubicBezTo>
                  <a:pt x="185" y="287"/>
                  <a:pt x="261" y="269"/>
                  <a:pt x="295" y="246"/>
                </a:cubicBezTo>
                <a:cubicBezTo>
                  <a:pt x="329" y="223"/>
                  <a:pt x="336" y="170"/>
                  <a:pt x="340" y="132"/>
                </a:cubicBezTo>
                <a:cubicBezTo>
                  <a:pt x="344" y="94"/>
                  <a:pt x="336" y="38"/>
                  <a:pt x="317" y="19"/>
                </a:cubicBezTo>
                <a:cubicBezTo>
                  <a:pt x="298" y="0"/>
                  <a:pt x="253" y="11"/>
                  <a:pt x="227" y="19"/>
                </a:cubicBezTo>
                <a:cubicBezTo>
                  <a:pt x="201" y="27"/>
                  <a:pt x="170" y="37"/>
                  <a:pt x="159" y="64"/>
                </a:cubicBezTo>
                <a:cubicBezTo>
                  <a:pt x="148" y="91"/>
                  <a:pt x="152" y="152"/>
                  <a:pt x="159" y="178"/>
                </a:cubicBezTo>
                <a:cubicBezTo>
                  <a:pt x="166" y="204"/>
                  <a:pt x="185" y="215"/>
                  <a:pt x="204" y="223"/>
                </a:cubicBezTo>
                <a:cubicBezTo>
                  <a:pt x="223" y="231"/>
                  <a:pt x="257" y="234"/>
                  <a:pt x="272" y="223"/>
                </a:cubicBezTo>
                <a:cubicBezTo>
                  <a:pt x="287" y="212"/>
                  <a:pt x="291" y="178"/>
                  <a:pt x="295" y="155"/>
                </a:cubicBezTo>
                <a:cubicBezTo>
                  <a:pt x="299" y="132"/>
                  <a:pt x="306" y="102"/>
                  <a:pt x="295" y="87"/>
                </a:cubicBezTo>
                <a:cubicBezTo>
                  <a:pt x="284" y="72"/>
                  <a:pt x="242" y="57"/>
                  <a:pt x="227" y="64"/>
                </a:cubicBezTo>
                <a:cubicBezTo>
                  <a:pt x="212" y="71"/>
                  <a:pt x="200" y="117"/>
                  <a:pt x="204" y="132"/>
                </a:cubicBezTo>
                <a:cubicBezTo>
                  <a:pt x="208" y="147"/>
                  <a:pt x="256" y="155"/>
                  <a:pt x="249" y="155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63"/>
          <p:cNvSpPr/>
          <p:nvPr/>
        </p:nvSpPr>
        <p:spPr>
          <a:xfrm>
            <a:off x="1547640" y="7920"/>
            <a:ext cx="360360" cy="541440"/>
          </a:xfrm>
          <a:custGeom>
            <a:avLst/>
            <a:gdLst/>
            <a:ahLst/>
            <a:rect l="l" t="t" r="r" b="b"/>
            <a:pathLst>
              <a:path w="344" h="507">
                <a:moveTo>
                  <a:pt x="45" y="0"/>
                </a:moveTo>
                <a:cubicBezTo>
                  <a:pt x="37" y="44"/>
                  <a:pt x="30" y="88"/>
                  <a:pt x="23" y="137"/>
                </a:cubicBezTo>
                <a:cubicBezTo>
                  <a:pt x="16" y="186"/>
                  <a:pt x="0" y="246"/>
                  <a:pt x="0" y="295"/>
                </a:cubicBezTo>
                <a:cubicBezTo>
                  <a:pt x="0" y="344"/>
                  <a:pt x="4" y="397"/>
                  <a:pt x="23" y="431"/>
                </a:cubicBezTo>
                <a:cubicBezTo>
                  <a:pt x="42" y="465"/>
                  <a:pt x="72" y="491"/>
                  <a:pt x="113" y="499"/>
                </a:cubicBezTo>
                <a:cubicBezTo>
                  <a:pt x="154" y="507"/>
                  <a:pt x="234" y="503"/>
                  <a:pt x="272" y="477"/>
                </a:cubicBezTo>
                <a:cubicBezTo>
                  <a:pt x="310" y="451"/>
                  <a:pt x="336" y="386"/>
                  <a:pt x="340" y="341"/>
                </a:cubicBezTo>
                <a:cubicBezTo>
                  <a:pt x="344" y="296"/>
                  <a:pt x="329" y="235"/>
                  <a:pt x="295" y="205"/>
                </a:cubicBezTo>
                <a:cubicBezTo>
                  <a:pt x="261" y="175"/>
                  <a:pt x="174" y="152"/>
                  <a:pt x="136" y="159"/>
                </a:cubicBezTo>
                <a:cubicBezTo>
                  <a:pt x="98" y="166"/>
                  <a:pt x="79" y="223"/>
                  <a:pt x="68" y="250"/>
                </a:cubicBezTo>
                <a:cubicBezTo>
                  <a:pt x="57" y="277"/>
                  <a:pt x="64" y="292"/>
                  <a:pt x="68" y="318"/>
                </a:cubicBezTo>
                <a:cubicBezTo>
                  <a:pt x="72" y="344"/>
                  <a:pt x="76" y="390"/>
                  <a:pt x="91" y="409"/>
                </a:cubicBezTo>
                <a:cubicBezTo>
                  <a:pt x="106" y="428"/>
                  <a:pt x="136" y="427"/>
                  <a:pt x="159" y="431"/>
                </a:cubicBezTo>
                <a:cubicBezTo>
                  <a:pt x="182" y="435"/>
                  <a:pt x="204" y="454"/>
                  <a:pt x="227" y="431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64"/>
          <p:cNvSpPr/>
          <p:nvPr/>
        </p:nvSpPr>
        <p:spPr>
          <a:xfrm>
            <a:off x="2400480" y="7920"/>
            <a:ext cx="226800" cy="1441440"/>
          </a:xfrm>
          <a:custGeom>
            <a:avLst/>
            <a:gdLst/>
            <a:ahLst/>
            <a:rect l="l" t="t" r="r" b="b"/>
            <a:pathLst>
              <a:path w="143" h="908">
                <a:moveTo>
                  <a:pt x="53" y="0"/>
                </a:moveTo>
                <a:cubicBezTo>
                  <a:pt x="79" y="13"/>
                  <a:pt x="106" y="27"/>
                  <a:pt x="98" y="114"/>
                </a:cubicBezTo>
                <a:cubicBezTo>
                  <a:pt x="90" y="201"/>
                  <a:pt x="14" y="409"/>
                  <a:pt x="7" y="522"/>
                </a:cubicBezTo>
                <a:cubicBezTo>
                  <a:pt x="0" y="635"/>
                  <a:pt x="30" y="730"/>
                  <a:pt x="53" y="794"/>
                </a:cubicBezTo>
                <a:cubicBezTo>
                  <a:pt x="76" y="858"/>
                  <a:pt x="109" y="883"/>
                  <a:pt x="143" y="908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65"/>
          <p:cNvSpPr/>
          <p:nvPr/>
        </p:nvSpPr>
        <p:spPr>
          <a:xfrm>
            <a:off x="3324240" y="7920"/>
            <a:ext cx="612720" cy="787320"/>
          </a:xfrm>
          <a:custGeom>
            <a:avLst/>
            <a:gdLst/>
            <a:ahLst/>
            <a:rect l="l" t="t" r="r" b="b"/>
            <a:pathLst>
              <a:path w="386" h="496">
                <a:moveTo>
                  <a:pt x="15" y="0"/>
                </a:moveTo>
                <a:cubicBezTo>
                  <a:pt x="7" y="98"/>
                  <a:pt x="0" y="197"/>
                  <a:pt x="15" y="273"/>
                </a:cubicBezTo>
                <a:cubicBezTo>
                  <a:pt x="30" y="349"/>
                  <a:pt x="65" y="420"/>
                  <a:pt x="106" y="454"/>
                </a:cubicBezTo>
                <a:cubicBezTo>
                  <a:pt x="147" y="488"/>
                  <a:pt x="219" y="496"/>
                  <a:pt x="264" y="477"/>
                </a:cubicBezTo>
                <a:cubicBezTo>
                  <a:pt x="309" y="458"/>
                  <a:pt x="370" y="390"/>
                  <a:pt x="378" y="341"/>
                </a:cubicBezTo>
                <a:cubicBezTo>
                  <a:pt x="386" y="292"/>
                  <a:pt x="344" y="208"/>
                  <a:pt x="310" y="182"/>
                </a:cubicBezTo>
                <a:cubicBezTo>
                  <a:pt x="276" y="156"/>
                  <a:pt x="204" y="163"/>
                  <a:pt x="174" y="182"/>
                </a:cubicBezTo>
                <a:cubicBezTo>
                  <a:pt x="144" y="201"/>
                  <a:pt x="124" y="261"/>
                  <a:pt x="128" y="295"/>
                </a:cubicBezTo>
                <a:cubicBezTo>
                  <a:pt x="132" y="329"/>
                  <a:pt x="166" y="375"/>
                  <a:pt x="196" y="386"/>
                </a:cubicBezTo>
                <a:cubicBezTo>
                  <a:pt x="226" y="397"/>
                  <a:pt x="291" y="389"/>
                  <a:pt x="310" y="363"/>
                </a:cubicBezTo>
                <a:cubicBezTo>
                  <a:pt x="329" y="337"/>
                  <a:pt x="352" y="268"/>
                  <a:pt x="310" y="22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8"/>
          <p:cNvSpPr/>
          <p:nvPr/>
        </p:nvSpPr>
        <p:spPr>
          <a:xfrm>
            <a:off x="-360360" y="4545000"/>
            <a:ext cx="6516720" cy="158436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89"/>
          <p:cNvGrpSpPr/>
          <p:nvPr/>
        </p:nvGrpSpPr>
        <p:grpSpPr>
          <a:xfrm>
            <a:off x="-36720" y="-46440"/>
            <a:ext cx="9217080" cy="5658120"/>
            <a:chOff x="-36720" y="-46440"/>
            <a:chExt cx="9217080" cy="5658120"/>
          </a:xfrm>
        </p:grpSpPr>
        <p:sp>
          <p:nvSpPr>
            <p:cNvPr id="131" name="Freeform 10"/>
            <p:cNvSpPr/>
            <p:nvPr/>
          </p:nvSpPr>
          <p:spPr>
            <a:xfrm>
              <a:off x="5400720" y="7920"/>
              <a:ext cx="533520" cy="2486160"/>
            </a:xfrm>
            <a:custGeom>
              <a:avLst/>
              <a:gdLst/>
              <a:ahLst/>
              <a:rect l="l" t="t" r="r" b="b"/>
              <a:pathLst>
                <a:path w="336" h="1566">
                  <a:moveTo>
                    <a:pt x="325" y="0"/>
                  </a:moveTo>
                  <a:cubicBezTo>
                    <a:pt x="289" y="70"/>
                    <a:pt x="253" y="141"/>
                    <a:pt x="212" y="273"/>
                  </a:cubicBezTo>
                  <a:cubicBezTo>
                    <a:pt x="171" y="405"/>
                    <a:pt x="110" y="609"/>
                    <a:pt x="76" y="794"/>
                  </a:cubicBezTo>
                  <a:cubicBezTo>
                    <a:pt x="42" y="979"/>
                    <a:pt x="0" y="1259"/>
                    <a:pt x="7" y="1384"/>
                  </a:cubicBezTo>
                  <a:cubicBezTo>
                    <a:pt x="14" y="1509"/>
                    <a:pt x="76" y="1520"/>
                    <a:pt x="121" y="1543"/>
                  </a:cubicBezTo>
                  <a:cubicBezTo>
                    <a:pt x="166" y="1566"/>
                    <a:pt x="246" y="1554"/>
                    <a:pt x="280" y="1520"/>
                  </a:cubicBezTo>
                  <a:cubicBezTo>
                    <a:pt x="314" y="1486"/>
                    <a:pt x="336" y="1384"/>
                    <a:pt x="325" y="1339"/>
                  </a:cubicBezTo>
                  <a:cubicBezTo>
                    <a:pt x="314" y="1294"/>
                    <a:pt x="250" y="1256"/>
                    <a:pt x="212" y="1248"/>
                  </a:cubicBezTo>
                  <a:cubicBezTo>
                    <a:pt x="174" y="1240"/>
                    <a:pt x="121" y="1267"/>
                    <a:pt x="98" y="1293"/>
                  </a:cubicBezTo>
                  <a:cubicBezTo>
                    <a:pt x="75" y="1319"/>
                    <a:pt x="65" y="1373"/>
                    <a:pt x="76" y="1407"/>
                  </a:cubicBezTo>
                  <a:cubicBezTo>
                    <a:pt x="87" y="1441"/>
                    <a:pt x="140" y="1486"/>
                    <a:pt x="166" y="1497"/>
                  </a:cubicBezTo>
                  <a:cubicBezTo>
                    <a:pt x="192" y="1508"/>
                    <a:pt x="219" y="1490"/>
                    <a:pt x="234" y="1475"/>
                  </a:cubicBezTo>
                  <a:cubicBezTo>
                    <a:pt x="249" y="1460"/>
                    <a:pt x="257" y="1430"/>
                    <a:pt x="257" y="1407"/>
                  </a:cubicBezTo>
                  <a:cubicBezTo>
                    <a:pt x="257" y="1384"/>
                    <a:pt x="249" y="1350"/>
                    <a:pt x="234" y="1339"/>
                  </a:cubicBezTo>
                  <a:cubicBezTo>
                    <a:pt x="219" y="1328"/>
                    <a:pt x="181" y="1328"/>
                    <a:pt x="166" y="1339"/>
                  </a:cubicBezTo>
                  <a:cubicBezTo>
                    <a:pt x="151" y="1350"/>
                    <a:pt x="144" y="1400"/>
                    <a:pt x="144" y="1407"/>
                  </a:cubicBezTo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5832360" y="-27000"/>
              <a:ext cx="438120" cy="2448000"/>
            </a:xfrm>
            <a:custGeom>
              <a:avLst/>
              <a:gdLst/>
              <a:ahLst/>
              <a:rect l="l" t="t" r="r" b="b"/>
              <a:pathLst>
                <a:path w="276" h="1316">
                  <a:moveTo>
                    <a:pt x="94" y="0"/>
                  </a:moveTo>
                  <a:cubicBezTo>
                    <a:pt x="47" y="174"/>
                    <a:pt x="0" y="348"/>
                    <a:pt x="4" y="544"/>
                  </a:cubicBezTo>
                  <a:cubicBezTo>
                    <a:pt x="8" y="740"/>
                    <a:pt x="72" y="1050"/>
                    <a:pt x="117" y="1179"/>
                  </a:cubicBezTo>
                  <a:cubicBezTo>
                    <a:pt x="162" y="1308"/>
                    <a:pt x="246" y="1293"/>
                    <a:pt x="276" y="1316"/>
                  </a:cubicBezTo>
                </a:path>
              </a:pathLst>
            </a:custGeom>
            <a:noFill/>
            <a:ln w="158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6227640" y="7920"/>
              <a:ext cx="420840" cy="2016000"/>
            </a:xfrm>
            <a:custGeom>
              <a:avLst/>
              <a:gdLst/>
              <a:ahLst/>
              <a:rect l="l" t="t" r="r" b="b"/>
              <a:pathLst>
                <a:path w="514" h="2155">
                  <a:moveTo>
                    <a:pt x="287" y="0"/>
                  </a:moveTo>
                  <a:cubicBezTo>
                    <a:pt x="325" y="26"/>
                    <a:pt x="363" y="53"/>
                    <a:pt x="401" y="159"/>
                  </a:cubicBezTo>
                  <a:cubicBezTo>
                    <a:pt x="439" y="265"/>
                    <a:pt x="514" y="359"/>
                    <a:pt x="514" y="635"/>
                  </a:cubicBezTo>
                  <a:cubicBezTo>
                    <a:pt x="514" y="911"/>
                    <a:pt x="458" y="1569"/>
                    <a:pt x="401" y="1815"/>
                  </a:cubicBezTo>
                  <a:cubicBezTo>
                    <a:pt x="344" y="2061"/>
                    <a:pt x="231" y="2065"/>
                    <a:pt x="174" y="2110"/>
                  </a:cubicBezTo>
                  <a:cubicBezTo>
                    <a:pt x="117" y="2155"/>
                    <a:pt x="87" y="2113"/>
                    <a:pt x="61" y="2087"/>
                  </a:cubicBezTo>
                  <a:cubicBezTo>
                    <a:pt x="35" y="2061"/>
                    <a:pt x="0" y="1985"/>
                    <a:pt x="15" y="1951"/>
                  </a:cubicBezTo>
                  <a:cubicBezTo>
                    <a:pt x="30" y="1917"/>
                    <a:pt x="113" y="1883"/>
                    <a:pt x="151" y="1883"/>
                  </a:cubicBezTo>
                  <a:cubicBezTo>
                    <a:pt x="189" y="1883"/>
                    <a:pt x="227" y="1925"/>
                    <a:pt x="242" y="1951"/>
                  </a:cubicBezTo>
                  <a:cubicBezTo>
                    <a:pt x="257" y="1977"/>
                    <a:pt x="257" y="2023"/>
                    <a:pt x="242" y="2042"/>
                  </a:cubicBezTo>
                  <a:cubicBezTo>
                    <a:pt x="227" y="2061"/>
                    <a:pt x="177" y="2072"/>
                    <a:pt x="151" y="2064"/>
                  </a:cubicBezTo>
                  <a:cubicBezTo>
                    <a:pt x="125" y="2056"/>
                    <a:pt x="87" y="2019"/>
                    <a:pt x="83" y="1996"/>
                  </a:cubicBezTo>
                  <a:cubicBezTo>
                    <a:pt x="79" y="1973"/>
                    <a:pt x="114" y="1939"/>
                    <a:pt x="129" y="1928"/>
                  </a:cubicBezTo>
                  <a:cubicBezTo>
                    <a:pt x="144" y="1917"/>
                    <a:pt x="163" y="1917"/>
                    <a:pt x="174" y="1928"/>
                  </a:cubicBezTo>
                  <a:cubicBezTo>
                    <a:pt x="185" y="1939"/>
                    <a:pt x="201" y="1981"/>
                    <a:pt x="197" y="1996"/>
                  </a:cubicBezTo>
                  <a:cubicBezTo>
                    <a:pt x="193" y="2011"/>
                    <a:pt x="162" y="2027"/>
                    <a:pt x="151" y="2019"/>
                  </a:cubicBezTo>
                </a:path>
              </a:pathLst>
            </a:custGeom>
            <a:noFill/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"/>
            <p:cNvSpPr/>
            <p:nvPr/>
          </p:nvSpPr>
          <p:spPr>
            <a:xfrm>
              <a:off x="6594480" y="44280"/>
              <a:ext cx="617400" cy="2436840"/>
            </a:xfrm>
            <a:custGeom>
              <a:avLst/>
              <a:gdLst/>
              <a:ahLst/>
              <a:rect l="l" t="t" r="r" b="b"/>
              <a:pathLst>
                <a:path w="389" h="1535">
                  <a:moveTo>
                    <a:pt x="359" y="0"/>
                  </a:moveTo>
                  <a:cubicBezTo>
                    <a:pt x="297" y="108"/>
                    <a:pt x="235" y="216"/>
                    <a:pt x="178" y="386"/>
                  </a:cubicBezTo>
                  <a:cubicBezTo>
                    <a:pt x="121" y="556"/>
                    <a:pt x="38" y="843"/>
                    <a:pt x="19" y="1021"/>
                  </a:cubicBezTo>
                  <a:cubicBezTo>
                    <a:pt x="0" y="1199"/>
                    <a:pt x="19" y="1369"/>
                    <a:pt x="64" y="1452"/>
                  </a:cubicBezTo>
                  <a:cubicBezTo>
                    <a:pt x="109" y="1535"/>
                    <a:pt x="238" y="1531"/>
                    <a:pt x="291" y="1520"/>
                  </a:cubicBezTo>
                  <a:cubicBezTo>
                    <a:pt x="344" y="1509"/>
                    <a:pt x="375" y="1433"/>
                    <a:pt x="382" y="1384"/>
                  </a:cubicBezTo>
                  <a:cubicBezTo>
                    <a:pt x="389" y="1335"/>
                    <a:pt x="374" y="1263"/>
                    <a:pt x="336" y="1225"/>
                  </a:cubicBezTo>
                  <a:cubicBezTo>
                    <a:pt x="298" y="1187"/>
                    <a:pt x="189" y="1168"/>
                    <a:pt x="155" y="1157"/>
                  </a:cubicBezTo>
                </a:path>
              </a:pathLst>
            </a:custGeom>
            <a:noFill/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8532720" y="7920"/>
              <a:ext cx="647640" cy="2844720"/>
            </a:xfrm>
            <a:custGeom>
              <a:avLst/>
              <a:gdLst/>
              <a:ahLst/>
              <a:rect l="l" t="t" r="r" b="b"/>
              <a:pathLst>
                <a:path w="408" h="1792">
                  <a:moveTo>
                    <a:pt x="0" y="0"/>
                  </a:moveTo>
                  <a:cubicBezTo>
                    <a:pt x="11" y="190"/>
                    <a:pt x="22" y="381"/>
                    <a:pt x="45" y="612"/>
                  </a:cubicBezTo>
                  <a:cubicBezTo>
                    <a:pt x="68" y="843"/>
                    <a:pt x="75" y="1187"/>
                    <a:pt x="136" y="1384"/>
                  </a:cubicBezTo>
                  <a:cubicBezTo>
                    <a:pt x="197" y="1581"/>
                    <a:pt x="340" y="1694"/>
                    <a:pt x="408" y="1792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7775640" y="7920"/>
              <a:ext cx="900000" cy="3841920"/>
            </a:xfrm>
            <a:custGeom>
              <a:avLst/>
              <a:gdLst/>
              <a:ahLst/>
              <a:rect l="l" t="t" r="r" b="b"/>
              <a:pathLst>
                <a:path w="567" h="2420">
                  <a:moveTo>
                    <a:pt x="0" y="0"/>
                  </a:moveTo>
                  <a:cubicBezTo>
                    <a:pt x="40" y="73"/>
                    <a:pt x="80" y="147"/>
                    <a:pt x="114" y="499"/>
                  </a:cubicBezTo>
                  <a:cubicBezTo>
                    <a:pt x="148" y="851"/>
                    <a:pt x="148" y="1800"/>
                    <a:pt x="205" y="2110"/>
                  </a:cubicBezTo>
                  <a:cubicBezTo>
                    <a:pt x="262" y="2420"/>
                    <a:pt x="394" y="2348"/>
                    <a:pt x="454" y="2359"/>
                  </a:cubicBezTo>
                  <a:cubicBezTo>
                    <a:pt x="514" y="2370"/>
                    <a:pt x="567" y="2231"/>
                    <a:pt x="567" y="2178"/>
                  </a:cubicBezTo>
                  <a:cubicBezTo>
                    <a:pt x="567" y="2125"/>
                    <a:pt x="492" y="2053"/>
                    <a:pt x="454" y="2042"/>
                  </a:cubicBezTo>
                  <a:cubicBezTo>
                    <a:pt x="416" y="2031"/>
                    <a:pt x="360" y="2076"/>
                    <a:pt x="341" y="2110"/>
                  </a:cubicBezTo>
                  <a:cubicBezTo>
                    <a:pt x="322" y="2144"/>
                    <a:pt x="322" y="2220"/>
                    <a:pt x="341" y="2246"/>
                  </a:cubicBezTo>
                  <a:cubicBezTo>
                    <a:pt x="360" y="2272"/>
                    <a:pt x="431" y="2279"/>
                    <a:pt x="454" y="2268"/>
                  </a:cubicBez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7308720" y="7920"/>
              <a:ext cx="611280" cy="2952720"/>
            </a:xfrm>
            <a:custGeom>
              <a:avLst/>
              <a:gdLst/>
              <a:ahLst/>
              <a:rect l="l" t="t" r="r" b="b"/>
              <a:pathLst>
                <a:path w="321" h="1916">
                  <a:moveTo>
                    <a:pt x="242" y="0"/>
                  </a:moveTo>
                  <a:cubicBezTo>
                    <a:pt x="272" y="340"/>
                    <a:pt x="303" y="681"/>
                    <a:pt x="310" y="976"/>
                  </a:cubicBezTo>
                  <a:cubicBezTo>
                    <a:pt x="317" y="1271"/>
                    <a:pt x="321" y="1622"/>
                    <a:pt x="287" y="1769"/>
                  </a:cubicBezTo>
                  <a:cubicBezTo>
                    <a:pt x="253" y="1916"/>
                    <a:pt x="150" y="1864"/>
                    <a:pt x="105" y="1860"/>
                  </a:cubicBezTo>
                  <a:cubicBezTo>
                    <a:pt x="60" y="1856"/>
                    <a:pt x="30" y="1781"/>
                    <a:pt x="15" y="1747"/>
                  </a:cubicBezTo>
                  <a:cubicBezTo>
                    <a:pt x="0" y="1713"/>
                    <a:pt x="8" y="1682"/>
                    <a:pt x="15" y="1656"/>
                  </a:cubicBezTo>
                  <a:cubicBezTo>
                    <a:pt x="22" y="1630"/>
                    <a:pt x="34" y="1603"/>
                    <a:pt x="60" y="1588"/>
                  </a:cubicBezTo>
                  <a:cubicBezTo>
                    <a:pt x="86" y="1573"/>
                    <a:pt x="147" y="1565"/>
                    <a:pt x="173" y="1565"/>
                  </a:cubicBezTo>
                  <a:cubicBezTo>
                    <a:pt x="199" y="1565"/>
                    <a:pt x="208" y="1577"/>
                    <a:pt x="219" y="1588"/>
                  </a:cubicBezTo>
                  <a:cubicBezTo>
                    <a:pt x="230" y="1599"/>
                    <a:pt x="235" y="1618"/>
                    <a:pt x="242" y="1633"/>
                  </a:cubicBezTo>
                  <a:cubicBezTo>
                    <a:pt x="249" y="1648"/>
                    <a:pt x="260" y="1660"/>
                    <a:pt x="264" y="1679"/>
                  </a:cubicBezTo>
                  <a:cubicBezTo>
                    <a:pt x="268" y="1698"/>
                    <a:pt x="271" y="1728"/>
                    <a:pt x="264" y="1747"/>
                  </a:cubicBezTo>
                  <a:cubicBezTo>
                    <a:pt x="257" y="1766"/>
                    <a:pt x="245" y="1781"/>
                    <a:pt x="219" y="1792"/>
                  </a:cubicBezTo>
                  <a:cubicBezTo>
                    <a:pt x="193" y="1803"/>
                    <a:pt x="131" y="1822"/>
                    <a:pt x="105" y="1815"/>
                  </a:cubicBezTo>
                  <a:cubicBezTo>
                    <a:pt x="79" y="1808"/>
                    <a:pt x="71" y="1770"/>
                    <a:pt x="60" y="1747"/>
                  </a:cubicBezTo>
                  <a:cubicBezTo>
                    <a:pt x="49" y="1724"/>
                    <a:pt x="37" y="1698"/>
                    <a:pt x="37" y="1679"/>
                  </a:cubicBezTo>
                  <a:cubicBezTo>
                    <a:pt x="37" y="1660"/>
                    <a:pt x="45" y="1644"/>
                    <a:pt x="60" y="1633"/>
                  </a:cubicBezTo>
                  <a:cubicBezTo>
                    <a:pt x="75" y="1622"/>
                    <a:pt x="109" y="1615"/>
                    <a:pt x="128" y="1611"/>
                  </a:cubicBezTo>
                  <a:cubicBezTo>
                    <a:pt x="147" y="1607"/>
                    <a:pt x="158" y="1600"/>
                    <a:pt x="173" y="1611"/>
                  </a:cubicBezTo>
                  <a:cubicBezTo>
                    <a:pt x="188" y="1622"/>
                    <a:pt x="215" y="1656"/>
                    <a:pt x="219" y="1679"/>
                  </a:cubicBezTo>
                  <a:cubicBezTo>
                    <a:pt x="223" y="1702"/>
                    <a:pt x="211" y="1736"/>
                    <a:pt x="196" y="1747"/>
                  </a:cubicBezTo>
                  <a:cubicBezTo>
                    <a:pt x="181" y="1758"/>
                    <a:pt x="143" y="1755"/>
                    <a:pt x="128" y="1747"/>
                  </a:cubicBezTo>
                  <a:cubicBezTo>
                    <a:pt x="113" y="1739"/>
                    <a:pt x="112" y="1709"/>
                    <a:pt x="105" y="1701"/>
                  </a:cubicBezTo>
                </a:path>
              </a:pathLst>
            </a:custGeom>
            <a:noFill/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7"/>
            <p:cNvSpPr/>
            <p:nvPr/>
          </p:nvSpPr>
          <p:spPr>
            <a:xfrm>
              <a:off x="8836200" y="0"/>
              <a:ext cx="36360" cy="386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8"/>
            <p:cNvGrpSpPr/>
            <p:nvPr/>
          </p:nvGrpSpPr>
          <p:grpSpPr>
            <a:xfrm>
              <a:off x="8740800" y="3783600"/>
              <a:ext cx="247680" cy="303480"/>
              <a:chOff x="8740800" y="3783600"/>
              <a:chExt cx="247680" cy="303480"/>
            </a:xfrm>
          </p:grpSpPr>
          <p:sp>
            <p:nvSpPr>
              <p:cNvPr id="140" name="Freeform 19"/>
              <p:cNvSpPr/>
              <p:nvPr/>
            </p:nvSpPr>
            <p:spPr>
              <a:xfrm rot="18671400">
                <a:off x="8777160" y="3849840"/>
                <a:ext cx="174600" cy="17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0"/>
              <p:cNvSpPr/>
              <p:nvPr/>
            </p:nvSpPr>
            <p:spPr>
              <a:xfrm flipH="1" rot="1067400">
                <a:off x="8817480" y="3796200"/>
                <a:ext cx="12708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21"/>
            <p:cNvGrpSpPr/>
            <p:nvPr/>
          </p:nvGrpSpPr>
          <p:grpSpPr>
            <a:xfrm>
              <a:off x="7237800" y="-35280"/>
              <a:ext cx="693720" cy="3669840"/>
              <a:chOff x="7237800" y="-35280"/>
              <a:chExt cx="693720" cy="3669840"/>
            </a:xfrm>
          </p:grpSpPr>
          <p:grpSp>
            <p:nvGrpSpPr>
              <p:cNvPr id="143" name="Group 22"/>
              <p:cNvGrpSpPr/>
              <p:nvPr/>
            </p:nvGrpSpPr>
            <p:grpSpPr>
              <a:xfrm>
                <a:off x="7288560" y="-35280"/>
                <a:ext cx="347400" cy="374760"/>
                <a:chOff x="7288560" y="-35280"/>
                <a:chExt cx="347400" cy="374760"/>
              </a:xfrm>
            </p:grpSpPr>
            <p:sp>
              <p:nvSpPr>
                <p:cNvPr id="144" name="Freeform 23"/>
                <p:cNvSpPr/>
                <p:nvPr/>
              </p:nvSpPr>
              <p:spPr>
                <a:xfrm rot="1368000">
                  <a:off x="7348680" y="-4680"/>
                  <a:ext cx="219960" cy="313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24"/>
                <p:cNvSpPr/>
                <p:nvPr/>
              </p:nvSpPr>
              <p:spPr>
                <a:xfrm flipH="1" rot="5364600">
                  <a:off x="7349040" y="2880"/>
                  <a:ext cx="225720" cy="3452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AutoShape 25"/>
              <p:cNvSpPr/>
              <p:nvPr/>
            </p:nvSpPr>
            <p:spPr>
              <a:xfrm>
                <a:off x="7607160" y="0"/>
                <a:ext cx="31680" cy="345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6"/>
              <p:cNvGrpSpPr/>
              <p:nvPr/>
            </p:nvGrpSpPr>
            <p:grpSpPr>
              <a:xfrm>
                <a:off x="7508520" y="302400"/>
                <a:ext cx="409680" cy="321840"/>
                <a:chOff x="7508520" y="302400"/>
                <a:chExt cx="409680" cy="321840"/>
              </a:xfrm>
            </p:grpSpPr>
            <p:sp>
              <p:nvSpPr>
                <p:cNvPr id="148" name="Freeform 27"/>
                <p:cNvSpPr/>
                <p:nvPr/>
              </p:nvSpPr>
              <p:spPr>
                <a:xfrm rot="17679600">
                  <a:off x="7619760" y="280800"/>
                  <a:ext cx="186480" cy="36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8"/>
                <p:cNvSpPr/>
                <p:nvPr/>
              </p:nvSpPr>
              <p:spPr>
                <a:xfrm flipH="1" rot="75600">
                  <a:off x="7611120" y="309600"/>
                  <a:ext cx="262080" cy="297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29"/>
              <p:cNvGrpSpPr/>
              <p:nvPr/>
            </p:nvGrpSpPr>
            <p:grpSpPr>
              <a:xfrm>
                <a:off x="7353720" y="1727640"/>
                <a:ext cx="336960" cy="273960"/>
                <a:chOff x="7353720" y="1727640"/>
                <a:chExt cx="336960" cy="273960"/>
              </a:xfrm>
            </p:grpSpPr>
            <p:sp>
              <p:nvSpPr>
                <p:cNvPr id="151" name="Freeform 30"/>
                <p:cNvSpPr/>
                <p:nvPr/>
              </p:nvSpPr>
              <p:spPr>
                <a:xfrm rot="801000">
                  <a:off x="7414200" y="1747080"/>
                  <a:ext cx="197640" cy="234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31"/>
                <p:cNvSpPr/>
                <p:nvPr/>
              </p:nvSpPr>
              <p:spPr>
                <a:xfrm flipH="1" rot="4797600">
                  <a:off x="7437240" y="1728000"/>
                  <a:ext cx="169920" cy="312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32"/>
              <p:cNvGrpSpPr/>
              <p:nvPr/>
            </p:nvGrpSpPr>
            <p:grpSpPr>
              <a:xfrm>
                <a:off x="7290360" y="972720"/>
                <a:ext cx="347040" cy="329040"/>
                <a:chOff x="7290360" y="972720"/>
                <a:chExt cx="347040" cy="329040"/>
              </a:xfrm>
            </p:grpSpPr>
            <p:sp>
              <p:nvSpPr>
                <p:cNvPr id="154" name="Freeform 33"/>
                <p:cNvSpPr/>
                <p:nvPr/>
              </p:nvSpPr>
              <p:spPr>
                <a:xfrm rot="1368000">
                  <a:off x="7347960" y="1004760"/>
                  <a:ext cx="219960" cy="264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34"/>
                <p:cNvSpPr/>
                <p:nvPr/>
              </p:nvSpPr>
              <p:spPr>
                <a:xfrm flipH="1" rot="5364600">
                  <a:off x="7368480" y="985680"/>
                  <a:ext cx="190440" cy="3452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35"/>
              <p:cNvGrpSpPr/>
              <p:nvPr/>
            </p:nvGrpSpPr>
            <p:grpSpPr>
              <a:xfrm>
                <a:off x="7237800" y="423360"/>
                <a:ext cx="379800" cy="381600"/>
                <a:chOff x="7237800" y="423360"/>
                <a:chExt cx="379800" cy="381600"/>
              </a:xfrm>
            </p:grpSpPr>
            <p:sp>
              <p:nvSpPr>
                <p:cNvPr id="157" name="Freeform 36"/>
                <p:cNvSpPr/>
                <p:nvPr/>
              </p:nvSpPr>
              <p:spPr>
                <a:xfrm rot="1368000">
                  <a:off x="7302240" y="456840"/>
                  <a:ext cx="237600" cy="313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37"/>
                <p:cNvSpPr/>
                <p:nvPr/>
              </p:nvSpPr>
              <p:spPr>
                <a:xfrm flipH="1" rot="5364600">
                  <a:off x="7314480" y="450360"/>
                  <a:ext cx="225720" cy="377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38"/>
              <p:cNvGrpSpPr/>
              <p:nvPr/>
            </p:nvGrpSpPr>
            <p:grpSpPr>
              <a:xfrm>
                <a:off x="7511400" y="685440"/>
                <a:ext cx="409320" cy="321480"/>
                <a:chOff x="7511400" y="685440"/>
                <a:chExt cx="409320" cy="321480"/>
              </a:xfrm>
            </p:grpSpPr>
            <p:sp>
              <p:nvSpPr>
                <p:cNvPr id="160" name="Freeform 39"/>
                <p:cNvSpPr/>
                <p:nvPr/>
              </p:nvSpPr>
              <p:spPr>
                <a:xfrm rot="17679600">
                  <a:off x="7622640" y="663840"/>
                  <a:ext cx="186480" cy="364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40"/>
                <p:cNvSpPr/>
                <p:nvPr/>
              </p:nvSpPr>
              <p:spPr>
                <a:xfrm flipH="1" rot="75600">
                  <a:off x="7611480" y="693000"/>
                  <a:ext cx="262080" cy="298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41"/>
              <p:cNvGrpSpPr/>
              <p:nvPr/>
            </p:nvGrpSpPr>
            <p:grpSpPr>
              <a:xfrm>
                <a:off x="7542000" y="1334880"/>
                <a:ext cx="389520" cy="313560"/>
                <a:chOff x="7542000" y="1334880"/>
                <a:chExt cx="389520" cy="313560"/>
              </a:xfrm>
            </p:grpSpPr>
            <p:sp>
              <p:nvSpPr>
                <p:cNvPr id="163" name="Freeform 42"/>
                <p:cNvSpPr/>
                <p:nvPr/>
              </p:nvSpPr>
              <p:spPr>
                <a:xfrm rot="17679600">
                  <a:off x="7642800" y="1320480"/>
                  <a:ext cx="187560" cy="342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43"/>
                <p:cNvSpPr/>
                <p:nvPr/>
              </p:nvSpPr>
              <p:spPr>
                <a:xfrm flipH="1" rot="75600">
                  <a:off x="7636320" y="1338480"/>
                  <a:ext cx="245880" cy="298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44"/>
              <p:cNvGrpSpPr/>
              <p:nvPr/>
            </p:nvGrpSpPr>
            <p:grpSpPr>
              <a:xfrm>
                <a:off x="7535880" y="1957680"/>
                <a:ext cx="294840" cy="301320"/>
                <a:chOff x="7535880" y="1957680"/>
                <a:chExt cx="294840" cy="301320"/>
              </a:xfrm>
            </p:grpSpPr>
            <p:sp>
              <p:nvSpPr>
                <p:cNvPr id="166" name="Freeform 45"/>
                <p:cNvSpPr/>
                <p:nvPr/>
              </p:nvSpPr>
              <p:spPr>
                <a:xfrm rot="17679600">
                  <a:off x="7589520" y="1994760"/>
                  <a:ext cx="187200" cy="238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6"/>
                <p:cNvSpPr/>
                <p:nvPr/>
              </p:nvSpPr>
              <p:spPr>
                <a:xfrm flipH="1" rot="75600">
                  <a:off x="7619040" y="1959120"/>
                  <a:ext cx="169920" cy="297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47"/>
              <p:cNvGrpSpPr/>
              <p:nvPr/>
            </p:nvGrpSpPr>
            <p:grpSpPr>
              <a:xfrm>
                <a:off x="7544160" y="2656800"/>
                <a:ext cx="286200" cy="311760"/>
                <a:chOff x="7544160" y="2656800"/>
                <a:chExt cx="286200" cy="311760"/>
              </a:xfrm>
            </p:grpSpPr>
            <p:sp>
              <p:nvSpPr>
                <p:cNvPr id="169" name="Freeform 48"/>
                <p:cNvSpPr/>
                <p:nvPr/>
              </p:nvSpPr>
              <p:spPr>
                <a:xfrm rot="17293200">
                  <a:off x="7593480" y="2702520"/>
                  <a:ext cx="186840" cy="239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9"/>
                <p:cNvSpPr/>
                <p:nvPr/>
              </p:nvSpPr>
              <p:spPr>
                <a:xfrm flipH="1" rot="21289800">
                  <a:off x="7622280" y="2663640"/>
                  <a:ext cx="171360" cy="297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50"/>
              <p:cNvGrpSpPr/>
              <p:nvPr/>
            </p:nvGrpSpPr>
            <p:grpSpPr>
              <a:xfrm>
                <a:off x="7315920" y="2307960"/>
                <a:ext cx="336960" cy="274320"/>
                <a:chOff x="7315920" y="2307960"/>
                <a:chExt cx="336960" cy="274320"/>
              </a:xfrm>
            </p:grpSpPr>
            <p:sp>
              <p:nvSpPr>
                <p:cNvPr id="172" name="Freeform 51"/>
                <p:cNvSpPr/>
                <p:nvPr/>
              </p:nvSpPr>
              <p:spPr>
                <a:xfrm rot="801000">
                  <a:off x="7376760" y="2327400"/>
                  <a:ext cx="197280" cy="235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2"/>
                <p:cNvSpPr/>
                <p:nvPr/>
              </p:nvSpPr>
              <p:spPr>
                <a:xfrm flipH="1" rot="4797600">
                  <a:off x="7398720" y="2308680"/>
                  <a:ext cx="170640" cy="311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53"/>
              <p:cNvGrpSpPr/>
              <p:nvPr/>
            </p:nvGrpSpPr>
            <p:grpSpPr>
              <a:xfrm>
                <a:off x="7316280" y="2957400"/>
                <a:ext cx="336600" cy="273960"/>
                <a:chOff x="7316280" y="2957400"/>
                <a:chExt cx="336600" cy="273960"/>
              </a:xfrm>
            </p:grpSpPr>
            <p:sp>
              <p:nvSpPr>
                <p:cNvPr id="175" name="Freeform 54"/>
                <p:cNvSpPr/>
                <p:nvPr/>
              </p:nvSpPr>
              <p:spPr>
                <a:xfrm rot="801000">
                  <a:off x="7376760" y="2976840"/>
                  <a:ext cx="197280" cy="234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5"/>
                <p:cNvSpPr/>
                <p:nvPr/>
              </p:nvSpPr>
              <p:spPr>
                <a:xfrm flipH="1" rot="4797600">
                  <a:off x="7399080" y="2958120"/>
                  <a:ext cx="170280" cy="311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56"/>
              <p:cNvGrpSpPr/>
              <p:nvPr/>
            </p:nvGrpSpPr>
            <p:grpSpPr>
              <a:xfrm>
                <a:off x="7475760" y="3332520"/>
                <a:ext cx="268560" cy="302040"/>
                <a:chOff x="7475760" y="3332520"/>
                <a:chExt cx="268560" cy="302040"/>
              </a:xfrm>
            </p:grpSpPr>
            <p:sp>
              <p:nvSpPr>
                <p:cNvPr id="178" name="Freeform 57"/>
                <p:cNvSpPr/>
                <p:nvPr/>
              </p:nvSpPr>
              <p:spPr>
                <a:xfrm rot="19658400">
                  <a:off x="7508880" y="3394440"/>
                  <a:ext cx="173520" cy="174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8"/>
                <p:cNvSpPr/>
                <p:nvPr/>
              </p:nvSpPr>
              <p:spPr>
                <a:xfrm flipH="1" rot="2055000">
                  <a:off x="7548840" y="3344040"/>
                  <a:ext cx="127440" cy="278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59"/>
              <p:cNvGrpSpPr/>
              <p:nvPr/>
            </p:nvGrpSpPr>
            <p:grpSpPr>
              <a:xfrm>
                <a:off x="7592760" y="3092400"/>
                <a:ext cx="262080" cy="307080"/>
                <a:chOff x="7592760" y="3092400"/>
                <a:chExt cx="262080" cy="307080"/>
              </a:xfrm>
            </p:grpSpPr>
            <p:sp>
              <p:nvSpPr>
                <p:cNvPr id="181" name="Freeform 60"/>
                <p:cNvSpPr/>
                <p:nvPr/>
              </p:nvSpPr>
              <p:spPr>
                <a:xfrm rot="16605000">
                  <a:off x="7634160" y="3132720"/>
                  <a:ext cx="170640" cy="235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61"/>
                <p:cNvSpPr/>
                <p:nvPr/>
              </p:nvSpPr>
              <p:spPr>
                <a:xfrm flipH="1" rot="20601600">
                  <a:off x="7650000" y="3110760"/>
                  <a:ext cx="169560" cy="269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62"/>
            <p:cNvGrpSpPr/>
            <p:nvPr/>
          </p:nvGrpSpPr>
          <p:grpSpPr>
            <a:xfrm>
              <a:off x="7909920" y="-32760"/>
              <a:ext cx="614880" cy="2919600"/>
              <a:chOff x="7909920" y="-32760"/>
              <a:chExt cx="614880" cy="2919600"/>
            </a:xfrm>
          </p:grpSpPr>
          <p:grpSp>
            <p:nvGrpSpPr>
              <p:cNvPr id="184" name="Group 63"/>
              <p:cNvGrpSpPr/>
              <p:nvPr/>
            </p:nvGrpSpPr>
            <p:grpSpPr>
              <a:xfrm>
                <a:off x="7955640" y="-32760"/>
                <a:ext cx="308520" cy="301680"/>
                <a:chOff x="7955640" y="-32760"/>
                <a:chExt cx="308520" cy="301680"/>
              </a:xfrm>
            </p:grpSpPr>
            <p:sp>
              <p:nvSpPr>
                <p:cNvPr id="185" name="Freeform 64"/>
                <p:cNvSpPr/>
                <p:nvPr/>
              </p:nvSpPr>
              <p:spPr>
                <a:xfrm rot="1368000">
                  <a:off x="8009280" y="-5400"/>
                  <a:ext cx="190080" cy="247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65"/>
                <p:cNvSpPr/>
                <p:nvPr/>
              </p:nvSpPr>
              <p:spPr>
                <a:xfrm flipH="1" rot="5364600">
                  <a:off x="8020440" y="-12600"/>
                  <a:ext cx="177840" cy="306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AutoShape 66"/>
              <p:cNvSpPr/>
              <p:nvPr/>
            </p:nvSpPr>
            <p:spPr>
              <a:xfrm>
                <a:off x="8238600" y="1800"/>
                <a:ext cx="30960" cy="271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67"/>
              <p:cNvGrpSpPr/>
              <p:nvPr/>
            </p:nvGrpSpPr>
            <p:grpSpPr>
              <a:xfrm>
                <a:off x="8158320" y="230400"/>
                <a:ext cx="355320" cy="267840"/>
                <a:chOff x="8158320" y="230400"/>
                <a:chExt cx="355320" cy="267840"/>
              </a:xfrm>
            </p:grpSpPr>
            <p:sp>
              <p:nvSpPr>
                <p:cNvPr id="189" name="Freeform 68"/>
                <p:cNvSpPr/>
                <p:nvPr/>
              </p:nvSpPr>
              <p:spPr>
                <a:xfrm rot="17679600">
                  <a:off x="8262720" y="202320"/>
                  <a:ext cx="146160" cy="324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69"/>
                <p:cNvSpPr/>
                <p:nvPr/>
              </p:nvSpPr>
              <p:spPr>
                <a:xfrm flipH="1" rot="75600">
                  <a:off x="8242920" y="246600"/>
                  <a:ext cx="23292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70"/>
              <p:cNvGrpSpPr/>
              <p:nvPr/>
            </p:nvGrpSpPr>
            <p:grpSpPr>
              <a:xfrm>
                <a:off x="8017200" y="1357200"/>
                <a:ext cx="295920" cy="219240"/>
                <a:chOff x="8017200" y="1357200"/>
                <a:chExt cx="295920" cy="219240"/>
              </a:xfrm>
            </p:grpSpPr>
            <p:sp>
              <p:nvSpPr>
                <p:cNvPr id="192" name="Freeform 71"/>
                <p:cNvSpPr/>
                <p:nvPr/>
              </p:nvSpPr>
              <p:spPr>
                <a:xfrm rot="801000">
                  <a:off x="8069400" y="1374480"/>
                  <a:ext cx="174240" cy="183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72"/>
                <p:cNvSpPr/>
                <p:nvPr/>
              </p:nvSpPr>
              <p:spPr>
                <a:xfrm flipH="1" rot="4797600">
                  <a:off x="8098560" y="1342080"/>
                  <a:ext cx="132840" cy="277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73"/>
              <p:cNvGrpSpPr/>
              <p:nvPr/>
            </p:nvGrpSpPr>
            <p:grpSpPr>
              <a:xfrm>
                <a:off x="7961040" y="759960"/>
                <a:ext cx="308160" cy="265320"/>
                <a:chOff x="7961040" y="759960"/>
                <a:chExt cx="308160" cy="265320"/>
              </a:xfrm>
            </p:grpSpPr>
            <p:sp>
              <p:nvSpPr>
                <p:cNvPr id="195" name="Freeform 74"/>
                <p:cNvSpPr/>
                <p:nvPr/>
              </p:nvSpPr>
              <p:spPr>
                <a:xfrm rot="1368000">
                  <a:off x="8010360" y="788400"/>
                  <a:ext cx="190440" cy="207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75"/>
                <p:cNvSpPr/>
                <p:nvPr/>
              </p:nvSpPr>
              <p:spPr>
                <a:xfrm flipH="1" rot="5364600">
                  <a:off x="8040600" y="756360"/>
                  <a:ext cx="148680" cy="306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76"/>
              <p:cNvGrpSpPr/>
              <p:nvPr/>
            </p:nvGrpSpPr>
            <p:grpSpPr>
              <a:xfrm>
                <a:off x="7909920" y="330840"/>
                <a:ext cx="337680" cy="309960"/>
                <a:chOff x="7909920" y="330840"/>
                <a:chExt cx="337680" cy="3099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 rot="1368000">
                  <a:off x="7968960" y="361800"/>
                  <a:ext cx="211320" cy="247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 flipH="1" rot="5364600">
                  <a:off x="7989840" y="340200"/>
                  <a:ext cx="177840" cy="335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79"/>
              <p:cNvGrpSpPr/>
              <p:nvPr/>
            </p:nvGrpSpPr>
            <p:grpSpPr>
              <a:xfrm>
                <a:off x="8158320" y="532080"/>
                <a:ext cx="355320" cy="267840"/>
                <a:chOff x="8158320" y="532080"/>
                <a:chExt cx="355320" cy="267840"/>
              </a:xfrm>
            </p:grpSpPr>
            <p:sp>
              <p:nvSpPr>
                <p:cNvPr id="201" name="Freeform 80"/>
                <p:cNvSpPr/>
                <p:nvPr/>
              </p:nvSpPr>
              <p:spPr>
                <a:xfrm rot="17679600">
                  <a:off x="8262720" y="504000"/>
                  <a:ext cx="146160" cy="324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81"/>
                <p:cNvSpPr/>
                <p:nvPr/>
              </p:nvSpPr>
              <p:spPr>
                <a:xfrm flipH="1" rot="75600">
                  <a:off x="8242920" y="548280"/>
                  <a:ext cx="23292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82"/>
              <p:cNvGrpSpPr/>
              <p:nvPr/>
            </p:nvGrpSpPr>
            <p:grpSpPr>
              <a:xfrm>
                <a:off x="8186040" y="1045440"/>
                <a:ext cx="338760" cy="260640"/>
                <a:chOff x="8186040" y="1045440"/>
                <a:chExt cx="338760" cy="260640"/>
              </a:xfrm>
            </p:grpSpPr>
            <p:sp>
              <p:nvSpPr>
                <p:cNvPr id="204" name="Freeform 83"/>
                <p:cNvSpPr/>
                <p:nvPr/>
              </p:nvSpPr>
              <p:spPr>
                <a:xfrm rot="17679600">
                  <a:off x="8282160" y="1022760"/>
                  <a:ext cx="146520" cy="305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84"/>
                <p:cNvSpPr/>
                <p:nvPr/>
              </p:nvSpPr>
              <p:spPr>
                <a:xfrm flipH="1" rot="75600">
                  <a:off x="8267040" y="1057680"/>
                  <a:ext cx="220680" cy="235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85"/>
              <p:cNvGrpSpPr/>
              <p:nvPr/>
            </p:nvGrpSpPr>
            <p:grpSpPr>
              <a:xfrm>
                <a:off x="8182800" y="1546920"/>
                <a:ext cx="254520" cy="236160"/>
                <a:chOff x="8182800" y="1546920"/>
                <a:chExt cx="254520" cy="236160"/>
              </a:xfrm>
            </p:grpSpPr>
            <p:sp>
              <p:nvSpPr>
                <p:cNvPr id="207" name="Freeform 86"/>
                <p:cNvSpPr/>
                <p:nvPr/>
              </p:nvSpPr>
              <p:spPr>
                <a:xfrm rot="17679600">
                  <a:off x="8236440" y="1564560"/>
                  <a:ext cx="146520" cy="212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87"/>
                <p:cNvSpPr/>
                <p:nvPr/>
              </p:nvSpPr>
              <p:spPr>
                <a:xfrm flipH="1" rot="75600">
                  <a:off x="8250120" y="1548360"/>
                  <a:ext cx="15372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88"/>
              <p:cNvGrpSpPr/>
              <p:nvPr/>
            </p:nvGrpSpPr>
            <p:grpSpPr>
              <a:xfrm>
                <a:off x="8190360" y="2093760"/>
                <a:ext cx="249480" cy="245880"/>
                <a:chOff x="8190360" y="2093760"/>
                <a:chExt cx="249480" cy="245880"/>
              </a:xfrm>
            </p:grpSpPr>
            <p:sp>
              <p:nvSpPr>
                <p:cNvPr id="210" name="Freeform 89"/>
                <p:cNvSpPr/>
                <p:nvPr/>
              </p:nvSpPr>
              <p:spPr>
                <a:xfrm rot="17293200">
                  <a:off x="8241480" y="2117520"/>
                  <a:ext cx="147240" cy="214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90"/>
                <p:cNvSpPr/>
                <p:nvPr/>
              </p:nvSpPr>
              <p:spPr>
                <a:xfrm flipH="1" rot="21289800">
                  <a:off x="8254440" y="2100240"/>
                  <a:ext cx="15516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91"/>
              <p:cNvGrpSpPr/>
              <p:nvPr/>
            </p:nvGrpSpPr>
            <p:grpSpPr>
              <a:xfrm>
                <a:off x="7984080" y="1815840"/>
                <a:ext cx="295920" cy="219240"/>
                <a:chOff x="7984080" y="1815840"/>
                <a:chExt cx="295920" cy="219240"/>
              </a:xfrm>
            </p:grpSpPr>
            <p:sp>
              <p:nvSpPr>
                <p:cNvPr id="213" name="Freeform 92"/>
                <p:cNvSpPr/>
                <p:nvPr/>
              </p:nvSpPr>
              <p:spPr>
                <a:xfrm rot="801000">
                  <a:off x="8036280" y="1833120"/>
                  <a:ext cx="174240" cy="183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93"/>
                <p:cNvSpPr/>
                <p:nvPr/>
              </p:nvSpPr>
              <p:spPr>
                <a:xfrm flipH="1" rot="4797600">
                  <a:off x="8066160" y="1801440"/>
                  <a:ext cx="131400" cy="277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94"/>
              <p:cNvGrpSpPr/>
              <p:nvPr/>
            </p:nvGrpSpPr>
            <p:grpSpPr>
              <a:xfrm>
                <a:off x="7982640" y="2332080"/>
                <a:ext cx="295560" cy="221400"/>
                <a:chOff x="7982640" y="2332080"/>
                <a:chExt cx="295560" cy="221400"/>
              </a:xfrm>
            </p:grpSpPr>
            <p:sp>
              <p:nvSpPr>
                <p:cNvPr id="216" name="Freeform 95"/>
                <p:cNvSpPr/>
                <p:nvPr/>
              </p:nvSpPr>
              <p:spPr>
                <a:xfrm rot="801000">
                  <a:off x="8035920" y="2349360"/>
                  <a:ext cx="173880" cy="186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6"/>
                <p:cNvSpPr/>
                <p:nvPr/>
              </p:nvSpPr>
              <p:spPr>
                <a:xfrm flipH="1" rot="4797600">
                  <a:off x="8063640" y="2320200"/>
                  <a:ext cx="132480" cy="2768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97"/>
              <p:cNvGrpSpPr/>
              <p:nvPr/>
            </p:nvGrpSpPr>
            <p:grpSpPr>
              <a:xfrm>
                <a:off x="8133480" y="2626560"/>
                <a:ext cx="226080" cy="260280"/>
                <a:chOff x="8133480" y="2626560"/>
                <a:chExt cx="226080" cy="260280"/>
              </a:xfrm>
            </p:grpSpPr>
            <p:sp>
              <p:nvSpPr>
                <p:cNvPr id="219" name="Freeform 98"/>
                <p:cNvSpPr/>
                <p:nvPr/>
              </p:nvSpPr>
              <p:spPr>
                <a:xfrm rot="19658400">
                  <a:off x="8158680" y="2683800"/>
                  <a:ext cx="154440" cy="140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99"/>
                <p:cNvSpPr/>
                <p:nvPr/>
              </p:nvSpPr>
              <p:spPr>
                <a:xfrm flipH="1" rot="2055000">
                  <a:off x="8198280" y="2633040"/>
                  <a:ext cx="100080" cy="246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100"/>
              <p:cNvGrpSpPr/>
              <p:nvPr/>
            </p:nvGrpSpPr>
            <p:grpSpPr>
              <a:xfrm>
                <a:off x="8226720" y="2439000"/>
                <a:ext cx="227520" cy="245520"/>
                <a:chOff x="8226720" y="2439000"/>
                <a:chExt cx="227520" cy="245520"/>
              </a:xfrm>
            </p:grpSpPr>
            <p:sp>
              <p:nvSpPr>
                <p:cNvPr id="222" name="Freeform 101"/>
                <p:cNvSpPr/>
                <p:nvPr/>
              </p:nvSpPr>
              <p:spPr>
                <a:xfrm rot="16605000">
                  <a:off x="8271720" y="2462400"/>
                  <a:ext cx="132480" cy="208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02"/>
                <p:cNvSpPr/>
                <p:nvPr/>
              </p:nvSpPr>
              <p:spPr>
                <a:xfrm flipH="1" rot="20601600">
                  <a:off x="8275320" y="2456280"/>
                  <a:ext cx="151920" cy="210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" name="Rectangle 103"/>
            <p:cNvSpPr/>
            <p:nvPr/>
          </p:nvSpPr>
          <p:spPr>
            <a:xfrm>
              <a:off x="7848720" y="0"/>
              <a:ext cx="720720" cy="3068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104"/>
            <p:cNvGrpSpPr/>
            <p:nvPr/>
          </p:nvGrpSpPr>
          <p:grpSpPr>
            <a:xfrm>
              <a:off x="8501400" y="-44280"/>
              <a:ext cx="344880" cy="373320"/>
              <a:chOff x="8501400" y="-44280"/>
              <a:chExt cx="344880" cy="373320"/>
            </a:xfrm>
          </p:grpSpPr>
          <p:sp>
            <p:nvSpPr>
              <p:cNvPr id="226" name="Freeform 105"/>
              <p:cNvSpPr/>
              <p:nvPr/>
            </p:nvSpPr>
            <p:spPr>
              <a:xfrm rot="1368000">
                <a:off x="8560800" y="-14760"/>
                <a:ext cx="215280" cy="314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06"/>
              <p:cNvSpPr/>
              <p:nvPr/>
            </p:nvSpPr>
            <p:spPr>
              <a:xfrm flipH="1" rot="5364600">
                <a:off x="8560800" y="-4680"/>
                <a:ext cx="225720" cy="3427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07"/>
            <p:cNvGrpSpPr/>
            <p:nvPr/>
          </p:nvGrpSpPr>
          <p:grpSpPr>
            <a:xfrm>
              <a:off x="8743320" y="280080"/>
              <a:ext cx="408600" cy="322200"/>
              <a:chOff x="8743320" y="280080"/>
              <a:chExt cx="408600" cy="322200"/>
            </a:xfrm>
          </p:grpSpPr>
          <p:sp>
            <p:nvSpPr>
              <p:cNvPr id="229" name="Freeform 108"/>
              <p:cNvSpPr/>
              <p:nvPr/>
            </p:nvSpPr>
            <p:spPr>
              <a:xfrm rot="17679600">
                <a:off x="8853840" y="259200"/>
                <a:ext cx="187560" cy="363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09"/>
              <p:cNvSpPr/>
              <p:nvPr/>
            </p:nvSpPr>
            <p:spPr>
              <a:xfrm flipH="1" rot="75600">
                <a:off x="8844480" y="290880"/>
                <a:ext cx="261360" cy="298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10"/>
            <p:cNvGrpSpPr/>
            <p:nvPr/>
          </p:nvGrpSpPr>
          <p:grpSpPr>
            <a:xfrm>
              <a:off x="8584560" y="1728360"/>
              <a:ext cx="337680" cy="273960"/>
              <a:chOff x="8584560" y="1728360"/>
              <a:chExt cx="337680" cy="273960"/>
            </a:xfrm>
          </p:grpSpPr>
          <p:sp>
            <p:nvSpPr>
              <p:cNvPr id="232" name="Freeform 111"/>
              <p:cNvSpPr/>
              <p:nvPr/>
            </p:nvSpPr>
            <p:spPr>
              <a:xfrm rot="801000">
                <a:off x="8646120" y="1747440"/>
                <a:ext cx="19548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12"/>
              <p:cNvSpPr/>
              <p:nvPr/>
            </p:nvSpPr>
            <p:spPr>
              <a:xfrm flipH="1" rot="4797600">
                <a:off x="8668080" y="1728360"/>
                <a:ext cx="169920" cy="31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13"/>
            <p:cNvGrpSpPr/>
            <p:nvPr/>
          </p:nvGrpSpPr>
          <p:grpSpPr>
            <a:xfrm>
              <a:off x="8502840" y="963000"/>
              <a:ext cx="344520" cy="327960"/>
              <a:chOff x="8502840" y="963000"/>
              <a:chExt cx="344520" cy="327960"/>
            </a:xfrm>
          </p:grpSpPr>
          <p:sp>
            <p:nvSpPr>
              <p:cNvPr id="235" name="Freeform 114"/>
              <p:cNvSpPr/>
              <p:nvPr/>
            </p:nvSpPr>
            <p:spPr>
              <a:xfrm rot="1368000">
                <a:off x="8560800" y="994320"/>
                <a:ext cx="215280" cy="265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15"/>
              <p:cNvSpPr/>
              <p:nvPr/>
            </p:nvSpPr>
            <p:spPr>
              <a:xfrm flipH="1" rot="5364600">
                <a:off x="8579520" y="977400"/>
                <a:ext cx="190440" cy="3427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16"/>
            <p:cNvGrpSpPr/>
            <p:nvPr/>
          </p:nvGrpSpPr>
          <p:grpSpPr>
            <a:xfrm>
              <a:off x="8465040" y="423720"/>
              <a:ext cx="379800" cy="382320"/>
              <a:chOff x="8465040" y="423720"/>
              <a:chExt cx="379800" cy="382320"/>
            </a:xfrm>
          </p:grpSpPr>
          <p:sp>
            <p:nvSpPr>
              <p:cNvPr id="238" name="Freeform 117"/>
              <p:cNvSpPr/>
              <p:nvPr/>
            </p:nvSpPr>
            <p:spPr>
              <a:xfrm rot="1368000">
                <a:off x="8529120" y="457560"/>
                <a:ext cx="239040" cy="314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18"/>
              <p:cNvSpPr/>
              <p:nvPr/>
            </p:nvSpPr>
            <p:spPr>
              <a:xfrm flipH="1" rot="5364600">
                <a:off x="8541720" y="450720"/>
                <a:ext cx="225720" cy="377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19"/>
            <p:cNvGrpSpPr/>
            <p:nvPr/>
          </p:nvGrpSpPr>
          <p:grpSpPr>
            <a:xfrm>
              <a:off x="8736840" y="681480"/>
              <a:ext cx="408600" cy="322200"/>
              <a:chOff x="8736840" y="681480"/>
              <a:chExt cx="408600" cy="322200"/>
            </a:xfrm>
          </p:grpSpPr>
          <p:sp>
            <p:nvSpPr>
              <p:cNvPr id="241" name="Freeform 120"/>
              <p:cNvSpPr/>
              <p:nvPr/>
            </p:nvSpPr>
            <p:spPr>
              <a:xfrm rot="17679600">
                <a:off x="8847360" y="660600"/>
                <a:ext cx="187560" cy="363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21"/>
              <p:cNvSpPr/>
              <p:nvPr/>
            </p:nvSpPr>
            <p:spPr>
              <a:xfrm flipH="1" rot="75600">
                <a:off x="8838000" y="692280"/>
                <a:ext cx="261360" cy="298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22"/>
            <p:cNvGrpSpPr/>
            <p:nvPr/>
          </p:nvGrpSpPr>
          <p:grpSpPr>
            <a:xfrm>
              <a:off x="8776440" y="1315440"/>
              <a:ext cx="388440" cy="312840"/>
              <a:chOff x="8776440" y="1315440"/>
              <a:chExt cx="388440" cy="312840"/>
            </a:xfrm>
          </p:grpSpPr>
          <p:sp>
            <p:nvSpPr>
              <p:cNvPr id="244" name="Freeform 123"/>
              <p:cNvSpPr/>
              <p:nvPr/>
            </p:nvSpPr>
            <p:spPr>
              <a:xfrm rot="17679600">
                <a:off x="8876520" y="1301040"/>
                <a:ext cx="187560" cy="341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24"/>
              <p:cNvSpPr/>
              <p:nvPr/>
            </p:nvSpPr>
            <p:spPr>
              <a:xfrm flipH="1" rot="75600">
                <a:off x="8872200" y="1323360"/>
                <a:ext cx="245160" cy="298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25"/>
            <p:cNvGrpSpPr/>
            <p:nvPr/>
          </p:nvGrpSpPr>
          <p:grpSpPr>
            <a:xfrm>
              <a:off x="8776080" y="1942200"/>
              <a:ext cx="296640" cy="301680"/>
              <a:chOff x="8776080" y="1942200"/>
              <a:chExt cx="296640" cy="301680"/>
            </a:xfrm>
          </p:grpSpPr>
          <p:sp>
            <p:nvSpPr>
              <p:cNvPr id="247" name="Freeform 126"/>
              <p:cNvSpPr/>
              <p:nvPr/>
            </p:nvSpPr>
            <p:spPr>
              <a:xfrm rot="17679600">
                <a:off x="8829720" y="1978920"/>
                <a:ext cx="189000" cy="239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27"/>
              <p:cNvSpPr/>
              <p:nvPr/>
            </p:nvSpPr>
            <p:spPr>
              <a:xfrm flipH="1" rot="75600">
                <a:off x="8859600" y="1943640"/>
                <a:ext cx="171000" cy="298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28"/>
            <p:cNvGrpSpPr/>
            <p:nvPr/>
          </p:nvGrpSpPr>
          <p:grpSpPr>
            <a:xfrm>
              <a:off x="8834760" y="2786760"/>
              <a:ext cx="277920" cy="321480"/>
              <a:chOff x="8834760" y="2786760"/>
              <a:chExt cx="277920" cy="321480"/>
            </a:xfrm>
          </p:grpSpPr>
          <p:sp>
            <p:nvSpPr>
              <p:cNvPr id="250" name="Freeform 129"/>
              <p:cNvSpPr/>
              <p:nvPr/>
            </p:nvSpPr>
            <p:spPr>
              <a:xfrm rot="17064600">
                <a:off x="8879040" y="2837520"/>
                <a:ext cx="18864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30"/>
              <p:cNvSpPr/>
              <p:nvPr/>
            </p:nvSpPr>
            <p:spPr>
              <a:xfrm flipH="1" rot="21060600">
                <a:off x="8908200" y="2797920"/>
                <a:ext cx="170280" cy="298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31"/>
            <p:cNvGrpSpPr/>
            <p:nvPr/>
          </p:nvGrpSpPr>
          <p:grpSpPr>
            <a:xfrm>
              <a:off x="8550000" y="2396520"/>
              <a:ext cx="335880" cy="274320"/>
              <a:chOff x="8550000" y="2396520"/>
              <a:chExt cx="335880" cy="274320"/>
            </a:xfrm>
          </p:grpSpPr>
          <p:sp>
            <p:nvSpPr>
              <p:cNvPr id="253" name="Freeform 132"/>
              <p:cNvSpPr/>
              <p:nvPr/>
            </p:nvSpPr>
            <p:spPr>
              <a:xfrm rot="801000">
                <a:off x="8609760" y="2415960"/>
                <a:ext cx="1969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33"/>
              <p:cNvSpPr/>
              <p:nvPr/>
            </p:nvSpPr>
            <p:spPr>
              <a:xfrm flipH="1" rot="4797600">
                <a:off x="8632440" y="2397240"/>
                <a:ext cx="169920" cy="311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4"/>
            <p:cNvGrpSpPr/>
            <p:nvPr/>
          </p:nvGrpSpPr>
          <p:grpSpPr>
            <a:xfrm>
              <a:off x="8549640" y="3117240"/>
              <a:ext cx="336240" cy="275760"/>
              <a:chOff x="8549640" y="3117240"/>
              <a:chExt cx="336240" cy="275760"/>
            </a:xfrm>
          </p:grpSpPr>
          <p:sp>
            <p:nvSpPr>
              <p:cNvPr id="256" name="Freeform 135"/>
              <p:cNvSpPr/>
              <p:nvPr/>
            </p:nvSpPr>
            <p:spPr>
              <a:xfrm rot="801000">
                <a:off x="8609400" y="3136680"/>
                <a:ext cx="196920" cy="2365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36"/>
              <p:cNvSpPr/>
              <p:nvPr/>
            </p:nvSpPr>
            <p:spPr>
              <a:xfrm flipH="1" rot="4797600">
                <a:off x="8632080" y="3118680"/>
                <a:ext cx="171000" cy="311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37"/>
            <p:cNvGrpSpPr/>
            <p:nvPr/>
          </p:nvGrpSpPr>
          <p:grpSpPr>
            <a:xfrm>
              <a:off x="8792280" y="3389760"/>
              <a:ext cx="261000" cy="306000"/>
              <a:chOff x="8792280" y="3389760"/>
              <a:chExt cx="261000" cy="306000"/>
            </a:xfrm>
          </p:grpSpPr>
          <p:sp>
            <p:nvSpPr>
              <p:cNvPr id="259" name="Freeform 138"/>
              <p:cNvSpPr/>
              <p:nvPr/>
            </p:nvSpPr>
            <p:spPr>
              <a:xfrm rot="16605000">
                <a:off x="8835120" y="3435120"/>
                <a:ext cx="168840" cy="2365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39"/>
              <p:cNvSpPr/>
              <p:nvPr/>
            </p:nvSpPr>
            <p:spPr>
              <a:xfrm flipH="1" rot="20601600">
                <a:off x="8847360" y="3408480"/>
                <a:ext cx="171000" cy="2682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40"/>
            <p:cNvGrpSpPr/>
            <p:nvPr/>
          </p:nvGrpSpPr>
          <p:grpSpPr>
            <a:xfrm>
              <a:off x="6631560" y="-44640"/>
              <a:ext cx="687960" cy="1645200"/>
              <a:chOff x="6631560" y="-44640"/>
              <a:chExt cx="687960" cy="1645200"/>
            </a:xfrm>
          </p:grpSpPr>
          <p:grpSp>
            <p:nvGrpSpPr>
              <p:cNvPr id="262" name="Group 141"/>
              <p:cNvGrpSpPr/>
              <p:nvPr/>
            </p:nvGrpSpPr>
            <p:grpSpPr>
              <a:xfrm>
                <a:off x="6667920" y="-44640"/>
                <a:ext cx="345600" cy="373320"/>
                <a:chOff x="6667920" y="-44640"/>
                <a:chExt cx="345600" cy="373320"/>
              </a:xfrm>
            </p:grpSpPr>
            <p:sp>
              <p:nvSpPr>
                <p:cNvPr id="263" name="Freeform 142"/>
                <p:cNvSpPr/>
                <p:nvPr/>
              </p:nvSpPr>
              <p:spPr>
                <a:xfrm rot="1368000">
                  <a:off x="6727680" y="-15120"/>
                  <a:ext cx="215640" cy="314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143"/>
                <p:cNvSpPr/>
                <p:nvPr/>
              </p:nvSpPr>
              <p:spPr>
                <a:xfrm flipH="1" rot="5364600">
                  <a:off x="6727680" y="-5040"/>
                  <a:ext cx="225720" cy="343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AutoShape 144"/>
              <p:cNvSpPr/>
              <p:nvPr/>
            </p:nvSpPr>
            <p:spPr>
              <a:xfrm>
                <a:off x="6985800" y="0"/>
                <a:ext cx="34920" cy="134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145"/>
              <p:cNvGrpSpPr/>
              <p:nvPr/>
            </p:nvGrpSpPr>
            <p:grpSpPr>
              <a:xfrm>
                <a:off x="6910200" y="280080"/>
                <a:ext cx="409320" cy="322560"/>
                <a:chOff x="6910200" y="280080"/>
                <a:chExt cx="409320" cy="322560"/>
              </a:xfrm>
            </p:grpSpPr>
            <p:sp>
              <p:nvSpPr>
                <p:cNvPr id="267" name="Freeform 146"/>
                <p:cNvSpPr/>
                <p:nvPr/>
              </p:nvSpPr>
              <p:spPr>
                <a:xfrm rot="17679600">
                  <a:off x="7021080" y="259200"/>
                  <a:ext cx="187560" cy="364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47"/>
                <p:cNvSpPr/>
                <p:nvPr/>
              </p:nvSpPr>
              <p:spPr>
                <a:xfrm flipH="1" rot="75600">
                  <a:off x="7010280" y="290880"/>
                  <a:ext cx="261720" cy="298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148"/>
              <p:cNvGrpSpPr/>
              <p:nvPr/>
            </p:nvGrpSpPr>
            <p:grpSpPr>
              <a:xfrm>
                <a:off x="6631560" y="423720"/>
                <a:ext cx="380520" cy="382320"/>
                <a:chOff x="6631560" y="423720"/>
                <a:chExt cx="380520" cy="382320"/>
              </a:xfrm>
            </p:grpSpPr>
            <p:sp>
              <p:nvSpPr>
                <p:cNvPr id="270" name="Freeform 149"/>
                <p:cNvSpPr/>
                <p:nvPr/>
              </p:nvSpPr>
              <p:spPr>
                <a:xfrm rot="1368000">
                  <a:off x="6696000" y="457560"/>
                  <a:ext cx="239400" cy="314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50"/>
                <p:cNvSpPr/>
                <p:nvPr/>
              </p:nvSpPr>
              <p:spPr>
                <a:xfrm flipH="1" rot="5364600">
                  <a:off x="6708600" y="450360"/>
                  <a:ext cx="225720" cy="378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151"/>
              <p:cNvGrpSpPr/>
              <p:nvPr/>
            </p:nvGrpSpPr>
            <p:grpSpPr>
              <a:xfrm>
                <a:off x="6867720" y="1297080"/>
                <a:ext cx="248040" cy="303480"/>
                <a:chOff x="6867720" y="1297080"/>
                <a:chExt cx="248040" cy="303480"/>
              </a:xfrm>
            </p:grpSpPr>
            <p:sp>
              <p:nvSpPr>
                <p:cNvPr id="273" name="Freeform 152"/>
                <p:cNvSpPr/>
                <p:nvPr/>
              </p:nvSpPr>
              <p:spPr>
                <a:xfrm rot="18729600">
                  <a:off x="6904080" y="1365480"/>
                  <a:ext cx="174600" cy="176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53"/>
                <p:cNvSpPr/>
                <p:nvPr/>
              </p:nvSpPr>
              <p:spPr>
                <a:xfrm flipH="1" rot="1125600">
                  <a:off x="6945840" y="1309680"/>
                  <a:ext cx="126720" cy="277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Rectangle 154"/>
            <p:cNvSpPr/>
            <p:nvPr/>
          </p:nvSpPr>
          <p:spPr>
            <a:xfrm>
              <a:off x="6624720" y="0"/>
              <a:ext cx="684000" cy="1268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62352"/>
                  </a:srgbClr>
                </a:gs>
                <a:gs pos="100000">
                  <a:srgbClr val="ffffff">
                    <a:alpha val="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55"/>
            <p:cNvGrpSpPr/>
            <p:nvPr/>
          </p:nvGrpSpPr>
          <p:grpSpPr>
            <a:xfrm>
              <a:off x="5895000" y="-46440"/>
              <a:ext cx="809280" cy="2741040"/>
              <a:chOff x="5895000" y="-46440"/>
              <a:chExt cx="809280" cy="2741040"/>
            </a:xfrm>
          </p:grpSpPr>
          <p:grpSp>
            <p:nvGrpSpPr>
              <p:cNvPr id="277" name="Group 156"/>
              <p:cNvGrpSpPr/>
              <p:nvPr/>
            </p:nvGrpSpPr>
            <p:grpSpPr>
              <a:xfrm>
                <a:off x="5933880" y="-46440"/>
                <a:ext cx="404280" cy="356760"/>
                <a:chOff x="5933880" y="-46440"/>
                <a:chExt cx="404280" cy="356760"/>
              </a:xfrm>
            </p:grpSpPr>
            <p:sp>
              <p:nvSpPr>
                <p:cNvPr id="278" name="Freeform 157"/>
                <p:cNvSpPr/>
                <p:nvPr/>
              </p:nvSpPr>
              <p:spPr>
                <a:xfrm rot="1368000">
                  <a:off x="5997960" y="-8280"/>
                  <a:ext cx="252720" cy="280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158"/>
                <p:cNvSpPr/>
                <p:nvPr/>
              </p:nvSpPr>
              <p:spPr>
                <a:xfrm flipH="1" rot="5364600">
                  <a:off x="6033960" y="-41040"/>
                  <a:ext cx="203040" cy="402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AutoShape 159"/>
              <p:cNvSpPr/>
              <p:nvPr/>
            </p:nvSpPr>
            <p:spPr>
              <a:xfrm>
                <a:off x="6303240" y="0"/>
                <a:ext cx="34920" cy="241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Group 160"/>
              <p:cNvGrpSpPr/>
              <p:nvPr/>
            </p:nvGrpSpPr>
            <p:grpSpPr>
              <a:xfrm>
                <a:off x="6219360" y="229320"/>
                <a:ext cx="455040" cy="327960"/>
                <a:chOff x="6219360" y="229320"/>
                <a:chExt cx="455040" cy="327960"/>
              </a:xfrm>
            </p:grpSpPr>
            <p:sp>
              <p:nvSpPr>
                <p:cNvPr id="282" name="Freeform 161"/>
                <p:cNvSpPr/>
                <p:nvPr/>
              </p:nvSpPr>
              <p:spPr>
                <a:xfrm rot="17679600">
                  <a:off x="6363720" y="180720"/>
                  <a:ext cx="165960" cy="424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162"/>
                <p:cNvSpPr/>
                <p:nvPr/>
              </p:nvSpPr>
              <p:spPr>
                <a:xfrm flipH="1" rot="75600">
                  <a:off x="6324840" y="261360"/>
                  <a:ext cx="305280" cy="266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Group 163"/>
              <p:cNvGrpSpPr/>
              <p:nvPr/>
            </p:nvGrpSpPr>
            <p:grpSpPr>
              <a:xfrm>
                <a:off x="6010200" y="950760"/>
                <a:ext cx="384840" cy="258480"/>
                <a:chOff x="6010200" y="950760"/>
                <a:chExt cx="384840" cy="258480"/>
              </a:xfrm>
            </p:grpSpPr>
            <p:sp>
              <p:nvSpPr>
                <p:cNvPr id="285" name="Freeform 164"/>
                <p:cNvSpPr/>
                <p:nvPr/>
              </p:nvSpPr>
              <p:spPr>
                <a:xfrm rot="801000">
                  <a:off x="6078600" y="974160"/>
                  <a:ext cx="22896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65"/>
                <p:cNvSpPr/>
                <p:nvPr/>
              </p:nvSpPr>
              <p:spPr>
                <a:xfrm flipH="1" rot="4797600">
                  <a:off x="6125040" y="915480"/>
                  <a:ext cx="153720" cy="363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166"/>
              <p:cNvGrpSpPr/>
              <p:nvPr/>
            </p:nvGrpSpPr>
            <p:grpSpPr>
              <a:xfrm>
                <a:off x="5895000" y="371160"/>
                <a:ext cx="443880" cy="365760"/>
                <a:chOff x="5895000" y="371160"/>
                <a:chExt cx="443880" cy="365760"/>
              </a:xfrm>
            </p:grpSpPr>
            <p:sp>
              <p:nvSpPr>
                <p:cNvPr id="288" name="Freeform 167"/>
                <p:cNvSpPr/>
                <p:nvPr/>
              </p:nvSpPr>
              <p:spPr>
                <a:xfrm rot="1368000">
                  <a:off x="5965200" y="413640"/>
                  <a:ext cx="276120" cy="280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168"/>
                <p:cNvSpPr/>
                <p:nvPr/>
              </p:nvSpPr>
              <p:spPr>
                <a:xfrm flipH="1" rot="5364600">
                  <a:off x="6014880" y="360000"/>
                  <a:ext cx="203040" cy="441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9"/>
              <p:cNvGrpSpPr/>
              <p:nvPr/>
            </p:nvGrpSpPr>
            <p:grpSpPr>
              <a:xfrm>
                <a:off x="6249600" y="843840"/>
                <a:ext cx="454680" cy="327600"/>
                <a:chOff x="6249600" y="843840"/>
                <a:chExt cx="454680" cy="327600"/>
              </a:xfrm>
            </p:grpSpPr>
            <p:sp>
              <p:nvSpPr>
                <p:cNvPr id="291" name="Freeform 170"/>
                <p:cNvSpPr/>
                <p:nvPr/>
              </p:nvSpPr>
              <p:spPr>
                <a:xfrm rot="17679600">
                  <a:off x="6393600" y="795600"/>
                  <a:ext cx="165960" cy="424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171"/>
                <p:cNvSpPr/>
                <p:nvPr/>
              </p:nvSpPr>
              <p:spPr>
                <a:xfrm flipH="1" rot="75600">
                  <a:off x="6354360" y="875880"/>
                  <a:ext cx="304920" cy="266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72"/>
              <p:cNvGrpSpPr/>
              <p:nvPr/>
            </p:nvGrpSpPr>
            <p:grpSpPr>
              <a:xfrm>
                <a:off x="6245280" y="1145160"/>
                <a:ext cx="322560" cy="270720"/>
                <a:chOff x="6245280" y="1145160"/>
                <a:chExt cx="322560" cy="270720"/>
              </a:xfrm>
            </p:grpSpPr>
            <p:sp>
              <p:nvSpPr>
                <p:cNvPr id="294" name="Freeform 173"/>
                <p:cNvSpPr/>
                <p:nvPr/>
              </p:nvSpPr>
              <p:spPr>
                <a:xfrm rot="17679600">
                  <a:off x="6322680" y="1142640"/>
                  <a:ext cx="167400" cy="278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174"/>
                <p:cNvSpPr/>
                <p:nvPr/>
              </p:nvSpPr>
              <p:spPr>
                <a:xfrm flipH="1" rot="75600">
                  <a:off x="6325200" y="1146960"/>
                  <a:ext cx="199800" cy="266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175"/>
              <p:cNvGrpSpPr/>
              <p:nvPr/>
            </p:nvGrpSpPr>
            <p:grpSpPr>
              <a:xfrm>
                <a:off x="6242040" y="1765440"/>
                <a:ext cx="317880" cy="283680"/>
                <a:chOff x="6242040" y="1765440"/>
                <a:chExt cx="317880" cy="283680"/>
              </a:xfrm>
            </p:grpSpPr>
            <p:sp>
              <p:nvSpPr>
                <p:cNvPr id="297" name="Freeform 176"/>
                <p:cNvSpPr/>
                <p:nvPr/>
              </p:nvSpPr>
              <p:spPr>
                <a:xfrm rot="17293200">
                  <a:off x="6317280" y="1772640"/>
                  <a:ext cx="167400" cy="279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177"/>
                <p:cNvSpPr/>
                <p:nvPr/>
              </p:nvSpPr>
              <p:spPr>
                <a:xfrm flipH="1" rot="21289800">
                  <a:off x="6322320" y="1773720"/>
                  <a:ext cx="202320" cy="266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78"/>
              <p:cNvGrpSpPr/>
              <p:nvPr/>
            </p:nvGrpSpPr>
            <p:grpSpPr>
              <a:xfrm>
                <a:off x="5951880" y="1455120"/>
                <a:ext cx="381960" cy="254520"/>
                <a:chOff x="5951880" y="1455120"/>
                <a:chExt cx="381960" cy="254520"/>
              </a:xfrm>
            </p:grpSpPr>
            <p:sp>
              <p:nvSpPr>
                <p:cNvPr id="300" name="Freeform 179"/>
                <p:cNvSpPr/>
                <p:nvPr/>
              </p:nvSpPr>
              <p:spPr>
                <a:xfrm rot="801000">
                  <a:off x="6021000" y="1477800"/>
                  <a:ext cx="223560" cy="208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180"/>
                <p:cNvSpPr/>
                <p:nvPr/>
              </p:nvSpPr>
              <p:spPr>
                <a:xfrm flipH="1" rot="4797600">
                  <a:off x="6066720" y="1420200"/>
                  <a:ext cx="151560" cy="361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181"/>
              <p:cNvGrpSpPr/>
              <p:nvPr/>
            </p:nvGrpSpPr>
            <p:grpSpPr>
              <a:xfrm>
                <a:off x="5948640" y="2043360"/>
                <a:ext cx="381960" cy="257400"/>
                <a:chOff x="5948640" y="2043360"/>
                <a:chExt cx="381960" cy="257400"/>
              </a:xfrm>
            </p:grpSpPr>
            <p:sp>
              <p:nvSpPr>
                <p:cNvPr id="303" name="Freeform 182"/>
                <p:cNvSpPr/>
                <p:nvPr/>
              </p:nvSpPr>
              <p:spPr>
                <a:xfrm rot="801000">
                  <a:off x="6021000" y="2066040"/>
                  <a:ext cx="22356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183"/>
                <p:cNvSpPr/>
                <p:nvPr/>
              </p:nvSpPr>
              <p:spPr>
                <a:xfrm flipH="1" rot="4797600">
                  <a:off x="6063120" y="2008080"/>
                  <a:ext cx="151920" cy="360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184"/>
              <p:cNvGrpSpPr/>
              <p:nvPr/>
            </p:nvGrpSpPr>
            <p:grpSpPr>
              <a:xfrm>
                <a:off x="6189120" y="2352600"/>
                <a:ext cx="262440" cy="342000"/>
                <a:chOff x="6189120" y="2352600"/>
                <a:chExt cx="262440" cy="342000"/>
              </a:xfrm>
            </p:grpSpPr>
            <p:sp>
              <p:nvSpPr>
                <p:cNvPr id="306" name="Freeform 185"/>
                <p:cNvSpPr/>
                <p:nvPr/>
              </p:nvSpPr>
              <p:spPr>
                <a:xfrm rot="19112400">
                  <a:off x="6215400" y="2440800"/>
                  <a:ext cx="205200" cy="157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86"/>
                <p:cNvSpPr/>
                <p:nvPr/>
              </p:nvSpPr>
              <p:spPr>
                <a:xfrm flipH="1" rot="1509000">
                  <a:off x="6275160" y="2360880"/>
                  <a:ext cx="112680" cy="324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187"/>
              <p:cNvGrpSpPr/>
              <p:nvPr/>
            </p:nvGrpSpPr>
            <p:grpSpPr>
              <a:xfrm>
                <a:off x="6295680" y="2163240"/>
                <a:ext cx="291960" cy="286200"/>
                <a:chOff x="6295680" y="2163240"/>
                <a:chExt cx="291960" cy="286200"/>
              </a:xfrm>
            </p:grpSpPr>
            <p:sp>
              <p:nvSpPr>
                <p:cNvPr id="309" name="Freeform 188"/>
                <p:cNvSpPr/>
                <p:nvPr/>
              </p:nvSpPr>
              <p:spPr>
                <a:xfrm rot="16605000">
                  <a:off x="6365520" y="2176560"/>
                  <a:ext cx="150480" cy="27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89"/>
                <p:cNvSpPr/>
                <p:nvPr/>
              </p:nvSpPr>
              <p:spPr>
                <a:xfrm flipH="1" rot="20601600">
                  <a:off x="6358320" y="2186640"/>
                  <a:ext cx="198720" cy="239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Group 190"/>
            <p:cNvGrpSpPr/>
            <p:nvPr/>
          </p:nvGrpSpPr>
          <p:grpSpPr>
            <a:xfrm>
              <a:off x="5105520" y="-33120"/>
              <a:ext cx="568440" cy="2621880"/>
              <a:chOff x="5105520" y="-33120"/>
              <a:chExt cx="568440" cy="2621880"/>
            </a:xfrm>
          </p:grpSpPr>
          <p:grpSp>
            <p:nvGrpSpPr>
              <p:cNvPr id="312" name="Group 191"/>
              <p:cNvGrpSpPr/>
              <p:nvPr/>
            </p:nvGrpSpPr>
            <p:grpSpPr>
              <a:xfrm>
                <a:off x="5146200" y="-33120"/>
                <a:ext cx="289800" cy="274320"/>
                <a:chOff x="5146200" y="-33120"/>
                <a:chExt cx="289800" cy="274320"/>
              </a:xfrm>
            </p:grpSpPr>
            <p:sp>
              <p:nvSpPr>
                <p:cNvPr id="313" name="Freeform 192"/>
                <p:cNvSpPr/>
                <p:nvPr/>
              </p:nvSpPr>
              <p:spPr>
                <a:xfrm rot="1368000">
                  <a:off x="5194800" y="-6840"/>
                  <a:ext cx="179640" cy="222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193"/>
                <p:cNvSpPr/>
                <p:nvPr/>
              </p:nvSpPr>
              <p:spPr>
                <a:xfrm flipH="1" rot="5364600">
                  <a:off x="5211000" y="-18360"/>
                  <a:ext cx="158760" cy="288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AutoShape 194"/>
              <p:cNvSpPr/>
              <p:nvPr/>
            </p:nvSpPr>
            <p:spPr>
              <a:xfrm>
                <a:off x="5408280" y="0"/>
                <a:ext cx="30240" cy="2439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Group 195"/>
              <p:cNvGrpSpPr/>
              <p:nvPr/>
            </p:nvGrpSpPr>
            <p:grpSpPr>
              <a:xfrm>
                <a:off x="5334480" y="200160"/>
                <a:ext cx="330480" cy="246600"/>
                <a:chOff x="5334480" y="200160"/>
                <a:chExt cx="330480" cy="246600"/>
              </a:xfrm>
            </p:grpSpPr>
            <p:sp>
              <p:nvSpPr>
                <p:cNvPr id="317" name="Freeform 196"/>
                <p:cNvSpPr/>
                <p:nvPr/>
              </p:nvSpPr>
              <p:spPr>
                <a:xfrm rot="17679600">
                  <a:off x="5433480" y="171720"/>
                  <a:ext cx="132120" cy="303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97"/>
                <p:cNvSpPr/>
                <p:nvPr/>
              </p:nvSpPr>
              <p:spPr>
                <a:xfrm flipH="1" rot="75600">
                  <a:off x="5411160" y="218160"/>
                  <a:ext cx="219600" cy="210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98"/>
              <p:cNvGrpSpPr/>
              <p:nvPr/>
            </p:nvGrpSpPr>
            <p:grpSpPr>
              <a:xfrm>
                <a:off x="5200560" y="1221120"/>
                <a:ext cx="277200" cy="200160"/>
                <a:chOff x="5200560" y="1221120"/>
                <a:chExt cx="277200" cy="200160"/>
              </a:xfrm>
            </p:grpSpPr>
            <p:sp>
              <p:nvSpPr>
                <p:cNvPr id="320" name="Freeform 199"/>
                <p:cNvSpPr/>
                <p:nvPr/>
              </p:nvSpPr>
              <p:spPr>
                <a:xfrm rot="801000">
                  <a:off x="5250600" y="1237680"/>
                  <a:ext cx="163800" cy="166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200"/>
                <p:cNvSpPr/>
                <p:nvPr/>
              </p:nvSpPr>
              <p:spPr>
                <a:xfrm flipH="1" rot="4797600">
                  <a:off x="5278680" y="1203480"/>
                  <a:ext cx="120600" cy="260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1"/>
              <p:cNvGrpSpPr/>
              <p:nvPr/>
            </p:nvGrpSpPr>
            <p:grpSpPr>
              <a:xfrm>
                <a:off x="5144760" y="680400"/>
                <a:ext cx="289440" cy="242640"/>
                <a:chOff x="5144760" y="680400"/>
                <a:chExt cx="289440" cy="242640"/>
              </a:xfrm>
            </p:grpSpPr>
            <p:sp>
              <p:nvSpPr>
                <p:cNvPr id="323" name="Freeform 202"/>
                <p:cNvSpPr/>
                <p:nvPr/>
              </p:nvSpPr>
              <p:spPr>
                <a:xfrm rot="1368000">
                  <a:off x="5194800" y="708120"/>
                  <a:ext cx="181080" cy="187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03"/>
                <p:cNvSpPr/>
                <p:nvPr/>
              </p:nvSpPr>
              <p:spPr>
                <a:xfrm flipH="1" rot="5364600">
                  <a:off x="5221800" y="676440"/>
                  <a:ext cx="134640" cy="288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204"/>
              <p:cNvGrpSpPr/>
              <p:nvPr/>
            </p:nvGrpSpPr>
            <p:grpSpPr>
              <a:xfrm>
                <a:off x="5105520" y="291960"/>
                <a:ext cx="317520" cy="281520"/>
                <a:chOff x="5105520" y="291960"/>
                <a:chExt cx="317520" cy="281520"/>
              </a:xfrm>
            </p:grpSpPr>
            <p:sp>
              <p:nvSpPr>
                <p:cNvPr id="326" name="Freeform 205"/>
                <p:cNvSpPr/>
                <p:nvPr/>
              </p:nvSpPr>
              <p:spPr>
                <a:xfrm rot="1368000">
                  <a:off x="5155200" y="321480"/>
                  <a:ext cx="197640" cy="222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206"/>
                <p:cNvSpPr/>
                <p:nvPr/>
              </p:nvSpPr>
              <p:spPr>
                <a:xfrm flipH="1" rot="5364600">
                  <a:off x="5184720" y="294120"/>
                  <a:ext cx="158400" cy="315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207"/>
              <p:cNvGrpSpPr/>
              <p:nvPr/>
            </p:nvGrpSpPr>
            <p:grpSpPr>
              <a:xfrm>
                <a:off x="5334480" y="471960"/>
                <a:ext cx="329760" cy="244800"/>
                <a:chOff x="5334480" y="471960"/>
                <a:chExt cx="329760" cy="244800"/>
              </a:xfrm>
            </p:grpSpPr>
            <p:sp>
              <p:nvSpPr>
                <p:cNvPr id="329" name="Freeform 208"/>
                <p:cNvSpPr/>
                <p:nvPr/>
              </p:nvSpPr>
              <p:spPr>
                <a:xfrm rot="17679600">
                  <a:off x="5434200" y="442800"/>
                  <a:ext cx="130320" cy="303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09"/>
                <p:cNvSpPr/>
                <p:nvPr/>
              </p:nvSpPr>
              <p:spPr>
                <a:xfrm flipH="1" rot="75600">
                  <a:off x="5411160" y="488880"/>
                  <a:ext cx="218160" cy="2091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210"/>
              <p:cNvGrpSpPr/>
              <p:nvPr/>
            </p:nvGrpSpPr>
            <p:grpSpPr>
              <a:xfrm>
                <a:off x="5359680" y="936000"/>
                <a:ext cx="314280" cy="238680"/>
                <a:chOff x="5359680" y="936000"/>
                <a:chExt cx="314280" cy="238680"/>
              </a:xfrm>
            </p:grpSpPr>
            <p:sp>
              <p:nvSpPr>
                <p:cNvPr id="332" name="Freeform 211"/>
                <p:cNvSpPr/>
                <p:nvPr/>
              </p:nvSpPr>
              <p:spPr>
                <a:xfrm rot="17679600">
                  <a:off x="5450760" y="912600"/>
                  <a:ext cx="131400" cy="285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212"/>
                <p:cNvSpPr/>
                <p:nvPr/>
              </p:nvSpPr>
              <p:spPr>
                <a:xfrm flipH="1" rot="75600">
                  <a:off x="5436000" y="948960"/>
                  <a:ext cx="204480" cy="2091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13"/>
              <p:cNvGrpSpPr/>
              <p:nvPr/>
            </p:nvGrpSpPr>
            <p:grpSpPr>
              <a:xfrm>
                <a:off x="5362200" y="1385640"/>
                <a:ext cx="236520" cy="212400"/>
                <a:chOff x="5362200" y="1385640"/>
                <a:chExt cx="236520" cy="212400"/>
              </a:xfrm>
            </p:grpSpPr>
            <p:sp>
              <p:nvSpPr>
                <p:cNvPr id="335" name="Freeform 214"/>
                <p:cNvSpPr/>
                <p:nvPr/>
              </p:nvSpPr>
              <p:spPr>
                <a:xfrm rot="17679600">
                  <a:off x="5414400" y="1393920"/>
                  <a:ext cx="132120" cy="199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215"/>
                <p:cNvSpPr/>
                <p:nvPr/>
              </p:nvSpPr>
              <p:spPr>
                <a:xfrm flipH="1" rot="75600">
                  <a:off x="5426280" y="1387080"/>
                  <a:ext cx="142200" cy="2091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216"/>
              <p:cNvGrpSpPr/>
              <p:nvPr/>
            </p:nvGrpSpPr>
            <p:grpSpPr>
              <a:xfrm>
                <a:off x="5360760" y="1873440"/>
                <a:ext cx="230400" cy="223560"/>
                <a:chOff x="5360760" y="1873440"/>
                <a:chExt cx="230400" cy="223560"/>
              </a:xfrm>
            </p:grpSpPr>
            <p:sp>
              <p:nvSpPr>
                <p:cNvPr id="338" name="Freeform 217"/>
                <p:cNvSpPr/>
                <p:nvPr/>
              </p:nvSpPr>
              <p:spPr>
                <a:xfrm rot="17293200">
                  <a:off x="5410800" y="1892160"/>
                  <a:ext cx="130320" cy="199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218"/>
                <p:cNvSpPr/>
                <p:nvPr/>
              </p:nvSpPr>
              <p:spPr>
                <a:xfrm flipH="1" rot="21289800">
                  <a:off x="5419080" y="1879200"/>
                  <a:ext cx="14220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19"/>
              <p:cNvGrpSpPr/>
              <p:nvPr/>
            </p:nvGrpSpPr>
            <p:grpSpPr>
              <a:xfrm>
                <a:off x="5169600" y="1635840"/>
                <a:ext cx="277200" cy="198360"/>
                <a:chOff x="5169600" y="1635840"/>
                <a:chExt cx="277200" cy="198360"/>
              </a:xfrm>
            </p:grpSpPr>
            <p:sp>
              <p:nvSpPr>
                <p:cNvPr id="341" name="Freeform 220"/>
                <p:cNvSpPr/>
                <p:nvPr/>
              </p:nvSpPr>
              <p:spPr>
                <a:xfrm rot="801000">
                  <a:off x="5217840" y="1652400"/>
                  <a:ext cx="164160" cy="164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21"/>
                <p:cNvSpPr/>
                <p:nvPr/>
              </p:nvSpPr>
              <p:spPr>
                <a:xfrm flipH="1" rot="4797600">
                  <a:off x="5248440" y="1616760"/>
                  <a:ext cx="119160" cy="260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222"/>
              <p:cNvGrpSpPr/>
              <p:nvPr/>
            </p:nvGrpSpPr>
            <p:grpSpPr>
              <a:xfrm>
                <a:off x="5169240" y="2090520"/>
                <a:ext cx="277200" cy="200160"/>
                <a:chOff x="5169240" y="2090520"/>
                <a:chExt cx="277200" cy="200160"/>
              </a:xfrm>
            </p:grpSpPr>
            <p:sp>
              <p:nvSpPr>
                <p:cNvPr id="344" name="Freeform 223"/>
                <p:cNvSpPr/>
                <p:nvPr/>
              </p:nvSpPr>
              <p:spPr>
                <a:xfrm rot="801000">
                  <a:off x="5218920" y="2107080"/>
                  <a:ext cx="164160" cy="166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24"/>
                <p:cNvSpPr/>
                <p:nvPr/>
              </p:nvSpPr>
              <p:spPr>
                <a:xfrm flipH="1" rot="4797600">
                  <a:off x="5247360" y="2071440"/>
                  <a:ext cx="120600" cy="260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225"/>
              <p:cNvGrpSpPr/>
              <p:nvPr/>
            </p:nvGrpSpPr>
            <p:grpSpPr>
              <a:xfrm>
                <a:off x="5326560" y="2346120"/>
                <a:ext cx="207360" cy="242640"/>
                <a:chOff x="5326560" y="2346120"/>
                <a:chExt cx="207360" cy="242640"/>
              </a:xfrm>
            </p:grpSpPr>
            <p:sp>
              <p:nvSpPr>
                <p:cNvPr id="347" name="Freeform 226"/>
                <p:cNvSpPr/>
                <p:nvPr/>
              </p:nvSpPr>
              <p:spPr>
                <a:xfrm rot="19658400">
                  <a:off x="5348520" y="2399400"/>
                  <a:ext cx="146520" cy="125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227"/>
                <p:cNvSpPr/>
                <p:nvPr/>
              </p:nvSpPr>
              <p:spPr>
                <a:xfrm flipH="1" rot="2055000">
                  <a:off x="5386320" y="2351160"/>
                  <a:ext cx="8928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228"/>
              <p:cNvGrpSpPr/>
              <p:nvPr/>
            </p:nvGrpSpPr>
            <p:grpSpPr>
              <a:xfrm>
                <a:off x="5409360" y="2182320"/>
                <a:ext cx="214560" cy="223200"/>
                <a:chOff x="5409360" y="2182320"/>
                <a:chExt cx="214560" cy="223200"/>
              </a:xfrm>
            </p:grpSpPr>
            <p:sp>
              <p:nvSpPr>
                <p:cNvPr id="350" name="Freeform 229"/>
                <p:cNvSpPr/>
                <p:nvPr/>
              </p:nvSpPr>
              <p:spPr>
                <a:xfrm rot="16605000">
                  <a:off x="5455800" y="2198520"/>
                  <a:ext cx="118080" cy="198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30"/>
                <p:cNvSpPr/>
                <p:nvPr/>
              </p:nvSpPr>
              <p:spPr>
                <a:xfrm flipH="1" rot="20601600">
                  <a:off x="5456160" y="2198520"/>
                  <a:ext cx="143280" cy="190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Rectangle 231"/>
            <p:cNvSpPr/>
            <p:nvPr/>
          </p:nvSpPr>
          <p:spPr>
            <a:xfrm>
              <a:off x="5040360" y="7920"/>
              <a:ext cx="674640" cy="2744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232"/>
            <p:cNvGrpSpPr/>
            <p:nvPr/>
          </p:nvGrpSpPr>
          <p:grpSpPr>
            <a:xfrm>
              <a:off x="4538880" y="0"/>
              <a:ext cx="494640" cy="1698480"/>
              <a:chOff x="4538880" y="0"/>
              <a:chExt cx="494640" cy="1698480"/>
            </a:xfrm>
          </p:grpSpPr>
          <p:sp>
            <p:nvSpPr>
              <p:cNvPr id="354" name="AutoShape 233"/>
              <p:cNvSpPr/>
              <p:nvPr/>
            </p:nvSpPr>
            <p:spPr>
              <a:xfrm>
                <a:off x="4814280" y="0"/>
                <a:ext cx="34920" cy="152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234"/>
              <p:cNvGrpSpPr/>
              <p:nvPr/>
            </p:nvGrpSpPr>
            <p:grpSpPr>
              <a:xfrm>
                <a:off x="4572360" y="159120"/>
                <a:ext cx="294480" cy="220680"/>
                <a:chOff x="4572360" y="159120"/>
                <a:chExt cx="294480" cy="220680"/>
              </a:xfrm>
            </p:grpSpPr>
            <p:sp>
              <p:nvSpPr>
                <p:cNvPr id="356" name="Freeform 235"/>
                <p:cNvSpPr/>
                <p:nvPr/>
              </p:nvSpPr>
              <p:spPr>
                <a:xfrm rot="801000">
                  <a:off x="4624560" y="176400"/>
                  <a:ext cx="17316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36"/>
                <p:cNvSpPr/>
                <p:nvPr/>
              </p:nvSpPr>
              <p:spPr>
                <a:xfrm flipH="1" rot="4797600">
                  <a:off x="4652640" y="145440"/>
                  <a:ext cx="133560" cy="27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237"/>
              <p:cNvGrpSpPr/>
              <p:nvPr/>
            </p:nvGrpSpPr>
            <p:grpSpPr>
              <a:xfrm>
                <a:off x="4761360" y="351000"/>
                <a:ext cx="255240" cy="238320"/>
                <a:chOff x="4761360" y="351000"/>
                <a:chExt cx="255240" cy="238320"/>
              </a:xfrm>
            </p:grpSpPr>
            <p:sp>
              <p:nvSpPr>
                <p:cNvPr id="359" name="Freeform 238"/>
                <p:cNvSpPr/>
                <p:nvPr/>
              </p:nvSpPr>
              <p:spPr>
                <a:xfrm rot="17679600">
                  <a:off x="4815000" y="362880"/>
                  <a:ext cx="147600" cy="213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39"/>
                <p:cNvSpPr/>
                <p:nvPr/>
              </p:nvSpPr>
              <p:spPr>
                <a:xfrm flipH="1" rot="75600">
                  <a:off x="4828680" y="352440"/>
                  <a:ext cx="153720" cy="235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240"/>
              <p:cNvGrpSpPr/>
              <p:nvPr/>
            </p:nvGrpSpPr>
            <p:grpSpPr>
              <a:xfrm>
                <a:off x="4754880" y="918000"/>
                <a:ext cx="248040" cy="244800"/>
                <a:chOff x="4754880" y="918000"/>
                <a:chExt cx="248040" cy="244800"/>
              </a:xfrm>
            </p:grpSpPr>
            <p:sp>
              <p:nvSpPr>
                <p:cNvPr id="362" name="Freeform 241"/>
                <p:cNvSpPr/>
                <p:nvPr/>
              </p:nvSpPr>
              <p:spPr>
                <a:xfrm rot="17293200">
                  <a:off x="4805640" y="938520"/>
                  <a:ext cx="145800" cy="213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42"/>
                <p:cNvSpPr/>
                <p:nvPr/>
              </p:nvSpPr>
              <p:spPr>
                <a:xfrm flipH="1" rot="21289800">
                  <a:off x="4821480" y="924120"/>
                  <a:ext cx="154080" cy="2318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243"/>
              <p:cNvGrpSpPr/>
              <p:nvPr/>
            </p:nvGrpSpPr>
            <p:grpSpPr>
              <a:xfrm>
                <a:off x="4538880" y="618120"/>
                <a:ext cx="294480" cy="220680"/>
                <a:chOff x="4538880" y="618120"/>
                <a:chExt cx="294480" cy="220680"/>
              </a:xfrm>
            </p:grpSpPr>
            <p:sp>
              <p:nvSpPr>
                <p:cNvPr id="365" name="Freeform 244"/>
                <p:cNvSpPr/>
                <p:nvPr/>
              </p:nvSpPr>
              <p:spPr>
                <a:xfrm rot="801000">
                  <a:off x="4591080" y="635400"/>
                  <a:ext cx="17316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45"/>
                <p:cNvSpPr/>
                <p:nvPr/>
              </p:nvSpPr>
              <p:spPr>
                <a:xfrm flipH="1" rot="4797600">
                  <a:off x="4619160" y="604440"/>
                  <a:ext cx="133560" cy="27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246"/>
              <p:cNvGrpSpPr/>
              <p:nvPr/>
            </p:nvGrpSpPr>
            <p:grpSpPr>
              <a:xfrm>
                <a:off x="4538880" y="1129320"/>
                <a:ext cx="294480" cy="220680"/>
                <a:chOff x="4538880" y="1129320"/>
                <a:chExt cx="294480" cy="220680"/>
              </a:xfrm>
            </p:grpSpPr>
            <p:sp>
              <p:nvSpPr>
                <p:cNvPr id="368" name="Freeform 247"/>
                <p:cNvSpPr/>
                <p:nvPr/>
              </p:nvSpPr>
              <p:spPr>
                <a:xfrm rot="801000">
                  <a:off x="4591080" y="1146600"/>
                  <a:ext cx="17316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248"/>
                <p:cNvSpPr/>
                <p:nvPr/>
              </p:nvSpPr>
              <p:spPr>
                <a:xfrm flipH="1" rot="4797600">
                  <a:off x="4619160" y="1115640"/>
                  <a:ext cx="133560" cy="27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Group 249"/>
              <p:cNvGrpSpPr/>
              <p:nvPr/>
            </p:nvGrpSpPr>
            <p:grpSpPr>
              <a:xfrm>
                <a:off x="4687920" y="1439640"/>
                <a:ext cx="225360" cy="258840"/>
                <a:chOff x="4687920" y="1439640"/>
                <a:chExt cx="225360" cy="258840"/>
              </a:xfrm>
            </p:grpSpPr>
            <p:sp>
              <p:nvSpPr>
                <p:cNvPr id="371" name="Freeform 250"/>
                <p:cNvSpPr/>
                <p:nvPr/>
              </p:nvSpPr>
              <p:spPr>
                <a:xfrm rot="19658400">
                  <a:off x="4713120" y="1495800"/>
                  <a:ext cx="153000" cy="139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251"/>
                <p:cNvSpPr/>
                <p:nvPr/>
              </p:nvSpPr>
              <p:spPr>
                <a:xfrm flipH="1" rot="2055000">
                  <a:off x="4753080" y="1446480"/>
                  <a:ext cx="99720" cy="2451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52"/>
              <p:cNvGrpSpPr/>
              <p:nvPr/>
            </p:nvGrpSpPr>
            <p:grpSpPr>
              <a:xfrm>
                <a:off x="4803480" y="1235880"/>
                <a:ext cx="230040" cy="248040"/>
                <a:chOff x="4803480" y="1235880"/>
                <a:chExt cx="230040" cy="248040"/>
              </a:xfrm>
            </p:grpSpPr>
            <p:sp>
              <p:nvSpPr>
                <p:cNvPr id="374" name="Freeform 253"/>
                <p:cNvSpPr/>
                <p:nvPr/>
              </p:nvSpPr>
              <p:spPr>
                <a:xfrm rot="16605000">
                  <a:off x="4849200" y="1257120"/>
                  <a:ext cx="13356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254"/>
                <p:cNvSpPr/>
                <p:nvPr/>
              </p:nvSpPr>
              <p:spPr>
                <a:xfrm flipH="1" rot="20601600">
                  <a:off x="4852800" y="1253160"/>
                  <a:ext cx="153360" cy="213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Group 255"/>
            <p:cNvGrpSpPr/>
            <p:nvPr/>
          </p:nvGrpSpPr>
          <p:grpSpPr>
            <a:xfrm>
              <a:off x="3494160" y="0"/>
              <a:ext cx="494280" cy="1404720"/>
              <a:chOff x="3494160" y="0"/>
              <a:chExt cx="494280" cy="1404720"/>
            </a:xfrm>
          </p:grpSpPr>
          <p:sp>
            <p:nvSpPr>
              <p:cNvPr id="377" name="AutoShape 256"/>
              <p:cNvSpPr/>
              <p:nvPr/>
            </p:nvSpPr>
            <p:spPr>
              <a:xfrm>
                <a:off x="3769560" y="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257"/>
              <p:cNvGrpSpPr/>
              <p:nvPr/>
            </p:nvGrpSpPr>
            <p:grpSpPr>
              <a:xfrm>
                <a:off x="3710520" y="603720"/>
                <a:ext cx="248400" cy="244800"/>
                <a:chOff x="3710520" y="603720"/>
                <a:chExt cx="248400" cy="244800"/>
              </a:xfrm>
            </p:grpSpPr>
            <p:sp>
              <p:nvSpPr>
                <p:cNvPr id="379" name="Freeform 258"/>
                <p:cNvSpPr/>
                <p:nvPr/>
              </p:nvSpPr>
              <p:spPr>
                <a:xfrm rot="17293200">
                  <a:off x="3761640" y="623880"/>
                  <a:ext cx="145800" cy="213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259"/>
                <p:cNvSpPr/>
                <p:nvPr/>
              </p:nvSpPr>
              <p:spPr>
                <a:xfrm flipH="1" rot="21289800">
                  <a:off x="3777120" y="609840"/>
                  <a:ext cx="154080" cy="2318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260"/>
              <p:cNvGrpSpPr/>
              <p:nvPr/>
            </p:nvGrpSpPr>
            <p:grpSpPr>
              <a:xfrm>
                <a:off x="3494160" y="303840"/>
                <a:ext cx="294480" cy="220680"/>
                <a:chOff x="3494160" y="303840"/>
                <a:chExt cx="294480" cy="220680"/>
              </a:xfrm>
            </p:grpSpPr>
            <p:sp>
              <p:nvSpPr>
                <p:cNvPr id="382" name="Freeform 261"/>
                <p:cNvSpPr/>
                <p:nvPr/>
              </p:nvSpPr>
              <p:spPr>
                <a:xfrm rot="801000">
                  <a:off x="3546360" y="321120"/>
                  <a:ext cx="17316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262"/>
                <p:cNvSpPr/>
                <p:nvPr/>
              </p:nvSpPr>
              <p:spPr>
                <a:xfrm flipH="1" rot="4797600">
                  <a:off x="3574440" y="290160"/>
                  <a:ext cx="133560" cy="27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263"/>
              <p:cNvGrpSpPr/>
              <p:nvPr/>
            </p:nvGrpSpPr>
            <p:grpSpPr>
              <a:xfrm>
                <a:off x="3494160" y="815040"/>
                <a:ext cx="294480" cy="220320"/>
                <a:chOff x="3494160" y="815040"/>
                <a:chExt cx="294480" cy="220320"/>
              </a:xfrm>
            </p:grpSpPr>
            <p:sp>
              <p:nvSpPr>
                <p:cNvPr id="385" name="Freeform 264"/>
                <p:cNvSpPr/>
                <p:nvPr/>
              </p:nvSpPr>
              <p:spPr>
                <a:xfrm rot="801000">
                  <a:off x="3546720" y="832320"/>
                  <a:ext cx="173160" cy="18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265"/>
                <p:cNvSpPr/>
                <p:nvPr/>
              </p:nvSpPr>
              <p:spPr>
                <a:xfrm flipH="1" rot="4797600">
                  <a:off x="3574440" y="801720"/>
                  <a:ext cx="133200" cy="27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266"/>
              <p:cNvGrpSpPr/>
              <p:nvPr/>
            </p:nvGrpSpPr>
            <p:grpSpPr>
              <a:xfrm>
                <a:off x="3657240" y="1142640"/>
                <a:ext cx="204480" cy="262080"/>
                <a:chOff x="3657240" y="1142640"/>
                <a:chExt cx="204480" cy="262080"/>
              </a:xfrm>
            </p:grpSpPr>
            <p:sp>
              <p:nvSpPr>
                <p:cNvPr id="388" name="Freeform 267"/>
                <p:cNvSpPr/>
                <p:nvPr/>
              </p:nvSpPr>
              <p:spPr>
                <a:xfrm rot="18480000">
                  <a:off x="3682800" y="1202760"/>
                  <a:ext cx="153000" cy="140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68"/>
                <p:cNvSpPr/>
                <p:nvPr/>
              </p:nvSpPr>
              <p:spPr>
                <a:xfrm flipH="1" rot="876600">
                  <a:off x="3722040" y="1150920"/>
                  <a:ext cx="100080" cy="244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269"/>
              <p:cNvGrpSpPr/>
              <p:nvPr/>
            </p:nvGrpSpPr>
            <p:grpSpPr>
              <a:xfrm>
                <a:off x="3758760" y="921960"/>
                <a:ext cx="229680" cy="247680"/>
                <a:chOff x="3758760" y="921960"/>
                <a:chExt cx="229680" cy="247680"/>
              </a:xfrm>
            </p:grpSpPr>
            <p:sp>
              <p:nvSpPr>
                <p:cNvPr id="391" name="Freeform 270"/>
                <p:cNvSpPr/>
                <p:nvPr/>
              </p:nvSpPr>
              <p:spPr>
                <a:xfrm rot="16605000">
                  <a:off x="3804840" y="942840"/>
                  <a:ext cx="133560" cy="211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271"/>
                <p:cNvSpPr/>
                <p:nvPr/>
              </p:nvSpPr>
              <p:spPr>
                <a:xfrm flipH="1" rot="20601600">
                  <a:off x="3807360" y="939240"/>
                  <a:ext cx="153720" cy="212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Group 272"/>
            <p:cNvGrpSpPr/>
            <p:nvPr/>
          </p:nvGrpSpPr>
          <p:grpSpPr>
            <a:xfrm>
              <a:off x="2630520" y="0"/>
              <a:ext cx="494280" cy="663480"/>
              <a:chOff x="2630520" y="0"/>
              <a:chExt cx="494280" cy="663480"/>
            </a:xfrm>
          </p:grpSpPr>
          <p:sp>
            <p:nvSpPr>
              <p:cNvPr id="394" name="AutoShape 273"/>
              <p:cNvSpPr/>
              <p:nvPr/>
            </p:nvSpPr>
            <p:spPr>
              <a:xfrm>
                <a:off x="2905920" y="0"/>
                <a:ext cx="34920" cy="49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Group 274"/>
              <p:cNvGrpSpPr/>
              <p:nvPr/>
            </p:nvGrpSpPr>
            <p:grpSpPr>
              <a:xfrm>
                <a:off x="2630520" y="94320"/>
                <a:ext cx="294480" cy="220680"/>
                <a:chOff x="2630520" y="94320"/>
                <a:chExt cx="294480" cy="220680"/>
              </a:xfrm>
            </p:grpSpPr>
            <p:sp>
              <p:nvSpPr>
                <p:cNvPr id="396" name="Freeform 275"/>
                <p:cNvSpPr/>
                <p:nvPr/>
              </p:nvSpPr>
              <p:spPr>
                <a:xfrm rot="801000">
                  <a:off x="2682720" y="111600"/>
                  <a:ext cx="17316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76"/>
                <p:cNvSpPr/>
                <p:nvPr/>
              </p:nvSpPr>
              <p:spPr>
                <a:xfrm flipH="1" rot="4797600">
                  <a:off x="2710800" y="80640"/>
                  <a:ext cx="133560" cy="27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77"/>
              <p:cNvGrpSpPr/>
              <p:nvPr/>
            </p:nvGrpSpPr>
            <p:grpSpPr>
              <a:xfrm>
                <a:off x="2779560" y="404640"/>
                <a:ext cx="225360" cy="258840"/>
                <a:chOff x="2779560" y="404640"/>
                <a:chExt cx="225360" cy="258840"/>
              </a:xfrm>
            </p:grpSpPr>
            <p:sp>
              <p:nvSpPr>
                <p:cNvPr id="399" name="Freeform 278"/>
                <p:cNvSpPr/>
                <p:nvPr/>
              </p:nvSpPr>
              <p:spPr>
                <a:xfrm rot="19658400">
                  <a:off x="2804760" y="460800"/>
                  <a:ext cx="153000" cy="139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279"/>
                <p:cNvSpPr/>
                <p:nvPr/>
              </p:nvSpPr>
              <p:spPr>
                <a:xfrm flipH="1" rot="2055000">
                  <a:off x="2844720" y="411480"/>
                  <a:ext cx="99720" cy="2451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280"/>
              <p:cNvGrpSpPr/>
              <p:nvPr/>
            </p:nvGrpSpPr>
            <p:grpSpPr>
              <a:xfrm>
                <a:off x="2895120" y="201240"/>
                <a:ext cx="229680" cy="247680"/>
                <a:chOff x="2895120" y="201240"/>
                <a:chExt cx="229680" cy="247680"/>
              </a:xfrm>
            </p:grpSpPr>
            <p:sp>
              <p:nvSpPr>
                <p:cNvPr id="402" name="Freeform 281"/>
                <p:cNvSpPr/>
                <p:nvPr/>
              </p:nvSpPr>
              <p:spPr>
                <a:xfrm rot="16605000">
                  <a:off x="2941200" y="222120"/>
                  <a:ext cx="133560" cy="211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82"/>
                <p:cNvSpPr/>
                <p:nvPr/>
              </p:nvSpPr>
              <p:spPr>
                <a:xfrm flipH="1" rot="20601600">
                  <a:off x="2943720" y="218520"/>
                  <a:ext cx="153720" cy="212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283"/>
            <p:cNvGrpSpPr/>
            <p:nvPr/>
          </p:nvGrpSpPr>
          <p:grpSpPr>
            <a:xfrm>
              <a:off x="2136600" y="-8640"/>
              <a:ext cx="337320" cy="261000"/>
              <a:chOff x="2136600" y="-8640"/>
              <a:chExt cx="337320" cy="261000"/>
            </a:xfrm>
          </p:grpSpPr>
          <p:sp>
            <p:nvSpPr>
              <p:cNvPr id="405" name="Freeform 284"/>
              <p:cNvSpPr/>
              <p:nvPr/>
            </p:nvSpPr>
            <p:spPr>
              <a:xfrm rot="17679600">
                <a:off x="2231280" y="-29880"/>
                <a:ext cx="147600" cy="3034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85"/>
              <p:cNvSpPr/>
              <p:nvPr/>
            </p:nvSpPr>
            <p:spPr>
              <a:xfrm flipH="1" rot="75600">
                <a:off x="2214360" y="7560"/>
                <a:ext cx="220680" cy="235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286"/>
            <p:cNvGrpSpPr/>
            <p:nvPr/>
          </p:nvGrpSpPr>
          <p:grpSpPr>
            <a:xfrm>
              <a:off x="974880" y="0"/>
              <a:ext cx="495000" cy="1026360"/>
              <a:chOff x="974880" y="0"/>
              <a:chExt cx="495000" cy="1026360"/>
            </a:xfrm>
          </p:grpSpPr>
          <p:sp>
            <p:nvSpPr>
              <p:cNvPr id="408" name="AutoShape 287"/>
              <p:cNvSpPr/>
              <p:nvPr/>
            </p:nvSpPr>
            <p:spPr>
              <a:xfrm flipH="1">
                <a:off x="1219680" y="0"/>
                <a:ext cx="51120" cy="81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88"/>
              <p:cNvGrpSpPr/>
              <p:nvPr/>
            </p:nvGrpSpPr>
            <p:grpSpPr>
              <a:xfrm>
                <a:off x="1191240" y="206280"/>
                <a:ext cx="248400" cy="244440"/>
                <a:chOff x="1191240" y="206280"/>
                <a:chExt cx="248400" cy="244440"/>
              </a:xfrm>
            </p:grpSpPr>
            <p:sp>
              <p:nvSpPr>
                <p:cNvPr id="410" name="Freeform 289"/>
                <p:cNvSpPr/>
                <p:nvPr/>
              </p:nvSpPr>
              <p:spPr>
                <a:xfrm rot="17293200">
                  <a:off x="1242360" y="226440"/>
                  <a:ext cx="145440" cy="213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90"/>
                <p:cNvSpPr/>
                <p:nvPr/>
              </p:nvSpPr>
              <p:spPr>
                <a:xfrm flipH="1" rot="21289800">
                  <a:off x="1257480" y="212400"/>
                  <a:ext cx="154080" cy="231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291"/>
              <p:cNvGrpSpPr/>
              <p:nvPr/>
            </p:nvGrpSpPr>
            <p:grpSpPr>
              <a:xfrm>
                <a:off x="974880" y="417960"/>
                <a:ext cx="294480" cy="219960"/>
                <a:chOff x="974880" y="417960"/>
                <a:chExt cx="294480" cy="219960"/>
              </a:xfrm>
            </p:grpSpPr>
            <p:sp>
              <p:nvSpPr>
                <p:cNvPr id="413" name="Freeform 292"/>
                <p:cNvSpPr/>
                <p:nvPr/>
              </p:nvSpPr>
              <p:spPr>
                <a:xfrm rot="801000">
                  <a:off x="1027440" y="435240"/>
                  <a:ext cx="173160" cy="18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93"/>
                <p:cNvSpPr/>
                <p:nvPr/>
              </p:nvSpPr>
              <p:spPr>
                <a:xfrm flipH="1" rot="4797600">
                  <a:off x="1055520" y="403920"/>
                  <a:ext cx="132840" cy="27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294"/>
              <p:cNvGrpSpPr/>
              <p:nvPr/>
            </p:nvGrpSpPr>
            <p:grpSpPr>
              <a:xfrm>
                <a:off x="1167840" y="773280"/>
                <a:ext cx="180360" cy="253080"/>
                <a:chOff x="1167840" y="773280"/>
                <a:chExt cx="180360" cy="253080"/>
              </a:xfrm>
            </p:grpSpPr>
            <p:sp>
              <p:nvSpPr>
                <p:cNvPr id="416" name="Freeform 295"/>
                <p:cNvSpPr/>
                <p:nvPr/>
              </p:nvSpPr>
              <p:spPr>
                <a:xfrm rot="17280000">
                  <a:off x="1181520" y="835920"/>
                  <a:ext cx="152640" cy="140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296"/>
                <p:cNvSpPr/>
                <p:nvPr/>
              </p:nvSpPr>
              <p:spPr>
                <a:xfrm flipH="1" rot="21276600">
                  <a:off x="1222920" y="777240"/>
                  <a:ext cx="100080" cy="244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Group 297"/>
              <p:cNvGrpSpPr/>
              <p:nvPr/>
            </p:nvGrpSpPr>
            <p:grpSpPr>
              <a:xfrm>
                <a:off x="1239120" y="525600"/>
                <a:ext cx="230760" cy="247320"/>
                <a:chOff x="1239120" y="525600"/>
                <a:chExt cx="230760" cy="247320"/>
              </a:xfrm>
            </p:grpSpPr>
            <p:sp>
              <p:nvSpPr>
                <p:cNvPr id="419" name="Freeform 298"/>
                <p:cNvSpPr/>
                <p:nvPr/>
              </p:nvSpPr>
              <p:spPr>
                <a:xfrm rot="16605000">
                  <a:off x="1285200" y="545400"/>
                  <a:ext cx="133560" cy="212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99"/>
                <p:cNvSpPr/>
                <p:nvPr/>
              </p:nvSpPr>
              <p:spPr>
                <a:xfrm flipH="1" rot="20601600">
                  <a:off x="1288080" y="542880"/>
                  <a:ext cx="154080" cy="212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1" name="Rectangle 300"/>
            <p:cNvSpPr/>
            <p:nvPr/>
          </p:nvSpPr>
          <p:spPr>
            <a:xfrm>
              <a:off x="2627280" y="0"/>
              <a:ext cx="720720" cy="10890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01"/>
            <p:cNvGrpSpPr/>
            <p:nvPr/>
          </p:nvGrpSpPr>
          <p:grpSpPr>
            <a:xfrm>
              <a:off x="457920" y="-32760"/>
              <a:ext cx="614880" cy="2919600"/>
              <a:chOff x="457920" y="-32760"/>
              <a:chExt cx="614880" cy="2919600"/>
            </a:xfrm>
          </p:grpSpPr>
          <p:grpSp>
            <p:nvGrpSpPr>
              <p:cNvPr id="423" name="Group 302"/>
              <p:cNvGrpSpPr/>
              <p:nvPr/>
            </p:nvGrpSpPr>
            <p:grpSpPr>
              <a:xfrm>
                <a:off x="503640" y="-32760"/>
                <a:ext cx="308520" cy="301680"/>
                <a:chOff x="503640" y="-32760"/>
                <a:chExt cx="308520" cy="301680"/>
              </a:xfrm>
            </p:grpSpPr>
            <p:sp>
              <p:nvSpPr>
                <p:cNvPr id="424" name="Freeform 303"/>
                <p:cNvSpPr/>
                <p:nvPr/>
              </p:nvSpPr>
              <p:spPr>
                <a:xfrm rot="1368000">
                  <a:off x="557280" y="-5400"/>
                  <a:ext cx="190080" cy="247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304"/>
                <p:cNvSpPr/>
                <p:nvPr/>
              </p:nvSpPr>
              <p:spPr>
                <a:xfrm flipH="1" rot="5364600">
                  <a:off x="568440" y="-12600"/>
                  <a:ext cx="177840" cy="306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AutoShape 305"/>
              <p:cNvSpPr/>
              <p:nvPr/>
            </p:nvSpPr>
            <p:spPr>
              <a:xfrm>
                <a:off x="786960" y="1800"/>
                <a:ext cx="30960" cy="271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306"/>
              <p:cNvGrpSpPr/>
              <p:nvPr/>
            </p:nvGrpSpPr>
            <p:grpSpPr>
              <a:xfrm>
                <a:off x="706320" y="230400"/>
                <a:ext cx="355680" cy="268200"/>
                <a:chOff x="706320" y="230400"/>
                <a:chExt cx="355680" cy="268200"/>
              </a:xfrm>
            </p:grpSpPr>
            <p:sp>
              <p:nvSpPr>
                <p:cNvPr id="428" name="Freeform 307"/>
                <p:cNvSpPr/>
                <p:nvPr/>
              </p:nvSpPr>
              <p:spPr>
                <a:xfrm rot="17679600">
                  <a:off x="811080" y="201960"/>
                  <a:ext cx="146160" cy="324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308"/>
                <p:cNvSpPr/>
                <p:nvPr/>
              </p:nvSpPr>
              <p:spPr>
                <a:xfrm flipH="1" rot="75600">
                  <a:off x="790920" y="246600"/>
                  <a:ext cx="23292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309"/>
              <p:cNvGrpSpPr/>
              <p:nvPr/>
            </p:nvGrpSpPr>
            <p:grpSpPr>
              <a:xfrm>
                <a:off x="565920" y="1357200"/>
                <a:ext cx="296280" cy="219240"/>
                <a:chOff x="565920" y="1357200"/>
                <a:chExt cx="296280" cy="219240"/>
              </a:xfrm>
            </p:grpSpPr>
            <p:sp>
              <p:nvSpPr>
                <p:cNvPr id="431" name="Freeform 310"/>
                <p:cNvSpPr/>
                <p:nvPr/>
              </p:nvSpPr>
              <p:spPr>
                <a:xfrm rot="801000">
                  <a:off x="617760" y="1374480"/>
                  <a:ext cx="174240" cy="183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311"/>
                <p:cNvSpPr/>
                <p:nvPr/>
              </p:nvSpPr>
              <p:spPr>
                <a:xfrm flipH="1" rot="4797600">
                  <a:off x="647280" y="1342440"/>
                  <a:ext cx="132840" cy="277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Group 312"/>
              <p:cNvGrpSpPr/>
              <p:nvPr/>
            </p:nvGrpSpPr>
            <p:grpSpPr>
              <a:xfrm>
                <a:off x="509040" y="759960"/>
                <a:ext cx="308160" cy="265320"/>
                <a:chOff x="509040" y="759960"/>
                <a:chExt cx="308160" cy="265320"/>
              </a:xfrm>
            </p:grpSpPr>
            <p:sp>
              <p:nvSpPr>
                <p:cNvPr id="434" name="Freeform 313"/>
                <p:cNvSpPr/>
                <p:nvPr/>
              </p:nvSpPr>
              <p:spPr>
                <a:xfrm rot="1368000">
                  <a:off x="558360" y="788400"/>
                  <a:ext cx="190440" cy="207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14"/>
                <p:cNvSpPr/>
                <p:nvPr/>
              </p:nvSpPr>
              <p:spPr>
                <a:xfrm flipH="1" rot="5364600">
                  <a:off x="588600" y="756360"/>
                  <a:ext cx="148680" cy="306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Group 315"/>
              <p:cNvGrpSpPr/>
              <p:nvPr/>
            </p:nvGrpSpPr>
            <p:grpSpPr>
              <a:xfrm>
                <a:off x="457920" y="330840"/>
                <a:ext cx="337680" cy="309960"/>
                <a:chOff x="457920" y="330840"/>
                <a:chExt cx="337680" cy="309960"/>
              </a:xfrm>
            </p:grpSpPr>
            <p:sp>
              <p:nvSpPr>
                <p:cNvPr id="437" name="Freeform 316"/>
                <p:cNvSpPr/>
                <p:nvPr/>
              </p:nvSpPr>
              <p:spPr>
                <a:xfrm rot="1368000">
                  <a:off x="516960" y="361800"/>
                  <a:ext cx="211320" cy="247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17"/>
                <p:cNvSpPr/>
                <p:nvPr/>
              </p:nvSpPr>
              <p:spPr>
                <a:xfrm flipH="1" rot="5364600">
                  <a:off x="537840" y="340200"/>
                  <a:ext cx="177840" cy="335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Group 318"/>
              <p:cNvGrpSpPr/>
              <p:nvPr/>
            </p:nvGrpSpPr>
            <p:grpSpPr>
              <a:xfrm>
                <a:off x="706320" y="532080"/>
                <a:ext cx="355680" cy="268200"/>
                <a:chOff x="706320" y="532080"/>
                <a:chExt cx="355680" cy="268200"/>
              </a:xfrm>
            </p:grpSpPr>
            <p:sp>
              <p:nvSpPr>
                <p:cNvPr id="440" name="Freeform 319"/>
                <p:cNvSpPr/>
                <p:nvPr/>
              </p:nvSpPr>
              <p:spPr>
                <a:xfrm rot="17679600">
                  <a:off x="811080" y="503640"/>
                  <a:ext cx="146160" cy="324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20"/>
                <p:cNvSpPr/>
                <p:nvPr/>
              </p:nvSpPr>
              <p:spPr>
                <a:xfrm flipH="1" rot="75600">
                  <a:off x="790920" y="548280"/>
                  <a:ext cx="23292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321"/>
              <p:cNvGrpSpPr/>
              <p:nvPr/>
            </p:nvGrpSpPr>
            <p:grpSpPr>
              <a:xfrm>
                <a:off x="734040" y="1045440"/>
                <a:ext cx="338760" cy="260640"/>
                <a:chOff x="734040" y="1045440"/>
                <a:chExt cx="338760" cy="260640"/>
              </a:xfrm>
            </p:grpSpPr>
            <p:sp>
              <p:nvSpPr>
                <p:cNvPr id="443" name="Freeform 322"/>
                <p:cNvSpPr/>
                <p:nvPr/>
              </p:nvSpPr>
              <p:spPr>
                <a:xfrm rot="17679600">
                  <a:off x="830160" y="1022760"/>
                  <a:ext cx="146520" cy="305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323"/>
                <p:cNvSpPr/>
                <p:nvPr/>
              </p:nvSpPr>
              <p:spPr>
                <a:xfrm flipH="1" rot="75600">
                  <a:off x="815040" y="1057680"/>
                  <a:ext cx="220680" cy="235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324"/>
              <p:cNvGrpSpPr/>
              <p:nvPr/>
            </p:nvGrpSpPr>
            <p:grpSpPr>
              <a:xfrm>
                <a:off x="731160" y="1546920"/>
                <a:ext cx="254520" cy="236160"/>
                <a:chOff x="731160" y="1546920"/>
                <a:chExt cx="254520" cy="236160"/>
              </a:xfrm>
            </p:grpSpPr>
            <p:sp>
              <p:nvSpPr>
                <p:cNvPr id="446" name="Freeform 325"/>
                <p:cNvSpPr/>
                <p:nvPr/>
              </p:nvSpPr>
              <p:spPr>
                <a:xfrm rot="17679600">
                  <a:off x="784800" y="1564560"/>
                  <a:ext cx="146520" cy="212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326"/>
                <p:cNvSpPr/>
                <p:nvPr/>
              </p:nvSpPr>
              <p:spPr>
                <a:xfrm flipH="1" rot="75600">
                  <a:off x="798480" y="1548360"/>
                  <a:ext cx="15372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Group 327"/>
              <p:cNvGrpSpPr/>
              <p:nvPr/>
            </p:nvGrpSpPr>
            <p:grpSpPr>
              <a:xfrm>
                <a:off x="738360" y="2093760"/>
                <a:ext cx="249840" cy="245880"/>
                <a:chOff x="738360" y="2093760"/>
                <a:chExt cx="249840" cy="245880"/>
              </a:xfrm>
            </p:grpSpPr>
            <p:sp>
              <p:nvSpPr>
                <p:cNvPr id="449" name="Freeform 328"/>
                <p:cNvSpPr/>
                <p:nvPr/>
              </p:nvSpPr>
              <p:spPr>
                <a:xfrm rot="17293200">
                  <a:off x="789480" y="2117160"/>
                  <a:ext cx="147240" cy="214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329"/>
                <p:cNvSpPr/>
                <p:nvPr/>
              </p:nvSpPr>
              <p:spPr>
                <a:xfrm flipH="1" rot="21289800">
                  <a:off x="803160" y="2100240"/>
                  <a:ext cx="15516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330"/>
              <p:cNvGrpSpPr/>
              <p:nvPr/>
            </p:nvGrpSpPr>
            <p:grpSpPr>
              <a:xfrm>
                <a:off x="531720" y="1815840"/>
                <a:ext cx="296280" cy="219240"/>
                <a:chOff x="531720" y="1815840"/>
                <a:chExt cx="296280" cy="219240"/>
              </a:xfrm>
            </p:grpSpPr>
            <p:sp>
              <p:nvSpPr>
                <p:cNvPr id="452" name="Freeform 331"/>
                <p:cNvSpPr/>
                <p:nvPr/>
              </p:nvSpPr>
              <p:spPr>
                <a:xfrm rot="801000">
                  <a:off x="584280" y="1833120"/>
                  <a:ext cx="174240" cy="183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32"/>
                <p:cNvSpPr/>
                <p:nvPr/>
              </p:nvSpPr>
              <p:spPr>
                <a:xfrm flipH="1" rot="4797600">
                  <a:off x="613440" y="1801440"/>
                  <a:ext cx="131400" cy="277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333"/>
              <p:cNvGrpSpPr/>
              <p:nvPr/>
            </p:nvGrpSpPr>
            <p:grpSpPr>
              <a:xfrm>
                <a:off x="530280" y="2331720"/>
                <a:ext cx="295920" cy="221400"/>
                <a:chOff x="530280" y="2331720"/>
                <a:chExt cx="295920" cy="221400"/>
              </a:xfrm>
            </p:grpSpPr>
            <p:sp>
              <p:nvSpPr>
                <p:cNvPr id="455" name="Freeform 334"/>
                <p:cNvSpPr/>
                <p:nvPr/>
              </p:nvSpPr>
              <p:spPr>
                <a:xfrm rot="801000">
                  <a:off x="583920" y="2349000"/>
                  <a:ext cx="174240" cy="186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35"/>
                <p:cNvSpPr/>
                <p:nvPr/>
              </p:nvSpPr>
              <p:spPr>
                <a:xfrm flipH="1" rot="4797600">
                  <a:off x="612000" y="2319480"/>
                  <a:ext cx="132480" cy="277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336"/>
              <p:cNvGrpSpPr/>
              <p:nvPr/>
            </p:nvGrpSpPr>
            <p:grpSpPr>
              <a:xfrm>
                <a:off x="681480" y="2626560"/>
                <a:ext cx="226080" cy="260280"/>
                <a:chOff x="681480" y="2626560"/>
                <a:chExt cx="226080" cy="260280"/>
              </a:xfrm>
            </p:grpSpPr>
            <p:sp>
              <p:nvSpPr>
                <p:cNvPr id="458" name="Freeform 337"/>
                <p:cNvSpPr/>
                <p:nvPr/>
              </p:nvSpPr>
              <p:spPr>
                <a:xfrm rot="19658400">
                  <a:off x="706680" y="2683800"/>
                  <a:ext cx="154440" cy="140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38"/>
                <p:cNvSpPr/>
                <p:nvPr/>
              </p:nvSpPr>
              <p:spPr>
                <a:xfrm flipH="1" rot="2055000">
                  <a:off x="746280" y="2633040"/>
                  <a:ext cx="100080" cy="246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339"/>
              <p:cNvGrpSpPr/>
              <p:nvPr/>
            </p:nvGrpSpPr>
            <p:grpSpPr>
              <a:xfrm>
                <a:off x="775080" y="2439000"/>
                <a:ext cx="227520" cy="245520"/>
                <a:chOff x="775080" y="2439000"/>
                <a:chExt cx="227520" cy="245520"/>
              </a:xfrm>
            </p:grpSpPr>
            <p:sp>
              <p:nvSpPr>
                <p:cNvPr id="461" name="Freeform 340"/>
                <p:cNvSpPr/>
                <p:nvPr/>
              </p:nvSpPr>
              <p:spPr>
                <a:xfrm rot="16605000">
                  <a:off x="820440" y="2462040"/>
                  <a:ext cx="132480" cy="2091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341"/>
                <p:cNvSpPr/>
                <p:nvPr/>
              </p:nvSpPr>
              <p:spPr>
                <a:xfrm flipH="1" rot="20601600">
                  <a:off x="823680" y="2456280"/>
                  <a:ext cx="151920" cy="210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3" name="Rectangle 342"/>
            <p:cNvSpPr/>
            <p:nvPr/>
          </p:nvSpPr>
          <p:spPr>
            <a:xfrm>
              <a:off x="430200" y="0"/>
              <a:ext cx="612720" cy="3068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343"/>
            <p:cNvGrpSpPr/>
            <p:nvPr/>
          </p:nvGrpSpPr>
          <p:grpSpPr>
            <a:xfrm>
              <a:off x="-33120" y="0"/>
              <a:ext cx="494640" cy="1404720"/>
              <a:chOff x="-33120" y="0"/>
              <a:chExt cx="494640" cy="1404720"/>
            </a:xfrm>
          </p:grpSpPr>
          <p:sp>
            <p:nvSpPr>
              <p:cNvPr id="465" name="AutoShape 344"/>
              <p:cNvSpPr/>
              <p:nvPr/>
            </p:nvSpPr>
            <p:spPr>
              <a:xfrm>
                <a:off x="242280" y="0"/>
                <a:ext cx="34920" cy="121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Group 345"/>
              <p:cNvGrpSpPr/>
              <p:nvPr/>
            </p:nvGrpSpPr>
            <p:grpSpPr>
              <a:xfrm>
                <a:off x="182880" y="603720"/>
                <a:ext cx="248040" cy="244800"/>
                <a:chOff x="182880" y="603720"/>
                <a:chExt cx="248040" cy="244800"/>
              </a:xfrm>
            </p:grpSpPr>
            <p:sp>
              <p:nvSpPr>
                <p:cNvPr id="467" name="Freeform 346"/>
                <p:cNvSpPr/>
                <p:nvPr/>
              </p:nvSpPr>
              <p:spPr>
                <a:xfrm rot="17293200">
                  <a:off x="233640" y="624240"/>
                  <a:ext cx="145800" cy="213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347"/>
                <p:cNvSpPr/>
                <p:nvPr/>
              </p:nvSpPr>
              <p:spPr>
                <a:xfrm flipH="1" rot="21289800">
                  <a:off x="249480" y="609840"/>
                  <a:ext cx="154080" cy="2318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348"/>
              <p:cNvGrpSpPr/>
              <p:nvPr/>
            </p:nvGrpSpPr>
            <p:grpSpPr>
              <a:xfrm>
                <a:off x="-33120" y="303840"/>
                <a:ext cx="294480" cy="220680"/>
                <a:chOff x="-33120" y="303840"/>
                <a:chExt cx="294480" cy="220680"/>
              </a:xfrm>
            </p:grpSpPr>
            <p:sp>
              <p:nvSpPr>
                <p:cNvPr id="470" name="Freeform 349"/>
                <p:cNvSpPr/>
                <p:nvPr/>
              </p:nvSpPr>
              <p:spPr>
                <a:xfrm rot="801000">
                  <a:off x="19080" y="321120"/>
                  <a:ext cx="17316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350"/>
                <p:cNvSpPr/>
                <p:nvPr/>
              </p:nvSpPr>
              <p:spPr>
                <a:xfrm flipH="1" rot="4797600">
                  <a:off x="47160" y="290160"/>
                  <a:ext cx="133560" cy="27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351"/>
              <p:cNvGrpSpPr/>
              <p:nvPr/>
            </p:nvGrpSpPr>
            <p:grpSpPr>
              <a:xfrm>
                <a:off x="-33120" y="815040"/>
                <a:ext cx="294480" cy="220320"/>
                <a:chOff x="-33120" y="815040"/>
                <a:chExt cx="294480" cy="220320"/>
              </a:xfrm>
            </p:grpSpPr>
            <p:sp>
              <p:nvSpPr>
                <p:cNvPr id="473" name="Freeform 352"/>
                <p:cNvSpPr/>
                <p:nvPr/>
              </p:nvSpPr>
              <p:spPr>
                <a:xfrm rot="801000">
                  <a:off x="19440" y="832320"/>
                  <a:ext cx="173160" cy="18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353"/>
                <p:cNvSpPr/>
                <p:nvPr/>
              </p:nvSpPr>
              <p:spPr>
                <a:xfrm flipH="1" rot="4797600">
                  <a:off x="47160" y="801720"/>
                  <a:ext cx="133200" cy="27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354"/>
              <p:cNvGrpSpPr/>
              <p:nvPr/>
            </p:nvGrpSpPr>
            <p:grpSpPr>
              <a:xfrm>
                <a:off x="129960" y="1142640"/>
                <a:ext cx="204480" cy="262080"/>
                <a:chOff x="129960" y="1142640"/>
                <a:chExt cx="204480" cy="262080"/>
              </a:xfrm>
            </p:grpSpPr>
            <p:sp>
              <p:nvSpPr>
                <p:cNvPr id="476" name="Freeform 355"/>
                <p:cNvSpPr/>
                <p:nvPr/>
              </p:nvSpPr>
              <p:spPr>
                <a:xfrm rot="18480000">
                  <a:off x="155520" y="1202760"/>
                  <a:ext cx="153000" cy="140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356"/>
                <p:cNvSpPr/>
                <p:nvPr/>
              </p:nvSpPr>
              <p:spPr>
                <a:xfrm flipH="1" rot="876600">
                  <a:off x="194760" y="1150920"/>
                  <a:ext cx="100080" cy="244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357"/>
              <p:cNvGrpSpPr/>
              <p:nvPr/>
            </p:nvGrpSpPr>
            <p:grpSpPr>
              <a:xfrm>
                <a:off x="231480" y="921600"/>
                <a:ext cx="230040" cy="248040"/>
                <a:chOff x="231480" y="921600"/>
                <a:chExt cx="230040" cy="248040"/>
              </a:xfrm>
            </p:grpSpPr>
            <p:sp>
              <p:nvSpPr>
                <p:cNvPr id="479" name="Freeform 358"/>
                <p:cNvSpPr/>
                <p:nvPr/>
              </p:nvSpPr>
              <p:spPr>
                <a:xfrm rot="16605000">
                  <a:off x="277200" y="942840"/>
                  <a:ext cx="13356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359"/>
                <p:cNvSpPr/>
                <p:nvPr/>
              </p:nvSpPr>
              <p:spPr>
                <a:xfrm flipH="1" rot="20601600">
                  <a:off x="280800" y="938880"/>
                  <a:ext cx="153360" cy="213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" name="Freeform 360"/>
            <p:cNvSpPr/>
            <p:nvPr/>
          </p:nvSpPr>
          <p:spPr>
            <a:xfrm flipH="1">
              <a:off x="-37080" y="7920"/>
              <a:ext cx="757080" cy="1368360"/>
            </a:xfrm>
            <a:custGeom>
              <a:avLst/>
              <a:gdLst/>
              <a:ahLst/>
              <a:rect l="l" t="t" r="r" b="b"/>
              <a:pathLst>
                <a:path w="408" h="1792">
                  <a:moveTo>
                    <a:pt x="0" y="0"/>
                  </a:moveTo>
                  <a:cubicBezTo>
                    <a:pt x="11" y="190"/>
                    <a:pt x="22" y="381"/>
                    <a:pt x="45" y="612"/>
                  </a:cubicBezTo>
                  <a:cubicBezTo>
                    <a:pt x="68" y="843"/>
                    <a:pt x="75" y="1187"/>
                    <a:pt x="136" y="1384"/>
                  </a:cubicBezTo>
                  <a:cubicBezTo>
                    <a:pt x="197" y="1581"/>
                    <a:pt x="340" y="1694"/>
                    <a:pt x="408" y="1792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61"/>
            <p:cNvSpPr/>
            <p:nvPr/>
          </p:nvSpPr>
          <p:spPr>
            <a:xfrm>
              <a:off x="863640" y="7920"/>
              <a:ext cx="569880" cy="2058840"/>
            </a:xfrm>
            <a:custGeom>
              <a:avLst/>
              <a:gdLst/>
              <a:ahLst/>
              <a:rect l="l" t="t" r="r" b="b"/>
              <a:pathLst>
                <a:path w="359" h="1297">
                  <a:moveTo>
                    <a:pt x="0" y="0"/>
                  </a:moveTo>
                  <a:cubicBezTo>
                    <a:pt x="21" y="112"/>
                    <a:pt x="42" y="224"/>
                    <a:pt x="68" y="341"/>
                  </a:cubicBezTo>
                  <a:cubicBezTo>
                    <a:pt x="94" y="458"/>
                    <a:pt x="114" y="595"/>
                    <a:pt x="159" y="704"/>
                  </a:cubicBezTo>
                  <a:cubicBezTo>
                    <a:pt x="204" y="813"/>
                    <a:pt x="321" y="907"/>
                    <a:pt x="340" y="998"/>
                  </a:cubicBezTo>
                  <a:cubicBezTo>
                    <a:pt x="359" y="1089"/>
                    <a:pt x="310" y="1199"/>
                    <a:pt x="272" y="1248"/>
                  </a:cubicBezTo>
                  <a:cubicBezTo>
                    <a:pt x="234" y="1297"/>
                    <a:pt x="151" y="1297"/>
                    <a:pt x="113" y="1293"/>
                  </a:cubicBezTo>
                  <a:cubicBezTo>
                    <a:pt x="75" y="1289"/>
                    <a:pt x="56" y="1255"/>
                    <a:pt x="45" y="1225"/>
                  </a:cubicBezTo>
                  <a:cubicBezTo>
                    <a:pt x="34" y="1195"/>
                    <a:pt x="34" y="1142"/>
                    <a:pt x="45" y="1112"/>
                  </a:cubicBezTo>
                  <a:cubicBezTo>
                    <a:pt x="56" y="1082"/>
                    <a:pt x="83" y="1055"/>
                    <a:pt x="113" y="1044"/>
                  </a:cubicBezTo>
                  <a:cubicBezTo>
                    <a:pt x="143" y="1033"/>
                    <a:pt x="201" y="1029"/>
                    <a:pt x="227" y="1044"/>
                  </a:cubicBezTo>
                  <a:cubicBezTo>
                    <a:pt x="253" y="1059"/>
                    <a:pt x="268" y="1104"/>
                    <a:pt x="272" y="1134"/>
                  </a:cubicBezTo>
                  <a:cubicBezTo>
                    <a:pt x="276" y="1164"/>
                    <a:pt x="268" y="1206"/>
                    <a:pt x="249" y="1225"/>
                  </a:cubicBezTo>
                  <a:cubicBezTo>
                    <a:pt x="230" y="1244"/>
                    <a:pt x="185" y="1252"/>
                    <a:pt x="159" y="1248"/>
                  </a:cubicBezTo>
                  <a:cubicBezTo>
                    <a:pt x="133" y="1244"/>
                    <a:pt x="102" y="1221"/>
                    <a:pt x="91" y="1202"/>
                  </a:cubicBezTo>
                  <a:cubicBezTo>
                    <a:pt x="80" y="1183"/>
                    <a:pt x="84" y="1153"/>
                    <a:pt x="91" y="1134"/>
                  </a:cubicBezTo>
                  <a:cubicBezTo>
                    <a:pt x="98" y="1115"/>
                    <a:pt x="117" y="1097"/>
                    <a:pt x="136" y="1089"/>
                  </a:cubicBezTo>
                  <a:cubicBezTo>
                    <a:pt x="155" y="1081"/>
                    <a:pt x="189" y="1078"/>
                    <a:pt x="204" y="1089"/>
                  </a:cubicBezTo>
                  <a:cubicBezTo>
                    <a:pt x="219" y="1100"/>
                    <a:pt x="231" y="1138"/>
                    <a:pt x="227" y="1157"/>
                  </a:cubicBezTo>
                  <a:cubicBezTo>
                    <a:pt x="223" y="1176"/>
                    <a:pt x="196" y="1195"/>
                    <a:pt x="181" y="1202"/>
                  </a:cubicBezTo>
                  <a:cubicBezTo>
                    <a:pt x="166" y="1209"/>
                    <a:pt x="147" y="1209"/>
                    <a:pt x="136" y="1202"/>
                  </a:cubicBezTo>
                </a:path>
              </a:pathLst>
            </a:custGeom>
            <a:noFill/>
            <a:ln w="158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62"/>
            <p:cNvSpPr/>
            <p:nvPr/>
          </p:nvSpPr>
          <p:spPr>
            <a:xfrm>
              <a:off x="1150920" y="981000"/>
              <a:ext cx="546120" cy="455760"/>
            </a:xfrm>
            <a:custGeom>
              <a:avLst/>
              <a:gdLst/>
              <a:ahLst/>
              <a:rect l="l" t="t" r="r" b="b"/>
              <a:pathLst>
                <a:path w="344" h="287">
                  <a:moveTo>
                    <a:pt x="0" y="132"/>
                  </a:moveTo>
                  <a:cubicBezTo>
                    <a:pt x="43" y="190"/>
                    <a:pt x="87" y="249"/>
                    <a:pt x="136" y="268"/>
                  </a:cubicBezTo>
                  <a:cubicBezTo>
                    <a:pt x="185" y="287"/>
                    <a:pt x="261" y="269"/>
                    <a:pt x="295" y="246"/>
                  </a:cubicBezTo>
                  <a:cubicBezTo>
                    <a:pt x="329" y="223"/>
                    <a:pt x="336" y="170"/>
                    <a:pt x="340" y="132"/>
                  </a:cubicBezTo>
                  <a:cubicBezTo>
                    <a:pt x="344" y="94"/>
                    <a:pt x="336" y="38"/>
                    <a:pt x="317" y="19"/>
                  </a:cubicBezTo>
                  <a:cubicBezTo>
                    <a:pt x="298" y="0"/>
                    <a:pt x="253" y="11"/>
                    <a:pt x="227" y="19"/>
                  </a:cubicBezTo>
                  <a:cubicBezTo>
                    <a:pt x="201" y="27"/>
                    <a:pt x="170" y="37"/>
                    <a:pt x="159" y="64"/>
                  </a:cubicBezTo>
                  <a:cubicBezTo>
                    <a:pt x="148" y="91"/>
                    <a:pt x="152" y="152"/>
                    <a:pt x="159" y="178"/>
                  </a:cubicBezTo>
                  <a:cubicBezTo>
                    <a:pt x="166" y="204"/>
                    <a:pt x="185" y="215"/>
                    <a:pt x="204" y="223"/>
                  </a:cubicBezTo>
                  <a:cubicBezTo>
                    <a:pt x="223" y="231"/>
                    <a:pt x="257" y="234"/>
                    <a:pt x="272" y="223"/>
                  </a:cubicBezTo>
                  <a:cubicBezTo>
                    <a:pt x="287" y="212"/>
                    <a:pt x="291" y="178"/>
                    <a:pt x="295" y="155"/>
                  </a:cubicBezTo>
                  <a:cubicBezTo>
                    <a:pt x="299" y="132"/>
                    <a:pt x="306" y="102"/>
                    <a:pt x="295" y="87"/>
                  </a:cubicBezTo>
                  <a:cubicBezTo>
                    <a:pt x="284" y="72"/>
                    <a:pt x="242" y="57"/>
                    <a:pt x="227" y="64"/>
                  </a:cubicBezTo>
                  <a:cubicBezTo>
                    <a:pt x="212" y="71"/>
                    <a:pt x="200" y="117"/>
                    <a:pt x="204" y="132"/>
                  </a:cubicBezTo>
                  <a:cubicBezTo>
                    <a:pt x="208" y="147"/>
                    <a:pt x="256" y="155"/>
                    <a:pt x="249" y="155"/>
                  </a:cubicBezTo>
                </a:path>
              </a:pathLst>
            </a:custGeom>
            <a:noFill/>
            <a:ln w="158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3"/>
            <p:cNvSpPr/>
            <p:nvPr/>
          </p:nvSpPr>
          <p:spPr>
            <a:xfrm>
              <a:off x="1547640" y="7920"/>
              <a:ext cx="360360" cy="541440"/>
            </a:xfrm>
            <a:custGeom>
              <a:avLst/>
              <a:gdLst/>
              <a:ahLst/>
              <a:rect l="l" t="t" r="r" b="b"/>
              <a:pathLst>
                <a:path w="344" h="507">
                  <a:moveTo>
                    <a:pt x="45" y="0"/>
                  </a:moveTo>
                  <a:cubicBezTo>
                    <a:pt x="37" y="44"/>
                    <a:pt x="30" y="88"/>
                    <a:pt x="23" y="137"/>
                  </a:cubicBezTo>
                  <a:cubicBezTo>
                    <a:pt x="16" y="186"/>
                    <a:pt x="0" y="246"/>
                    <a:pt x="0" y="295"/>
                  </a:cubicBezTo>
                  <a:cubicBezTo>
                    <a:pt x="0" y="344"/>
                    <a:pt x="4" y="397"/>
                    <a:pt x="23" y="431"/>
                  </a:cubicBezTo>
                  <a:cubicBezTo>
                    <a:pt x="42" y="465"/>
                    <a:pt x="72" y="491"/>
                    <a:pt x="113" y="499"/>
                  </a:cubicBezTo>
                  <a:cubicBezTo>
                    <a:pt x="154" y="507"/>
                    <a:pt x="234" y="503"/>
                    <a:pt x="272" y="477"/>
                  </a:cubicBezTo>
                  <a:cubicBezTo>
                    <a:pt x="310" y="451"/>
                    <a:pt x="336" y="386"/>
                    <a:pt x="340" y="341"/>
                  </a:cubicBezTo>
                  <a:cubicBezTo>
                    <a:pt x="344" y="296"/>
                    <a:pt x="329" y="235"/>
                    <a:pt x="295" y="205"/>
                  </a:cubicBezTo>
                  <a:cubicBezTo>
                    <a:pt x="261" y="175"/>
                    <a:pt x="174" y="152"/>
                    <a:pt x="136" y="159"/>
                  </a:cubicBezTo>
                  <a:cubicBezTo>
                    <a:pt x="98" y="166"/>
                    <a:pt x="79" y="223"/>
                    <a:pt x="68" y="250"/>
                  </a:cubicBezTo>
                  <a:cubicBezTo>
                    <a:pt x="57" y="277"/>
                    <a:pt x="64" y="292"/>
                    <a:pt x="68" y="318"/>
                  </a:cubicBezTo>
                  <a:cubicBezTo>
                    <a:pt x="72" y="344"/>
                    <a:pt x="76" y="390"/>
                    <a:pt x="91" y="409"/>
                  </a:cubicBezTo>
                  <a:cubicBezTo>
                    <a:pt x="106" y="428"/>
                    <a:pt x="136" y="427"/>
                    <a:pt x="159" y="431"/>
                  </a:cubicBezTo>
                  <a:cubicBezTo>
                    <a:pt x="182" y="435"/>
                    <a:pt x="204" y="454"/>
                    <a:pt x="227" y="431"/>
                  </a:cubicBezTo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4"/>
            <p:cNvSpPr/>
            <p:nvPr/>
          </p:nvSpPr>
          <p:spPr>
            <a:xfrm>
              <a:off x="2400480" y="7920"/>
              <a:ext cx="226800" cy="1441440"/>
            </a:xfrm>
            <a:custGeom>
              <a:avLst/>
              <a:gdLst/>
              <a:ahLst/>
              <a:rect l="l" t="t" r="r" b="b"/>
              <a:pathLst>
                <a:path w="143" h="908">
                  <a:moveTo>
                    <a:pt x="53" y="0"/>
                  </a:moveTo>
                  <a:cubicBezTo>
                    <a:pt x="79" y="13"/>
                    <a:pt x="106" y="27"/>
                    <a:pt x="98" y="114"/>
                  </a:cubicBezTo>
                  <a:cubicBezTo>
                    <a:pt x="90" y="201"/>
                    <a:pt x="14" y="409"/>
                    <a:pt x="7" y="522"/>
                  </a:cubicBezTo>
                  <a:cubicBezTo>
                    <a:pt x="0" y="635"/>
                    <a:pt x="30" y="730"/>
                    <a:pt x="53" y="794"/>
                  </a:cubicBezTo>
                  <a:cubicBezTo>
                    <a:pt x="76" y="858"/>
                    <a:pt x="109" y="883"/>
                    <a:pt x="143" y="908"/>
                  </a:cubicBezTo>
                </a:path>
              </a:pathLst>
            </a:custGeom>
            <a:noFill/>
            <a:ln w="158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65"/>
            <p:cNvSpPr/>
            <p:nvPr/>
          </p:nvSpPr>
          <p:spPr>
            <a:xfrm>
              <a:off x="3324240" y="7920"/>
              <a:ext cx="612720" cy="787320"/>
            </a:xfrm>
            <a:custGeom>
              <a:avLst/>
              <a:gdLst/>
              <a:ahLst/>
              <a:rect l="l" t="t" r="r" b="b"/>
              <a:pathLst>
                <a:path w="386" h="496">
                  <a:moveTo>
                    <a:pt x="15" y="0"/>
                  </a:moveTo>
                  <a:cubicBezTo>
                    <a:pt x="7" y="98"/>
                    <a:pt x="0" y="197"/>
                    <a:pt x="15" y="273"/>
                  </a:cubicBezTo>
                  <a:cubicBezTo>
                    <a:pt x="30" y="349"/>
                    <a:pt x="65" y="420"/>
                    <a:pt x="106" y="454"/>
                  </a:cubicBezTo>
                  <a:cubicBezTo>
                    <a:pt x="147" y="488"/>
                    <a:pt x="219" y="496"/>
                    <a:pt x="264" y="477"/>
                  </a:cubicBezTo>
                  <a:cubicBezTo>
                    <a:pt x="309" y="458"/>
                    <a:pt x="370" y="390"/>
                    <a:pt x="378" y="341"/>
                  </a:cubicBezTo>
                  <a:cubicBezTo>
                    <a:pt x="386" y="292"/>
                    <a:pt x="344" y="208"/>
                    <a:pt x="310" y="182"/>
                  </a:cubicBezTo>
                  <a:cubicBezTo>
                    <a:pt x="276" y="156"/>
                    <a:pt x="204" y="163"/>
                    <a:pt x="174" y="182"/>
                  </a:cubicBezTo>
                  <a:cubicBezTo>
                    <a:pt x="144" y="201"/>
                    <a:pt x="124" y="261"/>
                    <a:pt x="128" y="295"/>
                  </a:cubicBezTo>
                  <a:cubicBezTo>
                    <a:pt x="132" y="329"/>
                    <a:pt x="166" y="375"/>
                    <a:pt x="196" y="386"/>
                  </a:cubicBezTo>
                  <a:cubicBezTo>
                    <a:pt x="226" y="397"/>
                    <a:pt x="291" y="389"/>
                    <a:pt x="310" y="363"/>
                  </a:cubicBezTo>
                  <a:cubicBezTo>
                    <a:pt x="329" y="337"/>
                    <a:pt x="352" y="268"/>
                    <a:pt x="310" y="227"/>
                  </a:cubicBezTo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366"/>
            <p:cNvGrpSpPr/>
            <p:nvPr/>
          </p:nvGrpSpPr>
          <p:grpSpPr>
            <a:xfrm>
              <a:off x="395280" y="225360"/>
              <a:ext cx="1044360" cy="4823640"/>
              <a:chOff x="395280" y="225360"/>
              <a:chExt cx="1044360" cy="4823640"/>
            </a:xfrm>
          </p:grpSpPr>
          <p:sp>
            <p:nvSpPr>
              <p:cNvPr id="488" name="Oval 367"/>
              <p:cNvSpPr/>
              <p:nvPr/>
            </p:nvSpPr>
            <p:spPr>
              <a:xfrm>
                <a:off x="395280" y="225360"/>
                <a:ext cx="1044360" cy="10443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58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368"/>
              <p:cNvSpPr/>
              <p:nvPr/>
            </p:nvSpPr>
            <p:spPr>
              <a:xfrm>
                <a:off x="426960" y="291960"/>
                <a:ext cx="984240" cy="89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369"/>
              <p:cNvSpPr/>
              <p:nvPr/>
            </p:nvSpPr>
            <p:spPr>
              <a:xfrm>
                <a:off x="484200" y="363240"/>
                <a:ext cx="865080" cy="788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utoShape 370"/>
              <p:cNvSpPr/>
              <p:nvPr/>
            </p:nvSpPr>
            <p:spPr>
              <a:xfrm rot="720000">
                <a:off x="674640" y="477360"/>
                <a:ext cx="488880" cy="480600"/>
              </a:xfrm>
              <a:custGeom>
                <a:avLst/>
                <a:gdLst/>
                <a:ahLst/>
                <a:rect l="l" t="t" r="r" b="b"/>
                <a:pathLst>
                  <a:path w="308" h="303">
                    <a:moveTo>
                      <a:pt x="0" y="115"/>
                    </a:moveTo>
                    <a:lnTo>
                      <a:pt x="117" y="115"/>
                    </a:lnTo>
                    <a:lnTo>
                      <a:pt x="154" y="0"/>
                    </a:lnTo>
                    <a:lnTo>
                      <a:pt x="190" y="115"/>
                    </a:lnTo>
                    <a:lnTo>
                      <a:pt x="307" y="115"/>
                    </a:lnTo>
                    <a:lnTo>
                      <a:pt x="212" y="187"/>
                    </a:lnTo>
                    <a:lnTo>
                      <a:pt x="249" y="302"/>
                    </a:lnTo>
                    <a:lnTo>
                      <a:pt x="154" y="231"/>
                    </a:lnTo>
                    <a:lnTo>
                      <a:pt x="58" y="302"/>
                    </a:lnTo>
                    <a:lnTo>
                      <a:pt x="95" y="1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/>
                  </a:gs>
                  <a:gs pos="100000">
                    <a:srgbClr val="2cb0d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Group 371"/>
              <p:cNvGrpSpPr/>
              <p:nvPr/>
            </p:nvGrpSpPr>
            <p:grpSpPr>
              <a:xfrm>
                <a:off x="503280" y="1269720"/>
                <a:ext cx="790560" cy="3779280"/>
                <a:chOff x="503280" y="1269720"/>
                <a:chExt cx="790560" cy="3779280"/>
              </a:xfrm>
            </p:grpSpPr>
            <p:sp>
              <p:nvSpPr>
                <p:cNvPr id="493" name="Oval 372"/>
                <p:cNvSpPr/>
                <p:nvPr/>
              </p:nvSpPr>
              <p:spPr>
                <a:xfrm>
                  <a:off x="503280" y="4796640"/>
                  <a:ext cx="790560" cy="25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73"/>
                <p:cNvSpPr/>
                <p:nvPr/>
              </p:nvSpPr>
              <p:spPr>
                <a:xfrm>
                  <a:off x="684000" y="1269720"/>
                  <a:ext cx="216000" cy="3347640"/>
                </a:xfrm>
                <a:custGeom>
                  <a:avLst/>
                  <a:gdLst/>
                  <a:ahLst/>
                  <a:rect l="l" t="t" r="r" b="b"/>
                  <a:pathLst>
                    <a:path w="151" h="2291">
                      <a:moveTo>
                        <a:pt x="105" y="0"/>
                      </a:moveTo>
                      <a:cubicBezTo>
                        <a:pt x="90" y="70"/>
                        <a:pt x="75" y="140"/>
                        <a:pt x="60" y="295"/>
                      </a:cubicBezTo>
                      <a:cubicBezTo>
                        <a:pt x="45" y="450"/>
                        <a:pt x="0" y="597"/>
                        <a:pt x="15" y="930"/>
                      </a:cubicBezTo>
                      <a:cubicBezTo>
                        <a:pt x="30" y="1263"/>
                        <a:pt x="121" y="2068"/>
                        <a:pt x="151" y="2291"/>
                      </a:cubicBezTo>
                    </a:path>
                  </a:pathLst>
                </a:custGeom>
                <a:noFill/>
                <a:ln w="698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74"/>
                <p:cNvSpPr/>
                <p:nvPr/>
              </p:nvSpPr>
              <p:spPr>
                <a:xfrm>
                  <a:off x="755640" y="148536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75"/>
                <p:cNvSpPr/>
                <p:nvPr/>
              </p:nvSpPr>
              <p:spPr>
                <a:xfrm>
                  <a:off x="718920" y="170136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76"/>
                <p:cNvSpPr/>
                <p:nvPr/>
              </p:nvSpPr>
              <p:spPr>
                <a:xfrm>
                  <a:off x="706320" y="191700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77"/>
                <p:cNvSpPr/>
                <p:nvPr/>
              </p:nvSpPr>
              <p:spPr>
                <a:xfrm>
                  <a:off x="669960" y="216936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78"/>
                <p:cNvSpPr/>
                <p:nvPr/>
              </p:nvSpPr>
              <p:spPr>
                <a:xfrm>
                  <a:off x="669960" y="242208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79"/>
                <p:cNvSpPr/>
                <p:nvPr/>
              </p:nvSpPr>
              <p:spPr>
                <a:xfrm>
                  <a:off x="669960" y="267264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80"/>
                <p:cNvSpPr/>
                <p:nvPr/>
              </p:nvSpPr>
              <p:spPr>
                <a:xfrm>
                  <a:off x="684000" y="292500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81"/>
                <p:cNvSpPr/>
                <p:nvPr/>
              </p:nvSpPr>
              <p:spPr>
                <a:xfrm>
                  <a:off x="706320" y="317772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82"/>
                <p:cNvSpPr/>
                <p:nvPr/>
              </p:nvSpPr>
              <p:spPr>
                <a:xfrm>
                  <a:off x="718920" y="343008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83"/>
                <p:cNvSpPr/>
                <p:nvPr/>
              </p:nvSpPr>
              <p:spPr>
                <a:xfrm>
                  <a:off x="755640" y="368064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84"/>
                <p:cNvSpPr/>
                <p:nvPr/>
              </p:nvSpPr>
              <p:spPr>
                <a:xfrm>
                  <a:off x="777600" y="3933360"/>
                  <a:ext cx="8604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85"/>
                <p:cNvSpPr/>
                <p:nvPr/>
              </p:nvSpPr>
              <p:spPr>
                <a:xfrm>
                  <a:off x="814320" y="418572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86"/>
                <p:cNvSpPr/>
                <p:nvPr/>
              </p:nvSpPr>
              <p:spPr>
                <a:xfrm>
                  <a:off x="826920" y="443808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Group 387"/>
                <p:cNvGrpSpPr/>
                <p:nvPr/>
              </p:nvGrpSpPr>
              <p:grpSpPr>
                <a:xfrm>
                  <a:off x="755640" y="4604760"/>
                  <a:ext cx="286920" cy="324720"/>
                  <a:chOff x="755640" y="4604760"/>
                  <a:chExt cx="286920" cy="324720"/>
                </a:xfrm>
              </p:grpSpPr>
              <p:sp>
                <p:nvSpPr>
                  <p:cNvPr id="509" name="Freeform 388"/>
                  <p:cNvSpPr/>
                  <p:nvPr/>
                </p:nvSpPr>
                <p:spPr>
                  <a:xfrm>
                    <a:off x="755640" y="4604760"/>
                    <a:ext cx="28692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485">
                        <a:moveTo>
                          <a:pt x="250" y="9"/>
                        </a:moveTo>
                        <a:lnTo>
                          <a:pt x="545" y="0"/>
                        </a:lnTo>
                        <a:lnTo>
                          <a:pt x="839" y="485"/>
                        </a:lnTo>
                        <a:lnTo>
                          <a:pt x="0" y="485"/>
                        </a:lnTo>
                        <a:lnTo>
                          <a:pt x="250" y="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343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Rectangle 389"/>
                  <p:cNvSpPr/>
                  <p:nvPr/>
                </p:nvSpPr>
                <p:spPr>
                  <a:xfrm>
                    <a:off x="755640" y="4767840"/>
                    <a:ext cx="286920" cy="161640"/>
                  </a:xfrm>
                  <a:prstGeom prst="rect">
                    <a:avLst/>
                  </a:prstGeom>
                  <a:solidFill>
                    <a:srgbClr val="2929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11" name="Group 584"/>
            <p:cNvGrpSpPr/>
            <p:nvPr/>
          </p:nvGrpSpPr>
          <p:grpSpPr>
            <a:xfrm>
              <a:off x="1332000" y="934200"/>
              <a:ext cx="1280160" cy="4677480"/>
              <a:chOff x="1332000" y="934200"/>
              <a:chExt cx="1280160" cy="4677480"/>
            </a:xfrm>
          </p:grpSpPr>
          <p:sp>
            <p:nvSpPr>
              <p:cNvPr id="512" name="AutoShape 391"/>
              <p:cNvSpPr/>
              <p:nvPr/>
            </p:nvSpPr>
            <p:spPr>
              <a:xfrm>
                <a:off x="1511280" y="5108400"/>
                <a:ext cx="865080" cy="50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392"/>
              <p:cNvSpPr/>
              <p:nvPr/>
            </p:nvSpPr>
            <p:spPr>
              <a:xfrm>
                <a:off x="1727280" y="5178600"/>
                <a:ext cx="4316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AutoShape 393"/>
              <p:cNvSpPr/>
              <p:nvPr/>
            </p:nvSpPr>
            <p:spPr>
              <a:xfrm flipH="1" rot="7565400">
                <a:off x="1785600" y="5170320"/>
                <a:ext cx="11088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394"/>
              <p:cNvSpPr/>
              <p:nvPr/>
            </p:nvSpPr>
            <p:spPr>
              <a:xfrm>
                <a:off x="1712880" y="4854600"/>
                <a:ext cx="119160" cy="396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395"/>
              <p:cNvSpPr/>
              <p:nvPr/>
            </p:nvSpPr>
            <p:spPr>
              <a:xfrm>
                <a:off x="1698480" y="5192640"/>
                <a:ext cx="101880" cy="1080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396"/>
              <p:cNvSpPr/>
              <p:nvPr/>
            </p:nvSpPr>
            <p:spPr>
              <a:xfrm rot="14034600">
                <a:off x="2001960" y="5170320"/>
                <a:ext cx="11088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397"/>
              <p:cNvSpPr/>
              <p:nvPr/>
            </p:nvSpPr>
            <p:spPr>
              <a:xfrm flipH="1">
                <a:off x="2055960" y="4848120"/>
                <a:ext cx="131760" cy="397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8"/>
              <p:cNvSpPr/>
              <p:nvPr/>
            </p:nvSpPr>
            <p:spPr>
              <a:xfrm flipH="1">
                <a:off x="2087640" y="5157720"/>
                <a:ext cx="101520" cy="1080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399"/>
              <p:cNvSpPr/>
              <p:nvPr/>
            </p:nvSpPr>
            <p:spPr>
              <a:xfrm>
                <a:off x="1871640" y="5300640"/>
                <a:ext cx="144360" cy="109440"/>
              </a:xfrm>
              <a:prstGeom prst="ellipse">
                <a:avLst/>
              </a:prstGeom>
              <a:gradFill rotWithShape="0">
                <a:gsLst>
                  <a:gs pos="0">
                    <a:srgbClr val="ffe4c9"/>
                  </a:gs>
                  <a:gs pos="100000">
                    <a:srgbClr val="ffe4c9">
                      <a:alpha val="85098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400"/>
              <p:cNvSpPr/>
              <p:nvPr/>
            </p:nvSpPr>
            <p:spPr>
              <a:xfrm>
                <a:off x="1835280" y="5337000"/>
                <a:ext cx="144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" name="Group 583"/>
              <p:cNvGrpSpPr/>
              <p:nvPr/>
            </p:nvGrpSpPr>
            <p:grpSpPr>
              <a:xfrm>
                <a:off x="1332000" y="934200"/>
                <a:ext cx="1280160" cy="3987000"/>
                <a:chOff x="1332000" y="934200"/>
                <a:chExt cx="1280160" cy="3987000"/>
              </a:xfrm>
            </p:grpSpPr>
            <p:grpSp>
              <p:nvGrpSpPr>
                <p:cNvPr id="523" name="Group 582"/>
                <p:cNvGrpSpPr/>
                <p:nvPr/>
              </p:nvGrpSpPr>
              <p:grpSpPr>
                <a:xfrm>
                  <a:off x="1332000" y="934200"/>
                  <a:ext cx="1280160" cy="3987000"/>
                  <a:chOff x="1332000" y="934200"/>
                  <a:chExt cx="1280160" cy="3987000"/>
                </a:xfrm>
              </p:grpSpPr>
              <p:sp>
                <p:nvSpPr>
                  <p:cNvPr id="524" name="Oval 403"/>
                  <p:cNvSpPr/>
                  <p:nvPr/>
                </p:nvSpPr>
                <p:spPr>
                  <a:xfrm>
                    <a:off x="1380960" y="1217520"/>
                    <a:ext cx="1067040" cy="397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AutoShape 404"/>
                  <p:cNvSpPr/>
                  <p:nvPr/>
                </p:nvSpPr>
                <p:spPr>
                  <a:xfrm>
                    <a:off x="1547640" y="1278000"/>
                    <a:ext cx="703440" cy="15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065" y="21600"/>
                        </a:lnTo>
                        <a:lnTo>
                          <a:pt x="1953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2125"/>
                      </a:gs>
                      <a:gs pos="50000">
                        <a:srgbClr val="000000"/>
                      </a:gs>
                      <a:gs pos="100000">
                        <a:srgbClr val="33212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405"/>
                  <p:cNvSpPr/>
                  <p:nvPr/>
                </p:nvSpPr>
                <p:spPr>
                  <a:xfrm>
                    <a:off x="1332000" y="2421000"/>
                    <a:ext cx="1197000" cy="25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1505">
                        <a:moveTo>
                          <a:pt x="265" y="117"/>
                        </a:moveTo>
                        <a:cubicBezTo>
                          <a:pt x="314" y="75"/>
                          <a:pt x="416" y="140"/>
                          <a:pt x="491" y="140"/>
                        </a:cubicBezTo>
                        <a:cubicBezTo>
                          <a:pt x="566" y="140"/>
                          <a:pt x="673" y="117"/>
                          <a:pt x="718" y="117"/>
                        </a:cubicBezTo>
                        <a:cubicBezTo>
                          <a:pt x="763" y="117"/>
                          <a:pt x="726" y="0"/>
                          <a:pt x="764" y="140"/>
                        </a:cubicBezTo>
                        <a:cubicBezTo>
                          <a:pt x="802" y="280"/>
                          <a:pt x="907" y="772"/>
                          <a:pt x="945" y="957"/>
                        </a:cubicBezTo>
                        <a:cubicBezTo>
                          <a:pt x="983" y="1142"/>
                          <a:pt x="979" y="1176"/>
                          <a:pt x="990" y="1251"/>
                        </a:cubicBezTo>
                        <a:cubicBezTo>
                          <a:pt x="1001" y="1326"/>
                          <a:pt x="1020" y="1376"/>
                          <a:pt x="1013" y="1410"/>
                        </a:cubicBezTo>
                        <a:cubicBezTo>
                          <a:pt x="1006" y="1444"/>
                          <a:pt x="1005" y="1441"/>
                          <a:pt x="945" y="1456"/>
                        </a:cubicBezTo>
                        <a:cubicBezTo>
                          <a:pt x="885" y="1471"/>
                          <a:pt x="760" y="1497"/>
                          <a:pt x="650" y="1501"/>
                        </a:cubicBezTo>
                        <a:cubicBezTo>
                          <a:pt x="540" y="1505"/>
                          <a:pt x="389" y="1485"/>
                          <a:pt x="287" y="1478"/>
                        </a:cubicBezTo>
                        <a:cubicBezTo>
                          <a:pt x="185" y="1471"/>
                          <a:pt x="76" y="1486"/>
                          <a:pt x="38" y="1456"/>
                        </a:cubicBezTo>
                        <a:cubicBezTo>
                          <a:pt x="0" y="1426"/>
                          <a:pt x="45" y="1361"/>
                          <a:pt x="60" y="1297"/>
                        </a:cubicBezTo>
                        <a:cubicBezTo>
                          <a:pt x="75" y="1233"/>
                          <a:pt x="113" y="1168"/>
                          <a:pt x="128" y="1070"/>
                        </a:cubicBezTo>
                        <a:cubicBezTo>
                          <a:pt x="143" y="972"/>
                          <a:pt x="140" y="820"/>
                          <a:pt x="151" y="707"/>
                        </a:cubicBezTo>
                        <a:cubicBezTo>
                          <a:pt x="162" y="594"/>
                          <a:pt x="178" y="488"/>
                          <a:pt x="197" y="390"/>
                        </a:cubicBezTo>
                        <a:cubicBezTo>
                          <a:pt x="216" y="292"/>
                          <a:pt x="216" y="159"/>
                          <a:pt x="265" y="11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33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Oval 406"/>
                  <p:cNvSpPr/>
                  <p:nvPr/>
                </p:nvSpPr>
                <p:spPr>
                  <a:xfrm>
                    <a:off x="1752480" y="4527720"/>
                    <a:ext cx="809640" cy="19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3b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Rectangle 407"/>
                  <p:cNvSpPr/>
                  <p:nvPr/>
                </p:nvSpPr>
                <p:spPr>
                  <a:xfrm>
                    <a:off x="1622520" y="2647800"/>
                    <a:ext cx="615960" cy="746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>
                          <a:alpha val="4117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Oval 408"/>
                  <p:cNvSpPr/>
                  <p:nvPr/>
                </p:nvSpPr>
                <p:spPr>
                  <a:xfrm>
                    <a:off x="1619280" y="1622520"/>
                    <a:ext cx="530280" cy="106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AutoShape 409"/>
                  <p:cNvSpPr/>
                  <p:nvPr/>
                </p:nvSpPr>
                <p:spPr>
                  <a:xfrm rot="10800000">
                    <a:off x="1861920" y="1746000"/>
                    <a:ext cx="8100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Oval 410"/>
                  <p:cNvSpPr/>
                  <p:nvPr/>
                </p:nvSpPr>
                <p:spPr>
                  <a:xfrm rot="237000">
                    <a:off x="1366560" y="1253880"/>
                    <a:ext cx="1096920" cy="288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Oval 411"/>
                  <p:cNvSpPr/>
                  <p:nvPr/>
                </p:nvSpPr>
                <p:spPr>
                  <a:xfrm>
                    <a:off x="1658880" y="1095480"/>
                    <a:ext cx="500040" cy="71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412"/>
                  <p:cNvSpPr/>
                  <p:nvPr/>
                </p:nvSpPr>
                <p:spPr>
                  <a:xfrm>
                    <a:off x="1501920" y="944640"/>
                    <a:ext cx="749160" cy="490320"/>
                  </a:xfrm>
                  <a:custGeom>
                    <a:avLst/>
                    <a:gdLst/>
                    <a:ahLst/>
                    <a:rect l="l" t="t" r="r" b="b"/>
                    <a:pathLst>
                      <a:path w="918" h="628">
                        <a:moveTo>
                          <a:pt x="64" y="454"/>
                        </a:moveTo>
                        <a:cubicBezTo>
                          <a:pt x="0" y="416"/>
                          <a:pt x="57" y="424"/>
                          <a:pt x="64" y="386"/>
                        </a:cubicBezTo>
                        <a:cubicBezTo>
                          <a:pt x="71" y="348"/>
                          <a:pt x="83" y="276"/>
                          <a:pt x="109" y="227"/>
                        </a:cubicBezTo>
                        <a:cubicBezTo>
                          <a:pt x="135" y="178"/>
                          <a:pt x="165" y="125"/>
                          <a:pt x="222" y="91"/>
                        </a:cubicBezTo>
                        <a:cubicBezTo>
                          <a:pt x="279" y="57"/>
                          <a:pt x="385" y="34"/>
                          <a:pt x="449" y="23"/>
                        </a:cubicBezTo>
                        <a:cubicBezTo>
                          <a:pt x="513" y="12"/>
                          <a:pt x="547" y="0"/>
                          <a:pt x="608" y="23"/>
                        </a:cubicBezTo>
                        <a:cubicBezTo>
                          <a:pt x="669" y="46"/>
                          <a:pt x="763" y="110"/>
                          <a:pt x="812" y="159"/>
                        </a:cubicBezTo>
                        <a:cubicBezTo>
                          <a:pt x="861" y="208"/>
                          <a:pt x="888" y="261"/>
                          <a:pt x="903" y="318"/>
                        </a:cubicBezTo>
                        <a:cubicBezTo>
                          <a:pt x="918" y="375"/>
                          <a:pt x="918" y="461"/>
                          <a:pt x="903" y="499"/>
                        </a:cubicBezTo>
                        <a:cubicBezTo>
                          <a:pt x="888" y="537"/>
                          <a:pt x="888" y="526"/>
                          <a:pt x="812" y="545"/>
                        </a:cubicBezTo>
                        <a:cubicBezTo>
                          <a:pt x="736" y="564"/>
                          <a:pt x="577" y="628"/>
                          <a:pt x="449" y="613"/>
                        </a:cubicBezTo>
                        <a:cubicBezTo>
                          <a:pt x="321" y="598"/>
                          <a:pt x="128" y="492"/>
                          <a:pt x="64" y="45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Oval 413"/>
                  <p:cNvSpPr/>
                  <p:nvPr/>
                </p:nvSpPr>
                <p:spPr>
                  <a:xfrm rot="361200">
                    <a:off x="1522080" y="1072800"/>
                    <a:ext cx="34776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5" name="Group 414"/>
                  <p:cNvGrpSpPr/>
                  <p:nvPr/>
                </p:nvGrpSpPr>
                <p:grpSpPr>
                  <a:xfrm>
                    <a:off x="1765440" y="934200"/>
                    <a:ext cx="249840" cy="122040"/>
                    <a:chOff x="1765440" y="934200"/>
                    <a:chExt cx="249840" cy="122040"/>
                  </a:xfrm>
                </p:grpSpPr>
                <p:sp>
                  <p:nvSpPr>
                    <p:cNvPr id="536" name="Freeform 415"/>
                    <p:cNvSpPr/>
                    <p:nvPr/>
                  </p:nvSpPr>
                  <p:spPr>
                    <a:xfrm flipH="1" rot="21568200">
                      <a:off x="1765800" y="954720"/>
                      <a:ext cx="24300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solidFill>
                      <a:srgbClr val="d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Freeform 416"/>
                    <p:cNvSpPr/>
                    <p:nvPr/>
                  </p:nvSpPr>
                  <p:spPr>
                    <a:xfrm flipH="1" rot="21568200">
                      <a:off x="1771560" y="935280"/>
                      <a:ext cx="24300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d0000"/>
                        </a:gs>
                        <a:gs pos="100000">
                          <a:srgbClr val="ac0000"/>
                        </a:gs>
                      </a:gsLst>
                      <a:lin ang="4722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8" name="Freeform 417"/>
                  <p:cNvSpPr/>
                  <p:nvPr/>
                </p:nvSpPr>
                <p:spPr>
                  <a:xfrm>
                    <a:off x="1542960" y="1258920"/>
                    <a:ext cx="72072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117">
                        <a:moveTo>
                          <a:pt x="0" y="0"/>
                        </a:moveTo>
                        <a:cubicBezTo>
                          <a:pt x="74" y="36"/>
                          <a:pt x="148" y="72"/>
                          <a:pt x="227" y="91"/>
                        </a:cubicBezTo>
                        <a:cubicBezTo>
                          <a:pt x="306" y="110"/>
                          <a:pt x="389" y="117"/>
                          <a:pt x="476" y="113"/>
                        </a:cubicBezTo>
                        <a:cubicBezTo>
                          <a:pt x="563" y="109"/>
                          <a:pt x="695" y="83"/>
                          <a:pt x="748" y="68"/>
                        </a:cubicBezTo>
                        <a:cubicBezTo>
                          <a:pt x="801" y="53"/>
                          <a:pt x="749" y="23"/>
                          <a:pt x="794" y="23"/>
                        </a:cubicBezTo>
                      </a:path>
                    </a:pathLst>
                  </a:custGeom>
                  <a:noFill/>
                  <a:ln w="1908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AutoShape 418"/>
                  <p:cNvSpPr/>
                  <p:nvPr/>
                </p:nvSpPr>
                <p:spPr>
                  <a:xfrm>
                    <a:off x="2133720" y="1284120"/>
                    <a:ext cx="619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419"/>
                  <p:cNvSpPr/>
                  <p:nvPr/>
                </p:nvSpPr>
                <p:spPr>
                  <a:xfrm rot="20773200">
                    <a:off x="1847520" y="1336320"/>
                    <a:ext cx="349200" cy="144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420"/>
                  <p:cNvSpPr/>
                  <p:nvPr/>
                </p:nvSpPr>
                <p:spPr>
                  <a:xfrm rot="401400">
                    <a:off x="1405080" y="1290600"/>
                    <a:ext cx="217440" cy="7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Oval 421"/>
                  <p:cNvSpPr/>
                  <p:nvPr/>
                </p:nvSpPr>
                <p:spPr>
                  <a:xfrm rot="20941800">
                    <a:off x="2174760" y="1327320"/>
                    <a:ext cx="266760" cy="8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422"/>
                  <p:cNvSpPr/>
                  <p:nvPr/>
                </p:nvSpPr>
                <p:spPr>
                  <a:xfrm>
                    <a:off x="1440000" y="1281240"/>
                    <a:ext cx="100800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38">
                        <a:moveTo>
                          <a:pt x="159" y="4"/>
                        </a:moveTo>
                        <a:cubicBezTo>
                          <a:pt x="125" y="8"/>
                          <a:pt x="0" y="42"/>
                          <a:pt x="0" y="49"/>
                        </a:cubicBezTo>
                        <a:cubicBezTo>
                          <a:pt x="0" y="56"/>
                          <a:pt x="99" y="30"/>
                          <a:pt x="159" y="49"/>
                        </a:cubicBezTo>
                        <a:cubicBezTo>
                          <a:pt x="219" y="68"/>
                          <a:pt x="303" y="133"/>
                          <a:pt x="363" y="163"/>
                        </a:cubicBezTo>
                        <a:cubicBezTo>
                          <a:pt x="423" y="193"/>
                          <a:pt x="465" y="224"/>
                          <a:pt x="522" y="231"/>
                        </a:cubicBezTo>
                        <a:cubicBezTo>
                          <a:pt x="579" y="238"/>
                          <a:pt x="646" y="223"/>
                          <a:pt x="703" y="208"/>
                        </a:cubicBezTo>
                        <a:cubicBezTo>
                          <a:pt x="760" y="193"/>
                          <a:pt x="820" y="159"/>
                          <a:pt x="862" y="140"/>
                        </a:cubicBezTo>
                        <a:cubicBezTo>
                          <a:pt x="904" y="121"/>
                          <a:pt x="926" y="106"/>
                          <a:pt x="953" y="95"/>
                        </a:cubicBezTo>
                        <a:cubicBezTo>
                          <a:pt x="980" y="84"/>
                          <a:pt x="995" y="72"/>
                          <a:pt x="1021" y="72"/>
                        </a:cubicBezTo>
                        <a:cubicBezTo>
                          <a:pt x="1047" y="72"/>
                          <a:pt x="1122" y="102"/>
                          <a:pt x="1111" y="95"/>
                        </a:cubicBezTo>
                        <a:cubicBezTo>
                          <a:pt x="1100" y="88"/>
                          <a:pt x="994" y="31"/>
                          <a:pt x="953" y="27"/>
                        </a:cubicBezTo>
                        <a:cubicBezTo>
                          <a:pt x="912" y="23"/>
                          <a:pt x="911" y="61"/>
                          <a:pt x="862" y="72"/>
                        </a:cubicBezTo>
                        <a:cubicBezTo>
                          <a:pt x="813" y="83"/>
                          <a:pt x="730" y="91"/>
                          <a:pt x="658" y="95"/>
                        </a:cubicBezTo>
                        <a:cubicBezTo>
                          <a:pt x="586" y="99"/>
                          <a:pt x="507" y="106"/>
                          <a:pt x="431" y="95"/>
                        </a:cubicBezTo>
                        <a:cubicBezTo>
                          <a:pt x="355" y="84"/>
                          <a:pt x="249" y="42"/>
                          <a:pt x="204" y="27"/>
                        </a:cubicBezTo>
                        <a:cubicBezTo>
                          <a:pt x="159" y="12"/>
                          <a:pt x="193" y="0"/>
                          <a:pt x="159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423"/>
                  <p:cNvSpPr/>
                  <p:nvPr/>
                </p:nvSpPr>
                <p:spPr>
                  <a:xfrm>
                    <a:off x="1596960" y="1925640"/>
                    <a:ext cx="654120" cy="755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0" h="839">
                        <a:moveTo>
                          <a:pt x="250" y="4"/>
                        </a:moveTo>
                        <a:cubicBezTo>
                          <a:pt x="197" y="8"/>
                          <a:pt x="174" y="0"/>
                          <a:pt x="136" y="26"/>
                        </a:cubicBezTo>
                        <a:cubicBezTo>
                          <a:pt x="98" y="52"/>
                          <a:pt x="46" y="117"/>
                          <a:pt x="23" y="162"/>
                        </a:cubicBezTo>
                        <a:cubicBezTo>
                          <a:pt x="0" y="207"/>
                          <a:pt x="0" y="264"/>
                          <a:pt x="0" y="298"/>
                        </a:cubicBezTo>
                        <a:cubicBezTo>
                          <a:pt x="0" y="332"/>
                          <a:pt x="8" y="355"/>
                          <a:pt x="23" y="366"/>
                        </a:cubicBezTo>
                        <a:cubicBezTo>
                          <a:pt x="38" y="377"/>
                          <a:pt x="80" y="309"/>
                          <a:pt x="91" y="366"/>
                        </a:cubicBezTo>
                        <a:cubicBezTo>
                          <a:pt x="102" y="423"/>
                          <a:pt x="98" y="631"/>
                          <a:pt x="91" y="707"/>
                        </a:cubicBezTo>
                        <a:cubicBezTo>
                          <a:pt x="84" y="783"/>
                          <a:pt x="4" y="801"/>
                          <a:pt x="46" y="820"/>
                        </a:cubicBezTo>
                        <a:cubicBezTo>
                          <a:pt x="88" y="839"/>
                          <a:pt x="235" y="820"/>
                          <a:pt x="341" y="820"/>
                        </a:cubicBezTo>
                        <a:cubicBezTo>
                          <a:pt x="447" y="820"/>
                          <a:pt x="632" y="831"/>
                          <a:pt x="681" y="820"/>
                        </a:cubicBezTo>
                        <a:cubicBezTo>
                          <a:pt x="730" y="809"/>
                          <a:pt x="646" y="779"/>
                          <a:pt x="635" y="752"/>
                        </a:cubicBezTo>
                        <a:cubicBezTo>
                          <a:pt x="624" y="725"/>
                          <a:pt x="617" y="725"/>
                          <a:pt x="613" y="661"/>
                        </a:cubicBezTo>
                        <a:cubicBezTo>
                          <a:pt x="609" y="597"/>
                          <a:pt x="602" y="411"/>
                          <a:pt x="613" y="366"/>
                        </a:cubicBezTo>
                        <a:cubicBezTo>
                          <a:pt x="624" y="321"/>
                          <a:pt x="658" y="385"/>
                          <a:pt x="681" y="389"/>
                        </a:cubicBezTo>
                        <a:cubicBezTo>
                          <a:pt x="704" y="393"/>
                          <a:pt x="738" y="408"/>
                          <a:pt x="749" y="389"/>
                        </a:cubicBezTo>
                        <a:cubicBezTo>
                          <a:pt x="760" y="370"/>
                          <a:pt x="757" y="317"/>
                          <a:pt x="749" y="276"/>
                        </a:cubicBezTo>
                        <a:cubicBezTo>
                          <a:pt x="741" y="235"/>
                          <a:pt x="726" y="182"/>
                          <a:pt x="703" y="140"/>
                        </a:cubicBezTo>
                        <a:cubicBezTo>
                          <a:pt x="680" y="98"/>
                          <a:pt x="654" y="49"/>
                          <a:pt x="613" y="26"/>
                        </a:cubicBezTo>
                        <a:cubicBezTo>
                          <a:pt x="572" y="3"/>
                          <a:pt x="514" y="4"/>
                          <a:pt x="454" y="4"/>
                        </a:cubicBezTo>
                        <a:cubicBezTo>
                          <a:pt x="394" y="4"/>
                          <a:pt x="303" y="0"/>
                          <a:pt x="250" y="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5" name="Group 424"/>
                  <p:cNvGrpSpPr/>
                  <p:nvPr/>
                </p:nvGrpSpPr>
                <p:grpSpPr>
                  <a:xfrm>
                    <a:off x="1808640" y="1796040"/>
                    <a:ext cx="399240" cy="334800"/>
                    <a:chOff x="1808640" y="1796040"/>
                    <a:chExt cx="399240" cy="334800"/>
                  </a:xfrm>
                </p:grpSpPr>
                <p:sp>
                  <p:nvSpPr>
                    <p:cNvPr id="546" name="Freeform 425"/>
                    <p:cNvSpPr/>
                    <p:nvPr/>
                  </p:nvSpPr>
                  <p:spPr>
                    <a:xfrm rot="3600000">
                      <a:off x="2039400" y="1771560"/>
                      <a:ext cx="8424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Oval 426"/>
                    <p:cNvSpPr/>
                    <p:nvPr/>
                  </p:nvSpPr>
                  <p:spPr>
                    <a:xfrm rot="3600000">
                      <a:off x="2061360" y="1805040"/>
                      <a:ext cx="82440" cy="120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427"/>
                    <p:cNvSpPr/>
                    <p:nvPr/>
                  </p:nvSpPr>
                  <p:spPr>
                    <a:xfrm rot="21002400">
                      <a:off x="1816200" y="1892520"/>
                      <a:ext cx="16308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91">
                          <a:moveTo>
                            <a:pt x="23" y="0"/>
                          </a:moveTo>
                          <a:lnTo>
                            <a:pt x="0" y="46"/>
                          </a:lnTo>
                          <a:lnTo>
                            <a:pt x="46" y="69"/>
                          </a:lnTo>
                          <a:lnTo>
                            <a:pt x="136" y="91"/>
                          </a:lnTo>
                          <a:lnTo>
                            <a:pt x="182" y="6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3300"/>
                        </a:gs>
                      </a:gsLst>
                      <a:lin ang="33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Freeform 428"/>
                    <p:cNvSpPr/>
                    <p:nvPr/>
                  </p:nvSpPr>
                  <p:spPr>
                    <a:xfrm>
                      <a:off x="1935000" y="1935720"/>
                      <a:ext cx="85680" cy="16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Oval 429"/>
                    <p:cNvSpPr/>
                    <p:nvPr/>
                  </p:nvSpPr>
                  <p:spPr>
                    <a:xfrm rot="3600000">
                      <a:off x="2060640" y="1788120"/>
                      <a:ext cx="42480" cy="246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2f00">
                            <a:alpha val="0"/>
                          </a:srgbClr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Oval 430"/>
                    <p:cNvSpPr/>
                    <p:nvPr/>
                  </p:nvSpPr>
                  <p:spPr>
                    <a:xfrm>
                      <a:off x="1836720" y="1935720"/>
                      <a:ext cx="20520" cy="20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Oval 431"/>
                    <p:cNvSpPr/>
                    <p:nvPr/>
                  </p:nvSpPr>
                  <p:spPr>
                    <a:xfrm>
                      <a:off x="1937880" y="2036880"/>
                      <a:ext cx="2052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Oval 432"/>
                    <p:cNvSpPr/>
                    <p:nvPr/>
                  </p:nvSpPr>
                  <p:spPr>
                    <a:xfrm>
                      <a:off x="1939680" y="1956240"/>
                      <a:ext cx="18720" cy="20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Oval 433"/>
                    <p:cNvSpPr/>
                    <p:nvPr/>
                  </p:nvSpPr>
                  <p:spPr>
                    <a:xfrm>
                      <a:off x="2041560" y="1935720"/>
                      <a:ext cx="20520" cy="20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Oval 434"/>
                    <p:cNvSpPr/>
                    <p:nvPr/>
                  </p:nvSpPr>
                  <p:spPr>
                    <a:xfrm>
                      <a:off x="1977480" y="1996200"/>
                      <a:ext cx="2052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435"/>
                    <p:cNvSpPr/>
                    <p:nvPr/>
                  </p:nvSpPr>
                  <p:spPr>
                    <a:xfrm>
                      <a:off x="1958760" y="1935720"/>
                      <a:ext cx="39600" cy="39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5b4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Oval 436"/>
                    <p:cNvSpPr/>
                    <p:nvPr/>
                  </p:nvSpPr>
                  <p:spPr>
                    <a:xfrm rot="3600000">
                      <a:off x="1929240" y="2027880"/>
                      <a:ext cx="99720" cy="79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Oval 437"/>
                  <p:cNvSpPr/>
                  <p:nvPr/>
                </p:nvSpPr>
                <p:spPr>
                  <a:xfrm rot="600000">
                    <a:off x="1695240" y="2091960"/>
                    <a:ext cx="25200" cy="160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9" name="Group 438"/>
                  <p:cNvGrpSpPr/>
                  <p:nvPr/>
                </p:nvGrpSpPr>
                <p:grpSpPr>
                  <a:xfrm>
                    <a:off x="1698480" y="2054160"/>
                    <a:ext cx="41400" cy="44640"/>
                    <a:chOff x="1698480" y="2054160"/>
                    <a:chExt cx="41400" cy="44640"/>
                  </a:xfrm>
                </p:grpSpPr>
                <p:grpSp>
                  <p:nvGrpSpPr>
                    <p:cNvPr id="560" name="Group 439"/>
                    <p:cNvGrpSpPr/>
                    <p:nvPr/>
                  </p:nvGrpSpPr>
                  <p:grpSpPr>
                    <a:xfrm>
                      <a:off x="1698480" y="2058480"/>
                      <a:ext cx="41400" cy="40320"/>
                      <a:chOff x="1698480" y="2058480"/>
                      <a:chExt cx="41400" cy="40320"/>
                    </a:xfrm>
                  </p:grpSpPr>
                  <p:sp>
                    <p:nvSpPr>
                      <p:cNvPr id="561" name="Oval 440"/>
                      <p:cNvSpPr/>
                      <p:nvPr/>
                    </p:nvSpPr>
                    <p:spPr>
                      <a:xfrm>
                        <a:off x="1709640" y="2058480"/>
                        <a:ext cx="1908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2" name="Oval 441"/>
                      <p:cNvSpPr/>
                      <p:nvPr/>
                    </p:nvSpPr>
                    <p:spPr>
                      <a:xfrm>
                        <a:off x="1698480" y="2058480"/>
                        <a:ext cx="41400" cy="40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000" bIns="-180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3" name="Oval 442"/>
                    <p:cNvSpPr/>
                    <p:nvPr/>
                  </p:nvSpPr>
                  <p:spPr>
                    <a:xfrm>
                      <a:off x="1698480" y="2054160"/>
                      <a:ext cx="38520" cy="3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443"/>
                  <p:cNvGrpSpPr/>
                  <p:nvPr/>
                </p:nvGrpSpPr>
                <p:grpSpPr>
                  <a:xfrm>
                    <a:off x="1860480" y="2276640"/>
                    <a:ext cx="42840" cy="41040"/>
                    <a:chOff x="1860480" y="2276640"/>
                    <a:chExt cx="42840" cy="41040"/>
                  </a:xfrm>
                </p:grpSpPr>
                <p:grpSp>
                  <p:nvGrpSpPr>
                    <p:cNvPr id="565" name="Group 444"/>
                    <p:cNvGrpSpPr/>
                    <p:nvPr/>
                  </p:nvGrpSpPr>
                  <p:grpSpPr>
                    <a:xfrm>
                      <a:off x="1860480" y="2276640"/>
                      <a:ext cx="42840" cy="41040"/>
                      <a:chOff x="1860480" y="2276640"/>
                      <a:chExt cx="42840" cy="41040"/>
                    </a:xfrm>
                  </p:grpSpPr>
                  <p:sp>
                    <p:nvSpPr>
                      <p:cNvPr id="566" name="Oval 445"/>
                      <p:cNvSpPr/>
                      <p:nvPr/>
                    </p:nvSpPr>
                    <p:spPr>
                      <a:xfrm>
                        <a:off x="1871640" y="2276640"/>
                        <a:ext cx="20520" cy="266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7" name="Oval 446"/>
                      <p:cNvSpPr/>
                      <p:nvPr/>
                    </p:nvSpPr>
                    <p:spPr>
                      <a:xfrm>
                        <a:off x="1860480" y="2276640"/>
                        <a:ext cx="4284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8" name="Oval 447"/>
                    <p:cNvSpPr/>
                    <p:nvPr/>
                  </p:nvSpPr>
                  <p:spPr>
                    <a:xfrm>
                      <a:off x="1863360" y="2276640"/>
                      <a:ext cx="39960" cy="34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448"/>
                  <p:cNvGrpSpPr/>
                  <p:nvPr/>
                </p:nvGrpSpPr>
                <p:grpSpPr>
                  <a:xfrm>
                    <a:off x="1760400" y="2398680"/>
                    <a:ext cx="41400" cy="41400"/>
                    <a:chOff x="1760400" y="2398680"/>
                    <a:chExt cx="41400" cy="41400"/>
                  </a:xfrm>
                </p:grpSpPr>
                <p:grpSp>
                  <p:nvGrpSpPr>
                    <p:cNvPr id="570" name="Group 449"/>
                    <p:cNvGrpSpPr/>
                    <p:nvPr/>
                  </p:nvGrpSpPr>
                  <p:grpSpPr>
                    <a:xfrm>
                      <a:off x="1760400" y="2398680"/>
                      <a:ext cx="41400" cy="41400"/>
                      <a:chOff x="1760400" y="2398680"/>
                      <a:chExt cx="41400" cy="41400"/>
                    </a:xfrm>
                  </p:grpSpPr>
                  <p:sp>
                    <p:nvSpPr>
                      <p:cNvPr id="571" name="Oval 450"/>
                      <p:cNvSpPr/>
                      <p:nvPr/>
                    </p:nvSpPr>
                    <p:spPr>
                      <a:xfrm>
                        <a:off x="1771560" y="2398680"/>
                        <a:ext cx="19080" cy="27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Oval 451"/>
                      <p:cNvSpPr/>
                      <p:nvPr/>
                    </p:nvSpPr>
                    <p:spPr>
                      <a:xfrm>
                        <a:off x="1760400" y="2398680"/>
                        <a:ext cx="4140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3" name="Oval 452"/>
                    <p:cNvSpPr/>
                    <p:nvPr/>
                  </p:nvSpPr>
                  <p:spPr>
                    <a:xfrm>
                      <a:off x="1760400" y="2398680"/>
                      <a:ext cx="38520" cy="35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Group 453"/>
                  <p:cNvGrpSpPr/>
                  <p:nvPr/>
                </p:nvGrpSpPr>
                <p:grpSpPr>
                  <a:xfrm>
                    <a:off x="2025720" y="2235240"/>
                    <a:ext cx="41040" cy="41400"/>
                    <a:chOff x="2025720" y="2235240"/>
                    <a:chExt cx="41040" cy="41400"/>
                  </a:xfrm>
                </p:grpSpPr>
                <p:grpSp>
                  <p:nvGrpSpPr>
                    <p:cNvPr id="575" name="Group 454"/>
                    <p:cNvGrpSpPr/>
                    <p:nvPr/>
                  </p:nvGrpSpPr>
                  <p:grpSpPr>
                    <a:xfrm>
                      <a:off x="2025720" y="2235240"/>
                      <a:ext cx="41040" cy="41400"/>
                      <a:chOff x="2025720" y="2235240"/>
                      <a:chExt cx="41040" cy="41400"/>
                    </a:xfrm>
                  </p:grpSpPr>
                  <p:sp>
                    <p:nvSpPr>
                      <p:cNvPr id="576" name="Oval 455"/>
                      <p:cNvSpPr/>
                      <p:nvPr/>
                    </p:nvSpPr>
                    <p:spPr>
                      <a:xfrm>
                        <a:off x="2036880" y="2235240"/>
                        <a:ext cx="18720" cy="27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Oval 456"/>
                      <p:cNvSpPr/>
                      <p:nvPr/>
                    </p:nvSpPr>
                    <p:spPr>
                      <a:xfrm>
                        <a:off x="2025720" y="2235240"/>
                        <a:ext cx="4104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8" name="Oval 457"/>
                    <p:cNvSpPr/>
                    <p:nvPr/>
                  </p:nvSpPr>
                  <p:spPr>
                    <a:xfrm>
                      <a:off x="2025720" y="2235240"/>
                      <a:ext cx="38160" cy="35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Group 458"/>
                  <p:cNvGrpSpPr/>
                  <p:nvPr/>
                </p:nvGrpSpPr>
                <p:grpSpPr>
                  <a:xfrm>
                    <a:off x="1860480" y="2054160"/>
                    <a:ext cx="42840" cy="44640"/>
                    <a:chOff x="1860480" y="2054160"/>
                    <a:chExt cx="42840" cy="44640"/>
                  </a:xfrm>
                </p:grpSpPr>
                <p:grpSp>
                  <p:nvGrpSpPr>
                    <p:cNvPr id="580" name="Group 459"/>
                    <p:cNvGrpSpPr/>
                    <p:nvPr/>
                  </p:nvGrpSpPr>
                  <p:grpSpPr>
                    <a:xfrm>
                      <a:off x="1860480" y="2058480"/>
                      <a:ext cx="42840" cy="40320"/>
                      <a:chOff x="1860480" y="2058480"/>
                      <a:chExt cx="42840" cy="40320"/>
                    </a:xfrm>
                  </p:grpSpPr>
                  <p:sp>
                    <p:nvSpPr>
                      <p:cNvPr id="581" name="Oval 460"/>
                      <p:cNvSpPr/>
                      <p:nvPr/>
                    </p:nvSpPr>
                    <p:spPr>
                      <a:xfrm>
                        <a:off x="1871640" y="2058480"/>
                        <a:ext cx="2052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Oval 461"/>
                      <p:cNvSpPr/>
                      <p:nvPr/>
                    </p:nvSpPr>
                    <p:spPr>
                      <a:xfrm>
                        <a:off x="1860480" y="2058480"/>
                        <a:ext cx="42840" cy="40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000" bIns="-180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3" name="Oval 462"/>
                    <p:cNvSpPr/>
                    <p:nvPr/>
                  </p:nvSpPr>
                  <p:spPr>
                    <a:xfrm>
                      <a:off x="1863360" y="2054160"/>
                      <a:ext cx="39960" cy="3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463"/>
                  <p:cNvGrpSpPr/>
                  <p:nvPr/>
                </p:nvGrpSpPr>
                <p:grpSpPr>
                  <a:xfrm>
                    <a:off x="2189160" y="2112840"/>
                    <a:ext cx="41400" cy="41400"/>
                    <a:chOff x="2189160" y="2112840"/>
                    <a:chExt cx="41400" cy="41400"/>
                  </a:xfrm>
                </p:grpSpPr>
                <p:grpSp>
                  <p:nvGrpSpPr>
                    <p:cNvPr id="585" name="Group 464"/>
                    <p:cNvGrpSpPr/>
                    <p:nvPr/>
                  </p:nvGrpSpPr>
                  <p:grpSpPr>
                    <a:xfrm>
                      <a:off x="2189160" y="2112840"/>
                      <a:ext cx="41400" cy="41400"/>
                      <a:chOff x="2189160" y="2112840"/>
                      <a:chExt cx="41400" cy="41400"/>
                    </a:xfrm>
                  </p:grpSpPr>
                  <p:sp>
                    <p:nvSpPr>
                      <p:cNvPr id="586" name="Oval 465"/>
                      <p:cNvSpPr/>
                      <p:nvPr/>
                    </p:nvSpPr>
                    <p:spPr>
                      <a:xfrm>
                        <a:off x="2200320" y="2112840"/>
                        <a:ext cx="19080" cy="27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Oval 466"/>
                      <p:cNvSpPr/>
                      <p:nvPr/>
                    </p:nvSpPr>
                    <p:spPr>
                      <a:xfrm>
                        <a:off x="2189160" y="2112840"/>
                        <a:ext cx="4140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8" name="Oval 467"/>
                    <p:cNvSpPr/>
                    <p:nvPr/>
                  </p:nvSpPr>
                  <p:spPr>
                    <a:xfrm>
                      <a:off x="2189160" y="2112840"/>
                      <a:ext cx="38520" cy="35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Group 468"/>
                  <p:cNvGrpSpPr/>
                  <p:nvPr/>
                </p:nvGrpSpPr>
                <p:grpSpPr>
                  <a:xfrm>
                    <a:off x="1990800" y="2482920"/>
                    <a:ext cx="42840" cy="44280"/>
                    <a:chOff x="1990800" y="2482920"/>
                    <a:chExt cx="42840" cy="44280"/>
                  </a:xfrm>
                </p:grpSpPr>
                <p:grpSp>
                  <p:nvGrpSpPr>
                    <p:cNvPr id="590" name="Group 469"/>
                    <p:cNvGrpSpPr/>
                    <p:nvPr/>
                  </p:nvGrpSpPr>
                  <p:grpSpPr>
                    <a:xfrm>
                      <a:off x="1993320" y="2487240"/>
                      <a:ext cx="40320" cy="39960"/>
                      <a:chOff x="1993320" y="2487240"/>
                      <a:chExt cx="40320" cy="39960"/>
                    </a:xfrm>
                  </p:grpSpPr>
                  <p:sp>
                    <p:nvSpPr>
                      <p:cNvPr id="591" name="Oval 470"/>
                      <p:cNvSpPr/>
                      <p:nvPr/>
                    </p:nvSpPr>
                    <p:spPr>
                      <a:xfrm>
                        <a:off x="2003040" y="2487240"/>
                        <a:ext cx="21240" cy="27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Oval 471"/>
                      <p:cNvSpPr/>
                      <p:nvPr/>
                    </p:nvSpPr>
                    <p:spPr>
                      <a:xfrm>
                        <a:off x="1993320" y="2487240"/>
                        <a:ext cx="40320" cy="399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360" bIns="-18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3" name="Oval 472"/>
                    <p:cNvSpPr/>
                    <p:nvPr/>
                  </p:nvSpPr>
                  <p:spPr>
                    <a:xfrm>
                      <a:off x="1990800" y="2482920"/>
                      <a:ext cx="36720" cy="3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Group 473"/>
                  <p:cNvGrpSpPr/>
                  <p:nvPr/>
                </p:nvGrpSpPr>
                <p:grpSpPr>
                  <a:xfrm>
                    <a:off x="1698480" y="2562120"/>
                    <a:ext cx="41400" cy="41400"/>
                    <a:chOff x="1698480" y="2562120"/>
                    <a:chExt cx="41400" cy="41400"/>
                  </a:xfrm>
                </p:grpSpPr>
                <p:grpSp>
                  <p:nvGrpSpPr>
                    <p:cNvPr id="595" name="Group 474"/>
                    <p:cNvGrpSpPr/>
                    <p:nvPr/>
                  </p:nvGrpSpPr>
                  <p:grpSpPr>
                    <a:xfrm>
                      <a:off x="1698480" y="2562120"/>
                      <a:ext cx="41400" cy="41400"/>
                      <a:chOff x="1698480" y="2562120"/>
                      <a:chExt cx="41400" cy="41400"/>
                    </a:xfrm>
                  </p:grpSpPr>
                  <p:sp>
                    <p:nvSpPr>
                      <p:cNvPr id="596" name="Oval 475"/>
                      <p:cNvSpPr/>
                      <p:nvPr/>
                    </p:nvSpPr>
                    <p:spPr>
                      <a:xfrm>
                        <a:off x="1709640" y="2562120"/>
                        <a:ext cx="19080" cy="27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Oval 476"/>
                      <p:cNvSpPr/>
                      <p:nvPr/>
                    </p:nvSpPr>
                    <p:spPr>
                      <a:xfrm>
                        <a:off x="1698480" y="2562120"/>
                        <a:ext cx="4140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8" name="Oval 477"/>
                    <p:cNvSpPr/>
                    <p:nvPr/>
                  </p:nvSpPr>
                  <p:spPr>
                    <a:xfrm>
                      <a:off x="1698480" y="2562120"/>
                      <a:ext cx="38520" cy="35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478"/>
                  <p:cNvGrpSpPr/>
                  <p:nvPr/>
                </p:nvGrpSpPr>
                <p:grpSpPr>
                  <a:xfrm>
                    <a:off x="2046240" y="1932120"/>
                    <a:ext cx="41400" cy="44280"/>
                    <a:chOff x="2046240" y="1932120"/>
                    <a:chExt cx="41400" cy="44280"/>
                  </a:xfrm>
                </p:grpSpPr>
                <p:grpSp>
                  <p:nvGrpSpPr>
                    <p:cNvPr id="600" name="Group 479"/>
                    <p:cNvGrpSpPr/>
                    <p:nvPr/>
                  </p:nvGrpSpPr>
                  <p:grpSpPr>
                    <a:xfrm>
                      <a:off x="2046240" y="1936440"/>
                      <a:ext cx="41400" cy="39960"/>
                      <a:chOff x="2046240" y="1936440"/>
                      <a:chExt cx="41400" cy="39960"/>
                    </a:xfrm>
                  </p:grpSpPr>
                  <p:sp>
                    <p:nvSpPr>
                      <p:cNvPr id="601" name="Oval 480"/>
                      <p:cNvSpPr/>
                      <p:nvPr/>
                    </p:nvSpPr>
                    <p:spPr>
                      <a:xfrm>
                        <a:off x="2057400" y="1936440"/>
                        <a:ext cx="19080" cy="27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Oval 481"/>
                      <p:cNvSpPr/>
                      <p:nvPr/>
                    </p:nvSpPr>
                    <p:spPr>
                      <a:xfrm>
                        <a:off x="2046240" y="1936440"/>
                        <a:ext cx="41400" cy="399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360" bIns="-18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3" name="Oval 482"/>
                    <p:cNvSpPr/>
                    <p:nvPr/>
                  </p:nvSpPr>
                  <p:spPr>
                    <a:xfrm>
                      <a:off x="2046240" y="1932120"/>
                      <a:ext cx="38520" cy="3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Group 483"/>
                  <p:cNvGrpSpPr/>
                  <p:nvPr/>
                </p:nvGrpSpPr>
                <p:grpSpPr>
                  <a:xfrm>
                    <a:off x="2147760" y="2174760"/>
                    <a:ext cx="41400" cy="41400"/>
                    <a:chOff x="2147760" y="2174760"/>
                    <a:chExt cx="41400" cy="41400"/>
                  </a:xfrm>
                </p:grpSpPr>
                <p:grpSp>
                  <p:nvGrpSpPr>
                    <p:cNvPr id="605" name="Group 484"/>
                    <p:cNvGrpSpPr/>
                    <p:nvPr/>
                  </p:nvGrpSpPr>
                  <p:grpSpPr>
                    <a:xfrm>
                      <a:off x="2147760" y="2174760"/>
                      <a:ext cx="41400" cy="41400"/>
                      <a:chOff x="2147760" y="2174760"/>
                      <a:chExt cx="41400" cy="41400"/>
                    </a:xfrm>
                  </p:grpSpPr>
                  <p:sp>
                    <p:nvSpPr>
                      <p:cNvPr id="606" name="Oval 485"/>
                      <p:cNvSpPr/>
                      <p:nvPr/>
                    </p:nvSpPr>
                    <p:spPr>
                      <a:xfrm>
                        <a:off x="2158920" y="2174760"/>
                        <a:ext cx="19080" cy="27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Oval 486"/>
                      <p:cNvSpPr/>
                      <p:nvPr/>
                    </p:nvSpPr>
                    <p:spPr>
                      <a:xfrm>
                        <a:off x="2147760" y="2174760"/>
                        <a:ext cx="4140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" name="Oval 487"/>
                    <p:cNvSpPr/>
                    <p:nvPr/>
                  </p:nvSpPr>
                  <p:spPr>
                    <a:xfrm>
                      <a:off x="2147760" y="2174760"/>
                      <a:ext cx="38520" cy="35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9" name="Oval 488"/>
                  <p:cNvSpPr/>
                  <p:nvPr/>
                </p:nvSpPr>
                <p:spPr>
                  <a:xfrm>
                    <a:off x="2044800" y="2235240"/>
                    <a:ext cx="226800" cy="42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489"/>
                  <p:cNvGrpSpPr/>
                  <p:nvPr/>
                </p:nvGrpSpPr>
                <p:grpSpPr>
                  <a:xfrm>
                    <a:off x="2128680" y="2584440"/>
                    <a:ext cx="41400" cy="44640"/>
                    <a:chOff x="2128680" y="2584440"/>
                    <a:chExt cx="41400" cy="44640"/>
                  </a:xfrm>
                </p:grpSpPr>
                <p:grpSp>
                  <p:nvGrpSpPr>
                    <p:cNvPr id="611" name="Group 490"/>
                    <p:cNvGrpSpPr/>
                    <p:nvPr/>
                  </p:nvGrpSpPr>
                  <p:grpSpPr>
                    <a:xfrm>
                      <a:off x="2128680" y="2588760"/>
                      <a:ext cx="41400" cy="40320"/>
                      <a:chOff x="2128680" y="2588760"/>
                      <a:chExt cx="41400" cy="40320"/>
                    </a:xfrm>
                  </p:grpSpPr>
                  <p:sp>
                    <p:nvSpPr>
                      <p:cNvPr id="612" name="Oval 491"/>
                      <p:cNvSpPr/>
                      <p:nvPr/>
                    </p:nvSpPr>
                    <p:spPr>
                      <a:xfrm>
                        <a:off x="2139840" y="2588760"/>
                        <a:ext cx="1908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Oval 492"/>
                      <p:cNvSpPr/>
                      <p:nvPr/>
                    </p:nvSpPr>
                    <p:spPr>
                      <a:xfrm>
                        <a:off x="2128680" y="2588760"/>
                        <a:ext cx="41400" cy="40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000" bIns="-180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14" name="Oval 493"/>
                    <p:cNvSpPr/>
                    <p:nvPr/>
                  </p:nvSpPr>
                  <p:spPr>
                    <a:xfrm>
                      <a:off x="2128680" y="2584440"/>
                      <a:ext cx="38520" cy="3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5" name="Oval 494"/>
                  <p:cNvSpPr/>
                  <p:nvPr/>
                </p:nvSpPr>
                <p:spPr>
                  <a:xfrm>
                    <a:off x="1619280" y="2255760"/>
                    <a:ext cx="142920" cy="389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/>
                      </a:gs>
                      <a:gs pos="100000">
                        <a:srgbClr val="746b6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6" name="Group 495"/>
                  <p:cNvGrpSpPr/>
                  <p:nvPr/>
                </p:nvGrpSpPr>
                <p:grpSpPr>
                  <a:xfrm>
                    <a:off x="1643040" y="2155680"/>
                    <a:ext cx="42840" cy="44640"/>
                    <a:chOff x="1643040" y="2155680"/>
                    <a:chExt cx="42840" cy="44640"/>
                  </a:xfrm>
                </p:grpSpPr>
                <p:grpSp>
                  <p:nvGrpSpPr>
                    <p:cNvPr id="617" name="Group 496"/>
                    <p:cNvGrpSpPr/>
                    <p:nvPr/>
                  </p:nvGrpSpPr>
                  <p:grpSpPr>
                    <a:xfrm>
                      <a:off x="1645560" y="2160000"/>
                      <a:ext cx="40320" cy="40320"/>
                      <a:chOff x="1645560" y="2160000"/>
                      <a:chExt cx="40320" cy="40320"/>
                    </a:xfrm>
                  </p:grpSpPr>
                  <p:sp>
                    <p:nvSpPr>
                      <p:cNvPr id="618" name="Oval 497"/>
                      <p:cNvSpPr/>
                      <p:nvPr/>
                    </p:nvSpPr>
                    <p:spPr>
                      <a:xfrm>
                        <a:off x="1655280" y="2160000"/>
                        <a:ext cx="2124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Oval 498"/>
                      <p:cNvSpPr/>
                      <p:nvPr/>
                    </p:nvSpPr>
                    <p:spPr>
                      <a:xfrm>
                        <a:off x="1645560" y="2160000"/>
                        <a:ext cx="40320" cy="40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000" bIns="-180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20" name="Oval 499"/>
                    <p:cNvSpPr/>
                    <p:nvPr/>
                  </p:nvSpPr>
                  <p:spPr>
                    <a:xfrm>
                      <a:off x="1643040" y="2155680"/>
                      <a:ext cx="36720" cy="3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1" name="Oval 500"/>
                  <p:cNvSpPr/>
                  <p:nvPr/>
                </p:nvSpPr>
                <p:spPr>
                  <a:xfrm>
                    <a:off x="2128680" y="2260440"/>
                    <a:ext cx="142920" cy="387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3e9e5"/>
                      </a:gs>
                      <a:gs pos="100000">
                        <a:srgbClr val="706c6a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Freeform 501"/>
                  <p:cNvSpPr/>
                  <p:nvPr/>
                </p:nvSpPr>
                <p:spPr>
                  <a:xfrm>
                    <a:off x="1596960" y="2257560"/>
                    <a:ext cx="82440" cy="11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Freeform 502"/>
                  <p:cNvSpPr/>
                  <p:nvPr/>
                </p:nvSpPr>
                <p:spPr>
                  <a:xfrm rot="21360000">
                    <a:off x="2205000" y="2260440"/>
                    <a:ext cx="81000" cy="118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6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Oval 503"/>
                  <p:cNvSpPr/>
                  <p:nvPr/>
                </p:nvSpPr>
                <p:spPr>
                  <a:xfrm rot="361200">
                    <a:off x="1493640" y="3263400"/>
                    <a:ext cx="647640" cy="69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66"/>
                      </a:gs>
                      <a:gs pos="100000">
                        <a:srgbClr val="1d583b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Oval 504"/>
                  <p:cNvSpPr/>
                  <p:nvPr/>
                </p:nvSpPr>
                <p:spPr>
                  <a:xfrm rot="3600000">
                    <a:off x="2074680" y="4373280"/>
                    <a:ext cx="453960" cy="45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e8a5c"/>
                      </a:gs>
                      <a:gs pos="100000">
                        <a:srgbClr val="1b503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505"/>
                  <p:cNvSpPr/>
                  <p:nvPr/>
                </p:nvSpPr>
                <p:spPr>
                  <a:xfrm>
                    <a:off x="1720800" y="4138560"/>
                    <a:ext cx="12852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506"/>
                  <p:cNvSpPr/>
                  <p:nvPr/>
                </p:nvSpPr>
                <p:spPr>
                  <a:xfrm>
                    <a:off x="2075040" y="4697280"/>
                    <a:ext cx="12996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507"/>
                  <p:cNvSpPr/>
                  <p:nvPr/>
                </p:nvSpPr>
                <p:spPr>
                  <a:xfrm>
                    <a:off x="2335320" y="4462560"/>
                    <a:ext cx="129960" cy="12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Oval 508"/>
                  <p:cNvSpPr/>
                  <p:nvPr/>
                </p:nvSpPr>
                <p:spPr>
                  <a:xfrm>
                    <a:off x="1461960" y="4697280"/>
                    <a:ext cx="13032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Oval 509"/>
                  <p:cNvSpPr/>
                  <p:nvPr/>
                </p:nvSpPr>
                <p:spPr>
                  <a:xfrm>
                    <a:off x="1720800" y="2746440"/>
                    <a:ext cx="115920" cy="115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Oval 510"/>
                  <p:cNvSpPr/>
                  <p:nvPr/>
                </p:nvSpPr>
                <p:spPr>
                  <a:xfrm>
                    <a:off x="2044800" y="2940120"/>
                    <a:ext cx="128520" cy="12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Oval 511"/>
                  <p:cNvSpPr/>
                  <p:nvPr/>
                </p:nvSpPr>
                <p:spPr>
                  <a:xfrm>
                    <a:off x="1687680" y="3200400"/>
                    <a:ext cx="12996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3" name="Group 512"/>
                  <p:cNvGrpSpPr/>
                  <p:nvPr/>
                </p:nvGrpSpPr>
                <p:grpSpPr>
                  <a:xfrm>
                    <a:off x="1530360" y="2216160"/>
                    <a:ext cx="182520" cy="81000"/>
                    <a:chOff x="1530360" y="2216160"/>
                    <a:chExt cx="182520" cy="81000"/>
                  </a:xfrm>
                </p:grpSpPr>
                <p:sp>
                  <p:nvSpPr>
                    <p:cNvPr id="634" name="Oval 513"/>
                    <p:cNvSpPr/>
                    <p:nvPr/>
                  </p:nvSpPr>
                  <p:spPr>
                    <a:xfrm>
                      <a:off x="1576800" y="2234520"/>
                      <a:ext cx="9072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Oval 514"/>
                    <p:cNvSpPr/>
                    <p:nvPr/>
                  </p:nvSpPr>
                  <p:spPr>
                    <a:xfrm>
                      <a:off x="1530360" y="2216160"/>
                      <a:ext cx="182520" cy="81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6" name="Oval 515"/>
                  <p:cNvSpPr/>
                  <p:nvPr/>
                </p:nvSpPr>
                <p:spPr>
                  <a:xfrm>
                    <a:off x="2154240" y="2227320"/>
                    <a:ext cx="103320" cy="3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Oval 516"/>
                  <p:cNvSpPr/>
                  <p:nvPr/>
                </p:nvSpPr>
                <p:spPr>
                  <a:xfrm>
                    <a:off x="2120760" y="2216160"/>
                    <a:ext cx="150840" cy="7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Oval 517"/>
                  <p:cNvSpPr/>
                  <p:nvPr/>
                </p:nvSpPr>
                <p:spPr>
                  <a:xfrm rot="21000000">
                    <a:off x="2107800" y="2076480"/>
                    <a:ext cx="20520" cy="18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6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AutoShape 518"/>
                  <p:cNvSpPr/>
                  <p:nvPr/>
                </p:nvSpPr>
                <p:spPr>
                  <a:xfrm>
                    <a:off x="1622520" y="3522600"/>
                    <a:ext cx="615960" cy="66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a50021"/>
                      </a:gs>
                      <a:gs pos="100000">
                        <a:srgbClr val="4c000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Oval 519"/>
                  <p:cNvSpPr/>
                  <p:nvPr/>
                </p:nvSpPr>
                <p:spPr>
                  <a:xfrm>
                    <a:off x="1689120" y="3506760"/>
                    <a:ext cx="550800" cy="112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Oval 520"/>
                  <p:cNvSpPr/>
                  <p:nvPr/>
                </p:nvSpPr>
                <p:spPr>
                  <a:xfrm>
                    <a:off x="1655640" y="3490920"/>
                    <a:ext cx="551160" cy="112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AutoShape 521"/>
                  <p:cNvSpPr/>
                  <p:nvPr/>
                </p:nvSpPr>
                <p:spPr>
                  <a:xfrm>
                    <a:off x="1365120" y="3686040"/>
                    <a:ext cx="1131840" cy="93996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d0000"/>
                      </a:gs>
                      <a:gs pos="50000">
                        <a:srgbClr val="cc0000"/>
                      </a:gs>
                      <a:gs pos="100000">
                        <a:srgbClr val="0d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Oval 522"/>
                  <p:cNvSpPr/>
                  <p:nvPr/>
                </p:nvSpPr>
                <p:spPr>
                  <a:xfrm rot="1739400">
                    <a:off x="2205000" y="3685680"/>
                    <a:ext cx="324000" cy="144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60392"/>
                        </a:srgbClr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AutoShape 523"/>
                  <p:cNvSpPr/>
                  <p:nvPr/>
                </p:nvSpPr>
                <p:spPr>
                  <a:xfrm>
                    <a:off x="1365120" y="3749760"/>
                    <a:ext cx="1035360" cy="842760"/>
                  </a:xfrm>
                  <a:prstGeom prst="roundRect">
                    <a:avLst>
                      <a:gd name="adj" fmla="val 11463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b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Freeform 524"/>
                  <p:cNvSpPr/>
                  <p:nvPr/>
                </p:nvSpPr>
                <p:spPr>
                  <a:xfrm>
                    <a:off x="1558800" y="3556080"/>
                    <a:ext cx="7488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91">
                        <a:moveTo>
                          <a:pt x="52" y="0"/>
                        </a:moveTo>
                        <a:cubicBezTo>
                          <a:pt x="33" y="4"/>
                          <a:pt x="14" y="8"/>
                          <a:pt x="7" y="23"/>
                        </a:cubicBezTo>
                        <a:cubicBezTo>
                          <a:pt x="0" y="38"/>
                          <a:pt x="14" y="80"/>
                          <a:pt x="7" y="91"/>
                        </a:cubicBezTo>
                      </a:path>
                    </a:pathLst>
                  </a:custGeom>
                  <a:noFill/>
                  <a:ln w="69840">
                    <a:solidFill>
                      <a:srgbClr val="a5002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525"/>
                  <p:cNvSpPr/>
                  <p:nvPr/>
                </p:nvSpPr>
                <p:spPr>
                  <a:xfrm>
                    <a:off x="1461960" y="3490920"/>
                    <a:ext cx="195480" cy="291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7" name="Group 526"/>
                  <p:cNvGrpSpPr/>
                  <p:nvPr/>
                </p:nvGrpSpPr>
                <p:grpSpPr>
                  <a:xfrm>
                    <a:off x="2271240" y="3556080"/>
                    <a:ext cx="95400" cy="226440"/>
                    <a:chOff x="2271240" y="3556080"/>
                    <a:chExt cx="95400" cy="226440"/>
                  </a:xfrm>
                </p:grpSpPr>
                <p:sp>
                  <p:nvSpPr>
                    <p:cNvPr id="648" name="Freeform 527"/>
                    <p:cNvSpPr/>
                    <p:nvPr/>
                  </p:nvSpPr>
                  <p:spPr>
                    <a:xfrm flipH="1">
                      <a:off x="2285280" y="3556080"/>
                      <a:ext cx="4284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1">
                          <a:moveTo>
                            <a:pt x="52" y="0"/>
                          </a:moveTo>
                          <a:cubicBezTo>
                            <a:pt x="33" y="4"/>
                            <a:pt x="14" y="8"/>
                            <a:pt x="7" y="23"/>
                          </a:cubicBezTo>
                          <a:cubicBezTo>
                            <a:pt x="0" y="38"/>
                            <a:pt x="14" y="80"/>
                            <a:pt x="7" y="91"/>
                          </a:cubicBezTo>
                        </a:path>
                      </a:pathLst>
                    </a:custGeom>
                    <a:noFill/>
                    <a:ln w="69840">
                      <a:solidFill>
                        <a:srgbClr val="a5002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Oval 528"/>
                    <p:cNvSpPr/>
                    <p:nvPr/>
                  </p:nvSpPr>
                  <p:spPr>
                    <a:xfrm flipH="1">
                      <a:off x="2270880" y="3588840"/>
                      <a:ext cx="95400" cy="19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Group 529"/>
                  <p:cNvGrpSpPr/>
                  <p:nvPr/>
                </p:nvGrpSpPr>
                <p:grpSpPr>
                  <a:xfrm>
                    <a:off x="2173680" y="3360600"/>
                    <a:ext cx="136800" cy="258840"/>
                    <a:chOff x="2173680" y="3360600"/>
                    <a:chExt cx="136800" cy="258840"/>
                  </a:xfrm>
                </p:grpSpPr>
                <p:sp>
                  <p:nvSpPr>
                    <p:cNvPr id="651" name="Freeform 530"/>
                    <p:cNvSpPr/>
                    <p:nvPr/>
                  </p:nvSpPr>
                  <p:spPr>
                    <a:xfrm flipH="1">
                      <a:off x="2207880" y="3360600"/>
                      <a:ext cx="9540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Oval 531"/>
                    <p:cNvSpPr/>
                    <p:nvPr/>
                  </p:nvSpPr>
                  <p:spPr>
                    <a:xfrm flipH="1" rot="600000">
                      <a:off x="2271960" y="3553200"/>
                      <a:ext cx="396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Oval 532"/>
                    <p:cNvSpPr/>
                    <p:nvPr/>
                  </p:nvSpPr>
                  <p:spPr>
                    <a:xfrm flipH="1" rot="600000">
                      <a:off x="2253240" y="3553200"/>
                      <a:ext cx="396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Oval 533"/>
                    <p:cNvSpPr/>
                    <p:nvPr/>
                  </p:nvSpPr>
                  <p:spPr>
                    <a:xfrm flipH="1" rot="600000">
                      <a:off x="2235960" y="3543120"/>
                      <a:ext cx="396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Oval 534"/>
                    <p:cNvSpPr/>
                    <p:nvPr/>
                  </p:nvSpPr>
                  <p:spPr>
                    <a:xfrm flipH="1" rot="840000">
                      <a:off x="2230200" y="3532320"/>
                      <a:ext cx="144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Oval 535"/>
                    <p:cNvSpPr/>
                    <p:nvPr/>
                  </p:nvSpPr>
                  <p:spPr>
                    <a:xfrm flipH="1" rot="711600">
                      <a:off x="2215080" y="3564720"/>
                      <a:ext cx="1584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Oval 536"/>
                    <p:cNvSpPr/>
                    <p:nvPr/>
                  </p:nvSpPr>
                  <p:spPr>
                    <a:xfrm flipH="1" rot="967800">
                      <a:off x="2222280" y="3522960"/>
                      <a:ext cx="81000" cy="61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" bIns="-2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Freeform 537"/>
                    <p:cNvSpPr/>
                    <p:nvPr/>
                  </p:nvSpPr>
                  <p:spPr>
                    <a:xfrm flipH="1">
                      <a:off x="2173320" y="3373560"/>
                      <a:ext cx="8820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Oval 538"/>
                    <p:cNvSpPr/>
                    <p:nvPr/>
                  </p:nvSpPr>
                  <p:spPr>
                    <a:xfrm flipH="1" rot="840000">
                      <a:off x="2235240" y="3425400"/>
                      <a:ext cx="3960" cy="55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Oval 539"/>
                    <p:cNvSpPr/>
                    <p:nvPr/>
                  </p:nvSpPr>
                  <p:spPr>
                    <a:xfrm flipH="1" rot="711600">
                      <a:off x="2258640" y="3591720"/>
                      <a:ext cx="1728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Oval 540"/>
                    <p:cNvSpPr/>
                    <p:nvPr/>
                  </p:nvSpPr>
                  <p:spPr>
                    <a:xfrm flipH="1" rot="711600">
                      <a:off x="2241720" y="3596400"/>
                      <a:ext cx="1548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Oval 541"/>
                    <p:cNvSpPr/>
                    <p:nvPr/>
                  </p:nvSpPr>
                  <p:spPr>
                    <a:xfrm flipH="1" rot="711600">
                      <a:off x="2221200" y="3591720"/>
                      <a:ext cx="1728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Oval 542"/>
                    <p:cNvSpPr/>
                    <p:nvPr/>
                  </p:nvSpPr>
                  <p:spPr>
                    <a:xfrm flipH="1" rot="711600">
                      <a:off x="2215080" y="3576240"/>
                      <a:ext cx="1584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Group 543"/>
                  <p:cNvGrpSpPr/>
                  <p:nvPr/>
                </p:nvGrpSpPr>
                <p:grpSpPr>
                  <a:xfrm>
                    <a:off x="1536120" y="3360600"/>
                    <a:ext cx="133560" cy="258840"/>
                    <a:chOff x="1536120" y="3360600"/>
                    <a:chExt cx="133560" cy="258840"/>
                  </a:xfrm>
                </p:grpSpPr>
                <p:sp>
                  <p:nvSpPr>
                    <p:cNvPr id="665" name="Freeform 544"/>
                    <p:cNvSpPr/>
                    <p:nvPr/>
                  </p:nvSpPr>
                  <p:spPr>
                    <a:xfrm>
                      <a:off x="1542960" y="3360600"/>
                      <a:ext cx="9288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Oval 545"/>
                    <p:cNvSpPr/>
                    <p:nvPr/>
                  </p:nvSpPr>
                  <p:spPr>
                    <a:xfrm rot="21000000">
                      <a:off x="1569240" y="3553200"/>
                      <a:ext cx="396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Oval 546"/>
                    <p:cNvSpPr/>
                    <p:nvPr/>
                  </p:nvSpPr>
                  <p:spPr>
                    <a:xfrm rot="21000000">
                      <a:off x="1587600" y="3553200"/>
                      <a:ext cx="396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547"/>
                    <p:cNvSpPr/>
                    <p:nvPr/>
                  </p:nvSpPr>
                  <p:spPr>
                    <a:xfrm rot="21000000">
                      <a:off x="1604520" y="3543120"/>
                      <a:ext cx="396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Oval 548"/>
                    <p:cNvSpPr/>
                    <p:nvPr/>
                  </p:nvSpPr>
                  <p:spPr>
                    <a:xfrm rot="20760000">
                      <a:off x="1612800" y="3532320"/>
                      <a:ext cx="432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Oval 549"/>
                    <p:cNvSpPr/>
                    <p:nvPr/>
                  </p:nvSpPr>
                  <p:spPr>
                    <a:xfrm rot="20888400">
                      <a:off x="1613160" y="3564360"/>
                      <a:ext cx="1692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Oval 550"/>
                    <p:cNvSpPr/>
                    <p:nvPr/>
                  </p:nvSpPr>
                  <p:spPr>
                    <a:xfrm rot="20632200">
                      <a:off x="1542960" y="3523320"/>
                      <a:ext cx="78840" cy="61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Freeform 551"/>
                    <p:cNvSpPr/>
                    <p:nvPr/>
                  </p:nvSpPr>
                  <p:spPr>
                    <a:xfrm>
                      <a:off x="1583640" y="3373560"/>
                      <a:ext cx="860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Oval 552"/>
                    <p:cNvSpPr/>
                    <p:nvPr/>
                  </p:nvSpPr>
                  <p:spPr>
                    <a:xfrm rot="20760000">
                      <a:off x="1604880" y="3425760"/>
                      <a:ext cx="3960" cy="55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Oval 553"/>
                    <p:cNvSpPr/>
                    <p:nvPr/>
                  </p:nvSpPr>
                  <p:spPr>
                    <a:xfrm rot="20888400">
                      <a:off x="1569240" y="3591720"/>
                      <a:ext cx="1692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554"/>
                    <p:cNvSpPr/>
                    <p:nvPr/>
                  </p:nvSpPr>
                  <p:spPr>
                    <a:xfrm rot="20888400">
                      <a:off x="1587960" y="3596400"/>
                      <a:ext cx="1512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Oval 555"/>
                    <p:cNvSpPr/>
                    <p:nvPr/>
                  </p:nvSpPr>
                  <p:spPr>
                    <a:xfrm rot="20888400">
                      <a:off x="1605960" y="3591720"/>
                      <a:ext cx="1692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Oval 556"/>
                    <p:cNvSpPr/>
                    <p:nvPr/>
                  </p:nvSpPr>
                  <p:spPr>
                    <a:xfrm rot="20888400">
                      <a:off x="1613160" y="3575880"/>
                      <a:ext cx="1692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8" name="AutoShape 557"/>
                  <p:cNvSpPr/>
                  <p:nvPr/>
                </p:nvSpPr>
                <p:spPr>
                  <a:xfrm>
                    <a:off x="1655640" y="4010040"/>
                    <a:ext cx="549360" cy="45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001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AutoShape 558"/>
                  <p:cNvSpPr/>
                  <p:nvPr/>
                </p:nvSpPr>
                <p:spPr>
                  <a:xfrm>
                    <a:off x="1687680" y="4010040"/>
                    <a:ext cx="38736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Oval 559"/>
                  <p:cNvSpPr/>
                  <p:nvPr/>
                </p:nvSpPr>
                <p:spPr>
                  <a:xfrm>
                    <a:off x="2075040" y="3587760"/>
                    <a:ext cx="129960" cy="12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Oval 560"/>
                  <p:cNvSpPr/>
                  <p:nvPr/>
                </p:nvSpPr>
                <p:spPr>
                  <a:xfrm>
                    <a:off x="1914480" y="3263760"/>
                    <a:ext cx="13032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AutoShape 561"/>
                  <p:cNvSpPr/>
                  <p:nvPr/>
                </p:nvSpPr>
                <p:spPr>
                  <a:xfrm>
                    <a:off x="1558800" y="3976560"/>
                    <a:ext cx="48600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>
                          <a:alpha val="4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AutoShape 562"/>
                  <p:cNvSpPr/>
                  <p:nvPr/>
                </p:nvSpPr>
                <p:spPr>
                  <a:xfrm>
                    <a:off x="1461960" y="3846600"/>
                    <a:ext cx="9684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AutoShape 563"/>
                  <p:cNvSpPr/>
                  <p:nvPr/>
                </p:nvSpPr>
                <p:spPr>
                  <a:xfrm>
                    <a:off x="1461960" y="4365720"/>
                    <a:ext cx="968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AutoShape 564"/>
                  <p:cNvSpPr/>
                  <p:nvPr/>
                </p:nvSpPr>
                <p:spPr>
                  <a:xfrm>
                    <a:off x="2238480" y="3846600"/>
                    <a:ext cx="9684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AutoShape 565"/>
                  <p:cNvSpPr/>
                  <p:nvPr/>
                </p:nvSpPr>
                <p:spPr>
                  <a:xfrm>
                    <a:off x="2238480" y="4365720"/>
                    <a:ext cx="968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566"/>
                <p:cNvGrpSpPr/>
                <p:nvPr/>
              </p:nvGrpSpPr>
              <p:grpSpPr>
                <a:xfrm>
                  <a:off x="1655640" y="1440000"/>
                  <a:ext cx="503280" cy="325440"/>
                  <a:chOff x="1655640" y="1440000"/>
                  <a:chExt cx="503280" cy="325440"/>
                </a:xfrm>
              </p:grpSpPr>
              <p:grpSp>
                <p:nvGrpSpPr>
                  <p:cNvPr id="688" name="Group 567"/>
                  <p:cNvGrpSpPr/>
                  <p:nvPr/>
                </p:nvGrpSpPr>
                <p:grpSpPr>
                  <a:xfrm>
                    <a:off x="1730160" y="1440000"/>
                    <a:ext cx="114120" cy="90360"/>
                    <a:chOff x="1730160" y="1440000"/>
                    <a:chExt cx="114120" cy="90360"/>
                  </a:xfrm>
                </p:grpSpPr>
                <p:sp>
                  <p:nvSpPr>
                    <p:cNvPr id="689" name="Oval 568"/>
                    <p:cNvSpPr/>
                    <p:nvPr/>
                  </p:nvSpPr>
                  <p:spPr>
                    <a:xfrm>
                      <a:off x="1754640" y="1440000"/>
                      <a:ext cx="89640" cy="90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Freeform 569"/>
                    <p:cNvSpPr/>
                    <p:nvPr/>
                  </p:nvSpPr>
                  <p:spPr>
                    <a:xfrm flipH="1">
                      <a:off x="1729800" y="1461960"/>
                      <a:ext cx="918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Group 570"/>
                  <p:cNvGrpSpPr/>
                  <p:nvPr/>
                </p:nvGrpSpPr>
                <p:grpSpPr>
                  <a:xfrm>
                    <a:off x="2015640" y="1460520"/>
                    <a:ext cx="111240" cy="90720"/>
                    <a:chOff x="2015640" y="1460520"/>
                    <a:chExt cx="111240" cy="90720"/>
                  </a:xfrm>
                </p:grpSpPr>
                <p:sp>
                  <p:nvSpPr>
                    <p:cNvPr id="692" name="Oval 571"/>
                    <p:cNvSpPr/>
                    <p:nvPr/>
                  </p:nvSpPr>
                  <p:spPr>
                    <a:xfrm flipH="1">
                      <a:off x="2015640" y="1460520"/>
                      <a:ext cx="88560" cy="9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Freeform 572"/>
                    <p:cNvSpPr/>
                    <p:nvPr/>
                  </p:nvSpPr>
                  <p:spPr>
                    <a:xfrm>
                      <a:off x="2038320" y="1482480"/>
                      <a:ext cx="885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4" name="Oval 573"/>
                  <p:cNvSpPr/>
                  <p:nvPr/>
                </p:nvSpPr>
                <p:spPr>
                  <a:xfrm>
                    <a:off x="1655640" y="1522440"/>
                    <a:ext cx="141480" cy="14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3262">
                          <a:alpha val="70196"/>
                        </a:srgbClr>
                      </a:gs>
                      <a:gs pos="100000">
                        <a:srgbClr val="ffdeb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5" name="Group 574"/>
                  <p:cNvGrpSpPr/>
                  <p:nvPr/>
                </p:nvGrpSpPr>
                <p:grpSpPr>
                  <a:xfrm>
                    <a:off x="2016000" y="1543320"/>
                    <a:ext cx="142920" cy="141120"/>
                    <a:chOff x="2016000" y="1543320"/>
                    <a:chExt cx="142920" cy="141120"/>
                  </a:xfrm>
                </p:grpSpPr>
                <p:sp>
                  <p:nvSpPr>
                    <p:cNvPr id="696" name="Oval 575"/>
                    <p:cNvSpPr/>
                    <p:nvPr/>
                  </p:nvSpPr>
                  <p:spPr>
                    <a:xfrm>
                      <a:off x="2016000" y="1543320"/>
                      <a:ext cx="141120" cy="141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a3262">
                            <a:alpha val="7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Oval 576"/>
                    <p:cNvSpPr/>
                    <p:nvPr/>
                  </p:nvSpPr>
                  <p:spPr>
                    <a:xfrm>
                      <a:off x="2076120" y="1563480"/>
                      <a:ext cx="82800" cy="78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13b59">
                            <a:alpha val="3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8" name="AutoShape 577"/>
                  <p:cNvSpPr/>
                  <p:nvPr/>
                </p:nvSpPr>
                <p:spPr>
                  <a:xfrm rot="10800000">
                    <a:off x="1898640" y="1562040"/>
                    <a:ext cx="223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ec0b4"/>
                      </a:gs>
                      <a:gs pos="100000">
                        <a:srgbClr val="f1cdc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578"/>
                  <p:cNvSpPr/>
                  <p:nvPr/>
                </p:nvSpPr>
                <p:spPr>
                  <a:xfrm>
                    <a:off x="1817640" y="1500480"/>
                    <a:ext cx="204840" cy="20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>
                          <a:alpha val="60392"/>
                        </a:srgbClr>
                      </a:gs>
                      <a:gs pos="100000">
                        <a:srgbClr val="fffff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0" name="Group 579"/>
                  <p:cNvGrpSpPr/>
                  <p:nvPr/>
                </p:nvGrpSpPr>
                <p:grpSpPr>
                  <a:xfrm>
                    <a:off x="1809720" y="1684440"/>
                    <a:ext cx="204840" cy="81000"/>
                    <a:chOff x="1809720" y="1684440"/>
                    <a:chExt cx="204840" cy="81000"/>
                  </a:xfrm>
                </p:grpSpPr>
                <p:sp>
                  <p:nvSpPr>
                    <p:cNvPr id="701" name="Oval 580"/>
                    <p:cNvSpPr/>
                    <p:nvPr/>
                  </p:nvSpPr>
                  <p:spPr>
                    <a:xfrm>
                      <a:off x="1809720" y="1684440"/>
                      <a:ext cx="204840" cy="81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d1a3">
                            <a:alpha val="40000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Freeform 581"/>
                    <p:cNvSpPr/>
                    <p:nvPr/>
                  </p:nvSpPr>
                  <p:spPr>
                    <a:xfrm>
                      <a:off x="1884600" y="1725480"/>
                      <a:ext cx="540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">
                          <a:moveTo>
                            <a:pt x="0" y="4"/>
                          </a:moveTo>
                          <a:cubicBezTo>
                            <a:pt x="19" y="2"/>
                            <a:pt x="38" y="0"/>
                            <a:pt x="68" y="4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f6d3a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2232000" y="1881360"/>
            <a:ext cx="582768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5"/>
          <p:cNvSpPr txBox="1"/>
          <p:nvPr/>
        </p:nvSpPr>
        <p:spPr>
          <a:xfrm>
            <a:off x="3095640" y="3284640"/>
            <a:ext cx="505944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中宋"/>
              </a:rPr>
              <a:t>声音的变化</a:t>
            </a:r>
            <a:endParaRPr b="1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48" name="矩形 4"/>
          <p:cNvSpPr/>
          <p:nvPr/>
        </p:nvSpPr>
        <p:spPr>
          <a:xfrm>
            <a:off x="3262680" y="6058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拨动像皮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3"/>
          <p:cNvSpPr/>
          <p:nvPr/>
        </p:nvSpPr>
        <p:spPr>
          <a:xfrm>
            <a:off x="1752480" y="2514600"/>
            <a:ext cx="0" cy="1447920"/>
          </a:xfrm>
          <a:prstGeom prst="line">
            <a:avLst/>
          </a:prstGeom>
          <a:ln w="101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4"/>
          <p:cNvSpPr/>
          <p:nvPr/>
        </p:nvSpPr>
        <p:spPr>
          <a:xfrm>
            <a:off x="6400800" y="2514600"/>
            <a:ext cx="0" cy="1295280"/>
          </a:xfrm>
          <a:prstGeom prst="line">
            <a:avLst/>
          </a:prstGeom>
          <a:ln w="101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5"/>
          <p:cNvSpPr/>
          <p:nvPr/>
        </p:nvSpPr>
        <p:spPr>
          <a:xfrm>
            <a:off x="1752480" y="3200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6"/>
          <p:cNvSpPr/>
          <p:nvPr/>
        </p:nvSpPr>
        <p:spPr>
          <a:xfrm>
            <a:off x="2590920" y="4572000"/>
            <a:ext cx="0" cy="99072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7"/>
          <p:cNvSpPr/>
          <p:nvPr/>
        </p:nvSpPr>
        <p:spPr>
          <a:xfrm>
            <a:off x="5943600" y="4572000"/>
            <a:ext cx="0" cy="9144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8"/>
          <p:cNvSpPr/>
          <p:nvPr/>
        </p:nvSpPr>
        <p:spPr>
          <a:xfrm>
            <a:off x="2590920" y="502920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7467480" y="281952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0"/>
          <p:cNvSpPr/>
          <p:nvPr/>
        </p:nvSpPr>
        <p:spPr>
          <a:xfrm>
            <a:off x="723888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绷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7086600" y="4876920"/>
            <a:ext cx="1219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 Black"/>
                <a:hlinkClick r:id="rId1" action="ppaction://hlinksldjump"/>
              </a:rPr>
              <a:t>放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Line 2"/>
          <p:cNvSpPr/>
          <p:nvPr/>
        </p:nvSpPr>
        <p:spPr>
          <a:xfrm>
            <a:off x="1143000" y="3733920"/>
            <a:ext cx="678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4"/>
          <p:cNvSpPr/>
          <p:nvPr/>
        </p:nvSpPr>
        <p:spPr>
          <a:xfrm>
            <a:off x="1143000" y="4800600"/>
            <a:ext cx="670572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1523880" y="609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振动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18 0.00578 C -0.01302 -0.04972 -0.02326 0.02312 -0.01805 -0.13573 C -0.01788 -0.14012 -0.01493 -0.14844 -0.01493 -0.14844 C -0.01441 -0.10405 -0.01493 -0.05966 -0.01336 -0.01527 C -0.01336 -0.01318 -0.01093 -0.01272 -0.01007 -0.0111 C -0.0092 -0.00925 -0.00902 -0.00694 -0.0085 -0.00486 C -0.00955 0.05387 -0.00538 0.06543 -0.01493 0.1052 C -0.01545 0.12138 -0.01458 0.1378 -0.01649 0.15375 C -0.01684 0.15583 -0.021 0.15791 -0.02118 0.15583 C -0.02187 0.14543 -0.01892 0.1341 -0.01649 0.12416 C -0.01493 0.06913 -0.01336 0.0141 -0.01007 -0.0407 C -0.01059 -0.07954 -0.01059 -0.11816 -0.01163 -0.157 C -0.0118 -0.1637 -0.01649 -0.17596 -0.01649 -0.17596 C -0.02309 -0.14914 -0.01944 -0.16764 -0.02118 -0.11885 C -0.02066 -0.0844 -0.021 -0.04972 -0.01961 -0.01527 C -0.01944 -0.01087 -0.01649 -0.00255 -0.01649 -0.00255 C -0.01597 0.05017 -0.01961 0.10335 -0.01493 0.15583 C -0.01441 0.16138 -0.00277 0.1593 -0.00225 0.15375 C 0.00469 0.06843 -0.00468 0.02196 0.00261 -0.04694 C 0.00226 -0.07515 0.02813 -0.16509 -0.00694 -0.18243 C -0.01059 -0.18174 -0.01475 -0.18243 -0.01805 -0.18012 C -0.01944 -0.1792 -0.01944 -0.17596 -0.01961 -0.17388 C -0.02048 -0.16694 -0.02066 -0.15977 -0.02118 -0.15284 C -0.02465 -0.10359 -0.02083 -0.12093 -0.02604 -0.09989 C -0.02882 -0.07723 -0.03316 -0.05434 -0.03715 -0.03214 C -0.03663 0.03121 -0.04045 0.09479 -0.03559 0.15791 C -0.03507 0.16369 -0.02361 0.16138 -0.02274 0.15583 C -0.01823 0.12693 -0.02222 0.09664 -0.02118 0.06705 C -0.02118 0.06497 -0.02014 0.06289 -0.01961 0.0608 C -0.01788 0.04716 -0.01614 0.03445 -0.01493 0.02057 C -0.01319 -0.02914 0.00313 -0.1644 -0.01805 -0.17388 C -0.02552 -0.16717 -0.02621 -0.16232 -0.02916 -0.15053 C -0.02968 -0.14844 -0.03073 -0.14428 -0.03073 -0.14428 C -0.0302 -0.04255 -0.09218 0.18427 -0.01805 0.16023 C -0.01753 0.15306 -0.01666 0.14612 -0.01649 0.13895 C -0.01527 0.07052 -0.01354 -0.08232 -0.01649 -0.15053 C -0.01666 -0.15284 -0.01961 -0.15214 -0.02118 -0.15284 C -0.025 -0.15769 -0.03385 -0.16532 -0.03385 -0.16532 C -0.04392 -0.16093 -0.03576 -0.16671 -0.03559 -0.157 C -0.03472 -0.11885 -0.03628 -0.10197 -0.03871 -0.07029 C -0.03819 0.00647 -0.04201 0.08369 -0.03715 0.16023 C -0.03663 0.16716 -0.02465 0.15815 -0.02274 0.15167 C -0.02326 0.0467 -0.00659 -0.26313 -0.03073 -0.16324 C -0.03073 -0.15816 -0.08975 0.2319 -0.02118 0.14543 C -0.01718 0.12901 -0.02309 0.14867 -0.01493 0.13479 C -0.01284 0.13132 -0.01267 0.12624 -0.01163 0.12208 C -0.01059 0.11791 -0.0085 0.10936 -0.0085 0.10936 C -0.00729 0.04554 0.0033 -0.15746 -0.01336 -0.1718 C -0.0302 -0.16948 -0.02673 -0.17226 -0.03559 -0.16116 C -0.04583 -0.12047 -0.0368 -0.07284 -0.03385 -0.03006 C -0.03333 0.00786 -0.03073 0.04601 -0.03073 0.08393 C -0.03073 0.10728 -0.0302 0.13063 -0.03229 0.15375 C -0.03246 0.15606 -0.03889 0.15583 -0.03715 0.15583 C -0.03489 0.15583 -0.03281 0.15445 -0.03073 0.15375 C -0.02795 0.14265 -0.02882 0.13109 -0.02604 0.12 C -0.02586 0.11445 -0.02343 0.043 -0.02274 0.03537 C -0.02187 0.02589 -0.01736 0.01109 -0.01493 0.00161 C -0.01145 -0.03954 -0.01232 -0.0229 -0.01493 -0.09365 C -0.01527 -0.10197 -0.01805 -0.11515 -0.01961 -0.12324 C -0.02048 -0.1274 -0.02274 -0.13573 -0.02274 -0.13573 C -0.02361 -0.15792 -0.0158 -0.18613 -0.03385 -0.17804 C -0.04114 -0.16347 -0.03906 -0.17018 -0.04184 -0.15908 C -0.04132 -0.13943 -0.03871 -0.11977 -0.03871 -0.09989 C -0.03871 0.16115 -0.10399 0.16624 -0.0276 0.15375 C -0.0158 0.14867 -0.02465 0.13988 -0.01805 0.12624 C -0.01753 0.11144 -0.0184 0.09641 -0.01649 0.08184 C -0.01614 0.0793 -0.01267 0.07976 -0.01163 0.07768 C -0.0085 0.07121 -0.00677 0.05826 -0.00538 0.05017 C -0.00642 -0.09735 0.04757 -0.18752 -0.02448 -0.17596 C -0.0309 -0.17318 -0.03333 -0.16972 -0.03559 -0.16116 C -0.02413 -0.05018 -0.03159 -0.01896 -0.03073 0.15583 C -0.0276 0.15514 -0.02361 0.15653 -0.02118 0.15375 C -0.01857 0.15075 -0.01805 0.14104 -0.01805 0.14104 C -0.01857 0.07838 -0.01857 0.01572 -0.01961 -0.04694 C -0.02014 -0.077 -0.02517 -0.10821 -0.01805 -0.13804 C -0.01961 -0.17573 -0.01041 -0.18359 -0.04027 -0.17388 C -0.04236 -0.17318 -0.0434 -0.16972 -0.04496 -0.16764 C -0.04739 -0.15839 -0.04566 -0.15122 -0.0434 -0.1422 C -0.04184 -0.07954 -0.04514 -0.09388 -0.03559 -0.0555 C -0.03524 -0.00948 -0.08194 0.21341 -0.02448 0.16231 C 0.02032 0.07421 -0.01961 0.1556 -0.02274 -0.14012 C -0.02291 -0.15261 -0.02257 -0.16879 -0.03073 -0.17596 C -0.04982 -0.16972 -0.03576 -0.13573 -0.03559 -0.11469 C -0.03507 -0.07446 -0.03559 -0.03446 -0.03559 0.00578 E">
                                      <p:cBhvr>
                                        <p:cTn id="208" dur="5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Line 2"/>
          <p:cNvSpPr/>
          <p:nvPr/>
        </p:nvSpPr>
        <p:spPr>
          <a:xfrm>
            <a:off x="1143000" y="3733920"/>
            <a:ext cx="678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1143000" y="4800600"/>
            <a:ext cx="670572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1676520" y="533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振动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18 0.00578 C -0.01302 -0.04972 -0.02326 0.02312 -0.01805 -0.13573 C -0.01788 -0.14012 -0.01493 -0.14844 -0.01493 -0.14844 C -0.01441 -0.10405 -0.01493 -0.05966 -0.01336 -0.01527 C -0.01336 -0.01318 -0.01093 -0.01272 -0.01007 -0.0111 C -0.0092 -0.00925 -0.00902 -0.00694 -0.0085 -0.00486 C -0.00955 0.05387 -0.00538 0.06543 -0.01493 0.1052 C -0.01545 0.12138 -0.01458 0.1378 -0.01649 0.15375 C -0.01684 0.15583 -0.021 0.15791 -0.02118 0.15583 C -0.02187 0.14543 -0.01892 0.1341 -0.01649 0.12416 C -0.01493 0.06913 -0.01336 0.0141 -0.01007 -0.0407 C -0.01059 -0.07954 -0.01059 -0.11816 -0.01163 -0.157 C -0.0118 -0.1637 -0.01649 -0.17596 -0.01649 -0.17596 C -0.02309 -0.14914 -0.01944 -0.16764 -0.02118 -0.11885 C -0.02066 -0.0844 -0.021 -0.04972 -0.01961 -0.01527 C -0.01944 -0.01087 -0.01649 -0.00255 -0.01649 -0.00255 C -0.01597 0.05017 -0.01961 0.10335 -0.01493 0.15583 C -0.01441 0.16138 -0.00277 0.1593 -0.00225 0.15375 C 0.00469 0.06843 -0.00468 0.02196 0.00261 -0.04694 C 0.00226 -0.07515 0.02813 -0.16509 -0.00694 -0.18243 C -0.01059 -0.18174 -0.01475 -0.18243 -0.01805 -0.18012 C -0.01944 -0.1792 -0.01944 -0.17596 -0.01961 -0.17388 C -0.02048 -0.16694 -0.02066 -0.15977 -0.02118 -0.15284 C -0.02465 -0.10359 -0.02083 -0.12093 -0.02604 -0.09989 C -0.02882 -0.07723 -0.03316 -0.05434 -0.03715 -0.03214 C -0.03663 0.03121 -0.04045 0.09479 -0.03559 0.15791 C -0.03507 0.16369 -0.02361 0.16138 -0.02274 0.15583 C -0.01823 0.12693 -0.02222 0.09664 -0.02118 0.06705 C -0.02118 0.06497 -0.02014 0.06289 -0.01961 0.0608 C -0.01788 0.04716 -0.01614 0.03445 -0.01493 0.02057 C -0.01319 -0.02914 0.00313 -0.1644 -0.01805 -0.17388 C -0.02552 -0.16717 -0.02621 -0.16232 -0.02916 -0.15053 C -0.02968 -0.14844 -0.03073 -0.14428 -0.03073 -0.14428 C -0.0302 -0.04255 -0.09218 0.18427 -0.01805 0.16023 C -0.01753 0.15306 -0.01666 0.14612 -0.01649 0.13895 C -0.01527 0.07052 -0.01354 -0.08232 -0.01649 -0.15053 C -0.01666 -0.15284 -0.01961 -0.15214 -0.02118 -0.15284 C -0.025 -0.15769 -0.03385 -0.16532 -0.03385 -0.16532 C -0.04392 -0.16093 -0.03576 -0.16671 -0.03559 -0.157 C -0.03472 -0.11885 -0.03628 -0.10197 -0.03871 -0.07029 C -0.03819 0.00647 -0.04201 0.08369 -0.03715 0.16023 C -0.03663 0.16716 -0.02465 0.15815 -0.02274 0.15167 C -0.02326 0.0467 -0.00659 -0.26313 -0.03073 -0.16324 C -0.03073 -0.15816 -0.08975 0.2319 -0.02118 0.14543 C -0.01718 0.12901 -0.02309 0.14867 -0.01493 0.13479 C -0.01284 0.13132 -0.01267 0.12624 -0.01163 0.12208 C -0.01059 0.11791 -0.0085 0.10936 -0.0085 0.10936 C -0.00729 0.04554 0.0033 -0.15746 -0.01336 -0.1718 C -0.0302 -0.16948 -0.02673 -0.17226 -0.03559 -0.16116 C -0.04583 -0.12047 -0.0368 -0.07284 -0.03385 -0.03006 C -0.03333 0.00786 -0.03073 0.04601 -0.03073 0.08393 C -0.03073 0.10728 -0.0302 0.13063 -0.03229 0.15375 C -0.03246 0.15606 -0.03889 0.15583 -0.03715 0.15583 C -0.03489 0.15583 -0.03281 0.15445 -0.03073 0.15375 C -0.02795 0.14265 -0.02882 0.13109 -0.02604 0.12 C -0.02586 0.11445 -0.02343 0.043 -0.02274 0.03537 C -0.02187 0.02589 -0.01736 0.01109 -0.01493 0.00161 C -0.01145 -0.03954 -0.01232 -0.0229 -0.01493 -0.09365 C -0.01527 -0.10197 -0.01805 -0.11515 -0.01961 -0.12324 C -0.02048 -0.1274 -0.02274 -0.13573 -0.02274 -0.13573 C -0.02361 -0.15792 -0.0158 -0.18613 -0.03385 -0.17804 C -0.04114 -0.16347 -0.03906 -0.17018 -0.04184 -0.15908 C -0.04132 -0.13943 -0.03871 -0.11977 -0.03871 -0.09989 C -0.03871 0.16115 -0.10399 0.16624 -0.0276 0.15375 C -0.0158 0.14867 -0.02465 0.13988 -0.01805 0.12624 C -0.01753 0.11144 -0.0184 0.09641 -0.01649 0.08184 C -0.01614 0.0793 -0.01267 0.07976 -0.01163 0.07768 C -0.0085 0.07121 -0.00677 0.05826 -0.00538 0.05017 C -0.00642 -0.09735 0.04757 -0.18752 -0.02448 -0.17596 C -0.0309 -0.17318 -0.03333 -0.16972 -0.03559 -0.16116 C -0.02413 -0.05018 -0.03159 -0.01896 -0.03073 0.15583 C -0.0276 0.15514 -0.02361 0.15653 -0.02118 0.15375 C -0.01857 0.15075 -0.01805 0.14104 -0.01805 0.14104 C -0.01857 0.07838 -0.01857 0.01572 -0.01961 -0.04694 C -0.02014 -0.077 -0.02517 -0.10821 -0.01805 -0.13804 C -0.01961 -0.17573 -0.01041 -0.18359 -0.04027 -0.17388 C -0.04236 -0.17318 -0.0434 -0.16972 -0.04496 -0.16764 C -0.04739 -0.15839 -0.04566 -0.15122 -0.0434 -0.1422 C -0.04184 -0.07954 -0.04514 -0.09388 -0.03559 -0.0555 C -0.03524 -0.00948 -0.08194 0.21341 -0.02448 0.16231 C 0.02032 0.07421 -0.01961 0.1556 -0.02274 -0.14012 C -0.02291 -0.15261 -0.02257 -0.16879 -0.03073 -0.17596 C -0.04982 -0.16972 -0.03576 -0.13573 -0.03559 -0.11469 C -0.03507 -0.07446 -0.03559 -0.03446 -0.03559 0.00578 E">
                                      <p:cBhvr>
                                        <p:cTn id="214" dur="3000" fill="hold"/>
                                        <p:tgtEl>
                                          <p:spTgt spid="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3"/>
          <p:cNvSpPr/>
          <p:nvPr/>
        </p:nvSpPr>
        <p:spPr>
          <a:xfrm>
            <a:off x="3203640" y="2205000"/>
            <a:ext cx="565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声音的高低用音高来描述，音高是描述物体振动快慢的一个量，单位是：赫兹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Hz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。振动越快，声音越高，振动越小，声音越低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1187280" y="1628640"/>
            <a:ext cx="22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知道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5" descr="学生 女2"/>
          <p:cNvPicPr/>
          <p:nvPr/>
        </p:nvPicPr>
        <p:blipFill>
          <a:blip r:embed="rId2"/>
          <a:stretch/>
        </p:blipFill>
        <p:spPr>
          <a:xfrm>
            <a:off x="719280" y="3429000"/>
            <a:ext cx="2255760" cy="237492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3"/>
          <p:cNvSpPr/>
          <p:nvPr/>
        </p:nvSpPr>
        <p:spPr>
          <a:xfrm>
            <a:off x="971640" y="476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超声波和次声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879480" y="1052640"/>
            <a:ext cx="7580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多数人能够听到的频率范围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HZ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0HZ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人们把高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0HZ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声音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超声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把低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Hz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声音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次声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"/>
          <p:cNvSpPr/>
          <p:nvPr/>
        </p:nvSpPr>
        <p:spPr>
          <a:xfrm>
            <a:off x="735120" y="3213000"/>
            <a:ext cx="78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为什么有时我们认为很静、没有任何的声音，而狗却突然表现非常警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7"/>
          <p:cNvSpPr/>
          <p:nvPr/>
        </p:nvSpPr>
        <p:spPr>
          <a:xfrm>
            <a:off x="1571040" y="4581360"/>
            <a:ext cx="51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：狗的听觉范围是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——65000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8" descr="pic048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1008000" y="1592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为什么感冒时人的声音会改变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719280" y="2565360"/>
            <a:ext cx="813744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腔是人体的一个共鸣系统。由于鼻腔、鼻窦在结构上是一个整体，所以把鼻窦比为小提琴或胡琴的共鸣箱，有共鸣箱就能使声音悦耳、和谐。反之，感冒时鼻窦有疾患，失去了“共鸣箱”作用，悦耳的声音将会改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4"/>
          <p:cNvSpPr/>
          <p:nvPr/>
        </p:nvSpPr>
        <p:spPr>
          <a:xfrm>
            <a:off x="963720" y="1700280"/>
            <a:ext cx="8001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向暖瓶中倒水时声音为什么越来越高？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826920" y="278136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倒水时，暖水瓶中的空气柱会振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随着水位的升高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空气柱越来越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空气柱振动的频率越来越大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音调就越来越高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以根据声音音调的高低就能知道水是否已灌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pic048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3"/>
          <p:cNvSpPr/>
          <p:nvPr/>
        </p:nvSpPr>
        <p:spPr>
          <a:xfrm>
            <a:off x="971640" y="333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bbe0e3"/>
                </a:solidFill>
                <a:latin typeface="Times New Roman"/>
              </a:rPr>
              <a:t>音色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4"/>
          <p:cNvSpPr/>
          <p:nvPr/>
        </p:nvSpPr>
        <p:spPr>
          <a:xfrm>
            <a:off x="914400" y="1523880"/>
            <a:ext cx="2232000" cy="935280"/>
          </a:xfrm>
          <a:prstGeom prst="ellipse">
            <a:avLst/>
          </a:prstGeom>
          <a:solidFill>
            <a:srgbClr val="ff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1371600" y="167652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音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1258920" y="292428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同的发声体音色不同，音色是由发声体本身决定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1"/>
          <p:cNvSpPr/>
          <p:nvPr/>
        </p:nvSpPr>
        <p:spPr>
          <a:xfrm>
            <a:off x="1562040" y="5900760"/>
            <a:ext cx="60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WordArt 2"/>
          <p:cNvSpPr txBox="1"/>
          <p:nvPr/>
        </p:nvSpPr>
        <p:spPr>
          <a:xfrm>
            <a:off x="1981080" y="6984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想想议议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539640" y="907920"/>
            <a:ext cx="8001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于每个人的声音千差万别，因此声音可以用作安全认证的依据之一。美国的一座智能化大厦 就采用了声音识别的方式。到大公司门口时，你必须通过安全检查。电子声控门卫将问候“早上好”，你也该回答“你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早上好”之类的礼貌用语。此时电子门卫通过你的声音来辨别你是不是该公司的工作人员，如果确认你是，它将主动为您打开门，但如果不是，电子门卫将客气地将你“拒之门外”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2408400" y="5996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问题：电子门卫靠什么辨别每个人的声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7124400" y="5867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4"/>
          <p:cNvSpPr/>
          <p:nvPr/>
        </p:nvSpPr>
        <p:spPr>
          <a:xfrm>
            <a:off x="-36360" y="6058080"/>
            <a:ext cx="9216720" cy="86328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0" y="0"/>
            <a:ext cx="44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0" y="609480"/>
          <a:ext cx="9144000" cy="5789520"/>
        </p:xfrm>
        <a:graphic>
          <a:graphicData uri="http://schemas.openxmlformats.org/drawingml/2006/table">
            <a:tbl>
              <a:tblPr/>
              <a:tblGrid>
                <a:gridCol w="550800"/>
                <a:gridCol w="1284480"/>
                <a:gridCol w="2066760"/>
                <a:gridCol w="5241960"/>
              </a:tblGrid>
              <a:tr h="579240">
                <a:tc>
                  <a:txBody>
                    <a:bodyPr lIns="90000" rIns="90000" anchor="t" vert="eaVer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3" name="Text Box 31"/>
          <p:cNvSpPr/>
          <p:nvPr/>
        </p:nvSpPr>
        <p:spPr>
          <a:xfrm>
            <a:off x="3600" y="1773360"/>
            <a:ext cx="66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2"/>
          <p:cNvSpPr/>
          <p:nvPr/>
        </p:nvSpPr>
        <p:spPr>
          <a:xfrm>
            <a:off x="3600" y="3500280"/>
            <a:ext cx="66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3"/>
          <p:cNvSpPr/>
          <p:nvPr/>
        </p:nvSpPr>
        <p:spPr>
          <a:xfrm>
            <a:off x="3600" y="4941720"/>
            <a:ext cx="66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4"/>
          <p:cNvSpPr/>
          <p:nvPr/>
        </p:nvSpPr>
        <p:spPr>
          <a:xfrm>
            <a:off x="539640" y="549360"/>
            <a:ext cx="13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5"/>
          <p:cNvSpPr/>
          <p:nvPr/>
        </p:nvSpPr>
        <p:spPr>
          <a:xfrm>
            <a:off x="1979640" y="54936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因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6"/>
          <p:cNvSpPr/>
          <p:nvPr/>
        </p:nvSpPr>
        <p:spPr>
          <a:xfrm>
            <a:off x="4788000" y="62064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关问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7"/>
          <p:cNvSpPr/>
          <p:nvPr/>
        </p:nvSpPr>
        <p:spPr>
          <a:xfrm>
            <a:off x="611280" y="1628640"/>
            <a:ext cx="13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音的高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8"/>
          <p:cNvSpPr/>
          <p:nvPr/>
        </p:nvSpPr>
        <p:spPr>
          <a:xfrm>
            <a:off x="2124000" y="1413000"/>
            <a:ext cx="169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声体振动的频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9"/>
          <p:cNvSpPr/>
          <p:nvPr/>
        </p:nvSpPr>
        <p:spPr>
          <a:xfrm>
            <a:off x="3995640" y="1197000"/>
            <a:ext cx="5148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频率：物体每秒内振动的次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位：赫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听觉频率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Hz ~20000 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声波与次声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40"/>
          <p:cNvSpPr/>
          <p:nvPr/>
        </p:nvSpPr>
        <p:spPr>
          <a:xfrm>
            <a:off x="468360" y="3500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音的强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1"/>
          <p:cNvSpPr/>
          <p:nvPr/>
        </p:nvSpPr>
        <p:spPr>
          <a:xfrm>
            <a:off x="1835280" y="3500280"/>
            <a:ext cx="208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声体振动的幅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42"/>
          <p:cNvSpPr/>
          <p:nvPr/>
        </p:nvSpPr>
        <p:spPr>
          <a:xfrm>
            <a:off x="4140360" y="364500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振幅：物体振动的幅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3"/>
          <p:cNvSpPr/>
          <p:nvPr/>
        </p:nvSpPr>
        <p:spPr>
          <a:xfrm>
            <a:off x="468360" y="47973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音的特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44"/>
          <p:cNvSpPr/>
          <p:nvPr/>
        </p:nvSpPr>
        <p:spPr>
          <a:xfrm>
            <a:off x="1908000" y="4653000"/>
            <a:ext cx="18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声体本身的材料、结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5"/>
          <p:cNvSpPr/>
          <p:nvPr/>
        </p:nvSpPr>
        <p:spPr>
          <a:xfrm>
            <a:off x="4284720" y="4869000"/>
            <a:ext cx="41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色是辨别不同发声体的依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7"/>
          <p:cNvSpPr/>
          <p:nvPr/>
        </p:nvSpPr>
        <p:spPr>
          <a:xfrm>
            <a:off x="6156360" y="5583240"/>
            <a:ext cx="2739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1"/>
          <p:cNvSpPr/>
          <p:nvPr/>
        </p:nvSpPr>
        <p:spPr>
          <a:xfrm>
            <a:off x="3974400" y="6858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唱一唱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"/>
          <p:cNvSpPr/>
          <p:nvPr/>
        </p:nvSpPr>
        <p:spPr>
          <a:xfrm>
            <a:off x="840960" y="2895480"/>
            <a:ext cx="689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Arial"/>
              </a:rPr>
              <a:t>1  2  3  4  5  6  7  i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2286000" y="46483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为什么有的声音听起来音调高，有的听起来音调低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428040" y="46483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618"/>
          <p:cNvGrpSpPr/>
          <p:nvPr/>
        </p:nvGrpSpPr>
        <p:grpSpPr>
          <a:xfrm>
            <a:off x="-36720" y="-44640"/>
            <a:ext cx="9217080" cy="5656320"/>
            <a:chOff x="-36720" y="-44640"/>
            <a:chExt cx="9217080" cy="5656320"/>
          </a:xfrm>
        </p:grpSpPr>
        <p:sp>
          <p:nvSpPr>
            <p:cNvPr id="899" name="Freeform 45"/>
            <p:cNvSpPr/>
            <p:nvPr/>
          </p:nvSpPr>
          <p:spPr>
            <a:xfrm>
              <a:off x="5400720" y="7920"/>
              <a:ext cx="533520" cy="2486160"/>
            </a:xfrm>
            <a:custGeom>
              <a:avLst/>
              <a:gdLst/>
              <a:ahLst/>
              <a:rect l="l" t="t" r="r" b="b"/>
              <a:pathLst>
                <a:path w="336" h="1566">
                  <a:moveTo>
                    <a:pt x="325" y="0"/>
                  </a:moveTo>
                  <a:cubicBezTo>
                    <a:pt x="289" y="70"/>
                    <a:pt x="253" y="141"/>
                    <a:pt x="212" y="273"/>
                  </a:cubicBezTo>
                  <a:cubicBezTo>
                    <a:pt x="171" y="405"/>
                    <a:pt x="110" y="609"/>
                    <a:pt x="76" y="794"/>
                  </a:cubicBezTo>
                  <a:cubicBezTo>
                    <a:pt x="42" y="979"/>
                    <a:pt x="0" y="1259"/>
                    <a:pt x="7" y="1384"/>
                  </a:cubicBezTo>
                  <a:cubicBezTo>
                    <a:pt x="14" y="1509"/>
                    <a:pt x="76" y="1520"/>
                    <a:pt x="121" y="1543"/>
                  </a:cubicBezTo>
                  <a:cubicBezTo>
                    <a:pt x="166" y="1566"/>
                    <a:pt x="246" y="1554"/>
                    <a:pt x="280" y="1520"/>
                  </a:cubicBezTo>
                  <a:cubicBezTo>
                    <a:pt x="314" y="1486"/>
                    <a:pt x="336" y="1384"/>
                    <a:pt x="325" y="1339"/>
                  </a:cubicBezTo>
                  <a:cubicBezTo>
                    <a:pt x="314" y="1294"/>
                    <a:pt x="250" y="1256"/>
                    <a:pt x="212" y="1248"/>
                  </a:cubicBezTo>
                  <a:cubicBezTo>
                    <a:pt x="174" y="1240"/>
                    <a:pt x="121" y="1267"/>
                    <a:pt x="98" y="1293"/>
                  </a:cubicBezTo>
                  <a:cubicBezTo>
                    <a:pt x="75" y="1319"/>
                    <a:pt x="65" y="1373"/>
                    <a:pt x="76" y="1407"/>
                  </a:cubicBezTo>
                  <a:cubicBezTo>
                    <a:pt x="87" y="1441"/>
                    <a:pt x="140" y="1486"/>
                    <a:pt x="166" y="1497"/>
                  </a:cubicBezTo>
                  <a:cubicBezTo>
                    <a:pt x="192" y="1508"/>
                    <a:pt x="219" y="1490"/>
                    <a:pt x="234" y="1475"/>
                  </a:cubicBezTo>
                  <a:cubicBezTo>
                    <a:pt x="249" y="1460"/>
                    <a:pt x="257" y="1430"/>
                    <a:pt x="257" y="1407"/>
                  </a:cubicBezTo>
                  <a:cubicBezTo>
                    <a:pt x="257" y="1384"/>
                    <a:pt x="249" y="1350"/>
                    <a:pt x="234" y="1339"/>
                  </a:cubicBezTo>
                  <a:cubicBezTo>
                    <a:pt x="219" y="1328"/>
                    <a:pt x="181" y="1328"/>
                    <a:pt x="166" y="1339"/>
                  </a:cubicBezTo>
                  <a:cubicBezTo>
                    <a:pt x="151" y="1350"/>
                    <a:pt x="144" y="1400"/>
                    <a:pt x="144" y="1407"/>
                  </a:cubicBezTo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46"/>
            <p:cNvSpPr/>
            <p:nvPr/>
          </p:nvSpPr>
          <p:spPr>
            <a:xfrm>
              <a:off x="5832360" y="-27000"/>
              <a:ext cx="438120" cy="2448000"/>
            </a:xfrm>
            <a:custGeom>
              <a:avLst/>
              <a:gdLst/>
              <a:ahLst/>
              <a:rect l="l" t="t" r="r" b="b"/>
              <a:pathLst>
                <a:path w="276" h="1316">
                  <a:moveTo>
                    <a:pt x="94" y="0"/>
                  </a:moveTo>
                  <a:cubicBezTo>
                    <a:pt x="47" y="174"/>
                    <a:pt x="0" y="348"/>
                    <a:pt x="4" y="544"/>
                  </a:cubicBezTo>
                  <a:cubicBezTo>
                    <a:pt x="8" y="740"/>
                    <a:pt x="72" y="1050"/>
                    <a:pt x="117" y="1179"/>
                  </a:cubicBezTo>
                  <a:cubicBezTo>
                    <a:pt x="162" y="1308"/>
                    <a:pt x="246" y="1293"/>
                    <a:pt x="276" y="1316"/>
                  </a:cubicBezTo>
                </a:path>
              </a:pathLst>
            </a:custGeom>
            <a:noFill/>
            <a:ln w="158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47"/>
            <p:cNvSpPr/>
            <p:nvPr/>
          </p:nvSpPr>
          <p:spPr>
            <a:xfrm>
              <a:off x="6227640" y="7920"/>
              <a:ext cx="420840" cy="2016000"/>
            </a:xfrm>
            <a:custGeom>
              <a:avLst/>
              <a:gdLst/>
              <a:ahLst/>
              <a:rect l="l" t="t" r="r" b="b"/>
              <a:pathLst>
                <a:path w="514" h="2155">
                  <a:moveTo>
                    <a:pt x="287" y="0"/>
                  </a:moveTo>
                  <a:cubicBezTo>
                    <a:pt x="325" y="26"/>
                    <a:pt x="363" y="53"/>
                    <a:pt x="401" y="159"/>
                  </a:cubicBezTo>
                  <a:cubicBezTo>
                    <a:pt x="439" y="265"/>
                    <a:pt x="514" y="359"/>
                    <a:pt x="514" y="635"/>
                  </a:cubicBezTo>
                  <a:cubicBezTo>
                    <a:pt x="514" y="911"/>
                    <a:pt x="458" y="1569"/>
                    <a:pt x="401" y="1815"/>
                  </a:cubicBezTo>
                  <a:cubicBezTo>
                    <a:pt x="344" y="2061"/>
                    <a:pt x="231" y="2065"/>
                    <a:pt x="174" y="2110"/>
                  </a:cubicBezTo>
                  <a:cubicBezTo>
                    <a:pt x="117" y="2155"/>
                    <a:pt x="87" y="2113"/>
                    <a:pt x="61" y="2087"/>
                  </a:cubicBezTo>
                  <a:cubicBezTo>
                    <a:pt x="35" y="2061"/>
                    <a:pt x="0" y="1985"/>
                    <a:pt x="15" y="1951"/>
                  </a:cubicBezTo>
                  <a:cubicBezTo>
                    <a:pt x="30" y="1917"/>
                    <a:pt x="113" y="1883"/>
                    <a:pt x="151" y="1883"/>
                  </a:cubicBezTo>
                  <a:cubicBezTo>
                    <a:pt x="189" y="1883"/>
                    <a:pt x="227" y="1925"/>
                    <a:pt x="242" y="1951"/>
                  </a:cubicBezTo>
                  <a:cubicBezTo>
                    <a:pt x="257" y="1977"/>
                    <a:pt x="257" y="2023"/>
                    <a:pt x="242" y="2042"/>
                  </a:cubicBezTo>
                  <a:cubicBezTo>
                    <a:pt x="227" y="2061"/>
                    <a:pt x="177" y="2072"/>
                    <a:pt x="151" y="2064"/>
                  </a:cubicBezTo>
                  <a:cubicBezTo>
                    <a:pt x="125" y="2056"/>
                    <a:pt x="87" y="2019"/>
                    <a:pt x="83" y="1996"/>
                  </a:cubicBezTo>
                  <a:cubicBezTo>
                    <a:pt x="79" y="1973"/>
                    <a:pt x="114" y="1939"/>
                    <a:pt x="129" y="1928"/>
                  </a:cubicBezTo>
                  <a:cubicBezTo>
                    <a:pt x="144" y="1917"/>
                    <a:pt x="163" y="1917"/>
                    <a:pt x="174" y="1928"/>
                  </a:cubicBezTo>
                  <a:cubicBezTo>
                    <a:pt x="185" y="1939"/>
                    <a:pt x="201" y="1981"/>
                    <a:pt x="197" y="1996"/>
                  </a:cubicBezTo>
                  <a:cubicBezTo>
                    <a:pt x="193" y="2011"/>
                    <a:pt x="162" y="2027"/>
                    <a:pt x="151" y="2019"/>
                  </a:cubicBezTo>
                </a:path>
              </a:pathLst>
            </a:custGeom>
            <a:noFill/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48"/>
            <p:cNvSpPr/>
            <p:nvPr/>
          </p:nvSpPr>
          <p:spPr>
            <a:xfrm>
              <a:off x="6594480" y="44280"/>
              <a:ext cx="617400" cy="2436840"/>
            </a:xfrm>
            <a:custGeom>
              <a:avLst/>
              <a:gdLst/>
              <a:ahLst/>
              <a:rect l="l" t="t" r="r" b="b"/>
              <a:pathLst>
                <a:path w="389" h="1535">
                  <a:moveTo>
                    <a:pt x="359" y="0"/>
                  </a:moveTo>
                  <a:cubicBezTo>
                    <a:pt x="297" y="108"/>
                    <a:pt x="235" y="216"/>
                    <a:pt x="178" y="386"/>
                  </a:cubicBezTo>
                  <a:cubicBezTo>
                    <a:pt x="121" y="556"/>
                    <a:pt x="38" y="843"/>
                    <a:pt x="19" y="1021"/>
                  </a:cubicBezTo>
                  <a:cubicBezTo>
                    <a:pt x="0" y="1199"/>
                    <a:pt x="19" y="1369"/>
                    <a:pt x="64" y="1452"/>
                  </a:cubicBezTo>
                  <a:cubicBezTo>
                    <a:pt x="109" y="1535"/>
                    <a:pt x="238" y="1531"/>
                    <a:pt x="291" y="1520"/>
                  </a:cubicBezTo>
                  <a:cubicBezTo>
                    <a:pt x="344" y="1509"/>
                    <a:pt x="375" y="1433"/>
                    <a:pt x="382" y="1384"/>
                  </a:cubicBezTo>
                  <a:cubicBezTo>
                    <a:pt x="389" y="1335"/>
                    <a:pt x="374" y="1263"/>
                    <a:pt x="336" y="1225"/>
                  </a:cubicBezTo>
                  <a:cubicBezTo>
                    <a:pt x="298" y="1187"/>
                    <a:pt x="189" y="1168"/>
                    <a:pt x="155" y="1157"/>
                  </a:cubicBezTo>
                </a:path>
              </a:pathLst>
            </a:custGeom>
            <a:noFill/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49"/>
            <p:cNvSpPr/>
            <p:nvPr/>
          </p:nvSpPr>
          <p:spPr>
            <a:xfrm>
              <a:off x="8532720" y="7920"/>
              <a:ext cx="647640" cy="2844720"/>
            </a:xfrm>
            <a:custGeom>
              <a:avLst/>
              <a:gdLst/>
              <a:ahLst/>
              <a:rect l="l" t="t" r="r" b="b"/>
              <a:pathLst>
                <a:path w="408" h="1792">
                  <a:moveTo>
                    <a:pt x="0" y="0"/>
                  </a:moveTo>
                  <a:cubicBezTo>
                    <a:pt x="11" y="190"/>
                    <a:pt x="22" y="381"/>
                    <a:pt x="45" y="612"/>
                  </a:cubicBezTo>
                  <a:cubicBezTo>
                    <a:pt x="68" y="843"/>
                    <a:pt x="75" y="1187"/>
                    <a:pt x="136" y="1384"/>
                  </a:cubicBezTo>
                  <a:cubicBezTo>
                    <a:pt x="197" y="1581"/>
                    <a:pt x="340" y="1694"/>
                    <a:pt x="408" y="1792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0"/>
            <p:cNvSpPr/>
            <p:nvPr/>
          </p:nvSpPr>
          <p:spPr>
            <a:xfrm>
              <a:off x="7775640" y="7920"/>
              <a:ext cx="900000" cy="3841920"/>
            </a:xfrm>
            <a:custGeom>
              <a:avLst/>
              <a:gdLst/>
              <a:ahLst/>
              <a:rect l="l" t="t" r="r" b="b"/>
              <a:pathLst>
                <a:path w="567" h="2420">
                  <a:moveTo>
                    <a:pt x="0" y="0"/>
                  </a:moveTo>
                  <a:cubicBezTo>
                    <a:pt x="40" y="73"/>
                    <a:pt x="80" y="147"/>
                    <a:pt x="114" y="499"/>
                  </a:cubicBezTo>
                  <a:cubicBezTo>
                    <a:pt x="148" y="851"/>
                    <a:pt x="148" y="1800"/>
                    <a:pt x="205" y="2110"/>
                  </a:cubicBezTo>
                  <a:cubicBezTo>
                    <a:pt x="262" y="2420"/>
                    <a:pt x="394" y="2348"/>
                    <a:pt x="454" y="2359"/>
                  </a:cubicBezTo>
                  <a:cubicBezTo>
                    <a:pt x="514" y="2370"/>
                    <a:pt x="567" y="2231"/>
                    <a:pt x="567" y="2178"/>
                  </a:cubicBezTo>
                  <a:cubicBezTo>
                    <a:pt x="567" y="2125"/>
                    <a:pt x="492" y="2053"/>
                    <a:pt x="454" y="2042"/>
                  </a:cubicBezTo>
                  <a:cubicBezTo>
                    <a:pt x="416" y="2031"/>
                    <a:pt x="360" y="2076"/>
                    <a:pt x="341" y="2110"/>
                  </a:cubicBezTo>
                  <a:cubicBezTo>
                    <a:pt x="322" y="2144"/>
                    <a:pt x="322" y="2220"/>
                    <a:pt x="341" y="2246"/>
                  </a:cubicBezTo>
                  <a:cubicBezTo>
                    <a:pt x="360" y="2272"/>
                    <a:pt x="431" y="2279"/>
                    <a:pt x="454" y="2268"/>
                  </a:cubicBez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1"/>
            <p:cNvSpPr/>
            <p:nvPr/>
          </p:nvSpPr>
          <p:spPr>
            <a:xfrm>
              <a:off x="7308720" y="7920"/>
              <a:ext cx="611280" cy="2952720"/>
            </a:xfrm>
            <a:custGeom>
              <a:avLst/>
              <a:gdLst/>
              <a:ahLst/>
              <a:rect l="l" t="t" r="r" b="b"/>
              <a:pathLst>
                <a:path w="321" h="1916">
                  <a:moveTo>
                    <a:pt x="242" y="0"/>
                  </a:moveTo>
                  <a:cubicBezTo>
                    <a:pt x="272" y="340"/>
                    <a:pt x="303" y="681"/>
                    <a:pt x="310" y="976"/>
                  </a:cubicBezTo>
                  <a:cubicBezTo>
                    <a:pt x="317" y="1271"/>
                    <a:pt x="321" y="1622"/>
                    <a:pt x="287" y="1769"/>
                  </a:cubicBezTo>
                  <a:cubicBezTo>
                    <a:pt x="253" y="1916"/>
                    <a:pt x="150" y="1864"/>
                    <a:pt x="105" y="1860"/>
                  </a:cubicBezTo>
                  <a:cubicBezTo>
                    <a:pt x="60" y="1856"/>
                    <a:pt x="30" y="1781"/>
                    <a:pt x="15" y="1747"/>
                  </a:cubicBezTo>
                  <a:cubicBezTo>
                    <a:pt x="0" y="1713"/>
                    <a:pt x="8" y="1682"/>
                    <a:pt x="15" y="1656"/>
                  </a:cubicBezTo>
                  <a:cubicBezTo>
                    <a:pt x="22" y="1630"/>
                    <a:pt x="34" y="1603"/>
                    <a:pt x="60" y="1588"/>
                  </a:cubicBezTo>
                  <a:cubicBezTo>
                    <a:pt x="86" y="1573"/>
                    <a:pt x="147" y="1565"/>
                    <a:pt x="173" y="1565"/>
                  </a:cubicBezTo>
                  <a:cubicBezTo>
                    <a:pt x="199" y="1565"/>
                    <a:pt x="208" y="1577"/>
                    <a:pt x="219" y="1588"/>
                  </a:cubicBezTo>
                  <a:cubicBezTo>
                    <a:pt x="230" y="1599"/>
                    <a:pt x="235" y="1618"/>
                    <a:pt x="242" y="1633"/>
                  </a:cubicBezTo>
                  <a:cubicBezTo>
                    <a:pt x="249" y="1648"/>
                    <a:pt x="260" y="1660"/>
                    <a:pt x="264" y="1679"/>
                  </a:cubicBezTo>
                  <a:cubicBezTo>
                    <a:pt x="268" y="1698"/>
                    <a:pt x="271" y="1728"/>
                    <a:pt x="264" y="1747"/>
                  </a:cubicBezTo>
                  <a:cubicBezTo>
                    <a:pt x="257" y="1766"/>
                    <a:pt x="245" y="1781"/>
                    <a:pt x="219" y="1792"/>
                  </a:cubicBezTo>
                  <a:cubicBezTo>
                    <a:pt x="193" y="1803"/>
                    <a:pt x="131" y="1822"/>
                    <a:pt x="105" y="1815"/>
                  </a:cubicBezTo>
                  <a:cubicBezTo>
                    <a:pt x="79" y="1808"/>
                    <a:pt x="71" y="1770"/>
                    <a:pt x="60" y="1747"/>
                  </a:cubicBezTo>
                  <a:cubicBezTo>
                    <a:pt x="49" y="1724"/>
                    <a:pt x="37" y="1698"/>
                    <a:pt x="37" y="1679"/>
                  </a:cubicBezTo>
                  <a:cubicBezTo>
                    <a:pt x="37" y="1660"/>
                    <a:pt x="45" y="1644"/>
                    <a:pt x="60" y="1633"/>
                  </a:cubicBezTo>
                  <a:cubicBezTo>
                    <a:pt x="75" y="1622"/>
                    <a:pt x="109" y="1615"/>
                    <a:pt x="128" y="1611"/>
                  </a:cubicBezTo>
                  <a:cubicBezTo>
                    <a:pt x="147" y="1607"/>
                    <a:pt x="158" y="1600"/>
                    <a:pt x="173" y="1611"/>
                  </a:cubicBezTo>
                  <a:cubicBezTo>
                    <a:pt x="188" y="1622"/>
                    <a:pt x="215" y="1656"/>
                    <a:pt x="219" y="1679"/>
                  </a:cubicBezTo>
                  <a:cubicBezTo>
                    <a:pt x="223" y="1702"/>
                    <a:pt x="211" y="1736"/>
                    <a:pt x="196" y="1747"/>
                  </a:cubicBezTo>
                  <a:cubicBezTo>
                    <a:pt x="181" y="1758"/>
                    <a:pt x="143" y="1755"/>
                    <a:pt x="128" y="1747"/>
                  </a:cubicBezTo>
                  <a:cubicBezTo>
                    <a:pt x="113" y="1739"/>
                    <a:pt x="112" y="1709"/>
                    <a:pt x="105" y="1701"/>
                  </a:cubicBezTo>
                </a:path>
              </a:pathLst>
            </a:custGeom>
            <a:noFill/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52"/>
            <p:cNvSpPr/>
            <p:nvPr/>
          </p:nvSpPr>
          <p:spPr>
            <a:xfrm>
              <a:off x="8836200" y="0"/>
              <a:ext cx="36360" cy="386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53"/>
            <p:cNvGrpSpPr/>
            <p:nvPr/>
          </p:nvGrpSpPr>
          <p:grpSpPr>
            <a:xfrm>
              <a:off x="8741880" y="3784320"/>
              <a:ext cx="247680" cy="303120"/>
              <a:chOff x="8741880" y="3784320"/>
              <a:chExt cx="247680" cy="303120"/>
            </a:xfrm>
          </p:grpSpPr>
          <p:sp>
            <p:nvSpPr>
              <p:cNvPr id="908" name="Freeform 54"/>
              <p:cNvSpPr/>
              <p:nvPr/>
            </p:nvSpPr>
            <p:spPr>
              <a:xfrm rot="18671400">
                <a:off x="8778240" y="3848760"/>
                <a:ext cx="174600" cy="17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5"/>
              <p:cNvSpPr/>
              <p:nvPr/>
            </p:nvSpPr>
            <p:spPr>
              <a:xfrm flipH="1" rot="1067400">
                <a:off x="8817840" y="3796920"/>
                <a:ext cx="126720" cy="2775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56"/>
            <p:cNvGrpSpPr/>
            <p:nvPr/>
          </p:nvGrpSpPr>
          <p:grpSpPr>
            <a:xfrm>
              <a:off x="7263000" y="-35280"/>
              <a:ext cx="676800" cy="3679560"/>
              <a:chOff x="7263000" y="-35280"/>
              <a:chExt cx="676800" cy="3679560"/>
            </a:xfrm>
          </p:grpSpPr>
          <p:grpSp>
            <p:nvGrpSpPr>
              <p:cNvPr id="911" name="Group 57"/>
              <p:cNvGrpSpPr/>
              <p:nvPr/>
            </p:nvGrpSpPr>
            <p:grpSpPr>
              <a:xfrm>
                <a:off x="7297560" y="-35280"/>
                <a:ext cx="346320" cy="373680"/>
                <a:chOff x="7297560" y="-35280"/>
                <a:chExt cx="346320" cy="373680"/>
              </a:xfrm>
            </p:grpSpPr>
            <p:sp>
              <p:nvSpPr>
                <p:cNvPr id="912" name="Freeform 58"/>
                <p:cNvSpPr/>
                <p:nvPr/>
              </p:nvSpPr>
              <p:spPr>
                <a:xfrm rot="1368000">
                  <a:off x="7357680" y="-5400"/>
                  <a:ext cx="216360" cy="314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59"/>
                <p:cNvSpPr/>
                <p:nvPr/>
              </p:nvSpPr>
              <p:spPr>
                <a:xfrm flipH="1" rot="5364600">
                  <a:off x="7357680" y="3600"/>
                  <a:ext cx="225720" cy="3441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4" name="AutoShape 60"/>
              <p:cNvSpPr/>
              <p:nvPr/>
            </p:nvSpPr>
            <p:spPr>
              <a:xfrm>
                <a:off x="7614000" y="0"/>
                <a:ext cx="34560" cy="345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5" name="Group 61"/>
              <p:cNvGrpSpPr/>
              <p:nvPr/>
            </p:nvGrpSpPr>
            <p:grpSpPr>
              <a:xfrm>
                <a:off x="7517520" y="298800"/>
                <a:ext cx="409320" cy="321480"/>
                <a:chOff x="7517520" y="298800"/>
                <a:chExt cx="409320" cy="321480"/>
              </a:xfrm>
            </p:grpSpPr>
            <p:sp>
              <p:nvSpPr>
                <p:cNvPr id="916" name="Freeform 62"/>
                <p:cNvSpPr/>
                <p:nvPr/>
              </p:nvSpPr>
              <p:spPr>
                <a:xfrm rot="17679600">
                  <a:off x="7628760" y="277200"/>
                  <a:ext cx="186480" cy="364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63"/>
                <p:cNvSpPr/>
                <p:nvPr/>
              </p:nvSpPr>
              <p:spPr>
                <a:xfrm flipH="1" rot="75600">
                  <a:off x="7617960" y="309960"/>
                  <a:ext cx="262080" cy="297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64"/>
              <p:cNvGrpSpPr/>
              <p:nvPr/>
            </p:nvGrpSpPr>
            <p:grpSpPr>
              <a:xfrm>
                <a:off x="7363080" y="1730520"/>
                <a:ext cx="336600" cy="273960"/>
                <a:chOff x="7363080" y="1730520"/>
                <a:chExt cx="336600" cy="273960"/>
              </a:xfrm>
            </p:grpSpPr>
            <p:sp>
              <p:nvSpPr>
                <p:cNvPr id="919" name="Freeform 65"/>
                <p:cNvSpPr/>
                <p:nvPr/>
              </p:nvSpPr>
              <p:spPr>
                <a:xfrm rot="801000">
                  <a:off x="7424640" y="1749600"/>
                  <a:ext cx="195840" cy="235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66"/>
                <p:cNvSpPr/>
                <p:nvPr/>
              </p:nvSpPr>
              <p:spPr>
                <a:xfrm flipH="1" rot="4797600">
                  <a:off x="7446240" y="1729080"/>
                  <a:ext cx="168840" cy="311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Group 67"/>
              <p:cNvGrpSpPr/>
              <p:nvPr/>
            </p:nvGrpSpPr>
            <p:grpSpPr>
              <a:xfrm>
                <a:off x="7299000" y="972360"/>
                <a:ext cx="346320" cy="327960"/>
                <a:chOff x="7299000" y="972360"/>
                <a:chExt cx="346320" cy="327960"/>
              </a:xfrm>
            </p:grpSpPr>
            <p:sp>
              <p:nvSpPr>
                <p:cNvPr id="922" name="Freeform 68"/>
                <p:cNvSpPr/>
                <p:nvPr/>
              </p:nvSpPr>
              <p:spPr>
                <a:xfrm rot="1368000">
                  <a:off x="7357320" y="1003680"/>
                  <a:ext cx="216360" cy="264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69"/>
                <p:cNvSpPr/>
                <p:nvPr/>
              </p:nvSpPr>
              <p:spPr>
                <a:xfrm flipH="1" rot="5364600">
                  <a:off x="7376760" y="985320"/>
                  <a:ext cx="190440" cy="344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Group 70"/>
              <p:cNvGrpSpPr/>
              <p:nvPr/>
            </p:nvGrpSpPr>
            <p:grpSpPr>
              <a:xfrm>
                <a:off x="7263000" y="431640"/>
                <a:ext cx="381240" cy="381960"/>
                <a:chOff x="7263000" y="431640"/>
                <a:chExt cx="381240" cy="381960"/>
              </a:xfrm>
            </p:grpSpPr>
            <p:sp>
              <p:nvSpPr>
                <p:cNvPr id="925" name="Freeform 71"/>
                <p:cNvSpPr/>
                <p:nvPr/>
              </p:nvSpPr>
              <p:spPr>
                <a:xfrm rot="1368000">
                  <a:off x="7327800" y="465480"/>
                  <a:ext cx="238320" cy="314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2"/>
                <p:cNvSpPr/>
                <p:nvPr/>
              </p:nvSpPr>
              <p:spPr>
                <a:xfrm flipH="1" rot="5364600">
                  <a:off x="7340400" y="457560"/>
                  <a:ext cx="225720" cy="379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73"/>
              <p:cNvGrpSpPr/>
              <p:nvPr/>
            </p:nvGrpSpPr>
            <p:grpSpPr>
              <a:xfrm>
                <a:off x="7517520" y="681840"/>
                <a:ext cx="409320" cy="321480"/>
                <a:chOff x="7517520" y="681840"/>
                <a:chExt cx="409320" cy="321480"/>
              </a:xfrm>
            </p:grpSpPr>
            <p:sp>
              <p:nvSpPr>
                <p:cNvPr id="928" name="Freeform 74"/>
                <p:cNvSpPr/>
                <p:nvPr/>
              </p:nvSpPr>
              <p:spPr>
                <a:xfrm rot="17679600">
                  <a:off x="7628760" y="660240"/>
                  <a:ext cx="186480" cy="364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5"/>
                <p:cNvSpPr/>
                <p:nvPr/>
              </p:nvSpPr>
              <p:spPr>
                <a:xfrm flipH="1" rot="75600">
                  <a:off x="7617960" y="693000"/>
                  <a:ext cx="262080" cy="297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Group 76"/>
              <p:cNvGrpSpPr/>
              <p:nvPr/>
            </p:nvGrpSpPr>
            <p:grpSpPr>
              <a:xfrm>
                <a:off x="7551360" y="1336680"/>
                <a:ext cx="388440" cy="312480"/>
                <a:chOff x="7551360" y="1336680"/>
                <a:chExt cx="388440" cy="312480"/>
              </a:xfrm>
            </p:grpSpPr>
            <p:sp>
              <p:nvSpPr>
                <p:cNvPr id="931" name="Freeform 77"/>
                <p:cNvSpPr/>
                <p:nvPr/>
              </p:nvSpPr>
              <p:spPr>
                <a:xfrm rot="17679600">
                  <a:off x="7651800" y="1321920"/>
                  <a:ext cx="186840" cy="341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8"/>
                <p:cNvSpPr/>
                <p:nvPr/>
              </p:nvSpPr>
              <p:spPr>
                <a:xfrm flipH="1" rot="75600">
                  <a:off x="7647840" y="1342080"/>
                  <a:ext cx="245520" cy="297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Group 79"/>
              <p:cNvGrpSpPr/>
              <p:nvPr/>
            </p:nvGrpSpPr>
            <p:grpSpPr>
              <a:xfrm>
                <a:off x="7551000" y="1962720"/>
                <a:ext cx="295560" cy="300960"/>
                <a:chOff x="7551000" y="1962720"/>
                <a:chExt cx="295560" cy="300960"/>
              </a:xfrm>
            </p:grpSpPr>
            <p:sp>
              <p:nvSpPr>
                <p:cNvPr id="934" name="Freeform 80"/>
                <p:cNvSpPr/>
                <p:nvPr/>
              </p:nvSpPr>
              <p:spPr>
                <a:xfrm rot="17679600">
                  <a:off x="7605000" y="1998360"/>
                  <a:ext cx="186840" cy="239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81"/>
                <p:cNvSpPr/>
                <p:nvPr/>
              </p:nvSpPr>
              <p:spPr>
                <a:xfrm flipH="1" rot="75600">
                  <a:off x="7631640" y="1964520"/>
                  <a:ext cx="172080" cy="297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Group 82"/>
              <p:cNvGrpSpPr/>
              <p:nvPr/>
            </p:nvGrpSpPr>
            <p:grpSpPr>
              <a:xfrm>
                <a:off x="7552800" y="2657520"/>
                <a:ext cx="285840" cy="311760"/>
                <a:chOff x="7552800" y="2657520"/>
                <a:chExt cx="285840" cy="311760"/>
              </a:xfrm>
            </p:grpSpPr>
            <p:sp>
              <p:nvSpPr>
                <p:cNvPr id="937" name="Freeform 83"/>
                <p:cNvSpPr/>
                <p:nvPr/>
              </p:nvSpPr>
              <p:spPr>
                <a:xfrm rot="17293200">
                  <a:off x="7602120" y="2700000"/>
                  <a:ext cx="186840" cy="239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84"/>
                <p:cNvSpPr/>
                <p:nvPr/>
              </p:nvSpPr>
              <p:spPr>
                <a:xfrm flipH="1" rot="21289800">
                  <a:off x="7627680" y="2664360"/>
                  <a:ext cx="172080" cy="297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Group 85"/>
              <p:cNvGrpSpPr/>
              <p:nvPr/>
            </p:nvGrpSpPr>
            <p:grpSpPr>
              <a:xfrm>
                <a:off x="7325280" y="2312280"/>
                <a:ext cx="336600" cy="273960"/>
                <a:chOff x="7325280" y="2312280"/>
                <a:chExt cx="336600" cy="273960"/>
              </a:xfrm>
            </p:grpSpPr>
            <p:sp>
              <p:nvSpPr>
                <p:cNvPr id="940" name="Freeform 86"/>
                <p:cNvSpPr/>
                <p:nvPr/>
              </p:nvSpPr>
              <p:spPr>
                <a:xfrm rot="801000">
                  <a:off x="7386840" y="2331360"/>
                  <a:ext cx="195840" cy="235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87"/>
                <p:cNvSpPr/>
                <p:nvPr/>
              </p:nvSpPr>
              <p:spPr>
                <a:xfrm flipH="1" rot="4797600">
                  <a:off x="7408440" y="2310840"/>
                  <a:ext cx="168840" cy="311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Group 88"/>
              <p:cNvGrpSpPr/>
              <p:nvPr/>
            </p:nvGrpSpPr>
            <p:grpSpPr>
              <a:xfrm>
                <a:off x="7325280" y="2961000"/>
                <a:ext cx="336600" cy="273960"/>
                <a:chOff x="7325280" y="2961000"/>
                <a:chExt cx="336600" cy="273960"/>
              </a:xfrm>
            </p:grpSpPr>
            <p:sp>
              <p:nvSpPr>
                <p:cNvPr id="943" name="Freeform 89"/>
                <p:cNvSpPr/>
                <p:nvPr/>
              </p:nvSpPr>
              <p:spPr>
                <a:xfrm rot="801000">
                  <a:off x="7386840" y="2980080"/>
                  <a:ext cx="195840" cy="235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90"/>
                <p:cNvSpPr/>
                <p:nvPr/>
              </p:nvSpPr>
              <p:spPr>
                <a:xfrm flipH="1" rot="4797600">
                  <a:off x="7408440" y="2959560"/>
                  <a:ext cx="168840" cy="311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Group 91"/>
              <p:cNvGrpSpPr/>
              <p:nvPr/>
            </p:nvGrpSpPr>
            <p:grpSpPr>
              <a:xfrm>
                <a:off x="7485120" y="3344040"/>
                <a:ext cx="267120" cy="300240"/>
                <a:chOff x="7485120" y="3344040"/>
                <a:chExt cx="267120" cy="300240"/>
              </a:xfrm>
            </p:grpSpPr>
            <p:sp>
              <p:nvSpPr>
                <p:cNvPr id="946" name="Freeform 92"/>
                <p:cNvSpPr/>
                <p:nvPr/>
              </p:nvSpPr>
              <p:spPr>
                <a:xfrm rot="19658400">
                  <a:off x="7518600" y="3402360"/>
                  <a:ext cx="173880" cy="176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93"/>
                <p:cNvSpPr/>
                <p:nvPr/>
              </p:nvSpPr>
              <p:spPr>
                <a:xfrm flipH="1" rot="2055000">
                  <a:off x="7557480" y="3355560"/>
                  <a:ext cx="127080" cy="2768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Group 94"/>
              <p:cNvGrpSpPr/>
              <p:nvPr/>
            </p:nvGrpSpPr>
            <p:grpSpPr>
              <a:xfrm>
                <a:off x="7600680" y="3113280"/>
                <a:ext cx="263880" cy="304920"/>
                <a:chOff x="7600680" y="3113280"/>
                <a:chExt cx="263880" cy="304920"/>
              </a:xfrm>
            </p:grpSpPr>
            <p:sp>
              <p:nvSpPr>
                <p:cNvPr id="949" name="Freeform 95"/>
                <p:cNvSpPr/>
                <p:nvPr/>
              </p:nvSpPr>
              <p:spPr>
                <a:xfrm rot="16605000">
                  <a:off x="7643880" y="3156480"/>
                  <a:ext cx="168120" cy="236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96"/>
                <p:cNvSpPr/>
                <p:nvPr/>
              </p:nvSpPr>
              <p:spPr>
                <a:xfrm flipH="1" rot="20601600">
                  <a:off x="7659360" y="3132000"/>
                  <a:ext cx="169920" cy="267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1" name="Group 97"/>
            <p:cNvGrpSpPr/>
            <p:nvPr/>
          </p:nvGrpSpPr>
          <p:grpSpPr>
            <a:xfrm>
              <a:off x="7912440" y="-32400"/>
              <a:ext cx="596880" cy="2916720"/>
              <a:chOff x="7912440" y="-32400"/>
              <a:chExt cx="596880" cy="2916720"/>
            </a:xfrm>
          </p:grpSpPr>
          <p:grpSp>
            <p:nvGrpSpPr>
              <p:cNvPr id="952" name="Group 98"/>
              <p:cNvGrpSpPr/>
              <p:nvPr/>
            </p:nvGrpSpPr>
            <p:grpSpPr>
              <a:xfrm>
                <a:off x="7943040" y="-32400"/>
                <a:ext cx="307440" cy="302760"/>
                <a:chOff x="7943040" y="-32400"/>
                <a:chExt cx="307440" cy="302760"/>
              </a:xfrm>
            </p:grpSpPr>
            <p:sp>
              <p:nvSpPr>
                <p:cNvPr id="953" name="Freeform 99"/>
                <p:cNvSpPr/>
                <p:nvPr/>
              </p:nvSpPr>
              <p:spPr>
                <a:xfrm rot="1368000">
                  <a:off x="7995240" y="-4680"/>
                  <a:ext cx="191880" cy="247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00"/>
                <p:cNvSpPr/>
                <p:nvPr/>
              </p:nvSpPr>
              <p:spPr>
                <a:xfrm flipH="1" rot="5364600">
                  <a:off x="8007840" y="-14040"/>
                  <a:ext cx="177840" cy="305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5" name="AutoShape 101"/>
              <p:cNvSpPr/>
              <p:nvPr/>
            </p:nvSpPr>
            <p:spPr>
              <a:xfrm>
                <a:off x="8223480" y="0"/>
                <a:ext cx="30600" cy="2723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Group 102"/>
              <p:cNvGrpSpPr/>
              <p:nvPr/>
            </p:nvGrpSpPr>
            <p:grpSpPr>
              <a:xfrm>
                <a:off x="8142120" y="228240"/>
                <a:ext cx="355320" cy="268560"/>
                <a:chOff x="8142120" y="228240"/>
                <a:chExt cx="355320" cy="268560"/>
              </a:xfrm>
            </p:grpSpPr>
            <p:sp>
              <p:nvSpPr>
                <p:cNvPr id="957" name="Freeform 103"/>
                <p:cNvSpPr/>
                <p:nvPr/>
              </p:nvSpPr>
              <p:spPr>
                <a:xfrm rot="17679600">
                  <a:off x="8246160" y="200520"/>
                  <a:ext cx="146880" cy="323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104"/>
                <p:cNvSpPr/>
                <p:nvPr/>
              </p:nvSpPr>
              <p:spPr>
                <a:xfrm flipH="1" rot="75600">
                  <a:off x="8226720" y="245520"/>
                  <a:ext cx="232560" cy="234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Group 105"/>
              <p:cNvGrpSpPr/>
              <p:nvPr/>
            </p:nvGrpSpPr>
            <p:grpSpPr>
              <a:xfrm>
                <a:off x="8002440" y="1361160"/>
                <a:ext cx="295200" cy="220320"/>
                <a:chOff x="8002440" y="1361160"/>
                <a:chExt cx="295200" cy="220320"/>
              </a:xfrm>
            </p:grpSpPr>
            <p:sp>
              <p:nvSpPr>
                <p:cNvPr id="960" name="Freeform 106"/>
                <p:cNvSpPr/>
                <p:nvPr/>
              </p:nvSpPr>
              <p:spPr>
                <a:xfrm rot="801000">
                  <a:off x="8055000" y="1378440"/>
                  <a:ext cx="173880" cy="18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107"/>
                <p:cNvSpPr/>
                <p:nvPr/>
              </p:nvSpPr>
              <p:spPr>
                <a:xfrm flipH="1" rot="4797600">
                  <a:off x="8083440" y="1346400"/>
                  <a:ext cx="132840" cy="276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Group 108"/>
              <p:cNvGrpSpPr/>
              <p:nvPr/>
            </p:nvGrpSpPr>
            <p:grpSpPr>
              <a:xfrm>
                <a:off x="7944120" y="761760"/>
                <a:ext cx="307080" cy="266760"/>
                <a:chOff x="7944120" y="761760"/>
                <a:chExt cx="307080" cy="266760"/>
              </a:xfrm>
            </p:grpSpPr>
            <p:sp>
              <p:nvSpPr>
                <p:cNvPr id="963" name="Freeform 109"/>
                <p:cNvSpPr/>
                <p:nvPr/>
              </p:nvSpPr>
              <p:spPr>
                <a:xfrm rot="1368000">
                  <a:off x="7995240" y="790560"/>
                  <a:ext cx="191880" cy="208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110"/>
                <p:cNvSpPr/>
                <p:nvPr/>
              </p:nvSpPr>
              <p:spPr>
                <a:xfrm flipH="1" rot="5364600">
                  <a:off x="8022240" y="759600"/>
                  <a:ext cx="150120" cy="305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Group 111"/>
              <p:cNvGrpSpPr/>
              <p:nvPr/>
            </p:nvGrpSpPr>
            <p:grpSpPr>
              <a:xfrm>
                <a:off x="7912440" y="334800"/>
                <a:ext cx="338400" cy="310320"/>
                <a:chOff x="7912440" y="334800"/>
                <a:chExt cx="338400" cy="310320"/>
              </a:xfrm>
            </p:grpSpPr>
            <p:sp>
              <p:nvSpPr>
                <p:cNvPr id="966" name="Freeform 112"/>
                <p:cNvSpPr/>
                <p:nvPr/>
              </p:nvSpPr>
              <p:spPr>
                <a:xfrm rot="1368000">
                  <a:off x="7969320" y="365760"/>
                  <a:ext cx="211320" cy="247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113"/>
                <p:cNvSpPr/>
                <p:nvPr/>
              </p:nvSpPr>
              <p:spPr>
                <a:xfrm flipH="1" rot="5364600">
                  <a:off x="7992720" y="342000"/>
                  <a:ext cx="177840" cy="336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Group 114"/>
              <p:cNvGrpSpPr/>
              <p:nvPr/>
            </p:nvGrpSpPr>
            <p:grpSpPr>
              <a:xfrm>
                <a:off x="8142120" y="530280"/>
                <a:ext cx="355320" cy="268560"/>
                <a:chOff x="8142120" y="530280"/>
                <a:chExt cx="355320" cy="268560"/>
              </a:xfrm>
            </p:grpSpPr>
            <p:sp>
              <p:nvSpPr>
                <p:cNvPr id="969" name="Freeform 115"/>
                <p:cNvSpPr/>
                <p:nvPr/>
              </p:nvSpPr>
              <p:spPr>
                <a:xfrm rot="17679600">
                  <a:off x="8246160" y="502560"/>
                  <a:ext cx="146880" cy="323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16"/>
                <p:cNvSpPr/>
                <p:nvPr/>
              </p:nvSpPr>
              <p:spPr>
                <a:xfrm flipH="1" rot="75600">
                  <a:off x="8226720" y="547560"/>
                  <a:ext cx="232560" cy="234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Group 117"/>
              <p:cNvGrpSpPr/>
              <p:nvPr/>
            </p:nvGrpSpPr>
            <p:grpSpPr>
              <a:xfrm>
                <a:off x="8172000" y="1045800"/>
                <a:ext cx="337320" cy="260640"/>
                <a:chOff x="8172000" y="1045800"/>
                <a:chExt cx="337320" cy="260640"/>
              </a:xfrm>
            </p:grpSpPr>
            <p:sp>
              <p:nvSpPr>
                <p:cNvPr id="972" name="Freeform 118"/>
                <p:cNvSpPr/>
                <p:nvPr/>
              </p:nvSpPr>
              <p:spPr>
                <a:xfrm rot="17679600">
                  <a:off x="8266680" y="1024200"/>
                  <a:ext cx="147240" cy="303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119"/>
                <p:cNvSpPr/>
                <p:nvPr/>
              </p:nvSpPr>
              <p:spPr>
                <a:xfrm flipH="1" rot="75600">
                  <a:off x="8253720" y="1058760"/>
                  <a:ext cx="218160" cy="234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Group 120"/>
              <p:cNvGrpSpPr/>
              <p:nvPr/>
            </p:nvGrpSpPr>
            <p:grpSpPr>
              <a:xfrm>
                <a:off x="8171640" y="1546560"/>
                <a:ext cx="254520" cy="237600"/>
                <a:chOff x="8171640" y="1546560"/>
                <a:chExt cx="254520" cy="237600"/>
              </a:xfrm>
            </p:grpSpPr>
            <p:sp>
              <p:nvSpPr>
                <p:cNvPr id="975" name="Freeform 121"/>
                <p:cNvSpPr/>
                <p:nvPr/>
              </p:nvSpPr>
              <p:spPr>
                <a:xfrm rot="17679600">
                  <a:off x="8224920" y="1562400"/>
                  <a:ext cx="147240" cy="212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122"/>
                <p:cNvSpPr/>
                <p:nvPr/>
              </p:nvSpPr>
              <p:spPr>
                <a:xfrm flipH="1" rot="75600">
                  <a:off x="8239680" y="1548000"/>
                  <a:ext cx="152640" cy="234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Group 123"/>
              <p:cNvGrpSpPr/>
              <p:nvPr/>
            </p:nvGrpSpPr>
            <p:grpSpPr>
              <a:xfrm>
                <a:off x="8172360" y="2093760"/>
                <a:ext cx="247680" cy="246960"/>
                <a:chOff x="8172360" y="2093760"/>
                <a:chExt cx="247680" cy="246960"/>
              </a:xfrm>
            </p:grpSpPr>
            <p:sp>
              <p:nvSpPr>
                <p:cNvPr id="978" name="Freeform 124"/>
                <p:cNvSpPr/>
                <p:nvPr/>
              </p:nvSpPr>
              <p:spPr>
                <a:xfrm rot="17293200">
                  <a:off x="8222400" y="2115720"/>
                  <a:ext cx="147240" cy="212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25"/>
                <p:cNvSpPr/>
                <p:nvPr/>
              </p:nvSpPr>
              <p:spPr>
                <a:xfrm flipH="1" rot="21289800">
                  <a:off x="8236080" y="2099880"/>
                  <a:ext cx="152640" cy="234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Group 126"/>
              <p:cNvGrpSpPr/>
              <p:nvPr/>
            </p:nvGrpSpPr>
            <p:grpSpPr>
              <a:xfrm>
                <a:off x="7968960" y="1819800"/>
                <a:ext cx="295200" cy="220320"/>
                <a:chOff x="7968960" y="1819800"/>
                <a:chExt cx="295200" cy="220320"/>
              </a:xfrm>
            </p:grpSpPr>
            <p:sp>
              <p:nvSpPr>
                <p:cNvPr id="981" name="Freeform 127"/>
                <p:cNvSpPr/>
                <p:nvPr/>
              </p:nvSpPr>
              <p:spPr>
                <a:xfrm rot="801000">
                  <a:off x="8021520" y="1837080"/>
                  <a:ext cx="173880" cy="18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28"/>
                <p:cNvSpPr/>
                <p:nvPr/>
              </p:nvSpPr>
              <p:spPr>
                <a:xfrm flipH="1" rot="4797600">
                  <a:off x="8049960" y="1805040"/>
                  <a:ext cx="132840" cy="276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129"/>
              <p:cNvGrpSpPr/>
              <p:nvPr/>
            </p:nvGrpSpPr>
            <p:grpSpPr>
              <a:xfrm>
                <a:off x="7968960" y="2331000"/>
                <a:ext cx="295200" cy="220320"/>
                <a:chOff x="7968960" y="2331000"/>
                <a:chExt cx="295200" cy="220320"/>
              </a:xfrm>
            </p:grpSpPr>
            <p:sp>
              <p:nvSpPr>
                <p:cNvPr id="984" name="Freeform 130"/>
                <p:cNvSpPr/>
                <p:nvPr/>
              </p:nvSpPr>
              <p:spPr>
                <a:xfrm rot="801000">
                  <a:off x="8021520" y="2348280"/>
                  <a:ext cx="173880" cy="18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131"/>
                <p:cNvSpPr/>
                <p:nvPr/>
              </p:nvSpPr>
              <p:spPr>
                <a:xfrm flipH="1" rot="4797600">
                  <a:off x="8049960" y="2316240"/>
                  <a:ext cx="132840" cy="276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Group 132"/>
              <p:cNvGrpSpPr/>
              <p:nvPr/>
            </p:nvGrpSpPr>
            <p:grpSpPr>
              <a:xfrm>
                <a:off x="8113320" y="2624760"/>
                <a:ext cx="226800" cy="259560"/>
                <a:chOff x="8113320" y="2624760"/>
                <a:chExt cx="226800" cy="259560"/>
              </a:xfrm>
            </p:grpSpPr>
            <p:sp>
              <p:nvSpPr>
                <p:cNvPr id="987" name="Freeform 133"/>
                <p:cNvSpPr/>
                <p:nvPr/>
              </p:nvSpPr>
              <p:spPr>
                <a:xfrm rot="19658400">
                  <a:off x="8138520" y="2682360"/>
                  <a:ext cx="154440" cy="139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134"/>
                <p:cNvSpPr/>
                <p:nvPr/>
              </p:nvSpPr>
              <p:spPr>
                <a:xfrm flipH="1" rot="2055000">
                  <a:off x="8179560" y="2631240"/>
                  <a:ext cx="100080" cy="245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Group 135"/>
              <p:cNvGrpSpPr/>
              <p:nvPr/>
            </p:nvGrpSpPr>
            <p:grpSpPr>
              <a:xfrm>
                <a:off x="8212680" y="2451240"/>
                <a:ext cx="228600" cy="245160"/>
                <a:chOff x="8212680" y="2451240"/>
                <a:chExt cx="228600" cy="245160"/>
              </a:xfrm>
            </p:grpSpPr>
            <p:sp>
              <p:nvSpPr>
                <p:cNvPr id="990" name="Freeform 136"/>
                <p:cNvSpPr/>
                <p:nvPr/>
              </p:nvSpPr>
              <p:spPr>
                <a:xfrm rot="16605000">
                  <a:off x="8258400" y="2475720"/>
                  <a:ext cx="13248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137"/>
                <p:cNvSpPr/>
                <p:nvPr/>
              </p:nvSpPr>
              <p:spPr>
                <a:xfrm flipH="1" rot="20601600">
                  <a:off x="8263080" y="2468160"/>
                  <a:ext cx="150840" cy="210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Rectangle 138"/>
            <p:cNvSpPr/>
            <p:nvPr/>
          </p:nvSpPr>
          <p:spPr>
            <a:xfrm>
              <a:off x="7848720" y="0"/>
              <a:ext cx="720720" cy="3068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139"/>
            <p:cNvGrpSpPr/>
            <p:nvPr/>
          </p:nvGrpSpPr>
          <p:grpSpPr>
            <a:xfrm>
              <a:off x="8520120" y="-35280"/>
              <a:ext cx="346320" cy="373680"/>
              <a:chOff x="8520120" y="-35280"/>
              <a:chExt cx="346320" cy="373680"/>
            </a:xfrm>
          </p:grpSpPr>
          <p:sp>
            <p:nvSpPr>
              <p:cNvPr id="994" name="Freeform 140"/>
              <p:cNvSpPr/>
              <p:nvPr/>
            </p:nvSpPr>
            <p:spPr>
              <a:xfrm rot="1368000">
                <a:off x="8580240" y="-5400"/>
                <a:ext cx="216360" cy="314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41"/>
              <p:cNvSpPr/>
              <p:nvPr/>
            </p:nvSpPr>
            <p:spPr>
              <a:xfrm flipH="1" rot="5364600">
                <a:off x="8580240" y="3600"/>
                <a:ext cx="225720" cy="3441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142"/>
            <p:cNvGrpSpPr/>
            <p:nvPr/>
          </p:nvGrpSpPr>
          <p:grpSpPr>
            <a:xfrm>
              <a:off x="8741880" y="300600"/>
              <a:ext cx="408240" cy="321120"/>
              <a:chOff x="8741880" y="300600"/>
              <a:chExt cx="408240" cy="321120"/>
            </a:xfrm>
          </p:grpSpPr>
          <p:sp>
            <p:nvSpPr>
              <p:cNvPr id="997" name="Freeform 143"/>
              <p:cNvSpPr/>
              <p:nvPr/>
            </p:nvSpPr>
            <p:spPr>
              <a:xfrm rot="17679600">
                <a:off x="8852760" y="279360"/>
                <a:ext cx="186480" cy="363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44"/>
              <p:cNvSpPr/>
              <p:nvPr/>
            </p:nvSpPr>
            <p:spPr>
              <a:xfrm flipH="1" rot="75600">
                <a:off x="8842320" y="311400"/>
                <a:ext cx="261360" cy="296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Group 145"/>
            <p:cNvGrpSpPr/>
            <p:nvPr/>
          </p:nvGrpSpPr>
          <p:grpSpPr>
            <a:xfrm>
              <a:off x="8585280" y="1729800"/>
              <a:ext cx="337680" cy="273960"/>
              <a:chOff x="8585280" y="1729800"/>
              <a:chExt cx="337680" cy="273960"/>
            </a:xfrm>
          </p:grpSpPr>
          <p:sp>
            <p:nvSpPr>
              <p:cNvPr id="1000" name="Freeform 146"/>
              <p:cNvSpPr/>
              <p:nvPr/>
            </p:nvSpPr>
            <p:spPr>
              <a:xfrm rot="801000">
                <a:off x="8646480" y="1749240"/>
                <a:ext cx="19656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47"/>
              <p:cNvSpPr/>
              <p:nvPr/>
            </p:nvSpPr>
            <p:spPr>
              <a:xfrm flipH="1" rot="4797600">
                <a:off x="8669520" y="1728360"/>
                <a:ext cx="168840" cy="31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148"/>
            <p:cNvGrpSpPr/>
            <p:nvPr/>
          </p:nvGrpSpPr>
          <p:grpSpPr>
            <a:xfrm>
              <a:off x="8521560" y="972720"/>
              <a:ext cx="346320" cy="327960"/>
              <a:chOff x="8521560" y="972720"/>
              <a:chExt cx="346320" cy="327960"/>
            </a:xfrm>
          </p:grpSpPr>
          <p:sp>
            <p:nvSpPr>
              <p:cNvPr id="1003" name="Freeform 149"/>
              <p:cNvSpPr/>
              <p:nvPr/>
            </p:nvSpPr>
            <p:spPr>
              <a:xfrm rot="1368000">
                <a:off x="8579880" y="1004040"/>
                <a:ext cx="21636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50"/>
              <p:cNvSpPr/>
              <p:nvPr/>
            </p:nvSpPr>
            <p:spPr>
              <a:xfrm flipH="1" rot="5364600">
                <a:off x="8599320" y="985680"/>
                <a:ext cx="190440" cy="3445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151"/>
            <p:cNvGrpSpPr/>
            <p:nvPr/>
          </p:nvGrpSpPr>
          <p:grpSpPr>
            <a:xfrm>
              <a:off x="8485200" y="431640"/>
              <a:ext cx="381240" cy="381960"/>
              <a:chOff x="8485200" y="431640"/>
              <a:chExt cx="381240" cy="381960"/>
            </a:xfrm>
          </p:grpSpPr>
          <p:sp>
            <p:nvSpPr>
              <p:cNvPr id="1006" name="Freeform 152"/>
              <p:cNvSpPr/>
              <p:nvPr/>
            </p:nvSpPr>
            <p:spPr>
              <a:xfrm rot="1368000">
                <a:off x="8550000" y="465480"/>
                <a:ext cx="238320" cy="314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53"/>
              <p:cNvSpPr/>
              <p:nvPr/>
            </p:nvSpPr>
            <p:spPr>
              <a:xfrm flipH="1" rot="5364600">
                <a:off x="8562600" y="457560"/>
                <a:ext cx="225720" cy="379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4"/>
            <p:cNvGrpSpPr/>
            <p:nvPr/>
          </p:nvGrpSpPr>
          <p:grpSpPr>
            <a:xfrm>
              <a:off x="8740080" y="681480"/>
              <a:ext cx="408600" cy="322200"/>
              <a:chOff x="8740080" y="681480"/>
              <a:chExt cx="408600" cy="322200"/>
            </a:xfrm>
          </p:grpSpPr>
          <p:sp>
            <p:nvSpPr>
              <p:cNvPr id="1009" name="Freeform 155"/>
              <p:cNvSpPr/>
              <p:nvPr/>
            </p:nvSpPr>
            <p:spPr>
              <a:xfrm rot="17679600">
                <a:off x="8850600" y="660600"/>
                <a:ext cx="187560" cy="363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156"/>
              <p:cNvSpPr/>
              <p:nvPr/>
            </p:nvSpPr>
            <p:spPr>
              <a:xfrm flipH="1" rot="75600">
                <a:off x="8841240" y="692280"/>
                <a:ext cx="261360" cy="298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57"/>
            <p:cNvGrpSpPr/>
            <p:nvPr/>
          </p:nvGrpSpPr>
          <p:grpSpPr>
            <a:xfrm>
              <a:off x="8774280" y="1337040"/>
              <a:ext cx="388080" cy="311760"/>
              <a:chOff x="8774280" y="1337040"/>
              <a:chExt cx="388080" cy="311760"/>
            </a:xfrm>
          </p:grpSpPr>
          <p:sp>
            <p:nvSpPr>
              <p:cNvPr id="1012" name="Freeform 158"/>
              <p:cNvSpPr/>
              <p:nvPr/>
            </p:nvSpPr>
            <p:spPr>
              <a:xfrm rot="17679600">
                <a:off x="8874720" y="1322280"/>
                <a:ext cx="186480" cy="341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59"/>
              <p:cNvSpPr/>
              <p:nvPr/>
            </p:nvSpPr>
            <p:spPr>
              <a:xfrm flipH="1" rot="75600">
                <a:off x="8870760" y="1342080"/>
                <a:ext cx="245160" cy="2973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Group 160"/>
            <p:cNvGrpSpPr/>
            <p:nvPr/>
          </p:nvGrpSpPr>
          <p:grpSpPr>
            <a:xfrm>
              <a:off x="8772840" y="1963800"/>
              <a:ext cx="295560" cy="300240"/>
              <a:chOff x="8772840" y="1963800"/>
              <a:chExt cx="295560" cy="300240"/>
            </a:xfrm>
          </p:grpSpPr>
          <p:sp>
            <p:nvSpPr>
              <p:cNvPr id="1015" name="Freeform 161"/>
              <p:cNvSpPr/>
              <p:nvPr/>
            </p:nvSpPr>
            <p:spPr>
              <a:xfrm rot="17679600">
                <a:off x="8827200" y="1998360"/>
                <a:ext cx="186480" cy="239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62"/>
              <p:cNvSpPr/>
              <p:nvPr/>
            </p:nvSpPr>
            <p:spPr>
              <a:xfrm flipH="1" rot="75600">
                <a:off x="8853480" y="1965600"/>
                <a:ext cx="172440" cy="296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163"/>
            <p:cNvGrpSpPr/>
            <p:nvPr/>
          </p:nvGrpSpPr>
          <p:grpSpPr>
            <a:xfrm>
              <a:off x="8832600" y="2806920"/>
              <a:ext cx="277200" cy="320040"/>
              <a:chOff x="8832600" y="2806920"/>
              <a:chExt cx="277200" cy="320040"/>
            </a:xfrm>
          </p:grpSpPr>
          <p:sp>
            <p:nvSpPr>
              <p:cNvPr id="1018" name="Freeform 164"/>
              <p:cNvSpPr/>
              <p:nvPr/>
            </p:nvSpPr>
            <p:spPr>
              <a:xfrm rot="17064600">
                <a:off x="8877960" y="2855160"/>
                <a:ext cx="18648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65"/>
              <p:cNvSpPr/>
              <p:nvPr/>
            </p:nvSpPr>
            <p:spPr>
              <a:xfrm flipH="1" rot="21060600">
                <a:off x="8903160" y="2818440"/>
                <a:ext cx="171360" cy="2970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166"/>
            <p:cNvGrpSpPr/>
            <p:nvPr/>
          </p:nvGrpSpPr>
          <p:grpSpPr>
            <a:xfrm>
              <a:off x="8551800" y="2398680"/>
              <a:ext cx="336240" cy="273600"/>
              <a:chOff x="8551800" y="2398680"/>
              <a:chExt cx="336240" cy="273600"/>
            </a:xfrm>
          </p:grpSpPr>
          <p:sp>
            <p:nvSpPr>
              <p:cNvPr id="1021" name="Freeform 167"/>
              <p:cNvSpPr/>
              <p:nvPr/>
            </p:nvSpPr>
            <p:spPr>
              <a:xfrm rot="801000">
                <a:off x="8613000" y="2417760"/>
                <a:ext cx="195480" cy="2347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68"/>
              <p:cNvSpPr/>
              <p:nvPr/>
            </p:nvSpPr>
            <p:spPr>
              <a:xfrm flipH="1" rot="4797600">
                <a:off x="8635320" y="2397600"/>
                <a:ext cx="168840" cy="311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169"/>
            <p:cNvGrpSpPr/>
            <p:nvPr/>
          </p:nvGrpSpPr>
          <p:grpSpPr>
            <a:xfrm>
              <a:off x="8551080" y="3119400"/>
              <a:ext cx="336240" cy="275400"/>
              <a:chOff x="8551080" y="3119400"/>
              <a:chExt cx="336240" cy="275400"/>
            </a:xfrm>
          </p:grpSpPr>
          <p:sp>
            <p:nvSpPr>
              <p:cNvPr id="1024" name="Freeform 170"/>
              <p:cNvSpPr/>
              <p:nvPr/>
            </p:nvSpPr>
            <p:spPr>
              <a:xfrm rot="801000">
                <a:off x="8612640" y="3138480"/>
                <a:ext cx="195480" cy="2365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71"/>
              <p:cNvSpPr/>
              <p:nvPr/>
            </p:nvSpPr>
            <p:spPr>
              <a:xfrm flipH="1" rot="4797600">
                <a:off x="8634240" y="3119400"/>
                <a:ext cx="169920" cy="311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6" name="Group 172"/>
            <p:cNvGrpSpPr/>
            <p:nvPr/>
          </p:nvGrpSpPr>
          <p:grpSpPr>
            <a:xfrm>
              <a:off x="8787600" y="3410640"/>
              <a:ext cx="263880" cy="304200"/>
              <a:chOff x="8787600" y="3410640"/>
              <a:chExt cx="263880" cy="304200"/>
            </a:xfrm>
          </p:grpSpPr>
          <p:sp>
            <p:nvSpPr>
              <p:cNvPr id="1027" name="Freeform 173"/>
              <p:cNvSpPr/>
              <p:nvPr/>
            </p:nvSpPr>
            <p:spPr>
              <a:xfrm rot="16605000">
                <a:off x="8831160" y="3453480"/>
                <a:ext cx="167400" cy="2365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174"/>
              <p:cNvSpPr/>
              <p:nvPr/>
            </p:nvSpPr>
            <p:spPr>
              <a:xfrm flipH="1" rot="20601600">
                <a:off x="8847000" y="3429360"/>
                <a:ext cx="169920" cy="266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Group 175"/>
            <p:cNvGrpSpPr/>
            <p:nvPr/>
          </p:nvGrpSpPr>
          <p:grpSpPr>
            <a:xfrm>
              <a:off x="6651720" y="-35280"/>
              <a:ext cx="664920" cy="1638360"/>
              <a:chOff x="6651720" y="-35280"/>
              <a:chExt cx="664920" cy="1638360"/>
            </a:xfrm>
          </p:grpSpPr>
          <p:grpSp>
            <p:nvGrpSpPr>
              <p:cNvPr id="1030" name="Group 176"/>
              <p:cNvGrpSpPr/>
              <p:nvPr/>
            </p:nvGrpSpPr>
            <p:grpSpPr>
              <a:xfrm>
                <a:off x="6687360" y="-35280"/>
                <a:ext cx="345960" cy="373680"/>
                <a:chOff x="6687360" y="-35280"/>
                <a:chExt cx="345960" cy="373680"/>
              </a:xfrm>
            </p:grpSpPr>
            <p:sp>
              <p:nvSpPr>
                <p:cNvPr id="1031" name="Freeform 177"/>
                <p:cNvSpPr/>
                <p:nvPr/>
              </p:nvSpPr>
              <p:spPr>
                <a:xfrm rot="1368000">
                  <a:off x="6747120" y="-5400"/>
                  <a:ext cx="216360" cy="314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178"/>
                <p:cNvSpPr/>
                <p:nvPr/>
              </p:nvSpPr>
              <p:spPr>
                <a:xfrm flipH="1" rot="5364600">
                  <a:off x="6747120" y="3600"/>
                  <a:ext cx="225720" cy="343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3" name="AutoShape 179"/>
              <p:cNvSpPr/>
              <p:nvPr/>
            </p:nvSpPr>
            <p:spPr>
              <a:xfrm>
                <a:off x="6985080" y="0"/>
                <a:ext cx="34920" cy="134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Group 180"/>
              <p:cNvGrpSpPr/>
              <p:nvPr/>
            </p:nvGrpSpPr>
            <p:grpSpPr>
              <a:xfrm>
                <a:off x="6908400" y="300600"/>
                <a:ext cx="408240" cy="321120"/>
                <a:chOff x="6908400" y="300600"/>
                <a:chExt cx="408240" cy="321120"/>
              </a:xfrm>
            </p:grpSpPr>
            <p:sp>
              <p:nvSpPr>
                <p:cNvPr id="1035" name="Freeform 181"/>
                <p:cNvSpPr/>
                <p:nvPr/>
              </p:nvSpPr>
              <p:spPr>
                <a:xfrm rot="17679600">
                  <a:off x="7019280" y="279360"/>
                  <a:ext cx="186480" cy="363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182"/>
                <p:cNvSpPr/>
                <p:nvPr/>
              </p:nvSpPr>
              <p:spPr>
                <a:xfrm flipH="1" rot="75600">
                  <a:off x="7008840" y="311400"/>
                  <a:ext cx="261360" cy="296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Group 183"/>
              <p:cNvGrpSpPr/>
              <p:nvPr/>
            </p:nvGrpSpPr>
            <p:grpSpPr>
              <a:xfrm>
                <a:off x="6651720" y="431640"/>
                <a:ext cx="381240" cy="381960"/>
                <a:chOff x="6651720" y="431640"/>
                <a:chExt cx="381240" cy="381960"/>
              </a:xfrm>
            </p:grpSpPr>
            <p:sp>
              <p:nvSpPr>
                <p:cNvPr id="1038" name="Freeform 184"/>
                <p:cNvSpPr/>
                <p:nvPr/>
              </p:nvSpPr>
              <p:spPr>
                <a:xfrm rot="1368000">
                  <a:off x="6716520" y="465480"/>
                  <a:ext cx="238320" cy="314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185"/>
                <p:cNvSpPr/>
                <p:nvPr/>
              </p:nvSpPr>
              <p:spPr>
                <a:xfrm flipH="1" rot="5364600">
                  <a:off x="6729120" y="457560"/>
                  <a:ext cx="225720" cy="379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Group 186"/>
              <p:cNvGrpSpPr/>
              <p:nvPr/>
            </p:nvGrpSpPr>
            <p:grpSpPr>
              <a:xfrm>
                <a:off x="6870240" y="1299600"/>
                <a:ext cx="247320" cy="303480"/>
                <a:chOff x="6870240" y="1299600"/>
                <a:chExt cx="247320" cy="303480"/>
              </a:xfrm>
            </p:grpSpPr>
            <p:sp>
              <p:nvSpPr>
                <p:cNvPr id="1041" name="Freeform 187"/>
                <p:cNvSpPr/>
                <p:nvPr/>
              </p:nvSpPr>
              <p:spPr>
                <a:xfrm rot="18729600">
                  <a:off x="6906600" y="1364040"/>
                  <a:ext cx="174240" cy="176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188"/>
                <p:cNvSpPr/>
                <p:nvPr/>
              </p:nvSpPr>
              <p:spPr>
                <a:xfrm flipH="1" rot="1125600">
                  <a:off x="6946920" y="1312560"/>
                  <a:ext cx="126360" cy="277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3" name="Rectangle 189"/>
            <p:cNvSpPr/>
            <p:nvPr/>
          </p:nvSpPr>
          <p:spPr>
            <a:xfrm>
              <a:off x="6624720" y="0"/>
              <a:ext cx="684000" cy="1268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62352"/>
                  </a:srgbClr>
                </a:gs>
                <a:gs pos="100000">
                  <a:srgbClr val="ffffff">
                    <a:alpha val="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190"/>
            <p:cNvGrpSpPr/>
            <p:nvPr/>
          </p:nvGrpSpPr>
          <p:grpSpPr>
            <a:xfrm>
              <a:off x="5895720" y="-44640"/>
              <a:ext cx="810720" cy="2743560"/>
              <a:chOff x="5895720" y="-44640"/>
              <a:chExt cx="810720" cy="2743560"/>
            </a:xfrm>
          </p:grpSpPr>
          <p:grpSp>
            <p:nvGrpSpPr>
              <p:cNvPr id="1045" name="Group 191"/>
              <p:cNvGrpSpPr/>
              <p:nvPr/>
            </p:nvGrpSpPr>
            <p:grpSpPr>
              <a:xfrm>
                <a:off x="5935320" y="-44640"/>
                <a:ext cx="404640" cy="356760"/>
                <a:chOff x="5935320" y="-44640"/>
                <a:chExt cx="404640" cy="356760"/>
              </a:xfrm>
            </p:grpSpPr>
            <p:sp>
              <p:nvSpPr>
                <p:cNvPr id="1046" name="Freeform 192"/>
                <p:cNvSpPr/>
                <p:nvPr/>
              </p:nvSpPr>
              <p:spPr>
                <a:xfrm rot="1368000">
                  <a:off x="6002640" y="-6480"/>
                  <a:ext cx="252720" cy="280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193"/>
                <p:cNvSpPr/>
                <p:nvPr/>
              </p:nvSpPr>
              <p:spPr>
                <a:xfrm flipH="1" rot="5364600">
                  <a:off x="6036480" y="-43920"/>
                  <a:ext cx="201600" cy="402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8" name="AutoShape 194"/>
              <p:cNvSpPr/>
              <p:nvPr/>
            </p:nvSpPr>
            <p:spPr>
              <a:xfrm>
                <a:off x="6303240" y="0"/>
                <a:ext cx="34920" cy="24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9" name="Group 195"/>
              <p:cNvGrpSpPr/>
              <p:nvPr/>
            </p:nvGrpSpPr>
            <p:grpSpPr>
              <a:xfrm>
                <a:off x="6215760" y="247680"/>
                <a:ext cx="455040" cy="328320"/>
                <a:chOff x="6215760" y="247680"/>
                <a:chExt cx="455040" cy="328320"/>
              </a:xfrm>
            </p:grpSpPr>
            <p:sp>
              <p:nvSpPr>
                <p:cNvPr id="1050" name="Freeform 196"/>
                <p:cNvSpPr/>
                <p:nvPr/>
              </p:nvSpPr>
              <p:spPr>
                <a:xfrm rot="17679600">
                  <a:off x="6360120" y="199440"/>
                  <a:ext cx="166320" cy="424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197"/>
                <p:cNvSpPr/>
                <p:nvPr/>
              </p:nvSpPr>
              <p:spPr>
                <a:xfrm flipH="1" rot="75600">
                  <a:off x="6320880" y="281160"/>
                  <a:ext cx="305280" cy="264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Group 198"/>
              <p:cNvGrpSpPr/>
              <p:nvPr/>
            </p:nvGrpSpPr>
            <p:grpSpPr>
              <a:xfrm>
                <a:off x="6014160" y="946080"/>
                <a:ext cx="384480" cy="257040"/>
                <a:chOff x="6014160" y="946080"/>
                <a:chExt cx="384480" cy="257040"/>
              </a:xfrm>
            </p:grpSpPr>
            <p:sp>
              <p:nvSpPr>
                <p:cNvPr id="1053" name="Freeform 199"/>
                <p:cNvSpPr/>
                <p:nvPr/>
              </p:nvSpPr>
              <p:spPr>
                <a:xfrm rot="801000">
                  <a:off x="6080760" y="969480"/>
                  <a:ext cx="22860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200"/>
                <p:cNvSpPr/>
                <p:nvPr/>
              </p:nvSpPr>
              <p:spPr>
                <a:xfrm flipH="1" rot="4797600">
                  <a:off x="6130800" y="908640"/>
                  <a:ext cx="150840" cy="363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5" name="Group 201"/>
              <p:cNvGrpSpPr/>
              <p:nvPr/>
            </p:nvGrpSpPr>
            <p:grpSpPr>
              <a:xfrm>
                <a:off x="5895720" y="371160"/>
                <a:ext cx="443880" cy="366480"/>
                <a:chOff x="5895720" y="371160"/>
                <a:chExt cx="443880" cy="366480"/>
              </a:xfrm>
            </p:grpSpPr>
            <p:sp>
              <p:nvSpPr>
                <p:cNvPr id="1056" name="Freeform 202"/>
                <p:cNvSpPr/>
                <p:nvPr/>
              </p:nvSpPr>
              <p:spPr>
                <a:xfrm rot="1368000">
                  <a:off x="5968800" y="413640"/>
                  <a:ext cx="277560" cy="280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203"/>
                <p:cNvSpPr/>
                <p:nvPr/>
              </p:nvSpPr>
              <p:spPr>
                <a:xfrm flipH="1" rot="5364600">
                  <a:off x="6016320" y="357480"/>
                  <a:ext cx="201600" cy="441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Group 204"/>
              <p:cNvGrpSpPr/>
              <p:nvPr/>
            </p:nvGrpSpPr>
            <p:grpSpPr>
              <a:xfrm>
                <a:off x="6250680" y="843480"/>
                <a:ext cx="455760" cy="329400"/>
                <a:chOff x="6250680" y="843480"/>
                <a:chExt cx="455760" cy="329400"/>
              </a:xfrm>
            </p:grpSpPr>
            <p:sp>
              <p:nvSpPr>
                <p:cNvPr id="1059" name="Freeform 205"/>
                <p:cNvSpPr/>
                <p:nvPr/>
              </p:nvSpPr>
              <p:spPr>
                <a:xfrm rot="17679600">
                  <a:off x="6394680" y="795960"/>
                  <a:ext cx="167400" cy="424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206"/>
                <p:cNvSpPr/>
                <p:nvPr/>
              </p:nvSpPr>
              <p:spPr>
                <a:xfrm flipH="1" rot="75600">
                  <a:off x="6356160" y="876960"/>
                  <a:ext cx="305280" cy="266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1" name="Group 207"/>
              <p:cNvGrpSpPr/>
              <p:nvPr/>
            </p:nvGrpSpPr>
            <p:grpSpPr>
              <a:xfrm>
                <a:off x="6241320" y="1162440"/>
                <a:ext cx="322200" cy="271080"/>
                <a:chOff x="6241320" y="1162440"/>
                <a:chExt cx="322200" cy="271080"/>
              </a:xfrm>
            </p:grpSpPr>
            <p:sp>
              <p:nvSpPr>
                <p:cNvPr id="1062" name="Freeform 208"/>
                <p:cNvSpPr/>
                <p:nvPr/>
              </p:nvSpPr>
              <p:spPr>
                <a:xfrm rot="17679600">
                  <a:off x="6318720" y="1160640"/>
                  <a:ext cx="166680" cy="277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209"/>
                <p:cNvSpPr/>
                <p:nvPr/>
              </p:nvSpPr>
              <p:spPr>
                <a:xfrm flipH="1" rot="75600">
                  <a:off x="6323040" y="1164240"/>
                  <a:ext cx="199800" cy="265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4" name="Group 210"/>
              <p:cNvGrpSpPr/>
              <p:nvPr/>
            </p:nvGrpSpPr>
            <p:grpSpPr>
              <a:xfrm>
                <a:off x="6237720" y="1780560"/>
                <a:ext cx="317880" cy="281880"/>
                <a:chOff x="6237720" y="1780560"/>
                <a:chExt cx="317880" cy="281880"/>
              </a:xfrm>
            </p:grpSpPr>
            <p:sp>
              <p:nvSpPr>
                <p:cNvPr id="1065" name="Freeform 211"/>
                <p:cNvSpPr/>
                <p:nvPr/>
              </p:nvSpPr>
              <p:spPr>
                <a:xfrm rot="17293200">
                  <a:off x="6312960" y="1786320"/>
                  <a:ext cx="166680" cy="2797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212"/>
                <p:cNvSpPr/>
                <p:nvPr/>
              </p:nvSpPr>
              <p:spPr>
                <a:xfrm flipH="1" rot="21289800">
                  <a:off x="6316560" y="1788840"/>
                  <a:ext cx="200880" cy="264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Group 213"/>
              <p:cNvGrpSpPr/>
              <p:nvPr/>
            </p:nvGrpSpPr>
            <p:grpSpPr>
              <a:xfrm>
                <a:off x="5971320" y="1466640"/>
                <a:ext cx="383400" cy="256680"/>
                <a:chOff x="5971320" y="1466640"/>
                <a:chExt cx="383400" cy="256680"/>
              </a:xfrm>
            </p:grpSpPr>
            <p:sp>
              <p:nvSpPr>
                <p:cNvPr id="1068" name="Freeform 214"/>
                <p:cNvSpPr/>
                <p:nvPr/>
              </p:nvSpPr>
              <p:spPr>
                <a:xfrm rot="801000">
                  <a:off x="6037560" y="1490040"/>
                  <a:ext cx="22752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215"/>
                <p:cNvSpPr/>
                <p:nvPr/>
              </p:nvSpPr>
              <p:spPr>
                <a:xfrm flipH="1" rot="4797600">
                  <a:off x="6086880" y="1429920"/>
                  <a:ext cx="150840" cy="362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Group 216"/>
              <p:cNvGrpSpPr/>
              <p:nvPr/>
            </p:nvGrpSpPr>
            <p:grpSpPr>
              <a:xfrm>
                <a:off x="5970960" y="2045520"/>
                <a:ext cx="383400" cy="258120"/>
                <a:chOff x="5970960" y="2045520"/>
                <a:chExt cx="383400" cy="258120"/>
              </a:xfrm>
            </p:grpSpPr>
            <p:sp>
              <p:nvSpPr>
                <p:cNvPr id="1071" name="Freeform 217"/>
                <p:cNvSpPr/>
                <p:nvPr/>
              </p:nvSpPr>
              <p:spPr>
                <a:xfrm rot="801000">
                  <a:off x="6037200" y="2068920"/>
                  <a:ext cx="22752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218"/>
                <p:cNvSpPr/>
                <p:nvPr/>
              </p:nvSpPr>
              <p:spPr>
                <a:xfrm flipH="1" rot="4797600">
                  <a:off x="6086160" y="2010600"/>
                  <a:ext cx="151920" cy="3621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219"/>
              <p:cNvGrpSpPr/>
              <p:nvPr/>
            </p:nvGrpSpPr>
            <p:grpSpPr>
              <a:xfrm>
                <a:off x="6165720" y="2359080"/>
                <a:ext cx="263880" cy="339840"/>
                <a:chOff x="6165720" y="2359080"/>
                <a:chExt cx="263880" cy="339840"/>
              </a:xfrm>
            </p:grpSpPr>
            <p:sp>
              <p:nvSpPr>
                <p:cNvPr id="1074" name="Freeform 220"/>
                <p:cNvSpPr/>
                <p:nvPr/>
              </p:nvSpPr>
              <p:spPr>
                <a:xfrm rot="19112400">
                  <a:off x="6192000" y="2451600"/>
                  <a:ext cx="202680" cy="156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221"/>
                <p:cNvSpPr/>
                <p:nvPr/>
              </p:nvSpPr>
              <p:spPr>
                <a:xfrm flipH="1" rot="1509000">
                  <a:off x="6253560" y="2367720"/>
                  <a:ext cx="112680" cy="322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222"/>
              <p:cNvGrpSpPr/>
              <p:nvPr/>
            </p:nvGrpSpPr>
            <p:grpSpPr>
              <a:xfrm>
                <a:off x="6290640" y="2183040"/>
                <a:ext cx="293040" cy="284760"/>
                <a:chOff x="6290640" y="2183040"/>
                <a:chExt cx="293040" cy="284760"/>
              </a:xfrm>
            </p:grpSpPr>
            <p:sp>
              <p:nvSpPr>
                <p:cNvPr id="1077" name="Freeform 223"/>
                <p:cNvSpPr/>
                <p:nvPr/>
              </p:nvSpPr>
              <p:spPr>
                <a:xfrm rot="16605000">
                  <a:off x="6360840" y="2195640"/>
                  <a:ext cx="149760" cy="27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224"/>
                <p:cNvSpPr/>
                <p:nvPr/>
              </p:nvSpPr>
              <p:spPr>
                <a:xfrm flipH="1" rot="20601600">
                  <a:off x="6355800" y="2206080"/>
                  <a:ext cx="197640" cy="238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9" name="Group 225"/>
            <p:cNvGrpSpPr/>
            <p:nvPr/>
          </p:nvGrpSpPr>
          <p:grpSpPr>
            <a:xfrm>
              <a:off x="5104800" y="-30960"/>
              <a:ext cx="557640" cy="2615040"/>
              <a:chOff x="5104800" y="-30960"/>
              <a:chExt cx="557640" cy="2615040"/>
            </a:xfrm>
          </p:grpSpPr>
          <p:grpSp>
            <p:nvGrpSpPr>
              <p:cNvPr id="1080" name="Group 226"/>
              <p:cNvGrpSpPr/>
              <p:nvPr/>
            </p:nvGrpSpPr>
            <p:grpSpPr>
              <a:xfrm>
                <a:off x="5133960" y="-30960"/>
                <a:ext cx="288360" cy="273960"/>
                <a:chOff x="5133960" y="-30960"/>
                <a:chExt cx="288360" cy="273960"/>
              </a:xfrm>
            </p:grpSpPr>
            <p:sp>
              <p:nvSpPr>
                <p:cNvPr id="1081" name="Freeform 227"/>
                <p:cNvSpPr/>
                <p:nvPr/>
              </p:nvSpPr>
              <p:spPr>
                <a:xfrm rot="1368000">
                  <a:off x="5182560" y="-4680"/>
                  <a:ext cx="180000" cy="221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228"/>
                <p:cNvSpPr/>
                <p:nvPr/>
              </p:nvSpPr>
              <p:spPr>
                <a:xfrm flipH="1" rot="5364600">
                  <a:off x="5198040" y="-18720"/>
                  <a:ext cx="159120" cy="286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3" name="AutoShape 229"/>
              <p:cNvSpPr/>
              <p:nvPr/>
            </p:nvSpPr>
            <p:spPr>
              <a:xfrm>
                <a:off x="5395680" y="0"/>
                <a:ext cx="28800" cy="243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Group 230"/>
              <p:cNvGrpSpPr/>
              <p:nvPr/>
            </p:nvGrpSpPr>
            <p:grpSpPr>
              <a:xfrm>
                <a:off x="5320800" y="201240"/>
                <a:ext cx="330480" cy="246240"/>
                <a:chOff x="5320800" y="201240"/>
                <a:chExt cx="330480" cy="246240"/>
              </a:xfrm>
            </p:grpSpPr>
            <p:sp>
              <p:nvSpPr>
                <p:cNvPr id="1085" name="Freeform 231"/>
                <p:cNvSpPr/>
                <p:nvPr/>
              </p:nvSpPr>
              <p:spPr>
                <a:xfrm rot="17679600">
                  <a:off x="5419800" y="172800"/>
                  <a:ext cx="131760" cy="303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232"/>
                <p:cNvSpPr/>
                <p:nvPr/>
              </p:nvSpPr>
              <p:spPr>
                <a:xfrm flipH="1" rot="75600">
                  <a:off x="5398560" y="219600"/>
                  <a:ext cx="217800" cy="209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Group 233"/>
              <p:cNvGrpSpPr/>
              <p:nvPr/>
            </p:nvGrpSpPr>
            <p:grpSpPr>
              <a:xfrm>
                <a:off x="5189760" y="1216800"/>
                <a:ext cx="276120" cy="198720"/>
                <a:chOff x="5189760" y="1216800"/>
                <a:chExt cx="276120" cy="198720"/>
              </a:xfrm>
            </p:grpSpPr>
            <p:sp>
              <p:nvSpPr>
                <p:cNvPr id="1088" name="Freeform 234"/>
                <p:cNvSpPr/>
                <p:nvPr/>
              </p:nvSpPr>
              <p:spPr>
                <a:xfrm rot="801000">
                  <a:off x="5238000" y="1233000"/>
                  <a:ext cx="162720" cy="165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35"/>
                <p:cNvSpPr/>
                <p:nvPr/>
              </p:nvSpPr>
              <p:spPr>
                <a:xfrm flipH="1" rot="4797600">
                  <a:off x="5267520" y="1199160"/>
                  <a:ext cx="119160" cy="259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0" name="Group 236"/>
              <p:cNvGrpSpPr/>
              <p:nvPr/>
            </p:nvGrpSpPr>
            <p:grpSpPr>
              <a:xfrm>
                <a:off x="5135040" y="679680"/>
                <a:ext cx="288000" cy="241920"/>
                <a:chOff x="5135040" y="679680"/>
                <a:chExt cx="288000" cy="241920"/>
              </a:xfrm>
            </p:grpSpPr>
            <p:sp>
              <p:nvSpPr>
                <p:cNvPr id="1091" name="Freeform 237"/>
                <p:cNvSpPr/>
                <p:nvPr/>
              </p:nvSpPr>
              <p:spPr>
                <a:xfrm rot="1368000">
                  <a:off x="5182200" y="707040"/>
                  <a:ext cx="180000" cy="1868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38"/>
                <p:cNvSpPr/>
                <p:nvPr/>
              </p:nvSpPr>
              <p:spPr>
                <a:xfrm flipH="1" rot="5364600">
                  <a:off x="5211720" y="672840"/>
                  <a:ext cx="134280" cy="286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Group 239"/>
              <p:cNvGrpSpPr/>
              <p:nvPr/>
            </p:nvGrpSpPr>
            <p:grpSpPr>
              <a:xfrm>
                <a:off x="5104800" y="297360"/>
                <a:ext cx="317160" cy="280800"/>
                <a:chOff x="5104800" y="297360"/>
                <a:chExt cx="317160" cy="280800"/>
              </a:xfrm>
            </p:grpSpPr>
            <p:sp>
              <p:nvSpPr>
                <p:cNvPr id="1094" name="Freeform 240"/>
                <p:cNvSpPr/>
                <p:nvPr/>
              </p:nvSpPr>
              <p:spPr>
                <a:xfrm rot="1368000">
                  <a:off x="5157720" y="326880"/>
                  <a:ext cx="198000" cy="221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41"/>
                <p:cNvSpPr/>
                <p:nvPr/>
              </p:nvSpPr>
              <p:spPr>
                <a:xfrm flipH="1" rot="5364600">
                  <a:off x="5183280" y="298440"/>
                  <a:ext cx="159120" cy="315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Group 242"/>
              <p:cNvGrpSpPr/>
              <p:nvPr/>
            </p:nvGrpSpPr>
            <p:grpSpPr>
              <a:xfrm>
                <a:off x="5320800" y="471240"/>
                <a:ext cx="330480" cy="246240"/>
                <a:chOff x="5320800" y="471240"/>
                <a:chExt cx="330480" cy="246240"/>
              </a:xfrm>
            </p:grpSpPr>
            <p:sp>
              <p:nvSpPr>
                <p:cNvPr id="1097" name="Freeform 243"/>
                <p:cNvSpPr/>
                <p:nvPr/>
              </p:nvSpPr>
              <p:spPr>
                <a:xfrm rot="17679600">
                  <a:off x="5419800" y="442800"/>
                  <a:ext cx="131760" cy="303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244"/>
                <p:cNvSpPr/>
                <p:nvPr/>
              </p:nvSpPr>
              <p:spPr>
                <a:xfrm flipH="1" rot="75600">
                  <a:off x="5398560" y="489600"/>
                  <a:ext cx="217800" cy="209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Group 245"/>
              <p:cNvGrpSpPr/>
              <p:nvPr/>
            </p:nvGrpSpPr>
            <p:grpSpPr>
              <a:xfrm>
                <a:off x="5349240" y="933120"/>
                <a:ext cx="313200" cy="238320"/>
                <a:chOff x="5349240" y="933120"/>
                <a:chExt cx="313200" cy="238320"/>
              </a:xfrm>
            </p:grpSpPr>
            <p:sp>
              <p:nvSpPr>
                <p:cNvPr id="1100" name="Freeform 246"/>
                <p:cNvSpPr/>
                <p:nvPr/>
              </p:nvSpPr>
              <p:spPr>
                <a:xfrm rot="17679600">
                  <a:off x="5439600" y="910080"/>
                  <a:ext cx="131760" cy="284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247"/>
                <p:cNvSpPr/>
                <p:nvPr/>
              </p:nvSpPr>
              <p:spPr>
                <a:xfrm flipH="1" rot="75600">
                  <a:off x="5423760" y="947160"/>
                  <a:ext cx="204120" cy="209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Group 248"/>
              <p:cNvGrpSpPr/>
              <p:nvPr/>
            </p:nvGrpSpPr>
            <p:grpSpPr>
              <a:xfrm>
                <a:off x="5348880" y="1384200"/>
                <a:ext cx="235800" cy="212760"/>
                <a:chOff x="5348880" y="1384200"/>
                <a:chExt cx="235800" cy="212760"/>
              </a:xfrm>
            </p:grpSpPr>
            <p:sp>
              <p:nvSpPr>
                <p:cNvPr id="1103" name="Freeform 249"/>
                <p:cNvSpPr/>
                <p:nvPr/>
              </p:nvSpPr>
              <p:spPr>
                <a:xfrm rot="17679600">
                  <a:off x="5400720" y="1393200"/>
                  <a:ext cx="131760" cy="199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250"/>
                <p:cNvSpPr/>
                <p:nvPr/>
              </p:nvSpPr>
              <p:spPr>
                <a:xfrm flipH="1" rot="75600">
                  <a:off x="5410080" y="1385640"/>
                  <a:ext cx="142920" cy="209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Group 251"/>
              <p:cNvGrpSpPr/>
              <p:nvPr/>
            </p:nvGrpSpPr>
            <p:grpSpPr>
              <a:xfrm>
                <a:off x="5348880" y="1873440"/>
                <a:ext cx="230400" cy="221760"/>
                <a:chOff x="5348880" y="1873440"/>
                <a:chExt cx="230400" cy="221760"/>
              </a:xfrm>
            </p:grpSpPr>
            <p:sp>
              <p:nvSpPr>
                <p:cNvPr id="1106" name="Freeform 252"/>
                <p:cNvSpPr/>
                <p:nvPr/>
              </p:nvSpPr>
              <p:spPr>
                <a:xfrm rot="17293200">
                  <a:off x="5397840" y="1888560"/>
                  <a:ext cx="131760" cy="199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53"/>
                <p:cNvSpPr/>
                <p:nvPr/>
              </p:nvSpPr>
              <p:spPr>
                <a:xfrm flipH="1" rot="21289800">
                  <a:off x="5407200" y="1879200"/>
                  <a:ext cx="142920" cy="209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Group 254"/>
              <p:cNvGrpSpPr/>
              <p:nvPr/>
            </p:nvGrpSpPr>
            <p:grpSpPr>
              <a:xfrm>
                <a:off x="5158440" y="1626840"/>
                <a:ext cx="276120" cy="198720"/>
                <a:chOff x="5158440" y="1626840"/>
                <a:chExt cx="276120" cy="198720"/>
              </a:xfrm>
            </p:grpSpPr>
            <p:sp>
              <p:nvSpPr>
                <p:cNvPr id="1109" name="Freeform 255"/>
                <p:cNvSpPr/>
                <p:nvPr/>
              </p:nvSpPr>
              <p:spPr>
                <a:xfrm rot="801000">
                  <a:off x="5206680" y="1643040"/>
                  <a:ext cx="162720" cy="165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256"/>
                <p:cNvSpPr/>
                <p:nvPr/>
              </p:nvSpPr>
              <p:spPr>
                <a:xfrm flipH="1" rot="4797600">
                  <a:off x="5236200" y="1609200"/>
                  <a:ext cx="119160" cy="259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Group 257"/>
              <p:cNvGrpSpPr/>
              <p:nvPr/>
            </p:nvGrpSpPr>
            <p:grpSpPr>
              <a:xfrm>
                <a:off x="5158440" y="2084400"/>
                <a:ext cx="276120" cy="198720"/>
                <a:chOff x="5158440" y="2084400"/>
                <a:chExt cx="276120" cy="198720"/>
              </a:xfrm>
            </p:grpSpPr>
            <p:sp>
              <p:nvSpPr>
                <p:cNvPr id="1112" name="Freeform 258"/>
                <p:cNvSpPr/>
                <p:nvPr/>
              </p:nvSpPr>
              <p:spPr>
                <a:xfrm rot="801000">
                  <a:off x="5206680" y="2100600"/>
                  <a:ext cx="162720" cy="165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259"/>
                <p:cNvSpPr/>
                <p:nvPr/>
              </p:nvSpPr>
              <p:spPr>
                <a:xfrm flipH="1" rot="4797600">
                  <a:off x="5236200" y="2066760"/>
                  <a:ext cx="119160" cy="259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Group 260"/>
              <p:cNvGrpSpPr/>
              <p:nvPr/>
            </p:nvGrpSpPr>
            <p:grpSpPr>
              <a:xfrm>
                <a:off x="5294520" y="2343240"/>
                <a:ext cx="208440" cy="240840"/>
                <a:chOff x="5294520" y="2343240"/>
                <a:chExt cx="208440" cy="240840"/>
              </a:xfrm>
            </p:grpSpPr>
            <p:sp>
              <p:nvSpPr>
                <p:cNvPr id="1115" name="Freeform 261"/>
                <p:cNvSpPr/>
                <p:nvPr/>
              </p:nvSpPr>
              <p:spPr>
                <a:xfrm rot="19658400">
                  <a:off x="5316480" y="2399760"/>
                  <a:ext cx="144720" cy="124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262"/>
                <p:cNvSpPr/>
                <p:nvPr/>
              </p:nvSpPr>
              <p:spPr>
                <a:xfrm flipH="1" rot="2055000">
                  <a:off x="5356080" y="2348280"/>
                  <a:ext cx="89640" cy="230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Group 263"/>
              <p:cNvGrpSpPr/>
              <p:nvPr/>
            </p:nvGrpSpPr>
            <p:grpSpPr>
              <a:xfrm>
                <a:off x="5385960" y="2192400"/>
                <a:ext cx="213120" cy="221040"/>
                <a:chOff x="5385960" y="2192400"/>
                <a:chExt cx="213120" cy="221040"/>
              </a:xfrm>
            </p:grpSpPr>
            <p:sp>
              <p:nvSpPr>
                <p:cNvPr id="1118" name="Freeform 264"/>
                <p:cNvSpPr/>
                <p:nvPr/>
              </p:nvSpPr>
              <p:spPr>
                <a:xfrm rot="16605000">
                  <a:off x="5430960" y="2210760"/>
                  <a:ext cx="118440" cy="196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265"/>
                <p:cNvSpPr/>
                <p:nvPr/>
              </p:nvSpPr>
              <p:spPr>
                <a:xfrm flipH="1" rot="20601600">
                  <a:off x="5433480" y="2208600"/>
                  <a:ext cx="141120" cy="188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0" name="Rectangle 266"/>
            <p:cNvSpPr/>
            <p:nvPr/>
          </p:nvSpPr>
          <p:spPr>
            <a:xfrm>
              <a:off x="5040360" y="7920"/>
              <a:ext cx="674640" cy="2744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oup 267"/>
            <p:cNvGrpSpPr/>
            <p:nvPr/>
          </p:nvGrpSpPr>
          <p:grpSpPr>
            <a:xfrm>
              <a:off x="4559400" y="0"/>
              <a:ext cx="473760" cy="1686960"/>
              <a:chOff x="4559400" y="0"/>
              <a:chExt cx="473760" cy="1686960"/>
            </a:xfrm>
          </p:grpSpPr>
          <p:sp>
            <p:nvSpPr>
              <p:cNvPr id="1122" name="AutoShape 268"/>
              <p:cNvSpPr/>
              <p:nvPr/>
            </p:nvSpPr>
            <p:spPr>
              <a:xfrm>
                <a:off x="4813200" y="0"/>
                <a:ext cx="34560" cy="152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3" name="Group 269"/>
              <p:cNvGrpSpPr/>
              <p:nvPr/>
            </p:nvGrpSpPr>
            <p:grpSpPr>
              <a:xfrm>
                <a:off x="4592880" y="163800"/>
                <a:ext cx="294840" cy="220680"/>
                <a:chOff x="4592880" y="163800"/>
                <a:chExt cx="294840" cy="220680"/>
              </a:xfrm>
            </p:grpSpPr>
            <p:sp>
              <p:nvSpPr>
                <p:cNvPr id="1124" name="Freeform 270"/>
                <p:cNvSpPr/>
                <p:nvPr/>
              </p:nvSpPr>
              <p:spPr>
                <a:xfrm rot="801000">
                  <a:off x="4644720" y="181080"/>
                  <a:ext cx="17316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271"/>
                <p:cNvSpPr/>
                <p:nvPr/>
              </p:nvSpPr>
              <p:spPr>
                <a:xfrm flipH="1" rot="4797600">
                  <a:off x="4672800" y="150120"/>
                  <a:ext cx="133560" cy="27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Group 272"/>
              <p:cNvGrpSpPr/>
              <p:nvPr/>
            </p:nvGrpSpPr>
            <p:grpSpPr>
              <a:xfrm>
                <a:off x="4761000" y="349560"/>
                <a:ext cx="254520" cy="238680"/>
                <a:chOff x="4761000" y="349560"/>
                <a:chExt cx="254520" cy="238680"/>
              </a:xfrm>
            </p:grpSpPr>
            <p:sp>
              <p:nvSpPr>
                <p:cNvPr id="1127" name="Freeform 273"/>
                <p:cNvSpPr/>
                <p:nvPr/>
              </p:nvSpPr>
              <p:spPr>
                <a:xfrm rot="17679600">
                  <a:off x="4814280" y="365760"/>
                  <a:ext cx="147600" cy="212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274"/>
                <p:cNvSpPr/>
                <p:nvPr/>
              </p:nvSpPr>
              <p:spPr>
                <a:xfrm flipH="1" rot="75600">
                  <a:off x="4829040" y="351000"/>
                  <a:ext cx="152640" cy="235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9" name="Group 275"/>
              <p:cNvGrpSpPr/>
              <p:nvPr/>
            </p:nvGrpSpPr>
            <p:grpSpPr>
              <a:xfrm>
                <a:off x="4760640" y="897120"/>
                <a:ext cx="247680" cy="245880"/>
                <a:chOff x="4760640" y="897120"/>
                <a:chExt cx="247680" cy="245880"/>
              </a:xfrm>
            </p:grpSpPr>
            <p:sp>
              <p:nvSpPr>
                <p:cNvPr id="1130" name="Freeform 276"/>
                <p:cNvSpPr/>
                <p:nvPr/>
              </p:nvSpPr>
              <p:spPr>
                <a:xfrm rot="17293200">
                  <a:off x="4811040" y="918000"/>
                  <a:ext cx="146520" cy="212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277"/>
                <p:cNvSpPr/>
                <p:nvPr/>
              </p:nvSpPr>
              <p:spPr>
                <a:xfrm flipH="1" rot="21289800">
                  <a:off x="4824000" y="903240"/>
                  <a:ext cx="152640" cy="233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2" name="Group 278"/>
              <p:cNvGrpSpPr/>
              <p:nvPr/>
            </p:nvGrpSpPr>
            <p:grpSpPr>
              <a:xfrm>
                <a:off x="4559400" y="622800"/>
                <a:ext cx="295200" cy="220680"/>
                <a:chOff x="4559400" y="622800"/>
                <a:chExt cx="295200" cy="220680"/>
              </a:xfrm>
            </p:grpSpPr>
            <p:sp>
              <p:nvSpPr>
                <p:cNvPr id="1133" name="Freeform 279"/>
                <p:cNvSpPr/>
                <p:nvPr/>
              </p:nvSpPr>
              <p:spPr>
                <a:xfrm rot="801000">
                  <a:off x="4611600" y="640080"/>
                  <a:ext cx="17352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280"/>
                <p:cNvSpPr/>
                <p:nvPr/>
              </p:nvSpPr>
              <p:spPr>
                <a:xfrm flipH="1" rot="4797600">
                  <a:off x="4640040" y="608760"/>
                  <a:ext cx="133560" cy="276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Group 281"/>
              <p:cNvGrpSpPr/>
              <p:nvPr/>
            </p:nvGrpSpPr>
            <p:grpSpPr>
              <a:xfrm>
                <a:off x="4559400" y="1134000"/>
                <a:ext cx="295200" cy="220680"/>
                <a:chOff x="4559400" y="1134000"/>
                <a:chExt cx="295200" cy="220680"/>
              </a:xfrm>
            </p:grpSpPr>
            <p:sp>
              <p:nvSpPr>
                <p:cNvPr id="1136" name="Freeform 282"/>
                <p:cNvSpPr/>
                <p:nvPr/>
              </p:nvSpPr>
              <p:spPr>
                <a:xfrm rot="801000">
                  <a:off x="4611600" y="1151280"/>
                  <a:ext cx="17352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283"/>
                <p:cNvSpPr/>
                <p:nvPr/>
              </p:nvSpPr>
              <p:spPr>
                <a:xfrm flipH="1" rot="4797600">
                  <a:off x="4640040" y="1119960"/>
                  <a:ext cx="133560" cy="276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8" name="Group 284"/>
              <p:cNvGrpSpPr/>
              <p:nvPr/>
            </p:nvGrpSpPr>
            <p:grpSpPr>
              <a:xfrm>
                <a:off x="4704120" y="1427400"/>
                <a:ext cx="226440" cy="259560"/>
                <a:chOff x="4704120" y="1427400"/>
                <a:chExt cx="226440" cy="259560"/>
              </a:xfrm>
            </p:grpSpPr>
            <p:sp>
              <p:nvSpPr>
                <p:cNvPr id="1139" name="Freeform 285"/>
                <p:cNvSpPr/>
                <p:nvPr/>
              </p:nvSpPr>
              <p:spPr>
                <a:xfrm rot="19658400">
                  <a:off x="4729320" y="1485000"/>
                  <a:ext cx="154080" cy="139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286"/>
                <p:cNvSpPr/>
                <p:nvPr/>
              </p:nvSpPr>
              <p:spPr>
                <a:xfrm flipH="1" rot="2055000">
                  <a:off x="4768920" y="1434240"/>
                  <a:ext cx="100440" cy="245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1" name="Group 287"/>
              <p:cNvGrpSpPr/>
              <p:nvPr/>
            </p:nvGrpSpPr>
            <p:grpSpPr>
              <a:xfrm>
                <a:off x="4803120" y="1254960"/>
                <a:ext cx="230040" cy="245880"/>
                <a:chOff x="4803120" y="1254960"/>
                <a:chExt cx="230040" cy="245880"/>
              </a:xfrm>
            </p:grpSpPr>
            <p:sp>
              <p:nvSpPr>
                <p:cNvPr id="1142" name="Freeform 288"/>
                <p:cNvSpPr/>
                <p:nvPr/>
              </p:nvSpPr>
              <p:spPr>
                <a:xfrm rot="16605000">
                  <a:off x="4849200" y="1280160"/>
                  <a:ext cx="132840" cy="210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289"/>
                <p:cNvSpPr/>
                <p:nvPr/>
              </p:nvSpPr>
              <p:spPr>
                <a:xfrm flipH="1" rot="20601600">
                  <a:off x="4854240" y="1271880"/>
                  <a:ext cx="15156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Group 290"/>
            <p:cNvGrpSpPr/>
            <p:nvPr/>
          </p:nvGrpSpPr>
          <p:grpSpPr>
            <a:xfrm>
              <a:off x="3515400" y="0"/>
              <a:ext cx="474120" cy="1385640"/>
              <a:chOff x="3515400" y="0"/>
              <a:chExt cx="474120" cy="1385640"/>
            </a:xfrm>
          </p:grpSpPr>
          <p:sp>
            <p:nvSpPr>
              <p:cNvPr id="1145" name="AutoShape 291"/>
              <p:cNvSpPr/>
              <p:nvPr/>
            </p:nvSpPr>
            <p:spPr>
              <a:xfrm>
                <a:off x="3768840" y="0"/>
                <a:ext cx="3492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6" name="Group 292"/>
              <p:cNvGrpSpPr/>
              <p:nvPr/>
            </p:nvGrpSpPr>
            <p:grpSpPr>
              <a:xfrm>
                <a:off x="3716280" y="583200"/>
                <a:ext cx="248040" cy="245520"/>
                <a:chOff x="3716280" y="583200"/>
                <a:chExt cx="248040" cy="245520"/>
              </a:xfrm>
            </p:grpSpPr>
            <p:sp>
              <p:nvSpPr>
                <p:cNvPr id="1147" name="Freeform 293"/>
                <p:cNvSpPr/>
                <p:nvPr/>
              </p:nvSpPr>
              <p:spPr>
                <a:xfrm rot="17293200">
                  <a:off x="3766680" y="604080"/>
                  <a:ext cx="146520" cy="212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294"/>
                <p:cNvSpPr/>
                <p:nvPr/>
              </p:nvSpPr>
              <p:spPr>
                <a:xfrm flipH="1" rot="21289800">
                  <a:off x="3779280" y="589320"/>
                  <a:ext cx="15300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Group 295"/>
              <p:cNvGrpSpPr/>
              <p:nvPr/>
            </p:nvGrpSpPr>
            <p:grpSpPr>
              <a:xfrm>
                <a:off x="3515400" y="308520"/>
                <a:ext cx="295560" cy="221040"/>
                <a:chOff x="3515400" y="308520"/>
                <a:chExt cx="295560" cy="221040"/>
              </a:xfrm>
            </p:grpSpPr>
            <p:sp>
              <p:nvSpPr>
                <p:cNvPr id="1150" name="Freeform 296"/>
                <p:cNvSpPr/>
                <p:nvPr/>
              </p:nvSpPr>
              <p:spPr>
                <a:xfrm rot="801000">
                  <a:off x="3567240" y="325800"/>
                  <a:ext cx="17388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297"/>
                <p:cNvSpPr/>
                <p:nvPr/>
              </p:nvSpPr>
              <p:spPr>
                <a:xfrm flipH="1" rot="4797600">
                  <a:off x="3595680" y="294120"/>
                  <a:ext cx="133560" cy="276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Group 298"/>
              <p:cNvGrpSpPr/>
              <p:nvPr/>
            </p:nvGrpSpPr>
            <p:grpSpPr>
              <a:xfrm>
                <a:off x="3515400" y="820440"/>
                <a:ext cx="295560" cy="221040"/>
                <a:chOff x="3515400" y="820440"/>
                <a:chExt cx="295560" cy="221040"/>
              </a:xfrm>
            </p:grpSpPr>
            <p:sp>
              <p:nvSpPr>
                <p:cNvPr id="1153" name="Freeform 299"/>
                <p:cNvSpPr/>
                <p:nvPr/>
              </p:nvSpPr>
              <p:spPr>
                <a:xfrm rot="801000">
                  <a:off x="3567240" y="837720"/>
                  <a:ext cx="17388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300"/>
                <p:cNvSpPr/>
                <p:nvPr/>
              </p:nvSpPr>
              <p:spPr>
                <a:xfrm flipH="1" rot="4797600">
                  <a:off x="3595680" y="806040"/>
                  <a:ext cx="133560" cy="276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Group 301"/>
              <p:cNvGrpSpPr/>
              <p:nvPr/>
            </p:nvGrpSpPr>
            <p:grpSpPr>
              <a:xfrm>
                <a:off x="3667680" y="1122120"/>
                <a:ext cx="205200" cy="263520"/>
                <a:chOff x="3667680" y="1122120"/>
                <a:chExt cx="205200" cy="263520"/>
              </a:xfrm>
            </p:grpSpPr>
            <p:sp>
              <p:nvSpPr>
                <p:cNvPr id="1156" name="Freeform 302"/>
                <p:cNvSpPr/>
                <p:nvPr/>
              </p:nvSpPr>
              <p:spPr>
                <a:xfrm rot="18480000">
                  <a:off x="3692880" y="1186560"/>
                  <a:ext cx="154800" cy="139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303"/>
                <p:cNvSpPr/>
                <p:nvPr/>
              </p:nvSpPr>
              <p:spPr>
                <a:xfrm flipH="1" rot="876600">
                  <a:off x="3732840" y="1130400"/>
                  <a:ext cx="100440" cy="2462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Group 304"/>
              <p:cNvGrpSpPr/>
              <p:nvPr/>
            </p:nvGrpSpPr>
            <p:grpSpPr>
              <a:xfrm>
                <a:off x="3758760" y="942120"/>
                <a:ext cx="230760" cy="245520"/>
                <a:chOff x="3758760" y="942120"/>
                <a:chExt cx="230760" cy="245520"/>
              </a:xfrm>
            </p:grpSpPr>
            <p:sp>
              <p:nvSpPr>
                <p:cNvPr id="1159" name="Freeform 305"/>
                <p:cNvSpPr/>
                <p:nvPr/>
              </p:nvSpPr>
              <p:spPr>
                <a:xfrm rot="16605000">
                  <a:off x="3804840" y="966240"/>
                  <a:ext cx="13284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306"/>
                <p:cNvSpPr/>
                <p:nvPr/>
              </p:nvSpPr>
              <p:spPr>
                <a:xfrm flipH="1" rot="20601600">
                  <a:off x="3810600" y="959400"/>
                  <a:ext cx="151920" cy="210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1" name="Group 307"/>
            <p:cNvGrpSpPr/>
            <p:nvPr/>
          </p:nvGrpSpPr>
          <p:grpSpPr>
            <a:xfrm>
              <a:off x="2651400" y="0"/>
              <a:ext cx="473760" cy="651960"/>
              <a:chOff x="2651400" y="0"/>
              <a:chExt cx="473760" cy="651960"/>
            </a:xfrm>
          </p:grpSpPr>
          <p:sp>
            <p:nvSpPr>
              <p:cNvPr id="1162" name="AutoShape 308"/>
              <p:cNvSpPr/>
              <p:nvPr/>
            </p:nvSpPr>
            <p:spPr>
              <a:xfrm>
                <a:off x="2905200" y="0"/>
                <a:ext cx="34560" cy="49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309"/>
              <p:cNvGrpSpPr/>
              <p:nvPr/>
            </p:nvGrpSpPr>
            <p:grpSpPr>
              <a:xfrm>
                <a:off x="2651400" y="99000"/>
                <a:ext cx="295200" cy="220680"/>
                <a:chOff x="2651400" y="99000"/>
                <a:chExt cx="295200" cy="220680"/>
              </a:xfrm>
            </p:grpSpPr>
            <p:sp>
              <p:nvSpPr>
                <p:cNvPr id="1164" name="Freeform 310"/>
                <p:cNvSpPr/>
                <p:nvPr/>
              </p:nvSpPr>
              <p:spPr>
                <a:xfrm rot="801000">
                  <a:off x="2703600" y="116280"/>
                  <a:ext cx="17352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311"/>
                <p:cNvSpPr/>
                <p:nvPr/>
              </p:nvSpPr>
              <p:spPr>
                <a:xfrm flipH="1" rot="4797600">
                  <a:off x="2732040" y="84960"/>
                  <a:ext cx="133560" cy="276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Group 312"/>
              <p:cNvGrpSpPr/>
              <p:nvPr/>
            </p:nvGrpSpPr>
            <p:grpSpPr>
              <a:xfrm>
                <a:off x="2796120" y="392400"/>
                <a:ext cx="226440" cy="259560"/>
                <a:chOff x="2796120" y="392400"/>
                <a:chExt cx="226440" cy="259560"/>
              </a:xfrm>
            </p:grpSpPr>
            <p:sp>
              <p:nvSpPr>
                <p:cNvPr id="1167" name="Freeform 313"/>
                <p:cNvSpPr/>
                <p:nvPr/>
              </p:nvSpPr>
              <p:spPr>
                <a:xfrm rot="19658400">
                  <a:off x="2821320" y="450000"/>
                  <a:ext cx="154080" cy="139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314"/>
                <p:cNvSpPr/>
                <p:nvPr/>
              </p:nvSpPr>
              <p:spPr>
                <a:xfrm flipH="1" rot="2055000">
                  <a:off x="2860920" y="399240"/>
                  <a:ext cx="100440" cy="245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Group 315"/>
              <p:cNvGrpSpPr/>
              <p:nvPr/>
            </p:nvGrpSpPr>
            <p:grpSpPr>
              <a:xfrm>
                <a:off x="2895120" y="219960"/>
                <a:ext cx="230040" cy="245880"/>
                <a:chOff x="2895120" y="219960"/>
                <a:chExt cx="230040" cy="245880"/>
              </a:xfrm>
            </p:grpSpPr>
            <p:sp>
              <p:nvSpPr>
                <p:cNvPr id="1170" name="Freeform 316"/>
                <p:cNvSpPr/>
                <p:nvPr/>
              </p:nvSpPr>
              <p:spPr>
                <a:xfrm rot="16605000">
                  <a:off x="2941200" y="245160"/>
                  <a:ext cx="132840" cy="210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317"/>
                <p:cNvSpPr/>
                <p:nvPr/>
              </p:nvSpPr>
              <p:spPr>
                <a:xfrm flipH="1" rot="20601600">
                  <a:off x="2946240" y="236880"/>
                  <a:ext cx="15156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2" name="Group 318"/>
            <p:cNvGrpSpPr/>
            <p:nvPr/>
          </p:nvGrpSpPr>
          <p:grpSpPr>
            <a:xfrm>
              <a:off x="2136600" y="-4320"/>
              <a:ext cx="336960" cy="260640"/>
              <a:chOff x="2136600" y="-4320"/>
              <a:chExt cx="336960" cy="260640"/>
            </a:xfrm>
          </p:grpSpPr>
          <p:sp>
            <p:nvSpPr>
              <p:cNvPr id="1173" name="Freeform 319"/>
              <p:cNvSpPr/>
              <p:nvPr/>
            </p:nvSpPr>
            <p:spPr>
              <a:xfrm rot="17679600">
                <a:off x="2231280" y="-25200"/>
                <a:ext cx="147600" cy="3031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320"/>
              <p:cNvSpPr/>
              <p:nvPr/>
            </p:nvSpPr>
            <p:spPr>
              <a:xfrm flipH="1" rot="75600">
                <a:off x="2218320" y="7560"/>
                <a:ext cx="217800" cy="235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321"/>
            <p:cNvGrpSpPr/>
            <p:nvPr/>
          </p:nvGrpSpPr>
          <p:grpSpPr>
            <a:xfrm>
              <a:off x="995400" y="0"/>
              <a:ext cx="474120" cy="1008720"/>
              <a:chOff x="995400" y="0"/>
              <a:chExt cx="474120" cy="1008720"/>
            </a:xfrm>
          </p:grpSpPr>
          <p:sp>
            <p:nvSpPr>
              <p:cNvPr id="1176" name="AutoShape 322"/>
              <p:cNvSpPr/>
              <p:nvPr/>
            </p:nvSpPr>
            <p:spPr>
              <a:xfrm flipH="1">
                <a:off x="1218960" y="0"/>
                <a:ext cx="51120" cy="81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7" name="Group 323"/>
              <p:cNvGrpSpPr/>
              <p:nvPr/>
            </p:nvGrpSpPr>
            <p:grpSpPr>
              <a:xfrm>
                <a:off x="1197000" y="186120"/>
                <a:ext cx="248040" cy="245520"/>
                <a:chOff x="1197000" y="186120"/>
                <a:chExt cx="248040" cy="245520"/>
              </a:xfrm>
            </p:grpSpPr>
            <p:sp>
              <p:nvSpPr>
                <p:cNvPr id="1178" name="Freeform 324"/>
                <p:cNvSpPr/>
                <p:nvPr/>
              </p:nvSpPr>
              <p:spPr>
                <a:xfrm rot="17293200">
                  <a:off x="1247400" y="207000"/>
                  <a:ext cx="146520" cy="212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25"/>
                <p:cNvSpPr/>
                <p:nvPr/>
              </p:nvSpPr>
              <p:spPr>
                <a:xfrm flipH="1" rot="21289800">
                  <a:off x="1260000" y="192240"/>
                  <a:ext cx="15300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0" name="Group 326"/>
              <p:cNvGrpSpPr/>
              <p:nvPr/>
            </p:nvGrpSpPr>
            <p:grpSpPr>
              <a:xfrm>
                <a:off x="995400" y="423360"/>
                <a:ext cx="295200" cy="220680"/>
                <a:chOff x="995400" y="423360"/>
                <a:chExt cx="295200" cy="220680"/>
              </a:xfrm>
            </p:grpSpPr>
            <p:sp>
              <p:nvSpPr>
                <p:cNvPr id="1181" name="Freeform 327"/>
                <p:cNvSpPr/>
                <p:nvPr/>
              </p:nvSpPr>
              <p:spPr>
                <a:xfrm rot="801000">
                  <a:off x="1047600" y="440640"/>
                  <a:ext cx="17352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28"/>
                <p:cNvSpPr/>
                <p:nvPr/>
              </p:nvSpPr>
              <p:spPr>
                <a:xfrm flipH="1" rot="4797600">
                  <a:off x="1076040" y="409320"/>
                  <a:ext cx="133560" cy="276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3" name="Group 329"/>
              <p:cNvGrpSpPr/>
              <p:nvPr/>
            </p:nvGrpSpPr>
            <p:grpSpPr>
              <a:xfrm>
                <a:off x="1173240" y="754200"/>
                <a:ext cx="180720" cy="254520"/>
                <a:chOff x="1173240" y="754200"/>
                <a:chExt cx="180720" cy="254520"/>
              </a:xfrm>
            </p:grpSpPr>
            <p:sp>
              <p:nvSpPr>
                <p:cNvPr id="1184" name="Freeform 330"/>
                <p:cNvSpPr/>
                <p:nvPr/>
              </p:nvSpPr>
              <p:spPr>
                <a:xfrm rot="17280000">
                  <a:off x="1185840" y="818280"/>
                  <a:ext cx="154800" cy="139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331"/>
                <p:cNvSpPr/>
                <p:nvPr/>
              </p:nvSpPr>
              <p:spPr>
                <a:xfrm flipH="1" rot="21276600">
                  <a:off x="1224720" y="758160"/>
                  <a:ext cx="100440" cy="2462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Group 332"/>
              <p:cNvGrpSpPr/>
              <p:nvPr/>
            </p:nvGrpSpPr>
            <p:grpSpPr>
              <a:xfrm>
                <a:off x="1239480" y="544680"/>
                <a:ext cx="230040" cy="245880"/>
                <a:chOff x="1239480" y="544680"/>
                <a:chExt cx="230040" cy="245880"/>
              </a:xfrm>
            </p:grpSpPr>
            <p:sp>
              <p:nvSpPr>
                <p:cNvPr id="1187" name="Freeform 333"/>
                <p:cNvSpPr/>
                <p:nvPr/>
              </p:nvSpPr>
              <p:spPr>
                <a:xfrm rot="16605000">
                  <a:off x="1285560" y="569880"/>
                  <a:ext cx="132840" cy="210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334"/>
                <p:cNvSpPr/>
                <p:nvPr/>
              </p:nvSpPr>
              <p:spPr>
                <a:xfrm flipH="1" rot="20601600">
                  <a:off x="1290600" y="561600"/>
                  <a:ext cx="15156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9" name="Rectangle 335"/>
            <p:cNvSpPr/>
            <p:nvPr/>
          </p:nvSpPr>
          <p:spPr>
            <a:xfrm>
              <a:off x="2627280" y="0"/>
              <a:ext cx="720720" cy="10890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Group 336"/>
            <p:cNvGrpSpPr/>
            <p:nvPr/>
          </p:nvGrpSpPr>
          <p:grpSpPr>
            <a:xfrm>
              <a:off x="460800" y="-32400"/>
              <a:ext cx="596880" cy="2916720"/>
              <a:chOff x="460800" y="-32400"/>
              <a:chExt cx="596880" cy="2916720"/>
            </a:xfrm>
          </p:grpSpPr>
          <p:grpSp>
            <p:nvGrpSpPr>
              <p:cNvPr id="1191" name="Group 337"/>
              <p:cNvGrpSpPr/>
              <p:nvPr/>
            </p:nvGrpSpPr>
            <p:grpSpPr>
              <a:xfrm>
                <a:off x="491400" y="-32400"/>
                <a:ext cx="307440" cy="302760"/>
                <a:chOff x="491400" y="-32400"/>
                <a:chExt cx="307440" cy="302760"/>
              </a:xfrm>
            </p:grpSpPr>
            <p:sp>
              <p:nvSpPr>
                <p:cNvPr id="1192" name="Freeform 338"/>
                <p:cNvSpPr/>
                <p:nvPr/>
              </p:nvSpPr>
              <p:spPr>
                <a:xfrm rot="1368000">
                  <a:off x="543600" y="-4680"/>
                  <a:ext cx="191880" cy="247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339"/>
                <p:cNvSpPr/>
                <p:nvPr/>
              </p:nvSpPr>
              <p:spPr>
                <a:xfrm flipH="1" rot="5364600">
                  <a:off x="556200" y="-14040"/>
                  <a:ext cx="177840" cy="305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AutoShape 340"/>
              <p:cNvSpPr/>
              <p:nvPr/>
            </p:nvSpPr>
            <p:spPr>
              <a:xfrm>
                <a:off x="771840" y="0"/>
                <a:ext cx="30600" cy="2723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5" name="Group 341"/>
              <p:cNvGrpSpPr/>
              <p:nvPr/>
            </p:nvGrpSpPr>
            <p:grpSpPr>
              <a:xfrm>
                <a:off x="690480" y="228240"/>
                <a:ext cx="355320" cy="268560"/>
                <a:chOff x="690480" y="228240"/>
                <a:chExt cx="355320" cy="268560"/>
              </a:xfrm>
            </p:grpSpPr>
            <p:sp>
              <p:nvSpPr>
                <p:cNvPr id="1196" name="Freeform 342"/>
                <p:cNvSpPr/>
                <p:nvPr/>
              </p:nvSpPr>
              <p:spPr>
                <a:xfrm rot="17679600">
                  <a:off x="794520" y="200520"/>
                  <a:ext cx="146880" cy="323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343"/>
                <p:cNvSpPr/>
                <p:nvPr/>
              </p:nvSpPr>
              <p:spPr>
                <a:xfrm flipH="1" rot="75600">
                  <a:off x="775080" y="245520"/>
                  <a:ext cx="232560" cy="234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Group 344"/>
              <p:cNvGrpSpPr/>
              <p:nvPr/>
            </p:nvGrpSpPr>
            <p:grpSpPr>
              <a:xfrm>
                <a:off x="550800" y="1361160"/>
                <a:ext cx="295200" cy="220320"/>
                <a:chOff x="550800" y="1361160"/>
                <a:chExt cx="295200" cy="220320"/>
              </a:xfrm>
            </p:grpSpPr>
            <p:sp>
              <p:nvSpPr>
                <p:cNvPr id="1199" name="Freeform 345"/>
                <p:cNvSpPr/>
                <p:nvPr/>
              </p:nvSpPr>
              <p:spPr>
                <a:xfrm rot="801000">
                  <a:off x="603360" y="1378440"/>
                  <a:ext cx="173880" cy="18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346"/>
                <p:cNvSpPr/>
                <p:nvPr/>
              </p:nvSpPr>
              <p:spPr>
                <a:xfrm flipH="1" rot="4797600">
                  <a:off x="631800" y="1346400"/>
                  <a:ext cx="132840" cy="276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Group 347"/>
              <p:cNvGrpSpPr/>
              <p:nvPr/>
            </p:nvGrpSpPr>
            <p:grpSpPr>
              <a:xfrm>
                <a:off x="492480" y="761760"/>
                <a:ext cx="307080" cy="266760"/>
                <a:chOff x="492480" y="761760"/>
                <a:chExt cx="307080" cy="266760"/>
              </a:xfrm>
            </p:grpSpPr>
            <p:sp>
              <p:nvSpPr>
                <p:cNvPr id="1202" name="Freeform 348"/>
                <p:cNvSpPr/>
                <p:nvPr/>
              </p:nvSpPr>
              <p:spPr>
                <a:xfrm rot="1368000">
                  <a:off x="543600" y="790560"/>
                  <a:ext cx="191880" cy="208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49"/>
                <p:cNvSpPr/>
                <p:nvPr/>
              </p:nvSpPr>
              <p:spPr>
                <a:xfrm flipH="1" rot="5364600">
                  <a:off x="570600" y="759600"/>
                  <a:ext cx="150120" cy="305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Group 350"/>
              <p:cNvGrpSpPr/>
              <p:nvPr/>
            </p:nvGrpSpPr>
            <p:grpSpPr>
              <a:xfrm>
                <a:off x="460800" y="334800"/>
                <a:ext cx="338400" cy="310320"/>
                <a:chOff x="460800" y="334800"/>
                <a:chExt cx="338400" cy="310320"/>
              </a:xfrm>
            </p:grpSpPr>
            <p:sp>
              <p:nvSpPr>
                <p:cNvPr id="1205" name="Freeform 351"/>
                <p:cNvSpPr/>
                <p:nvPr/>
              </p:nvSpPr>
              <p:spPr>
                <a:xfrm rot="1368000">
                  <a:off x="517680" y="365760"/>
                  <a:ext cx="211320" cy="247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2"/>
                <p:cNvSpPr/>
                <p:nvPr/>
              </p:nvSpPr>
              <p:spPr>
                <a:xfrm flipH="1" rot="5364600">
                  <a:off x="541080" y="342000"/>
                  <a:ext cx="177840" cy="336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7" name="Group 353"/>
              <p:cNvGrpSpPr/>
              <p:nvPr/>
            </p:nvGrpSpPr>
            <p:grpSpPr>
              <a:xfrm>
                <a:off x="690480" y="530280"/>
                <a:ext cx="355320" cy="268560"/>
                <a:chOff x="690480" y="530280"/>
                <a:chExt cx="355320" cy="268560"/>
              </a:xfrm>
            </p:grpSpPr>
            <p:sp>
              <p:nvSpPr>
                <p:cNvPr id="1208" name="Freeform 354"/>
                <p:cNvSpPr/>
                <p:nvPr/>
              </p:nvSpPr>
              <p:spPr>
                <a:xfrm rot="17679600">
                  <a:off x="794520" y="502560"/>
                  <a:ext cx="146880" cy="323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355"/>
                <p:cNvSpPr/>
                <p:nvPr/>
              </p:nvSpPr>
              <p:spPr>
                <a:xfrm flipH="1" rot="75600">
                  <a:off x="775080" y="547560"/>
                  <a:ext cx="232560" cy="234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356"/>
              <p:cNvGrpSpPr/>
              <p:nvPr/>
            </p:nvGrpSpPr>
            <p:grpSpPr>
              <a:xfrm>
                <a:off x="720360" y="1045800"/>
                <a:ext cx="337320" cy="260640"/>
                <a:chOff x="720360" y="1045800"/>
                <a:chExt cx="337320" cy="260640"/>
              </a:xfrm>
            </p:grpSpPr>
            <p:sp>
              <p:nvSpPr>
                <p:cNvPr id="1211" name="Freeform 357"/>
                <p:cNvSpPr/>
                <p:nvPr/>
              </p:nvSpPr>
              <p:spPr>
                <a:xfrm rot="17679600">
                  <a:off x="815040" y="1024200"/>
                  <a:ext cx="147240" cy="303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358"/>
                <p:cNvSpPr/>
                <p:nvPr/>
              </p:nvSpPr>
              <p:spPr>
                <a:xfrm flipH="1" rot="75600">
                  <a:off x="802080" y="1058760"/>
                  <a:ext cx="218160" cy="234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3" name="Group 359"/>
              <p:cNvGrpSpPr/>
              <p:nvPr/>
            </p:nvGrpSpPr>
            <p:grpSpPr>
              <a:xfrm>
                <a:off x="720000" y="1546560"/>
                <a:ext cx="254520" cy="237600"/>
                <a:chOff x="720000" y="1546560"/>
                <a:chExt cx="254520" cy="237600"/>
              </a:xfrm>
            </p:grpSpPr>
            <p:sp>
              <p:nvSpPr>
                <p:cNvPr id="1214" name="Freeform 360"/>
                <p:cNvSpPr/>
                <p:nvPr/>
              </p:nvSpPr>
              <p:spPr>
                <a:xfrm rot="17679600">
                  <a:off x="773280" y="1562400"/>
                  <a:ext cx="147240" cy="212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361"/>
                <p:cNvSpPr/>
                <p:nvPr/>
              </p:nvSpPr>
              <p:spPr>
                <a:xfrm flipH="1" rot="75600">
                  <a:off x="788040" y="1548000"/>
                  <a:ext cx="152640" cy="234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Group 362"/>
              <p:cNvGrpSpPr/>
              <p:nvPr/>
            </p:nvGrpSpPr>
            <p:grpSpPr>
              <a:xfrm>
                <a:off x="720720" y="2093760"/>
                <a:ext cx="247680" cy="246960"/>
                <a:chOff x="720720" y="2093760"/>
                <a:chExt cx="247680" cy="246960"/>
              </a:xfrm>
            </p:grpSpPr>
            <p:sp>
              <p:nvSpPr>
                <p:cNvPr id="1217" name="Freeform 363"/>
                <p:cNvSpPr/>
                <p:nvPr/>
              </p:nvSpPr>
              <p:spPr>
                <a:xfrm rot="17293200">
                  <a:off x="770760" y="2115720"/>
                  <a:ext cx="147240" cy="212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364"/>
                <p:cNvSpPr/>
                <p:nvPr/>
              </p:nvSpPr>
              <p:spPr>
                <a:xfrm flipH="1" rot="21289800">
                  <a:off x="784440" y="2099880"/>
                  <a:ext cx="152640" cy="234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9" name="Group 365"/>
              <p:cNvGrpSpPr/>
              <p:nvPr/>
            </p:nvGrpSpPr>
            <p:grpSpPr>
              <a:xfrm>
                <a:off x="517320" y="1819800"/>
                <a:ext cx="295200" cy="220320"/>
                <a:chOff x="517320" y="1819800"/>
                <a:chExt cx="295200" cy="220320"/>
              </a:xfrm>
            </p:grpSpPr>
            <p:sp>
              <p:nvSpPr>
                <p:cNvPr id="1220" name="Freeform 366"/>
                <p:cNvSpPr/>
                <p:nvPr/>
              </p:nvSpPr>
              <p:spPr>
                <a:xfrm rot="801000">
                  <a:off x="569880" y="1837080"/>
                  <a:ext cx="173880" cy="18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367"/>
                <p:cNvSpPr/>
                <p:nvPr/>
              </p:nvSpPr>
              <p:spPr>
                <a:xfrm flipH="1" rot="4797600">
                  <a:off x="598320" y="1805040"/>
                  <a:ext cx="132840" cy="276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Group 368"/>
              <p:cNvGrpSpPr/>
              <p:nvPr/>
            </p:nvGrpSpPr>
            <p:grpSpPr>
              <a:xfrm>
                <a:off x="517320" y="2331000"/>
                <a:ext cx="295200" cy="220320"/>
                <a:chOff x="517320" y="2331000"/>
                <a:chExt cx="295200" cy="220320"/>
              </a:xfrm>
            </p:grpSpPr>
            <p:sp>
              <p:nvSpPr>
                <p:cNvPr id="1223" name="Freeform 369"/>
                <p:cNvSpPr/>
                <p:nvPr/>
              </p:nvSpPr>
              <p:spPr>
                <a:xfrm rot="801000">
                  <a:off x="569880" y="2348280"/>
                  <a:ext cx="173880" cy="18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370"/>
                <p:cNvSpPr/>
                <p:nvPr/>
              </p:nvSpPr>
              <p:spPr>
                <a:xfrm flipH="1" rot="4797600">
                  <a:off x="598320" y="2316240"/>
                  <a:ext cx="132840" cy="276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5" name="Group 371"/>
              <p:cNvGrpSpPr/>
              <p:nvPr/>
            </p:nvGrpSpPr>
            <p:grpSpPr>
              <a:xfrm>
                <a:off x="661680" y="2624760"/>
                <a:ext cx="226800" cy="259560"/>
                <a:chOff x="661680" y="2624760"/>
                <a:chExt cx="226800" cy="259560"/>
              </a:xfrm>
            </p:grpSpPr>
            <p:sp>
              <p:nvSpPr>
                <p:cNvPr id="1226" name="Freeform 372"/>
                <p:cNvSpPr/>
                <p:nvPr/>
              </p:nvSpPr>
              <p:spPr>
                <a:xfrm rot="19658400">
                  <a:off x="686880" y="2682360"/>
                  <a:ext cx="154440" cy="139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373"/>
                <p:cNvSpPr/>
                <p:nvPr/>
              </p:nvSpPr>
              <p:spPr>
                <a:xfrm flipH="1" rot="2055000">
                  <a:off x="727920" y="2631240"/>
                  <a:ext cx="100080" cy="245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8" name="Group 374"/>
              <p:cNvGrpSpPr/>
              <p:nvPr/>
            </p:nvGrpSpPr>
            <p:grpSpPr>
              <a:xfrm>
                <a:off x="761040" y="2451240"/>
                <a:ext cx="228600" cy="245160"/>
                <a:chOff x="761040" y="2451240"/>
                <a:chExt cx="228600" cy="245160"/>
              </a:xfrm>
            </p:grpSpPr>
            <p:sp>
              <p:nvSpPr>
                <p:cNvPr id="1229" name="Freeform 375"/>
                <p:cNvSpPr/>
                <p:nvPr/>
              </p:nvSpPr>
              <p:spPr>
                <a:xfrm rot="16605000">
                  <a:off x="806760" y="2475720"/>
                  <a:ext cx="13248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376"/>
                <p:cNvSpPr/>
                <p:nvPr/>
              </p:nvSpPr>
              <p:spPr>
                <a:xfrm flipH="1" rot="20601600">
                  <a:off x="811440" y="2468160"/>
                  <a:ext cx="150840" cy="210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1" name="Rectangle 377"/>
            <p:cNvSpPr/>
            <p:nvPr/>
          </p:nvSpPr>
          <p:spPr>
            <a:xfrm>
              <a:off x="430200" y="0"/>
              <a:ext cx="612720" cy="3068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Group 378"/>
            <p:cNvGrpSpPr/>
            <p:nvPr/>
          </p:nvGrpSpPr>
          <p:grpSpPr>
            <a:xfrm>
              <a:off x="-12600" y="0"/>
              <a:ext cx="473760" cy="1385640"/>
              <a:chOff x="-12600" y="0"/>
              <a:chExt cx="473760" cy="1385640"/>
            </a:xfrm>
          </p:grpSpPr>
          <p:sp>
            <p:nvSpPr>
              <p:cNvPr id="1233" name="AutoShape 379"/>
              <p:cNvSpPr/>
              <p:nvPr/>
            </p:nvSpPr>
            <p:spPr>
              <a:xfrm>
                <a:off x="241200" y="0"/>
                <a:ext cx="3456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4" name="Group 380"/>
              <p:cNvGrpSpPr/>
              <p:nvPr/>
            </p:nvGrpSpPr>
            <p:grpSpPr>
              <a:xfrm>
                <a:off x="188640" y="583200"/>
                <a:ext cx="247680" cy="245880"/>
                <a:chOff x="188640" y="583200"/>
                <a:chExt cx="247680" cy="245880"/>
              </a:xfrm>
            </p:grpSpPr>
            <p:sp>
              <p:nvSpPr>
                <p:cNvPr id="1235" name="Freeform 381"/>
                <p:cNvSpPr/>
                <p:nvPr/>
              </p:nvSpPr>
              <p:spPr>
                <a:xfrm rot="17293200">
                  <a:off x="239040" y="604080"/>
                  <a:ext cx="146520" cy="212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382"/>
                <p:cNvSpPr/>
                <p:nvPr/>
              </p:nvSpPr>
              <p:spPr>
                <a:xfrm flipH="1" rot="21289800">
                  <a:off x="252000" y="589320"/>
                  <a:ext cx="152640" cy="233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Group 383"/>
              <p:cNvGrpSpPr/>
              <p:nvPr/>
            </p:nvGrpSpPr>
            <p:grpSpPr>
              <a:xfrm>
                <a:off x="-12600" y="308520"/>
                <a:ext cx="295200" cy="220680"/>
                <a:chOff x="-12600" y="308520"/>
                <a:chExt cx="295200" cy="220680"/>
              </a:xfrm>
            </p:grpSpPr>
            <p:sp>
              <p:nvSpPr>
                <p:cNvPr id="1238" name="Freeform 384"/>
                <p:cNvSpPr/>
                <p:nvPr/>
              </p:nvSpPr>
              <p:spPr>
                <a:xfrm rot="801000">
                  <a:off x="39600" y="325800"/>
                  <a:ext cx="17352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385"/>
                <p:cNvSpPr/>
                <p:nvPr/>
              </p:nvSpPr>
              <p:spPr>
                <a:xfrm flipH="1" rot="4797600">
                  <a:off x="68040" y="294480"/>
                  <a:ext cx="133560" cy="276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0" name="Group 386"/>
              <p:cNvGrpSpPr/>
              <p:nvPr/>
            </p:nvGrpSpPr>
            <p:grpSpPr>
              <a:xfrm>
                <a:off x="-12600" y="820440"/>
                <a:ext cx="295200" cy="220680"/>
                <a:chOff x="-12600" y="820440"/>
                <a:chExt cx="295200" cy="220680"/>
              </a:xfrm>
            </p:grpSpPr>
            <p:sp>
              <p:nvSpPr>
                <p:cNvPr id="1241" name="Freeform 387"/>
                <p:cNvSpPr/>
                <p:nvPr/>
              </p:nvSpPr>
              <p:spPr>
                <a:xfrm rot="801000">
                  <a:off x="39600" y="837720"/>
                  <a:ext cx="17352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388"/>
                <p:cNvSpPr/>
                <p:nvPr/>
              </p:nvSpPr>
              <p:spPr>
                <a:xfrm flipH="1" rot="4797600">
                  <a:off x="68040" y="806400"/>
                  <a:ext cx="133560" cy="2761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3" name="Group 389"/>
              <p:cNvGrpSpPr/>
              <p:nvPr/>
            </p:nvGrpSpPr>
            <p:grpSpPr>
              <a:xfrm>
                <a:off x="140040" y="1122120"/>
                <a:ext cx="205200" cy="263520"/>
                <a:chOff x="140040" y="1122120"/>
                <a:chExt cx="205200" cy="263520"/>
              </a:xfrm>
            </p:grpSpPr>
            <p:sp>
              <p:nvSpPr>
                <p:cNvPr id="1244" name="Freeform 390"/>
                <p:cNvSpPr/>
                <p:nvPr/>
              </p:nvSpPr>
              <p:spPr>
                <a:xfrm rot="18480000">
                  <a:off x="164880" y="1186560"/>
                  <a:ext cx="154800" cy="139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391"/>
                <p:cNvSpPr/>
                <p:nvPr/>
              </p:nvSpPr>
              <p:spPr>
                <a:xfrm flipH="1" rot="876600">
                  <a:off x="205920" y="1130400"/>
                  <a:ext cx="100080" cy="2462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Group 392"/>
              <p:cNvGrpSpPr/>
              <p:nvPr/>
            </p:nvGrpSpPr>
            <p:grpSpPr>
              <a:xfrm>
                <a:off x="231120" y="941400"/>
                <a:ext cx="230040" cy="245880"/>
                <a:chOff x="231120" y="941400"/>
                <a:chExt cx="230040" cy="245880"/>
              </a:xfrm>
            </p:grpSpPr>
            <p:sp>
              <p:nvSpPr>
                <p:cNvPr id="1247" name="Freeform 393"/>
                <p:cNvSpPr/>
                <p:nvPr/>
              </p:nvSpPr>
              <p:spPr>
                <a:xfrm rot="16605000">
                  <a:off x="277200" y="966600"/>
                  <a:ext cx="132840" cy="210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394"/>
                <p:cNvSpPr/>
                <p:nvPr/>
              </p:nvSpPr>
              <p:spPr>
                <a:xfrm flipH="1" rot="20601600">
                  <a:off x="282240" y="958320"/>
                  <a:ext cx="15156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9" name="Freeform 395"/>
            <p:cNvSpPr/>
            <p:nvPr/>
          </p:nvSpPr>
          <p:spPr>
            <a:xfrm flipH="1">
              <a:off x="-37080" y="7920"/>
              <a:ext cx="757080" cy="1368360"/>
            </a:xfrm>
            <a:custGeom>
              <a:avLst/>
              <a:gdLst/>
              <a:ahLst/>
              <a:rect l="l" t="t" r="r" b="b"/>
              <a:pathLst>
                <a:path w="408" h="1792">
                  <a:moveTo>
                    <a:pt x="0" y="0"/>
                  </a:moveTo>
                  <a:cubicBezTo>
                    <a:pt x="11" y="190"/>
                    <a:pt x="22" y="381"/>
                    <a:pt x="45" y="612"/>
                  </a:cubicBezTo>
                  <a:cubicBezTo>
                    <a:pt x="68" y="843"/>
                    <a:pt x="75" y="1187"/>
                    <a:pt x="136" y="1384"/>
                  </a:cubicBezTo>
                  <a:cubicBezTo>
                    <a:pt x="197" y="1581"/>
                    <a:pt x="340" y="1694"/>
                    <a:pt x="408" y="1792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96"/>
            <p:cNvSpPr/>
            <p:nvPr/>
          </p:nvSpPr>
          <p:spPr>
            <a:xfrm>
              <a:off x="863640" y="7920"/>
              <a:ext cx="569880" cy="2058840"/>
            </a:xfrm>
            <a:custGeom>
              <a:avLst/>
              <a:gdLst/>
              <a:ahLst/>
              <a:rect l="l" t="t" r="r" b="b"/>
              <a:pathLst>
                <a:path w="359" h="1297">
                  <a:moveTo>
                    <a:pt x="0" y="0"/>
                  </a:moveTo>
                  <a:cubicBezTo>
                    <a:pt x="21" y="112"/>
                    <a:pt x="42" y="224"/>
                    <a:pt x="68" y="341"/>
                  </a:cubicBezTo>
                  <a:cubicBezTo>
                    <a:pt x="94" y="458"/>
                    <a:pt x="114" y="595"/>
                    <a:pt x="159" y="704"/>
                  </a:cubicBezTo>
                  <a:cubicBezTo>
                    <a:pt x="204" y="813"/>
                    <a:pt x="321" y="907"/>
                    <a:pt x="340" y="998"/>
                  </a:cubicBezTo>
                  <a:cubicBezTo>
                    <a:pt x="359" y="1089"/>
                    <a:pt x="310" y="1199"/>
                    <a:pt x="272" y="1248"/>
                  </a:cubicBezTo>
                  <a:cubicBezTo>
                    <a:pt x="234" y="1297"/>
                    <a:pt x="151" y="1297"/>
                    <a:pt x="113" y="1293"/>
                  </a:cubicBezTo>
                  <a:cubicBezTo>
                    <a:pt x="75" y="1289"/>
                    <a:pt x="56" y="1255"/>
                    <a:pt x="45" y="1225"/>
                  </a:cubicBezTo>
                  <a:cubicBezTo>
                    <a:pt x="34" y="1195"/>
                    <a:pt x="34" y="1142"/>
                    <a:pt x="45" y="1112"/>
                  </a:cubicBezTo>
                  <a:cubicBezTo>
                    <a:pt x="56" y="1082"/>
                    <a:pt x="83" y="1055"/>
                    <a:pt x="113" y="1044"/>
                  </a:cubicBezTo>
                  <a:cubicBezTo>
                    <a:pt x="143" y="1033"/>
                    <a:pt x="201" y="1029"/>
                    <a:pt x="227" y="1044"/>
                  </a:cubicBezTo>
                  <a:cubicBezTo>
                    <a:pt x="253" y="1059"/>
                    <a:pt x="268" y="1104"/>
                    <a:pt x="272" y="1134"/>
                  </a:cubicBezTo>
                  <a:cubicBezTo>
                    <a:pt x="276" y="1164"/>
                    <a:pt x="268" y="1206"/>
                    <a:pt x="249" y="1225"/>
                  </a:cubicBezTo>
                  <a:cubicBezTo>
                    <a:pt x="230" y="1244"/>
                    <a:pt x="185" y="1252"/>
                    <a:pt x="159" y="1248"/>
                  </a:cubicBezTo>
                  <a:cubicBezTo>
                    <a:pt x="133" y="1244"/>
                    <a:pt x="102" y="1221"/>
                    <a:pt x="91" y="1202"/>
                  </a:cubicBezTo>
                  <a:cubicBezTo>
                    <a:pt x="80" y="1183"/>
                    <a:pt x="84" y="1153"/>
                    <a:pt x="91" y="1134"/>
                  </a:cubicBezTo>
                  <a:cubicBezTo>
                    <a:pt x="98" y="1115"/>
                    <a:pt x="117" y="1097"/>
                    <a:pt x="136" y="1089"/>
                  </a:cubicBezTo>
                  <a:cubicBezTo>
                    <a:pt x="155" y="1081"/>
                    <a:pt x="189" y="1078"/>
                    <a:pt x="204" y="1089"/>
                  </a:cubicBezTo>
                  <a:cubicBezTo>
                    <a:pt x="219" y="1100"/>
                    <a:pt x="231" y="1138"/>
                    <a:pt x="227" y="1157"/>
                  </a:cubicBezTo>
                  <a:cubicBezTo>
                    <a:pt x="223" y="1176"/>
                    <a:pt x="196" y="1195"/>
                    <a:pt x="181" y="1202"/>
                  </a:cubicBezTo>
                  <a:cubicBezTo>
                    <a:pt x="166" y="1209"/>
                    <a:pt x="147" y="1209"/>
                    <a:pt x="136" y="1202"/>
                  </a:cubicBezTo>
                </a:path>
              </a:pathLst>
            </a:custGeom>
            <a:noFill/>
            <a:ln w="158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98"/>
            <p:cNvSpPr/>
            <p:nvPr/>
          </p:nvSpPr>
          <p:spPr>
            <a:xfrm>
              <a:off x="1547640" y="7920"/>
              <a:ext cx="360360" cy="541440"/>
            </a:xfrm>
            <a:custGeom>
              <a:avLst/>
              <a:gdLst/>
              <a:ahLst/>
              <a:rect l="l" t="t" r="r" b="b"/>
              <a:pathLst>
                <a:path w="344" h="507">
                  <a:moveTo>
                    <a:pt x="45" y="0"/>
                  </a:moveTo>
                  <a:cubicBezTo>
                    <a:pt x="37" y="44"/>
                    <a:pt x="30" y="88"/>
                    <a:pt x="23" y="137"/>
                  </a:cubicBezTo>
                  <a:cubicBezTo>
                    <a:pt x="16" y="186"/>
                    <a:pt x="0" y="246"/>
                    <a:pt x="0" y="295"/>
                  </a:cubicBezTo>
                  <a:cubicBezTo>
                    <a:pt x="0" y="344"/>
                    <a:pt x="4" y="397"/>
                    <a:pt x="23" y="431"/>
                  </a:cubicBezTo>
                  <a:cubicBezTo>
                    <a:pt x="42" y="465"/>
                    <a:pt x="72" y="491"/>
                    <a:pt x="113" y="499"/>
                  </a:cubicBezTo>
                  <a:cubicBezTo>
                    <a:pt x="154" y="507"/>
                    <a:pt x="234" y="503"/>
                    <a:pt x="272" y="477"/>
                  </a:cubicBezTo>
                  <a:cubicBezTo>
                    <a:pt x="310" y="451"/>
                    <a:pt x="336" y="386"/>
                    <a:pt x="340" y="341"/>
                  </a:cubicBezTo>
                  <a:cubicBezTo>
                    <a:pt x="344" y="296"/>
                    <a:pt x="329" y="235"/>
                    <a:pt x="295" y="205"/>
                  </a:cubicBezTo>
                  <a:cubicBezTo>
                    <a:pt x="261" y="175"/>
                    <a:pt x="174" y="152"/>
                    <a:pt x="136" y="159"/>
                  </a:cubicBezTo>
                  <a:cubicBezTo>
                    <a:pt x="98" y="166"/>
                    <a:pt x="79" y="223"/>
                    <a:pt x="68" y="250"/>
                  </a:cubicBezTo>
                  <a:cubicBezTo>
                    <a:pt x="57" y="277"/>
                    <a:pt x="64" y="292"/>
                    <a:pt x="68" y="318"/>
                  </a:cubicBezTo>
                  <a:cubicBezTo>
                    <a:pt x="72" y="344"/>
                    <a:pt x="76" y="390"/>
                    <a:pt x="91" y="409"/>
                  </a:cubicBezTo>
                  <a:cubicBezTo>
                    <a:pt x="106" y="428"/>
                    <a:pt x="136" y="427"/>
                    <a:pt x="159" y="431"/>
                  </a:cubicBezTo>
                  <a:cubicBezTo>
                    <a:pt x="182" y="435"/>
                    <a:pt x="204" y="454"/>
                    <a:pt x="227" y="431"/>
                  </a:cubicBezTo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99"/>
            <p:cNvSpPr/>
            <p:nvPr/>
          </p:nvSpPr>
          <p:spPr>
            <a:xfrm>
              <a:off x="2400480" y="7920"/>
              <a:ext cx="226800" cy="1441440"/>
            </a:xfrm>
            <a:custGeom>
              <a:avLst/>
              <a:gdLst/>
              <a:ahLst/>
              <a:rect l="l" t="t" r="r" b="b"/>
              <a:pathLst>
                <a:path w="143" h="908">
                  <a:moveTo>
                    <a:pt x="53" y="0"/>
                  </a:moveTo>
                  <a:cubicBezTo>
                    <a:pt x="79" y="13"/>
                    <a:pt x="106" y="27"/>
                    <a:pt x="98" y="114"/>
                  </a:cubicBezTo>
                  <a:cubicBezTo>
                    <a:pt x="90" y="201"/>
                    <a:pt x="14" y="409"/>
                    <a:pt x="7" y="522"/>
                  </a:cubicBezTo>
                  <a:cubicBezTo>
                    <a:pt x="0" y="635"/>
                    <a:pt x="30" y="730"/>
                    <a:pt x="53" y="794"/>
                  </a:cubicBezTo>
                  <a:cubicBezTo>
                    <a:pt x="76" y="858"/>
                    <a:pt x="109" y="883"/>
                    <a:pt x="143" y="908"/>
                  </a:cubicBezTo>
                </a:path>
              </a:pathLst>
            </a:custGeom>
            <a:noFill/>
            <a:ln w="158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00"/>
            <p:cNvSpPr/>
            <p:nvPr/>
          </p:nvSpPr>
          <p:spPr>
            <a:xfrm>
              <a:off x="3324240" y="7920"/>
              <a:ext cx="612720" cy="787320"/>
            </a:xfrm>
            <a:custGeom>
              <a:avLst/>
              <a:gdLst/>
              <a:ahLst/>
              <a:rect l="l" t="t" r="r" b="b"/>
              <a:pathLst>
                <a:path w="386" h="496">
                  <a:moveTo>
                    <a:pt x="15" y="0"/>
                  </a:moveTo>
                  <a:cubicBezTo>
                    <a:pt x="7" y="98"/>
                    <a:pt x="0" y="197"/>
                    <a:pt x="15" y="273"/>
                  </a:cubicBezTo>
                  <a:cubicBezTo>
                    <a:pt x="30" y="349"/>
                    <a:pt x="65" y="420"/>
                    <a:pt x="106" y="454"/>
                  </a:cubicBezTo>
                  <a:cubicBezTo>
                    <a:pt x="147" y="488"/>
                    <a:pt x="219" y="496"/>
                    <a:pt x="264" y="477"/>
                  </a:cubicBezTo>
                  <a:cubicBezTo>
                    <a:pt x="309" y="458"/>
                    <a:pt x="370" y="390"/>
                    <a:pt x="378" y="341"/>
                  </a:cubicBezTo>
                  <a:cubicBezTo>
                    <a:pt x="386" y="292"/>
                    <a:pt x="344" y="208"/>
                    <a:pt x="310" y="182"/>
                  </a:cubicBezTo>
                  <a:cubicBezTo>
                    <a:pt x="276" y="156"/>
                    <a:pt x="204" y="163"/>
                    <a:pt x="174" y="182"/>
                  </a:cubicBezTo>
                  <a:cubicBezTo>
                    <a:pt x="144" y="201"/>
                    <a:pt x="124" y="261"/>
                    <a:pt x="128" y="295"/>
                  </a:cubicBezTo>
                  <a:cubicBezTo>
                    <a:pt x="132" y="329"/>
                    <a:pt x="166" y="375"/>
                    <a:pt x="196" y="386"/>
                  </a:cubicBezTo>
                  <a:cubicBezTo>
                    <a:pt x="226" y="397"/>
                    <a:pt x="291" y="389"/>
                    <a:pt x="310" y="363"/>
                  </a:cubicBezTo>
                  <a:cubicBezTo>
                    <a:pt x="329" y="337"/>
                    <a:pt x="352" y="268"/>
                    <a:pt x="310" y="227"/>
                  </a:cubicBezTo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617"/>
            <p:cNvSpPr/>
            <p:nvPr/>
          </p:nvSpPr>
          <p:spPr>
            <a:xfrm>
              <a:off x="0" y="0"/>
              <a:ext cx="3203640" cy="29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Group 401"/>
            <p:cNvGrpSpPr/>
            <p:nvPr/>
          </p:nvGrpSpPr>
          <p:grpSpPr>
            <a:xfrm>
              <a:off x="395280" y="225360"/>
              <a:ext cx="1044360" cy="4823640"/>
              <a:chOff x="395280" y="225360"/>
              <a:chExt cx="1044360" cy="4823640"/>
            </a:xfrm>
          </p:grpSpPr>
          <p:sp>
            <p:nvSpPr>
              <p:cNvPr id="1256" name="Oval 402"/>
              <p:cNvSpPr/>
              <p:nvPr/>
            </p:nvSpPr>
            <p:spPr>
              <a:xfrm>
                <a:off x="395280" y="225360"/>
                <a:ext cx="1044360" cy="104436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58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Oval 403"/>
              <p:cNvSpPr/>
              <p:nvPr/>
            </p:nvSpPr>
            <p:spPr>
              <a:xfrm>
                <a:off x="426960" y="291960"/>
                <a:ext cx="984240" cy="89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Oval 404"/>
              <p:cNvSpPr/>
              <p:nvPr/>
            </p:nvSpPr>
            <p:spPr>
              <a:xfrm>
                <a:off x="484200" y="363240"/>
                <a:ext cx="865080" cy="788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AutoShape 405"/>
              <p:cNvSpPr/>
              <p:nvPr/>
            </p:nvSpPr>
            <p:spPr>
              <a:xfrm rot="720000">
                <a:off x="674640" y="477360"/>
                <a:ext cx="488880" cy="480600"/>
              </a:xfrm>
              <a:custGeom>
                <a:avLst/>
                <a:gdLst/>
                <a:ahLst/>
                <a:rect l="l" t="t" r="r" b="b"/>
                <a:pathLst>
                  <a:path w="308" h="303">
                    <a:moveTo>
                      <a:pt x="0" y="115"/>
                    </a:moveTo>
                    <a:lnTo>
                      <a:pt x="117" y="115"/>
                    </a:lnTo>
                    <a:lnTo>
                      <a:pt x="154" y="0"/>
                    </a:lnTo>
                    <a:lnTo>
                      <a:pt x="190" y="115"/>
                    </a:lnTo>
                    <a:lnTo>
                      <a:pt x="307" y="115"/>
                    </a:lnTo>
                    <a:lnTo>
                      <a:pt x="212" y="187"/>
                    </a:lnTo>
                    <a:lnTo>
                      <a:pt x="249" y="302"/>
                    </a:lnTo>
                    <a:lnTo>
                      <a:pt x="154" y="231"/>
                    </a:lnTo>
                    <a:lnTo>
                      <a:pt x="58" y="302"/>
                    </a:lnTo>
                    <a:lnTo>
                      <a:pt x="95" y="1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/>
                  </a:gs>
                  <a:gs pos="100000">
                    <a:srgbClr val="2cb0d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Group 406"/>
              <p:cNvGrpSpPr/>
              <p:nvPr/>
            </p:nvGrpSpPr>
            <p:grpSpPr>
              <a:xfrm>
                <a:off x="503280" y="1269720"/>
                <a:ext cx="790560" cy="3779280"/>
                <a:chOff x="503280" y="1269720"/>
                <a:chExt cx="790560" cy="3779280"/>
              </a:xfrm>
            </p:grpSpPr>
            <p:sp>
              <p:nvSpPr>
                <p:cNvPr id="1261" name="Oval 407"/>
                <p:cNvSpPr/>
                <p:nvPr/>
              </p:nvSpPr>
              <p:spPr>
                <a:xfrm>
                  <a:off x="503280" y="4796640"/>
                  <a:ext cx="790560" cy="25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08"/>
                <p:cNvSpPr/>
                <p:nvPr/>
              </p:nvSpPr>
              <p:spPr>
                <a:xfrm>
                  <a:off x="684000" y="1269720"/>
                  <a:ext cx="216000" cy="3347640"/>
                </a:xfrm>
                <a:custGeom>
                  <a:avLst/>
                  <a:gdLst/>
                  <a:ahLst/>
                  <a:rect l="l" t="t" r="r" b="b"/>
                  <a:pathLst>
                    <a:path w="151" h="2291">
                      <a:moveTo>
                        <a:pt x="105" y="0"/>
                      </a:moveTo>
                      <a:cubicBezTo>
                        <a:pt x="90" y="70"/>
                        <a:pt x="75" y="140"/>
                        <a:pt x="60" y="295"/>
                      </a:cubicBezTo>
                      <a:cubicBezTo>
                        <a:pt x="45" y="450"/>
                        <a:pt x="0" y="597"/>
                        <a:pt x="15" y="930"/>
                      </a:cubicBezTo>
                      <a:cubicBezTo>
                        <a:pt x="30" y="1263"/>
                        <a:pt x="121" y="2068"/>
                        <a:pt x="151" y="2291"/>
                      </a:cubicBezTo>
                    </a:path>
                  </a:pathLst>
                </a:custGeom>
                <a:noFill/>
                <a:ln w="698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409"/>
                <p:cNvSpPr/>
                <p:nvPr/>
              </p:nvSpPr>
              <p:spPr>
                <a:xfrm>
                  <a:off x="755640" y="148536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410"/>
                <p:cNvSpPr/>
                <p:nvPr/>
              </p:nvSpPr>
              <p:spPr>
                <a:xfrm>
                  <a:off x="718920" y="170136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411"/>
                <p:cNvSpPr/>
                <p:nvPr/>
              </p:nvSpPr>
              <p:spPr>
                <a:xfrm>
                  <a:off x="706320" y="191700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412"/>
                <p:cNvSpPr/>
                <p:nvPr/>
              </p:nvSpPr>
              <p:spPr>
                <a:xfrm>
                  <a:off x="669960" y="216936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413"/>
                <p:cNvSpPr/>
                <p:nvPr/>
              </p:nvSpPr>
              <p:spPr>
                <a:xfrm>
                  <a:off x="669960" y="242208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414"/>
                <p:cNvSpPr/>
                <p:nvPr/>
              </p:nvSpPr>
              <p:spPr>
                <a:xfrm>
                  <a:off x="669960" y="267264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415"/>
                <p:cNvSpPr/>
                <p:nvPr/>
              </p:nvSpPr>
              <p:spPr>
                <a:xfrm>
                  <a:off x="684000" y="292500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416"/>
                <p:cNvSpPr/>
                <p:nvPr/>
              </p:nvSpPr>
              <p:spPr>
                <a:xfrm>
                  <a:off x="706320" y="317772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417"/>
                <p:cNvSpPr/>
                <p:nvPr/>
              </p:nvSpPr>
              <p:spPr>
                <a:xfrm>
                  <a:off x="718920" y="343008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418"/>
                <p:cNvSpPr/>
                <p:nvPr/>
              </p:nvSpPr>
              <p:spPr>
                <a:xfrm>
                  <a:off x="755640" y="368064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419"/>
                <p:cNvSpPr/>
                <p:nvPr/>
              </p:nvSpPr>
              <p:spPr>
                <a:xfrm>
                  <a:off x="777600" y="3933360"/>
                  <a:ext cx="8604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420"/>
                <p:cNvSpPr/>
                <p:nvPr/>
              </p:nvSpPr>
              <p:spPr>
                <a:xfrm>
                  <a:off x="814320" y="418572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421"/>
                <p:cNvSpPr/>
                <p:nvPr/>
              </p:nvSpPr>
              <p:spPr>
                <a:xfrm>
                  <a:off x="826920" y="4438080"/>
                  <a:ext cx="85680" cy="0"/>
                </a:xfrm>
                <a:prstGeom prst="line">
                  <a:avLst/>
                </a:prstGeom>
                <a:ln w="10152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Group 422"/>
                <p:cNvGrpSpPr/>
                <p:nvPr/>
              </p:nvGrpSpPr>
              <p:grpSpPr>
                <a:xfrm>
                  <a:off x="755640" y="4581000"/>
                  <a:ext cx="286920" cy="322920"/>
                  <a:chOff x="755640" y="4581000"/>
                  <a:chExt cx="286920" cy="322920"/>
                </a:xfrm>
              </p:grpSpPr>
              <p:sp>
                <p:nvSpPr>
                  <p:cNvPr id="1277" name="Freeform 423"/>
                  <p:cNvSpPr/>
                  <p:nvPr/>
                </p:nvSpPr>
                <p:spPr>
                  <a:xfrm>
                    <a:off x="755640" y="4581000"/>
                    <a:ext cx="28692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485">
                        <a:moveTo>
                          <a:pt x="250" y="9"/>
                        </a:moveTo>
                        <a:lnTo>
                          <a:pt x="545" y="0"/>
                        </a:lnTo>
                        <a:lnTo>
                          <a:pt x="839" y="485"/>
                        </a:lnTo>
                        <a:lnTo>
                          <a:pt x="0" y="485"/>
                        </a:lnTo>
                        <a:lnTo>
                          <a:pt x="250" y="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343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Rectangle 424"/>
                  <p:cNvSpPr/>
                  <p:nvPr/>
                </p:nvSpPr>
                <p:spPr>
                  <a:xfrm>
                    <a:off x="755640" y="4743360"/>
                    <a:ext cx="286920" cy="160560"/>
                  </a:xfrm>
                  <a:prstGeom prst="rect">
                    <a:avLst/>
                  </a:prstGeom>
                  <a:solidFill>
                    <a:srgbClr val="2929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79" name="Group 425"/>
            <p:cNvGrpSpPr/>
            <p:nvPr/>
          </p:nvGrpSpPr>
          <p:grpSpPr>
            <a:xfrm>
              <a:off x="1332000" y="944640"/>
              <a:ext cx="1280160" cy="4667040"/>
              <a:chOff x="1332000" y="944640"/>
              <a:chExt cx="1280160" cy="4667040"/>
            </a:xfrm>
          </p:grpSpPr>
          <p:sp>
            <p:nvSpPr>
              <p:cNvPr id="1280" name="AutoShape 426"/>
              <p:cNvSpPr/>
              <p:nvPr/>
            </p:nvSpPr>
            <p:spPr>
              <a:xfrm>
                <a:off x="1511280" y="5108400"/>
                <a:ext cx="865080" cy="50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Oval 427"/>
              <p:cNvSpPr/>
              <p:nvPr/>
            </p:nvSpPr>
            <p:spPr>
              <a:xfrm>
                <a:off x="1727280" y="5178600"/>
                <a:ext cx="4316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428"/>
              <p:cNvSpPr/>
              <p:nvPr/>
            </p:nvSpPr>
            <p:spPr>
              <a:xfrm flipH="1" rot="7565400">
                <a:off x="1785600" y="5170320"/>
                <a:ext cx="11088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429"/>
              <p:cNvSpPr/>
              <p:nvPr/>
            </p:nvSpPr>
            <p:spPr>
              <a:xfrm>
                <a:off x="1712880" y="4854600"/>
                <a:ext cx="119160" cy="396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Oval 430"/>
              <p:cNvSpPr/>
              <p:nvPr/>
            </p:nvSpPr>
            <p:spPr>
              <a:xfrm>
                <a:off x="1698480" y="5192640"/>
                <a:ext cx="101880" cy="1080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AutoShape 431"/>
              <p:cNvSpPr/>
              <p:nvPr/>
            </p:nvSpPr>
            <p:spPr>
              <a:xfrm rot="14034600">
                <a:off x="2001960" y="5170320"/>
                <a:ext cx="11088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AutoShape 432"/>
              <p:cNvSpPr/>
              <p:nvPr/>
            </p:nvSpPr>
            <p:spPr>
              <a:xfrm flipH="1">
                <a:off x="2055960" y="4848120"/>
                <a:ext cx="131760" cy="397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Oval 433"/>
              <p:cNvSpPr/>
              <p:nvPr/>
            </p:nvSpPr>
            <p:spPr>
              <a:xfrm flipH="1">
                <a:off x="2087640" y="5157720"/>
                <a:ext cx="101520" cy="1080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Oval 434"/>
              <p:cNvSpPr/>
              <p:nvPr/>
            </p:nvSpPr>
            <p:spPr>
              <a:xfrm>
                <a:off x="1871640" y="5300640"/>
                <a:ext cx="144360" cy="109440"/>
              </a:xfrm>
              <a:prstGeom prst="ellipse">
                <a:avLst/>
              </a:prstGeom>
              <a:gradFill rotWithShape="0">
                <a:gsLst>
                  <a:gs pos="0">
                    <a:srgbClr val="ffe4c9"/>
                  </a:gs>
                  <a:gs pos="100000">
                    <a:srgbClr val="ffe4c9">
                      <a:alpha val="85098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Oval 435"/>
              <p:cNvSpPr/>
              <p:nvPr/>
            </p:nvSpPr>
            <p:spPr>
              <a:xfrm>
                <a:off x="1835280" y="5337000"/>
                <a:ext cx="144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436"/>
              <p:cNvGrpSpPr/>
              <p:nvPr/>
            </p:nvGrpSpPr>
            <p:grpSpPr>
              <a:xfrm>
                <a:off x="1332000" y="944640"/>
                <a:ext cx="1280160" cy="3976560"/>
                <a:chOff x="1332000" y="944640"/>
                <a:chExt cx="1280160" cy="3976560"/>
              </a:xfrm>
            </p:grpSpPr>
            <p:grpSp>
              <p:nvGrpSpPr>
                <p:cNvPr id="1291" name="Group 437"/>
                <p:cNvGrpSpPr/>
                <p:nvPr/>
              </p:nvGrpSpPr>
              <p:grpSpPr>
                <a:xfrm>
                  <a:off x="1332000" y="944640"/>
                  <a:ext cx="1280160" cy="3976560"/>
                  <a:chOff x="1332000" y="944640"/>
                  <a:chExt cx="1280160" cy="3976560"/>
                </a:xfrm>
              </p:grpSpPr>
              <p:sp>
                <p:nvSpPr>
                  <p:cNvPr id="1292" name="Oval 438"/>
                  <p:cNvSpPr/>
                  <p:nvPr/>
                </p:nvSpPr>
                <p:spPr>
                  <a:xfrm>
                    <a:off x="1380960" y="1217520"/>
                    <a:ext cx="1067040" cy="397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AutoShape 439"/>
                  <p:cNvSpPr/>
                  <p:nvPr/>
                </p:nvSpPr>
                <p:spPr>
                  <a:xfrm>
                    <a:off x="1547640" y="1278000"/>
                    <a:ext cx="703440" cy="15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065" y="21600"/>
                        </a:lnTo>
                        <a:lnTo>
                          <a:pt x="1953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2125"/>
                      </a:gs>
                      <a:gs pos="50000">
                        <a:srgbClr val="000000"/>
                      </a:gs>
                      <a:gs pos="100000">
                        <a:srgbClr val="33212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Freeform 440"/>
                  <p:cNvSpPr/>
                  <p:nvPr/>
                </p:nvSpPr>
                <p:spPr>
                  <a:xfrm>
                    <a:off x="1332000" y="2421000"/>
                    <a:ext cx="1197000" cy="25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1505">
                        <a:moveTo>
                          <a:pt x="265" y="117"/>
                        </a:moveTo>
                        <a:cubicBezTo>
                          <a:pt x="314" y="75"/>
                          <a:pt x="416" y="140"/>
                          <a:pt x="491" y="140"/>
                        </a:cubicBezTo>
                        <a:cubicBezTo>
                          <a:pt x="566" y="140"/>
                          <a:pt x="673" y="117"/>
                          <a:pt x="718" y="117"/>
                        </a:cubicBezTo>
                        <a:cubicBezTo>
                          <a:pt x="763" y="117"/>
                          <a:pt x="726" y="0"/>
                          <a:pt x="764" y="140"/>
                        </a:cubicBezTo>
                        <a:cubicBezTo>
                          <a:pt x="802" y="280"/>
                          <a:pt x="907" y="772"/>
                          <a:pt x="945" y="957"/>
                        </a:cubicBezTo>
                        <a:cubicBezTo>
                          <a:pt x="983" y="1142"/>
                          <a:pt x="979" y="1176"/>
                          <a:pt x="990" y="1251"/>
                        </a:cubicBezTo>
                        <a:cubicBezTo>
                          <a:pt x="1001" y="1326"/>
                          <a:pt x="1020" y="1376"/>
                          <a:pt x="1013" y="1410"/>
                        </a:cubicBezTo>
                        <a:cubicBezTo>
                          <a:pt x="1006" y="1444"/>
                          <a:pt x="1005" y="1441"/>
                          <a:pt x="945" y="1456"/>
                        </a:cubicBezTo>
                        <a:cubicBezTo>
                          <a:pt x="885" y="1471"/>
                          <a:pt x="760" y="1497"/>
                          <a:pt x="650" y="1501"/>
                        </a:cubicBezTo>
                        <a:cubicBezTo>
                          <a:pt x="540" y="1505"/>
                          <a:pt x="389" y="1485"/>
                          <a:pt x="287" y="1478"/>
                        </a:cubicBezTo>
                        <a:cubicBezTo>
                          <a:pt x="185" y="1471"/>
                          <a:pt x="76" y="1486"/>
                          <a:pt x="38" y="1456"/>
                        </a:cubicBezTo>
                        <a:cubicBezTo>
                          <a:pt x="0" y="1426"/>
                          <a:pt x="45" y="1361"/>
                          <a:pt x="60" y="1297"/>
                        </a:cubicBezTo>
                        <a:cubicBezTo>
                          <a:pt x="75" y="1233"/>
                          <a:pt x="113" y="1168"/>
                          <a:pt x="128" y="1070"/>
                        </a:cubicBezTo>
                        <a:cubicBezTo>
                          <a:pt x="143" y="972"/>
                          <a:pt x="140" y="820"/>
                          <a:pt x="151" y="707"/>
                        </a:cubicBezTo>
                        <a:cubicBezTo>
                          <a:pt x="162" y="594"/>
                          <a:pt x="178" y="488"/>
                          <a:pt x="197" y="390"/>
                        </a:cubicBezTo>
                        <a:cubicBezTo>
                          <a:pt x="216" y="292"/>
                          <a:pt x="216" y="159"/>
                          <a:pt x="265" y="11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33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Oval 441"/>
                  <p:cNvSpPr/>
                  <p:nvPr/>
                </p:nvSpPr>
                <p:spPr>
                  <a:xfrm>
                    <a:off x="1752480" y="4527720"/>
                    <a:ext cx="809640" cy="19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3b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Rectangle 442"/>
                  <p:cNvSpPr/>
                  <p:nvPr/>
                </p:nvSpPr>
                <p:spPr>
                  <a:xfrm>
                    <a:off x="1622520" y="2647800"/>
                    <a:ext cx="615960" cy="746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>
                          <a:alpha val="4117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Oval 443"/>
                  <p:cNvSpPr/>
                  <p:nvPr/>
                </p:nvSpPr>
                <p:spPr>
                  <a:xfrm>
                    <a:off x="1619280" y="1622520"/>
                    <a:ext cx="530280" cy="106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AutoShape 444"/>
                  <p:cNvSpPr/>
                  <p:nvPr/>
                </p:nvSpPr>
                <p:spPr>
                  <a:xfrm rot="10800000">
                    <a:off x="1861920" y="1746000"/>
                    <a:ext cx="8100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Oval 445"/>
                  <p:cNvSpPr/>
                  <p:nvPr/>
                </p:nvSpPr>
                <p:spPr>
                  <a:xfrm rot="237000">
                    <a:off x="1366560" y="1253880"/>
                    <a:ext cx="1096920" cy="288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Oval 446"/>
                  <p:cNvSpPr/>
                  <p:nvPr/>
                </p:nvSpPr>
                <p:spPr>
                  <a:xfrm>
                    <a:off x="1658880" y="1095480"/>
                    <a:ext cx="500040" cy="71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Freeform 447"/>
                  <p:cNvSpPr/>
                  <p:nvPr/>
                </p:nvSpPr>
                <p:spPr>
                  <a:xfrm>
                    <a:off x="1501920" y="944640"/>
                    <a:ext cx="749160" cy="490320"/>
                  </a:xfrm>
                  <a:custGeom>
                    <a:avLst/>
                    <a:gdLst/>
                    <a:ahLst/>
                    <a:rect l="l" t="t" r="r" b="b"/>
                    <a:pathLst>
                      <a:path w="918" h="628">
                        <a:moveTo>
                          <a:pt x="64" y="454"/>
                        </a:moveTo>
                        <a:cubicBezTo>
                          <a:pt x="0" y="416"/>
                          <a:pt x="57" y="424"/>
                          <a:pt x="64" y="386"/>
                        </a:cubicBezTo>
                        <a:cubicBezTo>
                          <a:pt x="71" y="348"/>
                          <a:pt x="83" y="276"/>
                          <a:pt x="109" y="227"/>
                        </a:cubicBezTo>
                        <a:cubicBezTo>
                          <a:pt x="135" y="178"/>
                          <a:pt x="165" y="125"/>
                          <a:pt x="222" y="91"/>
                        </a:cubicBezTo>
                        <a:cubicBezTo>
                          <a:pt x="279" y="57"/>
                          <a:pt x="385" y="34"/>
                          <a:pt x="449" y="23"/>
                        </a:cubicBezTo>
                        <a:cubicBezTo>
                          <a:pt x="513" y="12"/>
                          <a:pt x="547" y="0"/>
                          <a:pt x="608" y="23"/>
                        </a:cubicBezTo>
                        <a:cubicBezTo>
                          <a:pt x="669" y="46"/>
                          <a:pt x="763" y="110"/>
                          <a:pt x="812" y="159"/>
                        </a:cubicBezTo>
                        <a:cubicBezTo>
                          <a:pt x="861" y="208"/>
                          <a:pt x="888" y="261"/>
                          <a:pt x="903" y="318"/>
                        </a:cubicBezTo>
                        <a:cubicBezTo>
                          <a:pt x="918" y="375"/>
                          <a:pt x="918" y="461"/>
                          <a:pt x="903" y="499"/>
                        </a:cubicBezTo>
                        <a:cubicBezTo>
                          <a:pt x="888" y="537"/>
                          <a:pt x="888" y="526"/>
                          <a:pt x="812" y="545"/>
                        </a:cubicBezTo>
                        <a:cubicBezTo>
                          <a:pt x="736" y="564"/>
                          <a:pt x="577" y="628"/>
                          <a:pt x="449" y="613"/>
                        </a:cubicBezTo>
                        <a:cubicBezTo>
                          <a:pt x="321" y="598"/>
                          <a:pt x="128" y="492"/>
                          <a:pt x="64" y="45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Oval 448"/>
                  <p:cNvSpPr/>
                  <p:nvPr/>
                </p:nvSpPr>
                <p:spPr>
                  <a:xfrm rot="361200">
                    <a:off x="1522080" y="1072800"/>
                    <a:ext cx="34776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3" name="Group 449"/>
                  <p:cNvGrpSpPr/>
                  <p:nvPr/>
                </p:nvGrpSpPr>
                <p:grpSpPr>
                  <a:xfrm>
                    <a:off x="1764000" y="950040"/>
                    <a:ext cx="249840" cy="123480"/>
                    <a:chOff x="1764000" y="950040"/>
                    <a:chExt cx="249840" cy="123480"/>
                  </a:xfrm>
                </p:grpSpPr>
                <p:sp>
                  <p:nvSpPr>
                    <p:cNvPr id="1304" name="Freeform 450"/>
                    <p:cNvSpPr/>
                    <p:nvPr/>
                  </p:nvSpPr>
                  <p:spPr>
                    <a:xfrm flipH="1" rot="21568200">
                      <a:off x="1764360" y="972000"/>
                      <a:ext cx="24444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solidFill>
                      <a:srgbClr val="d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5" name="Freeform 451"/>
                    <p:cNvSpPr/>
                    <p:nvPr/>
                  </p:nvSpPr>
                  <p:spPr>
                    <a:xfrm flipH="1" rot="21568200">
                      <a:off x="1768320" y="951120"/>
                      <a:ext cx="24444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d0000"/>
                        </a:gs>
                        <a:gs pos="100000">
                          <a:srgbClr val="ac0000"/>
                        </a:gs>
                      </a:gsLst>
                      <a:lin ang="4722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6" name="Freeform 452"/>
                  <p:cNvSpPr/>
                  <p:nvPr/>
                </p:nvSpPr>
                <p:spPr>
                  <a:xfrm>
                    <a:off x="1542960" y="1258920"/>
                    <a:ext cx="72072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117">
                        <a:moveTo>
                          <a:pt x="0" y="0"/>
                        </a:moveTo>
                        <a:cubicBezTo>
                          <a:pt x="74" y="36"/>
                          <a:pt x="148" y="72"/>
                          <a:pt x="227" y="91"/>
                        </a:cubicBezTo>
                        <a:cubicBezTo>
                          <a:pt x="306" y="110"/>
                          <a:pt x="389" y="117"/>
                          <a:pt x="476" y="113"/>
                        </a:cubicBezTo>
                        <a:cubicBezTo>
                          <a:pt x="563" y="109"/>
                          <a:pt x="695" y="83"/>
                          <a:pt x="748" y="68"/>
                        </a:cubicBezTo>
                        <a:cubicBezTo>
                          <a:pt x="801" y="53"/>
                          <a:pt x="749" y="23"/>
                          <a:pt x="794" y="23"/>
                        </a:cubicBezTo>
                      </a:path>
                    </a:pathLst>
                  </a:custGeom>
                  <a:noFill/>
                  <a:ln w="1908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AutoShape 453"/>
                  <p:cNvSpPr/>
                  <p:nvPr/>
                </p:nvSpPr>
                <p:spPr>
                  <a:xfrm>
                    <a:off x="2133720" y="1284120"/>
                    <a:ext cx="619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Oval 454"/>
                  <p:cNvSpPr/>
                  <p:nvPr/>
                </p:nvSpPr>
                <p:spPr>
                  <a:xfrm rot="20773200">
                    <a:off x="1847520" y="1336320"/>
                    <a:ext cx="349200" cy="144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Oval 455"/>
                  <p:cNvSpPr/>
                  <p:nvPr/>
                </p:nvSpPr>
                <p:spPr>
                  <a:xfrm rot="401400">
                    <a:off x="1405080" y="1290600"/>
                    <a:ext cx="217440" cy="7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Oval 456"/>
                  <p:cNvSpPr/>
                  <p:nvPr/>
                </p:nvSpPr>
                <p:spPr>
                  <a:xfrm rot="20941800">
                    <a:off x="2174760" y="1327320"/>
                    <a:ext cx="266760" cy="8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457"/>
                  <p:cNvSpPr/>
                  <p:nvPr/>
                </p:nvSpPr>
                <p:spPr>
                  <a:xfrm>
                    <a:off x="1440000" y="1281240"/>
                    <a:ext cx="100800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38">
                        <a:moveTo>
                          <a:pt x="159" y="4"/>
                        </a:moveTo>
                        <a:cubicBezTo>
                          <a:pt x="125" y="8"/>
                          <a:pt x="0" y="42"/>
                          <a:pt x="0" y="49"/>
                        </a:cubicBezTo>
                        <a:cubicBezTo>
                          <a:pt x="0" y="56"/>
                          <a:pt x="99" y="30"/>
                          <a:pt x="159" y="49"/>
                        </a:cubicBezTo>
                        <a:cubicBezTo>
                          <a:pt x="219" y="68"/>
                          <a:pt x="303" y="133"/>
                          <a:pt x="363" y="163"/>
                        </a:cubicBezTo>
                        <a:cubicBezTo>
                          <a:pt x="423" y="193"/>
                          <a:pt x="465" y="224"/>
                          <a:pt x="522" y="231"/>
                        </a:cubicBezTo>
                        <a:cubicBezTo>
                          <a:pt x="579" y="238"/>
                          <a:pt x="646" y="223"/>
                          <a:pt x="703" y="208"/>
                        </a:cubicBezTo>
                        <a:cubicBezTo>
                          <a:pt x="760" y="193"/>
                          <a:pt x="820" y="159"/>
                          <a:pt x="862" y="140"/>
                        </a:cubicBezTo>
                        <a:cubicBezTo>
                          <a:pt x="904" y="121"/>
                          <a:pt x="926" y="106"/>
                          <a:pt x="953" y="95"/>
                        </a:cubicBezTo>
                        <a:cubicBezTo>
                          <a:pt x="980" y="84"/>
                          <a:pt x="995" y="72"/>
                          <a:pt x="1021" y="72"/>
                        </a:cubicBezTo>
                        <a:cubicBezTo>
                          <a:pt x="1047" y="72"/>
                          <a:pt x="1122" y="102"/>
                          <a:pt x="1111" y="95"/>
                        </a:cubicBezTo>
                        <a:cubicBezTo>
                          <a:pt x="1100" y="88"/>
                          <a:pt x="994" y="31"/>
                          <a:pt x="953" y="27"/>
                        </a:cubicBezTo>
                        <a:cubicBezTo>
                          <a:pt x="912" y="23"/>
                          <a:pt x="911" y="61"/>
                          <a:pt x="862" y="72"/>
                        </a:cubicBezTo>
                        <a:cubicBezTo>
                          <a:pt x="813" y="83"/>
                          <a:pt x="730" y="91"/>
                          <a:pt x="658" y="95"/>
                        </a:cubicBezTo>
                        <a:cubicBezTo>
                          <a:pt x="586" y="99"/>
                          <a:pt x="507" y="106"/>
                          <a:pt x="431" y="95"/>
                        </a:cubicBezTo>
                        <a:cubicBezTo>
                          <a:pt x="355" y="84"/>
                          <a:pt x="249" y="42"/>
                          <a:pt x="204" y="27"/>
                        </a:cubicBezTo>
                        <a:cubicBezTo>
                          <a:pt x="159" y="12"/>
                          <a:pt x="193" y="0"/>
                          <a:pt x="159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Freeform 458"/>
                  <p:cNvSpPr/>
                  <p:nvPr/>
                </p:nvSpPr>
                <p:spPr>
                  <a:xfrm>
                    <a:off x="1596960" y="1925640"/>
                    <a:ext cx="654120" cy="755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0" h="839">
                        <a:moveTo>
                          <a:pt x="250" y="4"/>
                        </a:moveTo>
                        <a:cubicBezTo>
                          <a:pt x="197" y="8"/>
                          <a:pt x="174" y="0"/>
                          <a:pt x="136" y="26"/>
                        </a:cubicBezTo>
                        <a:cubicBezTo>
                          <a:pt x="98" y="52"/>
                          <a:pt x="46" y="117"/>
                          <a:pt x="23" y="162"/>
                        </a:cubicBezTo>
                        <a:cubicBezTo>
                          <a:pt x="0" y="207"/>
                          <a:pt x="0" y="264"/>
                          <a:pt x="0" y="298"/>
                        </a:cubicBezTo>
                        <a:cubicBezTo>
                          <a:pt x="0" y="332"/>
                          <a:pt x="8" y="355"/>
                          <a:pt x="23" y="366"/>
                        </a:cubicBezTo>
                        <a:cubicBezTo>
                          <a:pt x="38" y="377"/>
                          <a:pt x="80" y="309"/>
                          <a:pt x="91" y="366"/>
                        </a:cubicBezTo>
                        <a:cubicBezTo>
                          <a:pt x="102" y="423"/>
                          <a:pt x="98" y="631"/>
                          <a:pt x="91" y="707"/>
                        </a:cubicBezTo>
                        <a:cubicBezTo>
                          <a:pt x="84" y="783"/>
                          <a:pt x="4" y="801"/>
                          <a:pt x="46" y="820"/>
                        </a:cubicBezTo>
                        <a:cubicBezTo>
                          <a:pt x="88" y="839"/>
                          <a:pt x="235" y="820"/>
                          <a:pt x="341" y="820"/>
                        </a:cubicBezTo>
                        <a:cubicBezTo>
                          <a:pt x="447" y="820"/>
                          <a:pt x="632" y="831"/>
                          <a:pt x="681" y="820"/>
                        </a:cubicBezTo>
                        <a:cubicBezTo>
                          <a:pt x="730" y="809"/>
                          <a:pt x="646" y="779"/>
                          <a:pt x="635" y="752"/>
                        </a:cubicBezTo>
                        <a:cubicBezTo>
                          <a:pt x="624" y="725"/>
                          <a:pt x="617" y="725"/>
                          <a:pt x="613" y="661"/>
                        </a:cubicBezTo>
                        <a:cubicBezTo>
                          <a:pt x="609" y="597"/>
                          <a:pt x="602" y="411"/>
                          <a:pt x="613" y="366"/>
                        </a:cubicBezTo>
                        <a:cubicBezTo>
                          <a:pt x="624" y="321"/>
                          <a:pt x="658" y="385"/>
                          <a:pt x="681" y="389"/>
                        </a:cubicBezTo>
                        <a:cubicBezTo>
                          <a:pt x="704" y="393"/>
                          <a:pt x="738" y="408"/>
                          <a:pt x="749" y="389"/>
                        </a:cubicBezTo>
                        <a:cubicBezTo>
                          <a:pt x="760" y="370"/>
                          <a:pt x="757" y="317"/>
                          <a:pt x="749" y="276"/>
                        </a:cubicBezTo>
                        <a:cubicBezTo>
                          <a:pt x="741" y="235"/>
                          <a:pt x="726" y="182"/>
                          <a:pt x="703" y="140"/>
                        </a:cubicBezTo>
                        <a:cubicBezTo>
                          <a:pt x="680" y="98"/>
                          <a:pt x="654" y="49"/>
                          <a:pt x="613" y="26"/>
                        </a:cubicBezTo>
                        <a:cubicBezTo>
                          <a:pt x="572" y="3"/>
                          <a:pt x="514" y="4"/>
                          <a:pt x="454" y="4"/>
                        </a:cubicBezTo>
                        <a:cubicBezTo>
                          <a:pt x="394" y="4"/>
                          <a:pt x="303" y="0"/>
                          <a:pt x="250" y="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13" name="Group 459"/>
                  <p:cNvGrpSpPr/>
                  <p:nvPr/>
                </p:nvGrpSpPr>
                <p:grpSpPr>
                  <a:xfrm>
                    <a:off x="1794240" y="1771560"/>
                    <a:ext cx="397080" cy="333720"/>
                    <a:chOff x="1794240" y="1771560"/>
                    <a:chExt cx="397080" cy="333720"/>
                  </a:xfrm>
                </p:grpSpPr>
                <p:sp>
                  <p:nvSpPr>
                    <p:cNvPr id="1314" name="Freeform 460"/>
                    <p:cNvSpPr/>
                    <p:nvPr/>
                  </p:nvSpPr>
                  <p:spPr>
                    <a:xfrm rot="3600000">
                      <a:off x="2022840" y="1747080"/>
                      <a:ext cx="8388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5" name="Oval 461"/>
                    <p:cNvSpPr/>
                    <p:nvPr/>
                  </p:nvSpPr>
                  <p:spPr>
                    <a:xfrm rot="3600000">
                      <a:off x="2045520" y="1782000"/>
                      <a:ext cx="82080" cy="120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6" name="Freeform 462"/>
                    <p:cNvSpPr/>
                    <p:nvPr/>
                  </p:nvSpPr>
                  <p:spPr>
                    <a:xfrm rot="21002400">
                      <a:off x="1801800" y="1868040"/>
                      <a:ext cx="163440" cy="10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91">
                          <a:moveTo>
                            <a:pt x="23" y="0"/>
                          </a:moveTo>
                          <a:lnTo>
                            <a:pt x="0" y="46"/>
                          </a:lnTo>
                          <a:lnTo>
                            <a:pt x="46" y="69"/>
                          </a:lnTo>
                          <a:lnTo>
                            <a:pt x="136" y="91"/>
                          </a:lnTo>
                          <a:lnTo>
                            <a:pt x="182" y="6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3300"/>
                        </a:gs>
                      </a:gsLst>
                      <a:lin ang="33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7" name="Freeform 463"/>
                    <p:cNvSpPr/>
                    <p:nvPr/>
                  </p:nvSpPr>
                  <p:spPr>
                    <a:xfrm>
                      <a:off x="1920240" y="1909800"/>
                      <a:ext cx="85320" cy="16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8" name="Oval 464"/>
                    <p:cNvSpPr/>
                    <p:nvPr/>
                  </p:nvSpPr>
                  <p:spPr>
                    <a:xfrm rot="3600000">
                      <a:off x="2045520" y="1764720"/>
                      <a:ext cx="41040" cy="244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2f00">
                            <a:alpha val="0"/>
                          </a:srgbClr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Oval 465"/>
                    <p:cNvSpPr/>
                    <p:nvPr/>
                  </p:nvSpPr>
                  <p:spPr>
                    <a:xfrm>
                      <a:off x="1822320" y="1909800"/>
                      <a:ext cx="20520" cy="20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0" name="Oval 466"/>
                    <p:cNvSpPr/>
                    <p:nvPr/>
                  </p:nvSpPr>
                  <p:spPr>
                    <a:xfrm>
                      <a:off x="1923840" y="2011680"/>
                      <a:ext cx="20520" cy="20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1" name="Oval 467"/>
                    <p:cNvSpPr/>
                    <p:nvPr/>
                  </p:nvSpPr>
                  <p:spPr>
                    <a:xfrm>
                      <a:off x="1924920" y="1930680"/>
                      <a:ext cx="19440" cy="20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2" name="Oval 468"/>
                    <p:cNvSpPr/>
                    <p:nvPr/>
                  </p:nvSpPr>
                  <p:spPr>
                    <a:xfrm>
                      <a:off x="2025360" y="1909800"/>
                      <a:ext cx="20520" cy="20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Oval 469"/>
                    <p:cNvSpPr/>
                    <p:nvPr/>
                  </p:nvSpPr>
                  <p:spPr>
                    <a:xfrm>
                      <a:off x="1964160" y="1971360"/>
                      <a:ext cx="20520" cy="20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4" name="Oval 470"/>
                    <p:cNvSpPr/>
                    <p:nvPr/>
                  </p:nvSpPr>
                  <p:spPr>
                    <a:xfrm>
                      <a:off x="1944360" y="1909800"/>
                      <a:ext cx="40320" cy="40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5b4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5" name="Oval 471"/>
                    <p:cNvSpPr/>
                    <p:nvPr/>
                  </p:nvSpPr>
                  <p:spPr>
                    <a:xfrm rot="3600000">
                      <a:off x="1914840" y="2001600"/>
                      <a:ext cx="100080" cy="79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6" name="Oval 472"/>
                  <p:cNvSpPr/>
                  <p:nvPr/>
                </p:nvSpPr>
                <p:spPr>
                  <a:xfrm rot="600000">
                    <a:off x="1695240" y="2091960"/>
                    <a:ext cx="25200" cy="160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27" name="Group 473"/>
                  <p:cNvGrpSpPr/>
                  <p:nvPr/>
                </p:nvGrpSpPr>
                <p:grpSpPr>
                  <a:xfrm>
                    <a:off x="1698480" y="2052720"/>
                    <a:ext cx="41400" cy="39600"/>
                    <a:chOff x="1698480" y="2052720"/>
                    <a:chExt cx="41400" cy="39600"/>
                  </a:xfrm>
                </p:grpSpPr>
                <p:grpSp>
                  <p:nvGrpSpPr>
                    <p:cNvPr id="1328" name="Group 474"/>
                    <p:cNvGrpSpPr/>
                    <p:nvPr/>
                  </p:nvGrpSpPr>
                  <p:grpSpPr>
                    <a:xfrm>
                      <a:off x="1698480" y="2052720"/>
                      <a:ext cx="41400" cy="39600"/>
                      <a:chOff x="1698480" y="2052720"/>
                      <a:chExt cx="41400" cy="39600"/>
                    </a:xfrm>
                  </p:grpSpPr>
                  <p:sp>
                    <p:nvSpPr>
                      <p:cNvPr id="1329" name="Oval 475"/>
                      <p:cNvSpPr/>
                      <p:nvPr/>
                    </p:nvSpPr>
                    <p:spPr>
                      <a:xfrm>
                        <a:off x="1708920" y="2052720"/>
                        <a:ext cx="20520" cy="26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Oval 476"/>
                      <p:cNvSpPr/>
                      <p:nvPr/>
                    </p:nvSpPr>
                    <p:spPr>
                      <a:xfrm>
                        <a:off x="1698480" y="2052720"/>
                        <a:ext cx="41400" cy="396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720" bIns="-18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31" name="Oval 477"/>
                    <p:cNvSpPr/>
                    <p:nvPr/>
                  </p:nvSpPr>
                  <p:spPr>
                    <a:xfrm>
                      <a:off x="1698480" y="2052720"/>
                      <a:ext cx="38520" cy="33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2" name="Group 478"/>
                  <p:cNvGrpSpPr/>
                  <p:nvPr/>
                </p:nvGrpSpPr>
                <p:grpSpPr>
                  <a:xfrm>
                    <a:off x="1862280" y="2276640"/>
                    <a:ext cx="42840" cy="41040"/>
                    <a:chOff x="1862280" y="2276640"/>
                    <a:chExt cx="42840" cy="41040"/>
                  </a:xfrm>
                </p:grpSpPr>
                <p:grpSp>
                  <p:nvGrpSpPr>
                    <p:cNvPr id="1333" name="Group 479"/>
                    <p:cNvGrpSpPr/>
                    <p:nvPr/>
                  </p:nvGrpSpPr>
                  <p:grpSpPr>
                    <a:xfrm>
                      <a:off x="1862280" y="2276640"/>
                      <a:ext cx="42840" cy="41040"/>
                      <a:chOff x="1862280" y="2276640"/>
                      <a:chExt cx="42840" cy="41040"/>
                    </a:xfrm>
                  </p:grpSpPr>
                  <p:sp>
                    <p:nvSpPr>
                      <p:cNvPr id="1334" name="Oval 480"/>
                      <p:cNvSpPr/>
                      <p:nvPr/>
                    </p:nvSpPr>
                    <p:spPr>
                      <a:xfrm>
                        <a:off x="1873080" y="2276640"/>
                        <a:ext cx="2124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Oval 481"/>
                      <p:cNvSpPr/>
                      <p:nvPr/>
                    </p:nvSpPr>
                    <p:spPr>
                      <a:xfrm>
                        <a:off x="1862280" y="2276640"/>
                        <a:ext cx="4284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36" name="Oval 482"/>
                    <p:cNvSpPr/>
                    <p:nvPr/>
                  </p:nvSpPr>
                  <p:spPr>
                    <a:xfrm>
                      <a:off x="1862280" y="2276640"/>
                      <a:ext cx="39960" cy="34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7" name="Group 483"/>
                  <p:cNvGrpSpPr/>
                  <p:nvPr/>
                </p:nvGrpSpPr>
                <p:grpSpPr>
                  <a:xfrm>
                    <a:off x="1760400" y="2398680"/>
                    <a:ext cx="41400" cy="41400"/>
                    <a:chOff x="1760400" y="2398680"/>
                    <a:chExt cx="41400" cy="41400"/>
                  </a:xfrm>
                </p:grpSpPr>
                <p:grpSp>
                  <p:nvGrpSpPr>
                    <p:cNvPr id="1338" name="Group 484"/>
                    <p:cNvGrpSpPr/>
                    <p:nvPr/>
                  </p:nvGrpSpPr>
                  <p:grpSpPr>
                    <a:xfrm>
                      <a:off x="1760400" y="2398680"/>
                      <a:ext cx="41400" cy="41400"/>
                      <a:chOff x="1760400" y="2398680"/>
                      <a:chExt cx="41400" cy="41400"/>
                    </a:xfrm>
                  </p:grpSpPr>
                  <p:sp>
                    <p:nvSpPr>
                      <p:cNvPr id="1339" name="Oval 485"/>
                      <p:cNvSpPr/>
                      <p:nvPr/>
                    </p:nvSpPr>
                    <p:spPr>
                      <a:xfrm>
                        <a:off x="1770840" y="2398680"/>
                        <a:ext cx="2052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0" name="Oval 486"/>
                      <p:cNvSpPr/>
                      <p:nvPr/>
                    </p:nvSpPr>
                    <p:spPr>
                      <a:xfrm>
                        <a:off x="1760400" y="2398680"/>
                        <a:ext cx="4140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41" name="Oval 487"/>
                    <p:cNvSpPr/>
                    <p:nvPr/>
                  </p:nvSpPr>
                  <p:spPr>
                    <a:xfrm>
                      <a:off x="1760400" y="2398680"/>
                      <a:ext cx="38520" cy="34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2" name="Group 488"/>
                  <p:cNvGrpSpPr/>
                  <p:nvPr/>
                </p:nvGrpSpPr>
                <p:grpSpPr>
                  <a:xfrm>
                    <a:off x="2025720" y="2235240"/>
                    <a:ext cx="41040" cy="41400"/>
                    <a:chOff x="2025720" y="2235240"/>
                    <a:chExt cx="41040" cy="41400"/>
                  </a:xfrm>
                </p:grpSpPr>
                <p:grpSp>
                  <p:nvGrpSpPr>
                    <p:cNvPr id="1343" name="Group 489"/>
                    <p:cNvGrpSpPr/>
                    <p:nvPr/>
                  </p:nvGrpSpPr>
                  <p:grpSpPr>
                    <a:xfrm>
                      <a:off x="2025720" y="2235240"/>
                      <a:ext cx="41040" cy="41400"/>
                      <a:chOff x="2025720" y="2235240"/>
                      <a:chExt cx="41040" cy="41400"/>
                    </a:xfrm>
                  </p:grpSpPr>
                  <p:sp>
                    <p:nvSpPr>
                      <p:cNvPr id="1344" name="Oval 490"/>
                      <p:cNvSpPr/>
                      <p:nvPr/>
                    </p:nvSpPr>
                    <p:spPr>
                      <a:xfrm>
                        <a:off x="2035800" y="2235240"/>
                        <a:ext cx="2016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Oval 491"/>
                      <p:cNvSpPr/>
                      <p:nvPr/>
                    </p:nvSpPr>
                    <p:spPr>
                      <a:xfrm>
                        <a:off x="2025720" y="2235240"/>
                        <a:ext cx="4104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46" name="Oval 492"/>
                    <p:cNvSpPr/>
                    <p:nvPr/>
                  </p:nvSpPr>
                  <p:spPr>
                    <a:xfrm>
                      <a:off x="2025720" y="2235240"/>
                      <a:ext cx="38160" cy="34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7" name="Group 493"/>
                  <p:cNvGrpSpPr/>
                  <p:nvPr/>
                </p:nvGrpSpPr>
                <p:grpSpPr>
                  <a:xfrm>
                    <a:off x="1862280" y="2052720"/>
                    <a:ext cx="42840" cy="39600"/>
                    <a:chOff x="1862280" y="2052720"/>
                    <a:chExt cx="42840" cy="39600"/>
                  </a:xfrm>
                </p:grpSpPr>
                <p:grpSp>
                  <p:nvGrpSpPr>
                    <p:cNvPr id="1348" name="Group 494"/>
                    <p:cNvGrpSpPr/>
                    <p:nvPr/>
                  </p:nvGrpSpPr>
                  <p:grpSpPr>
                    <a:xfrm>
                      <a:off x="1862280" y="2052720"/>
                      <a:ext cx="42840" cy="39600"/>
                      <a:chOff x="1862280" y="2052720"/>
                      <a:chExt cx="42840" cy="39600"/>
                    </a:xfrm>
                  </p:grpSpPr>
                  <p:sp>
                    <p:nvSpPr>
                      <p:cNvPr id="1349" name="Oval 495"/>
                      <p:cNvSpPr/>
                      <p:nvPr/>
                    </p:nvSpPr>
                    <p:spPr>
                      <a:xfrm>
                        <a:off x="1873080" y="2052720"/>
                        <a:ext cx="21240" cy="26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Oval 496"/>
                      <p:cNvSpPr/>
                      <p:nvPr/>
                    </p:nvSpPr>
                    <p:spPr>
                      <a:xfrm>
                        <a:off x="1862280" y="2052720"/>
                        <a:ext cx="42840" cy="396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720" bIns="-18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1" name="Oval 497"/>
                    <p:cNvSpPr/>
                    <p:nvPr/>
                  </p:nvSpPr>
                  <p:spPr>
                    <a:xfrm>
                      <a:off x="1862280" y="2052720"/>
                      <a:ext cx="39960" cy="33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2" name="Group 498"/>
                  <p:cNvGrpSpPr/>
                  <p:nvPr/>
                </p:nvGrpSpPr>
                <p:grpSpPr>
                  <a:xfrm>
                    <a:off x="2189160" y="2112840"/>
                    <a:ext cx="41400" cy="41400"/>
                    <a:chOff x="2189160" y="2112840"/>
                    <a:chExt cx="41400" cy="41400"/>
                  </a:xfrm>
                </p:grpSpPr>
                <p:grpSp>
                  <p:nvGrpSpPr>
                    <p:cNvPr id="1353" name="Group 499"/>
                    <p:cNvGrpSpPr/>
                    <p:nvPr/>
                  </p:nvGrpSpPr>
                  <p:grpSpPr>
                    <a:xfrm>
                      <a:off x="2189160" y="2112840"/>
                      <a:ext cx="41400" cy="41400"/>
                      <a:chOff x="2189160" y="2112840"/>
                      <a:chExt cx="41400" cy="41400"/>
                    </a:xfrm>
                  </p:grpSpPr>
                  <p:sp>
                    <p:nvSpPr>
                      <p:cNvPr id="1354" name="Oval 500"/>
                      <p:cNvSpPr/>
                      <p:nvPr/>
                    </p:nvSpPr>
                    <p:spPr>
                      <a:xfrm>
                        <a:off x="2199600" y="2112840"/>
                        <a:ext cx="2052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5" name="Oval 501"/>
                      <p:cNvSpPr/>
                      <p:nvPr/>
                    </p:nvSpPr>
                    <p:spPr>
                      <a:xfrm>
                        <a:off x="2189160" y="2112840"/>
                        <a:ext cx="4140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6" name="Oval 502"/>
                    <p:cNvSpPr/>
                    <p:nvPr/>
                  </p:nvSpPr>
                  <p:spPr>
                    <a:xfrm>
                      <a:off x="2189160" y="2112840"/>
                      <a:ext cx="38520" cy="34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503"/>
                  <p:cNvGrpSpPr/>
                  <p:nvPr/>
                </p:nvGrpSpPr>
                <p:grpSpPr>
                  <a:xfrm>
                    <a:off x="1986120" y="2481120"/>
                    <a:ext cx="39600" cy="39960"/>
                    <a:chOff x="1986120" y="2481120"/>
                    <a:chExt cx="39600" cy="39960"/>
                  </a:xfrm>
                </p:grpSpPr>
                <p:grpSp>
                  <p:nvGrpSpPr>
                    <p:cNvPr id="1358" name="Group 504"/>
                    <p:cNvGrpSpPr/>
                    <p:nvPr/>
                  </p:nvGrpSpPr>
                  <p:grpSpPr>
                    <a:xfrm>
                      <a:off x="1986120" y="2481120"/>
                      <a:ext cx="39600" cy="39960"/>
                      <a:chOff x="1986120" y="2481120"/>
                      <a:chExt cx="39600" cy="39960"/>
                    </a:xfrm>
                  </p:grpSpPr>
                  <p:sp>
                    <p:nvSpPr>
                      <p:cNvPr id="1359" name="Oval 505"/>
                      <p:cNvSpPr/>
                      <p:nvPr/>
                    </p:nvSpPr>
                    <p:spPr>
                      <a:xfrm>
                        <a:off x="1995840" y="2481120"/>
                        <a:ext cx="19440" cy="266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0" name="Oval 506"/>
                      <p:cNvSpPr/>
                      <p:nvPr/>
                    </p:nvSpPr>
                    <p:spPr>
                      <a:xfrm>
                        <a:off x="1986120" y="2481120"/>
                        <a:ext cx="39600" cy="399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360" bIns="-18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61" name="Oval 507"/>
                    <p:cNvSpPr/>
                    <p:nvPr/>
                  </p:nvSpPr>
                  <p:spPr>
                    <a:xfrm>
                      <a:off x="1986120" y="2481120"/>
                      <a:ext cx="37080" cy="3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2" name="Group 508"/>
                  <p:cNvGrpSpPr/>
                  <p:nvPr/>
                </p:nvGrpSpPr>
                <p:grpSpPr>
                  <a:xfrm>
                    <a:off x="1698480" y="2562120"/>
                    <a:ext cx="41400" cy="41400"/>
                    <a:chOff x="1698480" y="2562120"/>
                    <a:chExt cx="41400" cy="41400"/>
                  </a:xfrm>
                </p:grpSpPr>
                <p:grpSp>
                  <p:nvGrpSpPr>
                    <p:cNvPr id="1363" name="Group 509"/>
                    <p:cNvGrpSpPr/>
                    <p:nvPr/>
                  </p:nvGrpSpPr>
                  <p:grpSpPr>
                    <a:xfrm>
                      <a:off x="1698480" y="2562120"/>
                      <a:ext cx="41400" cy="41400"/>
                      <a:chOff x="1698480" y="2562120"/>
                      <a:chExt cx="41400" cy="41400"/>
                    </a:xfrm>
                  </p:grpSpPr>
                  <p:sp>
                    <p:nvSpPr>
                      <p:cNvPr id="1364" name="Oval 510"/>
                      <p:cNvSpPr/>
                      <p:nvPr/>
                    </p:nvSpPr>
                    <p:spPr>
                      <a:xfrm>
                        <a:off x="1708920" y="2562120"/>
                        <a:ext cx="2052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5" name="Oval 511"/>
                      <p:cNvSpPr/>
                      <p:nvPr/>
                    </p:nvSpPr>
                    <p:spPr>
                      <a:xfrm>
                        <a:off x="1698480" y="2562120"/>
                        <a:ext cx="4140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66" name="Oval 512"/>
                    <p:cNvSpPr/>
                    <p:nvPr/>
                  </p:nvSpPr>
                  <p:spPr>
                    <a:xfrm>
                      <a:off x="1698480" y="2562120"/>
                      <a:ext cx="38520" cy="34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7" name="Group 513"/>
                  <p:cNvGrpSpPr/>
                  <p:nvPr/>
                </p:nvGrpSpPr>
                <p:grpSpPr>
                  <a:xfrm>
                    <a:off x="2046240" y="1930320"/>
                    <a:ext cx="41400" cy="39600"/>
                    <a:chOff x="2046240" y="1930320"/>
                    <a:chExt cx="41400" cy="39600"/>
                  </a:xfrm>
                </p:grpSpPr>
                <p:grpSp>
                  <p:nvGrpSpPr>
                    <p:cNvPr id="1368" name="Group 514"/>
                    <p:cNvGrpSpPr/>
                    <p:nvPr/>
                  </p:nvGrpSpPr>
                  <p:grpSpPr>
                    <a:xfrm>
                      <a:off x="2046240" y="1930320"/>
                      <a:ext cx="41400" cy="39600"/>
                      <a:chOff x="2046240" y="1930320"/>
                      <a:chExt cx="41400" cy="39600"/>
                    </a:xfrm>
                  </p:grpSpPr>
                  <p:sp>
                    <p:nvSpPr>
                      <p:cNvPr id="1369" name="Oval 515"/>
                      <p:cNvSpPr/>
                      <p:nvPr/>
                    </p:nvSpPr>
                    <p:spPr>
                      <a:xfrm>
                        <a:off x="2056680" y="1930320"/>
                        <a:ext cx="20520" cy="26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0" name="Oval 516"/>
                      <p:cNvSpPr/>
                      <p:nvPr/>
                    </p:nvSpPr>
                    <p:spPr>
                      <a:xfrm>
                        <a:off x="2046240" y="1930320"/>
                        <a:ext cx="41400" cy="396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720" bIns="-18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71" name="Oval 517"/>
                    <p:cNvSpPr/>
                    <p:nvPr/>
                  </p:nvSpPr>
                  <p:spPr>
                    <a:xfrm>
                      <a:off x="2046240" y="1930320"/>
                      <a:ext cx="38520" cy="33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518"/>
                  <p:cNvGrpSpPr/>
                  <p:nvPr/>
                </p:nvGrpSpPr>
                <p:grpSpPr>
                  <a:xfrm>
                    <a:off x="2147760" y="2174760"/>
                    <a:ext cx="41400" cy="41400"/>
                    <a:chOff x="2147760" y="2174760"/>
                    <a:chExt cx="41400" cy="41400"/>
                  </a:xfrm>
                </p:grpSpPr>
                <p:grpSp>
                  <p:nvGrpSpPr>
                    <p:cNvPr id="1373" name="Group 519"/>
                    <p:cNvGrpSpPr/>
                    <p:nvPr/>
                  </p:nvGrpSpPr>
                  <p:grpSpPr>
                    <a:xfrm>
                      <a:off x="2147760" y="2174760"/>
                      <a:ext cx="41400" cy="41400"/>
                      <a:chOff x="2147760" y="2174760"/>
                      <a:chExt cx="41400" cy="41400"/>
                    </a:xfrm>
                  </p:grpSpPr>
                  <p:sp>
                    <p:nvSpPr>
                      <p:cNvPr id="1374" name="Oval 520"/>
                      <p:cNvSpPr/>
                      <p:nvPr/>
                    </p:nvSpPr>
                    <p:spPr>
                      <a:xfrm>
                        <a:off x="2158200" y="2174760"/>
                        <a:ext cx="20520" cy="27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Oval 521"/>
                      <p:cNvSpPr/>
                      <p:nvPr/>
                    </p:nvSpPr>
                    <p:spPr>
                      <a:xfrm>
                        <a:off x="2147760" y="2174760"/>
                        <a:ext cx="41400" cy="41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920" bIns="-16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76" name="Oval 522"/>
                    <p:cNvSpPr/>
                    <p:nvPr/>
                  </p:nvSpPr>
                  <p:spPr>
                    <a:xfrm>
                      <a:off x="2147760" y="2174760"/>
                      <a:ext cx="38520" cy="34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7" name="Oval 523"/>
                  <p:cNvSpPr/>
                  <p:nvPr/>
                </p:nvSpPr>
                <p:spPr>
                  <a:xfrm>
                    <a:off x="2044800" y="2235240"/>
                    <a:ext cx="226800" cy="42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8" name="Group 524"/>
                  <p:cNvGrpSpPr/>
                  <p:nvPr/>
                </p:nvGrpSpPr>
                <p:grpSpPr>
                  <a:xfrm>
                    <a:off x="2128680" y="2583000"/>
                    <a:ext cx="41400" cy="39600"/>
                    <a:chOff x="2128680" y="2583000"/>
                    <a:chExt cx="41400" cy="39600"/>
                  </a:xfrm>
                </p:grpSpPr>
                <p:grpSp>
                  <p:nvGrpSpPr>
                    <p:cNvPr id="1379" name="Group 525"/>
                    <p:cNvGrpSpPr/>
                    <p:nvPr/>
                  </p:nvGrpSpPr>
                  <p:grpSpPr>
                    <a:xfrm>
                      <a:off x="2128680" y="2583000"/>
                      <a:ext cx="41400" cy="39600"/>
                      <a:chOff x="2128680" y="2583000"/>
                      <a:chExt cx="41400" cy="39600"/>
                    </a:xfrm>
                  </p:grpSpPr>
                  <p:sp>
                    <p:nvSpPr>
                      <p:cNvPr id="1380" name="Oval 526"/>
                      <p:cNvSpPr/>
                      <p:nvPr/>
                    </p:nvSpPr>
                    <p:spPr>
                      <a:xfrm>
                        <a:off x="2139120" y="2583000"/>
                        <a:ext cx="20520" cy="26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1" name="Oval 527"/>
                      <p:cNvSpPr/>
                      <p:nvPr/>
                    </p:nvSpPr>
                    <p:spPr>
                      <a:xfrm>
                        <a:off x="2128680" y="2583000"/>
                        <a:ext cx="41400" cy="396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720" bIns="-18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82" name="Oval 528"/>
                    <p:cNvSpPr/>
                    <p:nvPr/>
                  </p:nvSpPr>
                  <p:spPr>
                    <a:xfrm>
                      <a:off x="2128680" y="2583000"/>
                      <a:ext cx="38520" cy="33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3" name="Oval 529"/>
                  <p:cNvSpPr/>
                  <p:nvPr/>
                </p:nvSpPr>
                <p:spPr>
                  <a:xfrm>
                    <a:off x="1619280" y="2255760"/>
                    <a:ext cx="142920" cy="389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/>
                      </a:gs>
                      <a:gs pos="100000">
                        <a:srgbClr val="746b6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84" name="Group 530"/>
                  <p:cNvGrpSpPr/>
                  <p:nvPr/>
                </p:nvGrpSpPr>
                <p:grpSpPr>
                  <a:xfrm>
                    <a:off x="1638360" y="2154240"/>
                    <a:ext cx="39600" cy="39600"/>
                    <a:chOff x="1638360" y="2154240"/>
                    <a:chExt cx="39600" cy="39600"/>
                  </a:xfrm>
                </p:grpSpPr>
                <p:grpSp>
                  <p:nvGrpSpPr>
                    <p:cNvPr id="1385" name="Group 531"/>
                    <p:cNvGrpSpPr/>
                    <p:nvPr/>
                  </p:nvGrpSpPr>
                  <p:grpSpPr>
                    <a:xfrm>
                      <a:off x="1638360" y="2154240"/>
                      <a:ext cx="39600" cy="39600"/>
                      <a:chOff x="1638360" y="2154240"/>
                      <a:chExt cx="39600" cy="39600"/>
                    </a:xfrm>
                  </p:grpSpPr>
                  <p:sp>
                    <p:nvSpPr>
                      <p:cNvPr id="1386" name="Oval 532"/>
                      <p:cNvSpPr/>
                      <p:nvPr/>
                    </p:nvSpPr>
                    <p:spPr>
                      <a:xfrm>
                        <a:off x="1648080" y="2154240"/>
                        <a:ext cx="19440" cy="26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392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7" name="Oval 533"/>
                      <p:cNvSpPr/>
                      <p:nvPr/>
                    </p:nvSpPr>
                    <p:spPr>
                      <a:xfrm>
                        <a:off x="1638360" y="2154240"/>
                        <a:ext cx="39600" cy="396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8720" bIns="-18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88" name="Oval 534"/>
                    <p:cNvSpPr/>
                    <p:nvPr/>
                  </p:nvSpPr>
                  <p:spPr>
                    <a:xfrm>
                      <a:off x="1638360" y="2154240"/>
                      <a:ext cx="37080" cy="33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9" name="Oval 535"/>
                  <p:cNvSpPr/>
                  <p:nvPr/>
                </p:nvSpPr>
                <p:spPr>
                  <a:xfrm>
                    <a:off x="2128680" y="2260440"/>
                    <a:ext cx="142920" cy="387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3e9e5"/>
                      </a:gs>
                      <a:gs pos="100000">
                        <a:srgbClr val="706c6a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536"/>
                  <p:cNvSpPr/>
                  <p:nvPr/>
                </p:nvSpPr>
                <p:spPr>
                  <a:xfrm>
                    <a:off x="1596960" y="2257560"/>
                    <a:ext cx="82440" cy="11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537"/>
                  <p:cNvSpPr/>
                  <p:nvPr/>
                </p:nvSpPr>
                <p:spPr>
                  <a:xfrm rot="21360000">
                    <a:off x="2205000" y="2260440"/>
                    <a:ext cx="81000" cy="118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6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Oval 538"/>
                  <p:cNvSpPr/>
                  <p:nvPr/>
                </p:nvSpPr>
                <p:spPr>
                  <a:xfrm rot="361200">
                    <a:off x="1493640" y="3263400"/>
                    <a:ext cx="647640" cy="69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66"/>
                      </a:gs>
                      <a:gs pos="100000">
                        <a:srgbClr val="1d583b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Oval 539"/>
                  <p:cNvSpPr/>
                  <p:nvPr/>
                </p:nvSpPr>
                <p:spPr>
                  <a:xfrm rot="3600000">
                    <a:off x="2074680" y="4373280"/>
                    <a:ext cx="453960" cy="45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e8a5c"/>
                      </a:gs>
                      <a:gs pos="100000">
                        <a:srgbClr val="1b503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Oval 540"/>
                  <p:cNvSpPr/>
                  <p:nvPr/>
                </p:nvSpPr>
                <p:spPr>
                  <a:xfrm>
                    <a:off x="1720800" y="4138560"/>
                    <a:ext cx="12852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Oval 541"/>
                  <p:cNvSpPr/>
                  <p:nvPr/>
                </p:nvSpPr>
                <p:spPr>
                  <a:xfrm>
                    <a:off x="2075040" y="4697280"/>
                    <a:ext cx="12996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Oval 542"/>
                  <p:cNvSpPr/>
                  <p:nvPr/>
                </p:nvSpPr>
                <p:spPr>
                  <a:xfrm>
                    <a:off x="2335320" y="4462560"/>
                    <a:ext cx="129960" cy="12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Oval 543"/>
                  <p:cNvSpPr/>
                  <p:nvPr/>
                </p:nvSpPr>
                <p:spPr>
                  <a:xfrm>
                    <a:off x="1461960" y="4697280"/>
                    <a:ext cx="13032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Oval 544"/>
                  <p:cNvSpPr/>
                  <p:nvPr/>
                </p:nvSpPr>
                <p:spPr>
                  <a:xfrm>
                    <a:off x="1720800" y="2746440"/>
                    <a:ext cx="115920" cy="115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Oval 545"/>
                  <p:cNvSpPr/>
                  <p:nvPr/>
                </p:nvSpPr>
                <p:spPr>
                  <a:xfrm>
                    <a:off x="2044800" y="2940120"/>
                    <a:ext cx="128520" cy="12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Oval 546"/>
                  <p:cNvSpPr/>
                  <p:nvPr/>
                </p:nvSpPr>
                <p:spPr>
                  <a:xfrm>
                    <a:off x="1687680" y="3200400"/>
                    <a:ext cx="12996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1" name="Group 547"/>
                  <p:cNvGrpSpPr/>
                  <p:nvPr/>
                </p:nvGrpSpPr>
                <p:grpSpPr>
                  <a:xfrm>
                    <a:off x="1558800" y="2216160"/>
                    <a:ext cx="184320" cy="81000"/>
                    <a:chOff x="1558800" y="2216160"/>
                    <a:chExt cx="184320" cy="81000"/>
                  </a:xfrm>
                </p:grpSpPr>
                <p:sp>
                  <p:nvSpPr>
                    <p:cNvPr id="1402" name="Oval 548"/>
                    <p:cNvSpPr/>
                    <p:nvPr/>
                  </p:nvSpPr>
                  <p:spPr>
                    <a:xfrm>
                      <a:off x="1604520" y="2235600"/>
                      <a:ext cx="92520" cy="39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3" name="Oval 549"/>
                    <p:cNvSpPr/>
                    <p:nvPr/>
                  </p:nvSpPr>
                  <p:spPr>
                    <a:xfrm>
                      <a:off x="1558800" y="2216160"/>
                      <a:ext cx="184320" cy="81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4" name="Oval 550"/>
                  <p:cNvSpPr/>
                  <p:nvPr/>
                </p:nvSpPr>
                <p:spPr>
                  <a:xfrm>
                    <a:off x="2154240" y="2227320"/>
                    <a:ext cx="103320" cy="3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Oval 551"/>
                  <p:cNvSpPr/>
                  <p:nvPr/>
                </p:nvSpPr>
                <p:spPr>
                  <a:xfrm>
                    <a:off x="2120760" y="2216160"/>
                    <a:ext cx="150840" cy="7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Oval 552"/>
                  <p:cNvSpPr/>
                  <p:nvPr/>
                </p:nvSpPr>
                <p:spPr>
                  <a:xfrm rot="21000000">
                    <a:off x="2107800" y="2076480"/>
                    <a:ext cx="20520" cy="18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6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AutoShape 553"/>
                  <p:cNvSpPr/>
                  <p:nvPr/>
                </p:nvSpPr>
                <p:spPr>
                  <a:xfrm>
                    <a:off x="1622520" y="3522600"/>
                    <a:ext cx="615960" cy="66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a50021"/>
                      </a:gs>
                      <a:gs pos="100000">
                        <a:srgbClr val="4c000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Oval 554"/>
                  <p:cNvSpPr/>
                  <p:nvPr/>
                </p:nvSpPr>
                <p:spPr>
                  <a:xfrm>
                    <a:off x="1689120" y="3506760"/>
                    <a:ext cx="550800" cy="112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Oval 555"/>
                  <p:cNvSpPr/>
                  <p:nvPr/>
                </p:nvSpPr>
                <p:spPr>
                  <a:xfrm>
                    <a:off x="1655640" y="3490920"/>
                    <a:ext cx="551160" cy="112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AutoShape 556"/>
                  <p:cNvSpPr/>
                  <p:nvPr/>
                </p:nvSpPr>
                <p:spPr>
                  <a:xfrm>
                    <a:off x="1365120" y="3686040"/>
                    <a:ext cx="1131840" cy="93996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d0000"/>
                      </a:gs>
                      <a:gs pos="50000">
                        <a:srgbClr val="cc0000"/>
                      </a:gs>
                      <a:gs pos="100000">
                        <a:srgbClr val="0d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Oval 557"/>
                  <p:cNvSpPr/>
                  <p:nvPr/>
                </p:nvSpPr>
                <p:spPr>
                  <a:xfrm rot="1739400">
                    <a:off x="2205000" y="3685680"/>
                    <a:ext cx="324000" cy="144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60392"/>
                        </a:srgbClr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AutoShape 558"/>
                  <p:cNvSpPr/>
                  <p:nvPr/>
                </p:nvSpPr>
                <p:spPr>
                  <a:xfrm>
                    <a:off x="1365120" y="3749760"/>
                    <a:ext cx="1035360" cy="842760"/>
                  </a:xfrm>
                  <a:prstGeom prst="roundRect">
                    <a:avLst>
                      <a:gd name="adj" fmla="val 11463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b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559"/>
                  <p:cNvSpPr/>
                  <p:nvPr/>
                </p:nvSpPr>
                <p:spPr>
                  <a:xfrm>
                    <a:off x="1558800" y="3556080"/>
                    <a:ext cx="7488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91">
                        <a:moveTo>
                          <a:pt x="52" y="0"/>
                        </a:moveTo>
                        <a:cubicBezTo>
                          <a:pt x="33" y="4"/>
                          <a:pt x="14" y="8"/>
                          <a:pt x="7" y="23"/>
                        </a:cubicBezTo>
                        <a:cubicBezTo>
                          <a:pt x="0" y="38"/>
                          <a:pt x="14" y="80"/>
                          <a:pt x="7" y="91"/>
                        </a:cubicBezTo>
                      </a:path>
                    </a:pathLst>
                  </a:custGeom>
                  <a:noFill/>
                  <a:ln w="69840">
                    <a:solidFill>
                      <a:srgbClr val="a5002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Oval 560"/>
                  <p:cNvSpPr/>
                  <p:nvPr/>
                </p:nvSpPr>
                <p:spPr>
                  <a:xfrm>
                    <a:off x="1461960" y="3490920"/>
                    <a:ext cx="195480" cy="291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5" name="Group 561"/>
                  <p:cNvGrpSpPr/>
                  <p:nvPr/>
                </p:nvGrpSpPr>
                <p:grpSpPr>
                  <a:xfrm>
                    <a:off x="2271240" y="3556080"/>
                    <a:ext cx="95400" cy="226440"/>
                    <a:chOff x="2271240" y="3556080"/>
                    <a:chExt cx="95400" cy="226440"/>
                  </a:xfrm>
                </p:grpSpPr>
                <p:sp>
                  <p:nvSpPr>
                    <p:cNvPr id="1416" name="Freeform 562"/>
                    <p:cNvSpPr/>
                    <p:nvPr/>
                  </p:nvSpPr>
                  <p:spPr>
                    <a:xfrm flipH="1">
                      <a:off x="2285280" y="3556080"/>
                      <a:ext cx="4284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1">
                          <a:moveTo>
                            <a:pt x="52" y="0"/>
                          </a:moveTo>
                          <a:cubicBezTo>
                            <a:pt x="33" y="4"/>
                            <a:pt x="14" y="8"/>
                            <a:pt x="7" y="23"/>
                          </a:cubicBezTo>
                          <a:cubicBezTo>
                            <a:pt x="0" y="38"/>
                            <a:pt x="14" y="80"/>
                            <a:pt x="7" y="91"/>
                          </a:cubicBezTo>
                        </a:path>
                      </a:pathLst>
                    </a:custGeom>
                    <a:noFill/>
                    <a:ln w="69840">
                      <a:solidFill>
                        <a:srgbClr val="a5002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7" name="Oval 563"/>
                    <p:cNvSpPr/>
                    <p:nvPr/>
                  </p:nvSpPr>
                  <p:spPr>
                    <a:xfrm flipH="1">
                      <a:off x="2270880" y="3588840"/>
                      <a:ext cx="95400" cy="19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8" name="Group 564"/>
                  <p:cNvGrpSpPr/>
                  <p:nvPr/>
                </p:nvGrpSpPr>
                <p:grpSpPr>
                  <a:xfrm>
                    <a:off x="2173680" y="3360600"/>
                    <a:ext cx="136800" cy="258840"/>
                    <a:chOff x="2173680" y="3360600"/>
                    <a:chExt cx="136800" cy="258840"/>
                  </a:xfrm>
                </p:grpSpPr>
                <p:sp>
                  <p:nvSpPr>
                    <p:cNvPr id="1419" name="Freeform 565"/>
                    <p:cNvSpPr/>
                    <p:nvPr/>
                  </p:nvSpPr>
                  <p:spPr>
                    <a:xfrm flipH="1">
                      <a:off x="2207880" y="3360600"/>
                      <a:ext cx="9540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0" name="Oval 566"/>
                    <p:cNvSpPr/>
                    <p:nvPr/>
                  </p:nvSpPr>
                  <p:spPr>
                    <a:xfrm flipH="1" rot="600000">
                      <a:off x="2271600" y="3554640"/>
                      <a:ext cx="3960" cy="52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360" bIns="-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Oval 567"/>
                    <p:cNvSpPr/>
                    <p:nvPr/>
                  </p:nvSpPr>
                  <p:spPr>
                    <a:xfrm flipH="1" rot="600000">
                      <a:off x="2252880" y="3554640"/>
                      <a:ext cx="3960" cy="52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360" bIns="-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Oval 568"/>
                    <p:cNvSpPr/>
                    <p:nvPr/>
                  </p:nvSpPr>
                  <p:spPr>
                    <a:xfrm flipH="1" rot="600000">
                      <a:off x="2235600" y="3543120"/>
                      <a:ext cx="3960" cy="52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360" bIns="-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Oval 569"/>
                    <p:cNvSpPr/>
                    <p:nvPr/>
                  </p:nvSpPr>
                  <p:spPr>
                    <a:xfrm flipH="1" rot="840000">
                      <a:off x="2227320" y="3532320"/>
                      <a:ext cx="432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Oval 570"/>
                    <p:cNvSpPr/>
                    <p:nvPr/>
                  </p:nvSpPr>
                  <p:spPr>
                    <a:xfrm flipH="1" rot="711600">
                      <a:off x="2213640" y="3564360"/>
                      <a:ext cx="1728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5" name="Oval 571"/>
                    <p:cNvSpPr/>
                    <p:nvPr/>
                  </p:nvSpPr>
                  <p:spPr>
                    <a:xfrm flipH="1" rot="967800">
                      <a:off x="2222280" y="3522960"/>
                      <a:ext cx="81000" cy="61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" bIns="-2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6" name="Freeform 572"/>
                    <p:cNvSpPr/>
                    <p:nvPr/>
                  </p:nvSpPr>
                  <p:spPr>
                    <a:xfrm flipH="1">
                      <a:off x="2173320" y="3373560"/>
                      <a:ext cx="8820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Oval 573"/>
                    <p:cNvSpPr/>
                    <p:nvPr/>
                  </p:nvSpPr>
                  <p:spPr>
                    <a:xfrm flipH="1" rot="840000">
                      <a:off x="2235600" y="3424320"/>
                      <a:ext cx="396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8" name="Oval 574"/>
                    <p:cNvSpPr/>
                    <p:nvPr/>
                  </p:nvSpPr>
                  <p:spPr>
                    <a:xfrm flipH="1" rot="711600">
                      <a:off x="2258640" y="3591720"/>
                      <a:ext cx="1728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Oval 575"/>
                    <p:cNvSpPr/>
                    <p:nvPr/>
                  </p:nvSpPr>
                  <p:spPr>
                    <a:xfrm flipH="1" rot="711600">
                      <a:off x="2241720" y="3596400"/>
                      <a:ext cx="1548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Oval 576"/>
                    <p:cNvSpPr/>
                    <p:nvPr/>
                  </p:nvSpPr>
                  <p:spPr>
                    <a:xfrm flipH="1" rot="711600">
                      <a:off x="2221200" y="3591720"/>
                      <a:ext cx="1728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1" name="Oval 577"/>
                    <p:cNvSpPr/>
                    <p:nvPr/>
                  </p:nvSpPr>
                  <p:spPr>
                    <a:xfrm flipH="1" rot="711600">
                      <a:off x="2213640" y="3575880"/>
                      <a:ext cx="1728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2" name="Group 578"/>
                  <p:cNvGrpSpPr/>
                  <p:nvPr/>
                </p:nvGrpSpPr>
                <p:grpSpPr>
                  <a:xfrm>
                    <a:off x="1584000" y="3360600"/>
                    <a:ext cx="135000" cy="258840"/>
                    <a:chOff x="1584000" y="3360600"/>
                    <a:chExt cx="135000" cy="258840"/>
                  </a:xfrm>
                </p:grpSpPr>
                <p:sp>
                  <p:nvSpPr>
                    <p:cNvPr id="1433" name="Freeform 579"/>
                    <p:cNvSpPr/>
                    <p:nvPr/>
                  </p:nvSpPr>
                  <p:spPr>
                    <a:xfrm>
                      <a:off x="1590840" y="3360600"/>
                      <a:ext cx="939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Oval 580"/>
                    <p:cNvSpPr/>
                    <p:nvPr/>
                  </p:nvSpPr>
                  <p:spPr>
                    <a:xfrm rot="21000000">
                      <a:off x="1617480" y="3554640"/>
                      <a:ext cx="3960" cy="52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360" bIns="-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Oval 581"/>
                    <p:cNvSpPr/>
                    <p:nvPr/>
                  </p:nvSpPr>
                  <p:spPr>
                    <a:xfrm rot="21000000">
                      <a:off x="1635840" y="3554640"/>
                      <a:ext cx="3960" cy="52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360" bIns="-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Oval 582"/>
                    <p:cNvSpPr/>
                    <p:nvPr/>
                  </p:nvSpPr>
                  <p:spPr>
                    <a:xfrm rot="21000000">
                      <a:off x="1653120" y="3543120"/>
                      <a:ext cx="3960" cy="52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360" bIns="-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583"/>
                    <p:cNvSpPr/>
                    <p:nvPr/>
                  </p:nvSpPr>
                  <p:spPr>
                    <a:xfrm rot="20760000">
                      <a:off x="1661400" y="3532320"/>
                      <a:ext cx="432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Oval 584"/>
                    <p:cNvSpPr/>
                    <p:nvPr/>
                  </p:nvSpPr>
                  <p:spPr>
                    <a:xfrm rot="20888400">
                      <a:off x="1661760" y="3564360"/>
                      <a:ext cx="1692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Oval 585"/>
                    <p:cNvSpPr/>
                    <p:nvPr/>
                  </p:nvSpPr>
                  <p:spPr>
                    <a:xfrm rot="20632200">
                      <a:off x="1590840" y="3522960"/>
                      <a:ext cx="79920" cy="61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586"/>
                    <p:cNvSpPr/>
                    <p:nvPr/>
                  </p:nvSpPr>
                  <p:spPr>
                    <a:xfrm>
                      <a:off x="1632240" y="3373560"/>
                      <a:ext cx="8676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Oval 587"/>
                    <p:cNvSpPr/>
                    <p:nvPr/>
                  </p:nvSpPr>
                  <p:spPr>
                    <a:xfrm rot="20760000">
                      <a:off x="1653120" y="3424680"/>
                      <a:ext cx="3960" cy="5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Oval 588"/>
                    <p:cNvSpPr/>
                    <p:nvPr/>
                  </p:nvSpPr>
                  <p:spPr>
                    <a:xfrm rot="20888400">
                      <a:off x="1617480" y="3591720"/>
                      <a:ext cx="1692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Oval 589"/>
                    <p:cNvSpPr/>
                    <p:nvPr/>
                  </p:nvSpPr>
                  <p:spPr>
                    <a:xfrm rot="20888400">
                      <a:off x="1635840" y="3596400"/>
                      <a:ext cx="1548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590"/>
                    <p:cNvSpPr/>
                    <p:nvPr/>
                  </p:nvSpPr>
                  <p:spPr>
                    <a:xfrm rot="20888400">
                      <a:off x="1654560" y="3591720"/>
                      <a:ext cx="16920" cy="15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Oval 591"/>
                    <p:cNvSpPr/>
                    <p:nvPr/>
                  </p:nvSpPr>
                  <p:spPr>
                    <a:xfrm rot="20888400">
                      <a:off x="1661760" y="3575880"/>
                      <a:ext cx="1692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392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6" name="AutoShape 592"/>
                  <p:cNvSpPr/>
                  <p:nvPr/>
                </p:nvSpPr>
                <p:spPr>
                  <a:xfrm>
                    <a:off x="1655640" y="4010040"/>
                    <a:ext cx="549360" cy="45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001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AutoShape 593"/>
                  <p:cNvSpPr/>
                  <p:nvPr/>
                </p:nvSpPr>
                <p:spPr>
                  <a:xfrm>
                    <a:off x="1687680" y="4010040"/>
                    <a:ext cx="38736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Oval 594"/>
                  <p:cNvSpPr/>
                  <p:nvPr/>
                </p:nvSpPr>
                <p:spPr>
                  <a:xfrm>
                    <a:off x="2075040" y="3587760"/>
                    <a:ext cx="129960" cy="12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Oval 595"/>
                  <p:cNvSpPr/>
                  <p:nvPr/>
                </p:nvSpPr>
                <p:spPr>
                  <a:xfrm>
                    <a:off x="1914480" y="3263760"/>
                    <a:ext cx="130320" cy="13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utoShape 596"/>
                  <p:cNvSpPr/>
                  <p:nvPr/>
                </p:nvSpPr>
                <p:spPr>
                  <a:xfrm>
                    <a:off x="1558800" y="3976560"/>
                    <a:ext cx="48600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>
                          <a:alpha val="4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utoShape 597"/>
                  <p:cNvSpPr/>
                  <p:nvPr/>
                </p:nvSpPr>
                <p:spPr>
                  <a:xfrm>
                    <a:off x="1461960" y="3846600"/>
                    <a:ext cx="9684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utoShape 598"/>
                  <p:cNvSpPr/>
                  <p:nvPr/>
                </p:nvSpPr>
                <p:spPr>
                  <a:xfrm>
                    <a:off x="1461960" y="4365720"/>
                    <a:ext cx="968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utoShape 599"/>
                  <p:cNvSpPr/>
                  <p:nvPr/>
                </p:nvSpPr>
                <p:spPr>
                  <a:xfrm>
                    <a:off x="2238480" y="3846600"/>
                    <a:ext cx="9684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AutoShape 600"/>
                  <p:cNvSpPr/>
                  <p:nvPr/>
                </p:nvSpPr>
                <p:spPr>
                  <a:xfrm>
                    <a:off x="2238480" y="4365720"/>
                    <a:ext cx="968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5" name="Group 601"/>
                <p:cNvGrpSpPr/>
                <p:nvPr/>
              </p:nvGrpSpPr>
              <p:grpSpPr>
                <a:xfrm>
                  <a:off x="1655640" y="1440000"/>
                  <a:ext cx="503280" cy="325440"/>
                  <a:chOff x="1655640" y="1440000"/>
                  <a:chExt cx="503280" cy="325440"/>
                </a:xfrm>
              </p:grpSpPr>
              <p:grpSp>
                <p:nvGrpSpPr>
                  <p:cNvPr id="1456" name="Group 602"/>
                  <p:cNvGrpSpPr/>
                  <p:nvPr/>
                </p:nvGrpSpPr>
                <p:grpSpPr>
                  <a:xfrm>
                    <a:off x="1687680" y="1440000"/>
                    <a:ext cx="112680" cy="90360"/>
                    <a:chOff x="1687680" y="1440000"/>
                    <a:chExt cx="112680" cy="90360"/>
                  </a:xfrm>
                </p:grpSpPr>
                <p:sp>
                  <p:nvSpPr>
                    <p:cNvPr id="1457" name="Oval 603"/>
                    <p:cNvSpPr/>
                    <p:nvPr/>
                  </p:nvSpPr>
                  <p:spPr>
                    <a:xfrm>
                      <a:off x="1710720" y="1440000"/>
                      <a:ext cx="89640" cy="90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604"/>
                    <p:cNvSpPr/>
                    <p:nvPr/>
                  </p:nvSpPr>
                  <p:spPr>
                    <a:xfrm flipH="1">
                      <a:off x="1687680" y="1461960"/>
                      <a:ext cx="9072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605"/>
                  <p:cNvGrpSpPr/>
                  <p:nvPr/>
                </p:nvGrpSpPr>
                <p:grpSpPr>
                  <a:xfrm>
                    <a:off x="2015640" y="1460520"/>
                    <a:ext cx="111600" cy="90720"/>
                    <a:chOff x="2015640" y="1460520"/>
                    <a:chExt cx="111600" cy="90720"/>
                  </a:xfrm>
                </p:grpSpPr>
                <p:sp>
                  <p:nvSpPr>
                    <p:cNvPr id="1460" name="Oval 606"/>
                    <p:cNvSpPr/>
                    <p:nvPr/>
                  </p:nvSpPr>
                  <p:spPr>
                    <a:xfrm flipH="1">
                      <a:off x="2015640" y="1460520"/>
                      <a:ext cx="88560" cy="9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607"/>
                    <p:cNvSpPr/>
                    <p:nvPr/>
                  </p:nvSpPr>
                  <p:spPr>
                    <a:xfrm>
                      <a:off x="2037600" y="1482480"/>
                      <a:ext cx="8964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2" name="Oval 608"/>
                  <p:cNvSpPr/>
                  <p:nvPr/>
                </p:nvSpPr>
                <p:spPr>
                  <a:xfrm>
                    <a:off x="1655640" y="1522440"/>
                    <a:ext cx="141480" cy="14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3262">
                          <a:alpha val="70196"/>
                        </a:srgbClr>
                      </a:gs>
                      <a:gs pos="100000">
                        <a:srgbClr val="ffdeb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3" name="Group 609"/>
                  <p:cNvGrpSpPr/>
                  <p:nvPr/>
                </p:nvGrpSpPr>
                <p:grpSpPr>
                  <a:xfrm>
                    <a:off x="2016000" y="1543320"/>
                    <a:ext cx="142920" cy="141120"/>
                    <a:chOff x="2016000" y="1543320"/>
                    <a:chExt cx="142920" cy="141120"/>
                  </a:xfrm>
                </p:grpSpPr>
                <p:sp>
                  <p:nvSpPr>
                    <p:cNvPr id="1464" name="Oval 610"/>
                    <p:cNvSpPr/>
                    <p:nvPr/>
                  </p:nvSpPr>
                  <p:spPr>
                    <a:xfrm>
                      <a:off x="2016000" y="1543320"/>
                      <a:ext cx="142200" cy="141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a3262">
                            <a:alpha val="7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Oval 611"/>
                    <p:cNvSpPr/>
                    <p:nvPr/>
                  </p:nvSpPr>
                  <p:spPr>
                    <a:xfrm>
                      <a:off x="2076120" y="1563480"/>
                      <a:ext cx="82800" cy="79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13b59">
                            <a:alpha val="3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AutoShape 612"/>
                  <p:cNvSpPr/>
                  <p:nvPr/>
                </p:nvSpPr>
                <p:spPr>
                  <a:xfrm rot="10800000">
                    <a:off x="1898640" y="1562040"/>
                    <a:ext cx="223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ec0b4"/>
                      </a:gs>
                      <a:gs pos="100000">
                        <a:srgbClr val="f1cdc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Oval 613"/>
                  <p:cNvSpPr/>
                  <p:nvPr/>
                </p:nvSpPr>
                <p:spPr>
                  <a:xfrm>
                    <a:off x="1817640" y="1500480"/>
                    <a:ext cx="204840" cy="20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>
                          <a:alpha val="60392"/>
                        </a:srgbClr>
                      </a:gs>
                      <a:gs pos="100000">
                        <a:srgbClr val="fffff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8" name="Group 614"/>
                  <p:cNvGrpSpPr/>
                  <p:nvPr/>
                </p:nvGrpSpPr>
                <p:grpSpPr>
                  <a:xfrm>
                    <a:off x="1809720" y="1684440"/>
                    <a:ext cx="204840" cy="81000"/>
                    <a:chOff x="1809720" y="1684440"/>
                    <a:chExt cx="204840" cy="81000"/>
                  </a:xfrm>
                </p:grpSpPr>
                <p:sp>
                  <p:nvSpPr>
                    <p:cNvPr id="1469" name="Oval 615"/>
                    <p:cNvSpPr/>
                    <p:nvPr/>
                  </p:nvSpPr>
                  <p:spPr>
                    <a:xfrm>
                      <a:off x="1809720" y="1684440"/>
                      <a:ext cx="204840" cy="81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d1a3">
                            <a:alpha val="40000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616"/>
                    <p:cNvSpPr/>
                    <p:nvPr/>
                  </p:nvSpPr>
                  <p:spPr>
                    <a:xfrm>
                      <a:off x="1883520" y="1725480"/>
                      <a:ext cx="55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">
                          <a:moveTo>
                            <a:pt x="0" y="4"/>
                          </a:moveTo>
                          <a:cubicBezTo>
                            <a:pt x="19" y="2"/>
                            <a:pt x="38" y="0"/>
                            <a:pt x="68" y="4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f6d3a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471" name="WordArt 626"/>
          <p:cNvSpPr txBox="1"/>
          <p:nvPr/>
        </p:nvSpPr>
        <p:spPr>
          <a:xfrm>
            <a:off x="2627280" y="26733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2" name="Text Box 582"/>
          <p:cNvSpPr/>
          <p:nvPr/>
        </p:nvSpPr>
        <p:spPr>
          <a:xfrm>
            <a:off x="6264360" y="5546880"/>
            <a:ext cx="2592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FF0D-454C-42DF-BB52-371CF7D301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2"/>
          <p:cNvSpPr/>
          <p:nvPr/>
        </p:nvSpPr>
        <p:spPr>
          <a:xfrm>
            <a:off x="1143000" y="3733920"/>
            <a:ext cx="678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3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"/>
          <p:cNvSpPr/>
          <p:nvPr/>
        </p:nvSpPr>
        <p:spPr>
          <a:xfrm>
            <a:off x="1143000" y="4800600"/>
            <a:ext cx="670572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2286000" y="25909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5335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振动幅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18 0.00578 C -0.01302 -0.04972 -0.02326 0.02312 -0.01805 -0.13573 C -0.01788 -0.14012 -0.01493 -0.14844 -0.01493 -0.14844 C -0.01441 -0.10405 -0.01493 -0.05966 -0.01336 -0.01527 C -0.01336 -0.01318 -0.01093 -0.01272 -0.01007 -0.0111 C -0.0092 -0.00925 -0.00902 -0.00694 -0.0085 -0.00486 C -0.00955 0.05387 -0.00538 0.06543 -0.01493 0.1052 C -0.01545 0.12138 -0.01458 0.1378 -0.01649 0.15375 C -0.01684 0.15583 -0.021 0.15791 -0.02118 0.15583 C -0.02187 0.14543 -0.01892 0.1341 -0.01649 0.12416 C -0.01493 0.06913 -0.01336 0.0141 -0.01007 -0.0407 C -0.01059 -0.07954 -0.01059 -0.11816 -0.01163 -0.157 C -0.0118 -0.1637 -0.01649 -0.17596 -0.01649 -0.17596 C -0.02309 -0.14914 -0.01944 -0.16764 -0.02118 -0.11885 C -0.02066 -0.0844 -0.021 -0.04972 -0.01961 -0.01527 C -0.01944 -0.01087 -0.01649 -0.00255 -0.01649 -0.00255 C -0.01597 0.05017 -0.01961 0.10335 -0.01493 0.15583 C -0.01441 0.16138 -0.00277 0.1593 -0.00225 0.15375 C 0.00469 0.06843 -0.00468 0.02196 0.00261 -0.04694 C 0.00226 -0.07515 0.02813 -0.16509 -0.00694 -0.18243 C -0.01059 -0.18174 -0.01475 -0.18243 -0.01805 -0.18012 C -0.01944 -0.1792 -0.01944 -0.17596 -0.01961 -0.17388 C -0.02048 -0.16694 -0.02066 -0.15977 -0.02118 -0.15284 C -0.02465 -0.10359 -0.02083 -0.12093 -0.02604 -0.09989 C -0.02882 -0.07723 -0.03316 -0.05434 -0.03715 -0.03214 C -0.03663 0.03121 -0.04045 0.09479 -0.03559 0.15791 C -0.03507 0.16369 -0.02361 0.16138 -0.02274 0.15583 C -0.01823 0.12693 -0.02222 0.09664 -0.02118 0.06705 C -0.02118 0.06497 -0.02014 0.06289 -0.01961 0.0608 C -0.01788 0.04716 -0.01614 0.03445 -0.01493 0.02057 C -0.01319 -0.02914 0.00313 -0.1644 -0.01805 -0.17388 C -0.02552 -0.16717 -0.02621 -0.16232 -0.02916 -0.15053 C -0.02968 -0.14844 -0.03073 -0.14428 -0.03073 -0.14428 C -0.0302 -0.04255 -0.09218 0.18427 -0.01805 0.16023 C -0.01753 0.15306 -0.01666 0.14612 -0.01649 0.13895 C -0.01527 0.07052 -0.01354 -0.08232 -0.01649 -0.15053 C -0.01666 -0.15284 -0.01961 -0.15214 -0.02118 -0.15284 C -0.025 -0.15769 -0.03385 -0.16532 -0.03385 -0.16532 C -0.04392 -0.16093 -0.03576 -0.16671 -0.03559 -0.157 C -0.03472 -0.11885 -0.03628 -0.10197 -0.03871 -0.07029 C -0.03819 0.00647 -0.04201 0.08369 -0.03715 0.16023 C -0.03663 0.16716 -0.02465 0.15815 -0.02274 0.15167 C -0.02326 0.0467 -0.00659 -0.26313 -0.03073 -0.16324 C -0.03073 -0.15816 -0.08975 0.2319 -0.02118 0.14543 C -0.01718 0.12901 -0.02309 0.14867 -0.01493 0.13479 C -0.01284 0.13132 -0.01267 0.12624 -0.01163 0.12208 C -0.01059 0.11791 -0.0085 0.10936 -0.0085 0.10936 C -0.00729 0.04554 0.0033 -0.15746 -0.01336 -0.1718 C -0.0302 -0.16948 -0.02673 -0.17226 -0.03559 -0.16116 C -0.04583 -0.12047 -0.0368 -0.07284 -0.03385 -0.03006 C -0.03333 0.00786 -0.03073 0.04601 -0.03073 0.08393 C -0.03073 0.10728 -0.0302 0.13063 -0.03229 0.15375 C -0.03246 0.15606 -0.03889 0.15583 -0.03715 0.15583 C -0.03489 0.15583 -0.03281 0.15445 -0.03073 0.15375 C -0.02795 0.14265 -0.02882 0.13109 -0.02604 0.12 C -0.02586 0.11445 -0.02343 0.043 -0.02274 0.03537 C -0.02187 0.02589 -0.01736 0.01109 -0.01493 0.00161 C -0.01145 -0.03954 -0.01232 -0.0229 -0.01493 -0.09365 C -0.01527 -0.10197 -0.01805 -0.11515 -0.01961 -0.12324 C -0.02048 -0.1274 -0.02274 -0.13573 -0.02274 -0.13573 C -0.02361 -0.15792 -0.0158 -0.18613 -0.03385 -0.17804 C -0.04114 -0.16347 -0.03906 -0.17018 -0.04184 -0.15908 C -0.04132 -0.13943 -0.03871 -0.11977 -0.03871 -0.09989 C -0.03871 0.16115 -0.10399 0.16624 -0.0276 0.15375 C -0.0158 0.14867 -0.02465 0.13988 -0.01805 0.12624 C -0.01753 0.11144 -0.0184 0.09641 -0.01649 0.08184 C -0.01614 0.0793 -0.01267 0.07976 -0.01163 0.07768 C -0.0085 0.07121 -0.00677 0.05826 -0.00538 0.05017 C -0.00642 -0.09735 0.04757 -0.18752 -0.02448 -0.17596 C -0.0309 -0.17318 -0.03333 -0.16972 -0.03559 -0.16116 C -0.02413 -0.05018 -0.03159 -0.01896 -0.03073 0.15583 C -0.0276 0.15514 -0.02361 0.15653 -0.02118 0.15375 C -0.01857 0.15075 -0.01805 0.14104 -0.01805 0.14104 C -0.01857 0.07838 -0.01857 0.01572 -0.01961 -0.04694 C -0.02014 -0.077 -0.02517 -0.10821 -0.01805 -0.13804 C -0.01961 -0.17573 -0.01041 -0.18359 -0.04027 -0.17388 C -0.04236 -0.17318 -0.0434 -0.16972 -0.04496 -0.16764 C -0.04739 -0.15839 -0.04566 -0.15122 -0.0434 -0.1422 C -0.04184 -0.07954 -0.04514 -0.09388 -0.03559 -0.0555 C -0.03524 -0.00948 -0.08194 0.21341 -0.02448 0.16231 C 0.02032 0.07421 -0.01961 0.1556 -0.02274 -0.14012 C -0.02291 -0.15261 -0.02257 -0.16879 -0.03073 -0.17596 C -0.04982 -0.16972 -0.03576 -0.13573 -0.03559 -0.11469 C -0.03507 -0.07446 -0.03559 -0.03446 -0.03559 0.00578 E">
                                      <p:cBhvr>
                                        <p:cTn id="13" dur="3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pic048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3"/>
          <p:cNvSpPr/>
          <p:nvPr/>
        </p:nvSpPr>
        <p:spPr>
          <a:xfrm>
            <a:off x="900000" y="260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bbe0e3"/>
                </a:solidFill>
                <a:latin typeface="Times New Roman"/>
              </a:rPr>
              <a:t>音调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826920" y="1484280"/>
            <a:ext cx="2232360" cy="934920"/>
          </a:xfrm>
          <a:prstGeom prst="ellipse">
            <a:avLst/>
          </a:prstGeom>
          <a:solidFill>
            <a:srgbClr val="ff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1258920" y="1700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实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6" descr="尺子"/>
          <p:cNvPicPr/>
          <p:nvPr/>
        </p:nvPicPr>
        <p:blipFill>
          <a:blip r:embed="rId2"/>
          <a:stretch/>
        </p:blipFill>
        <p:spPr>
          <a:xfrm>
            <a:off x="3203640" y="549360"/>
            <a:ext cx="5689440" cy="2987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68" name="Text Box 7"/>
          <p:cNvSpPr/>
          <p:nvPr/>
        </p:nvSpPr>
        <p:spPr>
          <a:xfrm>
            <a:off x="1066680" y="38862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4d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19194d"/>
                </a:solidFill>
                <a:latin typeface="Times New Roman"/>
              </a:rPr>
              <a:t>什么因素决定音调的高低？将一把钢尺紧按在桌面上，一端伸出桌边</a:t>
            </a:r>
            <a:r>
              <a:rPr b="0" lang="en-US" sz="2800" spc="-1" strike="noStrike">
                <a:solidFill>
                  <a:srgbClr val="19194d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19194d"/>
                </a:solidFill>
                <a:latin typeface="宋体"/>
              </a:rPr>
              <a:t>拨动钢尺，听它振动发出的声音，同时注意钢尺振动的快慢</a:t>
            </a:r>
            <a:r>
              <a:rPr b="0" lang="en-US" sz="2800" spc="-1" strike="noStrike">
                <a:solidFill>
                  <a:srgbClr val="19194d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19194d"/>
                </a:solidFill>
                <a:latin typeface="宋体"/>
              </a:rPr>
              <a:t>改变钢尺伸出桌边的长度，再次拨动</a:t>
            </a:r>
            <a:r>
              <a:rPr b="0" lang="en-US" sz="2800" spc="-1" strike="noStrike">
                <a:solidFill>
                  <a:srgbClr val="19194d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19194d"/>
                </a:solidFill>
                <a:latin typeface="宋体"/>
              </a:rPr>
              <a:t>注意使钢尺两次振动幅度大致相同</a:t>
            </a:r>
            <a:r>
              <a:rPr b="0" lang="en-US" sz="2800" spc="-1" strike="noStrike">
                <a:solidFill>
                  <a:srgbClr val="19194d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19194d"/>
                </a:solidFill>
                <a:latin typeface="宋体"/>
              </a:rPr>
              <a:t>比较两种情况下钢尺振动的快慢和发声的音调</a:t>
            </a:r>
            <a:r>
              <a:rPr b="0" lang="en-US" sz="2800" spc="-1" strike="noStrike">
                <a:solidFill>
                  <a:srgbClr val="19194d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34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1" name=""/>
          <p:cNvGraphicFramePr/>
          <p:nvPr/>
        </p:nvGraphicFramePr>
        <p:xfrm>
          <a:off x="826920" y="2610000"/>
          <a:ext cx="7704000" cy="2690640"/>
        </p:xfrm>
        <a:graphic>
          <a:graphicData uri="http://schemas.openxmlformats.org/drawingml/2006/table">
            <a:tbl>
              <a:tblPr/>
              <a:tblGrid>
                <a:gridCol w="2449440"/>
                <a:gridCol w="2590920"/>
                <a:gridCol w="266364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7030a0"/>
                          </a:solidFill>
                          <a:latin typeface="Verdana"/>
                          <a:ea typeface="黑体"/>
                        </a:rPr>
                        <a:t>振动幅度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7030a0"/>
                          </a:solidFill>
                          <a:latin typeface="Verdana"/>
                          <a:ea typeface="黑体"/>
                        </a:rPr>
                        <a:t>声音强弱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7030a0"/>
                          </a:solidFill>
                          <a:latin typeface="Verdana"/>
                          <a:ea typeface="黑体"/>
                        </a:rPr>
                        <a:t>轻轻拨动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7030a0"/>
                          </a:solidFill>
                          <a:latin typeface="Verdana"/>
                          <a:ea typeface="黑体"/>
                        </a:rPr>
                        <a:t>用力拨动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2" name="Text Box 193"/>
          <p:cNvSpPr/>
          <p:nvPr/>
        </p:nvSpPr>
        <p:spPr>
          <a:xfrm>
            <a:off x="3914640" y="450864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黑体"/>
              </a:rPr>
              <a:t>振动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94"/>
          <p:cNvSpPr/>
          <p:nvPr/>
        </p:nvSpPr>
        <p:spPr>
          <a:xfrm>
            <a:off x="3914640" y="3614760"/>
            <a:ext cx="19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黑体"/>
              </a:rPr>
              <a:t>振动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95"/>
          <p:cNvSpPr/>
          <p:nvPr/>
        </p:nvSpPr>
        <p:spPr>
          <a:xfrm>
            <a:off x="6443640" y="453240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黑体"/>
              </a:rPr>
              <a:t>声音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96"/>
          <p:cNvSpPr/>
          <p:nvPr/>
        </p:nvSpPr>
        <p:spPr>
          <a:xfrm>
            <a:off x="6408720" y="36180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黑体"/>
              </a:rPr>
              <a:t>声音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204"/>
          <p:cNvSpPr/>
          <p:nvPr/>
        </p:nvSpPr>
        <p:spPr>
          <a:xfrm>
            <a:off x="1079640" y="166536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观察比较声音强弱的变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3"/>
          <p:cNvSpPr/>
          <p:nvPr/>
        </p:nvSpPr>
        <p:spPr>
          <a:xfrm>
            <a:off x="2843280" y="2060640"/>
            <a:ext cx="5941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9194d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19194d"/>
                </a:solidFill>
                <a:latin typeface="黑体"/>
                <a:ea typeface="黑体"/>
              </a:rPr>
              <a:t>音的强弱用音量来描述，音量是描述物体振动幅度的一个量，单位是：分贝（</a:t>
            </a:r>
            <a:r>
              <a:rPr b="0" lang="en-US" sz="3600" spc="-1" strike="noStrike">
                <a:solidFill>
                  <a:srgbClr val="19194d"/>
                </a:solidFill>
                <a:latin typeface="黑体"/>
                <a:ea typeface="黑体"/>
              </a:rPr>
              <a:t>dB</a:t>
            </a:r>
            <a:r>
              <a:rPr b="0" lang="zh-CN" sz="3600" spc="-1" strike="noStrike">
                <a:solidFill>
                  <a:srgbClr val="19194d"/>
                </a:solidFill>
                <a:latin typeface="黑体"/>
                <a:ea typeface="黑体"/>
              </a:rPr>
              <a:t>）。振动幅度越大，声音越强，振动幅度越小，声音越弱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934920" y="154152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知道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5" descr="学生 女2"/>
          <p:cNvPicPr/>
          <p:nvPr/>
        </p:nvPicPr>
        <p:blipFill>
          <a:blip r:embed="rId2"/>
          <a:stretch/>
        </p:blipFill>
        <p:spPr>
          <a:xfrm>
            <a:off x="304920" y="3429000"/>
            <a:ext cx="2255760" cy="2374920"/>
          </a:xfrm>
          <a:prstGeom prst="rect">
            <a:avLst/>
          </a:prstGeom>
          <a:ln w="0">
            <a:noFill/>
          </a:ln>
        </p:spPr>
      </p:pic>
      <p:sp>
        <p:nvSpPr>
          <p:cNvPr id="784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3"/>
          <p:cNvSpPr/>
          <p:nvPr/>
        </p:nvSpPr>
        <p:spPr>
          <a:xfrm>
            <a:off x="934920" y="1277640"/>
            <a:ext cx="76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观察比较四个装有不同水量的杯子声音高低的变化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576360" y="3325320"/>
            <a:ext cx="838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用同样的力敲击这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杯子，预测它们发出的声音有什么不同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声音高、较高、较低、低来描述它们的变化。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填写记录表。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观察比较声音高低的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铅笔或小木棒敲击杯口，预测他们发出的声音会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"/>
          <p:cNvSpPr/>
          <p:nvPr/>
        </p:nvSpPr>
        <p:spPr>
          <a:xfrm>
            <a:off x="685800" y="3411360"/>
            <a:ext cx="1219320" cy="228600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5"/>
          <p:cNvSpPr/>
          <p:nvPr/>
        </p:nvSpPr>
        <p:spPr>
          <a:xfrm>
            <a:off x="2819520" y="3500280"/>
            <a:ext cx="1218960" cy="22860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6"/>
          <p:cNvSpPr/>
          <p:nvPr/>
        </p:nvSpPr>
        <p:spPr>
          <a:xfrm>
            <a:off x="5029200" y="3505320"/>
            <a:ext cx="1219320" cy="22860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7"/>
          <p:cNvSpPr/>
          <p:nvPr/>
        </p:nvSpPr>
        <p:spPr>
          <a:xfrm>
            <a:off x="7315200" y="3505320"/>
            <a:ext cx="1219320" cy="22860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8"/>
          <p:cNvSpPr/>
          <p:nvPr/>
        </p:nvSpPr>
        <p:spPr>
          <a:xfrm>
            <a:off x="685800" y="3429000"/>
            <a:ext cx="12193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9"/>
          <p:cNvSpPr/>
          <p:nvPr/>
        </p:nvSpPr>
        <p:spPr>
          <a:xfrm>
            <a:off x="2819520" y="4191120"/>
            <a:ext cx="12189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10"/>
          <p:cNvSpPr/>
          <p:nvPr/>
        </p:nvSpPr>
        <p:spPr>
          <a:xfrm>
            <a:off x="5029200" y="4724280"/>
            <a:ext cx="12193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11"/>
          <p:cNvSpPr/>
          <p:nvPr/>
        </p:nvSpPr>
        <p:spPr>
          <a:xfrm>
            <a:off x="7315200" y="5105520"/>
            <a:ext cx="12193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2"/>
          <p:cNvSpPr/>
          <p:nvPr/>
        </p:nvSpPr>
        <p:spPr>
          <a:xfrm>
            <a:off x="685800" y="5805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Black"/>
                <a:ea typeface="黑体"/>
              </a:rPr>
              <a:t>学会用高、较高、较低、低来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矩形 19"/>
          <p:cNvSpPr/>
          <p:nvPr/>
        </p:nvSpPr>
        <p:spPr>
          <a:xfrm>
            <a:off x="3989520" y="18003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8"/>
          <p:cNvSpPr/>
          <p:nvPr/>
        </p:nvSpPr>
        <p:spPr>
          <a:xfrm>
            <a:off x="4624560" y="5497560"/>
            <a:ext cx="4324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7" name=""/>
          <p:cNvGraphicFramePr/>
          <p:nvPr/>
        </p:nvGraphicFramePr>
        <p:xfrm>
          <a:off x="576360" y="2468520"/>
          <a:ext cx="8316720" cy="3200400"/>
        </p:xfrm>
        <a:graphic>
          <a:graphicData uri="http://schemas.openxmlformats.org/drawingml/2006/table">
            <a:tbl>
              <a:tblPr/>
              <a:tblGrid>
                <a:gridCol w="2590560"/>
                <a:gridCol w="1326960"/>
                <a:gridCol w="1636920"/>
                <a:gridCol w="1549440"/>
                <a:gridCol w="12128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杯子序号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预测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第一次实验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第二次实验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第三次实验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8" name="Text Box 165"/>
          <p:cNvSpPr/>
          <p:nvPr/>
        </p:nvSpPr>
        <p:spPr>
          <a:xfrm>
            <a:off x="3276720" y="14446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发声实验记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69"/>
          <p:cNvSpPr/>
          <p:nvPr/>
        </p:nvSpPr>
        <p:spPr>
          <a:xfrm>
            <a:off x="3492360" y="368784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70"/>
          <p:cNvSpPr/>
          <p:nvPr/>
        </p:nvSpPr>
        <p:spPr>
          <a:xfrm>
            <a:off x="3564000" y="433548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71"/>
          <p:cNvSpPr/>
          <p:nvPr/>
        </p:nvSpPr>
        <p:spPr>
          <a:xfrm>
            <a:off x="3527280" y="498312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72"/>
          <p:cNvSpPr/>
          <p:nvPr/>
        </p:nvSpPr>
        <p:spPr>
          <a:xfrm>
            <a:off x="4788000" y="440856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较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73"/>
          <p:cNvSpPr/>
          <p:nvPr/>
        </p:nvSpPr>
        <p:spPr>
          <a:xfrm>
            <a:off x="4788000" y="494820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较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74"/>
          <p:cNvSpPr/>
          <p:nvPr/>
        </p:nvSpPr>
        <p:spPr>
          <a:xfrm>
            <a:off x="4788000" y="375912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较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75"/>
          <p:cNvSpPr/>
          <p:nvPr/>
        </p:nvSpPr>
        <p:spPr>
          <a:xfrm>
            <a:off x="6227640" y="365112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较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76"/>
          <p:cNvSpPr/>
          <p:nvPr/>
        </p:nvSpPr>
        <p:spPr>
          <a:xfrm>
            <a:off x="6264360" y="430056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较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77"/>
          <p:cNvSpPr/>
          <p:nvPr/>
        </p:nvSpPr>
        <p:spPr>
          <a:xfrm>
            <a:off x="6264360" y="494820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较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78"/>
          <p:cNvSpPr/>
          <p:nvPr/>
        </p:nvSpPr>
        <p:spPr>
          <a:xfrm>
            <a:off x="7958160" y="49831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79"/>
          <p:cNvSpPr/>
          <p:nvPr/>
        </p:nvSpPr>
        <p:spPr>
          <a:xfrm>
            <a:off x="7921800" y="43005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80"/>
          <p:cNvSpPr/>
          <p:nvPr/>
        </p:nvSpPr>
        <p:spPr>
          <a:xfrm>
            <a:off x="7921800" y="36878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2:32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6:15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