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7.jpeg" ContentType="image/jpeg"/>
  <Override PartName="/ppt/media/image15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23.jpeg" ContentType="image/jpeg"/>
  <Override PartName="/ppt/media/image22.jpeg" ContentType="image/jpeg"/>
  <Override PartName="/ppt/media/image20.jpeg" ContentType="image/jpeg"/>
  <Override PartName="/ppt/media/image18.gif" ContentType="image/gif"/>
  <Override PartName="/ppt/media/image4.png" ContentType="image/png"/>
  <Override PartName="/ppt/media/image8.jpeg" ContentType="image/jpeg"/>
  <Override PartName="/ppt/media/image21.jpeg" ContentType="image/jpeg"/>
  <Override PartName="/ppt/media/image17.gif" ContentType="image/gif"/>
  <Override PartName="/ppt/media/image19.gif" ContentType="image/gif"/>
  <Override PartName="/ppt/media/image1.png" ContentType="image/png"/>
  <Override PartName="/ppt/media/image2.png" ContentType="image/png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43F-A7BE-4366-967D-F12F30DE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A4B-27BE-4A26-9437-321765B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F3E-27C7-4E27-BC62-9DC7D361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B35-12D4-4E91-8F7E-3FC1079E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C13E-219B-4AEA-9474-D6534957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025-EE63-4092-85FE-2D61B1F1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3EE-62CF-49D1-ADF0-80C256F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061E-C7F2-4D65-B30E-56CFE43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5CE-6AB5-4AD3-A2BE-0D103295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586-3385-433D-A457-0CAFC24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CC1-0A66-448C-8D70-C9238CD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29F-3EF2-4E39-B97A-2D7B300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414E-6DD9-4AAB-8861-542CB4C7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ADEF-D44D-4CCC-B70C-2A5A012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635-4582-49B8-A86C-F2AF88A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2C6A-709A-4ABB-8894-97E27E44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DC8B-BB13-43B1-BC3D-D73C55B0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00D-9A3A-433D-9CDE-E42110F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846-77CB-4A4B-B08C-A157F4E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7C5-803E-4C75-8CE2-74E3C81D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089-4164-4435-A8B9-30C0943A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25A-3838-4C96-931A-96D768B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49C-41C6-4B87-8297-EB4980D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EB2-4419-409A-B296-11FA2D1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4704-DF67-4575-8A9E-8F1AC3781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3920" y="13644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9200" y="531108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5CD9-A3C7-4AD3-8005-8DAA1D8401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39640;&#23665;&#27969;&#27700;&#38899;&#20048;.mp3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476360" y="2565360"/>
            <a:ext cx="670572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汉荣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高山流水音乐.mp3" descr=""/>
          <p:cNvPicPr/>
          <p:nvPr/>
        </p:nvPicPr>
        <p:blipFill>
          <a:blip r:embed="rId2"/>
          <a:stretch/>
        </p:blipFill>
        <p:spPr>
          <a:xfrm>
            <a:off x="102106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星"/>
          <p:cNvPicPr/>
          <p:nvPr/>
        </p:nvPicPr>
        <p:blipFill>
          <a:blip r:embed="rId3"/>
          <a:stretch/>
        </p:blipFill>
        <p:spPr>
          <a:xfrm>
            <a:off x="762120" y="533520"/>
            <a:ext cx="399960" cy="411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5440" y="542880"/>
            <a:ext cx="77929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13.</a:t>
            </a:r>
            <a:r>
              <a:rPr b="0" lang="zh-CN" sz="96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山中访友</a:t>
            </a:r>
            <a:endParaRPr b="0" lang="en-US" sz="9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2542320" y="6145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边框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685800" y="771480"/>
            <a:ext cx="769608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好，孔雀仙子！你张开七彩长裙，是邀我与你共舞吗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好，蝴蝶表妹！你漂亮的花衣是妈妈送给你的生日礼物吗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好，溪流里欢闹的小鱼！乐观是你的天性，自由是你的财富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8120" y="510552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好，孔雀仙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055" descr="蓝天白云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051"/>
          <p:cNvSpPr/>
          <p:nvPr/>
        </p:nvSpPr>
        <p:spPr>
          <a:xfrm>
            <a:off x="457200" y="3718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再请同学们“带着自己的好心情”去美美的品味课文，注意“读出自己”。然后四人一组，谈谈你品读这篇优美散文的感受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品位课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l_qy_w00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28036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685800" y="1143000"/>
            <a:ext cx="73152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a.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理解法</a:t>
            </a: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: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这篇文章或这句话美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美在＿＿；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b.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感悟法</a:t>
            </a: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: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读了＿＿ ，我感受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（体会到） ＿＿ ；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c.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拓展法</a:t>
            </a: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: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读了＿＿ ，我想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（仿佛看到） ＿＿ </a:t>
            </a: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;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d.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质疑法</a:t>
            </a:r>
            <a:r>
              <a:rPr b="1" lang="en-US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:</a:t>
            </a:r>
            <a:r>
              <a:rPr b="1" lang="zh-CN" sz="3600" spc="-1" strike="noStrike">
                <a:solidFill>
                  <a:srgbClr val="0f1021"/>
                </a:solidFill>
                <a:latin typeface="Times New Roman"/>
                <a:ea typeface="隶书"/>
              </a:rPr>
              <a:t>读了＿＿ ，我不理解＿＿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1021"/>
                </a:solidFill>
                <a:latin typeface="Tahoma"/>
                <a:ea typeface="隶书"/>
              </a:rPr>
              <a:t>学习方法提示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AutoShape 9">
            <a:hlinkClick r:id="rId2"/>
          </p:cNvPr>
          <p:cNvSpPr/>
          <p:nvPr/>
        </p:nvSpPr>
        <p:spPr>
          <a:xfrm>
            <a:off x="9144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075" descr="边框72"/>
          <p:cNvPicPr/>
          <p:nvPr/>
        </p:nvPicPr>
        <p:blipFill>
          <a:blip r:embed="rId1"/>
          <a:stretch/>
        </p:blipFill>
        <p:spPr>
          <a:xfrm>
            <a:off x="0" y="0"/>
            <a:ext cx="9448920" cy="8001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076"/>
          <p:cNvSpPr/>
          <p:nvPr/>
        </p:nvSpPr>
        <p:spPr>
          <a:xfrm>
            <a:off x="1371600" y="609480"/>
            <a:ext cx="61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天地给我们恩泽，自然赋予我们生命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Rectangle 3077"/>
          <p:cNvSpPr/>
          <p:nvPr/>
        </p:nvSpPr>
        <p:spPr>
          <a:xfrm>
            <a:off x="822240" y="220968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飞禽走兽，花鸟虫鱼，都是自然之子，都与我们有缘分，让我们把天地万物当成自己的亲友、邻居、伙伴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Rectangle 3078"/>
          <p:cNvSpPr/>
          <p:nvPr/>
        </p:nvSpPr>
        <p:spPr>
          <a:xfrm>
            <a:off x="5105520" y="4343400"/>
            <a:ext cx="3886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让我们与自然共荣共存，协调发展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总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1219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Tahoma"/>
              </a:rPr>
              <a:t>再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4" name="Picture 2" descr="jing14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0" y="380880"/>
            <a:ext cx="86868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让我们     热爱大自然 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保护大自然                           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    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亲近大自然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1523880" y="4038480"/>
            <a:ext cx="4038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再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B7BA-035A-425B-840F-9220E4E502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6f89f7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26668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速读课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5" name="Picture 1040" descr="bolang"/>
          <p:cNvPicPr/>
          <p:nvPr/>
        </p:nvPicPr>
        <p:blipFill>
          <a:blip r:embed="rId16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27"/>
          <p:cNvSpPr/>
          <p:nvPr/>
        </p:nvSpPr>
        <p:spPr>
          <a:xfrm>
            <a:off x="762120" y="1523880"/>
            <a:ext cx="785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请同学们速读课文，借助工具书，扫清文字障碍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1043" descr="星"/>
          <p:cNvPicPr/>
          <p:nvPr/>
        </p:nvPicPr>
        <p:blipFill>
          <a:blip r:embed="rId17"/>
          <a:stretch/>
        </p:blipFill>
        <p:spPr>
          <a:xfrm>
            <a:off x="6705720" y="22860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44" descr="星"/>
          <p:cNvPicPr/>
          <p:nvPr/>
        </p:nvPicPr>
        <p:blipFill>
          <a:blip r:embed="rId18"/>
          <a:stretch/>
        </p:blipFill>
        <p:spPr>
          <a:xfrm>
            <a:off x="762120" y="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45" descr="星"/>
          <p:cNvPicPr/>
          <p:nvPr/>
        </p:nvPicPr>
        <p:blipFill>
          <a:blip r:embed="rId19"/>
          <a:stretch/>
        </p:blipFill>
        <p:spPr>
          <a:xfrm>
            <a:off x="4648320" y="411480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46" descr="星"/>
          <p:cNvPicPr/>
          <p:nvPr/>
        </p:nvPicPr>
        <p:blipFill>
          <a:blip r:embed="rId20"/>
          <a:stretch/>
        </p:blipFill>
        <p:spPr>
          <a:xfrm>
            <a:off x="2971800" y="411480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21" name="高山流水音乐.mp3" descr=""/>
          <p:cNvPicPr/>
          <p:nvPr/>
        </p:nvPicPr>
        <p:blipFill>
          <a:blip r:embed="rId2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"/>
          <p:cNvSpPr/>
          <p:nvPr/>
        </p:nvSpPr>
        <p:spPr>
          <a:xfrm>
            <a:off x="0" y="609444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板尽在：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6" descr="花3"/>
          <p:cNvPicPr/>
          <p:nvPr/>
        </p:nvPicPr>
        <p:blipFill>
          <a:blip r:embed="rId2"/>
          <a:stretch/>
        </p:blipFill>
        <p:spPr>
          <a:xfrm>
            <a:off x="0" y="0"/>
            <a:ext cx="10439280" cy="72388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1676520" y="114300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Times New Roman"/>
                <a:ea typeface="隶书"/>
              </a:rPr>
              <a:t>山中访友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505320" y="2286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李汉荣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914400" y="3276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33520" y="365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美美的品味，感悟内容，了解作者所访之“友”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862164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60948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ahoma"/>
                <a:ea typeface="隶书"/>
              </a:rPr>
              <a:t>美文美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4343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分组讨论</a:t>
            </a:r>
            <a:r>
              <a:rPr b="1" lang="zh-CN" sz="4400" spc="-1" strike="noStrike">
                <a:solidFill>
                  <a:srgbClr val="b7c1eb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2514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1.</a:t>
            </a:r>
            <a:r>
              <a:rPr b="1" lang="zh-CN" sz="4400" spc="-1" strike="noStrike">
                <a:solidFill>
                  <a:srgbClr val="009900"/>
                </a:solidFill>
                <a:latin typeface="Tahoma"/>
              </a:rPr>
              <a:t>作者到山中拜访的是什么朋友？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009900"/>
                </a:solidFill>
                <a:latin typeface="Tahoma"/>
              </a:rPr>
              <a:t>都有哪些朋友呢？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3.</a:t>
            </a:r>
            <a:r>
              <a:rPr b="1" lang="zh-CN" sz="4400" spc="-1" strike="noStrike">
                <a:solidFill>
                  <a:srgbClr val="009900"/>
                </a:solidFill>
                <a:latin typeface="Tahoma"/>
              </a:rPr>
              <a:t>作者是怎样称呼他们的？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4.</a:t>
            </a:r>
            <a:r>
              <a:rPr b="1" lang="zh-CN" sz="4400" spc="-1" strike="noStrike">
                <a:solidFill>
                  <a:srgbClr val="009900"/>
                </a:solidFill>
                <a:latin typeface="Tahoma"/>
              </a:rPr>
              <a:t>表达了作者怎样的感情？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3" descr="花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380880" y="380880"/>
            <a:ext cx="8382240" cy="62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朋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—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自然界的各种景物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古桥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树林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山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溪流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白云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瀑布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悬崖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云雀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石头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落叶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小花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阵雨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老柏树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蚂蚁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归鸟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72400" y="1828440"/>
            <a:ext cx="38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朋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3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3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3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3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3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3048120" y="60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古桥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143000" y="1447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树林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04920" y="2819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山泉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666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溪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362320" y="5257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白云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4572000" y="5105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瀑布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579132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悬崖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6477120" y="27432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云雀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334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蚂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3200400" y="1143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老朋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7524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知己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838080" y="3505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姐姐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1600200" y="4876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妹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9718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大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4495680" y="5715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大哥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6324480" y="4800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爷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08660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弟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5867280" y="2133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小弟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Oval 24"/>
          <p:cNvSpPr/>
          <p:nvPr/>
        </p:nvSpPr>
        <p:spPr>
          <a:xfrm>
            <a:off x="3276720" y="3048120"/>
            <a:ext cx="1752480" cy="1523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3276720" y="2590920"/>
            <a:ext cx="182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ff"/>
                </a:solidFill>
                <a:latin typeface="Times New Roman"/>
                <a:ea typeface="隶书"/>
              </a:rPr>
              <a:t>家</a:t>
            </a:r>
            <a:endParaRPr b="0" lang="en-US" sz="12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称呼</a:t>
            </a:r>
            <a:endParaRPr b="0" lang="en-US" sz="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8" descr="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0" y="2859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字里行间透露出作者与山中朋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友之间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亲切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，表达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对大自然的热爱之情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762120" y="1187280"/>
            <a:ext cx="697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1021"/>
                </a:solidFill>
                <a:latin typeface="Tahoma"/>
                <a:ea typeface="黑体"/>
              </a:rPr>
              <a:t>表达了作者怎样的感情？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079"/>
          <p:cNvSpPr/>
          <p:nvPr/>
        </p:nvSpPr>
        <p:spPr>
          <a:xfrm>
            <a:off x="5410080" y="2286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玫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2" name="Picture 3088" descr="MEIGUI1"/>
          <p:cNvPicPr/>
          <p:nvPr/>
        </p:nvPicPr>
        <p:blipFill>
          <a:blip r:embed="rId1"/>
          <a:stretch/>
        </p:blipFill>
        <p:spPr>
          <a:xfrm>
            <a:off x="4724280" y="0"/>
            <a:ext cx="3581640" cy="2438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090" descr="quanshui"/>
          <p:cNvPicPr/>
          <p:nvPr/>
        </p:nvPicPr>
        <p:blipFill>
          <a:blip r:embed="rId2"/>
          <a:stretch/>
        </p:blipFill>
        <p:spPr>
          <a:xfrm>
            <a:off x="838080" y="24382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095" descr="A5_282"/>
          <p:cNvPicPr/>
          <p:nvPr/>
        </p:nvPicPr>
        <p:blipFill>
          <a:blip r:embed="rId3"/>
          <a:stretch/>
        </p:blipFill>
        <p:spPr>
          <a:xfrm>
            <a:off x="1371600" y="380880"/>
            <a:ext cx="2666880" cy="191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097" descr="1_00992"/>
          <p:cNvPicPr/>
          <p:nvPr/>
        </p:nvPicPr>
        <p:blipFill>
          <a:blip r:embed="rId4"/>
          <a:stretch/>
        </p:blipFill>
        <p:spPr>
          <a:xfrm>
            <a:off x="441972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098"/>
          <p:cNvSpPr/>
          <p:nvPr/>
        </p:nvSpPr>
        <p:spPr>
          <a:xfrm flipH="1">
            <a:off x="3705480" y="3657600"/>
            <a:ext cx="7898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孔雀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3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隶书"/>
              </a:rPr>
              <a:t>小鱼儿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Text Box 3101"/>
          <p:cNvSpPr/>
          <p:nvPr/>
        </p:nvSpPr>
        <p:spPr>
          <a:xfrm>
            <a:off x="3960" y="3429000"/>
            <a:ext cx="7898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  <a:ea typeface="隶书"/>
              </a:rPr>
              <a:t>山泉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想像训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746280" y="38268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Picture 6" descr="tu"/>
          <p:cNvPicPr/>
          <p:nvPr/>
        </p:nvPicPr>
        <p:blipFill>
          <a:blip r:embed="rId1"/>
          <a:stretch/>
        </p:blipFill>
        <p:spPr>
          <a:xfrm>
            <a:off x="2819520" y="3048120"/>
            <a:ext cx="1542960" cy="147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星"/>
          <p:cNvPicPr/>
          <p:nvPr/>
        </p:nvPicPr>
        <p:blipFill>
          <a:blip r:embed="rId2"/>
          <a:stretch/>
        </p:blipFill>
        <p:spPr>
          <a:xfrm>
            <a:off x="762120" y="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73" name="WordArt 17" descr=""/>
          <p:cNvPicPr/>
          <p:nvPr/>
        </p:nvPicPr>
        <p:blipFill>
          <a:blip r:embed="rId3"/>
          <a:stretch/>
        </p:blipFill>
        <p:spPr>
          <a:xfrm>
            <a:off x="-228600" y="0"/>
            <a:ext cx="831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zihua"/>
          <p:cNvPicPr/>
          <p:nvPr/>
        </p:nvPicPr>
        <p:blipFill>
          <a:blip r:embed="rId4"/>
          <a:stretch/>
        </p:blipFill>
        <p:spPr>
          <a:xfrm>
            <a:off x="5410080" y="2819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A4_105"/>
          <p:cNvPicPr/>
          <p:nvPr/>
        </p:nvPicPr>
        <p:blipFill>
          <a:blip r:embed="rId5"/>
          <a:stretch/>
        </p:blipFill>
        <p:spPr>
          <a:xfrm>
            <a:off x="609480" y="4648320"/>
            <a:ext cx="2590920" cy="1676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0" descr="A2_001"/>
          <p:cNvPicPr/>
          <p:nvPr/>
        </p:nvPicPr>
        <p:blipFill>
          <a:blip r:embed="rId6"/>
          <a:stretch/>
        </p:blipFill>
        <p:spPr>
          <a:xfrm>
            <a:off x="5410080" y="3505320"/>
            <a:ext cx="332424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54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9:59Z</dcterms:modified>
  <cp:revision>2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