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D18D-BC4B-40A4-9E17-65A46068C2F2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5D71-6476-4648-A03A-43A21A6047F4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人教logo"/>
          <p:cNvPicPr/>
          <p:nvPr/>
        </p:nvPicPr>
        <p:blipFill>
          <a:blip r:embed="rId2"/>
          <a:stretch/>
        </p:blipFill>
        <p:spPr>
          <a:xfrm>
            <a:off x="324000" y="6070680"/>
            <a:ext cx="3168360" cy="34776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971640" y="2133720"/>
            <a:ext cx="58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长方体和正方体的体积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长方体和正方体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798480" y="879480"/>
            <a:ext cx="798480" cy="798480"/>
          </a:xfrm>
          <a:prstGeom prst="rect">
            <a:avLst/>
          </a:prstGeom>
          <a:ln w="0">
            <a:noFill/>
          </a:ln>
        </p:spPr>
      </p:pic>
      <p:sp>
        <p:nvSpPr>
          <p:cNvPr id="49" name="矩形 8"/>
          <p:cNvSpPr/>
          <p:nvPr/>
        </p:nvSpPr>
        <p:spPr>
          <a:xfrm>
            <a:off x="3616560" y="60404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5580000" y="1484280"/>
            <a:ext cx="3024360" cy="792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99cc00"/>
                </a:solidFill>
                <a:latin typeface="楷体_GB2312"/>
              </a:rPr>
              <a:t>◎</a:t>
            </a:r>
            <a:r>
              <a:rPr b="1" lang="zh-CN" sz="3000" spc="-1" strike="noStrike">
                <a:solidFill>
                  <a:srgbClr val="99cc00"/>
                </a:solidFill>
                <a:latin typeface="宋体"/>
                <a:ea typeface="宋体"/>
              </a:rPr>
              <a:t>你知道吗？</a:t>
            </a:r>
            <a:r>
              <a:rPr b="0" lang="en-US" sz="3000" spc="-1" strike="noStrike">
                <a:solidFill>
                  <a:srgbClr val="99cc00"/>
                </a:solidFill>
                <a:latin typeface="楷体_GB2312"/>
              </a:rPr>
              <a:t>◎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042920" y="25099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人们很早就得出了长方体、圆柱等形体的体积计算公式。因为它们是河堤、谷仓等的常见形状，而且还有计算体积的需要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我国古代数学名著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九章算术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，集中而正确地给出了立体图形的体积计算公式。书中在求底面是正方形的长方体体积时，是这样说的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方自乘，以高乘之即积尺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就是说先用边长乘边长得底面积，再乘高就得到长方体的体积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4"/>
          <p:cNvSpPr/>
          <p:nvPr/>
        </p:nvSpPr>
        <p:spPr>
          <a:xfrm>
            <a:off x="1474920" y="2276640"/>
            <a:ext cx="61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E070-FC91-42F1-900D-B0957C11939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330200" y="3213000"/>
            <a:ext cx="7202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棱长是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的正方体，体积是（  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330200" y="381492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棱长是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的正方体，体积是（  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1320840" y="4254480"/>
            <a:ext cx="6770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棱长是（     ）的正方体，体积是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900000" y="180972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计量体积要用体积单位，常用的体积单位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         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         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       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可以分别写成（    ）、（    ）和（ 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" name="TextBox 28"/>
          <p:cNvSpPr/>
          <p:nvPr/>
        </p:nvSpPr>
        <p:spPr>
          <a:xfrm>
            <a:off x="6445080" y="18194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宋体"/>
                <a:ea typeface="宋体"/>
              </a:rPr>
              <a:t>立方厘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" name="TextBox 29"/>
          <p:cNvSpPr/>
          <p:nvPr/>
        </p:nvSpPr>
        <p:spPr>
          <a:xfrm>
            <a:off x="1096920" y="21812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宋体"/>
                <a:ea typeface="宋体"/>
              </a:rPr>
              <a:t>立方分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" name="TextBox 30"/>
          <p:cNvSpPr/>
          <p:nvPr/>
        </p:nvSpPr>
        <p:spPr>
          <a:xfrm>
            <a:off x="2736720" y="218124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宋体"/>
                <a:ea typeface="宋体"/>
              </a:rPr>
              <a:t>立方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" name="TextBox 31"/>
          <p:cNvSpPr/>
          <p:nvPr/>
        </p:nvSpPr>
        <p:spPr>
          <a:xfrm>
            <a:off x="5805360" y="21906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" name="TextBox 32"/>
          <p:cNvSpPr/>
          <p:nvPr/>
        </p:nvSpPr>
        <p:spPr>
          <a:xfrm>
            <a:off x="7029360" y="2195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  <a:ea typeface="宋体"/>
              </a:rPr>
              <a:t>dm</a:t>
            </a:r>
            <a:r>
              <a:rPr b="1" lang="en-US" sz="20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" name="TextBox 33"/>
          <p:cNvSpPr/>
          <p:nvPr/>
        </p:nvSpPr>
        <p:spPr>
          <a:xfrm>
            <a:off x="1265400" y="256068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" name="TextBox 34"/>
          <p:cNvSpPr/>
          <p:nvPr/>
        </p:nvSpPr>
        <p:spPr>
          <a:xfrm>
            <a:off x="5326200" y="3822840"/>
            <a:ext cx="13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d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" name="TextBox 35"/>
          <p:cNvSpPr/>
          <p:nvPr/>
        </p:nvSpPr>
        <p:spPr>
          <a:xfrm>
            <a:off x="2862360" y="4329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" name="TextBox 36"/>
          <p:cNvSpPr/>
          <p:nvPr/>
        </p:nvSpPr>
        <p:spPr>
          <a:xfrm>
            <a:off x="5292720" y="327168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3"/>
          <p:cNvSpPr/>
          <p:nvPr/>
        </p:nvSpPr>
        <p:spPr>
          <a:xfrm>
            <a:off x="900000" y="15494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214200" y="195120"/>
            <a:ext cx="871560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2627280" y="1738440"/>
            <a:ext cx="2881440" cy="753840"/>
          </a:xfrm>
          <a:prstGeom prst="rect">
            <a:avLst/>
          </a:prstGeom>
          <a:solidFill>
            <a:srgbClr val="ff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2550960" y="1830240"/>
            <a:ext cx="3106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dm</a:t>
            </a:r>
            <a:r>
              <a:rPr b="1" lang="en-US" sz="2800" spc="-1" strike="noStrike" baseline="30000">
                <a:solidFill>
                  <a:srgbClr val="ff3399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______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cm</a:t>
            </a:r>
            <a:r>
              <a:rPr b="1" lang="en-US" sz="2800" spc="-1" strike="noStrike" baseline="30000">
                <a:solidFill>
                  <a:srgbClr val="ff3399"/>
                </a:solidFill>
                <a:latin typeface="Arial"/>
                <a:ea typeface="宋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3851280" y="1844640"/>
            <a:ext cx="1104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100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700360" y="4869000"/>
            <a:ext cx="2808360" cy="682560"/>
          </a:xfrm>
          <a:prstGeom prst="rect">
            <a:avLst/>
          </a:prstGeom>
          <a:solidFill>
            <a:srgbClr val="ff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927080" y="4892760"/>
            <a:ext cx="396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30000">
                <a:solidFill>
                  <a:srgbClr val="ff3399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3399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______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dm</a:t>
            </a:r>
            <a:r>
              <a:rPr b="1" lang="en-US" sz="2800" spc="-1" strike="noStrike" baseline="30000">
                <a:solidFill>
                  <a:srgbClr val="ff3399"/>
                </a:solidFill>
                <a:latin typeface="Arial"/>
                <a:ea typeface="宋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774960" y="4878360"/>
            <a:ext cx="1104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100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73" name="Group 17"/>
          <p:cNvGrpSpPr/>
          <p:nvPr/>
        </p:nvGrpSpPr>
        <p:grpSpPr>
          <a:xfrm>
            <a:off x="900000" y="3027240"/>
            <a:ext cx="5707080" cy="1465560"/>
            <a:chOff x="900000" y="3027240"/>
            <a:chExt cx="5707080" cy="1465560"/>
          </a:xfrm>
        </p:grpSpPr>
        <p:pic>
          <p:nvPicPr>
            <p:cNvPr id="74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900000" y="3213000"/>
              <a:ext cx="152424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AutoShape 27"/>
            <p:cNvSpPr/>
            <p:nvPr/>
          </p:nvSpPr>
          <p:spPr>
            <a:xfrm>
              <a:off x="2771640" y="3027240"/>
              <a:ext cx="3835440" cy="944640"/>
            </a:xfrm>
            <a:prstGeom prst="wedgeRoundRectCallout">
              <a:avLst>
                <a:gd name="adj1" fmla="val -58069"/>
                <a:gd name="adj2" fmla="val 249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仿照上面的方法，你能推算出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等于多少立方分米吗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31880" y="3005280"/>
          <a:ext cx="7656480" cy="3087720"/>
        </p:xfrm>
        <a:graphic>
          <a:graphicData uri="http://schemas.openxmlformats.org/drawingml/2006/table">
            <a:tbl>
              <a:tblPr/>
              <a:tblGrid>
                <a:gridCol w="944640"/>
                <a:gridCol w="4711680"/>
                <a:gridCol w="2000160"/>
              </a:tblGrid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位名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相邻两个单位间的进率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、分米、厘米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面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平方米、平方分米、平方厘米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体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立方米、立方分米、立方厘米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Rectangle 25"/>
          <p:cNvSpPr/>
          <p:nvPr/>
        </p:nvSpPr>
        <p:spPr>
          <a:xfrm>
            <a:off x="7116840" y="402264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7040520" y="480060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7005600" y="5492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1" name="Group 36"/>
          <p:cNvGrpSpPr/>
          <p:nvPr/>
        </p:nvGrpSpPr>
        <p:grpSpPr>
          <a:xfrm>
            <a:off x="2843280" y="1268280"/>
            <a:ext cx="5773680" cy="1368720"/>
            <a:chOff x="2843280" y="1268280"/>
            <a:chExt cx="5773680" cy="1368720"/>
          </a:xfrm>
        </p:grpSpPr>
        <p:pic>
          <p:nvPicPr>
            <p:cNvPr id="82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093080" y="126828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AutoShape 27"/>
            <p:cNvSpPr/>
            <p:nvPr/>
          </p:nvSpPr>
          <p:spPr>
            <a:xfrm>
              <a:off x="2843280" y="1557360"/>
              <a:ext cx="4105080" cy="1079640"/>
            </a:xfrm>
            <a:prstGeom prst="wedgeRoundRectCallout">
              <a:avLst>
                <a:gd name="adj1" fmla="val 56069"/>
                <a:gd name="adj2" fmla="val -13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到现在为止，我们已经学习了哪些计量单位？请整理在表中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68360" y="177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多少立方分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39640" y="2708280"/>
            <a:ext cx="3600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＝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4427640" y="175428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多少立方分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37080" y="2698920"/>
            <a:ext cx="4606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＝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9" name="Group 17"/>
          <p:cNvGrpSpPr/>
          <p:nvPr/>
        </p:nvGrpSpPr>
        <p:grpSpPr>
          <a:xfrm>
            <a:off x="3419640" y="4581360"/>
            <a:ext cx="3830400" cy="1279800"/>
            <a:chOff x="3419640" y="4581360"/>
            <a:chExt cx="3830400" cy="1279800"/>
          </a:xfrm>
        </p:grpSpPr>
        <p:pic>
          <p:nvPicPr>
            <p:cNvPr id="90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5726160" y="458136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27"/>
            <p:cNvSpPr/>
            <p:nvPr/>
          </p:nvSpPr>
          <p:spPr>
            <a:xfrm>
              <a:off x="3419640" y="4869000"/>
              <a:ext cx="1871640" cy="645840"/>
            </a:xfrm>
            <a:prstGeom prst="wedgeRoundRectCallout">
              <a:avLst>
                <a:gd name="adj1" fmla="val 67981"/>
                <a:gd name="adj2" fmla="val -381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自己试一试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2" name="Line 19"/>
          <p:cNvSpPr/>
          <p:nvPr/>
        </p:nvSpPr>
        <p:spPr>
          <a:xfrm>
            <a:off x="5219640" y="3294000"/>
            <a:ext cx="863640" cy="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Line 20"/>
          <p:cNvSpPr/>
          <p:nvPr/>
        </p:nvSpPr>
        <p:spPr>
          <a:xfrm>
            <a:off x="2386080" y="3933720"/>
            <a:ext cx="890640" cy="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6877080" y="3933720"/>
            <a:ext cx="863640" cy="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2353320" y="2789280"/>
            <a:ext cx="97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00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Line 26"/>
          <p:cNvSpPr/>
          <p:nvPr/>
        </p:nvSpPr>
        <p:spPr>
          <a:xfrm>
            <a:off x="2411280" y="3303720"/>
            <a:ext cx="863640" cy="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5150520" y="2790720"/>
            <a:ext cx="97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00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2397240" y="3429000"/>
            <a:ext cx="977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380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6960240" y="3424320"/>
            <a:ext cx="665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文本框 2"/>
          <p:cNvSpPr/>
          <p:nvPr/>
        </p:nvSpPr>
        <p:spPr>
          <a:xfrm>
            <a:off x="295200" y="5861160"/>
            <a:ext cx="55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258920" y="1469880"/>
            <a:ext cx="547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牛奶包装箱的体积是多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579840" y="3914640"/>
            <a:ext cx="30225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0×30×40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60000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cm</a:t>
            </a:r>
            <a:r>
              <a:rPr b="1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484360" y="5361120"/>
            <a:ext cx="58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60000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cm</a:t>
            </a:r>
            <a:r>
              <a:rPr b="1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60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dm</a:t>
            </a:r>
            <a:r>
              <a:rPr b="1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06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m</a:t>
            </a:r>
            <a:r>
              <a:rPr b="1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348000" y="3429000"/>
            <a:ext cx="2197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66ff"/>
                </a:solidFill>
                <a:latin typeface="Times New Roman"/>
              </a:rPr>
              <a:t>a b h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6" name="Group 21"/>
          <p:cNvGrpSpPr/>
          <p:nvPr/>
        </p:nvGrpSpPr>
        <p:grpSpPr>
          <a:xfrm>
            <a:off x="395280" y="2276640"/>
            <a:ext cx="4753080" cy="1414440"/>
            <a:chOff x="395280" y="2276640"/>
            <a:chExt cx="4753080" cy="1414440"/>
          </a:xfrm>
        </p:grpSpPr>
        <p:pic>
          <p:nvPicPr>
            <p:cNvPr id="107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395280" y="227664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AutoShape 27"/>
            <p:cNvSpPr/>
            <p:nvPr/>
          </p:nvSpPr>
          <p:spPr>
            <a:xfrm>
              <a:off x="2124000" y="2349360"/>
              <a:ext cx="3024360" cy="1008360"/>
            </a:xfrm>
            <a:prstGeom prst="wedgeRoundRectCallout">
              <a:avLst>
                <a:gd name="adj1" fmla="val -61708"/>
                <a:gd name="adj2" fmla="val -52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箱上的尺寸一般是这个长方体的长、宽、高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09" name="Group 23"/>
          <p:cNvGrpSpPr/>
          <p:nvPr/>
        </p:nvGrpSpPr>
        <p:grpSpPr>
          <a:xfrm>
            <a:off x="6084720" y="2057400"/>
            <a:ext cx="2411280" cy="2234520"/>
            <a:chOff x="6084720" y="2057400"/>
            <a:chExt cx="2411280" cy="2234520"/>
          </a:xfrm>
        </p:grpSpPr>
        <p:sp>
          <p:nvSpPr>
            <p:cNvPr id="110" name="Rectangle 6"/>
            <p:cNvSpPr/>
            <p:nvPr/>
          </p:nvSpPr>
          <p:spPr>
            <a:xfrm>
              <a:off x="6450840" y="38322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 rot="18112200">
              <a:off x="7698240" y="34329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 rot="16200000">
              <a:off x="7839720" y="26305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13" name="Picture 22" descr="29副本"/>
            <p:cNvPicPr/>
            <p:nvPr/>
          </p:nvPicPr>
          <p:blipFill>
            <a:blip r:embed="rId2"/>
            <a:stretch/>
          </p:blipFill>
          <p:spPr>
            <a:xfrm>
              <a:off x="6084720" y="2057400"/>
              <a:ext cx="2040120" cy="1876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306520" y="2786040"/>
            <a:ext cx="46069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2195640" y="3933720"/>
            <a:ext cx="46069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029120" y="2982960"/>
            <a:ext cx="151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350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297320" y="4138560"/>
            <a:ext cx="874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0</a:t>
            </a:r>
            <a:r>
              <a:rPr b="1" lang="en-US" sz="30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268360" y="5241960"/>
            <a:ext cx="46072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5m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781440" y="5445000"/>
            <a:ext cx="1739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25000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1" name="Group 18"/>
          <p:cNvGrpSpPr/>
          <p:nvPr/>
        </p:nvGrpSpPr>
        <p:grpSpPr>
          <a:xfrm>
            <a:off x="3635280" y="1268280"/>
            <a:ext cx="4981680" cy="1279800"/>
            <a:chOff x="3635280" y="1268280"/>
            <a:chExt cx="4981680" cy="1279800"/>
          </a:xfrm>
        </p:grpSpPr>
        <p:pic>
          <p:nvPicPr>
            <p:cNvPr id="122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093080" y="126828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AutoShape 27"/>
            <p:cNvSpPr/>
            <p:nvPr/>
          </p:nvSpPr>
          <p:spPr>
            <a:xfrm>
              <a:off x="3635280" y="1701720"/>
              <a:ext cx="3313080" cy="574920"/>
            </a:xfrm>
            <a:prstGeom prst="wedgeRoundRectCallout">
              <a:avLst>
                <a:gd name="adj1" fmla="val 57523"/>
                <a:gd name="adj2" fmla="val 16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清楚单位间的进率哦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826920" y="167004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要砌一道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砖墙。如果每立方米用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2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块，一共要用砖多少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1403280" y="2781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24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24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692360" y="33577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V 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a b h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969920" y="386712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5×0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4×3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1476360" y="515772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8×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525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5670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块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1258920" y="5805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答：一共要用砖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5670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1" name="Picture 11" descr=""/>
          <p:cNvPicPr/>
          <p:nvPr/>
        </p:nvPicPr>
        <p:blipFill>
          <a:blip r:embed="rId1"/>
          <a:stretch/>
        </p:blipFill>
        <p:spPr>
          <a:xfrm>
            <a:off x="4356000" y="2585880"/>
            <a:ext cx="3805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9:56Z</dcterms:modified>
  <cp:revision>50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