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3.jpeg" ContentType="image/jpeg"/>
  <Override PartName="/ppt/media/image2.jpeg" ContentType="image/jpeg"/>
  <Override PartName="/ppt/media/image4.png" ContentType="image/png"/>
  <Override PartName="/ppt/media/image1.gif" ContentType="image/gif"/>
  <Override PartName="/ppt/media/chimes.wav" ContentType="audio/x-wav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A43-B392-4BC1-9F4F-82C1C8B4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8BC-FA58-46F4-B82F-0704B867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CDA-191D-4691-B6EC-CEB39C71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6A1-437E-4F81-9512-851D5320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62DA-D501-47D2-806B-201C5903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0F4C-1D29-40C7-8E10-7458B1F7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66E4-D300-4A21-940A-334BB6CD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927-9F1C-4818-9403-A73400FF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ADB-42F3-48B4-9F75-5DA97FD1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3EE-18CD-4233-80FC-2DE97332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5493-B340-4E52-8FF3-5F6E1C8B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E8D-F700-43B3-8F3A-157EE33E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A1A9-125F-45D1-97F3-BE346C480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33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46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4772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/>
          <p:cNvSpPr/>
          <p:nvPr/>
        </p:nvSpPr>
        <p:spPr>
          <a:xfrm>
            <a:off x="1066680" y="1143000"/>
            <a:ext cx="753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33"/>
                </a:solidFill>
                <a:latin typeface="隶书"/>
                <a:ea typeface="隶书"/>
              </a:rPr>
              <a:t>太空生活趣事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105520" y="5334120"/>
            <a:ext cx="358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225504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905120" y="4572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小参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990720" y="2057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宇宙飞船里走路，杨利伟必须带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90720" y="44197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宇宙飞船里洗澡，杨利伟必须带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676520" y="26668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鞋底带钩的鞋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828800" y="5105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特殊的淋浴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C:\Documents and Settings\Administrator\My Documents\My Pictures\1.gif"/>
          <p:cNvPicPr/>
          <p:nvPr/>
        </p:nvPicPr>
        <p:blipFill>
          <a:blip r:embed="rId1"/>
          <a:stretch/>
        </p:blipFill>
        <p:spPr>
          <a:xfrm>
            <a:off x="38088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50000">
              <a:srgbClr val="ffffff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Administrator\My Documents\My Pictures\2005101781541635.jpg"/>
          <p:cNvPicPr/>
          <p:nvPr/>
        </p:nvPicPr>
        <p:blipFill>
          <a:blip r:embed="rId1"/>
          <a:stretch/>
        </p:blipFill>
        <p:spPr>
          <a:xfrm>
            <a:off x="14479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Documents and Settings\Administrator\My Documents\My Pictures\enrai.jpg"/>
          <p:cNvPicPr/>
          <p:nvPr/>
        </p:nvPicPr>
        <p:blipFill>
          <a:blip r:embed="rId1"/>
          <a:stretch/>
        </p:blipFill>
        <p:spPr>
          <a:xfrm>
            <a:off x="-63360" y="0"/>
            <a:ext cx="92073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1523880" y="19810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再 见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8F25-B4B5-4619-A255-B4604AB0F2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Documents and Settings\Administrator\My Documents\My Pictures\sLo=_9svy3jSvENV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istrator\My Documents\My Pictures\cl1_1066223309.jpg"/>
          <p:cNvPicPr/>
          <p:nvPr/>
        </p:nvPicPr>
        <p:blipFill>
          <a:blip r:embed="rId1"/>
          <a:stretch/>
        </p:blipFill>
        <p:spPr>
          <a:xfrm>
            <a:off x="0" y="0"/>
            <a:ext cx="9906120" cy="690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27" descr="D0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1028"/>
          <p:cNvSpPr txBox="1"/>
          <p:nvPr/>
        </p:nvSpPr>
        <p:spPr>
          <a:xfrm>
            <a:off x="1978200" y="76212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3300"/>
                </a:solidFill>
                <a:latin typeface="隶书"/>
              </a:rPr>
              <a:t>我是认字小能手</a:t>
            </a:r>
            <a:endParaRPr b="1" lang="en-US" sz="2400" spc="1" strike="noStrike">
              <a:ln w="9360">
                <a:solidFill>
                  <a:srgbClr val="ffff00"/>
                </a:solidFill>
                <a:round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50" name="Text Box 1029"/>
          <p:cNvSpPr/>
          <p:nvPr/>
        </p:nvSpPr>
        <p:spPr>
          <a:xfrm>
            <a:off x="2510640" y="2514600"/>
            <a:ext cx="413064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挺有趣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0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舒服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1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必须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2"/>
          <p:cNvSpPr/>
          <p:nvPr/>
        </p:nvSpPr>
        <p:spPr>
          <a:xfrm>
            <a:off x="1779120" y="2514600"/>
            <a:ext cx="559368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绑在睡袋里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4"/>
          <p:cNvSpPr/>
          <p:nvPr/>
        </p:nvSpPr>
        <p:spPr>
          <a:xfrm>
            <a:off x="2510640" y="2514600"/>
            <a:ext cx="413064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塑料杯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5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普通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36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咳嗽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7"/>
          <p:cNvSpPr/>
          <p:nvPr/>
        </p:nvSpPr>
        <p:spPr>
          <a:xfrm>
            <a:off x="2998800" y="2514600"/>
            <a:ext cx="315540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一件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8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喷出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9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设计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40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特殊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41"/>
          <p:cNvSpPr/>
          <p:nvPr/>
        </p:nvSpPr>
        <p:spPr>
          <a:xfrm>
            <a:off x="2510640" y="2514600"/>
            <a:ext cx="413064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淋浴器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42"/>
          <p:cNvSpPr/>
          <p:nvPr/>
        </p:nvSpPr>
        <p:spPr>
          <a:xfrm>
            <a:off x="2877120" y="2514600"/>
            <a:ext cx="339912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钩住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057">
            <a:hlinkClick r:id="rId2" action="ppaction://hlinksldjump"/>
          </p:cNvPr>
          <p:cNvSpPr/>
          <p:nvPr/>
        </p:nvSpPr>
        <p:spPr>
          <a:xfrm>
            <a:off x="7543800" y="57913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6200" y="3837"/>
                </a:moveTo>
                <a:lnTo>
                  <a:pt x="18776" y="6448"/>
                </a:ln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lnTo>
                  <a:pt x="23163" y="10800"/>
                </a:lnTo>
                <a:lnTo>
                  <a:pt x="21509" y="10800"/>
                </a:lnTo>
                <a:lnTo>
                  <a:pt x="21509" y="17989"/>
                </a:lnTo>
                <a:lnTo>
                  <a:pt x="10891" y="17989"/>
                </a:lnTo>
                <a:lnTo>
                  <a:pt x="10891" y="10800"/>
                </a:lnTo>
                <a:lnTo>
                  <a:pt x="9237" y="10800"/>
                </a:lnTo>
                <a:close/>
              </a:path>
              <a:path fill="darkenLess" w="32400" h="21600">
                <a:moveTo>
                  <a:pt x="18776" y="6448"/>
                </a:moveTo>
                <a:lnTo>
                  <a:pt x="18776" y="4707"/>
                </a:lnTo>
                <a:lnTo>
                  <a:pt x="20552" y="4707"/>
                </a:lnTo>
                <a:lnTo>
                  <a:pt x="20552" y="8224"/>
                </a:lnTo>
                <a:close/>
              </a:path>
              <a:path fill="darkenLess" w="32400" h="21600">
                <a:moveTo>
                  <a:pt x="15277" y="14299"/>
                </a:moveTo>
                <a:lnTo>
                  <a:pt x="17123" y="14299"/>
                </a:lnTo>
                <a:lnTo>
                  <a:pt x="17123" y="17989"/>
                </a:lnTo>
                <a:lnTo>
                  <a:pt x="21509" y="17989"/>
                </a:lnTo>
                <a:lnTo>
                  <a:pt x="21509" y="10800"/>
                </a:lnTo>
                <a:lnTo>
                  <a:pt x="10891" y="10800"/>
                </a:lnTo>
                <a:lnTo>
                  <a:pt x="10891" y="17989"/>
                </a:lnTo>
                <a:lnTo>
                  <a:pt x="15277" y="17989"/>
                </a:lnTo>
                <a:close/>
              </a:path>
            </a:pathLst>
          </a:custGeom>
          <a:solidFill>
            <a:srgbClr val="32a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58"/>
          <p:cNvSpPr/>
          <p:nvPr/>
        </p:nvSpPr>
        <p:spPr>
          <a:xfrm>
            <a:off x="0" y="2514600"/>
            <a:ext cx="9144000" cy="15570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楷体_GB2312"/>
              </a:rPr>
              <a:t>我们都是认字小能手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181080" y="6294600"/>
            <a:ext cx="89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0" dur="1" fill="hold"/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Administrator\My Documents\My Pictures\Img227158123.jpg"/>
          <p:cNvPicPr/>
          <p:nvPr/>
        </p:nvPicPr>
        <p:blipFill>
          <a:blip r:embed="rId1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819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比赛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33720" y="25146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、要让人听了觉得新鲜有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8" descr="C:\Program Files\Common Files\Microsoft Shared\Clipart\cagcat50\NA00864_.wmf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2097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2209680" y="33526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、要让人觉得惊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2133720"/>
            <a:ext cx="769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Times New Roman"/>
              </a:rPr>
              <a:t>因为在宇宙飞船里，水失去了重量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C:\Documents and Settings\Administrator\My Documents\My Pictures\无标题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Administrator\My Documents\My Pictures\238609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Administrator\My Documents\My Pictures\23849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Documents and Settings\Administrator\My Documents\My Pictures\238475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5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905120" y="9144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小参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33520" y="22096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宇宙飞船里睡觉，杨利伟必须带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33520" y="41911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宇宙飞船里喝水，杨利伟必须带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1600200" y="2895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睡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295280" y="48006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带吸管的塑料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6" descr="C:\Documents and Settings\Administrator\My Documents\My Pictures\1.gif"/>
          <p:cNvPicPr/>
          <p:nvPr/>
        </p:nvPicPr>
        <p:blipFill>
          <a:blip r:embed="rId1"/>
          <a:stretch/>
        </p:blipFill>
        <p:spPr>
          <a:xfrm>
            <a:off x="304920" y="3808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3:20:02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7:05Z</dcterms:modified>
  <cp:revision>2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