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type.wav" ContentType="audio/x-wav"/>
  <Override PartName="/ppt/media/image17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camera.wav" ContentType="audio/x-wav"/>
  <Override PartName="/ppt/media/image21.jpeg" ContentType="image/jpeg"/>
  <Override PartName="/ppt/media/image16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090D-E7EA-4F8E-A885-56A57DD019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D63F-4F7D-4082-93E2-56201DCF206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360E-E439-452A-A619-D2026202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1B1B-0987-4B76-A9FA-BFB463E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7ED7-A002-4AFB-96AC-1CDB7C75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EC8C-8683-4AED-BCFD-597885D2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E8A05-C53F-4D3F-8BA5-B78F6448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D262E-B5D6-4DEF-869F-2C066B0B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48722-ABA2-4D4F-A9F7-9E87D74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AE0C9-80D3-4B90-96EE-FFE9817A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34CC-E8F2-478D-BD97-3158358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C2F8-2F49-47FC-9091-BD14B858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7026B-C6B7-4DE2-AE9A-247BD774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950E-A46E-4CA2-B80C-1DA8DE51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B9187-A6B3-47BA-825D-12DCFB2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E5509-DA9A-42B0-9277-3CC13C2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0CDAC-767E-41DE-9086-299A0DF9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192D3-D878-49E0-8942-A37B810B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9F3C1-4214-4E39-8E9D-6E96F5CF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AC80-3CED-4EBB-8042-BA5B1F3B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2BB0-38C2-454E-AE2A-3ABB422F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E7EB-21AC-4B3A-A881-7467054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4033-3EFE-48E0-89FE-4E7B72B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E3C0-87D1-4FF3-A5CF-49300AD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1811-3865-4D53-8B35-56152DB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3276B-5A91-4FD0-A2AB-BE822671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948D-B09B-4133-8613-0373B8D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87DE-0408-4BAF-910C-3F7BA31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9FF0-4A14-487A-A88F-BE118F6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13C3-A2AE-4012-AB7B-E7AA6796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AF78-7BDF-44CD-9B5A-7B335A27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5832-51A8-4851-AAAE-07DCD17F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04D6-9F3D-4855-A5B1-2B778CF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1B0E-14DC-49C1-97E5-CE8655F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5146-4C6E-41A9-B28D-D2E71617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7C86-AF29-488F-B5B0-95B6E37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9891-5B71-412A-9B28-576F3AC0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7571-7E9C-4548-8A93-C5A1B8F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62GF&amp;D001(title bar)"/>
          <p:cNvPicPr/>
          <p:nvPr/>
        </p:nvPicPr>
        <p:blipFill>
          <a:blip r:embed="rId3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3B35-31A1-44E0-A6EA-DD21F3C9B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28C6-21BA-4A53-8DDA-00C09615F2DE}" type="datetime2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026年7月29日 星期三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t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CDE-1383-4B23-A57B-7379B959A2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493-C8D8-4B99-AFD8-E47F3FD1DA67}" type="datetime2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026年7月29日 星期三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2" descr="M62GF&amp;D001(title bar)"/>
          <p:cNvPicPr/>
          <p:nvPr/>
        </p:nvPicPr>
        <p:blipFill>
          <a:blip r:embed="rId3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9EEC-72C8-4462-80FD-907173344DF5}" type="datetime2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026年7月29日 星期三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EC3-8F3A-45C1-94F6-B1B1E59AFB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image" Target="../media/image25.jpeg"/><Relationship Id="rId17" Type="http://schemas.openxmlformats.org/officeDocument/2006/relationships/image" Target="../media/image25.jpeg"/><Relationship Id="rId18" Type="http://schemas.openxmlformats.org/officeDocument/2006/relationships/image" Target="../media/image25.jpeg"/><Relationship Id="rId19" Type="http://schemas.openxmlformats.org/officeDocument/2006/relationships/image" Target="../media/image25.jpeg"/><Relationship Id="rId20" Type="http://schemas.openxmlformats.org/officeDocument/2006/relationships/image" Target="../media/image25.jpeg"/><Relationship Id="rId21" Type="http://schemas.openxmlformats.org/officeDocument/2006/relationships/image" Target="../media/image25.jpeg"/><Relationship Id="rId22" Type="http://schemas.openxmlformats.org/officeDocument/2006/relationships/image" Target="../media/image25.jpeg"/><Relationship Id="rId23" Type="http://schemas.openxmlformats.org/officeDocument/2006/relationships/image" Target="../media/image25.jpeg"/><Relationship Id="rId24" Type="http://schemas.openxmlformats.org/officeDocument/2006/relationships/image" Target="../media/image25.jpeg"/><Relationship Id="rId2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3586-E8C0-4F48-85D7-6203B571DB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1"/>
          <p:cNvGrpSpPr/>
          <p:nvPr/>
        </p:nvGrpSpPr>
        <p:grpSpPr>
          <a:xfrm>
            <a:off x="536400" y="941400"/>
            <a:ext cx="8429760" cy="4697280"/>
            <a:chOff x="536400" y="941400"/>
            <a:chExt cx="8429760" cy="4697280"/>
          </a:xfrm>
        </p:grpSpPr>
        <p:grpSp>
          <p:nvGrpSpPr>
            <p:cNvPr id="137" name="组合 8"/>
            <p:cNvGrpSpPr/>
            <p:nvPr/>
          </p:nvGrpSpPr>
          <p:grpSpPr>
            <a:xfrm>
              <a:off x="536400" y="941400"/>
              <a:ext cx="8429760" cy="4697280"/>
              <a:chOff x="536400" y="941400"/>
              <a:chExt cx="8429760" cy="4697280"/>
            </a:xfrm>
          </p:grpSpPr>
          <p:pic>
            <p:nvPicPr>
              <p:cNvPr id="138" name="Picture 2" descr="F:\08年课件\图片6.jpg"/>
              <p:cNvPicPr/>
              <p:nvPr/>
            </p:nvPicPr>
            <p:blipFill>
              <a:blip r:embed="rId1"/>
              <a:stretch/>
            </p:blipFill>
            <p:spPr>
              <a:xfrm>
                <a:off x="536400" y="941400"/>
                <a:ext cx="7929720" cy="469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图片 10" descr="卷轴祥云1.gif"/>
              <p:cNvPicPr/>
              <p:nvPr/>
            </p:nvPicPr>
            <p:blipFill>
              <a:blip r:embed="rId2"/>
              <a:stretch/>
            </p:blipFill>
            <p:spPr>
              <a:xfrm>
                <a:off x="8188560" y="1293480"/>
                <a:ext cx="777600" cy="406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组合 68"/>
            <p:cNvGrpSpPr/>
            <p:nvPr/>
          </p:nvGrpSpPr>
          <p:grpSpPr>
            <a:xfrm>
              <a:off x="691920" y="3700080"/>
              <a:ext cx="380880" cy="1553400"/>
              <a:chOff x="691920" y="3700080"/>
              <a:chExt cx="380880" cy="1553400"/>
            </a:xfrm>
          </p:grpSpPr>
          <p:sp>
            <p:nvSpPr>
              <p:cNvPr id="141" name="Oval 35"/>
              <p:cNvSpPr/>
              <p:nvPr/>
            </p:nvSpPr>
            <p:spPr>
              <a:xfrm rot="18900000">
                <a:off x="691920" y="5208120"/>
                <a:ext cx="63360" cy="26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37"/>
              <p:cNvSpPr/>
              <p:nvPr/>
            </p:nvSpPr>
            <p:spPr>
              <a:xfrm>
                <a:off x="893520" y="3700080"/>
                <a:ext cx="179280" cy="982080"/>
              </a:xfrm>
              <a:prstGeom prst="parallelogram">
                <a:avLst>
                  <a:gd name="adj" fmla="val 43088"/>
                </a:avLst>
              </a:prstGeom>
              <a:gradFill rotWithShape="0">
                <a:gsLst>
                  <a:gs pos="0">
                    <a:srgbClr val="ffffff">
                      <a:alpha val="68235"/>
                    </a:srgbClr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35"/>
            <p:cNvSpPr/>
            <p:nvPr/>
          </p:nvSpPr>
          <p:spPr>
            <a:xfrm rot="18900000">
              <a:off x="2692080" y="4422240"/>
              <a:ext cx="63360" cy="2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5"/>
            <p:cNvSpPr/>
            <p:nvPr/>
          </p:nvSpPr>
          <p:spPr>
            <a:xfrm rot="18900000">
              <a:off x="4620960" y="3642840"/>
              <a:ext cx="63360" cy="2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5"/>
            <p:cNvSpPr/>
            <p:nvPr/>
          </p:nvSpPr>
          <p:spPr>
            <a:xfrm rot="18900000">
              <a:off x="6566040" y="2779200"/>
              <a:ext cx="63360" cy="26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13" descr="卷轴祥云1.gif"/>
          <p:cNvPicPr/>
          <p:nvPr/>
        </p:nvPicPr>
        <p:blipFill>
          <a:blip r:embed="rId3"/>
          <a:stretch/>
        </p:blipFill>
        <p:spPr>
          <a:xfrm>
            <a:off x="365040" y="1539720"/>
            <a:ext cx="777960" cy="406404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31"/>
          <p:cNvGrpSpPr/>
          <p:nvPr/>
        </p:nvGrpSpPr>
        <p:grpSpPr>
          <a:xfrm>
            <a:off x="357120" y="1539720"/>
            <a:ext cx="1335240" cy="4064040"/>
            <a:chOff x="357120" y="1539720"/>
            <a:chExt cx="1335240" cy="4064040"/>
          </a:xfrm>
        </p:grpSpPr>
        <p:pic>
          <p:nvPicPr>
            <p:cNvPr id="148" name="图片 32" descr="卷轴祥云1.gif"/>
            <p:cNvPicPr/>
            <p:nvPr/>
          </p:nvPicPr>
          <p:blipFill>
            <a:blip r:embed="rId4"/>
            <a:stretch/>
          </p:blipFill>
          <p:spPr>
            <a:xfrm>
              <a:off x="35712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33" descr="卷轴祥云1.gif"/>
            <p:cNvPicPr/>
            <p:nvPr/>
          </p:nvPicPr>
          <p:blipFill>
            <a:blip r:embed="rId5"/>
            <a:stretch/>
          </p:blipFill>
          <p:spPr>
            <a:xfrm>
              <a:off x="914400" y="1539720"/>
              <a:ext cx="777960" cy="406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Text Box 18" descr=""/>
          <p:cNvPicPr/>
          <p:nvPr/>
        </p:nvPicPr>
        <p:blipFill>
          <a:blip r:embed="rId6"/>
          <a:stretch/>
        </p:blipFill>
        <p:spPr>
          <a:xfrm>
            <a:off x="1006560" y="2219400"/>
            <a:ext cx="7356240" cy="1627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2"/>
          <p:cNvSpPr/>
          <p:nvPr/>
        </p:nvSpPr>
        <p:spPr>
          <a:xfrm>
            <a:off x="4751280" y="6021360"/>
            <a:ext cx="439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微软雅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19076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-3.33333E-006 L 0.43785 -3.33333E-006 E">
                                      <p:cBhvr>
                                        <p:cTn id="21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7918560" y="624528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284-763B-4707-9254-75D84D5A4D4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476280"/>
            <a:ext cx="8532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785880" y="357120"/>
            <a:ext cx="785808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唐僧  和尚   取经  玄奘  研究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佛经  印度   要塞  瓜州  劝说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冒险  一匹   解开  水袋  忍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坚持  昏倒   挣扎  狂奔  绿洲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眼泪  整整   高僧  拿着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发源地      心甘情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汪清泉   茫茫大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EDE-C458-43FB-9140-9B623E05F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7" descr="QQ截图20131210194505.png"/>
          <p:cNvPicPr/>
          <p:nvPr/>
        </p:nvPicPr>
        <p:blipFill>
          <a:blip r:embed="rId1"/>
          <a:stretch/>
        </p:blipFill>
        <p:spPr>
          <a:xfrm>
            <a:off x="2730600" y="3286080"/>
            <a:ext cx="6218280" cy="31780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1"/>
          <p:cNvSpPr/>
          <p:nvPr/>
        </p:nvSpPr>
        <p:spPr>
          <a:xfrm>
            <a:off x="642960" y="642960"/>
            <a:ext cx="7929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读课文，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玄奘在取经途中遇到了怎样的困难？他是怎样做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14F1-A320-4B84-8CC4-125F017E58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2" descr="图片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714240" y="500040"/>
            <a:ext cx="785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玄奘解开皮水袋想喝口水，一不小心，水袋落到了地上，水全洒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571680" y="35002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玄奘忍着干渴，继续前进。他一直坚持了四五天，最后渴得昏倒在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0FB0-3F07-4EAC-BECA-EEEF5A45F3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2" descr="图片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857160" y="7142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半夜，一阵凉风把他吹醒了，他挣扎着爬上马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714240" y="3571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原来，老马记起了这绿洲上的清泉。玄奘高兴得直掉眼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FED3-B088-46EE-BA55-83B458C1E1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2" descr="SC20100827145432375.bmp"/>
          <p:cNvPicPr/>
          <p:nvPr/>
        </p:nvPicPr>
        <p:blipFill>
          <a:blip r:embed="rId1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500040" y="357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这条路太难走了，又是沙漠，又是雪山，你可千万别拿生命冒险哪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8BD-CA2A-4FC6-9FD2-FE65A8238C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" descr="QQ截图20131210194505.png"/>
          <p:cNvPicPr/>
          <p:nvPr/>
        </p:nvPicPr>
        <p:blipFill>
          <a:blip r:embed="rId1"/>
          <a:stretch/>
        </p:blipFill>
        <p:spPr>
          <a:xfrm>
            <a:off x="755640" y="4651200"/>
            <a:ext cx="7143840" cy="21718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500040" y="3571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想一想，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玄奘在过雪山时又会遇到怎样的困难？他会怎样克服这些困难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这一路上玄奘还会遇到什么困难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497-C070-4AF9-93EA-3D910A2D32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95280" y="928800"/>
            <a:ext cx="842472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公元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629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，玄奘自长安出发。时年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28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岁。当时的政府明令不许百姓私自出国，各主要道路关隘的稽查很严，然而玄奘意志坚决，终得偷出国门。一路历经艰险，经过甘肃、新疆、翻越天山、帕米尔高原、途经阿富汗、巴基斯坦、最后到达天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5A2-4303-4FB7-91A2-1137F5417B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5" descr="280b209bbd89ce8ca8b31df6ebaaea33.jpg"/>
          <p:cNvPicPr/>
          <p:nvPr/>
        </p:nvPicPr>
        <p:blipFill>
          <a:blip r:embed="rId1"/>
          <a:stretch/>
        </p:blipFill>
        <p:spPr>
          <a:xfrm>
            <a:off x="6429240" y="785880"/>
            <a:ext cx="2714760" cy="55720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" descr="201303011033392839.jpg"/>
          <p:cNvPicPr/>
          <p:nvPr/>
        </p:nvPicPr>
        <p:blipFill>
          <a:blip r:embed="rId2"/>
          <a:stretch/>
        </p:blipFill>
        <p:spPr>
          <a:xfrm>
            <a:off x="285840" y="571680"/>
            <a:ext cx="6429240" cy="57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2BA-EDBD-48B7-885F-60DA7CE80C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" descr="SC20100827145431765.jpg"/>
          <p:cNvPicPr/>
          <p:nvPr/>
        </p:nvPicPr>
        <p:blipFill>
          <a:blip r:embed="rId1"/>
          <a:stretch/>
        </p:blipFill>
        <p:spPr>
          <a:xfrm>
            <a:off x="357120" y="2357280"/>
            <a:ext cx="2764080" cy="379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500040" y="42876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我立志去西天取经，就是死在路上也心甘情愿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3214800" y="23572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过了整整一年，玄奘终于到达了印度。经过十几年的学习，他成了最有学问的高僧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32B4-271E-44EC-A504-28908CECFB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2" descr="图片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矩形 3"/>
          <p:cNvSpPr/>
          <p:nvPr/>
        </p:nvSpPr>
        <p:spPr>
          <a:xfrm>
            <a:off x="642960" y="57168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       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玄奘遍访了天竺当地的著名佛教寺院，并在当时最有名的佛寺</a:t>
            </a:r>
            <a:r>
              <a:rPr b="1" lang="en-US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——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那烂陀寺学习了五年。通过游历，他不但在佛学上取得巨大成功，而且促进了东西方的文化交流。公元</a:t>
            </a:r>
            <a:r>
              <a:rPr b="1" lang="en-US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645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，他带着六百多部佛经，回到长安。历时</a:t>
            </a:r>
            <a:r>
              <a:rPr b="1" lang="en-US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17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，行程</a:t>
            </a:r>
            <a:r>
              <a:rPr b="1" lang="en-US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5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万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87C-0FB2-4323-B641-D759089089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2008121710560906_2"/>
          <p:cNvPicPr/>
          <p:nvPr/>
        </p:nvPicPr>
        <p:blipFill>
          <a:blip r:embed="rId1"/>
          <a:stretch/>
        </p:blipFill>
        <p:spPr>
          <a:xfrm>
            <a:off x="539640" y="836640"/>
            <a:ext cx="4824360" cy="3093840"/>
          </a:xfrm>
          <a:prstGeom prst="rect">
            <a:avLst/>
          </a:prstGeom>
          <a:ln w="0">
            <a:noFill/>
          </a:ln>
        </p:spPr>
      </p:pic>
      <p:pic>
        <p:nvPicPr>
          <p:cNvPr id="155" name="敢问路在何方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9"/>
          <p:cNvSpPr/>
          <p:nvPr/>
        </p:nvSpPr>
        <p:spPr>
          <a:xfrm>
            <a:off x="6012000" y="1557360"/>
            <a:ext cx="23778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5"/>
          <p:cNvGrpSpPr/>
          <p:nvPr/>
        </p:nvGrpSpPr>
        <p:grpSpPr>
          <a:xfrm>
            <a:off x="6516720" y="4869000"/>
            <a:ext cx="1440000" cy="792000"/>
            <a:chOff x="6516720" y="4869000"/>
            <a:chExt cx="1440000" cy="792000"/>
          </a:xfrm>
        </p:grpSpPr>
        <p:sp>
          <p:nvSpPr>
            <p:cNvPr id="158" name="AutoShape 40"/>
            <p:cNvSpPr/>
            <p:nvPr/>
          </p:nvSpPr>
          <p:spPr>
            <a:xfrm>
              <a:off x="6516720" y="4869000"/>
              <a:ext cx="1440000" cy="792000"/>
            </a:xfrm>
            <a:prstGeom prst="wedgeRoundRectCallout">
              <a:avLst>
                <a:gd name="adj1" fmla="val -189472"/>
                <a:gd name="adj2" fmla="val -417935"/>
                <a:gd name="adj3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6"/>
            <p:cNvSpPr/>
            <p:nvPr/>
          </p:nvSpPr>
          <p:spPr>
            <a:xfrm>
              <a:off x="6659640" y="5013360"/>
              <a:ext cx="1081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沙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4"/>
          <p:cNvGrpSpPr/>
          <p:nvPr/>
        </p:nvGrpSpPr>
        <p:grpSpPr>
          <a:xfrm>
            <a:off x="3276720" y="5445000"/>
            <a:ext cx="1582560" cy="792360"/>
            <a:chOff x="3276720" y="5445000"/>
            <a:chExt cx="1582560" cy="792360"/>
          </a:xfrm>
        </p:grpSpPr>
        <p:sp>
          <p:nvSpPr>
            <p:cNvPr id="161" name="AutoShape 41"/>
            <p:cNvSpPr/>
            <p:nvPr/>
          </p:nvSpPr>
          <p:spPr>
            <a:xfrm>
              <a:off x="3348000" y="5445000"/>
              <a:ext cx="1511280" cy="792360"/>
            </a:xfrm>
            <a:prstGeom prst="wedgeRoundRectCallout">
              <a:avLst>
                <a:gd name="adj1" fmla="val -29097"/>
                <a:gd name="adj2" fmla="val -344791"/>
                <a:gd name="adj3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3276720" y="5589720"/>
              <a:ext cx="151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猪八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34920" y="5084640"/>
            <a:ext cx="1584360" cy="792360"/>
            <a:chOff x="34920" y="5084640"/>
            <a:chExt cx="1584360" cy="792360"/>
          </a:xfrm>
        </p:grpSpPr>
        <p:sp>
          <p:nvSpPr>
            <p:cNvPr id="164" name="AutoShape 42"/>
            <p:cNvSpPr/>
            <p:nvPr/>
          </p:nvSpPr>
          <p:spPr>
            <a:xfrm>
              <a:off x="179280" y="5084640"/>
              <a:ext cx="1440000" cy="792360"/>
            </a:xfrm>
            <a:prstGeom prst="wedgeRoundRectCallout">
              <a:avLst>
                <a:gd name="adj1" fmla="val 11962"/>
                <a:gd name="adj2" fmla="val -344791"/>
                <a:gd name="adj3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4"/>
            <p:cNvSpPr/>
            <p:nvPr/>
          </p:nvSpPr>
          <p:spPr>
            <a:xfrm>
              <a:off x="34920" y="5229360"/>
              <a:ext cx="151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fd31"/>
                  </a:solidFill>
                  <a:latin typeface="Arial"/>
                  <a:ea typeface="微软雅黑"/>
                </a:rPr>
                <a:t>孙悟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36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7918560" y="624528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BE6A-38D3-45F1-A3CB-1185C4D0D2E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57120" y="1143000"/>
            <a:ext cx="853272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      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玄奘回国后，谢绝了唐太宗劝其还俗从政的要求，专心翻译佛经，近</a:t>
            </a:r>
            <a:r>
              <a:rPr b="1" lang="en-US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19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间，共译经书</a:t>
            </a:r>
            <a:r>
              <a:rPr b="1" lang="en-US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75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部</a:t>
            </a:r>
            <a:r>
              <a:rPr b="1" lang="en-US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1335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卷，约</a:t>
            </a:r>
            <a:r>
              <a:rPr b="1" lang="en-US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1300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万字。他的翻译工作，得到了唐太宗的大力支持。唐太宗将他留在长安弘福寺，并召集各地名僧</a:t>
            </a:r>
            <a:r>
              <a:rPr b="1" lang="en-US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20</a:t>
            </a:r>
            <a:r>
              <a:rPr b="1" lang="zh-CN" sz="3600" spc="-1" strike="noStrike">
                <a:solidFill>
                  <a:srgbClr val="ee1616"/>
                </a:solidFill>
                <a:latin typeface="微软雅黑"/>
                <a:ea typeface="微软雅黑"/>
              </a:rPr>
              <a:t>多人帮助他。慈恩寺建成后，寺中专门建了译经院，迎他入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4C6F-E263-4331-9B4C-D15D295017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404640"/>
            <a:ext cx="9144000" cy="1368720"/>
          </a:xfrm>
          <a:prstGeom prst="rect">
            <a:avLst/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108360" y="40428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潜心研经、写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4"/>
          <p:cNvGrpSpPr/>
          <p:nvPr/>
        </p:nvGrpSpPr>
        <p:grpSpPr>
          <a:xfrm>
            <a:off x="1028160" y="1647000"/>
            <a:ext cx="4051440" cy="4737600"/>
            <a:chOff x="1028160" y="1647000"/>
            <a:chExt cx="4051440" cy="4737600"/>
          </a:xfrm>
        </p:grpSpPr>
        <p:grpSp>
          <p:nvGrpSpPr>
            <p:cNvPr id="250" name="Group 15"/>
            <p:cNvGrpSpPr/>
            <p:nvPr/>
          </p:nvGrpSpPr>
          <p:grpSpPr>
            <a:xfrm>
              <a:off x="1171080" y="1933920"/>
              <a:ext cx="3908520" cy="4450680"/>
              <a:chOff x="1171080" y="1933920"/>
              <a:chExt cx="3908520" cy="4450680"/>
            </a:xfrm>
          </p:grpSpPr>
          <p:grpSp>
            <p:nvGrpSpPr>
              <p:cNvPr id="251" name="Group 16"/>
              <p:cNvGrpSpPr/>
              <p:nvPr/>
            </p:nvGrpSpPr>
            <p:grpSpPr>
              <a:xfrm>
                <a:off x="1322280" y="2218680"/>
                <a:ext cx="3757320" cy="4165920"/>
                <a:chOff x="1322280" y="2218680"/>
                <a:chExt cx="3757320" cy="4165920"/>
              </a:xfrm>
            </p:grpSpPr>
            <p:pic>
              <p:nvPicPr>
                <p:cNvPr id="252" name="Picture 17" descr="01300000085669122190097365204_s"/>
                <p:cNvPicPr/>
                <p:nvPr/>
              </p:nvPicPr>
              <p:blipFill>
                <a:blip r:embed="rId1"/>
                <a:stretch/>
              </p:blipFill>
              <p:spPr>
                <a:xfrm rot="20136000">
                  <a:off x="2032560" y="295992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8" descr="01300000085669122190097365204_s"/>
                <p:cNvPicPr/>
                <p:nvPr/>
              </p:nvPicPr>
              <p:blipFill>
                <a:blip r:embed="rId2"/>
                <a:stretch/>
              </p:blipFill>
              <p:spPr>
                <a:xfrm rot="20136000">
                  <a:off x="1950480" y="279936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9" descr="01300000085669122190097365204_s"/>
                <p:cNvPicPr/>
                <p:nvPr/>
              </p:nvPicPr>
              <p:blipFill>
                <a:blip r:embed="rId3"/>
                <a:stretch/>
              </p:blipFill>
              <p:spPr>
                <a:xfrm rot="20136000">
                  <a:off x="1836360" y="260604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" name="Group 20"/>
              <p:cNvGrpSpPr/>
              <p:nvPr/>
            </p:nvGrpSpPr>
            <p:grpSpPr>
              <a:xfrm>
                <a:off x="1171080" y="1933920"/>
                <a:ext cx="3757320" cy="4165920"/>
                <a:chOff x="1171080" y="1933920"/>
                <a:chExt cx="3757320" cy="4165920"/>
              </a:xfrm>
            </p:grpSpPr>
            <p:pic>
              <p:nvPicPr>
                <p:cNvPr id="256" name="Picture 21" descr="01300000085669122190097365204_s"/>
                <p:cNvPicPr/>
                <p:nvPr/>
              </p:nvPicPr>
              <p:blipFill>
                <a:blip r:embed="rId4"/>
                <a:stretch/>
              </p:blipFill>
              <p:spPr>
                <a:xfrm rot="20136000">
                  <a:off x="1881360" y="267516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22" descr="01300000085669122190097365204_s"/>
                <p:cNvPicPr/>
                <p:nvPr/>
              </p:nvPicPr>
              <p:blipFill>
                <a:blip r:embed="rId5"/>
                <a:stretch/>
              </p:blipFill>
              <p:spPr>
                <a:xfrm rot="20136000">
                  <a:off x="1799280" y="251424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23" descr="01300000085669122190097365204_s"/>
                <p:cNvPicPr/>
                <p:nvPr/>
              </p:nvPicPr>
              <p:blipFill>
                <a:blip r:embed="rId6"/>
                <a:stretch/>
              </p:blipFill>
              <p:spPr>
                <a:xfrm rot="20136000">
                  <a:off x="1685160" y="232128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Group 24"/>
            <p:cNvGrpSpPr/>
            <p:nvPr/>
          </p:nvGrpSpPr>
          <p:grpSpPr>
            <a:xfrm>
              <a:off x="1028160" y="1647000"/>
              <a:ext cx="3908520" cy="4450680"/>
              <a:chOff x="1028160" y="1647000"/>
              <a:chExt cx="3908520" cy="4450680"/>
            </a:xfrm>
          </p:grpSpPr>
          <p:grpSp>
            <p:nvGrpSpPr>
              <p:cNvPr id="260" name="Group 25"/>
              <p:cNvGrpSpPr/>
              <p:nvPr/>
            </p:nvGrpSpPr>
            <p:grpSpPr>
              <a:xfrm>
                <a:off x="1179360" y="1931760"/>
                <a:ext cx="3757320" cy="4165920"/>
                <a:chOff x="1179360" y="1931760"/>
                <a:chExt cx="3757320" cy="4165920"/>
              </a:xfrm>
            </p:grpSpPr>
            <p:pic>
              <p:nvPicPr>
                <p:cNvPr id="261" name="Picture 26" descr="01300000085669122190097365204_s"/>
                <p:cNvPicPr/>
                <p:nvPr/>
              </p:nvPicPr>
              <p:blipFill>
                <a:blip r:embed="rId7"/>
                <a:stretch/>
              </p:blipFill>
              <p:spPr>
                <a:xfrm rot="20136000">
                  <a:off x="1889640" y="267300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27" descr="01300000085669122190097365204_s"/>
                <p:cNvPicPr/>
                <p:nvPr/>
              </p:nvPicPr>
              <p:blipFill>
                <a:blip r:embed="rId8"/>
                <a:stretch/>
              </p:blipFill>
              <p:spPr>
                <a:xfrm rot="20136000">
                  <a:off x="1807560" y="251244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28" descr="01300000085669122190097365204_s"/>
                <p:cNvPicPr/>
                <p:nvPr/>
              </p:nvPicPr>
              <p:blipFill>
                <a:blip r:embed="rId9"/>
                <a:stretch/>
              </p:blipFill>
              <p:spPr>
                <a:xfrm rot="20136000">
                  <a:off x="1693440" y="231912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4" name="Group 29"/>
              <p:cNvGrpSpPr/>
              <p:nvPr/>
            </p:nvGrpSpPr>
            <p:grpSpPr>
              <a:xfrm>
                <a:off x="1028160" y="1647000"/>
                <a:ext cx="3757320" cy="4165920"/>
                <a:chOff x="1028160" y="1647000"/>
                <a:chExt cx="3757320" cy="4165920"/>
              </a:xfrm>
            </p:grpSpPr>
            <p:pic>
              <p:nvPicPr>
                <p:cNvPr id="265" name="Picture 30" descr="01300000085669122190097365204_s"/>
                <p:cNvPicPr/>
                <p:nvPr/>
              </p:nvPicPr>
              <p:blipFill>
                <a:blip r:embed="rId10"/>
                <a:stretch/>
              </p:blipFill>
              <p:spPr>
                <a:xfrm rot="20136000">
                  <a:off x="1738440" y="238824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1" descr="01300000085669122190097365204_s"/>
                <p:cNvPicPr/>
                <p:nvPr/>
              </p:nvPicPr>
              <p:blipFill>
                <a:blip r:embed="rId11"/>
                <a:stretch/>
              </p:blipFill>
              <p:spPr>
                <a:xfrm rot="20136000">
                  <a:off x="1656360" y="222732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2" descr="01300000085669122190097365204_s"/>
                <p:cNvPicPr/>
                <p:nvPr/>
              </p:nvPicPr>
              <p:blipFill>
                <a:blip r:embed="rId12"/>
                <a:stretch/>
              </p:blipFill>
              <p:spPr>
                <a:xfrm rot="20136000">
                  <a:off x="1542240" y="2034360"/>
                  <a:ext cx="2532600" cy="303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68" name="Group 33"/>
          <p:cNvGrpSpPr/>
          <p:nvPr/>
        </p:nvGrpSpPr>
        <p:grpSpPr>
          <a:xfrm>
            <a:off x="4547160" y="1775160"/>
            <a:ext cx="3696480" cy="4354560"/>
            <a:chOff x="4547160" y="1775160"/>
            <a:chExt cx="3696480" cy="4354560"/>
          </a:xfrm>
        </p:grpSpPr>
        <p:grpSp>
          <p:nvGrpSpPr>
            <p:cNvPr id="269" name="Group 34"/>
            <p:cNvGrpSpPr/>
            <p:nvPr/>
          </p:nvGrpSpPr>
          <p:grpSpPr>
            <a:xfrm>
              <a:off x="4547160" y="2033280"/>
              <a:ext cx="3545280" cy="4096440"/>
              <a:chOff x="4547160" y="2033280"/>
              <a:chExt cx="3545280" cy="4096440"/>
            </a:xfrm>
          </p:grpSpPr>
          <p:grpSp>
            <p:nvGrpSpPr>
              <p:cNvPr id="270" name="Group 35"/>
              <p:cNvGrpSpPr/>
              <p:nvPr/>
            </p:nvGrpSpPr>
            <p:grpSpPr>
              <a:xfrm>
                <a:off x="4547160" y="2296440"/>
                <a:ext cx="3398760" cy="3833280"/>
                <a:chOff x="4547160" y="2296440"/>
                <a:chExt cx="3398760" cy="3833280"/>
              </a:xfrm>
            </p:grpSpPr>
            <p:pic>
              <p:nvPicPr>
                <p:cNvPr id="271" name="Picture 36" descr="01300000085669122190097365204_s"/>
                <p:cNvPicPr/>
                <p:nvPr/>
              </p:nvPicPr>
              <p:blipFill>
                <a:blip r:embed="rId13"/>
                <a:stretch/>
              </p:blipFill>
              <p:spPr>
                <a:xfrm rot="1843200">
                  <a:off x="5131800" y="295236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37" descr="01300000085669122190097365204_s"/>
                <p:cNvPicPr/>
                <p:nvPr/>
              </p:nvPicPr>
              <p:blipFill>
                <a:blip r:embed="rId14"/>
                <a:stretch/>
              </p:blipFill>
              <p:spPr>
                <a:xfrm rot="1843200">
                  <a:off x="5216040" y="280620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38" descr="01300000085669122190097365204_s"/>
                <p:cNvPicPr/>
                <p:nvPr/>
              </p:nvPicPr>
              <p:blipFill>
                <a:blip r:embed="rId15"/>
                <a:stretch/>
              </p:blipFill>
              <p:spPr>
                <a:xfrm rot="1843200">
                  <a:off x="5309640" y="262008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4" name="Group 39"/>
              <p:cNvGrpSpPr/>
              <p:nvPr/>
            </p:nvGrpSpPr>
            <p:grpSpPr>
              <a:xfrm>
                <a:off x="4693680" y="2033280"/>
                <a:ext cx="3398760" cy="3833640"/>
                <a:chOff x="4693680" y="2033280"/>
                <a:chExt cx="3398760" cy="3833640"/>
              </a:xfrm>
            </p:grpSpPr>
            <p:pic>
              <p:nvPicPr>
                <p:cNvPr id="275" name="Picture 40" descr="01300000085669122190097365204_s"/>
                <p:cNvPicPr/>
                <p:nvPr/>
              </p:nvPicPr>
              <p:blipFill>
                <a:blip r:embed="rId16"/>
                <a:stretch/>
              </p:blipFill>
              <p:spPr>
                <a:xfrm rot="1843200">
                  <a:off x="5278320" y="268956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1" descr="01300000085669122190097365204_s"/>
                <p:cNvPicPr/>
                <p:nvPr/>
              </p:nvPicPr>
              <p:blipFill>
                <a:blip r:embed="rId17"/>
                <a:stretch/>
              </p:blipFill>
              <p:spPr>
                <a:xfrm rot="1843200">
                  <a:off x="5362200" y="254340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42" descr="01300000085669122190097365204_s"/>
                <p:cNvPicPr/>
                <p:nvPr/>
              </p:nvPicPr>
              <p:blipFill>
                <a:blip r:embed="rId18"/>
                <a:stretch/>
              </p:blipFill>
              <p:spPr>
                <a:xfrm rot="1843200">
                  <a:off x="5456160" y="235692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78" name="Group 43"/>
            <p:cNvGrpSpPr/>
            <p:nvPr/>
          </p:nvGrpSpPr>
          <p:grpSpPr>
            <a:xfrm>
              <a:off x="4698720" y="1775160"/>
              <a:ext cx="3544920" cy="4096080"/>
              <a:chOff x="4698720" y="1775160"/>
              <a:chExt cx="3544920" cy="4096080"/>
            </a:xfrm>
          </p:grpSpPr>
          <p:grpSp>
            <p:nvGrpSpPr>
              <p:cNvPr id="279" name="Group 44"/>
              <p:cNvGrpSpPr/>
              <p:nvPr/>
            </p:nvGrpSpPr>
            <p:grpSpPr>
              <a:xfrm>
                <a:off x="4698720" y="2037960"/>
                <a:ext cx="3398760" cy="3833280"/>
                <a:chOff x="4698720" y="2037960"/>
                <a:chExt cx="3398760" cy="3833280"/>
              </a:xfrm>
            </p:grpSpPr>
            <p:pic>
              <p:nvPicPr>
                <p:cNvPr id="280" name="Picture 45" descr="01300000085669122190097365204_s"/>
                <p:cNvPicPr/>
                <p:nvPr/>
              </p:nvPicPr>
              <p:blipFill>
                <a:blip r:embed="rId19"/>
                <a:stretch/>
              </p:blipFill>
              <p:spPr>
                <a:xfrm rot="1843200">
                  <a:off x="5283360" y="269388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46" descr="01300000085669122190097365204_s"/>
                <p:cNvPicPr/>
                <p:nvPr/>
              </p:nvPicPr>
              <p:blipFill>
                <a:blip r:embed="rId20"/>
                <a:stretch/>
              </p:blipFill>
              <p:spPr>
                <a:xfrm rot="1843200">
                  <a:off x="5367240" y="254772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47" descr="01300000085669122190097365204_s"/>
                <p:cNvPicPr/>
                <p:nvPr/>
              </p:nvPicPr>
              <p:blipFill>
                <a:blip r:embed="rId21"/>
                <a:stretch/>
              </p:blipFill>
              <p:spPr>
                <a:xfrm rot="1843200">
                  <a:off x="5461200" y="236160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3" name="Group 48"/>
              <p:cNvGrpSpPr/>
              <p:nvPr/>
            </p:nvGrpSpPr>
            <p:grpSpPr>
              <a:xfrm>
                <a:off x="4844880" y="1775160"/>
                <a:ext cx="3398760" cy="3833280"/>
                <a:chOff x="4844880" y="1775160"/>
                <a:chExt cx="3398760" cy="3833280"/>
              </a:xfrm>
            </p:grpSpPr>
            <p:pic>
              <p:nvPicPr>
                <p:cNvPr id="284" name="Picture 49" descr="01300000085669122190097365204_s"/>
                <p:cNvPicPr/>
                <p:nvPr/>
              </p:nvPicPr>
              <p:blipFill>
                <a:blip r:embed="rId22"/>
                <a:stretch/>
              </p:blipFill>
              <p:spPr>
                <a:xfrm rot="1843200">
                  <a:off x="5429520" y="243108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50" descr="01300000085669122190097365204_s"/>
                <p:cNvPicPr/>
                <p:nvPr/>
              </p:nvPicPr>
              <p:blipFill>
                <a:blip r:embed="rId23"/>
                <a:stretch/>
              </p:blipFill>
              <p:spPr>
                <a:xfrm rot="1843200">
                  <a:off x="5513400" y="228492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51" descr="01300000085669122190097365204_s"/>
                <p:cNvPicPr/>
                <p:nvPr/>
              </p:nvPicPr>
              <p:blipFill>
                <a:blip r:embed="rId24"/>
                <a:stretch/>
              </p:blipFill>
              <p:spPr>
                <a:xfrm rot="1843200">
                  <a:off x="5607360" y="2098800"/>
                  <a:ext cx="2051280" cy="285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87" name="文本框 1"/>
          <p:cNvSpPr/>
          <p:nvPr/>
        </p:nvSpPr>
        <p:spPr>
          <a:xfrm>
            <a:off x="1028880" y="6264360"/>
            <a:ext cx="66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7918560" y="624528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C40-8E5A-4C16-9BE8-C91EC497E44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24000" y="857160"/>
            <a:ext cx="84628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       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应唐太宗的要求，玄奘和他的弟子著书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《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大唐西域记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》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。这是一部重要的历史和地理著作。玄奘成为第一个系统地把天竺佛教、历史、地理、风土人情等记录下来，并介绍到中国的人，包括他亲自到过的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110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个国家和听到过的</a:t>
            </a:r>
            <a:r>
              <a:rPr b="1" lang="en-US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28</a:t>
            </a:r>
            <a:r>
              <a:rPr b="1" lang="zh-CN" sz="4000" spc="-1" strike="noStrike">
                <a:solidFill>
                  <a:srgbClr val="ee1616"/>
                </a:solidFill>
                <a:latin typeface="微软雅黑"/>
                <a:ea typeface="微软雅黑"/>
              </a:rPr>
              <a:t>个国家的情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7918560" y="624528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BBE-23D5-4355-8A28-3B7043DCF67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17"/>
          <p:cNvGrpSpPr/>
          <p:nvPr/>
        </p:nvGrpSpPr>
        <p:grpSpPr>
          <a:xfrm>
            <a:off x="383040" y="785880"/>
            <a:ext cx="8760960" cy="4976640"/>
            <a:chOff x="383040" y="785880"/>
            <a:chExt cx="8760960" cy="4976640"/>
          </a:xfrm>
        </p:grpSpPr>
        <p:grpSp>
          <p:nvGrpSpPr>
            <p:cNvPr id="294" name="组合 131"/>
            <p:cNvGrpSpPr/>
            <p:nvPr/>
          </p:nvGrpSpPr>
          <p:grpSpPr>
            <a:xfrm>
              <a:off x="383040" y="785880"/>
              <a:ext cx="8760960" cy="4976640"/>
              <a:chOff x="383040" y="785880"/>
              <a:chExt cx="8760960" cy="4976640"/>
            </a:xfrm>
          </p:grpSpPr>
          <p:grpSp>
            <p:nvGrpSpPr>
              <p:cNvPr id="295" name="组合 8"/>
              <p:cNvGrpSpPr/>
              <p:nvPr/>
            </p:nvGrpSpPr>
            <p:grpSpPr>
              <a:xfrm>
                <a:off x="423720" y="785880"/>
                <a:ext cx="8720280" cy="4976640"/>
                <a:chOff x="423720" y="785880"/>
                <a:chExt cx="8720280" cy="4976640"/>
              </a:xfrm>
            </p:grpSpPr>
            <p:pic>
              <p:nvPicPr>
                <p:cNvPr id="296" name="Picture 2" descr="F:\08年课件\图片6.jp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23720" y="785880"/>
                  <a:ext cx="8203320" cy="4976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图片 10" descr="卷轴祥云1.gi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39400" y="1158840"/>
                  <a:ext cx="804600" cy="4306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8" name="组合 68"/>
              <p:cNvGrpSpPr/>
              <p:nvPr/>
            </p:nvGrpSpPr>
            <p:grpSpPr>
              <a:xfrm>
                <a:off x="383040" y="3708720"/>
                <a:ext cx="595440" cy="1847880"/>
                <a:chOff x="383040" y="3708720"/>
                <a:chExt cx="595440" cy="1847880"/>
              </a:xfrm>
            </p:grpSpPr>
            <p:sp>
              <p:nvSpPr>
                <p:cNvPr id="299" name="Oval 35"/>
                <p:cNvSpPr/>
                <p:nvPr/>
              </p:nvSpPr>
              <p:spPr>
                <a:xfrm rot="18900000">
                  <a:off x="525960" y="5081040"/>
                  <a:ext cx="183960" cy="48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392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37"/>
                <p:cNvSpPr/>
                <p:nvPr/>
              </p:nvSpPr>
              <p:spPr>
                <a:xfrm>
                  <a:off x="793440" y="3708720"/>
                  <a:ext cx="185040" cy="1040400"/>
                </a:xfrm>
                <a:prstGeom prst="parallelogram">
                  <a:avLst>
                    <a:gd name="adj" fmla="val 43088"/>
                  </a:avLst>
                </a:prstGeom>
                <a:gradFill rotWithShape="0">
                  <a:gsLst>
                    <a:gs pos="0">
                      <a:srgbClr val="ffffff">
                        <a:alpha val="68235"/>
                      </a:srgbClr>
                    </a:gs>
                    <a:gs pos="100000">
                      <a:srgbClr val="3e7ab2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Oval 35"/>
              <p:cNvSpPr/>
              <p:nvPr/>
            </p:nvSpPr>
            <p:spPr>
              <a:xfrm rot="18900000">
                <a:off x="2593440" y="424764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5"/>
              <p:cNvSpPr/>
              <p:nvPr/>
            </p:nvSpPr>
            <p:spPr>
              <a:xfrm rot="18900000">
                <a:off x="4588920" y="342216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5"/>
              <p:cNvSpPr/>
              <p:nvPr/>
            </p:nvSpPr>
            <p:spPr>
              <a:xfrm rot="18900000">
                <a:off x="6600600" y="250776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60392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9"/>
            <p:cNvSpPr/>
            <p:nvPr/>
          </p:nvSpPr>
          <p:spPr>
            <a:xfrm>
              <a:off x="502920" y="2352600"/>
              <a:ext cx="7803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图片 13" descr="卷轴祥云1.gif"/>
          <p:cNvPicPr/>
          <p:nvPr/>
        </p:nvPicPr>
        <p:blipFill>
          <a:blip r:embed="rId3"/>
          <a:stretch/>
        </p:blipFill>
        <p:spPr>
          <a:xfrm>
            <a:off x="365040" y="1268280"/>
            <a:ext cx="777960" cy="433548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31"/>
          <p:cNvGrpSpPr/>
          <p:nvPr/>
        </p:nvGrpSpPr>
        <p:grpSpPr>
          <a:xfrm>
            <a:off x="250920" y="1268280"/>
            <a:ext cx="1334880" cy="4335480"/>
            <a:chOff x="250920" y="1268280"/>
            <a:chExt cx="1334880" cy="4335480"/>
          </a:xfrm>
        </p:grpSpPr>
        <p:pic>
          <p:nvPicPr>
            <p:cNvPr id="307" name="图片 32" descr="卷轴祥云1.gif"/>
            <p:cNvPicPr/>
            <p:nvPr/>
          </p:nvPicPr>
          <p:blipFill>
            <a:blip r:embed="rId4"/>
            <a:stretch/>
          </p:blipFill>
          <p:spPr>
            <a:xfrm>
              <a:off x="250920" y="1268280"/>
              <a:ext cx="777960" cy="43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图片 33" descr="卷轴祥云1.gif"/>
            <p:cNvPicPr/>
            <p:nvPr/>
          </p:nvPicPr>
          <p:blipFill>
            <a:blip r:embed="rId5"/>
            <a:stretch/>
          </p:blipFill>
          <p:spPr>
            <a:xfrm>
              <a:off x="807840" y="1268280"/>
              <a:ext cx="777960" cy="433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Text Box 19"/>
          <p:cNvSpPr/>
          <p:nvPr/>
        </p:nvSpPr>
        <p:spPr>
          <a:xfrm>
            <a:off x="1160640" y="1071720"/>
            <a:ext cx="771516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门之领袖，乘危远迈，杖策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è)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孤征，穷历道邦，询求正教。兹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í)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流施，将日月而无穷；斯福遐敷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fū)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与乾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(qián)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坤而永大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唐太宗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唐三藏圣教序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敢问路在何方.mp3" descr=""/>
          <p:cNvPicPr/>
          <p:nvPr/>
        </p:nvPicPr>
        <p:blipFill>
          <a:blip r:embed="rId6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4.4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5,-105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55,-9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5,-105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55,-9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4"/>
                            </p:stCondLst>
                            <p:childTnLst>
                              <p:par>
                                <p:cTn id="1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8.0)">
                                      <p:cBhvr>
                                        <p:cTn id="162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6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08 0.00023 L 0.43993 0.00023 E">
                                      <p:cBhvr>
                                        <p:cTn id="181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dur="indefinite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4182-A9FC-4C9C-BDF4-E466BB63D3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5" descr="SC20100827145432171.jpg"/>
          <p:cNvPicPr/>
          <p:nvPr/>
        </p:nvPicPr>
        <p:blipFill>
          <a:blip r:embed="rId1"/>
          <a:stretch/>
        </p:blipFill>
        <p:spPr>
          <a:xfrm>
            <a:off x="5072040" y="857160"/>
            <a:ext cx="3738600" cy="54295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357120" y="1214280"/>
            <a:ext cx="46767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玄奘取经”带有浓厚的传奇色彩，民间流传许多关于它的传说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明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小说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吴承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据此创作了优秀的长篇神话小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西游记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成为我国文学史上的一枝奇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72D-14F8-4F29-B5AE-B19762AF6C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片 4" descr="280b209bbd89ce8ca8b31df6ebaaea33.jpg"/>
          <p:cNvPicPr/>
          <p:nvPr/>
        </p:nvPicPr>
        <p:blipFill>
          <a:blip r:embed="rId1"/>
          <a:stretch/>
        </p:blipFill>
        <p:spPr>
          <a:xfrm>
            <a:off x="6041880" y="785880"/>
            <a:ext cx="3102120" cy="479088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2" descr="QQ截图20131210201500.png"/>
          <p:cNvPicPr/>
          <p:nvPr/>
        </p:nvPicPr>
        <p:blipFill>
          <a:blip r:embed="rId2"/>
          <a:stretch/>
        </p:blipFill>
        <p:spPr>
          <a:xfrm>
            <a:off x="214200" y="1357200"/>
            <a:ext cx="2286000" cy="4162680"/>
          </a:xfrm>
          <a:prstGeom prst="rect">
            <a:avLst/>
          </a:prstGeom>
          <a:ln w="0">
            <a:noFill/>
          </a:ln>
        </p:spPr>
      </p:pic>
      <p:sp>
        <p:nvSpPr>
          <p:cNvPr id="317" name="TextBox 5"/>
          <p:cNvSpPr/>
          <p:nvPr/>
        </p:nvSpPr>
        <p:spPr>
          <a:xfrm>
            <a:off x="2714760" y="571680"/>
            <a:ext cx="4286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课文中的唐僧与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西游记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中的唐僧，你喜欢哪一个？为什么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A0C-05D4-4618-BB98-5A380CBEDA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38C2-80FA-4A0B-AF02-97D9D152E6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2008121710560906_2"/>
          <p:cNvPicPr/>
          <p:nvPr/>
        </p:nvPicPr>
        <p:blipFill>
          <a:blip r:embed="rId1"/>
          <a:stretch/>
        </p:blipFill>
        <p:spPr>
          <a:xfrm>
            <a:off x="539640" y="836640"/>
            <a:ext cx="4824360" cy="3093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132000" y="836640"/>
            <a:ext cx="223200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39640" y="836640"/>
            <a:ext cx="115092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39640" y="4797360"/>
            <a:ext cx="770436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4b00"/>
                </a:solidFill>
                <a:latin typeface="Arial"/>
                <a:ea typeface="微软雅黑"/>
              </a:rPr>
              <a:t>       </a:t>
            </a:r>
            <a:r>
              <a:rPr b="1" lang="zh-CN" sz="4800" spc="-1" strike="noStrike">
                <a:solidFill>
                  <a:srgbClr val="e24b00"/>
                </a:solidFill>
                <a:latin typeface="Arial"/>
                <a:ea typeface="微软雅黑"/>
              </a:rPr>
              <a:t>唐僧         原型：玄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763640" y="3933720"/>
            <a:ext cx="1440000" cy="1295640"/>
          </a:xfrm>
          <a:prstGeom prst="upArrow">
            <a:avLst>
              <a:gd name="adj1" fmla="val 55898"/>
              <a:gd name="adj2" fmla="val 48958"/>
            </a:avLst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6012000" y="1557360"/>
            <a:ext cx="23778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5400000">
            <a:off x="3447720" y="4998960"/>
            <a:ext cx="863640" cy="1295640"/>
          </a:xfrm>
          <a:prstGeom prst="upArrow">
            <a:avLst>
              <a:gd name="adj1" fmla="val 55898"/>
              <a:gd name="adj2" fmla="val 73447"/>
            </a:avLst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EB4-3790-4890-8801-DA44849B96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2008121710560906_2"/>
          <p:cNvPicPr/>
          <p:nvPr/>
        </p:nvPicPr>
        <p:blipFill>
          <a:blip r:embed="rId1"/>
          <a:stretch/>
        </p:blipFill>
        <p:spPr>
          <a:xfrm>
            <a:off x="539640" y="836640"/>
            <a:ext cx="4824360" cy="3093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132000" y="836640"/>
            <a:ext cx="223200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9640" y="836640"/>
            <a:ext cx="1150920" cy="3097080"/>
          </a:xfrm>
          <a:prstGeom prst="rect">
            <a:avLst/>
          </a:prstGeom>
          <a:solidFill>
            <a:srgbClr val="9696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24000" y="4923000"/>
            <a:ext cx="88200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4b00"/>
                </a:solidFill>
                <a:latin typeface="Arial"/>
                <a:ea typeface="微软雅黑"/>
              </a:rPr>
              <a:t>玄奘：唐代僧人（三藏法师、唐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763640" y="3933720"/>
            <a:ext cx="1440000" cy="1295640"/>
          </a:xfrm>
          <a:prstGeom prst="upArrow">
            <a:avLst>
              <a:gd name="adj1" fmla="val 55898"/>
              <a:gd name="adj2" fmla="val 48958"/>
            </a:avLst>
          </a:prstGeom>
          <a:solidFill>
            <a:srgbClr val="e2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012000" y="1557360"/>
            <a:ext cx="237780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西游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DEAB-AA76-482C-8F29-43F0383007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50920" y="1285920"/>
            <a:ext cx="87138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其俗姓陈，河南偃师人，公元</a:t>
            </a:r>
            <a:r>
              <a:rPr b="1" lang="en-US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602</a:t>
            </a:r>
            <a:r>
              <a:rPr b="1" lang="zh-CN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出生，公元</a:t>
            </a:r>
            <a:r>
              <a:rPr b="1" lang="en-US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664</a:t>
            </a:r>
            <a:r>
              <a:rPr b="1" lang="zh-CN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年去世。他是中国佛教史上伟大的译经家，他开辟了中国译经史的新纪元。其间，他还积极讲经弘法，热心佛教教育，门下人才辈出。</a:t>
            </a:r>
            <a:r>
              <a:rPr b="1" lang="zh-CN" sz="3200" spc="-1" strike="noStrike">
                <a:solidFill>
                  <a:srgbClr val="ee1616"/>
                </a:solidFill>
                <a:latin typeface="Arial"/>
                <a:ea typeface="微软雅黑"/>
              </a:rPr>
              <a:t>他早年在全国各地学佛讲经，有感于佛经的翻译版本中错误很多，各派对经的解释、理解也不一致。于是，他决定前往佛教的发源地天竺</a:t>
            </a:r>
            <a:r>
              <a:rPr b="1" lang="en-US" sz="3200" spc="-1" strike="noStrike">
                <a:solidFill>
                  <a:srgbClr val="ee1616"/>
                </a:solidFill>
                <a:latin typeface="Arial"/>
                <a:ea typeface="微软雅黑"/>
              </a:rPr>
              <a:t>(zh</a:t>
            </a:r>
            <a:r>
              <a:rPr b="1" lang="en-US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ú</a:t>
            </a:r>
            <a:r>
              <a:rPr b="1" lang="en-US" sz="3200" spc="-1" strike="noStrike">
                <a:solidFill>
                  <a:srgbClr val="ee1616"/>
                </a:solidFill>
                <a:latin typeface="Arial"/>
                <a:ea typeface="微软雅黑"/>
              </a:rPr>
              <a:t>)</a:t>
            </a:r>
            <a:r>
              <a:rPr b="1" lang="en-US" sz="3200" spc="-1" strike="noStrike">
                <a:solidFill>
                  <a:srgbClr val="ee1616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ee1616"/>
                </a:solidFill>
                <a:latin typeface="Arial"/>
                <a:ea typeface="微软雅黑"/>
              </a:rPr>
              <a:t>古印度学习，求法取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28760" y="3500280"/>
            <a:ext cx="79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3AB-4E3B-4E54-8BCE-BC88F31D91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352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e1616"/>
                </a:solidFill>
                <a:latin typeface="Arial"/>
                <a:ea typeface="微软雅黑"/>
              </a:rPr>
              <a:t>古印度包括现在的印度、巴基斯坦、孟加拉国、尼泊尔、不丹等国家和地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W020070307403493871687"/>
          <p:cNvPicPr/>
          <p:nvPr/>
        </p:nvPicPr>
        <p:blipFill>
          <a:blip r:embed="rId1"/>
          <a:stretch/>
        </p:blipFill>
        <p:spPr>
          <a:xfrm>
            <a:off x="4067280" y="1251000"/>
            <a:ext cx="3136680" cy="5594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6948360" y="3860640"/>
            <a:ext cx="20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印度雕塑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84531ddf284523f95df4f8983888b82a"/>
          <p:cNvPicPr/>
          <p:nvPr/>
        </p:nvPicPr>
        <p:blipFill>
          <a:blip r:embed="rId2"/>
          <a:stretch/>
        </p:blipFill>
        <p:spPr>
          <a:xfrm>
            <a:off x="357120" y="1074600"/>
            <a:ext cx="2928960" cy="2819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66355408048aaf4d4684667c5e1ad0ee"/>
          <p:cNvPicPr/>
          <p:nvPr/>
        </p:nvPicPr>
        <p:blipFill>
          <a:blip r:embed="rId3"/>
          <a:stretch/>
        </p:blipFill>
        <p:spPr>
          <a:xfrm>
            <a:off x="347760" y="3789360"/>
            <a:ext cx="2820960" cy="2924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D91D-8065-4573-93BE-1018CFF248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14280" y="4508640"/>
            <a:ext cx="8829720" cy="21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4968360"/>
            <a:ext cx="885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1616"/>
                </a:solidFill>
                <a:latin typeface="Arial"/>
                <a:ea typeface="微软雅黑"/>
              </a:rPr>
              <a:t>古印度与古埃及、古巴比伦、中国并称为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“</a:t>
            </a:r>
            <a:r>
              <a:rPr b="1" lang="zh-CN" sz="4400" spc="-1" strike="noStrike">
                <a:solidFill>
                  <a:srgbClr val="ee1616"/>
                </a:solidFill>
                <a:latin typeface="Arial"/>
                <a:ea typeface="微软雅黑"/>
              </a:rPr>
              <a:t>四大文明古国</a:t>
            </a:r>
            <a:r>
              <a:rPr b="1" lang="zh-CN" sz="4400" spc="-1" strike="noStrike">
                <a:solidFill>
                  <a:srgbClr val="ee1616"/>
                </a:solidFill>
                <a:latin typeface="微软雅黑"/>
                <a:ea typeface="微软雅黑"/>
              </a:rPr>
              <a:t>”</a:t>
            </a:r>
            <a:r>
              <a:rPr b="1" lang="zh-CN" sz="4400" spc="-1" strike="noStrike">
                <a:solidFill>
                  <a:srgbClr val="ee1616"/>
                </a:solidFill>
                <a:latin typeface="Arial"/>
                <a:ea typeface="微软雅黑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ee1616"/>
                </a:solidFill>
                <a:latin typeface="Arial"/>
                <a:ea typeface="微软雅黑"/>
              </a:rPr>
              <a:t>古印度的佛教、文学、哲学、艺术、科学等对世界文化影响深远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7" descr="4a3bdd08"/>
          <p:cNvPicPr/>
          <p:nvPr/>
        </p:nvPicPr>
        <p:blipFill>
          <a:blip r:embed="rId1"/>
          <a:stretch/>
        </p:blipFill>
        <p:spPr>
          <a:xfrm>
            <a:off x="395280" y="189000"/>
            <a:ext cx="2500200" cy="208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9b15a0db"/>
          <p:cNvPicPr/>
          <p:nvPr/>
        </p:nvPicPr>
        <p:blipFill>
          <a:blip r:embed="rId2"/>
          <a:stretch/>
        </p:blipFill>
        <p:spPr>
          <a:xfrm>
            <a:off x="2987640" y="189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9f1f23e8"/>
          <p:cNvPicPr/>
          <p:nvPr/>
        </p:nvPicPr>
        <p:blipFill>
          <a:blip r:embed="rId3"/>
          <a:stretch/>
        </p:blipFill>
        <p:spPr>
          <a:xfrm>
            <a:off x="395280" y="2421000"/>
            <a:ext cx="2521080" cy="194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1377a940"/>
          <p:cNvPicPr/>
          <p:nvPr/>
        </p:nvPicPr>
        <p:blipFill>
          <a:blip r:embed="rId4"/>
          <a:stretch/>
        </p:blipFill>
        <p:spPr>
          <a:xfrm>
            <a:off x="5867280" y="189000"/>
            <a:ext cx="266544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1123105c"/>
          <p:cNvPicPr/>
          <p:nvPr/>
        </p:nvPicPr>
        <p:blipFill>
          <a:blip r:embed="rId5"/>
          <a:stretch/>
        </p:blipFill>
        <p:spPr>
          <a:xfrm>
            <a:off x="2987640" y="2349360"/>
            <a:ext cx="2808360" cy="20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bb066819"/>
          <p:cNvPicPr/>
          <p:nvPr/>
        </p:nvPicPr>
        <p:blipFill>
          <a:blip r:embed="rId6"/>
          <a:stretch/>
        </p:blipFill>
        <p:spPr>
          <a:xfrm>
            <a:off x="5910120" y="2335320"/>
            <a:ext cx="2622600" cy="2030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09DC-B2F5-4B70-86F7-1ADD670AC7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95280" y="765000"/>
            <a:ext cx="8424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642960" y="571680"/>
            <a:ext cx="82868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qǔ    shànɡ  yán    jiū    yuán zhō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取    尚    研    究    源   州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quàn   ná     gān     jiě     rěn   j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劝    拿    甘    解    忍   坚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zhēnɡ zhá    kě      bēn    hē   zh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挣     扎   渴    奔    喝   洲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wānɡ kuánɡ  y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汪     狂    愿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7918560" y="6245280"/>
            <a:ext cx="110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75FE-EF23-4C25-8C5E-B4980803A53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fd3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642960" y="785880"/>
            <a:ext cx="82868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取    尚    研    究    源   州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劝    拿    甘    解    忍   坚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挣     扎   渴    奔    喝   洲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汪     狂    愿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03:47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9:21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