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chimes.wav" ContentType="audio/x-wav"/>
  <Override PartName="/ppt/media/image13.gif" ContentType="image/gif"/>
  <Override PartName="/ppt/media/image16.png" ContentType="image/png"/>
  <Override PartName="/ppt/media/image8.png" ContentType="image/png"/>
  <Override PartName="/ppt/media/image21.gif" ContentType="image/gif"/>
  <Override PartName="/ppt/media/click.wav" ContentType="audio/x-wav"/>
  <Override PartName="/ppt/media/image18.jpeg" ContentType="image/jpeg"/>
  <Override PartName="/ppt/media/image20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type.wav" ContentType="audio/x-wav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E9C-520B-466F-A808-3E4DC644E6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7D7A-14CD-410D-A0CE-22F16E0E9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948-FDC0-4C66-B782-868C58DB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FE4-5C8A-48F1-8483-0D521F1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2C3-7405-4D58-904F-415F0F3B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2EC-4839-41D4-B9D0-514D39F1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1D4-7021-4360-81FC-EE911212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D46-D040-4046-8C91-1127088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433-97D4-4962-98FA-1128AFD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299-1ABE-487A-A93D-A0D94F4F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A61-3918-49F5-916E-4B0E06A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59F-9E44-4FCC-A155-EB07D1F8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AC2-9D4A-4612-B068-501DDDF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328-C6EB-4CF7-B62F-28316A0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E88-BEE1-43CC-839F-0F2472B9C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1096998.htm" TargetMode="External"/><Relationship Id="rId3" Type="http://schemas.openxmlformats.org/officeDocument/2006/relationships/hyperlink" Target="http://baike.baidu.com/view/793353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762640" y="148428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Arial"/>
                <a:ea typeface="楷体_GB2312"/>
              </a:rPr>
              <a:t>我不是最弱小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45800" y="5432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321300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_2_01"/>
          <p:cNvPicPr/>
          <p:nvPr/>
        </p:nvPicPr>
        <p:blipFill>
          <a:blip r:embed="rId2"/>
          <a:stretch/>
        </p:blipFill>
        <p:spPr>
          <a:xfrm>
            <a:off x="27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566640" y="189000"/>
            <a:ext cx="806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一个周末，五岁的萨沙和哥哥托利亚，跟父母一起到森林中去玩。森林里的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景色是那么美好，空气是那么清新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来到林中的一片空地。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那里盛开着美丽的铃兰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237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"/>
          <p:cNvPicPr/>
          <p:nvPr/>
        </p:nvPicPr>
        <p:blipFill>
          <a:blip r:embed="rId1"/>
          <a:stretch/>
        </p:blipFill>
        <p:spPr>
          <a:xfrm>
            <a:off x="611280" y="2565360"/>
            <a:ext cx="7993080" cy="4292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20560" y="270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铃兰花簇拥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出了第一朵粉红色的花。带着露珠的花朵随风舞动，芬芳扑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019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08000" y="4567320"/>
            <a:ext cx="92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铃兰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簇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出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朵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红色的花。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带着露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花朵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风舞动，芬芳扑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闪电2"/>
          <p:cNvPicPr/>
          <p:nvPr/>
        </p:nvPicPr>
        <p:blipFill>
          <a:blip r:embed="rId1"/>
          <a:stretch/>
        </p:blipFill>
        <p:spPr>
          <a:xfrm>
            <a:off x="2646360" y="333360"/>
            <a:ext cx="4803840" cy="6667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22360" y="595008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突然，雷声大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363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3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802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74330995863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5300640"/>
            <a:ext cx="766764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上飘下几滴雨点，紧接着，下起了倾盆大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1K8bsByVT1R47IVrK.mp3" descr=""/>
          <p:cNvPicPr/>
          <p:nvPr/>
        </p:nvPicPr>
        <p:blipFill>
          <a:blip r:embed="rId2"/>
          <a:stretch/>
        </p:blipFill>
        <p:spPr>
          <a:xfrm>
            <a:off x="8415360" y="5950080"/>
            <a:ext cx="728640" cy="728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5812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2004711112093"/>
          <p:cNvPicPr/>
          <p:nvPr/>
        </p:nvPicPr>
        <p:blipFill>
          <a:blip r:embed="rId2"/>
          <a:stretch/>
        </p:blipFill>
        <p:spPr>
          <a:xfrm rot="5808600">
            <a:off x="2021760" y="3167640"/>
            <a:ext cx="4292640" cy="3084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50920" y="55515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雨已经打掉了两片蔷薇花瓣，花儿无力地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垂着头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显得更加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娇嫩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aaa"/>
          <p:cNvPicPr/>
          <p:nvPr/>
        </p:nvPicPr>
        <p:blipFill>
          <a:blip r:embed="rId3"/>
          <a:stretch/>
        </p:blipFill>
        <p:spPr>
          <a:xfrm rot="20773800">
            <a:off x="3419280" y="4508640"/>
            <a:ext cx="6426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aaa"/>
          <p:cNvPicPr/>
          <p:nvPr/>
        </p:nvPicPr>
        <p:blipFill>
          <a:blip r:embed="rId4"/>
          <a:stretch/>
        </p:blipFill>
        <p:spPr>
          <a:xfrm rot="2007000">
            <a:off x="5003640" y="5013000"/>
            <a:ext cx="649440" cy="585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三学苑"/>
          <p:cNvPicPr/>
          <p:nvPr/>
        </p:nvPicPr>
        <p:blipFill>
          <a:blip r:embed="rId5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1K8bsByVT1R47IVrK.mp3" descr=""/>
          <p:cNvPicPr/>
          <p:nvPr/>
        </p:nvPicPr>
        <p:blipFill>
          <a:blip r:embed="rId6"/>
          <a:stretch/>
        </p:blipFill>
        <p:spPr>
          <a:xfrm>
            <a:off x="8559720" y="6093000"/>
            <a:ext cx="584280" cy="58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.0)">
                                      <p:cBhvr>
                                        <p:cTn id="215" dur="25112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468360" y="5589720"/>
            <a:ext cx="8280360" cy="69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萨沙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掀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雨衣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轻轻地遮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蔷薇花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0"/>
          <p:cNvGrpSpPr/>
          <p:nvPr/>
        </p:nvGrpSpPr>
        <p:grpSpPr>
          <a:xfrm>
            <a:off x="1363680" y="825480"/>
            <a:ext cx="4968720" cy="2060640"/>
            <a:chOff x="1363680" y="825480"/>
            <a:chExt cx="4968720" cy="2060640"/>
          </a:xfrm>
        </p:grpSpPr>
        <p:sp>
          <p:nvSpPr>
            <p:cNvPr id="129" name="AutoShape 5"/>
            <p:cNvSpPr/>
            <p:nvPr/>
          </p:nvSpPr>
          <p:spPr>
            <a:xfrm>
              <a:off x="1363680" y="825480"/>
              <a:ext cx="4968720" cy="2060640"/>
            </a:xfrm>
            <a:prstGeom prst="cloudCallout">
              <a:avLst>
                <a:gd name="adj1" fmla="val 7254"/>
                <a:gd name="adj2" fmla="val -108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1993680" y="102708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你和托利亚都需要雨衣呀，为什么要给我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1"/>
          <p:cNvSpPr/>
          <p:nvPr/>
        </p:nvSpPr>
        <p:spPr>
          <a:xfrm>
            <a:off x="1422000" y="2914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汉仪秀英体简"/>
                <a:ea typeface="汉仪秀英体简"/>
              </a:rPr>
              <a:t>不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698920" y="294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4"/>
          <p:cNvGrpSpPr/>
          <p:nvPr/>
        </p:nvGrpSpPr>
        <p:grpSpPr>
          <a:xfrm>
            <a:off x="2050920" y="4797360"/>
            <a:ext cx="4968720" cy="2060640"/>
            <a:chOff x="2050920" y="4797360"/>
            <a:chExt cx="4968720" cy="2060640"/>
          </a:xfrm>
        </p:grpSpPr>
        <p:sp>
          <p:nvSpPr>
            <p:cNvPr id="136" name="AutoShape 5"/>
            <p:cNvSpPr/>
            <p:nvPr/>
          </p:nvSpPr>
          <p:spPr>
            <a:xfrm>
              <a:off x="2050920" y="4797360"/>
              <a:ext cx="4968720" cy="2060640"/>
            </a:xfrm>
            <a:prstGeom prst="cloudCallout">
              <a:avLst>
                <a:gd name="adj1" fmla="val 7254"/>
                <a:gd name="adj2" fmla="val -108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2681280" y="4998960"/>
              <a:ext cx="405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你和托利亚都需要雨衣呀，为什么要给我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4643280" y="907920"/>
            <a:ext cx="4105440" cy="1295280"/>
            <a:chOff x="4643280" y="907920"/>
            <a:chExt cx="4105440" cy="1295280"/>
          </a:xfrm>
        </p:grpSpPr>
        <p:sp>
          <p:nvSpPr>
            <p:cNvPr id="139" name="AutoShape 8"/>
            <p:cNvSpPr/>
            <p:nvPr/>
          </p:nvSpPr>
          <p:spPr>
            <a:xfrm>
              <a:off x="4643280" y="907920"/>
              <a:ext cx="4105440" cy="1295280"/>
            </a:xfrm>
            <a:prstGeom prst="cloudCallout">
              <a:avLst>
                <a:gd name="adj1" fmla="val -63185"/>
                <a:gd name="adj2" fmla="val 67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4913280" y="94752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们应该保护比自己弱小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2411280" y="4797360"/>
            <a:ext cx="4824360" cy="1726920"/>
            <a:chOff x="2411280" y="4797360"/>
            <a:chExt cx="4824360" cy="1726920"/>
          </a:xfrm>
        </p:grpSpPr>
        <p:sp>
          <p:nvSpPr>
            <p:cNvPr id="144" name="AutoShape 5"/>
            <p:cNvSpPr/>
            <p:nvPr/>
          </p:nvSpPr>
          <p:spPr>
            <a:xfrm>
              <a:off x="2411280" y="4797360"/>
              <a:ext cx="4824360" cy="1726920"/>
            </a:xfrm>
            <a:prstGeom prst="cloudCallout">
              <a:avLst>
                <a:gd name="adj1" fmla="val 3912"/>
                <a:gd name="adj2" fmla="val -1293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2713680" y="4962240"/>
              <a:ext cx="4241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这就是说，我是最弱小的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7"/>
          <p:cNvGrpSpPr/>
          <p:nvPr/>
        </p:nvGrpSpPr>
        <p:grpSpPr>
          <a:xfrm>
            <a:off x="4500720" y="836640"/>
            <a:ext cx="4248000" cy="1944720"/>
            <a:chOff x="4500720" y="836640"/>
            <a:chExt cx="4248000" cy="1944720"/>
          </a:xfrm>
        </p:grpSpPr>
        <p:sp>
          <p:nvSpPr>
            <p:cNvPr id="147" name="AutoShape 8"/>
            <p:cNvSpPr/>
            <p:nvPr/>
          </p:nvSpPr>
          <p:spPr>
            <a:xfrm>
              <a:off x="4500720" y="836640"/>
              <a:ext cx="4248000" cy="1944720"/>
            </a:xfrm>
            <a:prstGeom prst="cloudCallout">
              <a:avLst>
                <a:gd name="adj1" fmla="val -64388"/>
                <a:gd name="adj2" fmla="val 317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4913640" y="947880"/>
              <a:ext cx="3835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要是你谁也保护不了，那你就是最弱小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206680" y="558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不甘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661920" y="981000"/>
            <a:ext cx="100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、谁不是最弱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、我是不是最弱小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、我是怎样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T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2484360" y="4149720"/>
            <a:ext cx="5687640" cy="2303280"/>
            <a:chOff x="2484360" y="4149720"/>
            <a:chExt cx="5687640" cy="2303280"/>
          </a:xfrm>
        </p:grpSpPr>
        <p:sp>
          <p:nvSpPr>
            <p:cNvPr id="154" name="AutoShape 5"/>
            <p:cNvSpPr/>
            <p:nvPr/>
          </p:nvSpPr>
          <p:spPr>
            <a:xfrm>
              <a:off x="2484360" y="4149720"/>
              <a:ext cx="5687640" cy="2303280"/>
            </a:xfrm>
            <a:prstGeom prst="cloudCallout">
              <a:avLst>
                <a:gd name="adj1" fmla="val 7472"/>
                <a:gd name="adj2" fmla="val -1031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2747880" y="4430160"/>
              <a:ext cx="542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现在我还是最弱小的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643280" y="765000"/>
            <a:ext cx="4105440" cy="2087640"/>
            <a:chOff x="4643280" y="765000"/>
            <a:chExt cx="4105440" cy="2087640"/>
          </a:xfrm>
        </p:grpSpPr>
        <p:sp>
          <p:nvSpPr>
            <p:cNvPr id="157" name="AutoShape 8"/>
            <p:cNvSpPr/>
            <p:nvPr/>
          </p:nvSpPr>
          <p:spPr>
            <a:xfrm>
              <a:off x="4643280" y="765000"/>
              <a:ext cx="4105440" cy="2087640"/>
            </a:xfrm>
            <a:prstGeom prst="cloudCallout">
              <a:avLst>
                <a:gd name="adj1" fmla="val -63185"/>
                <a:gd name="adj2" fmla="val 29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4913280" y="947520"/>
              <a:ext cx="383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不，不，你能保护更弱小的，你是勇敢的孩子啦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0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539320" y="5229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自信、自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0"/>
          <p:cNvGrpSpPr/>
          <p:nvPr/>
        </p:nvGrpSpPr>
        <p:grpSpPr>
          <a:xfrm>
            <a:off x="539640" y="476280"/>
            <a:ext cx="4969080" cy="2060640"/>
            <a:chOff x="539640" y="476280"/>
            <a:chExt cx="4969080" cy="2060640"/>
          </a:xfrm>
        </p:grpSpPr>
        <p:sp>
          <p:nvSpPr>
            <p:cNvPr id="162" name="AutoShape 5"/>
            <p:cNvSpPr/>
            <p:nvPr/>
          </p:nvSpPr>
          <p:spPr>
            <a:xfrm>
              <a:off x="539640" y="476280"/>
              <a:ext cx="4969080" cy="2060640"/>
            </a:xfrm>
            <a:prstGeom prst="cloudCallout">
              <a:avLst>
                <a:gd name="adj1" fmla="val 7254"/>
                <a:gd name="adj2" fmla="val -108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1170000" y="677880"/>
              <a:ext cx="4051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你和托利亚都需要雨衣呀，为什么要给我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9"/>
          <p:cNvGrpSpPr/>
          <p:nvPr/>
        </p:nvGrpSpPr>
        <p:grpSpPr>
          <a:xfrm>
            <a:off x="4356000" y="2492280"/>
            <a:ext cx="4608720" cy="1511280"/>
            <a:chOff x="4356000" y="2492280"/>
            <a:chExt cx="4608720" cy="1511280"/>
          </a:xfrm>
        </p:grpSpPr>
        <p:sp>
          <p:nvSpPr>
            <p:cNvPr id="165" name="AutoShape 4"/>
            <p:cNvSpPr/>
            <p:nvPr/>
          </p:nvSpPr>
          <p:spPr>
            <a:xfrm>
              <a:off x="4356000" y="2492280"/>
              <a:ext cx="4608720" cy="1511280"/>
            </a:xfrm>
            <a:prstGeom prst="cloudCallout">
              <a:avLst>
                <a:gd name="adj1" fmla="val 3912"/>
                <a:gd name="adj2" fmla="val -1293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"/>
            <p:cNvSpPr/>
            <p:nvPr/>
          </p:nvSpPr>
          <p:spPr>
            <a:xfrm>
              <a:off x="4645080" y="2636640"/>
              <a:ext cx="4051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这就是说，我是最弱小的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"/>
          <p:cNvGrpSpPr/>
          <p:nvPr/>
        </p:nvGrpSpPr>
        <p:grpSpPr>
          <a:xfrm>
            <a:off x="1187280" y="4581360"/>
            <a:ext cx="4248360" cy="1656000"/>
            <a:chOff x="1187280" y="4581360"/>
            <a:chExt cx="4248360" cy="1656000"/>
          </a:xfrm>
        </p:grpSpPr>
        <p:sp>
          <p:nvSpPr>
            <p:cNvPr id="168" name="AutoShape 4"/>
            <p:cNvSpPr/>
            <p:nvPr/>
          </p:nvSpPr>
          <p:spPr>
            <a:xfrm>
              <a:off x="1187280" y="4581360"/>
              <a:ext cx="4248360" cy="1656000"/>
            </a:xfrm>
            <a:prstGeom prst="cloudCallout">
              <a:avLst>
                <a:gd name="adj1" fmla="val 7472"/>
                <a:gd name="adj2" fmla="val -1031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1384200" y="4782960"/>
              <a:ext cx="4051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妈妈，现在我还是最弱小的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1"/>
          <p:cNvSpPr/>
          <p:nvPr/>
        </p:nvSpPr>
        <p:spPr>
          <a:xfrm>
            <a:off x="955440" y="256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汉仪秀英体简"/>
                <a:ea typeface="汉仪秀英体简"/>
              </a:rPr>
              <a:t>不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232360" y="2598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897880" y="5661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自信、自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751032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不甘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600200" y="9907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876920" y="16765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你喜欢萨沙吗？为什么？你还喜欢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114800" y="533520"/>
            <a:ext cx="4495680" cy="342900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457200" y="91440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们是否也曾伸出过援助之手，保护过比你弱小的生命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桌交流后，再指名说说自己生活中保护弱小的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1339920" y="440208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>
            <a:off x="838080" y="228600"/>
            <a:ext cx="7315200" cy="43434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00200" y="1447920"/>
            <a:ext cx="601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让我们抬起头，挺起胸，一起自豪地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不是最弱小的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lick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0"/>
          <p:cNvPicPr/>
          <p:nvPr/>
        </p:nvPicPr>
        <p:blipFill>
          <a:blip r:embed="rId1"/>
          <a:stretch/>
        </p:blipFill>
        <p:spPr>
          <a:xfrm>
            <a:off x="3492360" y="1268280"/>
            <a:ext cx="2556000" cy="503280"/>
          </a:xfrm>
          <a:prstGeom prst="rect">
            <a:avLst/>
          </a:prstGeom>
          <a:ln w="0">
            <a:noFill/>
          </a:ln>
        </p:spPr>
      </p:pic>
      <p:sp>
        <p:nvSpPr>
          <p:cNvPr id="185" name="WordArt 3"/>
          <p:cNvSpPr txBox="1"/>
          <p:nvPr/>
        </p:nvSpPr>
        <p:spPr>
          <a:xfrm>
            <a:off x="1476360" y="909720"/>
            <a:ext cx="691200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71785" dir="2700000" blurRad="0" rotWithShape="0">
                    <a:srgbClr val="ffffff"/>
                  </a:outerShdw>
                </a:effectLst>
                <a:latin typeface="黑体"/>
              </a:rPr>
              <a:t>读读下面的句子，注意句号和叹号的读法。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71785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4920" y="2060640"/>
            <a:ext cx="1008000" cy="863640"/>
          </a:xfrm>
          <a:prstGeom prst="su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468360" y="2997360"/>
            <a:ext cx="1008000" cy="86328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826920" y="3860640"/>
            <a:ext cx="1008360" cy="863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1260360" y="4724280"/>
            <a:ext cx="1008000" cy="86364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1692360" y="5661000"/>
            <a:ext cx="1008000" cy="863640"/>
          </a:xfrm>
          <a:prstGeom prst="su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00000" y="2189160"/>
            <a:ext cx="842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妈妈，您和托利亚都需要雨衣呀，为什么要给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476160" y="3016080"/>
            <a:ext cx="535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看！这儿还有一朵野蔷薇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698560" y="3808440"/>
            <a:ext cx="2954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就是说，我是最弱小的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75280" y="4672080"/>
            <a:ext cx="316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妈妈，现在我还是最弱小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627280" y="5589720"/>
            <a:ext cx="637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不，不，你能保护更弱小的，你是勇敢的孩子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890-7F45-4E03-97D0-BBAC7FB9AD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T3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087800" y="3500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萨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257880" y="1628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托利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813480" y="2708280"/>
            <a:ext cx="106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714640" y="10224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t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508720" y="-141120"/>
            <a:ext cx="18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90625_6bf633b262a96770d28dwa0skvsYgAZw"/>
          <p:cNvPicPr/>
          <p:nvPr/>
        </p:nvPicPr>
        <p:blipFill>
          <a:blip r:embed="rId1"/>
          <a:stretch/>
        </p:blipFill>
        <p:spPr>
          <a:xfrm>
            <a:off x="609480" y="2421000"/>
            <a:ext cx="7956720" cy="4048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468360" y="291960"/>
            <a:ext cx="809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是一种植物，又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君影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谷百合、风铃草，是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铃兰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唯一的种。铃兰落花在风中飞舞的样子就像下雪一样，因此铃兰的草原也被人们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银白色的天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5673600" y="342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Shenwu_QiangWei_015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539640" y="2781360"/>
            <a:ext cx="4969080" cy="372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33760" y="7308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蔷薇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2760" y="907920"/>
            <a:ext cx="81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蔷薇花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香味很浓，花香诱人，花瓣中可提取芳香油，其价值高于黄金，具有很高的药用食用价值，蔷薇花喜欢生于路旁、田边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丘陵地的灌木丛中。</a:t>
            </a:r>
            <a:r>
              <a:rPr b="0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1259847826"/>
          <p:cNvPicPr/>
          <p:nvPr/>
        </p:nvPicPr>
        <p:blipFill>
          <a:blip r:embed="rId2"/>
          <a:stretch/>
        </p:blipFill>
        <p:spPr>
          <a:xfrm>
            <a:off x="4910040" y="2805120"/>
            <a:ext cx="369432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948720" y="73080"/>
            <a:ext cx="167436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不是最弱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9640" y="1259640"/>
            <a:ext cx="8136000" cy="367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m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ō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í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ù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s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末  托　铃　簇　随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ē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 f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l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o q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200" spc="-1" strike="noStrike">
                <a:solidFill>
                  <a:srgbClr val="06521e"/>
                </a:solidFill>
                <a:latin typeface="Shruti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d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ì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j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o  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芬　芳　聊　倾　递　娇　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843280" y="692280"/>
            <a:ext cx="324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楷体_GB2312"/>
              </a:rPr>
              <a:t>会读的字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b070"/>
          <p:cNvPicPr/>
          <p:nvPr/>
        </p:nvPicPr>
        <p:blipFill>
          <a:blip r:embed="rId1"/>
          <a:stretch/>
        </p:blipFill>
        <p:spPr>
          <a:xfrm>
            <a:off x="-212760" y="-339840"/>
            <a:ext cx="9356760" cy="758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1928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弱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13056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末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71492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56360" y="127476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1928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0364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簇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645080" y="242244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156360" y="24271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芬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61928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313056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71492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156360" y="364500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递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619280" y="49417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娇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203640" y="4941720"/>
            <a:ext cx="1152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143000" y="53352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  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末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拥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亚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萨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铃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盆大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芳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舞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聊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143000" y="1274760"/>
            <a:ext cx="1981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弱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76720" y="1295280"/>
            <a:ext cx="1616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周末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791320" y="1219320"/>
            <a:ext cx="1761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拉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3520" y="3657600"/>
            <a:ext cx="2987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托儿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143000" y="2422440"/>
            <a:ext cx="1628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铃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2422440"/>
            <a:ext cx="1749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花簇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645080" y="2422440"/>
            <a:ext cx="2365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随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56360" y="2427120"/>
            <a:ext cx="2225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芬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130560" y="3645000"/>
            <a:ext cx="2279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聊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714920" y="3645000"/>
            <a:ext cx="4048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倾盆大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800600" y="4952880"/>
            <a:ext cx="1905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递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14400" y="4941720"/>
            <a:ext cx="1857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娇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895480" y="4952880"/>
            <a:ext cx="251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  <a:ea typeface="楷体_GB2312"/>
              </a:rPr>
              <a:t>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46Z</dcterms:modified>
  <cp:revision>10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