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15.jpeg" ContentType="image/jpeg"/>
  <Override PartName="/ppt/media/image14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1.jpeg" ContentType="image/jpeg"/>
  <Override PartName="/ppt/media/image7.png" ContentType="image/png"/>
  <Override PartName="/ppt/media/image11.wmf" ContentType="image/x-wmf"/>
  <Override PartName="/ppt/media/image9.jpeg" ContentType="image/jpeg"/>
  <Override PartName="/ppt/media/image5.png" ContentType="image/png"/>
  <Override PartName="/ppt/media/image8.jpeg" ContentType="image/jpe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F7DBF-07A4-4DAE-886D-34A508C1C1D8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6.xml"/><Relationship Id="rId24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685CF-A01A-4C40-A028-5E0FE89A2304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A5249-F861-4ACF-B571-BD0486418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5035C-86EE-4BA4-BF03-86968E068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3B3C5-C586-41BE-B3A5-CD83CAE51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8A859-A21E-44DD-8D15-3FB00D9EA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F353E-4FB8-41FA-8E86-73EF4CF95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2CED8-5303-449C-B0CD-E74061E33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80100-1308-4C28-AEFB-1FC165C02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789C4-F327-45FB-B3CA-76FE74689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81E98-253E-4A50-BDC4-107FD082A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D3DCC-D15F-405B-9ABD-EAD3475F0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24D8C-BABB-48BE-A1CF-6572ABD60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2CD65-D93B-4109-9E59-09FCA638A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82BE4-5DF2-4BAF-9E2E-9D0373FEDF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8" descr="12c93788af3d71910f2444f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WordArt 5"/>
          <p:cNvSpPr txBox="1"/>
          <p:nvPr/>
        </p:nvSpPr>
        <p:spPr>
          <a:xfrm>
            <a:off x="2035080" y="1635120"/>
            <a:ext cx="540072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8000"/>
                  </a:solidFill>
                  <a:round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黑体"/>
              </a:rPr>
              <a:t>望洞庭</a:t>
            </a:r>
            <a:endParaRPr b="1" lang="en-US" sz="1800" spc="1" strike="noStrike">
              <a:ln w="9360">
                <a:solidFill>
                  <a:srgbClr val="008000"/>
                </a:solidFill>
                <a:round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50" name="矩形 5"/>
          <p:cNvSpPr/>
          <p:nvPr/>
        </p:nvSpPr>
        <p:spPr>
          <a:xfrm>
            <a:off x="2007720" y="537372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00330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6" descr="725501ebfc19bef6d439c9bb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Text Box 4"/>
          <p:cNvSpPr/>
          <p:nvPr/>
        </p:nvSpPr>
        <p:spPr>
          <a:xfrm>
            <a:off x="755640" y="1484280"/>
            <a:ext cx="32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白银盘里一青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5"/>
          <p:cNvSpPr/>
          <p:nvPr/>
        </p:nvSpPr>
        <p:spPr>
          <a:xfrm>
            <a:off x="1403280" y="3645000"/>
            <a:ext cx="62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再用一个比喻，将浮在水中的君山比作搁在白银盘子里的青螺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文本框 1"/>
          <p:cNvSpPr/>
          <p:nvPr/>
        </p:nvSpPr>
        <p:spPr>
          <a:xfrm>
            <a:off x="1825560" y="6031080"/>
            <a:ext cx="584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u"/>
          <p:cNvPicPr/>
          <p:nvPr/>
        </p:nvPicPr>
        <p:blipFill>
          <a:blip r:embed="rId1"/>
          <a:stretch/>
        </p:blipFill>
        <p:spPr>
          <a:xfrm>
            <a:off x="0" y="-23760"/>
            <a:ext cx="9396360" cy="6881760"/>
          </a:xfrm>
          <a:prstGeom prst="rect">
            <a:avLst/>
          </a:prstGeom>
          <a:ln w="0">
            <a:noFill/>
          </a:ln>
        </p:spPr>
      </p:pic>
      <p:sp>
        <p:nvSpPr>
          <p:cNvPr id="82" name="Text Box 4"/>
          <p:cNvSpPr/>
          <p:nvPr/>
        </p:nvSpPr>
        <p:spPr>
          <a:xfrm>
            <a:off x="1476360" y="1916280"/>
            <a:ext cx="7201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黑体"/>
                <a:ea typeface="黑体"/>
              </a:rPr>
              <a:t>[</a:t>
            </a:r>
            <a:r>
              <a:rPr b="1" lang="zh-CN" sz="3600" spc="-1" strike="noStrike">
                <a:solidFill>
                  <a:srgbClr val="008000"/>
                </a:solidFill>
                <a:latin typeface="黑体"/>
                <a:ea typeface="黑体"/>
              </a:rPr>
              <a:t>今译</a:t>
            </a:r>
            <a:r>
              <a:rPr b="1" lang="en-US" sz="3600" spc="-1" strike="noStrike">
                <a:solidFill>
                  <a:srgbClr val="008000"/>
                </a:solidFill>
                <a:latin typeface="黑体"/>
                <a:ea typeface="黑体"/>
              </a:rPr>
              <a:t>]</a:t>
            </a:r>
            <a:r>
              <a:rPr b="1" lang="en-US" sz="36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 </a:t>
            </a:r>
            <a:br>
              <a:rPr sz="3600"/>
            </a:br>
            <a:r>
              <a:rPr b="1" lang="zh-CN" sz="36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洞庭湖的水光与秋月交相融和， </a:t>
            </a:r>
            <a:br>
              <a:rPr sz="3600"/>
            </a:br>
            <a:r>
              <a:rPr b="1" lang="zh-CN" sz="36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水面波平浪静就好像铜镜未磨。 </a:t>
            </a:r>
            <a:br>
              <a:rPr sz="3600"/>
            </a:br>
            <a:r>
              <a:rPr b="1" lang="zh-CN" sz="36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远远望去洞庭湖山水一片翠绿， </a:t>
            </a:r>
            <a:br>
              <a:rPr sz="3600"/>
            </a:br>
            <a:r>
              <a:rPr b="1" lang="zh-CN" sz="36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恰似白银盘子托着青青的田螺。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5" descr="拓展学习"/>
          <p:cNvPicPr/>
          <p:nvPr/>
        </p:nvPicPr>
        <p:blipFill>
          <a:blip r:embed="rId2"/>
          <a:stretch/>
        </p:blipFill>
        <p:spPr>
          <a:xfrm>
            <a:off x="0" y="189000"/>
            <a:ext cx="2124000" cy="52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6" descr="飞"/>
          <p:cNvPicPr/>
          <p:nvPr/>
        </p:nvPicPr>
        <p:blipFill>
          <a:blip r:embed="rId1"/>
          <a:stretch/>
        </p:blipFill>
        <p:spPr>
          <a:xfrm>
            <a:off x="0" y="-1116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85" name="Text Box 4"/>
          <p:cNvSpPr/>
          <p:nvPr/>
        </p:nvSpPr>
        <p:spPr>
          <a:xfrm>
            <a:off x="1116000" y="2276640"/>
            <a:ext cx="7128000" cy="33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用你手中的画笔，画下洞庭湖的美丽风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想象</a:t>
            </a:r>
            <a:r>
              <a:rPr b="1" lang="en-US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《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望洞庭</a:t>
            </a:r>
            <a:r>
              <a:rPr b="1" lang="en-US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》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所描绘的景色，在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小本本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上用几句话写下来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3.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课下阅读孟浩然写的洞庭湖，比较他们的诗句。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5" descr="拓展学习"/>
          <p:cNvPicPr/>
          <p:nvPr/>
        </p:nvPicPr>
        <p:blipFill>
          <a:blip r:embed="rId2"/>
          <a:stretch/>
        </p:blipFill>
        <p:spPr>
          <a:xfrm>
            <a:off x="0" y="189000"/>
            <a:ext cx="2124000" cy="52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DA940-81EB-4A45-A16D-6FDFAD96C3D9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6" descr="01d4fc9a394f6f90c8eaf41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Text Box 4"/>
          <p:cNvSpPr/>
          <p:nvPr/>
        </p:nvSpPr>
        <p:spPr>
          <a:xfrm>
            <a:off x="1979640" y="549360"/>
            <a:ext cx="324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学习目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5"/>
          <p:cNvSpPr/>
          <p:nvPr/>
        </p:nvSpPr>
        <p:spPr>
          <a:xfrm>
            <a:off x="684360" y="1700280"/>
            <a:ext cx="83534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．会写</a:t>
            </a:r>
            <a:r>
              <a:rPr b="1" lang="en-US" sz="28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7</a:t>
            </a:r>
            <a:r>
              <a:rPr b="1" lang="zh-CN" sz="28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个生字。能正确读写生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．有感情地朗读课文并背诵课文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．理解事歌意思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．积累描写祖国大好河山的古诗词，从中感悟作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热爱祖国壮丽山河，赞美自然之情，领悟作者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景抒情的表达方式。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5. </a:t>
            </a:r>
            <a:r>
              <a:rPr b="1" lang="zh-CN" sz="28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通过工具书、反复朗读、质疑理解诗歌意思，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会作者情感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6. </a:t>
            </a:r>
            <a:r>
              <a:rPr b="1" lang="zh-CN" sz="28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感受作者热爱祖国壮丽山河，赞美自然之情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5"/>
          <p:cNvSpPr/>
          <p:nvPr/>
        </p:nvSpPr>
        <p:spPr>
          <a:xfrm>
            <a:off x="3995640" y="476280"/>
            <a:ext cx="475308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刘禹锡（</a:t>
            </a:r>
            <a:r>
              <a:rPr b="1" lang="en-US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772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——</a:t>
            </a:r>
            <a:r>
              <a:rPr b="1" lang="en-US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842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）字梦得 ，彭城（今江苏徐州）人，唐代中期诗人、哲学家。他的一些诗歌反映了作者进步的思想，其学习民歌写成的</a:t>
            </a:r>
            <a:r>
              <a:rPr b="1" lang="en-US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《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竹枝词</a:t>
            </a:r>
            <a:r>
              <a:rPr b="1" lang="en-US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》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等诗具有新鲜活泼，健康开朗的显著特色，情调上独具一格。语言简朴生动，情致缠绵。其中</a:t>
            </a:r>
            <a:r>
              <a:rPr b="1" lang="en-US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《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竹枝</a:t>
            </a:r>
            <a:r>
              <a:rPr b="1" lang="en-US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》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（六）中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道是无晴（情）却有晴（情）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句为著名的双关语，足见诗人之匠心独具。有</a:t>
            </a:r>
            <a:r>
              <a:rPr b="1" lang="en-US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《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刘宾客集</a:t>
            </a:r>
            <a:r>
              <a:rPr b="1" lang="en-US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》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。</a:t>
            </a:r>
            <a:r>
              <a:rPr b="0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6" descr="刘禹锡"/>
          <p:cNvPicPr/>
          <p:nvPr/>
        </p:nvPicPr>
        <p:blipFill>
          <a:blip r:embed="rId1"/>
          <a:stretch/>
        </p:blipFill>
        <p:spPr>
          <a:xfrm>
            <a:off x="539640" y="692280"/>
            <a:ext cx="3232440" cy="53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8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8" descr="33bb1de9df64e71bb90e2d5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" descr="创设情境"/>
          <p:cNvPicPr/>
          <p:nvPr/>
        </p:nvPicPr>
        <p:blipFill>
          <a:blip r:embed="rId2"/>
          <a:stretch/>
        </p:blipFill>
        <p:spPr>
          <a:xfrm>
            <a:off x="0" y="189000"/>
            <a:ext cx="2017800" cy="5540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5" descr="白银盘里一青螺2"/>
          <p:cNvPicPr/>
          <p:nvPr/>
        </p:nvPicPr>
        <p:blipFill>
          <a:blip r:embed="rId3"/>
          <a:stretch/>
        </p:blipFill>
        <p:spPr>
          <a:xfrm>
            <a:off x="539640" y="765000"/>
            <a:ext cx="5400720" cy="4535640"/>
          </a:xfrm>
          <a:prstGeom prst="rect">
            <a:avLst/>
          </a:prstGeom>
          <a:ln w="0">
            <a:noFill/>
          </a:ln>
        </p:spPr>
      </p:pic>
      <p:sp>
        <p:nvSpPr>
          <p:cNvPr id="59" name="Text Box 7"/>
          <p:cNvSpPr/>
          <p:nvPr/>
        </p:nvSpPr>
        <p:spPr>
          <a:xfrm>
            <a:off x="1619280" y="551664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Arial"/>
              </a:rPr>
              <a:t>洞庭湖中的君山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5" descr="白银盘里一青螺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0" y="0"/>
            <a:ext cx="9468000" cy="68896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" descr="创设情境"/>
          <p:cNvPicPr/>
          <p:nvPr/>
        </p:nvPicPr>
        <p:blipFill>
          <a:blip r:embed="rId2"/>
          <a:stretch/>
        </p:blipFill>
        <p:spPr>
          <a:xfrm>
            <a:off x="250920" y="189000"/>
            <a:ext cx="2520720" cy="691920"/>
          </a:xfrm>
          <a:prstGeom prst="rect">
            <a:avLst/>
          </a:prstGeom>
          <a:ln w="0">
            <a:noFill/>
          </a:ln>
        </p:spPr>
      </p:pic>
      <p:sp>
        <p:nvSpPr>
          <p:cNvPr id="62" name="Text Box 6"/>
          <p:cNvSpPr/>
          <p:nvPr/>
        </p:nvSpPr>
        <p:spPr>
          <a:xfrm>
            <a:off x="2987640" y="486900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Arial"/>
              </a:rPr>
              <a:t>洞庭湖中的君山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矩形 8"/>
          <p:cNvSpPr/>
          <p:nvPr/>
        </p:nvSpPr>
        <p:spPr>
          <a:xfrm>
            <a:off x="3492360" y="2708280"/>
            <a:ext cx="735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7" descr="8d354654f46895e6b745aef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Text Box 4"/>
          <p:cNvSpPr/>
          <p:nvPr/>
        </p:nvSpPr>
        <p:spPr>
          <a:xfrm>
            <a:off x="2556000" y="549360"/>
            <a:ext cx="77770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              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望洞庭 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湖光秋月两相和，潭面无风镜未磨。 </a:t>
            </a:r>
            <a:br>
              <a:rPr sz="3200"/>
            </a:b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遥望洞庭山水翠，白银盘里一青螺。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读一读"/>
          <p:cNvPicPr/>
          <p:nvPr/>
        </p:nvPicPr>
        <p:blipFill>
          <a:blip r:embed="rId2"/>
          <a:stretch/>
        </p:blipFill>
        <p:spPr>
          <a:xfrm>
            <a:off x="179280" y="189000"/>
            <a:ext cx="1876680" cy="2232000"/>
          </a:xfrm>
          <a:prstGeom prst="rect">
            <a:avLst/>
          </a:prstGeom>
          <a:ln w="0">
            <a:noFill/>
          </a:ln>
        </p:spPr>
      </p:pic>
      <p:sp>
        <p:nvSpPr>
          <p:cNvPr id="67" name="Text Box 6"/>
          <p:cNvSpPr/>
          <p:nvPr/>
        </p:nvSpPr>
        <p:spPr>
          <a:xfrm>
            <a:off x="468360" y="3068640"/>
            <a:ext cx="8280360" cy="2288520"/>
          </a:xfrm>
          <a:prstGeom prst="rect">
            <a:avLst/>
          </a:prstGeom>
          <a:solidFill>
            <a:srgbClr val="333399">
              <a:alpha val="4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[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注释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] </a:t>
            </a:r>
            <a:br>
              <a:rPr sz="2400"/>
            </a:b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．洞庭：湖名，在湖南省。 </a:t>
            </a:r>
            <a:br>
              <a:rPr sz="2400"/>
            </a:b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．和：和谐，这里指水色与月光融为一体。 </a:t>
            </a:r>
            <a:br>
              <a:rPr sz="2400"/>
            </a:b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．潭面：指湖面。镜未磨：古人的镜子用铜制作、磨成。这里   一说是水面无风 ，波平如镜；一说是远望湖中的景物，隐约不清，如同镜面没打磨时照物不清楚。两说均可。 </a:t>
            </a:r>
            <a:br>
              <a:rPr sz="2400"/>
            </a:b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．白银盘：形容洞庭湖。青螺：一种青黑色的螺形的墨，古代妇女用以画眉。 这里是用来形容洞庭湖中的君山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9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6" descr="725501ebfc19bef6d439c9bb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Text Box 4"/>
          <p:cNvSpPr/>
          <p:nvPr/>
        </p:nvSpPr>
        <p:spPr>
          <a:xfrm>
            <a:off x="1258920" y="3068640"/>
            <a:ext cx="66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  <a:ea typeface="楷体_GB2312"/>
              </a:rPr>
              <a:t>       </a:t>
            </a: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楷体_GB2312"/>
              </a:rPr>
              <a:t>从水光月色的交融不分写起，表现湖面的开阔廖远，这应该是日暮时分的景象，天还没黑但月亮已经出来，如果天黑就看不出两者色彩的融合了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5"/>
          <p:cNvSpPr/>
          <p:nvPr/>
        </p:nvSpPr>
        <p:spPr>
          <a:xfrm>
            <a:off x="900000" y="1484280"/>
            <a:ext cx="34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湖光秋月两相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2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6" descr="725501ebfc19bef6d439c9bb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Text Box 4"/>
          <p:cNvSpPr/>
          <p:nvPr/>
        </p:nvSpPr>
        <p:spPr>
          <a:xfrm>
            <a:off x="611280" y="1557360"/>
            <a:ext cx="41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潭面无风镜未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5"/>
          <p:cNvSpPr/>
          <p:nvPr/>
        </p:nvSpPr>
        <p:spPr>
          <a:xfrm>
            <a:off x="1187280" y="3429000"/>
            <a:ext cx="684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用镜子的比喻表现夜晚湖面的平静，因为太阳已落，湖水不反光，像镜子没磨时光泽暗淡的样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6" descr="725501ebfc19bef6d439c9bb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Text Box 4"/>
          <p:cNvSpPr/>
          <p:nvPr/>
        </p:nvSpPr>
        <p:spPr>
          <a:xfrm>
            <a:off x="1258920" y="3500280"/>
            <a:ext cx="669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楷体_GB2312"/>
              </a:rPr>
              <a:t>写远望湖中君山翠绿的色彩，这里的“山水”实际只是指山，即湖中的君山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5"/>
          <p:cNvSpPr/>
          <p:nvPr/>
        </p:nvSpPr>
        <p:spPr>
          <a:xfrm>
            <a:off x="755640" y="1557360"/>
            <a:ext cx="38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遥望洞庭山水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2T08:40:47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0:37:13Z</dcterms:modified>
  <cp:revision>10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</Properties>
</file>