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jpeg" ContentType="image/jpeg"/>
  <Override PartName="/ppt/media/image8.jpeg" ContentType="image/jpeg"/>
  <Override PartName="/ppt/media/image13.jpeg" ContentType="image/jpeg"/>
  <Override PartName="/ppt/media/image10.gif" ContentType="image/gif"/>
  <Override PartName="/ppt/media/image1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FD6-C78D-4ABD-A3D3-B96B42ED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6360" y="440208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91D-1361-4F09-A748-FC60782E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19C-FDBE-4951-98C3-FBF72266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424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176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636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424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176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70C-A7E9-46F3-B893-A769EFC9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00A-75CC-4C4E-8323-F4100905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AA0-1DF7-49FC-A197-D962562A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1FCD-ED03-40C4-BC06-FCBDB43D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90F-766E-408F-9262-9F9141DF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3760" y="1386000"/>
            <a:ext cx="786132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AFE-9B11-4A67-9DBC-F84E51F0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541-F89F-4762-86B3-0BA16124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B84-09CC-478F-8004-5E376CEC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391-45E8-4877-A3F4-2156B676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B08C-42A2-46FB-8658-08D8DEAE7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2005831532411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1"/>
          <p:cNvSpPr txBox="1"/>
          <p:nvPr/>
        </p:nvSpPr>
        <p:spPr>
          <a:xfrm>
            <a:off x="1233360" y="1662120"/>
            <a:ext cx="5348520" cy="24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的舞台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46456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360" y="1501920"/>
            <a:ext cx="803592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仿宋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六岁的小女孩柔弱的身体成了黑脸大汉手中的一块生面团，翻过来、周过去、立起来、横过去，抻、拉、压、拽，为所欲为，奶奶看不过我被整得满脸的泪水和汗水，每次都目不忍视地躲到里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668680" y="3471480"/>
            <a:ext cx="60912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这里抓住几个动作，写出了“我”学艺的艰辛。从这里，我们能深刻地体会到了“我”这个被宠坏的小公主的勇气和毅力以及对艺术的执著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pic_270814"/>
          <p:cNvPicPr/>
          <p:nvPr/>
        </p:nvPicPr>
        <p:blipFill>
          <a:blip r:embed="rId2"/>
          <a:stretch/>
        </p:blipFill>
        <p:spPr>
          <a:xfrm>
            <a:off x="649440" y="3664080"/>
            <a:ext cx="19238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31760" y="1585800"/>
            <a:ext cx="37242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华文中宋"/>
              </a:rPr>
              <a:t>我的启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17520" y="4212720"/>
            <a:ext cx="57690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在艺术和生活的舞台上，勇气和毅力能让人走向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老实做人，认真演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209760" y="2511360"/>
            <a:ext cx="51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cc"/>
                </a:solidFill>
                <a:latin typeface="Arial"/>
                <a:ea typeface="华文仿宋"/>
              </a:rPr>
              <a:t>       </a:t>
            </a:r>
            <a:r>
              <a:rPr b="1" i="1" lang="zh-CN" sz="3200" spc="-1" strike="noStrike">
                <a:solidFill>
                  <a:srgbClr val="ff33cc"/>
                </a:solidFill>
                <a:latin typeface="Arial"/>
                <a:ea typeface="华文仿宋"/>
              </a:rPr>
              <a:t>学习了这篇课文，你从中获得了怎样的人生启发呢？给大家说一说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650880" y="1500120"/>
            <a:ext cx="2257560" cy="4564080"/>
            <a:chOff x="650880" y="1500120"/>
            <a:chExt cx="2257560" cy="4564080"/>
          </a:xfrm>
        </p:grpSpPr>
        <p:pic>
          <p:nvPicPr>
            <p:cNvPr id="86" name="Picture 5" descr="2006826155054176"/>
            <p:cNvPicPr/>
            <p:nvPr/>
          </p:nvPicPr>
          <p:blipFill>
            <a:blip r:embed="rId2"/>
            <a:stretch/>
          </p:blipFill>
          <p:spPr>
            <a:xfrm>
              <a:off x="650880" y="3611520"/>
              <a:ext cx="2244600" cy="24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6" descr="100534_wushuang1"/>
            <p:cNvPicPr/>
            <p:nvPr/>
          </p:nvPicPr>
          <p:blipFill>
            <a:blip r:embed="rId3"/>
            <a:stretch/>
          </p:blipFill>
          <p:spPr>
            <a:xfrm>
              <a:off x="660240" y="1500120"/>
              <a:ext cx="2248200" cy="197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4" descr="1012908728_1_smal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4"/>
          <p:cNvSpPr txBox="1"/>
          <p:nvPr/>
        </p:nvSpPr>
        <p:spPr>
          <a:xfrm>
            <a:off x="1844640" y="1968480"/>
            <a:ext cx="25686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D98D-FD60-4E04-9504-790316CA3F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3960" y="1547280"/>
            <a:ext cx="2808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中宋"/>
              </a:rPr>
              <a:t>检查预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001880" y="2495520"/>
            <a:ext cx="25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溺爱娇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87720" y="2522520"/>
            <a:ext cx="55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指过分娇惯宠爱自己的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976320" y="312732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不解之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089160" y="3151080"/>
            <a:ext cx="537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不能分开的缘分，指亲密的关系或深厚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011240" y="411480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身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083040" y="414036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戏曲演员在舞台上表演的各种舞蹈化的动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014480" y="513864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窃窃私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3083040" y="5221440"/>
            <a:ext cx="35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私下里小声交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d279"/>
          <p:cNvPicPr/>
          <p:nvPr/>
        </p:nvPicPr>
        <p:blipFill>
          <a:blip r:embed="rId2"/>
          <a:stretch/>
        </p:blipFill>
        <p:spPr>
          <a:xfrm>
            <a:off x="1254240" y="1506600"/>
            <a:ext cx="11890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7"/>
          <p:cNvSpPr/>
          <p:nvPr/>
        </p:nvSpPr>
        <p:spPr>
          <a:xfrm>
            <a:off x="5068800" y="2773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012908728_1_small"/>
          <p:cNvPicPr/>
          <p:nvPr/>
        </p:nvPicPr>
        <p:blipFill>
          <a:blip r:embed="rId2"/>
          <a:stretch/>
        </p:blipFill>
        <p:spPr>
          <a:xfrm>
            <a:off x="4764240" y="1528920"/>
            <a:ext cx="3700440" cy="4530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9040" y="2471760"/>
            <a:ext cx="3173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  <a:ea typeface="华文中宋"/>
              </a:rPr>
              <a:t>自由发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79240" y="4080960"/>
            <a:ext cx="4522680" cy="9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舞台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480" y="2054160"/>
            <a:ext cx="58723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速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65040" y="3682800"/>
            <a:ext cx="6435720" cy="18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作者对</a:t>
            </a:r>
            <a:r>
              <a:rPr b="1" lang="zh-CN" sz="40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“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舞台</a:t>
            </a:r>
            <a:r>
              <a:rPr b="1" lang="zh-CN" sz="40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”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有着怎样的感情？请从文中找出相关的句子来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Gif0405_136"/>
          <p:cNvPicPr/>
          <p:nvPr/>
        </p:nvPicPr>
        <p:blipFill>
          <a:blip r:embed="rId2"/>
          <a:stretch/>
        </p:blipFill>
        <p:spPr>
          <a:xfrm>
            <a:off x="6595920" y="1720800"/>
            <a:ext cx="17035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00080" y="3828960"/>
            <a:ext cx="733752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舞台对我有着神奇的吸引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我在舞台上慢慢长大，舞台如一炉火，炼就了我的勇气和毅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590400" y="1460520"/>
            <a:ext cx="7961400" cy="1933560"/>
            <a:chOff x="590400" y="1460520"/>
            <a:chExt cx="7961400" cy="1933560"/>
          </a:xfrm>
        </p:grpSpPr>
        <p:pic>
          <p:nvPicPr>
            <p:cNvPr id="63" name="Picture 6" descr="200583152626575"/>
            <p:cNvPicPr/>
            <p:nvPr/>
          </p:nvPicPr>
          <p:blipFill>
            <a:blip r:embed="rId2"/>
            <a:stretch/>
          </p:blipFill>
          <p:spPr>
            <a:xfrm>
              <a:off x="5780160" y="1460520"/>
              <a:ext cx="2771640" cy="19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7" descr="2006826155054176"/>
            <p:cNvPicPr/>
            <p:nvPr/>
          </p:nvPicPr>
          <p:blipFill>
            <a:blip r:embed="rId3"/>
            <a:stretch/>
          </p:blipFill>
          <p:spPr>
            <a:xfrm>
              <a:off x="3251160" y="1479600"/>
              <a:ext cx="237168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8" descr="100534_wushuang2"/>
            <p:cNvPicPr/>
            <p:nvPr/>
          </p:nvPicPr>
          <p:blipFill>
            <a:blip r:embed="rId4"/>
            <a:stretch/>
          </p:blipFill>
          <p:spPr>
            <a:xfrm>
              <a:off x="590400" y="1487520"/>
              <a:ext cx="2468880" cy="190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74560" y="1126800"/>
            <a:ext cx="5786280" cy="16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华文中宋"/>
              </a:rPr>
              <a:t>思考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为什么说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舞台对我有着神奇的吸引力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，文中哪些事例可以表明这一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57480" y="2862000"/>
            <a:ext cx="685800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在娘胎里，“我”就“登台唱戏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刚会走路，“我”就在小床上模仿母亲“演戏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后来，“我”一直跟随母亲演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六岁时，“我”正式“拜师学艺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几年后，“我”在大师面前认真演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Gif0405_036"/>
          <p:cNvPicPr/>
          <p:nvPr/>
        </p:nvPicPr>
        <p:blipFill>
          <a:blip r:embed="rId2"/>
          <a:stretch/>
        </p:blipFill>
        <p:spPr>
          <a:xfrm>
            <a:off x="709560" y="1038240"/>
            <a:ext cx="15429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7640" y="1775880"/>
            <a:ext cx="6453000" cy="10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细读课文，感受“吸引力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3038400"/>
            <a:ext cx="679932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华文仿宋"/>
              </a:rPr>
              <a:t>       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请大家细读课文，找出文中相关的句段并加以简要分析，从中感受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舞台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对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的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神奇的吸引力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00511100223855"/>
          <p:cNvPicPr/>
          <p:nvPr/>
        </p:nvPicPr>
        <p:blipFill>
          <a:blip r:embed="rId2"/>
          <a:stretch/>
        </p:blipFill>
        <p:spPr>
          <a:xfrm>
            <a:off x="7013520" y="4635360"/>
            <a:ext cx="163188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15560" y="3890520"/>
            <a:ext cx="6015240" cy="20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段话中对“我”的描写充满了童趣，一个活泼可爱、热爱艺术的孩童的形象活生生地出现在我们面前，让人忍俊不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349280" y="1873080"/>
            <a:ext cx="64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华文仿宋"/>
                <a:ea typeface="华文仿宋"/>
              </a:rPr>
              <a:t>①</a:t>
            </a:r>
            <a:r>
              <a:rPr b="1" lang="zh-CN" sz="2800" spc="-1" strike="noStrike">
                <a:solidFill>
                  <a:srgbClr val="cc0066"/>
                </a:solidFill>
                <a:latin typeface="华文仿宋"/>
                <a:ea typeface="华文仿宋"/>
              </a:rPr>
              <a:t>一次，小花猫看得兴起，竟蹿上了床。我为赶它下“台”，脚下没留神，一个倒栽葱，摔下床来，直摔得我眼冒金星，半天没缓过劲儿来。</a:t>
            </a:r>
            <a:r>
              <a:rPr b="1" lang="zh-CN" sz="2800" spc="-1" strike="noStrike">
                <a:solidFill>
                  <a:srgbClr val="660033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46fp"/>
          <p:cNvPicPr/>
          <p:nvPr/>
        </p:nvPicPr>
        <p:blipFill>
          <a:blip r:embed="rId2"/>
          <a:stretch/>
        </p:blipFill>
        <p:spPr>
          <a:xfrm>
            <a:off x="6846840" y="3936960"/>
            <a:ext cx="16905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2000" y="1774440"/>
            <a:ext cx="521964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每次演出，我一定要到台上去看，即使被挤在厚厚的幕布里，憋闷得满头是汗，也兴味盎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5840" y="3731760"/>
            <a:ext cx="7089840" cy="21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华文仿宋"/>
              </a:rPr>
              <a:t>台上在演出，一个小女孩钻在幕布里看戏，虽满头大汗却兴味盎然。透过厚厚的幕布，我们看到了一个孩子对评剧的钟爱，对艺术的执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00534_wushuang2"/>
          <p:cNvPicPr/>
          <p:nvPr/>
        </p:nvPicPr>
        <p:blipFill>
          <a:blip r:embed="rId2"/>
          <a:stretch/>
        </p:blipFill>
        <p:spPr>
          <a:xfrm>
            <a:off x="573120" y="1433520"/>
            <a:ext cx="2089080" cy="184932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"/>
          <p:cNvSpPr/>
          <p:nvPr/>
        </p:nvSpPr>
        <p:spPr>
          <a:xfrm>
            <a:off x="1311120" y="536400"/>
            <a:ext cx="60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3:12:14Z</dcterms:created>
  <dc:creator>六十铺中小学教育网http://www.lspjy.com</dc:creator>
  <dc:description>第一PPT模板网-WWW.1PPT.COM</dc:description>
  <cp:keywords>六十铺中小学教育网http://www.lspjy.com</cp:keywords>
  <dc:language>en-US</dc:language>
  <cp:lastModifiedBy>xinxing</cp:lastModifiedBy>
  <dcterms:modified xsi:type="dcterms:W3CDTF">2017-04-16T15:30:01Z</dcterms:modified>
  <cp:revision>949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